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6437160"/>
            <a:ext cx="88394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" name="Elogo%20ppt" descr=""/>
          <p:cNvPicPr/>
          <p:nvPr/>
        </p:nvPicPr>
        <p:blipFill>
          <a:blip r:embed="rId3"/>
          <a:stretch/>
        </p:blipFill>
        <p:spPr>
          <a:xfrm>
            <a:off x="7543800" y="152280"/>
            <a:ext cx="1371600" cy="268560"/>
          </a:xfrm>
          <a:prstGeom prst="rect">
            <a:avLst/>
          </a:prstGeom>
          <a:ln w="0">
            <a:noFill/>
          </a:ln>
        </p:spPr>
      </p:pic>
      <p:pic>
        <p:nvPicPr>
          <p:cNvPr id="3" name="colori-lungo_ok" descr=""/>
          <p:cNvPicPr/>
          <p:nvPr/>
        </p:nvPicPr>
        <p:blipFill>
          <a:blip r:embed="rId4"/>
          <a:stretch/>
        </p:blipFill>
        <p:spPr>
          <a:xfrm>
            <a:off x="7797960" y="6502320"/>
            <a:ext cx="1193760" cy="2923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04920" y="6502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R.Sabella, G.Iacovoni, L.D’Antoni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lvl="3" marL="1562040" indent="-228600">
              <a:spcBef>
                <a:spcPts val="499"/>
              </a:spcBef>
              <a:buClr>
                <a:srgbClr val="000099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Garamond"/>
            </a:endParaRPr>
          </a:p>
          <a:p>
            <a:pPr lvl="4" marL="1981080" indent="-228600">
              <a:spcBef>
                <a:spcPts val="499"/>
              </a:spcBef>
              <a:buClr>
                <a:srgbClr val="000099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Garamond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Garamond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rebuchet MS"/>
              </a:rPr>
              <a:t>Workshop Pisatel 2002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rebuchet MS"/>
              </a:rPr>
              <a:t>Soluzioni di co-decodifica audio/vide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rebuchet MS"/>
              </a:rPr>
              <a:t>Pisa, 12 Dicembre 2002</a:t>
            </a:r>
            <a:endParaRPr b="0" lang="en-US" sz="32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rebuchet MS"/>
              </a:rPr>
              <a:t>Background</a:t>
            </a: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The new (3G+) services will more and more require integration of: 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Text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Voice/audio 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Video 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Natural and synthetic elements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Full interaction with end-user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rebuchet MS"/>
              </a:rPr>
              <a:t>Background</a:t>
            </a: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Typical example of such services are: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Multimedia conference (Netmeeting +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virtual reality)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Gaming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Augmented reality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Remote teaching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...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One of the key factors for the success of the future multimedia systems is the possibility to implement such services on terminals and network elements.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MPEG4 is a solution to provide such services but ...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The computational complexity to encode/decode or to perform trans-coding is high (impact on computational power and delay)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Real time applications are delay sensitive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d6e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6e47"/>
                </a:solidFill>
                <a:latin typeface="Garamond"/>
              </a:rPr>
              <a:t>Trade off between processing performance and processing time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A high power efficiency is required especially in the terminal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and last but not least ... costs need to be kept low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rebuchet MS"/>
              </a:rPr>
              <a:t>Issues to be solved</a:t>
            </a: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In particular the most demanding operations are: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Motion estimation, i. e. block matching techniques. If more blocks are looked for, the better the compression (but the longer the time it takes)=&gt;Trade-offs needed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Motion compensation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Discrete Cosine Transform (a 2D-Fourier transform)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The above operations are particularly resource demanding if blocks are small and/or arbitrarily shaped (especially when the shape has great changes</a:t>
            </a: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rebuchet MS"/>
              </a:rPr>
              <a:t>Computational complexity with MPEG4</a:t>
            </a: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Channel coding (how suitably protect data against losses ? Information carried by packets have different importance and information content)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Object segmentation : MPEG4 greatest innovation relies on the possibility of objects coding, which can be accomplished  after shape detection (for instance a face), which is one more time consuming task.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rebuchet MS"/>
              </a:rPr>
              <a:t>Pre-processing and channel coding</a:t>
            </a: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Garamond"/>
              </a:rPr>
              <a:t>1 - Investigate the performance of state of art processors (e.g. latest DSP) in order to determine what functionalities/profiles can be implemented in terminals and network elements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Garamond"/>
              </a:rPr>
              <a:t>2 – Realize a prototype of video coder MPE4-based, which possibly integrate the shape detection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Garamond"/>
              </a:rPr>
              <a:t>3 – Performance evaluation in comparison with hardware-based solution (e.g. ASIC).</a:t>
            </a: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rebuchet MS"/>
              </a:rPr>
              <a:t>Activity Goals</a:t>
            </a:r>
            <a:endParaRPr b="0" lang="en-US" sz="3000" spc="-1" strike="noStrike">
              <a:solidFill>
                <a:srgbClr val="0000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3:30Z</dcterms:created>
  <dc:creator>Luigi D'Antonio</dc:creator>
  <dc:description>presentazione per Pisatel 12 dic 2002</dc:description>
  <dc:language>en-US</dc:language>
  <cp:lastModifiedBy>teisaro</cp:lastModifiedBy>
  <cp:lastPrinted>2000-06-23T09:18:04Z</cp:lastPrinted>
  <dcterms:modified xsi:type="dcterms:W3CDTF">2002-12-11T15:27:13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4483455</vt:r8>
  </property>
  <property fmtid="{D5CDD505-2E9C-101B-9397-08002B2CF9AE}" pid="3" name="ButtonType">
    <vt:r8>3</vt:r8>
  </property>
  <property fmtid="{D5CDD505-2E9C-101B-9397-08002B2CF9AE}" pid="4" name="Compression">
    <vt:r8>5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DOWS\Desktop</vt:lpwstr>
  </property>
  <property fmtid="{D5CDD505-2E9C-101B-9397-08002B2CF9AE}" pid="14" name="ScreenSize">
    <vt:r8>4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