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EBA0-B468-4B61-970F-495DC103B8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AP: più pratico per noi, ma meno diffuso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P: più usato, ma non risponde esattamente alle nostre esigenze (necessaria analisi dell’header delle mail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0B5-D0C7-4F28-9685-A5D49C81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017-D711-4663-A6F2-2079F329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D39-BFAC-4A79-B386-3A366153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F37-846C-4BCA-AAEF-F63333DA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EE94-0B2B-4AA4-8414-B2DFF87D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F185-145E-4638-9D95-25D7BC89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7217-07BA-44A6-98B6-BC2F0313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FB1D-7D84-4966-BFDD-DC52E7A3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BE48-4BEF-41C6-999A-E5AE6164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03F-44D9-4BCF-BF41-A44E90CA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D321-490E-4DC1-8CA7-F139975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9D4-1D54-4703-ADD1-2BCC2A28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07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0FA-52FD-4E27-A23D-EBBEF971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9CD7-4B3C-4B03-A052-801C377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80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B6B2-648C-48EA-8F7A-02DA8B63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07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F7CF-BDEC-405D-A62D-D4D935EE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660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3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80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660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93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646F-D8B0-4E39-BF7E-679A609A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0B6-661F-4162-9AF3-57E72EFC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919-B1E3-49A9-895D-24272A6C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6E7-6B1F-4E9A-9859-385E613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426-604E-43EA-BD3C-7FC17A92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DA2-8D2D-427C-A67A-CFA36B31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622-54B4-4FBE-8BC3-C3488886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5C2-8687-487B-B7C6-0DD06003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3d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332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e9"/>
              </a:gs>
              <a:gs pos="100000">
                <a:srgbClr val="f3dc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e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e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e9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3dc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748A-84F6-4B48-BDE0-5773E84074D1}" type="datetime3">
              <a:rPr b="0" lang="en-GB" sz="1400" spc="-1" strike="noStrike">
                <a:solidFill>
                  <a:srgbClr val="003366"/>
                </a:solidFill>
                <a:latin typeface="Tahoma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46B1-F489-49AA-91D7-C978BAECD9FE}" type="slidenum">
              <a:rPr b="0" lang="en-US" sz="14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Bookman Old Style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e9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Bookman Old Style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3d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Bookman Old Style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e9"/>
                  </a:gs>
                  <a:gs pos="100000">
                    <a:srgbClr val="f3dc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Bookman Old Style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e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Bookman Old Style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Bookman Old Style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e9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Bookman Old Style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0D21-E5FD-41BA-B52E-3DCD6B4025EC}" type="datetime3">
              <a:rPr b="0" lang="en-GB" sz="1400" spc="-1" strike="noStrike">
                <a:solidFill>
                  <a:srgbClr val="003366"/>
                </a:solidFill>
                <a:latin typeface="Tahoma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4B48-141B-46C8-B975-E85B8709A60C}" type="slidenum">
              <a:rPr b="0" lang="en-US" sz="14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3dc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ahoma"/>
              </a:rPr>
              <a:t>New Service on JAIN MAP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Rita Arrighi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00"/>
                </a:solidFill>
                <a:latin typeface="Tahoma"/>
              </a:rPr>
              <a:t>USSD Service: </a:t>
            </a:r>
            <a:r>
              <a:rPr b="0" lang="en-US" sz="4000" spc="-1" strike="noStrike">
                <a:solidFill>
                  <a:srgbClr val="003300"/>
                </a:solidFill>
                <a:latin typeface="Tahoma"/>
              </a:rPr>
              <a:t>Unstructured Supplementary Service Data</a:t>
            </a:r>
            <a:endParaRPr b="0" lang="en-US" sz="4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Used by MS and network applications: the goal is to exchange information or command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Used to invoke supplementary services or to implement non-standardized servic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It is session-oriented: not store-and-forward, so more quick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978-DF98-4455-9B61-D3AA9178AF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707A1-DDE1-4D3F-AA22-91273D80C5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ahoma"/>
              </a:rPr>
              <a:t>USSD service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Network initiated: e.g. credit notifica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Mobile initiated: request for informations. In this case, there is a standard format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Application corresponding to SC (can be in MSC, VLR, HLR) is started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3809880"/>
          <a:ext cx="6248160" cy="609480"/>
        </p:xfrm>
        <a:graphic>
          <a:graphicData uri="http://schemas.openxmlformats.org/drawingml/2006/table">
            <a:tbl>
              <a:tblPr/>
              <a:tblGrid>
                <a:gridCol w="1295280"/>
                <a:gridCol w="609480"/>
                <a:gridCol w="380880"/>
                <a:gridCol w="863640"/>
                <a:gridCol w="432000"/>
                <a:gridCol w="914400"/>
                <a:gridCol w="457200"/>
                <a:gridCol w="838080"/>
                <a:gridCol w="45720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I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Ib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794-E92B-4D13-B7E0-27C65D5DAB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249A6-066E-4284-90B5-17356CA6FB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H="1">
            <a:off x="6629400" y="396252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629400" y="48006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028840" y="40384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028840" y="307800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ahoma"/>
              </a:rPr>
              <a:t>MAP services related to USSD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58580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057400"/>
            <a:ext cx="0" cy="3962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2057400"/>
            <a:ext cx="0" cy="3962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2057400"/>
            <a:ext cx="0" cy="3962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2057400"/>
            <a:ext cx="0" cy="3962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057400"/>
            <a:ext cx="0" cy="3962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6483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51055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3829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23623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447920"/>
            <a:ext cx="1295640" cy="609480"/>
          </a:xfrm>
          <a:prstGeom prst="ellipse">
            <a:avLst/>
          </a:prstGeom>
          <a:solidFill>
            <a:srgbClr val="f3dc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MS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1447920"/>
            <a:ext cx="1295280" cy="609480"/>
          </a:xfrm>
          <a:prstGeom prst="ellipse">
            <a:avLst/>
          </a:prstGeom>
          <a:solidFill>
            <a:srgbClr val="f3dc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MSC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1447920"/>
            <a:ext cx="1295280" cy="609480"/>
          </a:xfrm>
          <a:prstGeom prst="ellipse">
            <a:avLst/>
          </a:prstGeom>
          <a:solidFill>
            <a:srgbClr val="f3dc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VLR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447920"/>
            <a:ext cx="1295640" cy="609480"/>
          </a:xfrm>
          <a:prstGeom prst="ellipse">
            <a:avLst/>
          </a:prstGeom>
          <a:solidFill>
            <a:srgbClr val="f3dc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HLR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1447920"/>
            <a:ext cx="1295280" cy="609480"/>
          </a:xfrm>
          <a:prstGeom prst="ellipse">
            <a:avLst/>
          </a:prstGeom>
          <a:solidFill>
            <a:srgbClr val="f3dc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gsmSCF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25146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5" name=""/>
          <p:cNvSpPr/>
          <p:nvPr/>
        </p:nvSpPr>
        <p:spPr>
          <a:xfrm>
            <a:off x="1825920" y="2239920"/>
            <a:ext cx="24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ProcessUnstructuredSSReques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5909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6668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640" y="31543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39" name=""/>
          <p:cNvSpPr/>
          <p:nvPr/>
        </p:nvSpPr>
        <p:spPr>
          <a:xfrm>
            <a:off x="6267600" y="27734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UnstructuredSSReques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828440" y="323064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5352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2" name=""/>
          <p:cNvSpPr/>
          <p:nvPr/>
        </p:nvSpPr>
        <p:spPr>
          <a:xfrm>
            <a:off x="1834920" y="3260880"/>
            <a:ext cx="23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UnstructuredSSRequestResul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6115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5812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5" name=""/>
          <p:cNvSpPr/>
          <p:nvPr/>
        </p:nvSpPr>
        <p:spPr>
          <a:xfrm>
            <a:off x="5288400" y="373392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ProcessUnstructuredSSRequestResul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411480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28440" y="41911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8" name=""/>
          <p:cNvSpPr/>
          <p:nvPr/>
        </p:nvSpPr>
        <p:spPr>
          <a:xfrm>
            <a:off x="6322320" y="449568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UnstructuredSSNotify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028840" y="48769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428640" y="49528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28440" y="502920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52578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3" name=""/>
          <p:cNvSpPr/>
          <p:nvPr/>
        </p:nvSpPr>
        <p:spPr>
          <a:xfrm>
            <a:off x="1834200" y="5029200"/>
            <a:ext cx="21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UnstructuredSSNotifyResul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53341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54100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54864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86000"/>
            <a:ext cx="76320" cy="1981080"/>
          </a:xfrm>
          <a:custGeom>
            <a:avLst/>
            <a:gdLst>
              <a:gd name="textAreaLeft" fmla="*/ 48960 w 76320"/>
              <a:gd name="textAreaRight" fmla="*/ 76320 w 763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495680"/>
            <a:ext cx="76320" cy="129564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59" name=""/>
          <p:cNvSpPr/>
          <p:nvPr/>
        </p:nvSpPr>
        <p:spPr>
          <a:xfrm>
            <a:off x="248400" y="2759040"/>
            <a:ext cx="13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Mobile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Initiated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60" name=""/>
          <p:cNvSpPr/>
          <p:nvPr/>
        </p:nvSpPr>
        <p:spPr>
          <a:xfrm>
            <a:off x="248040" y="4664160"/>
            <a:ext cx="14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Initiated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629400" y="300204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62" name=""/>
          <p:cNvSpPr/>
          <p:nvPr/>
        </p:nvSpPr>
        <p:spPr>
          <a:xfrm>
            <a:off x="8001000" y="28494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27432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36576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017-73F8-4A04-95EE-280CA5D6E7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8D937-FA72-425A-B6D9-3B5C6647918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H="1">
            <a:off x="6629400" y="41148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00"/>
                </a:solidFill>
                <a:latin typeface="Tahoma"/>
              </a:rPr>
              <a:t>JAIN MAP services related to USSD</a:t>
            </a:r>
            <a:endParaRPr b="0" lang="en-US" sz="4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629400" y="48006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28840" y="41911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629400" y="304812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057400"/>
            <a:ext cx="0" cy="4114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2057400"/>
            <a:ext cx="0" cy="40384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2057400"/>
            <a:ext cx="0" cy="40384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057400"/>
            <a:ext cx="0" cy="4114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2057400"/>
            <a:ext cx="0" cy="4114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51055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39625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4290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29718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3623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447920"/>
            <a:ext cx="1295640" cy="609480"/>
          </a:xfrm>
          <a:prstGeom prst="ellipse">
            <a:avLst/>
          </a:prstGeom>
          <a:solidFill>
            <a:srgbClr val="f3dc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MS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1447920"/>
            <a:ext cx="1295280" cy="609480"/>
          </a:xfrm>
          <a:prstGeom prst="ellipse">
            <a:avLst/>
          </a:prstGeom>
          <a:solidFill>
            <a:srgbClr val="f3dc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MSC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1447920"/>
            <a:ext cx="1295280" cy="609480"/>
          </a:xfrm>
          <a:prstGeom prst="ellipse">
            <a:avLst/>
          </a:prstGeom>
          <a:solidFill>
            <a:srgbClr val="f3dc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VLR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1447920"/>
            <a:ext cx="1295640" cy="609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HLR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1447920"/>
            <a:ext cx="1295280" cy="609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gsmSCF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25146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7" name=""/>
          <p:cNvSpPr/>
          <p:nvPr/>
        </p:nvSpPr>
        <p:spPr>
          <a:xfrm>
            <a:off x="1825920" y="2239920"/>
            <a:ext cx="24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ProcessUnstructuredSSReques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25909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26668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428640" y="320040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97180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UnstructuredSSReques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828440" y="32767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358128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4" name=""/>
          <p:cNvSpPr/>
          <p:nvPr/>
        </p:nvSpPr>
        <p:spPr>
          <a:xfrm>
            <a:off x="1834920" y="3306600"/>
            <a:ext cx="23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UnstructuredSSRequestResul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365760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7339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7" name=""/>
          <p:cNvSpPr/>
          <p:nvPr/>
        </p:nvSpPr>
        <p:spPr>
          <a:xfrm>
            <a:off x="2270520" y="39924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ProcessUnstructuredSSRequestResul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28640" y="42670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828440" y="434340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0" name=""/>
          <p:cNvSpPr/>
          <p:nvPr/>
        </p:nvSpPr>
        <p:spPr>
          <a:xfrm>
            <a:off x="3371040" y="467820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UnstructuredSSNotify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028840" y="48769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28640" y="49528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828440" y="502920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52578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5" name=""/>
          <p:cNvSpPr/>
          <p:nvPr/>
        </p:nvSpPr>
        <p:spPr>
          <a:xfrm>
            <a:off x="1834200" y="5029200"/>
            <a:ext cx="21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ahoma"/>
              </a:rPr>
              <a:t>UnstructuredSSNotifyResult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53341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4100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54864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228600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4648320"/>
            <a:ext cx="76320" cy="144756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1" name=""/>
          <p:cNvSpPr/>
          <p:nvPr/>
        </p:nvSpPr>
        <p:spPr>
          <a:xfrm>
            <a:off x="248400" y="2759040"/>
            <a:ext cx="13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Mobile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Initiated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2" name=""/>
          <p:cNvSpPr/>
          <p:nvPr/>
        </p:nvSpPr>
        <p:spPr>
          <a:xfrm>
            <a:off x="248040" y="4816440"/>
            <a:ext cx="14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Initiated</a:t>
            </a:r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3" name=""/>
          <p:cNvSpPr/>
          <p:nvPr/>
        </p:nvSpPr>
        <p:spPr>
          <a:xfrm>
            <a:off x="6636960" y="251460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SessionOpenInd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4" name=""/>
          <p:cNvSpPr/>
          <p:nvPr/>
        </p:nvSpPr>
        <p:spPr>
          <a:xfrm>
            <a:off x="6641280" y="2819520"/>
            <a:ext cx="13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SessionDataReq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5" name=""/>
          <p:cNvSpPr/>
          <p:nvPr/>
        </p:nvSpPr>
        <p:spPr>
          <a:xfrm>
            <a:off x="6548760" y="457200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SessionOpenReq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6" name=""/>
          <p:cNvSpPr/>
          <p:nvPr/>
        </p:nvSpPr>
        <p:spPr>
          <a:xfrm>
            <a:off x="6640560" y="525780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SessionDataInd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7" name=""/>
          <p:cNvSpPr/>
          <p:nvPr/>
        </p:nvSpPr>
        <p:spPr>
          <a:xfrm>
            <a:off x="6567480" y="563868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SessionCloseReq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629400" y="586728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57150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274320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028840" y="31240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380988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23" name=""/>
          <p:cNvSpPr/>
          <p:nvPr/>
        </p:nvSpPr>
        <p:spPr>
          <a:xfrm>
            <a:off x="6640560" y="358128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SessionDataInd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24" name=""/>
          <p:cNvSpPr/>
          <p:nvPr/>
        </p:nvSpPr>
        <p:spPr>
          <a:xfrm>
            <a:off x="6567480" y="388620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Tahoma"/>
              </a:rPr>
              <a:t>SessionCloseReq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028840" y="594360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428640" y="601992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828440" y="60958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E4A-5E30-43BD-91E0-DF3E83BE62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FD705-DB51-4ABB-8F54-AB610BB499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ahoma"/>
              </a:rPr>
              <a:t>Objectives of new service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New service as a bridge between Internet and GSM network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It can be used by any GSM user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It uses the Message Session Capability of JAIN MAP API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It shows the simple use of JAIN MAP API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There is not in actual marke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6D1-111A-4C6B-A06B-AB7AD6930F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B6785-5722-48B1-A003-68DE2651053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ahoma"/>
              </a:rPr>
              <a:t>The new service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Any GSM user can know if there is a new e-mail on a </a:t>
            </a:r>
            <a:r>
              <a:rPr b="0" i="1" lang="en-GB" sz="3200" spc="-1" strike="noStrike">
                <a:solidFill>
                  <a:srgbClr val="003366"/>
                </a:solidFill>
                <a:latin typeface="Tahoma"/>
              </a:rPr>
              <a:t>specified</a:t>
            </a: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 mail_server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Application run on </a:t>
            </a:r>
            <a:r>
              <a:rPr b="0" i="1" lang="en-GB" sz="3200" spc="-1" strike="noStrike">
                <a:solidFill>
                  <a:srgbClr val="003366"/>
                </a:solidFill>
                <a:latin typeface="Tahoma"/>
              </a:rPr>
              <a:t>gsmSCF</a:t>
            </a: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 entity, belonging to GSM network, but connected to Interne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IMAP or POP protocol can be used to connect with the mailserver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261-7272-4042-A2BE-9195424FB1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8C92C-E258-4277-AFE6-0FD11F6415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ahoma"/>
              </a:rPr>
              <a:t>Application Framework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Default_listener receives Jain primitives SessionOpenInd+ SessionDataInd,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USSD string format is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en-GB" sz="2400" spc="-1" strike="noStrike">
                <a:solidFill>
                  <a:srgbClr val="003366"/>
                </a:solidFill>
                <a:latin typeface="Tahoma"/>
              </a:rPr>
              <a:t>*133*mailserver*user*password#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Default_listener, by service code, instances a handler listen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Connection with the Mail Server: IMAP or POP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5407200" y="2292480"/>
            <a:ext cx="1066680" cy="1066680"/>
          </a:xfrm>
          <a:prstGeom prst="diamond">
            <a:avLst/>
          </a:prstGeom>
          <a:solidFill>
            <a:srgbClr val="ffffe9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Connection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With IMAP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35" name=""/>
          <p:cNvSpPr/>
          <p:nvPr/>
        </p:nvSpPr>
        <p:spPr>
          <a:xfrm>
            <a:off x="5270400" y="18334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36" name=""/>
          <p:cNvSpPr/>
          <p:nvPr/>
        </p:nvSpPr>
        <p:spPr>
          <a:xfrm>
            <a:off x="6105240" y="2314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37" name=""/>
          <p:cNvSpPr/>
          <p:nvPr/>
        </p:nvSpPr>
        <p:spPr>
          <a:xfrm>
            <a:off x="6208200" y="42321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38" name=""/>
          <p:cNvSpPr/>
          <p:nvPr/>
        </p:nvSpPr>
        <p:spPr>
          <a:xfrm>
            <a:off x="7095600" y="43513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39" name=""/>
          <p:cNvSpPr/>
          <p:nvPr/>
        </p:nvSpPr>
        <p:spPr>
          <a:xfrm>
            <a:off x="7243560" y="5308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0" name=""/>
          <p:cNvSpPr/>
          <p:nvPr/>
        </p:nvSpPr>
        <p:spPr>
          <a:xfrm>
            <a:off x="8224560" y="5046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1" name=""/>
          <p:cNvSpPr/>
          <p:nvPr/>
        </p:nvSpPr>
        <p:spPr>
          <a:xfrm>
            <a:off x="7338600" y="6016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2" name=""/>
          <p:cNvSpPr/>
          <p:nvPr/>
        </p:nvSpPr>
        <p:spPr>
          <a:xfrm>
            <a:off x="6163920" y="36813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3" name=""/>
          <p:cNvSpPr/>
          <p:nvPr/>
        </p:nvSpPr>
        <p:spPr>
          <a:xfrm>
            <a:off x="7227360" y="4718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4" name=""/>
          <p:cNvSpPr/>
          <p:nvPr/>
        </p:nvSpPr>
        <p:spPr>
          <a:xfrm>
            <a:off x="7687800" y="4095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5" name=""/>
          <p:cNvSpPr/>
          <p:nvPr/>
        </p:nvSpPr>
        <p:spPr>
          <a:xfrm>
            <a:off x="7999200" y="22939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6" name=""/>
          <p:cNvSpPr/>
          <p:nvPr/>
        </p:nvSpPr>
        <p:spPr>
          <a:xfrm>
            <a:off x="8000640" y="2666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7" name=""/>
          <p:cNvSpPr/>
          <p:nvPr/>
        </p:nvSpPr>
        <p:spPr>
          <a:xfrm>
            <a:off x="5391000" y="1530360"/>
            <a:ext cx="1159200" cy="39852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66"/>
                </a:solidFill>
                <a:latin typeface="Tahoma"/>
              </a:rPr>
              <a:t>USSD string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66"/>
                </a:solidFill>
                <a:latin typeface="Tahoma"/>
              </a:rPr>
              <a:t>parsing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8" name=""/>
          <p:cNvSpPr/>
          <p:nvPr/>
        </p:nvSpPr>
        <p:spPr>
          <a:xfrm>
            <a:off x="7388280" y="2562120"/>
            <a:ext cx="1295280" cy="39852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IMAP Mail Server interrogation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49" name=""/>
          <p:cNvSpPr/>
          <p:nvPr/>
        </p:nvSpPr>
        <p:spPr>
          <a:xfrm>
            <a:off x="7388280" y="3968640"/>
            <a:ext cx="1295280" cy="39852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POP Mail Server interrogation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50" name=""/>
          <p:cNvSpPr/>
          <p:nvPr/>
        </p:nvSpPr>
        <p:spPr>
          <a:xfrm>
            <a:off x="5254560" y="5029200"/>
            <a:ext cx="1371600" cy="39852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No Response from Mail Server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51" name=""/>
          <p:cNvSpPr/>
          <p:nvPr/>
        </p:nvSpPr>
        <p:spPr>
          <a:xfrm>
            <a:off x="6397560" y="5924520"/>
            <a:ext cx="1371600" cy="24624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JAIN Response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52" name=""/>
          <p:cNvSpPr/>
          <p:nvPr/>
        </p:nvSpPr>
        <p:spPr>
          <a:xfrm>
            <a:off x="5407200" y="3664080"/>
            <a:ext cx="1066680" cy="1066680"/>
          </a:xfrm>
          <a:prstGeom prst="diamond">
            <a:avLst/>
          </a:prstGeom>
          <a:solidFill>
            <a:srgbClr val="ffffe9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Connection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ahoma"/>
              </a:rPr>
              <a:t>With POP</a:t>
            </a:r>
            <a:endParaRPr b="0" lang="en-US" sz="10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1987560"/>
            <a:ext cx="0" cy="304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54" name=""/>
          <p:cNvSpPr/>
          <p:nvPr/>
        </p:nvSpPr>
        <p:spPr>
          <a:xfrm>
            <a:off x="6473880" y="2825640"/>
            <a:ext cx="91440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55" name=""/>
          <p:cNvSpPr/>
          <p:nvPr/>
        </p:nvSpPr>
        <p:spPr>
          <a:xfrm>
            <a:off x="5940360" y="3359160"/>
            <a:ext cx="0" cy="304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56" name=""/>
          <p:cNvSpPr/>
          <p:nvPr/>
        </p:nvSpPr>
        <p:spPr>
          <a:xfrm>
            <a:off x="6473880" y="4197240"/>
            <a:ext cx="91440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4724280"/>
            <a:ext cx="0" cy="304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cxnSp>
        <p:nvCxnSpPr>
          <p:cNvPr id="258" name=""/>
          <p:cNvCxnSpPr>
            <a:stCxn id="250" idx="2"/>
            <a:endCxn id="251" idx="1"/>
          </p:cNvCxnSpPr>
          <p:nvPr/>
        </p:nvCxnSpPr>
        <p:spPr>
          <a:xfrm flipH="1" rot="16200000">
            <a:off x="5863320" y="5531040"/>
            <a:ext cx="602280" cy="448560"/>
          </a:xfrm>
          <a:prstGeom prst="bentConnector2">
            <a:avLst/>
          </a:prstGeom>
          <a:ln w="19080">
            <a:solidFill>
              <a:srgbClr val="003366"/>
            </a:solidFill>
            <a:miter/>
            <a:tailEnd len="med" type="stealth" w="sm"/>
          </a:ln>
        </p:spPr>
      </p:cxnSp>
      <p:cxnSp>
        <p:nvCxnSpPr>
          <p:cNvPr id="259" name=""/>
          <p:cNvCxnSpPr>
            <a:stCxn id="248" idx="3"/>
            <a:endCxn id="251" idx="3"/>
          </p:cNvCxnSpPr>
          <p:nvPr/>
        </p:nvCxnSpPr>
        <p:spPr>
          <a:xfrm flipH="1">
            <a:off x="7778520" y="2846520"/>
            <a:ext cx="915120" cy="3210480"/>
          </a:xfrm>
          <a:prstGeom prst="bentConnector3">
            <a:avLst>
              <a:gd name="adj1" fmla="val -23927"/>
            </a:avLst>
          </a:prstGeom>
          <a:ln w="19080">
            <a:solidFill>
              <a:srgbClr val="003366"/>
            </a:solidFill>
            <a:miter/>
            <a:tailEnd len="med" type="stealth" w="sm"/>
          </a:ln>
        </p:spPr>
      </p:cxnSp>
      <p:sp>
        <p:nvSpPr>
          <p:cNvPr id="260" name=""/>
          <p:cNvSpPr/>
          <p:nvPr/>
        </p:nvSpPr>
        <p:spPr>
          <a:xfrm>
            <a:off x="8686800" y="4191120"/>
            <a:ext cx="2286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61" name=""/>
          <p:cNvSpPr/>
          <p:nvPr/>
        </p:nvSpPr>
        <p:spPr>
          <a:xfrm>
            <a:off x="6429240" y="259092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ahoma"/>
              </a:rPr>
              <a:t>accepted</a:t>
            </a:r>
            <a:endParaRPr b="0" lang="en-US" sz="1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62" name=""/>
          <p:cNvSpPr/>
          <p:nvPr/>
        </p:nvSpPr>
        <p:spPr>
          <a:xfrm>
            <a:off x="6429240" y="396252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ahoma"/>
              </a:rPr>
              <a:t>accepted</a:t>
            </a:r>
            <a:endParaRPr b="0" lang="en-US" sz="1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63" name=""/>
          <p:cNvSpPr/>
          <p:nvPr/>
        </p:nvSpPr>
        <p:spPr>
          <a:xfrm>
            <a:off x="5936400" y="3276720"/>
            <a:ext cx="7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ahoma"/>
              </a:rPr>
              <a:t>refused</a:t>
            </a:r>
            <a:endParaRPr b="0" lang="en-US" sz="1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264" name=""/>
          <p:cNvSpPr/>
          <p:nvPr/>
        </p:nvSpPr>
        <p:spPr>
          <a:xfrm>
            <a:off x="5936400" y="4648320"/>
            <a:ext cx="7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ahoma"/>
              </a:rPr>
              <a:t>refused</a:t>
            </a:r>
            <a:endParaRPr b="0" lang="en-US" sz="1400" spc="-1" strike="noStrike">
              <a:solidFill>
                <a:srgbClr val="0033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7EF-374C-4D05-92B4-47BCC0F21A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A51D7-69B6-4F28-B6EC-AB29EDF4DE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ahoma"/>
              </a:rPr>
              <a:t>Conclusion and future work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A new service integrating GSM and internet networks was created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</a:rPr>
              <a:t>Improvements can be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Password encrypted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e-mail from specified addres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IWWIN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8D6-B4E9-4E9C-AD00-49733D822E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85B75-59EE-4098-BF31-1C9A04A52AB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09:58:42Z</dcterms:created>
  <dc:creator>Alberto Ribolini</dc:creator>
  <dc:description/>
  <dc:language>en-US</dc:language>
  <cp:lastModifiedBy>IEI CNR</cp:lastModifiedBy>
  <dcterms:modified xsi:type="dcterms:W3CDTF">2002-12-12T08:40:07Z</dcterms:modified>
  <cp:revision>97</cp:revision>
  <dc:subject/>
  <dc:title>Presentazione di PowerPoint</dc:title>
</cp:coreProperties>
</file>