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F880-8DD5-46C8-BC81-EE3F692AC7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Le specifiche della JAIN MAP API definiscono una struttura ad oggetti composta principalmente dalle seguenti par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JainListener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face che deve essere implementata dall’applicazione del JAIN MAP API User, per la funzionalità che vuole us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JainProvider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face;, la cui implementazione è compito di chi realizza la particolare funzionalità della JAIN MAP API. Ci sarà un’istanza di un oggetto provider per ogni </a:t>
            </a:r>
            <a:r>
              <a:rPr b="0" i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minio di servizio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che denota un gruppo di abbonati per una specifica funzionalità,  ed è caratterizzato da diversi parametri, tra cui la funzionalità supportata, lo stack che usa, il range degli indirizzi degli abbonati, ecc. Potranno quindi esistere più oggetti provider per ogni funzionalità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ack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interface; che deve essere implementata sempre dagli sviluppatori della JAIN MAP API. È la rappresentazione dello stack nel sistema, che può essere usato dalla JAIN MAP API, e funge da factory per gli oggetti provid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ory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class;utilizzata per istanziare gli oggetti sta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Java Event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ass</a:t>
            </a: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er ogni primitiva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·         </a:t>
            </a: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a classe che rappresenta il parametro di una primitiva con una struttura complessa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che quindi non può essere rappresentato da un tipo base di Jav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      </a:t>
            </a: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a classe che rappresenta il parametro di una primitiva con una struttura complessa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che quindi non può essere rappresentato da un tipo base di Jav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ception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classes</a:t>
            </a:r>
            <a:r>
              <a:rPr b="1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er ogni eccezione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con cui viene segnalato all'applicazione il verificarsi di un errore nella JAIN MAP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EFA-0139-4E97-B1E2-AD9F587C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1760" y="39783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B09-1852-42D8-99A3-A18AA9AC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1760" y="39783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2560" y="39783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DD6-EADD-43C5-80FD-0D338192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41240" y="18288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1080" y="18288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61760" y="39783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41240" y="39783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1080" y="39783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198-55F2-4E38-931D-39A5DADF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9F65-B0FD-43E7-9F5D-6049774F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412F-ED2A-46F0-9C6B-27224330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89A6-4B09-4337-84C4-C13C124F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7D3E-DD10-4B8D-AF80-F8614AD3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7964-F717-4E4F-8084-F4A317B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7796-9EDE-405C-92FE-3EB5CD24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39783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D13-B7B8-4542-84E7-CA80324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993-C298-4E7D-B844-A70E5F7E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2560" y="39783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D798-6E6D-4758-A21D-DF7A4F9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1760" y="39783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1598-FC52-463F-B541-BD2351B8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61760" y="39783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E412-4B5E-4168-AEC7-C7426B2A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39783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2560" y="39783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A574-7570-4376-B024-17E69B6A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41240" y="18288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1080" y="18288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61760" y="39783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41240" y="39783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1080" y="39783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B9D5-ACBD-424F-ABFA-A183F876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105-6966-4121-BB22-20E1DA6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FB9-3D43-4604-AAEC-C18E502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89D-98F5-4FEA-AD19-CABB9F14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D1A-1280-45E9-9F1E-8B4F8F01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39783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380-1B24-49EB-8F88-2E4F388B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2560" y="39783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DAA-6016-4C1E-8825-02EB812A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8288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9783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AD8-BD3A-4652-A4ED-2E476773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731880"/>
            <a:ext cx="438120" cy="474480"/>
          </a:xfrm>
          <a:prstGeom prst="rect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731880"/>
            <a:ext cx="328320" cy="474480"/>
          </a:xfrm>
          <a:prstGeom prst="rect">
            <a:avLst/>
          </a:prstGeom>
          <a:gradFill rotWithShape="0">
            <a:gsLst>
              <a:gs pos="0">
                <a:srgbClr val="f3ffff"/>
              </a:gs>
              <a:gs pos="100000">
                <a:srgbClr val="00f4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154160"/>
            <a:ext cx="422280" cy="474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154160"/>
            <a:ext cx="368280" cy="474480"/>
          </a:xfrm>
          <a:prstGeom prst="rect">
            <a:avLst/>
          </a:prstGeom>
          <a:gradFill rotWithShape="0">
            <a:gsLst>
              <a:gs pos="0">
                <a:srgbClr val="f3ffff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810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3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3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414440"/>
            <a:ext cx="8226360" cy="31680"/>
          </a:xfrm>
          <a:prstGeom prst="rect">
            <a:avLst/>
          </a:prstGeom>
          <a:gradFill rotWithShape="0">
            <a:gsLst>
              <a:gs pos="0">
                <a:srgbClr val="f3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f4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AA40-98FC-4516-83DC-CC608AB0D3DC}" type="datetime3">
              <a:rPr b="0" lang="en-GB" sz="1400" spc="-1" strike="noStrike">
                <a:solidFill>
                  <a:srgbClr val="000000"/>
                </a:solidFill>
                <a:latin typeface="Tahoma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D3BE-4B1E-40A0-BE1D-CD91004F7C3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3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00f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3ffff"/>
                  </a:gs>
                  <a:gs pos="100000">
                    <a:srgbClr val="00f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f3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3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7DB-AFC1-4C39-B3BD-1FF30D353687}" type="datetime3">
              <a:rPr b="0" lang="en-GB" sz="1400" spc="-1" strike="noStrike">
                <a:solidFill>
                  <a:srgbClr val="1c1c1c"/>
                </a:solidFill>
                <a:latin typeface="Tahoma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E220-6666-4913-9443-2C5F4C429952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f4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333399"/>
                </a:solidFill>
                <a:latin typeface="Tahoma"/>
              </a:rPr>
              <a:t>Integrating Wireless Wireline and Internet Network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JAIN MAP A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320" y="3657600"/>
            <a:ext cx="358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urizio Bonuccel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ancesca Martel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iero Lau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6576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nata Bandell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ita Arrig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ancesca Lone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going Session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04840" y="-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876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2876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2876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7415" t="7564" r="15960" b="7589"/>
          <a:stretch/>
        </p:blipFill>
        <p:spPr>
          <a:xfrm>
            <a:off x="914400" y="1447920"/>
            <a:ext cx="769608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533520" y="205740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71320" y="2209680"/>
            <a:ext cx="41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7D6-AC71-4264-B32F-A72B8DC908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8A056-5764-4327-92F3-E2C4059981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oming Session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8595000" y="1905120"/>
            <a:ext cx="41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70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9368" t="7815" r="5411" b="15782"/>
          <a:stretch/>
        </p:blipFill>
        <p:spPr>
          <a:xfrm>
            <a:off x="1143000" y="1447920"/>
            <a:ext cx="739152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595800" y="2362320"/>
            <a:ext cx="41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89A-25B9-41D8-A0B3-26DDC477F4F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F7F3F-200B-49D3-98B0-D38A4724B9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JAIN MAP API</a:t>
            </a:r>
            <a:br>
              <a:rPr sz="4000"/>
            </a:b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ransaction Capabili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plemented by Renata Bandelloni, Francesca Martel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ased on SM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ff"/>
                </a:solidFill>
                <a:latin typeface="Tahoma"/>
              </a:rPr>
              <a:t>JAIN MAP APIs for this service reside on Service Centr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which interface itself both with HLR and MS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28A-F13A-427E-9262-931E488BAD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6E86F-2699-4098-8BC3-A5CE445E27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IN MAP AP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Cap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lemented by Rita Arrighi, Francesca Martel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ased on USSD service, which is a transport mechanism that is used to transport data for Operator Specific Services between the MS and the networ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SD is an important mechanism to support such services even when roaming outside the home-PLM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functional entity where USSD-handler reside is gsmSCF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ff"/>
                </a:solidFill>
                <a:latin typeface="Tahoma"/>
              </a:rPr>
              <a:t>JAIN MAP API interface reside in HLR or in gsmSC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3B6-7B69-4882-8435-0F647E533B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F760A-1515-4882-87F7-9F7BA3B7D85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figure1_3" descr=""/>
          <p:cNvPicPr/>
          <p:nvPr/>
        </p:nvPicPr>
        <p:blipFill>
          <a:blip r:embed="rId1"/>
          <a:srcRect l="1934" t="3077" r="3068" b="8920"/>
          <a:stretch/>
        </p:blipFill>
        <p:spPr>
          <a:xfrm>
            <a:off x="1447920" y="1447920"/>
            <a:ext cx="6514920" cy="5029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BAB-632D-400B-B808-76A7D9AC1C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5588D-611B-4DB5-8B01-A0BB6E4AEB7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IN MAP AP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ition Cap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7600" y="1828800"/>
            <a:ext cx="865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emented by Francesca Martel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ocation Service (LCS) has recently been introduced in ETSI M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nctional entities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CS clien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it may be internal or external to the PLM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MLC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Gateway Mobile Location Center. Provides access to location service for LCS clients (internal or external). </a:t>
            </a:r>
            <a:r>
              <a:rPr b="0" i="1" lang="en-GB" sz="2000" spc="-1" strike="noStrike">
                <a:solidFill>
                  <a:srgbClr val="ff00ff"/>
                </a:solidFill>
                <a:latin typeface="Tahoma"/>
              </a:rPr>
              <a:t>JAIN MAP API interface resi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MLC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Serving Mobile Location Center: it is a database and processing entity that manages the procedures for obtaining the geographic location of a target MS. The SMLC manages a set of LMUs in its coverage ar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M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- Location Measurement Unit. The LMU performs location measurements in the visited PLM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nceptually similar to Transac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615-D4ED-428E-8E61-A9C237427D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28DCB-6096-40C2-8543-7600AA47E4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IN MAP API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Capa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ed by Francesca Martel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gsmSCF interrogates HLR for information about a particular subscriber, for which it is entitled to do so. This may be information about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ubscriber sta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/or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ocati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MAP operation Any-Time-Interrogation (ATI) is used by the gsmSCF to do such an interrogation to the HL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port for the Any-Time-Interrogation operation is a network operator o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ff"/>
                </a:solidFill>
                <a:latin typeface="Tahoma"/>
              </a:rPr>
              <a:t>JAIN MAP API interface reside on gsmSC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F23-2683-495E-A909-677AA6E13E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DE10E-4673-4B05-81E1-2F6AACB05EE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and 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JAIN MAP APIs for ETSI MAP GSM are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ML model is g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new services are c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Is can be extended for UMTS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new services can be c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0F7-4056-4A08-9C35-4B4A81EA80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2EA73-64D0-4492-90B5-E687C1EEB04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J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Java APIs for Integrated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JAIN provides a set of Java APIs focused on emerging network protocols and architectures driven by convergence of traditional telecommunication and IP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wo leve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licatio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toco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ADB-A58E-44A7-BC40-2E736500DA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F1A33-9162-4CEF-B7BA-50637DEBD336}" type="datetime3">
              <a:rPr lang="en-US"/>
              <a:t>July 30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obile Application 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otocol used by entities beloning to mobile network infrastructure, not by mobile termi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AP handles numerous services about mo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563-0250-4184-A0AB-BF1101C7F5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B2E68-135E-45CE-906B-4B188090C597}" type="datetime3">
              <a:rPr lang="en-US"/>
              <a:t>July 30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JAIN MAP A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The JAIN MAP API Specification defines APIs which allow for the rapid creation and deployment of dynamic telephony services into a Java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The API specified by JAIN Community are based on the ETSI MAP GSM and IS41 specif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JAIN MAP API specification gives a functional definition indipendent from the protocols stack be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D62-38B0-497B-A86A-BA03283F6D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A9EFA-3FAA-4913-89EE-276CB8123383}" type="datetime3">
              <a:rPr lang="en-US"/>
              <a:t>July 30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ost interesting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nding/receiving short messages to/from mobile telephones (Transaction cap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xchange of service specific data between the mobile telephone and a service application in the mobile network (Session cap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trieval of information about mobile telephones, such as position/location (Position cap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trieval of information about mobile telephones, such as availability/status (Information cap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0B7-ABE1-4A86-B18E-203B38CEF1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AD388-FA8C-4CC1-829F-7B4F3ECB46F2}" type="datetime3">
              <a:rPr lang="en-US"/>
              <a:t>July 30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IN MAP API Spec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For each capabilit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JainListener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interfa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JainProvider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interface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Stack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 interface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Factory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 clas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Java Event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class for each primitiv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Parameter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 clas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Exception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 cla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309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098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3512" t="23937" r="53484" b="46935"/>
          <a:stretch/>
        </p:blipFill>
        <p:spPr>
          <a:xfrm>
            <a:off x="228600" y="2630520"/>
            <a:ext cx="3286080" cy="21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A5F-6C65-4A77-85A1-30C6C36324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D444A-E34D-4B12-BF28-CA3155C7EF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IN MAP API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 each capability, we added the following classes in its pack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utgoingTh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comingThread (if necessa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rious specific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inMapUserForCAPABILITY (to test 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CA1-155E-4809-B759-27BFAF1349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DE6EA-A152-4BAE-8ECE-652275BA603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cause we haven’t a real MAP protocol, we simulate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acket for each MAP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dialogue for each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rovider, MapListener, MapEvent, Map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ows to simulate Map Ans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2148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288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22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406" t="22382" r="74794" b="19203"/>
          <a:stretch/>
        </p:blipFill>
        <p:spPr>
          <a:xfrm>
            <a:off x="4919760" y="1447920"/>
            <a:ext cx="4147920" cy="495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37B-8C7A-4392-BFBF-466C1B2680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EA33F-666D-4A01-8967-A6138D96E1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 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d ETSI standard version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gital cellular telecommunications system (Phase 2+); Mobile Application Part (MAP) specification (GSM 09.02 version 7.1.0 Release 199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 for LCS Capability, for which we have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gital cellular telecommunications system (Phase 2+) (GSM); Universal Mobile Telecommunications System (UMTS); Mobile Application Part (MAP) specification (3GPP TS 29.002 version 4.5.0 Release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E02-F7A6-4A28-BDF2-274164BB20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A54C2-CFF4-42FE-B3CF-179156EC86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0:28:27Z</dcterms:created>
  <dc:creator>IEI CNR</dc:creator>
  <dc:description/>
  <dc:language>en-US</dc:language>
  <cp:lastModifiedBy>IEI CNR</cp:lastModifiedBy>
  <dcterms:modified xsi:type="dcterms:W3CDTF">2002-12-12T09:02:12Z</dcterms:modified>
  <cp:revision>37</cp:revision>
  <dc:subject/>
  <dc:title>JAIN MAP API</dc:title>
</cp:coreProperties>
</file>