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63E8-9832-4AA8-8F09-94E09A08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8DC9-6506-455F-9FCC-EA8C8C3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7800-EBDC-44ED-BB78-D03CE67A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0E6D-597F-43EF-85A0-12635C62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37B-7A54-4574-B774-BDEF163C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7A6F-2E3E-4D16-BA4F-23CD5BD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D4E-0F09-46C9-A923-EDB7569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B2F1-EBBD-426B-8D44-8221C7DD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AFBD-7EC8-4AEE-8A07-A65B174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15FE-ED7A-43CA-9382-A5DB832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56A2-979B-4713-AC1C-7AF84808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F78A-2069-4326-9269-961FEF6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B0D-A79E-4232-A4D8-89CD696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5355-C0C8-4F05-893C-D41F256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509-C770-481C-91E4-89D434A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9684-BF9F-4544-8268-A12CEDBA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761-A55E-41CA-9169-25AD892F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7D02-C90C-43D2-806E-9F3DE423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3C00-D854-47DB-92F1-44E6A2D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B1E2-F6D7-4CFB-B221-D31C8C8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7300-A552-4822-AA0D-CDC956A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3923-FA33-44D1-925A-3A45555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F426-BADA-4E4B-835E-F6AAB557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CB90-0DCA-40F2-B3D0-43A57A81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128D-A18B-44A9-9B98-93EC8246C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AC2-DBB3-4B8D-A9AA-7A7385CB8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i GSM: Progettazione e realizzazione di un nuov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zio USSD in JAIN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esca Lon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26C3-637E-4C00-8E7F-16F17C74FA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enticazione ed autorizzazione sul server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AS(Java Authentication and Authorization Service)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70160" y="5170320"/>
            <a:ext cx="43178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98920" y="2349360"/>
            <a:ext cx="3528720" cy="1224000"/>
            <a:chOff x="2698920" y="2349360"/>
            <a:chExt cx="3528720" cy="1224000"/>
          </a:xfrm>
        </p:grpSpPr>
        <p:sp>
          <p:nvSpPr>
            <p:cNvPr id="251" name=""/>
            <p:cNvSpPr/>
            <p:nvPr/>
          </p:nvSpPr>
          <p:spPr>
            <a:xfrm>
              <a:off x="4427640" y="278100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8920" y="3141360"/>
              <a:ext cx="3528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nCo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98920" y="2349360"/>
              <a:ext cx="35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4276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3933720"/>
            <a:ext cx="4319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93920" y="4267080"/>
            <a:ext cx="1295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T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16280" y="4267080"/>
            <a:ext cx="1297080" cy="287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pp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4267080"/>
            <a:ext cx="1295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x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60640" y="5300640"/>
            <a:ext cx="1079640" cy="6015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ent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00640"/>
            <a:ext cx="107964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9440" y="5602320"/>
            <a:ext cx="216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9280" y="5516640"/>
            <a:ext cx="6494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5800" y="5300640"/>
            <a:ext cx="107784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10160" y="4216320"/>
            <a:ext cx="1066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4A30-20F9-41ED-AA1C-CCDCCE6EBF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oginModule e autorizz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 hash delle password memorizzato nel database de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zione del subject (utente autenticato) con gli associati princip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rizzazione in base ai permessi del principal specificati in una data politica di sicur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D603-3544-45B4-842F-537FF6C793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re piu’ sicuro il traffico tra le entita’ centrali della rete G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iptare i dati con RC5 e chiave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 BTS e gsmS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lioramenti e modifiche del servizio realizz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tenticazione 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zione tra l’applicazione remota in esecuzione e l’utente G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A22E-C449-4FF7-A2F7-BB701B09D0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pia cifratura dei d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9560" y="2289240"/>
            <a:ext cx="574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2200" y="2695680"/>
            <a:ext cx="790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2720" y="4737240"/>
            <a:ext cx="790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74640" y="1760400"/>
            <a:ext cx="432000" cy="28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6040" y="2413080"/>
            <a:ext cx="865440" cy="507960"/>
          </a:xfrm>
          <a:prstGeom prst="rect">
            <a:avLst/>
          </a:prstGeom>
          <a:solidFill>
            <a:srgbClr val="c0c0c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519280"/>
            <a:ext cx="217440" cy="1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00360" y="2057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00360" y="2925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46040" y="4362480"/>
            <a:ext cx="86544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3859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46040" y="5153040"/>
            <a:ext cx="86364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52600" y="5251320"/>
            <a:ext cx="64764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58800" y="5316480"/>
            <a:ext cx="432000" cy="289080"/>
          </a:xfrm>
          <a:prstGeom prst="rect">
            <a:avLst/>
          </a:prstGeom>
          <a:solidFill>
            <a:srgbClr val="cccce6">
              <a:alpha val="5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65200" y="3425760"/>
            <a:ext cx="647640" cy="4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9960" y="3494160"/>
            <a:ext cx="432000" cy="287280"/>
          </a:xfrm>
          <a:prstGeom prst="rect">
            <a:avLst/>
          </a:prstGeom>
          <a:solidFill>
            <a:srgbClr val="cccce6">
              <a:alpha val="57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78040" y="47941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1320" y="248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1320" y="4433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4694400"/>
            <a:ext cx="519120" cy="1440"/>
          </a:xfrm>
          <a:custGeom>
            <a:avLst/>
            <a:gdLst/>
            <a:ahLst/>
            <a:rect l="l" t="t" r="r" b="b"/>
            <a:pathLst>
              <a:path w="327" h="1">
                <a:moveTo>
                  <a:pt x="0" y="0"/>
                </a:moveTo>
                <a:lnTo>
                  <a:pt x="327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41320" y="2705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24120" y="436248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26040" y="4362480"/>
            <a:ext cx="296640" cy="1387440"/>
          </a:xfrm>
          <a:custGeom>
            <a:avLst/>
            <a:gdLst/>
            <a:ahLst/>
            <a:rect l="l" t="t" r="r" b="b"/>
            <a:pathLst>
              <a:path w="187" h="874">
                <a:moveTo>
                  <a:pt x="0" y="0"/>
                </a:moveTo>
                <a:lnTo>
                  <a:pt x="187" y="8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4327560"/>
            <a:ext cx="48960" cy="1401840"/>
          </a:xfrm>
          <a:custGeom>
            <a:avLst/>
            <a:gdLst/>
            <a:ahLst/>
            <a:rect l="l" t="t" r="r" b="b"/>
            <a:pathLst>
              <a:path w="31" h="883">
                <a:moveTo>
                  <a:pt x="31" y="0"/>
                </a:moveTo>
                <a:lnTo>
                  <a:pt x="0" y="8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46760" y="5297400"/>
            <a:ext cx="64764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51520" y="5365800"/>
            <a:ext cx="431640" cy="287280"/>
          </a:xfrm>
          <a:prstGeom prst="rect">
            <a:avLst/>
          </a:prstGeom>
          <a:solidFill>
            <a:srgbClr val="cccce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1320" y="428940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226040" y="42890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86400" y="55134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8400" y="5153040"/>
            <a:ext cx="79200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15480" y="5370480"/>
            <a:ext cx="431640" cy="287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82040" y="5513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3440" y="2752560"/>
            <a:ext cx="86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88960" y="4505400"/>
            <a:ext cx="57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22760" y="5873760"/>
            <a:ext cx="86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59720" y="5429160"/>
            <a:ext cx="93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22760" y="544212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36880" y="5229360"/>
            <a:ext cx="343080" cy="190440"/>
          </a:xfrm>
          <a:custGeom>
            <a:avLst/>
            <a:gdLst/>
            <a:ahLst/>
            <a:rect l="l" t="t" r="r" b="b"/>
            <a:pathLst>
              <a:path w="216" h="120">
                <a:moveTo>
                  <a:pt x="0" y="0"/>
                </a:moveTo>
                <a:lnTo>
                  <a:pt x="216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5800" y="5010120"/>
            <a:ext cx="241560" cy="130320"/>
          </a:xfrm>
          <a:custGeom>
            <a:avLst/>
            <a:gdLst/>
            <a:ahLst/>
            <a:rect l="l" t="t" r="r" b="b"/>
            <a:pathLst>
              <a:path w="152" h="82">
                <a:moveTo>
                  <a:pt x="0" y="0"/>
                </a:moveTo>
                <a:lnTo>
                  <a:pt x="152" y="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167360" y="55130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79960" y="5292720"/>
            <a:ext cx="228600" cy="127080"/>
          </a:xfrm>
          <a:custGeom>
            <a:avLst/>
            <a:gdLst/>
            <a:ahLst/>
            <a:rect l="l" t="t" r="r" b="b"/>
            <a:pathLst>
              <a:path w="144" h="80">
                <a:moveTo>
                  <a:pt x="0" y="80"/>
                </a:move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41320" y="4218120"/>
            <a:ext cx="43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167360" y="5081760"/>
            <a:ext cx="215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0560" y="479412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3080" y="4822920"/>
            <a:ext cx="119160" cy="44280"/>
          </a:xfrm>
          <a:custGeom>
            <a:avLst/>
            <a:gdLst/>
            <a:ahLst/>
            <a:rect l="l" t="t" r="r" b="b"/>
            <a:pathLst>
              <a:path w="75" h="28">
                <a:moveTo>
                  <a:pt x="0" y="28"/>
                </a:moveTo>
                <a:lnTo>
                  <a:pt x="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44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2560" y="4233960"/>
            <a:ext cx="57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61280" y="4772160"/>
            <a:ext cx="792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40080" y="48657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9800" y="44956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68360" y="5300640"/>
            <a:ext cx="1295640" cy="433440"/>
          </a:xfrm>
          <a:prstGeom prst="lightningBolt">
            <a:avLst/>
          </a:prstGeom>
          <a:solidFill>
            <a:srgbClr val="9999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51200" y="4765680"/>
            <a:ext cx="3391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8000" y="4292640"/>
            <a:ext cx="576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4876920"/>
            <a:ext cx="790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5164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216320" y="424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4673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65960" y="4673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59E3-9612-442F-8959-A5B83389A4D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tere all’utente GSM di attivare una generica applicazione su un server re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zare le API di JAIN (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ssage Session Capability) e il servizio USSD di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re sicurezza nelle oper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CF5B-C217-452C-9AA2-BA33BD0737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zione del servi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2484360" y="2565360"/>
            <a:ext cx="3743280" cy="2192400"/>
          </a:xfrm>
          <a:prstGeom prst="pi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84240" y="3297240"/>
          <a:ext cx="360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297240"/>
                    <a:ext cx="360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580000" y="3568680"/>
            <a:ext cx="1532160" cy="1440"/>
          </a:xfrm>
          <a:custGeom>
            <a:avLst/>
            <a:gdLst/>
            <a:ahLst/>
            <a:rect l="l" t="t" r="r" b="b"/>
            <a:pathLst>
              <a:path w="965" h="1">
                <a:moveTo>
                  <a:pt x="0" y="0"/>
                </a:moveTo>
                <a:lnTo>
                  <a:pt x="965" y="0"/>
                </a:lnTo>
                <a:lnTo>
                  <a:pt x="953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15880" y="3500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108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09480" y="3238560"/>
            <a:ext cx="100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tringa US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49520"/>
            <a:ext cx="482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4858920" y="40125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23623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63840" y="3772080"/>
            <a:ext cx="141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isultato applic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3454560"/>
            <a:ext cx="374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3924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332160"/>
            <a:ext cx="106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tringa US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95760" y="3860640"/>
            <a:ext cx="1233360" cy="1800"/>
          </a:xfrm>
          <a:custGeom>
            <a:avLst/>
            <a:gdLst/>
            <a:ahLst/>
            <a:rect l="l" t="t" r="r" b="b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5400" y="3848040"/>
            <a:ext cx="141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isultato applic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91280" y="3840120"/>
            <a:ext cx="141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isultato applic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9080" y="32972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3120" y="4005360"/>
            <a:ext cx="415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139160" y="3370320"/>
          <a:ext cx="7207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39160" y="337032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70836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549760" y="38606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F923-3D30-4222-93FD-D72E55A9A74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zi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azione degli utenti (IM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azione dei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bio di certificati con chiave pub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o sul numero della porta su cui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accetta la conne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iornamento tabelle nell’ HL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DataSt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EFB4-CAA8-4213-968E-69E030A61C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cia con J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oming session: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zione stringa USSD proveniente da MS tramite primitiva MAP tradotta dal JainProvider i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itiv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essionOpen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efault_listener riconosciuto il service code, crea uno specifico handler_listener (SecureClient) a cui passa la primitiv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essionOpen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o della string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(*134*nomeserver*username*password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nomeapplicazione*param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*…*param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6854-94F2-4ACC-A09D-8AFA9CA943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97280" y="435600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0"/>
                </a:moveTo>
                <a:lnTo>
                  <a:pt x="1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zionalita’ del gsmSC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03400" y="395748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zione firma digi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21040" y="1917720"/>
            <a:ext cx="1749240" cy="107964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ent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n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0800" y="3360600"/>
            <a:ext cx="1800360" cy="37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e password crip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0800" y="121284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stringa US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03400" y="522936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sa ris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94160" y="578628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o risposta tram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itiva J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162864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451240"/>
            <a:ext cx="4680" cy="1322280"/>
          </a:xfrm>
          <a:custGeom>
            <a:avLst/>
            <a:gdLst/>
            <a:ahLst/>
            <a:rect l="l" t="t" r="r" b="b"/>
            <a:pathLst>
              <a:path w="3" h="833">
                <a:moveTo>
                  <a:pt x="0" y="0"/>
                </a:moveTo>
                <a:lnTo>
                  <a:pt x="3" y="8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27480" y="377496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zione messagg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421000"/>
            <a:ext cx="720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3048120"/>
            <a:ext cx="503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03400" y="4589640"/>
            <a:ext cx="180036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o dati 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97280" y="499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59120" y="5626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451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4178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72080" y="5918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984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9FC9-5AE5-48D4-ACEF-A19179C4BC1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86728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zionalita’ del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48000" y="1233360"/>
            <a:ext cx="197964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zione d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8000" y="1905120"/>
            <a:ext cx="197964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e password decrip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16200" y="2565360"/>
            <a:ext cx="1368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6200" y="3573360"/>
            <a:ext cx="1368360" cy="71928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entic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17640" y="4581360"/>
            <a:ext cx="1368720" cy="71928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rizz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7200" y="5842080"/>
            <a:ext cx="197964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o risposta al 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5760" y="4797360"/>
            <a:ext cx="197964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zione messaggio err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955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06680" y="43052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2000" y="3303720"/>
            <a:ext cx="1440" cy="276120"/>
          </a:xfrm>
          <a:custGeom>
            <a:avLst/>
            <a:gdLst/>
            <a:ahLst/>
            <a:rect l="l" t="t" r="r" b="b"/>
            <a:pathLst>
              <a:path w="1" h="174">
                <a:moveTo>
                  <a:pt x="0" y="0"/>
                </a:moveTo>
                <a:lnTo>
                  <a:pt x="0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1080" y="3284640"/>
            <a:ext cx="431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1080" y="4292640"/>
            <a:ext cx="360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95520" y="5403960"/>
            <a:ext cx="503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8720" y="292428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8720" y="39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2520" y="292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804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8040" y="60260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85280" y="2997360"/>
            <a:ext cx="35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40640" y="3992400"/>
            <a:ext cx="35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3440" y="5000760"/>
            <a:ext cx="35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7824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48000" y="5842080"/>
            <a:ext cx="1979640" cy="3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ecuzione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0668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9F99-5128-4F75-B249-967D8CF67AD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24360" y="263700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ambio di messaggi criptati con R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300400" y="3719520"/>
          <a:ext cx="35244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3719520"/>
                    <a:ext cx="352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227640" y="3141720"/>
          <a:ext cx="72072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141720"/>
                    <a:ext cx="7207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429000" y="3581280"/>
            <a:ext cx="2232000" cy="762120"/>
          </a:xfrm>
          <a:prstGeom prst="leftRightArrow">
            <a:avLst>
              <a:gd name="adj1" fmla="val 50000"/>
              <a:gd name="adj2" fmla="val 583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270828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3068640"/>
            <a:ext cx="432000" cy="504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82880"/>
            <a:ext cx="1305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ave pubbl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3427560"/>
            <a:ext cx="3776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7680" y="2781360"/>
            <a:ext cx="13683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ave priv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51640" y="3068640"/>
            <a:ext cx="432000" cy="504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0560" y="3573360"/>
            <a:ext cx="8474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6360" y="342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0800" y="3586320"/>
            <a:ext cx="792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g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55920" y="4292640"/>
            <a:ext cx="10692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S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6720" y="4221000"/>
            <a:ext cx="1120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342900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195640" y="3213000"/>
          <a:ext cx="7207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213000"/>
                    <a:ext cx="72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924360" y="3284640"/>
            <a:ext cx="1224000" cy="28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gio cript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52C3-EB0E-41D7-82E1-E2F392B4ABD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62200" y="2992320"/>
            <a:ext cx="2305080" cy="432000"/>
          </a:xfrm>
          <a:prstGeom prst="rightArrow">
            <a:avLst>
              <a:gd name="adj1" fmla="val 50000"/>
              <a:gd name="adj2" fmla="val 1333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2708280"/>
            <a:ext cx="289080" cy="1368360"/>
          </a:xfrm>
          <a:prstGeom prst="downArrow">
            <a:avLst>
              <a:gd name="adj1" fmla="val 50000"/>
              <a:gd name="adj2" fmla="val 1183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firma digi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42920" y="2924280"/>
          <a:ext cx="57780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5778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19280" y="3860640"/>
          <a:ext cx="12952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860640"/>
                    <a:ext cx="1295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42920" y="2197080"/>
            <a:ext cx="576360" cy="503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076640"/>
            <a:ext cx="57636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4078440"/>
            <a:ext cx="936720" cy="287280"/>
          </a:xfrm>
          <a:prstGeom prst="rect">
            <a:avLst/>
          </a:prstGeom>
          <a:gradFill rotWithShape="0">
            <a:gsLst>
              <a:gs pos="0">
                <a:srgbClr val="666699">
                  <a:alpha val="87058"/>
                </a:srgbClr>
              </a:gs>
              <a:gs pos="50000">
                <a:srgbClr val="000000"/>
              </a:gs>
              <a:gs pos="100000">
                <a:srgbClr val="666699">
                  <a:alpha val="8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2852640"/>
            <a:ext cx="576000" cy="503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3352680"/>
            <a:ext cx="576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38920" y="3751200"/>
            <a:ext cx="2665440" cy="576000"/>
            <a:chOff x="5938920" y="3751200"/>
            <a:chExt cx="2665440" cy="576000"/>
          </a:xfrm>
        </p:grpSpPr>
        <p:graphicFrame>
          <p:nvGraphicFramePr>
            <p:cNvPr id="223" name=""/>
            <p:cNvGraphicFramePr/>
            <p:nvPr/>
          </p:nvGraphicFramePr>
          <p:xfrm>
            <a:off x="6370560" y="3751200"/>
            <a:ext cx="1389240" cy="57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70560" y="3751200"/>
                      <a:ext cx="138924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5938920" y="3968640"/>
              <a:ext cx="576360" cy="2160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7640" y="3968640"/>
              <a:ext cx="936720" cy="287280"/>
            </a:xfrm>
            <a:prstGeom prst="rect">
              <a:avLst/>
            </a:prstGeom>
            <a:gradFill rotWithShape="0">
              <a:gsLst>
                <a:gs pos="0">
                  <a:srgbClr val="666699">
                    <a:alpha val="87058"/>
                  </a:srgbClr>
                </a:gs>
                <a:gs pos="50000">
                  <a:srgbClr val="000000"/>
                </a:gs>
                <a:gs pos="100000">
                  <a:srgbClr val="666699">
                    <a:alpha val="8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940360" y="2182680"/>
            <a:ext cx="576360" cy="503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04000" y="2301840"/>
          <a:ext cx="57636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2301840"/>
                    <a:ext cx="576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6515280" y="2444760"/>
            <a:ext cx="36036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37348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4508640"/>
            <a:ext cx="1008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ave privata 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4365720"/>
            <a:ext cx="1008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ave pubblica 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4720" y="4365720"/>
            <a:ext cx="935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2997360"/>
            <a:ext cx="10810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zione 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4437000"/>
            <a:ext cx="1152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5229360"/>
            <a:ext cx="25210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S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83400" y="5229360"/>
            <a:ext cx="2520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67640" y="2349360"/>
            <a:ext cx="936720" cy="287640"/>
          </a:xfrm>
          <a:prstGeom prst="rect">
            <a:avLst/>
          </a:prstGeom>
          <a:gradFill rotWithShape="0">
            <a:gsLst>
              <a:gs pos="0">
                <a:srgbClr val="666699">
                  <a:alpha val="87058"/>
                </a:srgbClr>
              </a:gs>
              <a:gs pos="50000">
                <a:srgbClr val="000000"/>
              </a:gs>
              <a:gs pos="100000">
                <a:srgbClr val="666699">
                  <a:alpha val="8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01000" y="31240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53280" y="31240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17000" y="3086280"/>
            <a:ext cx="3808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1480" y="2019240"/>
            <a:ext cx="579240" cy="179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35680" y="2031840"/>
            <a:ext cx="576360" cy="179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2690640"/>
            <a:ext cx="576000" cy="179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FC65-66F6-4FEE-9CCD-C4824C19412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12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4:53:43Z</dcterms:created>
  <dc:creator>Francesca</dc:creator>
  <dc:description/>
  <dc:language>en-US</dc:language>
  <cp:lastModifiedBy>Compaq</cp:lastModifiedBy>
  <dcterms:modified xsi:type="dcterms:W3CDTF">2002-12-12T09:58:15Z</dcterms:modified>
  <cp:revision>110</cp:revision>
  <dc:subject/>
  <dc:title>Reti GSM: Progettazione e implementazione di un        servizio USSD</dc:title>
</cp:coreProperties>
</file>