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1CE-F8E2-4B29-BE90-94F259F6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C9A-F5A7-47F5-9F00-1D9D9EB0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7F4-7D54-45E1-982E-AC9B65A1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88D-9CD9-4499-ACCE-19C2DF2C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9E3-D1BB-4AC1-A6A1-3BD91805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7D2-47C6-43AA-BF7C-4ABA347B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6ABB-6F4C-420B-968C-DABB1E1B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C32-E7E6-4716-AEF3-622F4CE9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ECB-980B-4F54-A360-4EFA9DD0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AB7-3F18-4AF2-BF36-0E257C68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B93-3D92-4884-97F0-554F56E9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DBE-3A2D-475A-9C22-06CB2238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B385-309F-45F0-BBD0-C3F4FB575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Pisatel12dic02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Pisatel12dic02.ppt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05920" y="920880"/>
            <a:ext cx="838080" cy="5937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984240"/>
            <a:ext cx="1066680" cy="5873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907920"/>
            <a:ext cx="868680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6600"/>
                </a:solidFill>
                <a:latin typeface="Tahoma"/>
              </a:rPr>
              <a:t>W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85720" y="1817640"/>
          <a:ext cx="8043840" cy="359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5720" y="1817640"/>
                    <a:ext cx="804384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05920" y="914400"/>
            <a:ext cx="838080" cy="5937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72400" y="977760"/>
            <a:ext cx="1066680" cy="5873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01800"/>
            <a:ext cx="8686800" cy="7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6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6600"/>
                </a:solidFill>
                <a:latin typeface="Tahoma"/>
              </a:rPr>
              <a:t>Futur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88840" y="1630440"/>
          <a:ext cx="7286760" cy="40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8840" y="1630440"/>
                    <a:ext cx="728676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16:35:15Z</dcterms:created>
  <dc:creator>Andrea </dc:creator>
  <dc:description/>
  <dc:language>en-US</dc:language>
  <cp:lastModifiedBy>Andrea </cp:lastModifiedBy>
  <dcterms:modified xsi:type="dcterms:W3CDTF">2002-12-11T16:44:29Z</dcterms:modified>
  <cp:revision>2</cp:revision>
  <dc:subject/>
  <dc:title>Presentazione di PowerPoint</dc:title>
</cp:coreProperties>
</file>