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955-7FF2-42A2-8979-ED381E9D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0EC-30B5-4A18-9F6B-03A9D2E1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8AE-0F50-4C97-BFC3-B5BBE6A5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3D8-EB70-4202-A38F-63A9DC8C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CA6-AB5C-4CF4-8869-8D7AA5B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96A-A833-4A11-ADAC-7E6E7F2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9F9-D8D6-4253-AFD5-B9BADFA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02B-63A2-4E01-8E8E-C8DC2F55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982-98ED-4FC8-9815-76470BCC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726-69E6-41F4-A151-CB83506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1C1-E89D-4435-A968-72079AC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C62-6CF6-4FE9-A2B3-3AAD291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26F-20FF-4C78-B525-C1E2F5A93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Ingrandimenti.ppt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Ingrandimenti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24160"/>
            <a:ext cx="91440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Tahoma"/>
              </a:rPr>
              <a:t>A Framework fo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Tahoma"/>
              </a:rPr>
              <a:t>deployment testing of soft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Tahoma"/>
              </a:rPr>
              <a:t>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41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isatel Workshop 2002 - Pisa, December 1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69160"/>
            <a:ext cx="86868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25480"/>
            <a:ext cx="8686800" cy="76320"/>
          </a:xfrm>
          <a:prstGeom prst="rect">
            <a:avLst/>
          </a:prstGeom>
          <a:gradFill rotWithShape="0">
            <a:gsLst>
              <a:gs pos="0">
                <a:srgbClr val="dfee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61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rea Pol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50160" y="6570720"/>
            <a:ext cx="3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Tester Component: a special W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760" y="1676520"/>
            <a:ext cx="792468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200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special case of the WCT we have developed a special element named Tester Component 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200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th this element we intend to enable the early codification of test cases, when it is necessary to retrieve a softwar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200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ame framework can be used to test a set of integrated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200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n a set of test will be developed the tester component will be attached to the component/subsystem to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200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JUnit’s structure is used to store and execute the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50160" y="6570720"/>
            <a:ext cx="3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How to use the Tester Compon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" y="1994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use the framework it is necessary to follow the next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6560" y="2548080"/>
            <a:ext cx="7480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80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system constructor defines a “virtual interface” for the necessary component and codifies it in a Listener class (in this special case named Sp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80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 the base of the defined interface and of the specifications for the necessary component a set of test suites i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80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en a candidate component is identified it is tested redirecting the invocations codified in the test cases towards the methods of the identified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763120" y="6570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5480" y="1766880"/>
            <a:ext cx="77342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ster Component to obtain the </a:t>
            </a:r>
            <a:r>
              <a:rPr b="0" lang="en-GB" sz="2400" spc="-1" strike="noStrike">
                <a:solidFill>
                  <a:srgbClr val="cc6600"/>
                </a:solidFill>
                <a:latin typeface="Tahoma"/>
              </a:rPr>
              <a:t>early codification and easy reuse of test c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achieve </a:t>
            </a:r>
            <a:r>
              <a:rPr b="0" lang="en-GB" sz="2400" spc="-1" strike="noStrike">
                <a:solidFill>
                  <a:srgbClr val="cc6600"/>
                </a:solidFill>
                <a:latin typeface="Tahoma"/>
              </a:rPr>
              <a:t>easily reconfigured system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we can just update the XMLAdapter of those components that use services of the removed/replac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GB" sz="2400" spc="-1" strike="noStrike">
                <a:solidFill>
                  <a:srgbClr val="cc6600"/>
                </a:solidFill>
                <a:latin typeface="Tahoma"/>
              </a:rPr>
              <a:t>reduce the number of test cases to be re-execute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hen a component is substituted the Interpreter can be used to record the history of test cases, by means of suitable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6570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98600" y="1065240"/>
          <a:ext cx="451008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8600" y="1065240"/>
                    <a:ext cx="45100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82760" y="3568680"/>
            <a:ext cx="79246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main objective 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f this architectur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to exploit the potential parallelism in the activities of the 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searching and testing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need tools to simplify and automate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, as much as possibl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the building of the various </a:t>
            </a: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needed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te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 suitable mechanisms to store the information referred to the methods of a component executed by a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need to consider how to automate the development of the the test cases for the searched component (Extending Cow_Su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63120" y="6570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88840" y="1854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tolino, A., Polini, A.: “Re-thinking the Development Process of Component-Based Software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BS02 Workshop on CBSE, Composing Systems From Compon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ril 10-11, 2002, Lund, Swe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8840" y="31748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tolino, A., Polini, A.: “WCT: a Wrapper for Component Testing”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edings of Fidji’2002 to appear in LNCS se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uxembourg, November, 28-29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8840" y="44704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tolino, A., Polini, A.: “A Framework for Component Deployment Testing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edings of the ACM/IEEE International Conference on Software Engineering ICSE 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 appear), Portland, USA, May 3-10, 2003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80" y="1828800"/>
            <a:ext cx="72396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Component Based System 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33440"/>
            <a:ext cx="79246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ing Systems out from components is an old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ny advantages can be foreseen (reduced development time, reduced costs, increased reliabil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wever this methodology 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is not state of practice in Software Engineer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yet, although the advent of some first successful component models (Java Beans, EJB, COM+/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needs and a lot of still open challenges. For instance, further investigation is needed in the area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376880"/>
            <a:ext cx="7238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mponent assembly specification an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Requirements management and componen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usted components and component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erformance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Considering the developm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9800" y="1562040"/>
            <a:ext cx="79250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w is a CB development process different from the traditional production methodolog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development cycle must be revisited 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ation is done through at least two new ph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256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Non-deterministic distribution, in time and space, of the develop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1800" y="4640400"/>
            <a:ext cx="723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Searching phase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: more components are identified as “candidate compon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Selection phase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: the most promising component is selected and introduced in the system (adaptation could be necess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880" y="1120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onents do not generally contain sufficient information to guarantee their behaviour is dependable (moreover are generally shipped as black 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The Component Trust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800" y="3133800"/>
            <a:ext cx="8267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ystem constructor (the user of the components) needs means for evaluating the candidat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thers, quite related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roaches proposed to address the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76640" y="1981080"/>
            <a:ext cx="990720" cy="457200"/>
          </a:xfrm>
          <a:prstGeom prst="downArrow">
            <a:avLst>
              <a:gd name="adj1" fmla="val 44870"/>
              <a:gd name="adj2" fmla="val 52778"/>
            </a:avLst>
          </a:prstGeom>
          <a:gradFill rotWithShape="0">
            <a:gsLst>
              <a:gs pos="0">
                <a:srgbClr val="f4e2d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2640" y="245268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Component Trust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4281480"/>
            <a:ext cx="7327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Meta-Information: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dditional information is delivered with the component increasing the analysis capability of the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Certification agencies: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ependent agencies that evaluate th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Built-in and testable architecture tests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sts are enclosed in the component. To overcome the dimension growth, testable architectures were proposed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352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ortant to note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Reuse does not diminish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Testing in CB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" y="12700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a contribution 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to address the component trust proble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we intend to investigate new 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test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method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800" y="3616200"/>
            <a:ext cx="7925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is necessary to re-test the component in the final application enviro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do that the system constructor can use two kinds of test c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5183280"/>
            <a:ext cx="723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st cases established and provided by the component 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test cases developed in-house based on the specifications for the searched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1349280"/>
            <a:ext cx="8076960" cy="2092320"/>
            <a:chOff x="533520" y="1349280"/>
            <a:chExt cx="8076960" cy="2092320"/>
          </a:xfrm>
        </p:grpSpPr>
        <p:sp>
          <p:nvSpPr>
            <p:cNvPr id="85" name=""/>
            <p:cNvSpPr/>
            <p:nvPr/>
          </p:nvSpPr>
          <p:spPr>
            <a:xfrm>
              <a:off x="1155600" y="1422360"/>
              <a:ext cx="6832800" cy="2019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134928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cc6600"/>
                  </a:solidFill>
                  <a:latin typeface="Tahoma"/>
                </a:rPr>
                <a:t>Traditional Testing Phases</a:t>
              </a:r>
              <a:r>
                <a:rPr b="0" lang="en-GB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13554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cc6600"/>
                  </a:solidFill>
                  <a:latin typeface="Tahoma"/>
                </a:rPr>
                <a:t>CB Testing Phases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3440" y="17110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Unit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55840" y="2085840"/>
              <a:ext cx="324000" cy="209520"/>
            </a:xfrm>
            <a:prstGeom prst="downArrow">
              <a:avLst>
                <a:gd name="adj1" fmla="val 50000"/>
                <a:gd name="adj2" fmla="val 54167"/>
              </a:avLst>
            </a:prstGeom>
            <a:gradFill rotWithShape="0">
              <a:gsLst>
                <a:gs pos="0">
                  <a:srgbClr val="8282c0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00200" y="236844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Integration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52600" y="2743200"/>
              <a:ext cx="324000" cy="209520"/>
            </a:xfrm>
            <a:prstGeom prst="downArrow">
              <a:avLst>
                <a:gd name="adj1" fmla="val 50000"/>
                <a:gd name="adj2" fmla="val 54167"/>
              </a:avLst>
            </a:prstGeom>
            <a:gradFill rotWithShape="0">
              <a:gsLst>
                <a:gs pos="0">
                  <a:srgbClr val="8282c0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303516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System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171432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Component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67400" y="2089080"/>
              <a:ext cx="324000" cy="209520"/>
            </a:xfrm>
            <a:prstGeom prst="downArrow">
              <a:avLst>
                <a:gd name="adj1" fmla="val 50000"/>
                <a:gd name="adj2" fmla="val 54167"/>
              </a:avLst>
            </a:prstGeom>
            <a:gradFill rotWithShape="0">
              <a:gsLst>
                <a:gs pos="0">
                  <a:srgbClr val="8282c0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11760" y="23716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Deployment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4160" y="2746080"/>
              <a:ext cx="324000" cy="209520"/>
            </a:xfrm>
            <a:prstGeom prst="downArrow">
              <a:avLst>
                <a:gd name="adj1" fmla="val 50000"/>
                <a:gd name="adj2" fmla="val 54167"/>
              </a:avLst>
            </a:prstGeom>
            <a:gradFill rotWithShape="0">
              <a:gsLst>
                <a:gs pos="0">
                  <a:srgbClr val="8282c0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1760" y="303840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9a9acc"/>
                </a:gs>
                <a:gs pos="100000">
                  <a:srgbClr val="000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System 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1866600"/>
              <a:ext cx="190512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2523960"/>
              <a:ext cx="190512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7600" y="3190680"/>
              <a:ext cx="190512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Testing in CB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4600" y="990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ditional vs. a possible Component Based Testing ph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720" y="3438360"/>
            <a:ext cx="82296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Component test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erformed by the component developer befor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Deployment test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erformed by the system constructor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can foresee two ste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System test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his phase does not show notable differences with respect to the traditional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39960" y="4923000"/>
            <a:ext cx="7365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omponent is 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tested </a:t>
            </a:r>
            <a:r>
              <a:rPr b="0" lang="en-GB" sz="1800" spc="-1" strike="noStrike">
                <a:solidFill>
                  <a:srgbClr val="dc6e00"/>
                </a:solidFill>
                <a:latin typeface="Tahoma"/>
              </a:rPr>
              <a:t>directly b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invoking the provided API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fter the possibly required services have been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omponent is tested as </a:t>
            </a:r>
            <a:r>
              <a:rPr b="0" lang="en-GB" sz="1800" spc="-1" strike="noStrike">
                <a:solidFill>
                  <a:srgbClr val="cc6600"/>
                </a:solidFill>
                <a:latin typeface="Tahoma"/>
              </a:rPr>
              <a:t>part of a 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Aims of current 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2560" y="3119400"/>
            <a:ext cx="736596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chanisms for the </a:t>
            </a: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early codification of test cas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the system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chanisms allowing for an </a:t>
            </a: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easy re-use of the established test cas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n order to evaluate the candidat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chanisms allowing f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easy configuration/re-configuration of a system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n order to execute the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chanisms to reduce the </a:t>
            </a: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number of test cases to be re-executed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n a system component is substit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800" y="1384200"/>
            <a:ext cx="80773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sting an externally acquired component is a difficult and labour-intensive activity: it is important to introduce mechanisms that can reduce the time (cost) sp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250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goal of this research work is to devel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The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440" y="1359000"/>
            <a:ext cx="817884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have not used any of the available commercial models that generally impose many specific technical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exists no univocal definition of a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take a </a:t>
            </a:r>
            <a:r>
              <a:rPr b="0" lang="en-GB" sz="2000" spc="-1" strike="noStrike">
                <a:solidFill>
                  <a:srgbClr val="cc6600"/>
                </a:solidFill>
                <a:latin typeface="Tahoma"/>
              </a:rPr>
              <a:t>simplified view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n wh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7800"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component is a software element providing some specif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7800"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perform its computations a component may require other services from other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llowing this consideration, we have adopted a quite general component model in which </a:t>
            </a:r>
            <a:r>
              <a:rPr b="0" lang="en-GB" sz="2000" spc="-1" strike="noStrike">
                <a:solidFill>
                  <a:srgbClr val="dc6e00"/>
                </a:solidFill>
                <a:latin typeface="Tahoma"/>
              </a:rPr>
              <a:t>a component consists of a JAR file containing a Java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7800"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 XML document within the JAR file provides information on the needed and provid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07800"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 application is obtained by the integration of more JA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05920" y="920880"/>
            <a:ext cx="838080" cy="5937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984240"/>
            <a:ext cx="1066680" cy="587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39080" y="657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07920"/>
            <a:ext cx="86868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dfe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6600"/>
                </a:solidFill>
                <a:latin typeface="Tahoma"/>
              </a:rPr>
              <a:t>WCT: a Wrapper for Component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95640" y="1193760"/>
          <a:ext cx="504180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193760"/>
                    <a:ext cx="50418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2760" y="3289320"/>
            <a:ext cx="792468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CT provide a mechanism to dynamically adapt a component‘s requir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duty of the </a:t>
            </a:r>
            <a:r>
              <a:rPr b="0" i="1" lang="en-GB" sz="2000" spc="-1" strike="noStrike">
                <a:solidFill>
                  <a:srgbClr val="cc6600"/>
                </a:solidFill>
                <a:latin typeface="Tahoma"/>
              </a:rPr>
              <a:t>Redirecto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s exactly to redirect at run time the invocations made by the candidat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ut in place the redirection it uses three main elements [2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5160" y="517032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The Lis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The Interp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An XML file named</a:t>
            </a: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he “</a:t>
            </a:r>
            <a:r>
              <a:rPr b="0" i="1" lang="en-GB" sz="1800" spc="-1" strike="noStrike">
                <a:solidFill>
                  <a:srgbClr val="cc6600"/>
                </a:solidFill>
                <a:latin typeface="Tahoma"/>
              </a:rPr>
              <a:t>XMLAdapter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0:35:51Z</dcterms:created>
  <dc:creator>Andrea </dc:creator>
  <dc:description/>
  <dc:language>en-US</dc:language>
  <cp:lastModifiedBy>Andrea </cp:lastModifiedBy>
  <dcterms:modified xsi:type="dcterms:W3CDTF">2002-12-11T16:44:26Z</dcterms:modified>
  <cp:revision>129</cp:revision>
  <dc:subject/>
  <dc:title>Presentazione di PowerPoint</dc:title>
</cp:coreProperties>
</file>