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7C3-A823-485A-A4D9-0E2E8A3A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440" y="3988440"/>
            <a:ext cx="8381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523-F2B3-4B96-9173-8005C869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80600" y="160020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440" y="398844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80600" y="398844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AE7-CE49-468B-BFDB-6FAF48C5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698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19360" y="1600200"/>
            <a:ext cx="2698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53280" y="1600200"/>
            <a:ext cx="2698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440" y="3988440"/>
            <a:ext cx="2698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19360" y="3988440"/>
            <a:ext cx="2698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53280" y="3988440"/>
            <a:ext cx="2698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D58-17B1-42D0-95D7-46C878C0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80600" y="160020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99800" y="174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80600" y="160020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8844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5DD-B575-4F77-96FB-E992F183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80600" y="160020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80600" y="398844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80600" y="160020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3988440"/>
            <a:ext cx="8381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440" y="3988440"/>
            <a:ext cx="8381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80600" y="160020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398844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80600" y="398844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698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19360" y="1600200"/>
            <a:ext cx="2698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53280" y="1600200"/>
            <a:ext cx="2698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440" y="3988440"/>
            <a:ext cx="2698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19360" y="3988440"/>
            <a:ext cx="2698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53280" y="3988440"/>
            <a:ext cx="2698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B16-8BE8-4CAA-A296-F5B4062E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0600" y="160020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E0B-7CCE-427A-9B58-B521C5DC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205-2EF9-4543-AAB9-F9C9BAA5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99800" y="174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646-E48B-4AD4-B9E1-936C5D5E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0600" y="160020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8844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F13-2BDD-49C8-8791-2EDA5B0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0600" y="160020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0600" y="398844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337-A5A6-43F7-AEB7-C0EB732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80600" y="160020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988440"/>
            <a:ext cx="8381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C89-87BC-43A3-BB1E-B98925F7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55560"/>
            <a:ext cx="438120" cy="474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49160" y="655560"/>
            <a:ext cx="328680" cy="474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90680" y="1077840"/>
            <a:ext cx="422280" cy="474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0400" y="1077840"/>
            <a:ext cx="368280" cy="474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10047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2040" y="1295280"/>
            <a:ext cx="8226360" cy="320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5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1599"/>
              </a:spcBef>
              <a:buClr>
                <a:srgbClr val="ff66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-219240">
              <a:spcBef>
                <a:spcPts val="1599"/>
              </a:spcBef>
              <a:buClr>
                <a:srgbClr val="ff99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-219240">
              <a:spcBef>
                <a:spcPts val="1599"/>
              </a:spcBef>
              <a:buClr>
                <a:srgbClr val="cc00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74960" indent="-219240">
              <a:spcBef>
                <a:spcPts val="15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74960" indent="-219240">
              <a:spcBef>
                <a:spcPts val="15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cc"/>
                </a:solidFill>
                <a:latin typeface="Tahoma"/>
              </a:rPr>
              <a:t>Friday, November 14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060A-D200-4850-8F67-92C616915E81}" type="slidenum">
              <a:rPr b="0" lang="it-IT" sz="1400" spc="-1" strike="noStrike">
                <a:solidFill>
                  <a:srgbClr val="ff99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-2304000" y="3404160"/>
            <a:ext cx="5707080" cy="316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3124080" y="6172200"/>
            <a:ext cx="1371240" cy="531360"/>
            <a:chOff x="3124080" y="6172200"/>
            <a:chExt cx="1371240" cy="531360"/>
          </a:xfrm>
        </p:grpSpPr>
        <p:pic>
          <p:nvPicPr>
            <p:cNvPr id="13" name="Logo2PISATEL" descr=""/>
            <p:cNvPicPr/>
            <p:nvPr/>
          </p:nvPicPr>
          <p:blipFill>
            <a:blip r:embed="rId2"/>
            <a:stretch/>
          </p:blipFill>
          <p:spPr>
            <a:xfrm>
              <a:off x="3552480" y="6172200"/>
              <a:ext cx="942840" cy="53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3124080" y="6414480"/>
              <a:ext cx="93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99"/>
                  </a:solidFill>
                  <a:latin typeface="Arial"/>
                </a:rPr>
                <a:t>PISAT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" name="ericsson(1)" descr=""/>
          <p:cNvPicPr/>
          <p:nvPr/>
        </p:nvPicPr>
        <p:blipFill>
          <a:blip r:embed="rId3"/>
          <a:stretch/>
        </p:blipFill>
        <p:spPr>
          <a:xfrm>
            <a:off x="4495680" y="6095880"/>
            <a:ext cx="19051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4"/>
          </p:nvPr>
        </p:nvSpPr>
        <p:spPr>
          <a:xfrm>
            <a:off x="23623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1001"/>
              </a:spcBef>
              <a:buClr>
                <a:srgbClr val="ff66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1001"/>
              </a:spcBef>
              <a:buClr>
                <a:srgbClr val="ff99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1001"/>
              </a:spcBef>
              <a:buClr>
                <a:srgbClr val="cc00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Refactoring a Legacy System Using Components</a:t>
            </a:r>
            <a:r>
              <a:rPr b="0" lang="en-US" sz="4400" spc="-1" strike="noStrike" baseline="30000">
                <a:solidFill>
                  <a:srgbClr val="ffb56b"/>
                </a:solidFill>
                <a:latin typeface="Tahoma"/>
              </a:rPr>
              <a:t>*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120" y="37339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Tahoma"/>
              </a:rPr>
              <a:t>Eda Marchett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ancesca Martelli, Andrea Poli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tituto di Scienza e Tecnologie dell’Informazione “A. Faedo” CNR Pisa, 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ented at: SNPD ’03 Luebeck, Germany October 16-18, 2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Requirem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flow</a:t>
            </a: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 (2)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400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</a:t>
            </a:r>
            <a:r>
              <a:rPr b="0" lang="en-US" sz="2800" spc="-1" strike="noStrike">
                <a:solidFill>
                  <a:srgbClr val="ff99cc"/>
                </a:solidFill>
                <a:latin typeface="Tahoma"/>
              </a:rPr>
              <a:t>use case model</a:t>
            </a:r>
            <a:r>
              <a:rPr b="0" lang="it-IT" sz="28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s the interaction of the system with the external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ystem behavior and the main exceptions ar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resented for each Use Case in the associated scenario,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ing the textual structure of Cockburn’s Use C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400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IN MAP API interactions with external users in the Use Case 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ication of actors: JAIN Client and MAP La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on of Use Cases: one for each JAIN primi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F5F-038D-4163-AE7F-78753D26BE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365E6-4DDD-4F6A-9A1F-C61F6F4F983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JAIN Client: Use Case Diagram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pic>
        <p:nvPicPr>
          <p:cNvPr id="338" name="jain%20client%20interaction" descr=""/>
          <p:cNvPicPr/>
          <p:nvPr/>
        </p:nvPicPr>
        <p:blipFill>
          <a:blip r:embed="rId1"/>
          <a:srcRect l="0" t="60566" r="0" b="0"/>
          <a:stretch/>
        </p:blipFill>
        <p:spPr>
          <a:xfrm>
            <a:off x="914400" y="1979640"/>
            <a:ext cx="7553160" cy="42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660-05FA-4E38-AA61-3234BF85A0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5BE8F-43C1-41DE-88CE-A69B3B1D999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Specification Workflow (1)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pic>
        <p:nvPicPr>
          <p:cNvPr id="340" name="busineess%20type%20model%20and%20system%20architecture" descr=""/>
          <p:cNvPicPr/>
          <p:nvPr/>
        </p:nvPicPr>
        <p:blipFill>
          <a:blip r:embed="rId1"/>
          <a:srcRect l="3097" t="66625" r="48073" b="5555"/>
          <a:stretch/>
        </p:blipFill>
        <p:spPr>
          <a:xfrm>
            <a:off x="3608280" y="1523880"/>
            <a:ext cx="5535720" cy="4464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09480" y="1600200"/>
            <a:ext cx="289584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ahoma"/>
              </a:rPr>
              <a:t>Business type mode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s used for modelling the entities of th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siness concept model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actually perceived by the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Each entities is characterized by the types, the attributes and the associ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88D-BAD9-4B5D-801E-1E68718484D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61CF9-25BD-4AE6-9E9B-EDE26EB943E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Specification Workflow (2)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respondences between Use Cases and interfaces have been ref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ions between components have been specified by using Collaboration Dia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the end of this phase, a complete description of the </a:t>
            </a: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system architec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establ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6C5-4FBF-4E06-AD71-6E84765135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0D410-8CC9-4295-932A-9C5E4D9AD6D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System Architecture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pic>
        <p:nvPicPr>
          <p:cNvPr id="345" name="busineess%20type%20model%20and%20system%20architecture" descr=""/>
          <p:cNvPicPr/>
          <p:nvPr/>
        </p:nvPicPr>
        <p:blipFill>
          <a:blip r:embed="rId1"/>
          <a:srcRect l="53033" t="68440" r="4907" b="6733"/>
          <a:stretch/>
        </p:blipFill>
        <p:spPr>
          <a:xfrm>
            <a:off x="1905120" y="1600200"/>
            <a:ext cx="5084640" cy="425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743-1AE6-4DAB-B2B1-D8780C5DB91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E8C1B-A37B-499C-AA5C-E663CB5CB2B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74240"/>
            <a:ext cx="805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Example: Collaboration diagram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pic>
        <p:nvPicPr>
          <p:cNvPr id="347" name="collaboration" descr=""/>
          <p:cNvPicPr/>
          <p:nvPr/>
        </p:nvPicPr>
        <p:blipFill>
          <a:blip r:embed="rId1"/>
          <a:srcRect l="0" t="53685" r="0" b="3562"/>
          <a:stretch/>
        </p:blipFill>
        <p:spPr>
          <a:xfrm>
            <a:off x="1130400" y="1676520"/>
            <a:ext cx="755640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5460840" y="4202280"/>
            <a:ext cx="3117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OReq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22F-67B3-4CD0-8ED3-A021F73049E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D1E98-0DB1-4193-9A2C-7A86F2F6E3A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Provisioning Workflow (1)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0">
              <a:lnSpc>
                <a:spcPct val="9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he basis of the system architecture, code has been modified by following these step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90000"/>
              </a:lnSpc>
              <a:spcBef>
                <a:spcPts val="1599"/>
              </a:spcBef>
              <a:buClr>
                <a:srgbClr val="ff66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herited Java classes have been grouped according to the functionalities of the components foreseen in the archite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90000"/>
              </a:lnSpc>
              <a:spcBef>
                <a:spcPts val="1599"/>
              </a:spcBef>
              <a:buClr>
                <a:srgbClr val="ff66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interfaces in the component architecture are codified using the construct </a:t>
            </a:r>
            <a:r>
              <a:rPr b="1" lang="en-US" sz="3200" spc="-1" strike="noStrike">
                <a:solidFill>
                  <a:srgbClr val="cc00ff"/>
                </a:solidFill>
                <a:latin typeface="Courier New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00F-4A24-4A2C-A256-6AADA1DE73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1D768-1893-422B-83DB-A461866C2A9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Provisioning Workflow (2)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ff6600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r each class, we identified all “inter-set” dependences, and we removed them by using the suitable interfac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500"/>
              </a:spcBef>
              <a:buClr>
                <a:srgbClr val="ff6600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ts are handled in order to transform them into their logical compon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500"/>
              </a:spcBef>
              <a:buClr>
                <a:srgbClr val="ff6600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ing Jar file, we packaged the classes forming a logical component, also enclosing a XML file describing how the foreseen functionalities are provid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79E-D4ED-4A02-A198-D04CBA5341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3BBD9-7A9F-4E86-B5B7-0FF30CCF8B2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Conclusion</a:t>
            </a:r>
            <a:r>
              <a:rPr b="0" lang="it-IT" sz="4400" spc="-1" strike="noStrike">
                <a:solidFill>
                  <a:srgbClr val="ffb56b"/>
                </a:solidFill>
                <a:latin typeface="Tahoma"/>
              </a:rPr>
              <a:t> and Future work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ponent architectur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an be us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f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8440" indent="-182520"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tructuring existing “inherited” monolithic c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8440" indent="-182520"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ew functiona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8440" indent="-182520"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ing  problems in components integr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8440" indent="-182520"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ifying the correct behavior of the whole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8440" indent="-182520"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lidati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system against the JAIN specif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8440" indent="-182520"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riving suitab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 cas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also using th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ilable tools for automatic test generation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(Cow_Suite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execution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(CD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A26-D8CB-4677-B19F-44FF5CC0A7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0AE49-40BB-43E6-90C4-39ED46C3210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b56b"/>
                </a:solidFill>
                <a:latin typeface="Tahoma"/>
              </a:rPr>
              <a:t>Scope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89720" indent="-189720">
              <a:lnSpc>
                <a:spcPct val="90000"/>
              </a:lnSpc>
              <a:spcBef>
                <a:spcPts val="1400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ver the year within the collaboration between ISTI-CRN and ERI several Master’s theses implemented the different functionalities of the JAIN MAP API application.  B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1960" indent="-27360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ach thesis was conducted in an independent manner </a:t>
            </a:r>
            <a:r>
              <a:rPr b="0" lang="en-GB" sz="2400" spc="-1" strike="noStrike">
                <a:solidFill>
                  <a:srgbClr val="ff99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 referring to a </a:t>
            </a:r>
            <a:r>
              <a:rPr b="0" lang="it-IT" sz="2400" spc="-1" strike="noStrike">
                <a:solidFill>
                  <a:srgbClr val="ff99cc"/>
                </a:solidFill>
                <a:latin typeface="Times New Roman"/>
              </a:rPr>
              <a:t>validated</a:t>
            </a: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 architec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1960" indent="-27360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UML diagrams provided by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udents were related only to the code organization and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ation, and thus are not easily usable for implementing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ther functionalities or improving the existing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1960" indent="-27360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le OO code was structured in a monolithic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y with many inter-object referen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818-BE1B-4F76-9046-B10EAC5AB9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22C38-E8B2-4432-AD21-309EEF9F263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217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y different </a:t>
            </a: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object-orien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ieces of code in homogeneous </a:t>
            </a: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component-bas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ducing modification and code rewriting as much as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btain a unique system architecture useful f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ploying new functiona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sting purposes (E.g. Cow_Suit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9C6-C490-4D48-BA21-81795B66C7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DA031-F935-42BD-A196-CB0860DE459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By using th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ML extensions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sms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esman and Daniels propose an innovative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ology, called </a:t>
            </a:r>
            <a:r>
              <a:rPr b="0" i="1" lang="en-US" sz="3200" spc="-1" strike="noStrike">
                <a:solidFill>
                  <a:srgbClr val="ff99cc"/>
                </a:solidFill>
                <a:latin typeface="Times New Roman"/>
              </a:rPr>
              <a:t>UML Compon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ich focuses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on the representation of components and on the development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 applicable for this purp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pply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ML Component</a:t>
            </a:r>
            <a:r>
              <a:rPr b="0" i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ology for d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fi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suitable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architecture and restructuring and extending the existing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60A-1906-4144-93A5-AFFD78D632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7944D-CEA7-4FD2-A828-0F089BE584F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6b"/>
                </a:solidFill>
                <a:latin typeface="Tahoma"/>
              </a:rPr>
              <a:t>The Case Study: JAIN MAP API</a:t>
            </a:r>
            <a:endParaRPr b="0" lang="en-US" sz="40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spcBef>
                <a:spcPts val="11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c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99cc"/>
                </a:solidFill>
                <a:latin typeface="Tahoma"/>
              </a:rPr>
              <a:t>im </a:t>
            </a:r>
            <a:r>
              <a:rPr b="0" lang="it-IT" sz="2400" spc="-1" strike="noStrike">
                <a:solidFill>
                  <a:srgbClr val="ff99cc"/>
                </a:solidFill>
                <a:latin typeface="Tahoma"/>
              </a:rPr>
              <a:t>of </a:t>
            </a:r>
            <a:r>
              <a:rPr b="0" lang="en-US" sz="2400" spc="-1" strike="noStrike">
                <a:solidFill>
                  <a:srgbClr val="ff99cc"/>
                </a:solidFill>
                <a:latin typeface="Tahoma"/>
              </a:rPr>
              <a:t>JAIN</a:t>
            </a:r>
            <a:r>
              <a:rPr b="0" lang="it-IT" sz="2400" spc="-1" strike="noStrike">
                <a:solidFill>
                  <a:srgbClr val="cc00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va APIs for Integrated Network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)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relin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reless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cket-based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tworks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3680" indent="-193680">
              <a:spcBef>
                <a:spcPts val="11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cc"/>
                </a:solidFill>
                <a:latin typeface="Tahoma"/>
              </a:rPr>
              <a:t>Novelty of JAI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8440" indent="-184320">
              <a:spcBef>
                <a:spcPts val="10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ahoma"/>
              </a:rPr>
              <a:t>Service portabili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obtained by specifying java APIs over different protoc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68440" indent="-184320">
              <a:spcBef>
                <a:spcPts val="10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ahoma"/>
              </a:rPr>
              <a:t>Network converge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applications can be built only basing on the service log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52880" y="1523880"/>
            <a:ext cx="4191120" cy="4724280"/>
            <a:chOff x="4952880" y="1523880"/>
            <a:chExt cx="4191120" cy="4724280"/>
          </a:xfrm>
        </p:grpSpPr>
        <p:sp>
          <p:nvSpPr>
            <p:cNvPr id="112" name=""/>
            <p:cNvSpPr/>
            <p:nvPr/>
          </p:nvSpPr>
          <p:spPr>
            <a:xfrm>
              <a:off x="4952880" y="4571640"/>
              <a:ext cx="4038840" cy="16765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05520" y="2361960"/>
              <a:ext cx="3657600" cy="12193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1523880"/>
              <a:ext cx="3581640" cy="990360"/>
            </a:xfrm>
            <a:prstGeom prst="ellipse">
              <a:avLst/>
            </a:prstGeom>
            <a:solidFill>
              <a:srgbClr val="cc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81480" y="3885840"/>
              <a:ext cx="3581640" cy="990720"/>
            </a:xfrm>
            <a:prstGeom prst="ellipse">
              <a:avLst/>
            </a:prstGeom>
            <a:solidFill>
              <a:srgbClr val="cc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38680" y="1568160"/>
              <a:ext cx="266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99"/>
                  </a:solidFill>
                  <a:latin typeface="Tahoma"/>
                </a:rPr>
                <a:t>JAIN Application 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81480" y="182844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Tahoma"/>
                </a:rPr>
                <a:t>Coordination Mode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24480" y="190476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Tahoma"/>
                </a:rPr>
                <a:t>Transaction Mode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18284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Tahoma"/>
                </a:rPr>
                <a:t>Call Mode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638680" y="2666880"/>
              <a:ext cx="304560" cy="457200"/>
              <a:chOff x="5638680" y="2666880"/>
              <a:chExt cx="304560" cy="457200"/>
            </a:xfrm>
          </p:grpSpPr>
          <p:sp>
            <p:nvSpPr>
              <p:cNvPr id="121" name=""/>
              <p:cNvSpPr/>
              <p:nvPr/>
            </p:nvSpPr>
            <p:spPr>
              <a:xfrm>
                <a:off x="5763960" y="298764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6720" h="4894">
                    <a:moveTo>
                      <a:pt x="599" y="4894"/>
                    </a:moveTo>
                    <a:lnTo>
                      <a:pt x="0" y="3830"/>
                    </a:lnTo>
                    <a:lnTo>
                      <a:pt x="5888" y="0"/>
                    </a:lnTo>
                    <a:lnTo>
                      <a:pt x="6720" y="776"/>
                    </a:lnTo>
                    <a:lnTo>
                      <a:pt x="599" y="48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38680" y="3065400"/>
                <a:ext cx="141120" cy="58680"/>
              </a:xfrm>
              <a:custGeom>
                <a:avLst/>
                <a:gdLst/>
                <a:ahLst/>
                <a:rect l="l" t="t" r="r" b="b"/>
                <a:pathLst>
                  <a:path w="5337" h="2097">
                    <a:moveTo>
                      <a:pt x="914" y="0"/>
                    </a:moveTo>
                    <a:lnTo>
                      <a:pt x="4738" y="1033"/>
                    </a:lnTo>
                    <a:lnTo>
                      <a:pt x="5337" y="2097"/>
                    </a:lnTo>
                    <a:lnTo>
                      <a:pt x="0" y="624"/>
                    </a:lnTo>
                    <a:lnTo>
                      <a:pt x="9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68640" y="2946240"/>
                <a:ext cx="155520" cy="152640"/>
              </a:xfrm>
              <a:custGeom>
                <a:avLst/>
                <a:gdLst/>
                <a:ahLst/>
                <a:rect l="l" t="t" r="r" b="b"/>
                <a:pathLst>
                  <a:path w="5827" h="5434">
                    <a:moveTo>
                      <a:pt x="0" y="5434"/>
                    </a:moveTo>
                    <a:lnTo>
                      <a:pt x="0" y="3899"/>
                    </a:lnTo>
                    <a:lnTo>
                      <a:pt x="5827" y="0"/>
                    </a:lnTo>
                    <a:lnTo>
                      <a:pt x="5827" y="1534"/>
                    </a:lnTo>
                    <a:lnTo>
                      <a:pt x="0" y="543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659200" y="3025800"/>
                <a:ext cx="109440" cy="73080"/>
              </a:xfrm>
              <a:custGeom>
                <a:avLst/>
                <a:gdLst/>
                <a:ahLst/>
                <a:rect l="l" t="t" r="r" b="b"/>
                <a:pathLst>
                  <a:path w="4106" h="2614">
                    <a:moveTo>
                      <a:pt x="0" y="0"/>
                    </a:moveTo>
                    <a:lnTo>
                      <a:pt x="4106" y="1079"/>
                    </a:lnTo>
                    <a:lnTo>
                      <a:pt x="4106" y="2614"/>
                    </a:lnTo>
                    <a:lnTo>
                      <a:pt x="0" y="15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75120" y="2703600"/>
                <a:ext cx="162000" cy="385560"/>
              </a:xfrm>
              <a:custGeom>
                <a:avLst/>
                <a:gdLst/>
                <a:ahLst/>
                <a:rect l="l" t="t" r="r" b="b"/>
                <a:pathLst>
                  <a:path w="6077" h="13765">
                    <a:moveTo>
                      <a:pt x="5940" y="3591"/>
                    </a:moveTo>
                    <a:lnTo>
                      <a:pt x="6077" y="3511"/>
                    </a:lnTo>
                    <a:lnTo>
                      <a:pt x="6077" y="0"/>
                    </a:lnTo>
                    <a:lnTo>
                      <a:pt x="0" y="3928"/>
                    </a:lnTo>
                    <a:lnTo>
                      <a:pt x="0" y="13765"/>
                    </a:lnTo>
                    <a:lnTo>
                      <a:pt x="6077" y="9764"/>
                    </a:lnTo>
                    <a:lnTo>
                      <a:pt x="6077" y="3755"/>
                    </a:lnTo>
                    <a:lnTo>
                      <a:pt x="5940" y="3720"/>
                    </a:lnTo>
                    <a:lnTo>
                      <a:pt x="5940" y="35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43360" y="2776680"/>
                <a:ext cx="131760" cy="312480"/>
              </a:xfrm>
              <a:custGeom>
                <a:avLst/>
                <a:gdLst/>
                <a:ahLst/>
                <a:rect l="l" t="t" r="r" b="b"/>
                <a:pathLst>
                  <a:path w="4982" h="11176">
                    <a:moveTo>
                      <a:pt x="0" y="0"/>
                    </a:moveTo>
                    <a:lnTo>
                      <a:pt x="0" y="3508"/>
                    </a:lnTo>
                    <a:lnTo>
                      <a:pt x="160" y="3548"/>
                    </a:lnTo>
                    <a:lnTo>
                      <a:pt x="160" y="3736"/>
                    </a:lnTo>
                    <a:lnTo>
                      <a:pt x="0" y="3849"/>
                    </a:lnTo>
                    <a:lnTo>
                      <a:pt x="0" y="9836"/>
                    </a:lnTo>
                    <a:lnTo>
                      <a:pt x="4982" y="11176"/>
                    </a:lnTo>
                    <a:lnTo>
                      <a:pt x="4982" y="13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43360" y="2666880"/>
                <a:ext cx="293760" cy="146160"/>
              </a:xfrm>
              <a:custGeom>
                <a:avLst/>
                <a:gdLst/>
                <a:ahLst/>
                <a:rect l="l" t="t" r="r" b="b"/>
                <a:pathLst>
                  <a:path w="11059" h="5225">
                    <a:moveTo>
                      <a:pt x="0" y="3886"/>
                    </a:moveTo>
                    <a:lnTo>
                      <a:pt x="4982" y="5225"/>
                    </a:lnTo>
                    <a:lnTo>
                      <a:pt x="11059" y="1297"/>
                    </a:lnTo>
                    <a:lnTo>
                      <a:pt x="6190" y="0"/>
                    </a:lnTo>
                    <a:lnTo>
                      <a:pt x="0" y="388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75120" y="2719440"/>
                <a:ext cx="162000" cy="117360"/>
              </a:xfrm>
              <a:custGeom>
                <a:avLst/>
                <a:gdLst/>
                <a:ahLst/>
                <a:rect l="l" t="t" r="r" b="b"/>
                <a:pathLst>
                  <a:path w="6077" h="4241">
                    <a:moveTo>
                      <a:pt x="0" y="4241"/>
                    </a:moveTo>
                    <a:lnTo>
                      <a:pt x="0" y="3928"/>
                    </a:lnTo>
                    <a:lnTo>
                      <a:pt x="6077" y="0"/>
                    </a:lnTo>
                    <a:lnTo>
                      <a:pt x="6077" y="240"/>
                    </a:lnTo>
                    <a:lnTo>
                      <a:pt x="0" y="4241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75120" y="2806560"/>
                <a:ext cx="162000" cy="114480"/>
              </a:xfrm>
              <a:custGeom>
                <a:avLst/>
                <a:gdLst/>
                <a:ahLst/>
                <a:rect l="l" t="t" r="r" b="b"/>
                <a:pathLst>
                  <a:path w="6077" h="4064">
                    <a:moveTo>
                      <a:pt x="0" y="4064"/>
                    </a:moveTo>
                    <a:lnTo>
                      <a:pt x="0" y="3751"/>
                    </a:lnTo>
                    <a:lnTo>
                      <a:pt x="5803" y="0"/>
                    </a:lnTo>
                    <a:lnTo>
                      <a:pt x="6077" y="64"/>
                    </a:lnTo>
                    <a:lnTo>
                      <a:pt x="0" y="4064"/>
                    </a:lnTo>
                    <a:close/>
                  </a:path>
                </a:pathLst>
              </a:custGeom>
              <a:solidFill>
                <a:srgbClr val="656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75120" y="2803680"/>
                <a:ext cx="156960" cy="114120"/>
              </a:xfrm>
              <a:custGeom>
                <a:avLst/>
                <a:gdLst/>
                <a:ahLst/>
                <a:rect l="l" t="t" r="r" b="b"/>
                <a:pathLst>
                  <a:path w="5940" h="4037">
                    <a:moveTo>
                      <a:pt x="0" y="4037"/>
                    </a:moveTo>
                    <a:lnTo>
                      <a:pt x="5940" y="129"/>
                    </a:lnTo>
                    <a:lnTo>
                      <a:pt x="5936" y="0"/>
                    </a:lnTo>
                    <a:lnTo>
                      <a:pt x="0" y="3850"/>
                    </a:lnTo>
                    <a:lnTo>
                      <a:pt x="0" y="403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643360" y="2876400"/>
                <a:ext cx="131760" cy="44640"/>
              </a:xfrm>
              <a:custGeom>
                <a:avLst/>
                <a:gdLst/>
                <a:ahLst/>
                <a:rect l="l" t="t" r="r" b="b"/>
                <a:pathLst>
                  <a:path w="4982" h="1575">
                    <a:moveTo>
                      <a:pt x="4982" y="1575"/>
                    </a:moveTo>
                    <a:lnTo>
                      <a:pt x="0" y="236"/>
                    </a:lnTo>
                    <a:lnTo>
                      <a:pt x="365" y="0"/>
                    </a:lnTo>
                    <a:lnTo>
                      <a:pt x="4982" y="1239"/>
                    </a:lnTo>
                    <a:lnTo>
                      <a:pt x="4982" y="1575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43360" y="29163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7"/>
                    </a:moveTo>
                    <a:lnTo>
                      <a:pt x="1369" y="555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43360" y="29275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7"/>
                    </a:moveTo>
                    <a:lnTo>
                      <a:pt x="1369" y="555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43360" y="29383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43360" y="295128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43360" y="29624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643360" y="2973240"/>
                <a:ext cx="34920" cy="1620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643360" y="29844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8"/>
                    </a:moveTo>
                    <a:lnTo>
                      <a:pt x="1369" y="555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43360" y="29955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43360" y="300816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8"/>
                    </a:moveTo>
                    <a:lnTo>
                      <a:pt x="1369" y="555"/>
                    </a:lnTo>
                    <a:lnTo>
                      <a:pt x="1369" y="367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43360" y="30178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43360" y="30304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40200" y="30146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3">
                    <a:moveTo>
                      <a:pt x="0" y="137"/>
                    </a:moveTo>
                    <a:lnTo>
                      <a:pt x="990" y="403"/>
                    </a:lnTo>
                    <a:lnTo>
                      <a:pt x="990" y="267"/>
                    </a:lnTo>
                    <a:lnTo>
                      <a:pt x="0" y="0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40200" y="302256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3">
                    <a:moveTo>
                      <a:pt x="0" y="135"/>
                    </a:moveTo>
                    <a:lnTo>
                      <a:pt x="990" y="403"/>
                    </a:lnTo>
                    <a:lnTo>
                      <a:pt x="990" y="266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40200" y="303048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2">
                    <a:moveTo>
                      <a:pt x="0" y="136"/>
                    </a:moveTo>
                    <a:lnTo>
                      <a:pt x="990" y="402"/>
                    </a:lnTo>
                    <a:lnTo>
                      <a:pt x="990" y="267"/>
                    </a:lnTo>
                    <a:lnTo>
                      <a:pt x="0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40200" y="303840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2">
                    <a:moveTo>
                      <a:pt x="0" y="136"/>
                    </a:moveTo>
                    <a:lnTo>
                      <a:pt x="990" y="402"/>
                    </a:lnTo>
                    <a:lnTo>
                      <a:pt x="990" y="266"/>
                    </a:lnTo>
                    <a:lnTo>
                      <a:pt x="0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40200" y="304632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2">
                    <a:moveTo>
                      <a:pt x="0" y="136"/>
                    </a:moveTo>
                    <a:lnTo>
                      <a:pt x="990" y="402"/>
                    </a:lnTo>
                    <a:lnTo>
                      <a:pt x="990" y="266"/>
                    </a:lnTo>
                    <a:lnTo>
                      <a:pt x="0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643360" y="2790720"/>
                <a:ext cx="131760" cy="47880"/>
              </a:xfrm>
              <a:custGeom>
                <a:avLst/>
                <a:gdLst/>
                <a:ahLst/>
                <a:rect l="l" t="t" r="r" b="b"/>
                <a:pathLst>
                  <a:path w="4982" h="1676">
                    <a:moveTo>
                      <a:pt x="4982" y="1676"/>
                    </a:moveTo>
                    <a:lnTo>
                      <a:pt x="0" y="336"/>
                    </a:lnTo>
                    <a:lnTo>
                      <a:pt x="0" y="0"/>
                    </a:lnTo>
                    <a:lnTo>
                      <a:pt x="4982" y="1340"/>
                    </a:lnTo>
                    <a:lnTo>
                      <a:pt x="4982" y="167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649840" y="2813040"/>
                <a:ext cx="41040" cy="22320"/>
              </a:xfrm>
              <a:custGeom>
                <a:avLst/>
                <a:gdLst/>
                <a:ahLst/>
                <a:rect l="l" t="t" r="r" b="b"/>
                <a:pathLst>
                  <a:path w="1519" h="743">
                    <a:moveTo>
                      <a:pt x="0" y="0"/>
                    </a:moveTo>
                    <a:lnTo>
                      <a:pt x="0" y="335"/>
                    </a:lnTo>
                    <a:lnTo>
                      <a:pt x="1519" y="743"/>
                    </a:lnTo>
                    <a:lnTo>
                      <a:pt x="1519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05280" y="2828880"/>
                <a:ext cx="52200" cy="25560"/>
              </a:xfrm>
              <a:custGeom>
                <a:avLst/>
                <a:gdLst/>
                <a:ahLst/>
                <a:rect l="l" t="t" r="r" b="b"/>
                <a:pathLst>
                  <a:path w="2012" h="877">
                    <a:moveTo>
                      <a:pt x="0" y="0"/>
                    </a:moveTo>
                    <a:lnTo>
                      <a:pt x="0" y="336"/>
                    </a:lnTo>
                    <a:lnTo>
                      <a:pt x="2012" y="877"/>
                    </a:lnTo>
                    <a:lnTo>
                      <a:pt x="2012" y="5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08520" y="2830680"/>
                <a:ext cx="48960" cy="20520"/>
              </a:xfrm>
              <a:custGeom>
                <a:avLst/>
                <a:gdLst/>
                <a:ahLst/>
                <a:rect l="l" t="t" r="r" b="b"/>
                <a:pathLst>
                  <a:path w="1858" h="706">
                    <a:moveTo>
                      <a:pt x="0" y="206"/>
                    </a:moveTo>
                    <a:lnTo>
                      <a:pt x="1858" y="706"/>
                    </a:lnTo>
                    <a:lnTo>
                      <a:pt x="1858" y="500"/>
                    </a:lnTo>
                    <a:lnTo>
                      <a:pt x="0" y="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cc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655960" y="2816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86" h="413">
                    <a:moveTo>
                      <a:pt x="0" y="337"/>
                    </a:moveTo>
                    <a:lnTo>
                      <a:pt x="286" y="413"/>
                    </a:lnTo>
                    <a:lnTo>
                      <a:pt x="286" y="78"/>
                    </a:lnTo>
                    <a:lnTo>
                      <a:pt x="0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68560" y="28195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286" h="414">
                    <a:moveTo>
                      <a:pt x="0" y="337"/>
                    </a:moveTo>
                    <a:lnTo>
                      <a:pt x="286" y="414"/>
                    </a:lnTo>
                    <a:lnTo>
                      <a:pt x="286" y="78"/>
                    </a:lnTo>
                    <a:lnTo>
                      <a:pt x="0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46680" y="30607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286" h="413">
                    <a:moveTo>
                      <a:pt x="0" y="336"/>
                    </a:moveTo>
                    <a:lnTo>
                      <a:pt x="286" y="413"/>
                    </a:lnTo>
                    <a:lnTo>
                      <a:pt x="286" y="77"/>
                    </a:lnTo>
                    <a:lnTo>
                      <a:pt x="0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57480" y="30639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87" h="413">
                    <a:moveTo>
                      <a:pt x="0" y="335"/>
                    </a:moveTo>
                    <a:lnTo>
                      <a:pt x="287" y="413"/>
                    </a:lnTo>
                    <a:lnTo>
                      <a:pt x="287" y="76"/>
                    </a:lnTo>
                    <a:lnTo>
                      <a:pt x="0" y="0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46600" y="287496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4822" h="1485">
                    <a:moveTo>
                      <a:pt x="0" y="188"/>
                    </a:moveTo>
                    <a:lnTo>
                      <a:pt x="4822" y="1485"/>
                    </a:lnTo>
                    <a:lnTo>
                      <a:pt x="4822" y="1297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cc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153280" y="2285640"/>
              <a:ext cx="76320" cy="38124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790960" y="2285640"/>
              <a:ext cx="75960" cy="38124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10280" y="2361960"/>
              <a:ext cx="0" cy="38088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67280" y="2895480"/>
              <a:ext cx="1067040" cy="7596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086600" y="2895120"/>
              <a:ext cx="990720" cy="7596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316836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6600"/>
                  </a:solidFill>
                  <a:latin typeface="Tahoma"/>
                </a:rPr>
                <a:t>Service Logi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91320" y="3930480"/>
              <a:ext cx="259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99"/>
                  </a:solidFill>
                  <a:latin typeface="Tahoma"/>
                </a:rPr>
                <a:t>JAIN Protocol 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29200" y="43430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Tahoma"/>
                </a:rPr>
                <a:t>INAP/A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67280" y="441936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Tahoma"/>
                </a:rPr>
                <a:t>MA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05720" y="441936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Tahoma"/>
                </a:rPr>
                <a:t>MGC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43430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Tahoma"/>
                </a:rPr>
                <a:t>H.323/SI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638320" y="3504960"/>
              <a:ext cx="304920" cy="91440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553080" y="3581280"/>
              <a:ext cx="152640" cy="91440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15200" y="3581280"/>
              <a:ext cx="76320" cy="91440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4680" y="3504960"/>
              <a:ext cx="381240" cy="83808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67280" y="5638680"/>
              <a:ext cx="1371600" cy="380880"/>
            </a:xfrm>
            <a:prstGeom prst="ellipse">
              <a:avLst/>
            </a:prstGeom>
            <a:solidFill>
              <a:srgbClr val="cc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ahoma"/>
                </a:rPr>
                <a:t>Wirel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315200" y="4724280"/>
              <a:ext cx="76320" cy="30456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9400" y="4724280"/>
              <a:ext cx="0" cy="914400"/>
            </a:xfrm>
            <a:prstGeom prst="line">
              <a:avLst/>
            </a:prstGeom>
            <a:ln w="2844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714640" y="4647960"/>
              <a:ext cx="152280" cy="53352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01000" y="4571640"/>
              <a:ext cx="457200" cy="60984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48520" y="5181480"/>
              <a:ext cx="838080" cy="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91520" y="5181480"/>
              <a:ext cx="609480" cy="0"/>
            </a:xfrm>
            <a:prstGeom prst="line">
              <a:avLst/>
            </a:prstGeom>
            <a:ln w="9360">
              <a:solidFill>
                <a:srgbClr val="ffb5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9200" y="5105160"/>
              <a:ext cx="1371600" cy="380880"/>
            </a:xfrm>
            <a:prstGeom prst="ellipse">
              <a:avLst/>
            </a:prstGeom>
            <a:solidFill>
              <a:srgbClr val="cc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ahoma"/>
                </a:rPr>
                <a:t>Wirel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43800" y="5105160"/>
              <a:ext cx="1371600" cy="380880"/>
            </a:xfrm>
            <a:prstGeom prst="ellipse">
              <a:avLst/>
            </a:prstGeom>
            <a:solidFill>
              <a:srgbClr val="cc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ahoma"/>
                </a:rPr>
                <a:t>Pack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858000" y="2742840"/>
              <a:ext cx="304560" cy="457200"/>
              <a:chOff x="6858000" y="2742840"/>
              <a:chExt cx="30456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6983280" y="306360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6720" h="4894">
                    <a:moveTo>
                      <a:pt x="599" y="4894"/>
                    </a:moveTo>
                    <a:lnTo>
                      <a:pt x="0" y="3830"/>
                    </a:lnTo>
                    <a:lnTo>
                      <a:pt x="5888" y="0"/>
                    </a:lnTo>
                    <a:lnTo>
                      <a:pt x="6720" y="776"/>
                    </a:lnTo>
                    <a:lnTo>
                      <a:pt x="599" y="48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8000" y="3141360"/>
                <a:ext cx="141120" cy="58680"/>
              </a:xfrm>
              <a:custGeom>
                <a:avLst/>
                <a:gdLst/>
                <a:ahLst/>
                <a:rect l="l" t="t" r="r" b="b"/>
                <a:pathLst>
                  <a:path w="5337" h="2097">
                    <a:moveTo>
                      <a:pt x="914" y="0"/>
                    </a:moveTo>
                    <a:lnTo>
                      <a:pt x="4738" y="1033"/>
                    </a:lnTo>
                    <a:lnTo>
                      <a:pt x="5337" y="2097"/>
                    </a:lnTo>
                    <a:lnTo>
                      <a:pt x="0" y="624"/>
                    </a:lnTo>
                    <a:lnTo>
                      <a:pt x="9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987960" y="3022200"/>
                <a:ext cx="155520" cy="152640"/>
              </a:xfrm>
              <a:custGeom>
                <a:avLst/>
                <a:gdLst/>
                <a:ahLst/>
                <a:rect l="l" t="t" r="r" b="b"/>
                <a:pathLst>
                  <a:path w="5827" h="5434">
                    <a:moveTo>
                      <a:pt x="0" y="5434"/>
                    </a:moveTo>
                    <a:lnTo>
                      <a:pt x="0" y="3899"/>
                    </a:lnTo>
                    <a:lnTo>
                      <a:pt x="5827" y="0"/>
                    </a:lnTo>
                    <a:lnTo>
                      <a:pt x="5827" y="1534"/>
                    </a:lnTo>
                    <a:lnTo>
                      <a:pt x="0" y="543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78520" y="3101760"/>
                <a:ext cx="109440" cy="73080"/>
              </a:xfrm>
              <a:custGeom>
                <a:avLst/>
                <a:gdLst/>
                <a:ahLst/>
                <a:rect l="l" t="t" r="r" b="b"/>
                <a:pathLst>
                  <a:path w="4106" h="2614">
                    <a:moveTo>
                      <a:pt x="0" y="0"/>
                    </a:moveTo>
                    <a:lnTo>
                      <a:pt x="4106" y="1079"/>
                    </a:lnTo>
                    <a:lnTo>
                      <a:pt x="4106" y="2614"/>
                    </a:lnTo>
                    <a:lnTo>
                      <a:pt x="0" y="15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94440" y="2779560"/>
                <a:ext cx="162000" cy="385560"/>
              </a:xfrm>
              <a:custGeom>
                <a:avLst/>
                <a:gdLst/>
                <a:ahLst/>
                <a:rect l="l" t="t" r="r" b="b"/>
                <a:pathLst>
                  <a:path w="6077" h="13765">
                    <a:moveTo>
                      <a:pt x="5940" y="3591"/>
                    </a:moveTo>
                    <a:lnTo>
                      <a:pt x="6077" y="3511"/>
                    </a:lnTo>
                    <a:lnTo>
                      <a:pt x="6077" y="0"/>
                    </a:lnTo>
                    <a:lnTo>
                      <a:pt x="0" y="3928"/>
                    </a:lnTo>
                    <a:lnTo>
                      <a:pt x="0" y="13765"/>
                    </a:lnTo>
                    <a:lnTo>
                      <a:pt x="6077" y="9764"/>
                    </a:lnTo>
                    <a:lnTo>
                      <a:pt x="6077" y="3755"/>
                    </a:lnTo>
                    <a:lnTo>
                      <a:pt x="5940" y="3720"/>
                    </a:lnTo>
                    <a:lnTo>
                      <a:pt x="5940" y="35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62680" y="2852640"/>
                <a:ext cx="131760" cy="312480"/>
              </a:xfrm>
              <a:custGeom>
                <a:avLst/>
                <a:gdLst/>
                <a:ahLst/>
                <a:rect l="l" t="t" r="r" b="b"/>
                <a:pathLst>
                  <a:path w="4982" h="11176">
                    <a:moveTo>
                      <a:pt x="0" y="0"/>
                    </a:moveTo>
                    <a:lnTo>
                      <a:pt x="0" y="3508"/>
                    </a:lnTo>
                    <a:lnTo>
                      <a:pt x="160" y="3548"/>
                    </a:lnTo>
                    <a:lnTo>
                      <a:pt x="160" y="3736"/>
                    </a:lnTo>
                    <a:lnTo>
                      <a:pt x="0" y="3849"/>
                    </a:lnTo>
                    <a:lnTo>
                      <a:pt x="0" y="9836"/>
                    </a:lnTo>
                    <a:lnTo>
                      <a:pt x="4982" y="11176"/>
                    </a:lnTo>
                    <a:lnTo>
                      <a:pt x="4982" y="13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62680" y="2742840"/>
                <a:ext cx="293760" cy="146160"/>
              </a:xfrm>
              <a:custGeom>
                <a:avLst/>
                <a:gdLst/>
                <a:ahLst/>
                <a:rect l="l" t="t" r="r" b="b"/>
                <a:pathLst>
                  <a:path w="11059" h="5225">
                    <a:moveTo>
                      <a:pt x="0" y="3886"/>
                    </a:moveTo>
                    <a:lnTo>
                      <a:pt x="4982" y="5225"/>
                    </a:lnTo>
                    <a:lnTo>
                      <a:pt x="11059" y="1297"/>
                    </a:lnTo>
                    <a:lnTo>
                      <a:pt x="6190" y="0"/>
                    </a:lnTo>
                    <a:lnTo>
                      <a:pt x="0" y="388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94440" y="2795400"/>
                <a:ext cx="162000" cy="117360"/>
              </a:xfrm>
              <a:custGeom>
                <a:avLst/>
                <a:gdLst/>
                <a:ahLst/>
                <a:rect l="l" t="t" r="r" b="b"/>
                <a:pathLst>
                  <a:path w="6077" h="4241">
                    <a:moveTo>
                      <a:pt x="0" y="4241"/>
                    </a:moveTo>
                    <a:lnTo>
                      <a:pt x="0" y="3928"/>
                    </a:lnTo>
                    <a:lnTo>
                      <a:pt x="6077" y="0"/>
                    </a:lnTo>
                    <a:lnTo>
                      <a:pt x="6077" y="240"/>
                    </a:lnTo>
                    <a:lnTo>
                      <a:pt x="0" y="4241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94440" y="2882520"/>
                <a:ext cx="162000" cy="114480"/>
              </a:xfrm>
              <a:custGeom>
                <a:avLst/>
                <a:gdLst/>
                <a:ahLst/>
                <a:rect l="l" t="t" r="r" b="b"/>
                <a:pathLst>
                  <a:path w="6077" h="4064">
                    <a:moveTo>
                      <a:pt x="0" y="4064"/>
                    </a:moveTo>
                    <a:lnTo>
                      <a:pt x="0" y="3751"/>
                    </a:lnTo>
                    <a:lnTo>
                      <a:pt x="5803" y="0"/>
                    </a:lnTo>
                    <a:lnTo>
                      <a:pt x="6077" y="64"/>
                    </a:lnTo>
                    <a:lnTo>
                      <a:pt x="0" y="4064"/>
                    </a:lnTo>
                    <a:close/>
                  </a:path>
                </a:pathLst>
              </a:custGeom>
              <a:solidFill>
                <a:srgbClr val="656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94440" y="2879640"/>
                <a:ext cx="156960" cy="114120"/>
              </a:xfrm>
              <a:custGeom>
                <a:avLst/>
                <a:gdLst/>
                <a:ahLst/>
                <a:rect l="l" t="t" r="r" b="b"/>
                <a:pathLst>
                  <a:path w="5940" h="4037">
                    <a:moveTo>
                      <a:pt x="0" y="4037"/>
                    </a:moveTo>
                    <a:lnTo>
                      <a:pt x="5940" y="129"/>
                    </a:lnTo>
                    <a:lnTo>
                      <a:pt x="5936" y="0"/>
                    </a:lnTo>
                    <a:lnTo>
                      <a:pt x="0" y="3850"/>
                    </a:lnTo>
                    <a:lnTo>
                      <a:pt x="0" y="403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62680" y="2952360"/>
                <a:ext cx="131760" cy="44640"/>
              </a:xfrm>
              <a:custGeom>
                <a:avLst/>
                <a:gdLst/>
                <a:ahLst/>
                <a:rect l="l" t="t" r="r" b="b"/>
                <a:pathLst>
                  <a:path w="4982" h="1575">
                    <a:moveTo>
                      <a:pt x="4982" y="1575"/>
                    </a:moveTo>
                    <a:lnTo>
                      <a:pt x="0" y="236"/>
                    </a:lnTo>
                    <a:lnTo>
                      <a:pt x="365" y="0"/>
                    </a:lnTo>
                    <a:lnTo>
                      <a:pt x="4982" y="1239"/>
                    </a:lnTo>
                    <a:lnTo>
                      <a:pt x="4982" y="1575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62680" y="29923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7"/>
                    </a:moveTo>
                    <a:lnTo>
                      <a:pt x="1369" y="555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862680" y="30034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7"/>
                    </a:moveTo>
                    <a:lnTo>
                      <a:pt x="1369" y="555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62680" y="30142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62680" y="302724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862680" y="30384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62680" y="3049200"/>
                <a:ext cx="34920" cy="1620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62680" y="30603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8"/>
                    </a:moveTo>
                    <a:lnTo>
                      <a:pt x="1369" y="555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862680" y="30715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862680" y="308412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8"/>
                    </a:moveTo>
                    <a:lnTo>
                      <a:pt x="1369" y="555"/>
                    </a:lnTo>
                    <a:lnTo>
                      <a:pt x="1369" y="367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2680" y="30938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62680" y="31064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59520" y="309060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3">
                    <a:moveTo>
                      <a:pt x="0" y="137"/>
                    </a:moveTo>
                    <a:lnTo>
                      <a:pt x="990" y="403"/>
                    </a:lnTo>
                    <a:lnTo>
                      <a:pt x="990" y="267"/>
                    </a:lnTo>
                    <a:lnTo>
                      <a:pt x="0" y="0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59520" y="309852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3">
                    <a:moveTo>
                      <a:pt x="0" y="135"/>
                    </a:moveTo>
                    <a:lnTo>
                      <a:pt x="990" y="403"/>
                    </a:lnTo>
                    <a:lnTo>
                      <a:pt x="990" y="266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59520" y="31064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2">
                    <a:moveTo>
                      <a:pt x="0" y="136"/>
                    </a:moveTo>
                    <a:lnTo>
                      <a:pt x="990" y="402"/>
                    </a:lnTo>
                    <a:lnTo>
                      <a:pt x="990" y="267"/>
                    </a:lnTo>
                    <a:lnTo>
                      <a:pt x="0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59520" y="311436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2">
                    <a:moveTo>
                      <a:pt x="0" y="136"/>
                    </a:moveTo>
                    <a:lnTo>
                      <a:pt x="990" y="402"/>
                    </a:lnTo>
                    <a:lnTo>
                      <a:pt x="990" y="266"/>
                    </a:lnTo>
                    <a:lnTo>
                      <a:pt x="0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59520" y="312228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2">
                    <a:moveTo>
                      <a:pt x="0" y="136"/>
                    </a:moveTo>
                    <a:lnTo>
                      <a:pt x="990" y="402"/>
                    </a:lnTo>
                    <a:lnTo>
                      <a:pt x="990" y="266"/>
                    </a:lnTo>
                    <a:lnTo>
                      <a:pt x="0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62680" y="2866680"/>
                <a:ext cx="131760" cy="47880"/>
              </a:xfrm>
              <a:custGeom>
                <a:avLst/>
                <a:gdLst/>
                <a:ahLst/>
                <a:rect l="l" t="t" r="r" b="b"/>
                <a:pathLst>
                  <a:path w="4982" h="1676">
                    <a:moveTo>
                      <a:pt x="4982" y="1676"/>
                    </a:moveTo>
                    <a:lnTo>
                      <a:pt x="0" y="336"/>
                    </a:lnTo>
                    <a:lnTo>
                      <a:pt x="0" y="0"/>
                    </a:lnTo>
                    <a:lnTo>
                      <a:pt x="4982" y="1340"/>
                    </a:lnTo>
                    <a:lnTo>
                      <a:pt x="4982" y="167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69160" y="2889000"/>
                <a:ext cx="41040" cy="22320"/>
              </a:xfrm>
              <a:custGeom>
                <a:avLst/>
                <a:gdLst/>
                <a:ahLst/>
                <a:rect l="l" t="t" r="r" b="b"/>
                <a:pathLst>
                  <a:path w="1519" h="743">
                    <a:moveTo>
                      <a:pt x="0" y="0"/>
                    </a:moveTo>
                    <a:lnTo>
                      <a:pt x="0" y="335"/>
                    </a:lnTo>
                    <a:lnTo>
                      <a:pt x="1519" y="743"/>
                    </a:lnTo>
                    <a:lnTo>
                      <a:pt x="1519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24600" y="2904840"/>
                <a:ext cx="52200" cy="25560"/>
              </a:xfrm>
              <a:custGeom>
                <a:avLst/>
                <a:gdLst/>
                <a:ahLst/>
                <a:rect l="l" t="t" r="r" b="b"/>
                <a:pathLst>
                  <a:path w="2012" h="877">
                    <a:moveTo>
                      <a:pt x="0" y="0"/>
                    </a:moveTo>
                    <a:lnTo>
                      <a:pt x="0" y="336"/>
                    </a:lnTo>
                    <a:lnTo>
                      <a:pt x="2012" y="877"/>
                    </a:lnTo>
                    <a:lnTo>
                      <a:pt x="2012" y="5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27840" y="2906640"/>
                <a:ext cx="48960" cy="20520"/>
              </a:xfrm>
              <a:custGeom>
                <a:avLst/>
                <a:gdLst/>
                <a:ahLst/>
                <a:rect l="l" t="t" r="r" b="b"/>
                <a:pathLst>
                  <a:path w="1858" h="706">
                    <a:moveTo>
                      <a:pt x="0" y="206"/>
                    </a:moveTo>
                    <a:lnTo>
                      <a:pt x="1858" y="706"/>
                    </a:lnTo>
                    <a:lnTo>
                      <a:pt x="1858" y="500"/>
                    </a:lnTo>
                    <a:lnTo>
                      <a:pt x="0" y="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cc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875280" y="2892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86" h="413">
                    <a:moveTo>
                      <a:pt x="0" y="337"/>
                    </a:moveTo>
                    <a:lnTo>
                      <a:pt x="286" y="413"/>
                    </a:lnTo>
                    <a:lnTo>
                      <a:pt x="286" y="78"/>
                    </a:lnTo>
                    <a:lnTo>
                      <a:pt x="0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87880" y="289548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286" h="414">
                    <a:moveTo>
                      <a:pt x="0" y="337"/>
                    </a:moveTo>
                    <a:lnTo>
                      <a:pt x="286" y="414"/>
                    </a:lnTo>
                    <a:lnTo>
                      <a:pt x="286" y="78"/>
                    </a:lnTo>
                    <a:lnTo>
                      <a:pt x="0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66000" y="313668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286" h="413">
                    <a:moveTo>
                      <a:pt x="0" y="336"/>
                    </a:moveTo>
                    <a:lnTo>
                      <a:pt x="286" y="413"/>
                    </a:lnTo>
                    <a:lnTo>
                      <a:pt x="286" y="77"/>
                    </a:lnTo>
                    <a:lnTo>
                      <a:pt x="0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76800" y="31399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87" h="413">
                    <a:moveTo>
                      <a:pt x="0" y="335"/>
                    </a:moveTo>
                    <a:lnTo>
                      <a:pt x="287" y="413"/>
                    </a:lnTo>
                    <a:lnTo>
                      <a:pt x="287" y="76"/>
                    </a:lnTo>
                    <a:lnTo>
                      <a:pt x="0" y="0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65920" y="295092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4822" h="1485">
                    <a:moveTo>
                      <a:pt x="0" y="188"/>
                    </a:moveTo>
                    <a:lnTo>
                      <a:pt x="4822" y="1485"/>
                    </a:lnTo>
                    <a:lnTo>
                      <a:pt x="4822" y="1297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cc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8077320" y="2590560"/>
              <a:ext cx="304560" cy="457200"/>
              <a:chOff x="8077320" y="2590560"/>
              <a:chExt cx="304560" cy="457200"/>
            </a:xfrm>
          </p:grpSpPr>
          <p:sp>
            <p:nvSpPr>
              <p:cNvPr id="219" name=""/>
              <p:cNvSpPr/>
              <p:nvPr/>
            </p:nvSpPr>
            <p:spPr>
              <a:xfrm>
                <a:off x="8202600" y="291132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6720" h="4894">
                    <a:moveTo>
                      <a:pt x="599" y="4894"/>
                    </a:moveTo>
                    <a:lnTo>
                      <a:pt x="0" y="3830"/>
                    </a:lnTo>
                    <a:lnTo>
                      <a:pt x="5888" y="0"/>
                    </a:lnTo>
                    <a:lnTo>
                      <a:pt x="6720" y="776"/>
                    </a:lnTo>
                    <a:lnTo>
                      <a:pt x="599" y="48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077320" y="2989080"/>
                <a:ext cx="141120" cy="58680"/>
              </a:xfrm>
              <a:custGeom>
                <a:avLst/>
                <a:gdLst/>
                <a:ahLst/>
                <a:rect l="l" t="t" r="r" b="b"/>
                <a:pathLst>
                  <a:path w="5337" h="2097">
                    <a:moveTo>
                      <a:pt x="914" y="0"/>
                    </a:moveTo>
                    <a:lnTo>
                      <a:pt x="4738" y="1033"/>
                    </a:lnTo>
                    <a:lnTo>
                      <a:pt x="5337" y="2097"/>
                    </a:lnTo>
                    <a:lnTo>
                      <a:pt x="0" y="624"/>
                    </a:lnTo>
                    <a:lnTo>
                      <a:pt x="9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207280" y="2869920"/>
                <a:ext cx="155520" cy="152640"/>
              </a:xfrm>
              <a:custGeom>
                <a:avLst/>
                <a:gdLst/>
                <a:ahLst/>
                <a:rect l="l" t="t" r="r" b="b"/>
                <a:pathLst>
                  <a:path w="5827" h="5434">
                    <a:moveTo>
                      <a:pt x="0" y="5434"/>
                    </a:moveTo>
                    <a:lnTo>
                      <a:pt x="0" y="3899"/>
                    </a:lnTo>
                    <a:lnTo>
                      <a:pt x="5827" y="0"/>
                    </a:lnTo>
                    <a:lnTo>
                      <a:pt x="5827" y="1534"/>
                    </a:lnTo>
                    <a:lnTo>
                      <a:pt x="0" y="543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97840" y="2949480"/>
                <a:ext cx="109440" cy="73080"/>
              </a:xfrm>
              <a:custGeom>
                <a:avLst/>
                <a:gdLst/>
                <a:ahLst/>
                <a:rect l="l" t="t" r="r" b="b"/>
                <a:pathLst>
                  <a:path w="4106" h="2614">
                    <a:moveTo>
                      <a:pt x="0" y="0"/>
                    </a:moveTo>
                    <a:lnTo>
                      <a:pt x="4106" y="1079"/>
                    </a:lnTo>
                    <a:lnTo>
                      <a:pt x="4106" y="2614"/>
                    </a:lnTo>
                    <a:lnTo>
                      <a:pt x="0" y="15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13760" y="2627280"/>
                <a:ext cx="162000" cy="385560"/>
              </a:xfrm>
              <a:custGeom>
                <a:avLst/>
                <a:gdLst/>
                <a:ahLst/>
                <a:rect l="l" t="t" r="r" b="b"/>
                <a:pathLst>
                  <a:path w="6077" h="13765">
                    <a:moveTo>
                      <a:pt x="5940" y="3591"/>
                    </a:moveTo>
                    <a:lnTo>
                      <a:pt x="6077" y="3511"/>
                    </a:lnTo>
                    <a:lnTo>
                      <a:pt x="6077" y="0"/>
                    </a:lnTo>
                    <a:lnTo>
                      <a:pt x="0" y="3928"/>
                    </a:lnTo>
                    <a:lnTo>
                      <a:pt x="0" y="13765"/>
                    </a:lnTo>
                    <a:lnTo>
                      <a:pt x="6077" y="9764"/>
                    </a:lnTo>
                    <a:lnTo>
                      <a:pt x="6077" y="3755"/>
                    </a:lnTo>
                    <a:lnTo>
                      <a:pt x="5940" y="3720"/>
                    </a:lnTo>
                    <a:lnTo>
                      <a:pt x="5940" y="35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82000" y="2700360"/>
                <a:ext cx="131760" cy="312480"/>
              </a:xfrm>
              <a:custGeom>
                <a:avLst/>
                <a:gdLst/>
                <a:ahLst/>
                <a:rect l="l" t="t" r="r" b="b"/>
                <a:pathLst>
                  <a:path w="4982" h="11176">
                    <a:moveTo>
                      <a:pt x="0" y="0"/>
                    </a:moveTo>
                    <a:lnTo>
                      <a:pt x="0" y="3508"/>
                    </a:lnTo>
                    <a:lnTo>
                      <a:pt x="160" y="3548"/>
                    </a:lnTo>
                    <a:lnTo>
                      <a:pt x="160" y="3736"/>
                    </a:lnTo>
                    <a:lnTo>
                      <a:pt x="0" y="3849"/>
                    </a:lnTo>
                    <a:lnTo>
                      <a:pt x="0" y="9836"/>
                    </a:lnTo>
                    <a:lnTo>
                      <a:pt x="4982" y="11176"/>
                    </a:lnTo>
                    <a:lnTo>
                      <a:pt x="4982" y="13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082000" y="2590560"/>
                <a:ext cx="293760" cy="146160"/>
              </a:xfrm>
              <a:custGeom>
                <a:avLst/>
                <a:gdLst/>
                <a:ahLst/>
                <a:rect l="l" t="t" r="r" b="b"/>
                <a:pathLst>
                  <a:path w="11059" h="5225">
                    <a:moveTo>
                      <a:pt x="0" y="3886"/>
                    </a:moveTo>
                    <a:lnTo>
                      <a:pt x="4982" y="5225"/>
                    </a:lnTo>
                    <a:lnTo>
                      <a:pt x="11059" y="1297"/>
                    </a:lnTo>
                    <a:lnTo>
                      <a:pt x="6190" y="0"/>
                    </a:lnTo>
                    <a:lnTo>
                      <a:pt x="0" y="388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213760" y="2643120"/>
                <a:ext cx="162000" cy="117360"/>
              </a:xfrm>
              <a:custGeom>
                <a:avLst/>
                <a:gdLst/>
                <a:ahLst/>
                <a:rect l="l" t="t" r="r" b="b"/>
                <a:pathLst>
                  <a:path w="6077" h="4241">
                    <a:moveTo>
                      <a:pt x="0" y="4241"/>
                    </a:moveTo>
                    <a:lnTo>
                      <a:pt x="0" y="3928"/>
                    </a:lnTo>
                    <a:lnTo>
                      <a:pt x="6077" y="0"/>
                    </a:lnTo>
                    <a:lnTo>
                      <a:pt x="6077" y="240"/>
                    </a:lnTo>
                    <a:lnTo>
                      <a:pt x="0" y="4241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213760" y="2730240"/>
                <a:ext cx="162000" cy="114480"/>
              </a:xfrm>
              <a:custGeom>
                <a:avLst/>
                <a:gdLst/>
                <a:ahLst/>
                <a:rect l="l" t="t" r="r" b="b"/>
                <a:pathLst>
                  <a:path w="6077" h="4064">
                    <a:moveTo>
                      <a:pt x="0" y="4064"/>
                    </a:moveTo>
                    <a:lnTo>
                      <a:pt x="0" y="3751"/>
                    </a:lnTo>
                    <a:lnTo>
                      <a:pt x="5803" y="0"/>
                    </a:lnTo>
                    <a:lnTo>
                      <a:pt x="6077" y="64"/>
                    </a:lnTo>
                    <a:lnTo>
                      <a:pt x="0" y="4064"/>
                    </a:lnTo>
                    <a:close/>
                  </a:path>
                </a:pathLst>
              </a:custGeom>
              <a:solidFill>
                <a:srgbClr val="656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13760" y="2727360"/>
                <a:ext cx="156960" cy="114120"/>
              </a:xfrm>
              <a:custGeom>
                <a:avLst/>
                <a:gdLst/>
                <a:ahLst/>
                <a:rect l="l" t="t" r="r" b="b"/>
                <a:pathLst>
                  <a:path w="5940" h="4037">
                    <a:moveTo>
                      <a:pt x="0" y="4037"/>
                    </a:moveTo>
                    <a:lnTo>
                      <a:pt x="5940" y="129"/>
                    </a:lnTo>
                    <a:lnTo>
                      <a:pt x="5936" y="0"/>
                    </a:lnTo>
                    <a:lnTo>
                      <a:pt x="0" y="3850"/>
                    </a:lnTo>
                    <a:lnTo>
                      <a:pt x="0" y="403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082000" y="2800080"/>
                <a:ext cx="131760" cy="44640"/>
              </a:xfrm>
              <a:custGeom>
                <a:avLst/>
                <a:gdLst/>
                <a:ahLst/>
                <a:rect l="l" t="t" r="r" b="b"/>
                <a:pathLst>
                  <a:path w="4982" h="1575">
                    <a:moveTo>
                      <a:pt x="4982" y="1575"/>
                    </a:moveTo>
                    <a:lnTo>
                      <a:pt x="0" y="236"/>
                    </a:lnTo>
                    <a:lnTo>
                      <a:pt x="365" y="0"/>
                    </a:lnTo>
                    <a:lnTo>
                      <a:pt x="4982" y="1239"/>
                    </a:lnTo>
                    <a:lnTo>
                      <a:pt x="4982" y="1575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82000" y="28400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7"/>
                    </a:moveTo>
                    <a:lnTo>
                      <a:pt x="1369" y="555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082000" y="28512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7"/>
                    </a:moveTo>
                    <a:lnTo>
                      <a:pt x="1369" y="555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82000" y="28620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082000" y="287496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82000" y="28861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082000" y="2896920"/>
                <a:ext cx="34920" cy="1620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82000" y="29080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8"/>
                    </a:moveTo>
                    <a:lnTo>
                      <a:pt x="1369" y="555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082000" y="29192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082000" y="293184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8"/>
                    </a:moveTo>
                    <a:lnTo>
                      <a:pt x="1369" y="555"/>
                    </a:lnTo>
                    <a:lnTo>
                      <a:pt x="1369" y="367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082000" y="29415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082000" y="29541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178840" y="293832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3">
                    <a:moveTo>
                      <a:pt x="0" y="137"/>
                    </a:moveTo>
                    <a:lnTo>
                      <a:pt x="990" y="403"/>
                    </a:lnTo>
                    <a:lnTo>
                      <a:pt x="990" y="267"/>
                    </a:lnTo>
                    <a:lnTo>
                      <a:pt x="0" y="0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78840" y="29462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3">
                    <a:moveTo>
                      <a:pt x="0" y="135"/>
                    </a:moveTo>
                    <a:lnTo>
                      <a:pt x="990" y="403"/>
                    </a:lnTo>
                    <a:lnTo>
                      <a:pt x="990" y="266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178840" y="295416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2">
                    <a:moveTo>
                      <a:pt x="0" y="136"/>
                    </a:moveTo>
                    <a:lnTo>
                      <a:pt x="990" y="402"/>
                    </a:lnTo>
                    <a:lnTo>
                      <a:pt x="990" y="267"/>
                    </a:lnTo>
                    <a:lnTo>
                      <a:pt x="0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178840" y="296208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2">
                    <a:moveTo>
                      <a:pt x="0" y="136"/>
                    </a:moveTo>
                    <a:lnTo>
                      <a:pt x="990" y="402"/>
                    </a:lnTo>
                    <a:lnTo>
                      <a:pt x="990" y="266"/>
                    </a:lnTo>
                    <a:lnTo>
                      <a:pt x="0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178840" y="297000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2">
                    <a:moveTo>
                      <a:pt x="0" y="136"/>
                    </a:moveTo>
                    <a:lnTo>
                      <a:pt x="990" y="402"/>
                    </a:lnTo>
                    <a:lnTo>
                      <a:pt x="990" y="266"/>
                    </a:lnTo>
                    <a:lnTo>
                      <a:pt x="0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82000" y="2714400"/>
                <a:ext cx="131760" cy="47880"/>
              </a:xfrm>
              <a:custGeom>
                <a:avLst/>
                <a:gdLst/>
                <a:ahLst/>
                <a:rect l="l" t="t" r="r" b="b"/>
                <a:pathLst>
                  <a:path w="4982" h="1676">
                    <a:moveTo>
                      <a:pt x="4982" y="1676"/>
                    </a:moveTo>
                    <a:lnTo>
                      <a:pt x="0" y="336"/>
                    </a:lnTo>
                    <a:lnTo>
                      <a:pt x="0" y="0"/>
                    </a:lnTo>
                    <a:lnTo>
                      <a:pt x="4982" y="1340"/>
                    </a:lnTo>
                    <a:lnTo>
                      <a:pt x="4982" y="167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088480" y="2736720"/>
                <a:ext cx="41040" cy="22320"/>
              </a:xfrm>
              <a:custGeom>
                <a:avLst/>
                <a:gdLst/>
                <a:ahLst/>
                <a:rect l="l" t="t" r="r" b="b"/>
                <a:pathLst>
                  <a:path w="1519" h="743">
                    <a:moveTo>
                      <a:pt x="0" y="0"/>
                    </a:moveTo>
                    <a:lnTo>
                      <a:pt x="0" y="335"/>
                    </a:lnTo>
                    <a:lnTo>
                      <a:pt x="1519" y="743"/>
                    </a:lnTo>
                    <a:lnTo>
                      <a:pt x="1519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43920" y="2752560"/>
                <a:ext cx="52200" cy="25560"/>
              </a:xfrm>
              <a:custGeom>
                <a:avLst/>
                <a:gdLst/>
                <a:ahLst/>
                <a:rect l="l" t="t" r="r" b="b"/>
                <a:pathLst>
                  <a:path w="2012" h="877">
                    <a:moveTo>
                      <a:pt x="0" y="0"/>
                    </a:moveTo>
                    <a:lnTo>
                      <a:pt x="0" y="336"/>
                    </a:lnTo>
                    <a:lnTo>
                      <a:pt x="2012" y="877"/>
                    </a:lnTo>
                    <a:lnTo>
                      <a:pt x="2012" y="5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147160" y="2754360"/>
                <a:ext cx="48960" cy="20520"/>
              </a:xfrm>
              <a:custGeom>
                <a:avLst/>
                <a:gdLst/>
                <a:ahLst/>
                <a:rect l="l" t="t" r="r" b="b"/>
                <a:pathLst>
                  <a:path w="1858" h="706">
                    <a:moveTo>
                      <a:pt x="0" y="206"/>
                    </a:moveTo>
                    <a:lnTo>
                      <a:pt x="1858" y="706"/>
                    </a:lnTo>
                    <a:lnTo>
                      <a:pt x="1858" y="500"/>
                    </a:lnTo>
                    <a:lnTo>
                      <a:pt x="0" y="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cc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94600" y="27399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86" h="413">
                    <a:moveTo>
                      <a:pt x="0" y="337"/>
                    </a:moveTo>
                    <a:lnTo>
                      <a:pt x="286" y="413"/>
                    </a:lnTo>
                    <a:lnTo>
                      <a:pt x="286" y="78"/>
                    </a:lnTo>
                    <a:lnTo>
                      <a:pt x="0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107200" y="274320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286" h="414">
                    <a:moveTo>
                      <a:pt x="0" y="337"/>
                    </a:moveTo>
                    <a:lnTo>
                      <a:pt x="286" y="414"/>
                    </a:lnTo>
                    <a:lnTo>
                      <a:pt x="286" y="78"/>
                    </a:lnTo>
                    <a:lnTo>
                      <a:pt x="0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185320" y="29844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286" h="413">
                    <a:moveTo>
                      <a:pt x="0" y="336"/>
                    </a:moveTo>
                    <a:lnTo>
                      <a:pt x="286" y="413"/>
                    </a:lnTo>
                    <a:lnTo>
                      <a:pt x="286" y="77"/>
                    </a:lnTo>
                    <a:lnTo>
                      <a:pt x="0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96120" y="29876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87" h="413">
                    <a:moveTo>
                      <a:pt x="0" y="335"/>
                    </a:moveTo>
                    <a:lnTo>
                      <a:pt x="287" y="413"/>
                    </a:lnTo>
                    <a:lnTo>
                      <a:pt x="287" y="76"/>
                    </a:lnTo>
                    <a:lnTo>
                      <a:pt x="0" y="0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85240" y="279864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4822" h="1485">
                    <a:moveTo>
                      <a:pt x="0" y="188"/>
                    </a:moveTo>
                    <a:lnTo>
                      <a:pt x="4822" y="1485"/>
                    </a:lnTo>
                    <a:lnTo>
                      <a:pt x="4822" y="1297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cc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86600" y="5028840"/>
              <a:ext cx="304560" cy="457200"/>
              <a:chOff x="7086600" y="5028840"/>
              <a:chExt cx="304560" cy="457200"/>
            </a:xfrm>
          </p:grpSpPr>
          <p:sp>
            <p:nvSpPr>
              <p:cNvPr id="256" name=""/>
              <p:cNvSpPr/>
              <p:nvPr/>
            </p:nvSpPr>
            <p:spPr>
              <a:xfrm>
                <a:off x="7211880" y="534960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6720" h="4894">
                    <a:moveTo>
                      <a:pt x="599" y="4894"/>
                    </a:moveTo>
                    <a:lnTo>
                      <a:pt x="0" y="3830"/>
                    </a:lnTo>
                    <a:lnTo>
                      <a:pt x="5888" y="0"/>
                    </a:lnTo>
                    <a:lnTo>
                      <a:pt x="6720" y="776"/>
                    </a:lnTo>
                    <a:lnTo>
                      <a:pt x="599" y="48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86600" y="5427360"/>
                <a:ext cx="141120" cy="58680"/>
              </a:xfrm>
              <a:custGeom>
                <a:avLst/>
                <a:gdLst/>
                <a:ahLst/>
                <a:rect l="l" t="t" r="r" b="b"/>
                <a:pathLst>
                  <a:path w="5337" h="2097">
                    <a:moveTo>
                      <a:pt x="914" y="0"/>
                    </a:moveTo>
                    <a:lnTo>
                      <a:pt x="4738" y="1033"/>
                    </a:lnTo>
                    <a:lnTo>
                      <a:pt x="5337" y="2097"/>
                    </a:lnTo>
                    <a:lnTo>
                      <a:pt x="0" y="624"/>
                    </a:lnTo>
                    <a:lnTo>
                      <a:pt x="91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16560" y="5308200"/>
                <a:ext cx="155520" cy="152640"/>
              </a:xfrm>
              <a:custGeom>
                <a:avLst/>
                <a:gdLst/>
                <a:ahLst/>
                <a:rect l="l" t="t" r="r" b="b"/>
                <a:pathLst>
                  <a:path w="5827" h="5434">
                    <a:moveTo>
                      <a:pt x="0" y="5434"/>
                    </a:moveTo>
                    <a:lnTo>
                      <a:pt x="0" y="3899"/>
                    </a:lnTo>
                    <a:lnTo>
                      <a:pt x="5827" y="0"/>
                    </a:lnTo>
                    <a:lnTo>
                      <a:pt x="5827" y="1534"/>
                    </a:lnTo>
                    <a:lnTo>
                      <a:pt x="0" y="543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07120" y="5387760"/>
                <a:ext cx="109440" cy="73080"/>
              </a:xfrm>
              <a:custGeom>
                <a:avLst/>
                <a:gdLst/>
                <a:ahLst/>
                <a:rect l="l" t="t" r="r" b="b"/>
                <a:pathLst>
                  <a:path w="4106" h="2614">
                    <a:moveTo>
                      <a:pt x="0" y="0"/>
                    </a:moveTo>
                    <a:lnTo>
                      <a:pt x="4106" y="1079"/>
                    </a:lnTo>
                    <a:lnTo>
                      <a:pt x="4106" y="2614"/>
                    </a:lnTo>
                    <a:lnTo>
                      <a:pt x="0" y="15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223040" y="5065560"/>
                <a:ext cx="162000" cy="385560"/>
              </a:xfrm>
              <a:custGeom>
                <a:avLst/>
                <a:gdLst/>
                <a:ahLst/>
                <a:rect l="l" t="t" r="r" b="b"/>
                <a:pathLst>
                  <a:path w="6077" h="13765">
                    <a:moveTo>
                      <a:pt x="5940" y="3591"/>
                    </a:moveTo>
                    <a:lnTo>
                      <a:pt x="6077" y="3511"/>
                    </a:lnTo>
                    <a:lnTo>
                      <a:pt x="6077" y="0"/>
                    </a:lnTo>
                    <a:lnTo>
                      <a:pt x="0" y="3928"/>
                    </a:lnTo>
                    <a:lnTo>
                      <a:pt x="0" y="13765"/>
                    </a:lnTo>
                    <a:lnTo>
                      <a:pt x="6077" y="9764"/>
                    </a:lnTo>
                    <a:lnTo>
                      <a:pt x="6077" y="3755"/>
                    </a:lnTo>
                    <a:lnTo>
                      <a:pt x="5940" y="3720"/>
                    </a:lnTo>
                    <a:lnTo>
                      <a:pt x="5940" y="35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91280" y="5138640"/>
                <a:ext cx="131760" cy="312480"/>
              </a:xfrm>
              <a:custGeom>
                <a:avLst/>
                <a:gdLst/>
                <a:ahLst/>
                <a:rect l="l" t="t" r="r" b="b"/>
                <a:pathLst>
                  <a:path w="4982" h="11176">
                    <a:moveTo>
                      <a:pt x="0" y="0"/>
                    </a:moveTo>
                    <a:lnTo>
                      <a:pt x="0" y="3508"/>
                    </a:lnTo>
                    <a:lnTo>
                      <a:pt x="160" y="3548"/>
                    </a:lnTo>
                    <a:lnTo>
                      <a:pt x="160" y="3736"/>
                    </a:lnTo>
                    <a:lnTo>
                      <a:pt x="0" y="3849"/>
                    </a:lnTo>
                    <a:lnTo>
                      <a:pt x="0" y="9836"/>
                    </a:lnTo>
                    <a:lnTo>
                      <a:pt x="4982" y="11176"/>
                    </a:lnTo>
                    <a:lnTo>
                      <a:pt x="4982" y="13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91280" y="5028840"/>
                <a:ext cx="293760" cy="146160"/>
              </a:xfrm>
              <a:custGeom>
                <a:avLst/>
                <a:gdLst/>
                <a:ahLst/>
                <a:rect l="l" t="t" r="r" b="b"/>
                <a:pathLst>
                  <a:path w="11059" h="5225">
                    <a:moveTo>
                      <a:pt x="0" y="3886"/>
                    </a:moveTo>
                    <a:lnTo>
                      <a:pt x="4982" y="5225"/>
                    </a:lnTo>
                    <a:lnTo>
                      <a:pt x="11059" y="1297"/>
                    </a:lnTo>
                    <a:lnTo>
                      <a:pt x="6190" y="0"/>
                    </a:lnTo>
                    <a:lnTo>
                      <a:pt x="0" y="388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23040" y="5081400"/>
                <a:ext cx="162000" cy="117360"/>
              </a:xfrm>
              <a:custGeom>
                <a:avLst/>
                <a:gdLst/>
                <a:ahLst/>
                <a:rect l="l" t="t" r="r" b="b"/>
                <a:pathLst>
                  <a:path w="6077" h="4241">
                    <a:moveTo>
                      <a:pt x="0" y="4241"/>
                    </a:moveTo>
                    <a:lnTo>
                      <a:pt x="0" y="3928"/>
                    </a:lnTo>
                    <a:lnTo>
                      <a:pt x="6077" y="0"/>
                    </a:lnTo>
                    <a:lnTo>
                      <a:pt x="6077" y="240"/>
                    </a:lnTo>
                    <a:lnTo>
                      <a:pt x="0" y="4241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223040" y="5168520"/>
                <a:ext cx="162000" cy="114480"/>
              </a:xfrm>
              <a:custGeom>
                <a:avLst/>
                <a:gdLst/>
                <a:ahLst/>
                <a:rect l="l" t="t" r="r" b="b"/>
                <a:pathLst>
                  <a:path w="6077" h="4064">
                    <a:moveTo>
                      <a:pt x="0" y="4064"/>
                    </a:moveTo>
                    <a:lnTo>
                      <a:pt x="0" y="3751"/>
                    </a:lnTo>
                    <a:lnTo>
                      <a:pt x="5803" y="0"/>
                    </a:lnTo>
                    <a:lnTo>
                      <a:pt x="6077" y="64"/>
                    </a:lnTo>
                    <a:lnTo>
                      <a:pt x="0" y="4064"/>
                    </a:lnTo>
                    <a:close/>
                  </a:path>
                </a:pathLst>
              </a:custGeom>
              <a:solidFill>
                <a:srgbClr val="656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223040" y="5165640"/>
                <a:ext cx="156960" cy="114120"/>
              </a:xfrm>
              <a:custGeom>
                <a:avLst/>
                <a:gdLst/>
                <a:ahLst/>
                <a:rect l="l" t="t" r="r" b="b"/>
                <a:pathLst>
                  <a:path w="5940" h="4037">
                    <a:moveTo>
                      <a:pt x="0" y="4037"/>
                    </a:moveTo>
                    <a:lnTo>
                      <a:pt x="5940" y="129"/>
                    </a:lnTo>
                    <a:lnTo>
                      <a:pt x="5936" y="0"/>
                    </a:lnTo>
                    <a:lnTo>
                      <a:pt x="0" y="3850"/>
                    </a:lnTo>
                    <a:lnTo>
                      <a:pt x="0" y="403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91280" y="5238360"/>
                <a:ext cx="131760" cy="44640"/>
              </a:xfrm>
              <a:custGeom>
                <a:avLst/>
                <a:gdLst/>
                <a:ahLst/>
                <a:rect l="l" t="t" r="r" b="b"/>
                <a:pathLst>
                  <a:path w="4982" h="1575">
                    <a:moveTo>
                      <a:pt x="4982" y="1575"/>
                    </a:moveTo>
                    <a:lnTo>
                      <a:pt x="0" y="236"/>
                    </a:lnTo>
                    <a:lnTo>
                      <a:pt x="365" y="0"/>
                    </a:lnTo>
                    <a:lnTo>
                      <a:pt x="4982" y="1239"/>
                    </a:lnTo>
                    <a:lnTo>
                      <a:pt x="4982" y="1575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91280" y="52783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7"/>
                    </a:moveTo>
                    <a:lnTo>
                      <a:pt x="1369" y="555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91280" y="52894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7"/>
                    </a:moveTo>
                    <a:lnTo>
                      <a:pt x="1369" y="555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091280" y="53002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91280" y="531324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91280" y="53244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91280" y="5335200"/>
                <a:ext cx="34920" cy="1620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9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91280" y="53463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8"/>
                    </a:moveTo>
                    <a:lnTo>
                      <a:pt x="1369" y="555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091280" y="53575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91280" y="537012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1369" h="555">
                    <a:moveTo>
                      <a:pt x="0" y="188"/>
                    </a:moveTo>
                    <a:lnTo>
                      <a:pt x="1369" y="555"/>
                    </a:lnTo>
                    <a:lnTo>
                      <a:pt x="1369" y="367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91280" y="53798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91280" y="53924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1369" h="556">
                    <a:moveTo>
                      <a:pt x="0" y="188"/>
                    </a:moveTo>
                    <a:lnTo>
                      <a:pt x="1369" y="556"/>
                    </a:lnTo>
                    <a:lnTo>
                      <a:pt x="1369" y="368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188120" y="537660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3">
                    <a:moveTo>
                      <a:pt x="0" y="137"/>
                    </a:moveTo>
                    <a:lnTo>
                      <a:pt x="990" y="403"/>
                    </a:lnTo>
                    <a:lnTo>
                      <a:pt x="990" y="267"/>
                    </a:lnTo>
                    <a:lnTo>
                      <a:pt x="0" y="0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88120" y="538452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3">
                    <a:moveTo>
                      <a:pt x="0" y="135"/>
                    </a:moveTo>
                    <a:lnTo>
                      <a:pt x="990" y="403"/>
                    </a:lnTo>
                    <a:lnTo>
                      <a:pt x="990" y="266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88120" y="53924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2">
                    <a:moveTo>
                      <a:pt x="0" y="136"/>
                    </a:moveTo>
                    <a:lnTo>
                      <a:pt x="990" y="402"/>
                    </a:lnTo>
                    <a:lnTo>
                      <a:pt x="990" y="267"/>
                    </a:lnTo>
                    <a:lnTo>
                      <a:pt x="0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88120" y="540036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2">
                    <a:moveTo>
                      <a:pt x="0" y="136"/>
                    </a:moveTo>
                    <a:lnTo>
                      <a:pt x="990" y="402"/>
                    </a:lnTo>
                    <a:lnTo>
                      <a:pt x="990" y="266"/>
                    </a:lnTo>
                    <a:lnTo>
                      <a:pt x="0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88120" y="540828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990" h="402">
                    <a:moveTo>
                      <a:pt x="0" y="136"/>
                    </a:moveTo>
                    <a:lnTo>
                      <a:pt x="990" y="402"/>
                    </a:lnTo>
                    <a:lnTo>
                      <a:pt x="990" y="266"/>
                    </a:lnTo>
                    <a:lnTo>
                      <a:pt x="0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91280" y="5152680"/>
                <a:ext cx="131760" cy="47880"/>
              </a:xfrm>
              <a:custGeom>
                <a:avLst/>
                <a:gdLst/>
                <a:ahLst/>
                <a:rect l="l" t="t" r="r" b="b"/>
                <a:pathLst>
                  <a:path w="4982" h="1676">
                    <a:moveTo>
                      <a:pt x="4982" y="1676"/>
                    </a:moveTo>
                    <a:lnTo>
                      <a:pt x="0" y="336"/>
                    </a:lnTo>
                    <a:lnTo>
                      <a:pt x="0" y="0"/>
                    </a:lnTo>
                    <a:lnTo>
                      <a:pt x="4982" y="1340"/>
                    </a:lnTo>
                    <a:lnTo>
                      <a:pt x="4982" y="1676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97760" y="5175000"/>
                <a:ext cx="41040" cy="22320"/>
              </a:xfrm>
              <a:custGeom>
                <a:avLst/>
                <a:gdLst/>
                <a:ahLst/>
                <a:rect l="l" t="t" r="r" b="b"/>
                <a:pathLst>
                  <a:path w="1519" h="743">
                    <a:moveTo>
                      <a:pt x="0" y="0"/>
                    </a:moveTo>
                    <a:lnTo>
                      <a:pt x="0" y="335"/>
                    </a:lnTo>
                    <a:lnTo>
                      <a:pt x="1519" y="743"/>
                    </a:lnTo>
                    <a:lnTo>
                      <a:pt x="1519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153200" y="5190840"/>
                <a:ext cx="52200" cy="25560"/>
              </a:xfrm>
              <a:custGeom>
                <a:avLst/>
                <a:gdLst/>
                <a:ahLst/>
                <a:rect l="l" t="t" r="r" b="b"/>
                <a:pathLst>
                  <a:path w="2012" h="877">
                    <a:moveTo>
                      <a:pt x="0" y="0"/>
                    </a:moveTo>
                    <a:lnTo>
                      <a:pt x="0" y="336"/>
                    </a:lnTo>
                    <a:lnTo>
                      <a:pt x="2012" y="877"/>
                    </a:lnTo>
                    <a:lnTo>
                      <a:pt x="2012" y="5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156440" y="5192640"/>
                <a:ext cx="48960" cy="20520"/>
              </a:xfrm>
              <a:custGeom>
                <a:avLst/>
                <a:gdLst/>
                <a:ahLst/>
                <a:rect l="l" t="t" r="r" b="b"/>
                <a:pathLst>
                  <a:path w="1858" h="706">
                    <a:moveTo>
                      <a:pt x="0" y="206"/>
                    </a:moveTo>
                    <a:lnTo>
                      <a:pt x="1858" y="706"/>
                    </a:lnTo>
                    <a:lnTo>
                      <a:pt x="1858" y="500"/>
                    </a:lnTo>
                    <a:lnTo>
                      <a:pt x="0" y="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cc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03880" y="5178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86" h="413">
                    <a:moveTo>
                      <a:pt x="0" y="337"/>
                    </a:moveTo>
                    <a:lnTo>
                      <a:pt x="286" y="413"/>
                    </a:lnTo>
                    <a:lnTo>
                      <a:pt x="286" y="78"/>
                    </a:lnTo>
                    <a:lnTo>
                      <a:pt x="0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116480" y="518148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286" h="414">
                    <a:moveTo>
                      <a:pt x="0" y="337"/>
                    </a:moveTo>
                    <a:lnTo>
                      <a:pt x="286" y="414"/>
                    </a:lnTo>
                    <a:lnTo>
                      <a:pt x="286" y="78"/>
                    </a:lnTo>
                    <a:lnTo>
                      <a:pt x="0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94600" y="542268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286" h="413">
                    <a:moveTo>
                      <a:pt x="0" y="336"/>
                    </a:moveTo>
                    <a:lnTo>
                      <a:pt x="286" y="413"/>
                    </a:lnTo>
                    <a:lnTo>
                      <a:pt x="286" y="77"/>
                    </a:lnTo>
                    <a:lnTo>
                      <a:pt x="0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205400" y="54259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87" h="413">
                    <a:moveTo>
                      <a:pt x="0" y="335"/>
                    </a:moveTo>
                    <a:lnTo>
                      <a:pt x="287" y="413"/>
                    </a:lnTo>
                    <a:lnTo>
                      <a:pt x="287" y="76"/>
                    </a:lnTo>
                    <a:lnTo>
                      <a:pt x="0" y="0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094520" y="523692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4822" h="1485">
                    <a:moveTo>
                      <a:pt x="0" y="188"/>
                    </a:moveTo>
                    <a:lnTo>
                      <a:pt x="4822" y="1485"/>
                    </a:lnTo>
                    <a:lnTo>
                      <a:pt x="4822" y="1297"/>
                    </a:lnTo>
                    <a:lnTo>
                      <a:pt x="0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cc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934320" y="556236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6600"/>
                  </a:solidFill>
                  <a:latin typeface="Tahoma"/>
                </a:rPr>
                <a:t>Network Logi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2A9-6CC1-426A-A89E-3C76D318E0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D3CE4-B056-4EF5-856B-4E5804F9C1E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JAIN MAP API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MA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bile Application Part) is a protocol in the GSM stack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, concern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bility management and other services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(E.g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S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cc"/>
                </a:solidFill>
                <a:latin typeface="Tahoma"/>
              </a:rPr>
              <a:t>JAIN MAP API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an abstraction level over the complicated MAP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way, a MAP service developer does not need to be aware of the specific MAP implementation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8C2-BE77-4554-B5E6-25B19B93D8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6373D-D1E0-42FB-A55F-4D6319BA630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261040" y="2206800"/>
            <a:ext cx="2435040" cy="3051000"/>
          </a:xfrm>
          <a:prstGeom prst="rect">
            <a:avLst/>
          </a:prstGeom>
          <a:solidFill>
            <a:srgbClr val="cc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206800"/>
            <a:ext cx="2438280" cy="3051000"/>
          </a:xfrm>
          <a:prstGeom prst="rect">
            <a:avLst/>
          </a:prstGeom>
          <a:solidFill>
            <a:srgbClr val="cc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JAIN MAP API framework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2208240" y="4191120"/>
            <a:ext cx="1440" cy="52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2590920" y="4277880"/>
            <a:ext cx="1440" cy="52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19120" y="2262240"/>
            <a:ext cx="1997280" cy="609480"/>
          </a:xfrm>
          <a:prstGeom prst="rect">
            <a:avLst/>
          </a:prstGeom>
          <a:solidFill>
            <a:srgbClr val="ffcc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JAIN Client (</a:t>
            </a:r>
            <a:r>
              <a:rPr b="0" i="1" lang="it-IT" sz="1400" spc="-1" strike="noStrike">
                <a:solidFill>
                  <a:srgbClr val="000099"/>
                </a:solidFill>
                <a:latin typeface="Arial"/>
              </a:rPr>
              <a:t>source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19120" y="3260880"/>
            <a:ext cx="1997280" cy="1006200"/>
          </a:xfrm>
          <a:prstGeom prst="rect">
            <a:avLst/>
          </a:prstGeom>
          <a:solidFill>
            <a:srgbClr val="ffcc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08240" y="2874960"/>
            <a:ext cx="0" cy="385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625840" y="2871360"/>
            <a:ext cx="0" cy="389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2908440"/>
            <a:ext cx="1020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35200" y="2908440"/>
            <a:ext cx="102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Confi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19120" y="4697280"/>
            <a:ext cx="1997280" cy="331920"/>
          </a:xfrm>
          <a:prstGeom prst="rect">
            <a:avLst/>
          </a:prstGeom>
          <a:solidFill>
            <a:srgbClr val="ffcc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MAP Service 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4356000"/>
            <a:ext cx="1020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4356000"/>
            <a:ext cx="1020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Confi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1600200"/>
            <a:ext cx="2819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Entity where JAIN MAP API is implemen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1600200"/>
            <a:ext cx="29559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Entity where JAIN MAP API is </a:t>
            </a:r>
            <a:r>
              <a:rPr b="1" lang="it-IT" sz="1600" spc="-1" strike="noStrike">
                <a:solidFill>
                  <a:srgbClr val="ffccff"/>
                </a:solidFill>
                <a:latin typeface="Arial"/>
              </a:rPr>
              <a:t>not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 implemen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5029200"/>
            <a:ext cx="0" cy="665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531120" y="5029200"/>
            <a:ext cx="0" cy="665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5694480"/>
            <a:ext cx="43214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583000" y="5028840"/>
            <a:ext cx="0" cy="4446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11720" y="5068800"/>
            <a:ext cx="0" cy="4604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83000" y="5529240"/>
            <a:ext cx="35287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257800"/>
            <a:ext cx="223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Underlying protoc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638760" y="3169800"/>
            <a:ext cx="0" cy="885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30960" y="2338560"/>
            <a:ext cx="1996920" cy="830160"/>
          </a:xfrm>
          <a:prstGeom prst="rect">
            <a:avLst/>
          </a:prstGeom>
          <a:solidFill>
            <a:srgbClr val="ffcc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MAP Servic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it-IT" sz="1400" spc="-1" strike="noStrike">
                <a:solidFill>
                  <a:srgbClr val="000099"/>
                </a:solidFill>
                <a:latin typeface="Arial"/>
              </a:rPr>
              <a:t>destination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30960" y="4038480"/>
            <a:ext cx="1996920" cy="990720"/>
          </a:xfrm>
          <a:prstGeom prst="rect">
            <a:avLst/>
          </a:prstGeom>
          <a:solidFill>
            <a:srgbClr val="ffcc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MAP Service 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221520" y="3168720"/>
            <a:ext cx="0" cy="882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45200" y="3333600"/>
            <a:ext cx="116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91240" y="3333600"/>
            <a:ext cx="1114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47920" y="2595600"/>
            <a:ext cx="1020600" cy="220680"/>
          </a:xfrm>
          <a:prstGeom prst="rect">
            <a:avLst/>
          </a:prstGeom>
          <a:noFill/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Arial"/>
              </a:rPr>
              <a:t>JAIN Liste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3537000"/>
            <a:ext cx="20908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JAIN MAP API implemen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99"/>
                </a:solidFill>
                <a:latin typeface="Arial"/>
              </a:rPr>
              <a:t>(MAP Service Us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63760" y="3313080"/>
            <a:ext cx="1162080" cy="223920"/>
          </a:xfrm>
          <a:prstGeom prst="rect">
            <a:avLst/>
          </a:prstGeom>
          <a:noFill/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Arial"/>
              </a:rPr>
              <a:t>JAIN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2655720"/>
            <a:ext cx="171936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ff"/>
                </a:solidFill>
                <a:latin typeface="Arial"/>
              </a:rPr>
              <a:t>JAIN MAP API primiti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657600" y="3036960"/>
            <a:ext cx="463680" cy="0"/>
          </a:xfrm>
          <a:prstGeom prst="line">
            <a:avLst/>
          </a:prstGeom>
          <a:ln w="9360">
            <a:solidFill>
              <a:srgbClr val="ffccff"/>
            </a:solidFill>
            <a:prstDash val="dash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86160" y="4102200"/>
            <a:ext cx="17193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ff"/>
                </a:solidFill>
                <a:latin typeface="Arial"/>
              </a:rPr>
              <a:t>MAP Layer primiti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657600" y="4476600"/>
            <a:ext cx="463680" cy="0"/>
          </a:xfrm>
          <a:prstGeom prst="line">
            <a:avLst/>
          </a:prstGeom>
          <a:ln w="9360">
            <a:solidFill>
              <a:srgbClr val="ffccff"/>
            </a:solidFill>
            <a:prstDash val="dash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571-7056-4E3A-BE7B-264794A03A5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C2B0F-3663-40B2-95B9-99AE1E41CD7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UML Components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28680" y="1560240"/>
            <a:ext cx="71532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ment workf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siness concept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case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ation workf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ication of the com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s among com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cification of the com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sioning workf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workf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78C-5288-4664-B941-92C14F384F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C7042-4398-44DA-8F76-B2032F083E5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9980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56b"/>
                </a:solidFill>
                <a:latin typeface="Tahoma"/>
              </a:rPr>
              <a:t>Requirement Workflow (1)</a:t>
            </a:r>
            <a:endParaRPr b="0" lang="en-US" sz="4400" spc="-1" strike="noStrike">
              <a:solidFill>
                <a:srgbClr val="ffb56b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94680" indent="-946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JAIN MAP API on-line documentation has been analysed for deriving the </a:t>
            </a:r>
            <a:r>
              <a:rPr b="0" lang="en-GB" sz="2800" spc="-1" strike="noStrike">
                <a:solidFill>
                  <a:srgbClr val="ff99cc"/>
                </a:solidFill>
                <a:latin typeface="Tahoma"/>
              </a:rPr>
              <a:t>Business concept mode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61880" indent="-18036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 a conceptual model, which specifies the key concepts, their relations and a common vocabul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61880" indent="-18036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represented by a class model, but the classes involved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well as their associations, are only conceptual and not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ated to the specifi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61880" indent="-18036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rived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siness Concept Model</a:t>
            </a:r>
            <a:r>
              <a:rPr b="0" lang="en-US" sz="2400" spc="-1" strike="noStrike">
                <a:solidFill>
                  <a:srgbClr val="ff99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in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class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41680" indent="-1929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IN Client, JAIN Factories, JAIN Provider, Reference Tab, Connections Factory, Connection Manager, M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56A-48E9-4BE9-BBD3-101B72EF7D0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A643C-7C1A-47A5-B838-4E8FACAEF8B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08:49:42Z</dcterms:created>
  <dc:creator>Francesca Martelli</dc:creator>
  <dc:description/>
  <dc:language>en-US</dc:language>
  <cp:lastModifiedBy>Sara Marchetti</cp:lastModifiedBy>
  <dcterms:modified xsi:type="dcterms:W3CDTF">2003-11-18T15:05:28Z</dcterms:modified>
  <cp:revision>72</cp:revision>
  <dc:subject/>
  <dc:title>Refactoring a Legacy System Using Components</dc:title>
</cp:coreProperties>
</file>