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13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1880" y="34560"/>
            <a:ext cx="7951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35080" y="1007640"/>
            <a:ext cx="867384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35080" y="2895480"/>
            <a:ext cx="867384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1880" y="34560"/>
            <a:ext cx="7951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35080" y="1007640"/>
            <a:ext cx="42325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9640" y="1007640"/>
            <a:ext cx="42325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35080" y="2895480"/>
            <a:ext cx="42325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9640" y="2895480"/>
            <a:ext cx="42325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1880" y="34560"/>
            <a:ext cx="7951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35080" y="1007640"/>
            <a:ext cx="279288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68000" y="1007640"/>
            <a:ext cx="279288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00920" y="1007640"/>
            <a:ext cx="279288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35080" y="2895480"/>
            <a:ext cx="279288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68000" y="2895480"/>
            <a:ext cx="279288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00920" y="2895480"/>
            <a:ext cx="279288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01880" y="34560"/>
            <a:ext cx="7951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35080" y="1007640"/>
            <a:ext cx="867384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01880" y="34560"/>
            <a:ext cx="7951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35080" y="1007640"/>
            <a:ext cx="867384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1880" y="34560"/>
            <a:ext cx="7951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5080" y="1007640"/>
            <a:ext cx="423252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640" y="1007640"/>
            <a:ext cx="423252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01880" y="34560"/>
            <a:ext cx="7951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01880" y="127080"/>
            <a:ext cx="79516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01880" y="34560"/>
            <a:ext cx="7951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35080" y="1007640"/>
            <a:ext cx="42325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9640" y="1007640"/>
            <a:ext cx="423252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35080" y="2895480"/>
            <a:ext cx="42325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01880" y="34560"/>
            <a:ext cx="7951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35080" y="1007640"/>
            <a:ext cx="423252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9640" y="1007640"/>
            <a:ext cx="42325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9640" y="2895480"/>
            <a:ext cx="42325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1880" y="34560"/>
            <a:ext cx="7951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35080" y="1007640"/>
            <a:ext cx="42325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9640" y="1007640"/>
            <a:ext cx="42325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35080" y="2895480"/>
            <a:ext cx="867384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01880" y="127080"/>
            <a:ext cx="795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5080" y="1007640"/>
            <a:ext cx="867384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5620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198108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19810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19810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969320" y="6453360"/>
            <a:ext cx="1111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66"/>
                </a:solidFill>
                <a:latin typeface="Arial"/>
              </a:rPr>
              <a:t>Slide </a:t>
            </a:r>
            <a:fld id="{9D99744D-2420-4CB3-9BDC-186931C2A344}" type="slidenum">
              <a:rPr b="1" i="1" lang="en-GB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25560" y="3240"/>
            <a:ext cx="988920" cy="8985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4010760" y="655200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Giodi Giorg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-20520" y="6197760"/>
            <a:ext cx="1177920" cy="501480"/>
            <a:chOff x="-20520" y="6197760"/>
            <a:chExt cx="1177920" cy="501480"/>
          </a:xfrm>
        </p:grpSpPr>
        <p:pic>
          <p:nvPicPr>
            <p:cNvPr id="6" name="" descr=""/>
            <p:cNvPicPr/>
            <p:nvPr/>
          </p:nvPicPr>
          <p:blipFill>
            <a:blip r:embed="rId3"/>
            <a:stretch/>
          </p:blipFill>
          <p:spPr>
            <a:xfrm>
              <a:off x="318960" y="6197760"/>
              <a:ext cx="838440" cy="50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-20520" y="6361200"/>
              <a:ext cx="82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"/>
                </a:rPr>
                <a:t>PISAT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1082520" y="6518160"/>
            <a:ext cx="6981840" cy="54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699ff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082520" y="609480"/>
            <a:ext cx="7917120" cy="54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699ff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image" Target="../media/image17.wmf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3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1628640"/>
            <a:ext cx="8839440" cy="38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Design for a centr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Path Comput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Giodi Giorg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(g.giorgi@iet.unipi.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Università degli Studi di Pi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Dipartimento di Ingegneria della Informazione: Elettronica, Informatica, Telecomunicazio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Gruppo di Ricerca in Reti di Telecomunic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wwwtlc.iet.unipi.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064360" y="6356520"/>
            <a:ext cx="99072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"/>
          <p:cNvGrpSpPr/>
          <p:nvPr/>
        </p:nvGrpSpPr>
        <p:grpSpPr>
          <a:xfrm>
            <a:off x="396720" y="963720"/>
            <a:ext cx="7864560" cy="4890600"/>
            <a:chOff x="396720" y="963720"/>
            <a:chExt cx="7864560" cy="4890600"/>
          </a:xfrm>
        </p:grpSpPr>
        <p:cxnSp>
          <p:nvCxnSpPr>
            <p:cNvPr id="420" name=""/>
            <p:cNvCxnSpPr>
              <a:stCxn id="421" idx="5"/>
              <a:endCxn id="422" idx="1"/>
            </p:cNvCxnSpPr>
            <p:nvPr/>
          </p:nvCxnSpPr>
          <p:spPr>
            <a:xfrm>
              <a:off x="2665080" y="1463400"/>
              <a:ext cx="1496160" cy="1722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23" name=""/>
            <p:cNvCxnSpPr>
              <a:stCxn id="424" idx="5"/>
              <a:endCxn id="425" idx="1"/>
            </p:cNvCxnSpPr>
            <p:nvPr/>
          </p:nvCxnSpPr>
          <p:spPr>
            <a:xfrm>
              <a:off x="2666880" y="3568680"/>
              <a:ext cx="1488240" cy="1827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26" name=""/>
            <p:cNvCxnSpPr>
              <a:stCxn id="422" idx="4"/>
              <a:endCxn id="425" idx="0"/>
            </p:cNvCxnSpPr>
            <p:nvPr/>
          </p:nvCxnSpPr>
          <p:spPr>
            <a:xfrm flipH="1">
              <a:off x="4333320" y="3644280"/>
              <a:ext cx="7200" cy="1672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27" name=""/>
            <p:cNvCxnSpPr>
              <a:stCxn id="424" idx="0"/>
              <a:endCxn id="421" idx="4"/>
            </p:cNvCxnSpPr>
            <p:nvPr/>
          </p:nvCxnSpPr>
          <p:spPr>
            <a:xfrm flipH="1" flipV="1">
              <a:off x="2486520" y="1542240"/>
              <a:ext cx="2520" cy="1567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grpSp>
          <p:nvGrpSpPr>
            <p:cNvPr id="428" name=""/>
            <p:cNvGrpSpPr/>
            <p:nvPr/>
          </p:nvGrpSpPr>
          <p:grpSpPr>
            <a:xfrm>
              <a:off x="396720" y="963720"/>
              <a:ext cx="7864560" cy="4890600"/>
              <a:chOff x="396720" y="963720"/>
              <a:chExt cx="7864560" cy="4890600"/>
            </a:xfrm>
          </p:grpSpPr>
          <p:sp>
            <p:nvSpPr>
              <p:cNvPr id="429" name=""/>
              <p:cNvSpPr/>
              <p:nvPr/>
            </p:nvSpPr>
            <p:spPr>
              <a:xfrm>
                <a:off x="396720" y="3109680"/>
                <a:ext cx="503280" cy="537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34880" y="1004760"/>
                <a:ext cx="503280" cy="537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236680" y="3109680"/>
                <a:ext cx="503280" cy="537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081320" y="5316480"/>
                <a:ext cx="503280" cy="537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087440" y="3106440"/>
                <a:ext cx="503280" cy="537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916240" y="3111480"/>
                <a:ext cx="503280" cy="537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758000" y="3111480"/>
                <a:ext cx="503280" cy="537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910120" y="1008000"/>
                <a:ext cx="503280" cy="537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33" name=""/>
              <p:cNvCxnSpPr>
                <a:stCxn id="429" idx="7"/>
                <a:endCxn id="421" idx="3"/>
              </p:cNvCxnSpPr>
              <p:nvPr/>
            </p:nvCxnSpPr>
            <p:spPr>
              <a:xfrm flipV="1">
                <a:off x="826920" y="1462680"/>
                <a:ext cx="1481760" cy="17262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434" name=""/>
              <p:cNvCxnSpPr>
                <a:stCxn id="425" idx="6"/>
                <a:endCxn id="431" idx="3"/>
              </p:cNvCxnSpPr>
              <p:nvPr/>
            </p:nvCxnSpPr>
            <p:spPr>
              <a:xfrm flipV="1">
                <a:off x="4584600" y="3569400"/>
                <a:ext cx="3247200" cy="20163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435" name=""/>
              <p:cNvCxnSpPr>
                <a:stCxn id="421" idx="6"/>
                <a:endCxn id="432" idx="2"/>
              </p:cNvCxnSpPr>
              <p:nvPr/>
            </p:nvCxnSpPr>
            <p:spPr>
              <a:xfrm>
                <a:off x="2737800" y="1274400"/>
                <a:ext cx="3172680" cy="32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436" name=""/>
              <p:cNvCxnSpPr>
                <a:stCxn id="432" idx="5"/>
                <a:endCxn id="431" idx="1"/>
              </p:cNvCxnSpPr>
              <p:nvPr/>
            </p:nvCxnSpPr>
            <p:spPr>
              <a:xfrm>
                <a:off x="6339960" y="1466640"/>
                <a:ext cx="1491480" cy="17244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sp>
            <p:nvSpPr>
              <p:cNvPr id="437" name=""/>
              <p:cNvSpPr/>
              <p:nvPr/>
            </p:nvSpPr>
            <p:spPr>
              <a:xfrm>
                <a:off x="1266480" y="29923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076200" y="29923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978080" y="29923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770520" y="299088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234800" y="207648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404880" y="207648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43" name=""/>
              <p:cNvCxnSpPr>
                <a:stCxn id="429" idx="5"/>
                <a:endCxn id="425" idx="2"/>
              </p:cNvCxnSpPr>
              <p:nvPr/>
            </p:nvCxnSpPr>
            <p:spPr>
              <a:xfrm>
                <a:off x="826920" y="3568320"/>
                <a:ext cx="3255120" cy="2017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sp>
            <p:nvSpPr>
              <p:cNvPr id="444" name=""/>
              <p:cNvSpPr/>
              <p:nvPr/>
            </p:nvSpPr>
            <p:spPr>
              <a:xfrm>
                <a:off x="4341600" y="9637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916320" y="18698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286320" y="445608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466800" y="42703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242800" y="45291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41600" y="42717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471400" y="207648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51" name=""/>
              <p:cNvCxnSpPr>
                <a:stCxn id="429" idx="6"/>
                <a:endCxn id="424" idx="2"/>
              </p:cNvCxnSpPr>
              <p:nvPr/>
            </p:nvCxnSpPr>
            <p:spPr>
              <a:xfrm>
                <a:off x="899640" y="3379320"/>
                <a:ext cx="133740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452" name=""/>
              <p:cNvCxnSpPr>
                <a:stCxn id="424" idx="6"/>
                <a:endCxn id="422" idx="2"/>
              </p:cNvCxnSpPr>
              <p:nvPr/>
            </p:nvCxnSpPr>
            <p:spPr>
              <a:xfrm flipV="1">
                <a:off x="2739600" y="3376080"/>
                <a:ext cx="1348200" cy="36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453" name=""/>
              <p:cNvCxnSpPr>
                <a:stCxn id="422" idx="6"/>
                <a:endCxn id="430" idx="2"/>
              </p:cNvCxnSpPr>
              <p:nvPr/>
            </p:nvCxnSpPr>
            <p:spPr>
              <a:xfrm>
                <a:off x="4590720" y="3376440"/>
                <a:ext cx="1326240" cy="50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454" name=""/>
              <p:cNvCxnSpPr>
                <a:stCxn id="430" idx="6"/>
                <a:endCxn id="431" idx="2"/>
              </p:cNvCxnSpPr>
              <p:nvPr/>
            </p:nvCxnSpPr>
            <p:spPr>
              <a:xfrm>
                <a:off x="6419520" y="3380760"/>
                <a:ext cx="133920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</p:grpSp>
      </p:grpSp>
      <p:cxnSp>
        <p:nvCxnSpPr>
          <p:cNvPr id="455" name=""/>
          <p:cNvCxnSpPr>
            <a:stCxn id="429" idx="6"/>
            <a:endCxn id="424" idx="2"/>
          </p:cNvCxnSpPr>
          <p:nvPr/>
        </p:nvCxnSpPr>
        <p:spPr>
          <a:xfrm>
            <a:off x="899640" y="3379320"/>
            <a:ext cx="1337400" cy="1080"/>
          </a:xfrm>
          <a:prstGeom prst="straightConnector1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56" name=""/>
          <p:cNvCxnSpPr>
            <a:stCxn id="424" idx="6"/>
            <a:endCxn id="422" idx="2"/>
          </p:cNvCxnSpPr>
          <p:nvPr/>
        </p:nvCxnSpPr>
        <p:spPr>
          <a:xfrm flipV="1">
            <a:off x="2739960" y="3375720"/>
            <a:ext cx="1348560" cy="3960"/>
          </a:xfrm>
          <a:prstGeom prst="straightConnector1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57" name=""/>
          <p:cNvCxnSpPr>
            <a:stCxn id="430" idx="6"/>
            <a:endCxn id="431" idx="2"/>
          </p:cNvCxnSpPr>
          <p:nvPr/>
        </p:nvCxnSpPr>
        <p:spPr>
          <a:xfrm>
            <a:off x="6419520" y="3381120"/>
            <a:ext cx="1338840" cy="1080"/>
          </a:xfrm>
          <a:prstGeom prst="straightConnector1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58" name=""/>
          <p:cNvSpPr/>
          <p:nvPr/>
        </p:nvSpPr>
        <p:spPr>
          <a:xfrm>
            <a:off x="168120" y="5396040"/>
            <a:ext cx="2673360" cy="40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bdb00"/>
              </a:gs>
              <a:gs pos="100000">
                <a:srgbClr val="ffff00"/>
              </a:gs>
            </a:gsLst>
            <a:lin ang="13500000"/>
          </a:gra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ExtraCost = 100 &gt;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/>
          <p:nvPr/>
        </p:nvCxnSpPr>
        <p:spPr>
          <a:xfrm>
            <a:off x="5275080" y="5622480"/>
            <a:ext cx="803880" cy="2520"/>
          </a:xfrm>
          <a:prstGeom prst="straightConnector1">
            <a:avLst/>
          </a:prstGeom>
          <a:ln w="41400">
            <a:solidFill>
              <a:srgbClr val="0000ff"/>
            </a:solidFill>
            <a:miter/>
          </a:ln>
        </p:spPr>
      </p:cxnSp>
      <p:sp>
        <p:nvSpPr>
          <p:cNvPr id="460" name=""/>
          <p:cNvSpPr/>
          <p:nvPr/>
        </p:nvSpPr>
        <p:spPr>
          <a:xfrm>
            <a:off x="6251400" y="5408640"/>
            <a:ext cx="278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Arial"/>
              </a:rPr>
              <a:t>Primary path       cost =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251400" y="5761080"/>
            <a:ext cx="289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Arial"/>
              </a:rPr>
              <a:t>Secondary path </a:t>
            </a:r>
            <a:r>
              <a:rPr b="0" lang="it-IT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66"/>
                </a:solidFill>
                <a:latin typeface="Arial"/>
              </a:rPr>
              <a:t> cost =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2" name=""/>
          <p:cNvCxnSpPr>
            <a:stCxn id="429" idx="7"/>
            <a:endCxn id="421" idx="3"/>
          </p:cNvCxnSpPr>
          <p:nvPr/>
        </p:nvCxnSpPr>
        <p:spPr>
          <a:xfrm flipV="1">
            <a:off x="826560" y="1463040"/>
            <a:ext cx="1482120" cy="172620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21" idx="6"/>
            <a:endCxn id="432" idx="2"/>
          </p:cNvCxnSpPr>
          <p:nvPr/>
        </p:nvCxnSpPr>
        <p:spPr>
          <a:xfrm>
            <a:off x="2738520" y="1274400"/>
            <a:ext cx="3172320" cy="396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32" idx="5"/>
          </p:cNvCxnSpPr>
          <p:nvPr/>
        </p:nvCxnSpPr>
        <p:spPr>
          <a:xfrm>
            <a:off x="6339960" y="1466640"/>
            <a:ext cx="1491480" cy="172476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65" name=""/>
          <p:cNvCxnSpPr/>
          <p:nvPr/>
        </p:nvCxnSpPr>
        <p:spPr>
          <a:xfrm>
            <a:off x="5275080" y="5908680"/>
            <a:ext cx="803880" cy="2160"/>
          </a:xfrm>
          <a:prstGeom prst="straightConnector1">
            <a:avLst/>
          </a:prstGeom>
          <a:ln w="41400">
            <a:solidFill>
              <a:srgbClr val="ff0000"/>
            </a:solidFill>
            <a:miter/>
          </a:ln>
        </p:spPr>
      </p:cxnSp>
      <p:cxnSp>
        <p:nvCxnSpPr>
          <p:cNvPr id="466" name=""/>
          <p:cNvCxnSpPr>
            <a:stCxn id="422" idx="6"/>
          </p:cNvCxnSpPr>
          <p:nvPr/>
        </p:nvCxnSpPr>
        <p:spPr>
          <a:xfrm>
            <a:off x="4590720" y="3376080"/>
            <a:ext cx="1338840" cy="1080"/>
          </a:xfrm>
          <a:prstGeom prst="straightConnector1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67" name=""/>
          <p:cNvGrpSpPr/>
          <p:nvPr/>
        </p:nvGrpSpPr>
        <p:grpSpPr>
          <a:xfrm>
            <a:off x="890280" y="1463400"/>
            <a:ext cx="6872760" cy="3932640"/>
            <a:chOff x="890280" y="1463400"/>
            <a:chExt cx="6872760" cy="3932640"/>
          </a:xfrm>
        </p:grpSpPr>
        <p:grpSp>
          <p:nvGrpSpPr>
            <p:cNvPr id="468" name=""/>
            <p:cNvGrpSpPr/>
            <p:nvPr/>
          </p:nvGrpSpPr>
          <p:grpSpPr>
            <a:xfrm>
              <a:off x="1233360" y="1463400"/>
              <a:ext cx="6067440" cy="3932640"/>
              <a:chOff x="1233360" y="1463400"/>
              <a:chExt cx="6067440" cy="3932640"/>
            </a:xfrm>
          </p:grpSpPr>
          <p:grpSp>
            <p:nvGrpSpPr>
              <p:cNvPr id="469" name=""/>
              <p:cNvGrpSpPr/>
              <p:nvPr/>
            </p:nvGrpSpPr>
            <p:grpSpPr>
              <a:xfrm>
                <a:off x="1233360" y="2016360"/>
                <a:ext cx="6067440" cy="2610000"/>
                <a:chOff x="1233360" y="2016360"/>
                <a:chExt cx="6067440" cy="261000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3551400" y="4216680"/>
                  <a:ext cx="52380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0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4415040" y="4258080"/>
                  <a:ext cx="52380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0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2563920" y="2109960"/>
                  <a:ext cx="52380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0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4929120" y="2943360"/>
                  <a:ext cx="52380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0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6777000" y="2943360"/>
                  <a:ext cx="52380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0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3081240" y="2943360"/>
                  <a:ext cx="52380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0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1233360" y="2943360"/>
                  <a:ext cx="52380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0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3495600" y="2016360"/>
                  <a:ext cx="52380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0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2486880" y="1463400"/>
                <a:ext cx="1853640" cy="3932640"/>
                <a:chOff x="2486880" y="1463400"/>
                <a:chExt cx="1853640" cy="3932640"/>
              </a:xfrm>
            </p:grpSpPr>
            <p:cxnSp>
              <p:nvCxnSpPr>
                <p:cNvPr id="479" name=""/>
                <p:cNvCxnSpPr>
                  <a:stCxn id="421" idx="5"/>
                  <a:endCxn id="422" idx="1"/>
                </p:cNvCxnSpPr>
                <p:nvPr/>
              </p:nvCxnSpPr>
              <p:spPr>
                <a:xfrm>
                  <a:off x="2665440" y="1463400"/>
                  <a:ext cx="1496160" cy="1723320"/>
                </a:xfrm>
                <a:prstGeom prst="straightConnector1">
                  <a:avLst/>
                </a:prstGeom>
                <a:ln w="4428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480" name=""/>
                <p:cNvCxnSpPr>
                  <a:stCxn id="424" idx="0"/>
                  <a:endCxn id="421" idx="4"/>
                </p:cNvCxnSpPr>
                <p:nvPr/>
              </p:nvCxnSpPr>
              <p:spPr>
                <a:xfrm flipH="1" flipV="1">
                  <a:off x="2486880" y="1542960"/>
                  <a:ext cx="2520" cy="1567440"/>
                </a:xfrm>
                <a:prstGeom prst="straightConnector1">
                  <a:avLst/>
                </a:prstGeom>
                <a:ln w="4428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481" name=""/>
                <p:cNvCxnSpPr>
                  <a:stCxn id="424" idx="5"/>
                  <a:endCxn id="425" idx="1"/>
                </p:cNvCxnSpPr>
                <p:nvPr/>
              </p:nvCxnSpPr>
              <p:spPr>
                <a:xfrm>
                  <a:off x="2667240" y="3568680"/>
                  <a:ext cx="1488240" cy="1827720"/>
                </a:xfrm>
                <a:prstGeom prst="straightConnector1">
                  <a:avLst/>
                </a:prstGeom>
                <a:ln w="4428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482" name=""/>
                <p:cNvCxnSpPr>
                  <a:stCxn id="422" idx="4"/>
                  <a:endCxn id="425" idx="0"/>
                </p:cNvCxnSpPr>
                <p:nvPr/>
              </p:nvCxnSpPr>
              <p:spPr>
                <a:xfrm flipH="1">
                  <a:off x="4333680" y="3645000"/>
                  <a:ext cx="7200" cy="1672560"/>
                </a:xfrm>
                <a:prstGeom prst="straightConnector1">
                  <a:avLst/>
                </a:prstGeom>
                <a:ln w="4428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483" name=""/>
                <p:cNvCxnSpPr>
                  <a:stCxn id="421" idx="5"/>
                  <a:endCxn id="422" idx="1"/>
                </p:cNvCxnSpPr>
                <p:nvPr/>
              </p:nvCxnSpPr>
              <p:spPr>
                <a:xfrm>
                  <a:off x="2665440" y="1463400"/>
                  <a:ext cx="1496160" cy="1723320"/>
                </a:xfrm>
                <a:prstGeom prst="straightConnector1">
                  <a:avLst/>
                </a:prstGeom>
                <a:ln w="44280">
                  <a:solidFill>
                    <a:srgbClr val="000000"/>
                  </a:solidFill>
                  <a:prstDash val="dash"/>
                  <a:miter/>
                </a:ln>
              </p:spPr>
            </p:cxnSp>
            <p:cxnSp>
              <p:nvCxnSpPr>
                <p:cNvPr id="484" name=""/>
                <p:cNvCxnSpPr>
                  <a:stCxn id="424" idx="0"/>
                  <a:endCxn id="421" idx="4"/>
                </p:cNvCxnSpPr>
                <p:nvPr/>
              </p:nvCxnSpPr>
              <p:spPr>
                <a:xfrm flipH="1" flipV="1">
                  <a:off x="2486880" y="1542960"/>
                  <a:ext cx="2520" cy="1567440"/>
                </a:xfrm>
                <a:prstGeom prst="straightConnector1">
                  <a:avLst/>
                </a:prstGeom>
                <a:ln w="44280">
                  <a:solidFill>
                    <a:srgbClr val="000000"/>
                  </a:solidFill>
                  <a:prstDash val="dash"/>
                  <a:miter/>
                </a:ln>
              </p:spPr>
            </p:cxnSp>
            <p:cxnSp>
              <p:nvCxnSpPr>
                <p:cNvPr id="485" name=""/>
                <p:cNvCxnSpPr>
                  <a:stCxn id="424" idx="5"/>
                  <a:endCxn id="425" idx="1"/>
                </p:cNvCxnSpPr>
                <p:nvPr/>
              </p:nvCxnSpPr>
              <p:spPr>
                <a:xfrm>
                  <a:off x="2667240" y="3568680"/>
                  <a:ext cx="1488240" cy="1827720"/>
                </a:xfrm>
                <a:prstGeom prst="straightConnector1">
                  <a:avLst/>
                </a:prstGeom>
                <a:ln w="44280">
                  <a:solidFill>
                    <a:srgbClr val="000000"/>
                  </a:solidFill>
                  <a:prstDash val="dash"/>
                  <a:miter/>
                </a:ln>
              </p:spPr>
            </p:cxnSp>
            <p:cxnSp>
              <p:nvCxnSpPr>
                <p:cNvPr id="486" name=""/>
                <p:cNvCxnSpPr>
                  <a:stCxn id="422" idx="4"/>
                  <a:endCxn id="425" idx="0"/>
                </p:cNvCxnSpPr>
                <p:nvPr/>
              </p:nvCxnSpPr>
              <p:spPr>
                <a:xfrm flipH="1">
                  <a:off x="4333680" y="3645000"/>
                  <a:ext cx="7200" cy="1672560"/>
                </a:xfrm>
                <a:prstGeom prst="straightConnector1">
                  <a:avLst/>
                </a:prstGeom>
                <a:ln w="44280">
                  <a:solidFill>
                    <a:srgbClr val="000000"/>
                  </a:solidFill>
                  <a:prstDash val="dash"/>
                  <a:miter/>
                </a:ln>
              </p:spPr>
            </p:cxnSp>
          </p:grpSp>
        </p:grpSp>
        <p:grpSp>
          <p:nvGrpSpPr>
            <p:cNvPr id="487" name=""/>
            <p:cNvGrpSpPr/>
            <p:nvPr/>
          </p:nvGrpSpPr>
          <p:grpSpPr>
            <a:xfrm>
              <a:off x="909360" y="3371400"/>
              <a:ext cx="6853680" cy="15480"/>
              <a:chOff x="909360" y="3371400"/>
              <a:chExt cx="6853680" cy="15480"/>
            </a:xfrm>
          </p:grpSpPr>
          <p:cxnSp>
            <p:nvCxnSpPr>
              <p:cNvPr id="488" name=""/>
              <p:cNvCxnSpPr/>
              <p:nvPr/>
            </p:nvCxnSpPr>
            <p:spPr>
              <a:xfrm>
                <a:off x="909360" y="3384360"/>
                <a:ext cx="1337400" cy="1080"/>
              </a:xfrm>
              <a:prstGeom prst="straightConnector1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489" name=""/>
              <p:cNvCxnSpPr/>
              <p:nvPr/>
            </p:nvCxnSpPr>
            <p:spPr>
              <a:xfrm flipV="1">
                <a:off x="2745000" y="3371400"/>
                <a:ext cx="1348560" cy="3960"/>
              </a:xfrm>
              <a:prstGeom prst="straightConnector1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490" name=""/>
              <p:cNvCxnSpPr/>
              <p:nvPr/>
            </p:nvCxnSpPr>
            <p:spPr>
              <a:xfrm>
                <a:off x="6424560" y="3386160"/>
                <a:ext cx="1338840" cy="1080"/>
              </a:xfrm>
              <a:prstGeom prst="straightConnector1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491" name=""/>
              <p:cNvCxnSpPr/>
              <p:nvPr/>
            </p:nvCxnSpPr>
            <p:spPr>
              <a:xfrm>
                <a:off x="4586400" y="3371760"/>
                <a:ext cx="1339200" cy="1080"/>
              </a:xfrm>
              <a:prstGeom prst="straightConnector1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grpSp>
          <p:nvGrpSpPr>
            <p:cNvPr id="492" name=""/>
            <p:cNvGrpSpPr/>
            <p:nvPr/>
          </p:nvGrpSpPr>
          <p:grpSpPr>
            <a:xfrm>
              <a:off x="890280" y="3376440"/>
              <a:ext cx="6858360" cy="5400"/>
              <a:chOff x="890280" y="3376440"/>
              <a:chExt cx="6858360" cy="5400"/>
            </a:xfrm>
          </p:grpSpPr>
          <p:cxnSp>
            <p:nvCxnSpPr>
              <p:cNvPr id="493" name=""/>
              <p:cNvCxnSpPr/>
              <p:nvPr/>
            </p:nvCxnSpPr>
            <p:spPr>
              <a:xfrm>
                <a:off x="890280" y="3379320"/>
                <a:ext cx="1337400" cy="1080"/>
              </a:xfrm>
              <a:prstGeom prst="straightConnector1">
                <a:avLst/>
              </a:prstGeom>
              <a:ln w="41400">
                <a:solidFill>
                  <a:srgbClr val="0000ff"/>
                </a:solidFill>
                <a:prstDash val="dash"/>
                <a:miter/>
                <a:tailEnd len="med" type="triangle" w="med"/>
              </a:ln>
            </p:spPr>
          </p:cxnSp>
          <p:cxnSp>
            <p:nvCxnSpPr>
              <p:cNvPr id="494" name=""/>
              <p:cNvCxnSpPr/>
              <p:nvPr/>
            </p:nvCxnSpPr>
            <p:spPr>
              <a:xfrm flipV="1">
                <a:off x="2730600" y="3376440"/>
                <a:ext cx="1348560" cy="3600"/>
              </a:xfrm>
              <a:prstGeom prst="straightConnector1">
                <a:avLst/>
              </a:prstGeom>
              <a:ln w="41400">
                <a:solidFill>
                  <a:srgbClr val="0000ff"/>
                </a:solidFill>
                <a:prstDash val="dash"/>
                <a:miter/>
                <a:tailEnd len="med" type="triangle" w="med"/>
              </a:ln>
            </p:spPr>
          </p:cxnSp>
          <p:cxnSp>
            <p:nvCxnSpPr>
              <p:cNvPr id="495" name=""/>
              <p:cNvCxnSpPr/>
              <p:nvPr/>
            </p:nvCxnSpPr>
            <p:spPr>
              <a:xfrm>
                <a:off x="6410160" y="3381120"/>
                <a:ext cx="1338840" cy="1080"/>
              </a:xfrm>
              <a:prstGeom prst="straightConnector1">
                <a:avLst/>
              </a:prstGeom>
              <a:ln w="41400">
                <a:solidFill>
                  <a:srgbClr val="0000ff"/>
                </a:solidFill>
                <a:prstDash val="dash"/>
                <a:miter/>
                <a:tailEnd len="med" type="triangle" w="med"/>
              </a:ln>
            </p:spPr>
          </p:cxnSp>
          <p:cxnSp>
            <p:nvCxnSpPr>
              <p:cNvPr id="496" name=""/>
              <p:cNvCxnSpPr/>
              <p:nvPr/>
            </p:nvCxnSpPr>
            <p:spPr>
              <a:xfrm>
                <a:off x="4581360" y="3376440"/>
                <a:ext cx="1338840" cy="1080"/>
              </a:xfrm>
              <a:prstGeom prst="straightConnector1">
                <a:avLst/>
              </a:prstGeom>
              <a:ln w="41400">
                <a:solidFill>
                  <a:srgbClr val="0000ff"/>
                </a:solidFill>
                <a:prstDash val="dash"/>
                <a:miter/>
                <a:tailEnd len="med" type="triangle" w="med"/>
              </a:ln>
            </p:spPr>
          </p:cxnSp>
        </p:grpSp>
      </p:grp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01880" y="127080"/>
            <a:ext cx="795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</a:rPr>
              <a:t>Example of TSA algorith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001880" y="127080"/>
            <a:ext cx="795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</a:rPr>
              <a:t>Bhandari’s algorith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133720" y="817920"/>
            <a:ext cx="6418080" cy="307080"/>
          </a:xfrm>
          <a:prstGeom prst="flowChartProcess">
            <a:avLst/>
          </a:prstGeom>
          <a:gradFill rotWithShape="0">
            <a:gsLst>
              <a:gs pos="0">
                <a:srgbClr val="a8d3fe"/>
              </a:gs>
              <a:gs pos="100000">
                <a:srgbClr val="99ccff"/>
              </a:gs>
            </a:gsLst>
            <a:lin ang="13500000"/>
          </a:gra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un modified Dijkstra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etween source and destination vert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28600" y="1763640"/>
            <a:ext cx="1674720" cy="520560"/>
          </a:xfrm>
          <a:prstGeom prst="flowChartInputOutput">
            <a:avLst/>
          </a:prstGeom>
          <a:gradFill rotWithShape="0">
            <a:gsLst>
              <a:gs pos="0">
                <a:srgbClr val="dbdb00"/>
              </a:gs>
              <a:gs pos="100000">
                <a:srgbClr val="ffff00"/>
              </a:gs>
            </a:gsLst>
            <a:lin ang="13500000"/>
          </a:gra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etwork Gra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133720" y="2336760"/>
            <a:ext cx="6418080" cy="520200"/>
          </a:xfrm>
          <a:prstGeom prst="flowChartProcess">
            <a:avLst/>
          </a:prstGeom>
          <a:gradFill rotWithShape="0">
            <a:gsLst>
              <a:gs pos="0">
                <a:srgbClr val="a8d3fe"/>
              </a:gs>
              <a:gs pos="100000">
                <a:srgbClr val="99ccff"/>
              </a:gs>
            </a:gsLst>
            <a:lin ang="13500000"/>
          </a:gra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plit incident edge in the two component arcs, terminating one on the first sub-vertex and the other on the latter one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499" idx="2"/>
            <a:endCxn id="503" idx="0"/>
          </p:cNvCxnSpPr>
          <p:nvPr/>
        </p:nvCxnSpPr>
        <p:spPr>
          <a:xfrm>
            <a:off x="5343120" y="1149120"/>
            <a:ext cx="1080" cy="17532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504" name=""/>
          <p:cNvCxnSpPr>
            <a:stCxn id="503" idx="2"/>
            <a:endCxn id="501" idx="0"/>
          </p:cNvCxnSpPr>
          <p:nvPr/>
        </p:nvCxnSpPr>
        <p:spPr>
          <a:xfrm>
            <a:off x="5343120" y="2136600"/>
            <a:ext cx="1080" cy="17712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503" name=""/>
          <p:cNvSpPr/>
          <p:nvPr/>
        </p:nvSpPr>
        <p:spPr>
          <a:xfrm>
            <a:off x="2133720" y="1348560"/>
            <a:ext cx="6418080" cy="763560"/>
          </a:xfrm>
          <a:prstGeom prst="flowChartProcess">
            <a:avLst/>
          </a:prstGeom>
          <a:gradFill rotWithShape="0">
            <a:gsLst>
              <a:gs pos="0">
                <a:srgbClr val="a8d3fe"/>
              </a:gs>
              <a:gs pos="100000">
                <a:srgbClr val="99ccff"/>
              </a:gs>
            </a:gsLst>
            <a:lin ang="13500000"/>
          </a:gra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plit each vertex on the shortest path in two sub-vertices connected by an arc of length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directed towards sourc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and by an arc of length 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directed towards destinati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133720" y="3081960"/>
            <a:ext cx="6418080" cy="763560"/>
          </a:xfrm>
          <a:prstGeom prst="flowChartProcess">
            <a:avLst/>
          </a:prstGeom>
          <a:gradFill rotWithShape="0">
            <a:gsLst>
              <a:gs pos="0">
                <a:srgbClr val="a8d3fe"/>
              </a:gs>
              <a:gs pos="100000">
                <a:srgbClr val="99ccff"/>
              </a:gs>
            </a:gsLst>
            <a:lin ang="13500000"/>
          </a:gra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place edges of the shortest path with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wo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ingle arc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, the first on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directed towards source vertex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with the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egative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s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econd one directed towards destination vertex adding an extra cost 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6" name=""/>
          <p:cNvCxnSpPr>
            <a:stCxn id="501" idx="2"/>
            <a:endCxn id="505" idx="0"/>
          </p:cNvCxnSpPr>
          <p:nvPr/>
        </p:nvCxnSpPr>
        <p:spPr>
          <a:xfrm>
            <a:off x="5343120" y="2881080"/>
            <a:ext cx="1080" cy="17676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507" name=""/>
          <p:cNvCxnSpPr>
            <a:stCxn id="505" idx="2"/>
            <a:endCxn id="508" idx="0"/>
          </p:cNvCxnSpPr>
          <p:nvPr/>
        </p:nvCxnSpPr>
        <p:spPr>
          <a:xfrm>
            <a:off x="5343120" y="3870000"/>
            <a:ext cx="2520" cy="17532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509" name=""/>
          <p:cNvCxnSpPr>
            <a:stCxn id="500" idx="0"/>
            <a:endCxn id="499" idx="1"/>
          </p:cNvCxnSpPr>
          <p:nvPr/>
        </p:nvCxnSpPr>
        <p:spPr>
          <a:xfrm flipH="1" flipV="1" rot="5400000">
            <a:off x="1292400" y="911520"/>
            <a:ext cx="768960" cy="888120"/>
          </a:xfrm>
          <a:prstGeom prst="bentConnector2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510" name=""/>
          <p:cNvSpPr/>
          <p:nvPr/>
        </p:nvSpPr>
        <p:spPr>
          <a:xfrm>
            <a:off x="3051000" y="4616640"/>
            <a:ext cx="4584960" cy="520200"/>
          </a:xfrm>
          <a:prstGeom prst="flowChartProcess">
            <a:avLst/>
          </a:prstGeom>
          <a:gradFill rotWithShape="0">
            <a:gsLst>
              <a:gs pos="0">
                <a:srgbClr val="a8d3fe"/>
              </a:gs>
              <a:gs pos="100000">
                <a:srgbClr val="99ccff"/>
              </a:gs>
            </a:gsLst>
            <a:lin ang="13500000"/>
          </a:gra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alesce sub-vertices and remove zero length arc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rase interlaced edg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659480" y="5356080"/>
            <a:ext cx="1368360" cy="1098720"/>
          </a:xfrm>
          <a:prstGeom prst="flowChartMultidocument">
            <a:avLst/>
          </a:prstGeom>
          <a:gradFill rotWithShape="0">
            <a:gsLst>
              <a:gs pos="0">
                <a:srgbClr val="a8d3fe"/>
              </a:gs>
              <a:gs pos="100000">
                <a:srgbClr val="99ccff"/>
              </a:gs>
            </a:gsLst>
            <a:lin ang="13500000"/>
          </a:gra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 vertex disjoint pa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08" idx="2"/>
            <a:endCxn id="510" idx="0"/>
          </p:cNvCxnSpPr>
          <p:nvPr/>
        </p:nvCxnSpPr>
        <p:spPr>
          <a:xfrm flipH="1">
            <a:off x="5342760" y="4400280"/>
            <a:ext cx="2520" cy="19260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513" name=""/>
          <p:cNvCxnSpPr>
            <a:stCxn id="510" idx="2"/>
            <a:endCxn id="511" idx="0"/>
          </p:cNvCxnSpPr>
          <p:nvPr/>
        </p:nvCxnSpPr>
        <p:spPr>
          <a:xfrm>
            <a:off x="5343120" y="5160960"/>
            <a:ext cx="1080" cy="19296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508" name=""/>
          <p:cNvSpPr/>
          <p:nvPr/>
        </p:nvSpPr>
        <p:spPr>
          <a:xfrm>
            <a:off x="2135160" y="4069080"/>
            <a:ext cx="6418440" cy="307080"/>
          </a:xfrm>
          <a:prstGeom prst="flowChartProcess">
            <a:avLst/>
          </a:prstGeom>
          <a:gradFill rotWithShape="0">
            <a:gsLst>
              <a:gs pos="0">
                <a:srgbClr val="a8d3fe"/>
              </a:gs>
              <a:gs pos="100000">
                <a:srgbClr val="99ccff"/>
              </a:gs>
            </a:gsLst>
            <a:lin ang="13500000"/>
          </a:gra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un modified Dijkstra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etween source and destination vert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01880" y="127080"/>
            <a:ext cx="795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</a:rPr>
              <a:t>Example of Bhandari’s algorith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644400" y="998640"/>
            <a:ext cx="7864560" cy="4890600"/>
            <a:chOff x="644400" y="998640"/>
            <a:chExt cx="7864560" cy="4890600"/>
          </a:xfrm>
        </p:grpSpPr>
        <p:sp>
          <p:nvSpPr>
            <p:cNvPr id="516" name=""/>
            <p:cNvSpPr/>
            <p:nvPr/>
          </p:nvSpPr>
          <p:spPr>
            <a:xfrm>
              <a:off x="644400" y="3144600"/>
              <a:ext cx="503280" cy="5378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482920" y="1039680"/>
              <a:ext cx="503280" cy="5378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484360" y="3144600"/>
              <a:ext cx="503280" cy="5378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329000" y="5351400"/>
              <a:ext cx="503280" cy="5378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335480" y="3141360"/>
              <a:ext cx="503280" cy="5378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64280" y="3146400"/>
              <a:ext cx="503280" cy="537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005680" y="3146400"/>
              <a:ext cx="503280" cy="537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157800" y="1042920"/>
              <a:ext cx="503280" cy="5378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4" name=""/>
            <p:cNvCxnSpPr>
              <a:stCxn id="516" idx="7"/>
              <a:endCxn id="517" idx="3"/>
            </p:cNvCxnSpPr>
            <p:nvPr/>
          </p:nvCxnSpPr>
          <p:spPr>
            <a:xfrm flipV="1">
              <a:off x="1074240" y="1497600"/>
              <a:ext cx="1482120" cy="1726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525" name=""/>
            <p:cNvCxnSpPr>
              <a:stCxn id="517" idx="5"/>
              <a:endCxn id="520" idx="1"/>
            </p:cNvCxnSpPr>
            <p:nvPr/>
          </p:nvCxnSpPr>
          <p:spPr>
            <a:xfrm>
              <a:off x="2913120" y="1498320"/>
              <a:ext cx="1496160" cy="1722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526" name=""/>
            <p:cNvCxnSpPr>
              <a:stCxn id="518" idx="5"/>
              <a:endCxn id="519" idx="1"/>
            </p:cNvCxnSpPr>
            <p:nvPr/>
          </p:nvCxnSpPr>
          <p:spPr>
            <a:xfrm>
              <a:off x="2914560" y="3603600"/>
              <a:ext cx="1488240" cy="1827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527" name=""/>
            <p:cNvCxnSpPr>
              <a:stCxn id="519" idx="6"/>
              <a:endCxn id="522" idx="3"/>
            </p:cNvCxnSpPr>
            <p:nvPr/>
          </p:nvCxnSpPr>
          <p:spPr>
            <a:xfrm flipV="1">
              <a:off x="4832280" y="3604320"/>
              <a:ext cx="3247200" cy="2016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528" name=""/>
            <p:cNvCxnSpPr>
              <a:stCxn id="517" idx="6"/>
              <a:endCxn id="523" idx="2"/>
            </p:cNvCxnSpPr>
            <p:nvPr/>
          </p:nvCxnSpPr>
          <p:spPr>
            <a:xfrm>
              <a:off x="2986200" y="1309320"/>
              <a:ext cx="3172320" cy="32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529" name=""/>
            <p:cNvCxnSpPr>
              <a:stCxn id="523" idx="5"/>
              <a:endCxn id="522" idx="1"/>
            </p:cNvCxnSpPr>
            <p:nvPr/>
          </p:nvCxnSpPr>
          <p:spPr>
            <a:xfrm>
              <a:off x="6587640" y="1501560"/>
              <a:ext cx="1491480" cy="1724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530" name=""/>
            <p:cNvSpPr/>
            <p:nvPr/>
          </p:nvSpPr>
          <p:spPr>
            <a:xfrm>
              <a:off x="1514160" y="30272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323880" y="30272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225760" y="30272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018200" y="302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482480" y="2111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652560" y="2111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6" name=""/>
            <p:cNvCxnSpPr>
              <a:stCxn id="516" idx="5"/>
              <a:endCxn id="519" idx="2"/>
            </p:cNvCxnSpPr>
            <p:nvPr/>
          </p:nvCxnSpPr>
          <p:spPr>
            <a:xfrm>
              <a:off x="1074600" y="3603240"/>
              <a:ext cx="3255120" cy="20174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537" name=""/>
            <p:cNvSpPr/>
            <p:nvPr/>
          </p:nvSpPr>
          <p:spPr>
            <a:xfrm>
              <a:off x="4589280" y="9986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164360" y="1904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534000" y="4491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14480" y="43052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490480" y="456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2" name=""/>
            <p:cNvCxnSpPr>
              <a:stCxn id="520" idx="4"/>
              <a:endCxn id="519" idx="0"/>
            </p:cNvCxnSpPr>
            <p:nvPr/>
          </p:nvCxnSpPr>
          <p:spPr>
            <a:xfrm flipH="1">
              <a:off x="4581000" y="3679200"/>
              <a:ext cx="7200" cy="1672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543" name=""/>
            <p:cNvSpPr/>
            <p:nvPr/>
          </p:nvSpPr>
          <p:spPr>
            <a:xfrm>
              <a:off x="4589280" y="4306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4" name=""/>
            <p:cNvCxnSpPr>
              <a:stCxn id="518" idx="0"/>
              <a:endCxn id="517" idx="4"/>
            </p:cNvCxnSpPr>
            <p:nvPr/>
          </p:nvCxnSpPr>
          <p:spPr>
            <a:xfrm flipH="1" flipV="1">
              <a:off x="2734920" y="1577160"/>
              <a:ext cx="2160" cy="1567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545" name=""/>
            <p:cNvSpPr/>
            <p:nvPr/>
          </p:nvSpPr>
          <p:spPr>
            <a:xfrm>
              <a:off x="2719080" y="2111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6" name=""/>
            <p:cNvCxnSpPr>
              <a:stCxn id="516" idx="6"/>
              <a:endCxn id="518" idx="2"/>
            </p:cNvCxnSpPr>
            <p:nvPr/>
          </p:nvCxnSpPr>
          <p:spPr>
            <a:xfrm>
              <a:off x="1147320" y="3414240"/>
              <a:ext cx="13374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547" name=""/>
            <p:cNvCxnSpPr>
              <a:stCxn id="518" idx="6"/>
              <a:endCxn id="520" idx="2"/>
            </p:cNvCxnSpPr>
            <p:nvPr/>
          </p:nvCxnSpPr>
          <p:spPr>
            <a:xfrm flipV="1">
              <a:off x="2987640" y="3411000"/>
              <a:ext cx="1348560" cy="3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548" name=""/>
            <p:cNvCxnSpPr>
              <a:stCxn id="520" idx="6"/>
              <a:endCxn id="521" idx="2"/>
            </p:cNvCxnSpPr>
            <p:nvPr/>
          </p:nvCxnSpPr>
          <p:spPr>
            <a:xfrm>
              <a:off x="4838760" y="3411360"/>
              <a:ext cx="1326240" cy="50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549" name=""/>
            <p:cNvCxnSpPr>
              <a:stCxn id="521" idx="6"/>
              <a:endCxn id="522" idx="2"/>
            </p:cNvCxnSpPr>
            <p:nvPr/>
          </p:nvCxnSpPr>
          <p:spPr>
            <a:xfrm>
              <a:off x="6667200" y="3415680"/>
              <a:ext cx="13388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cxnSp>
        <p:nvCxnSpPr>
          <p:cNvPr id="550" name=""/>
          <p:cNvCxnSpPr>
            <a:stCxn id="516" idx="6"/>
            <a:endCxn id="518" idx="2"/>
          </p:cNvCxnSpPr>
          <p:nvPr/>
        </p:nvCxnSpPr>
        <p:spPr>
          <a:xfrm>
            <a:off x="1147320" y="3414240"/>
            <a:ext cx="1337400" cy="1080"/>
          </a:xfrm>
          <a:prstGeom prst="straightConnector1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51" name=""/>
          <p:cNvCxnSpPr>
            <a:stCxn id="518" idx="6"/>
            <a:endCxn id="520" idx="2"/>
          </p:cNvCxnSpPr>
          <p:nvPr/>
        </p:nvCxnSpPr>
        <p:spPr>
          <a:xfrm flipV="1">
            <a:off x="2987640" y="3410640"/>
            <a:ext cx="1348560" cy="3960"/>
          </a:xfrm>
          <a:prstGeom prst="straightConnector1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52" name=""/>
          <p:cNvCxnSpPr>
            <a:stCxn id="521" idx="6"/>
            <a:endCxn id="522" idx="2"/>
          </p:cNvCxnSpPr>
          <p:nvPr/>
        </p:nvCxnSpPr>
        <p:spPr>
          <a:xfrm>
            <a:off x="6667200" y="3416040"/>
            <a:ext cx="1338840" cy="1080"/>
          </a:xfrm>
          <a:prstGeom prst="straightConnector1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53" name=""/>
          <p:cNvSpPr/>
          <p:nvPr/>
        </p:nvSpPr>
        <p:spPr>
          <a:xfrm>
            <a:off x="776160" y="5196600"/>
            <a:ext cx="1954440" cy="7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bdb00"/>
              </a:gs>
              <a:gs pos="100000">
                <a:srgbClr val="ffff00"/>
              </a:gs>
            </a:gsLst>
            <a:lin ang="13500000"/>
          </a:gra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= 100 &gt; 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= 7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4" name=""/>
          <p:cNvCxnSpPr/>
          <p:nvPr/>
        </p:nvCxnSpPr>
        <p:spPr>
          <a:xfrm flipV="1">
            <a:off x="4838760" y="3420360"/>
            <a:ext cx="1332720" cy="3960"/>
          </a:xfrm>
          <a:prstGeom prst="straightConnector1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555" name=""/>
          <p:cNvGrpSpPr/>
          <p:nvPr/>
        </p:nvGrpSpPr>
        <p:grpSpPr>
          <a:xfrm>
            <a:off x="1158840" y="1501560"/>
            <a:ext cx="6854400" cy="3940560"/>
            <a:chOff x="1158840" y="1501560"/>
            <a:chExt cx="6854400" cy="3940560"/>
          </a:xfrm>
        </p:grpSpPr>
        <p:grpSp>
          <p:nvGrpSpPr>
            <p:cNvPr id="556" name=""/>
            <p:cNvGrpSpPr/>
            <p:nvPr/>
          </p:nvGrpSpPr>
          <p:grpSpPr>
            <a:xfrm>
              <a:off x="1169640" y="1501560"/>
              <a:ext cx="6843600" cy="3940560"/>
              <a:chOff x="1169640" y="1501560"/>
              <a:chExt cx="6843600" cy="3940560"/>
            </a:xfrm>
          </p:grpSpPr>
          <p:grpSp>
            <p:nvGrpSpPr>
              <p:cNvPr id="557" name=""/>
              <p:cNvGrpSpPr/>
              <p:nvPr/>
            </p:nvGrpSpPr>
            <p:grpSpPr>
              <a:xfrm>
                <a:off x="1169640" y="1501560"/>
                <a:ext cx="6843600" cy="3926880"/>
                <a:chOff x="1169640" y="1501560"/>
                <a:chExt cx="6843600" cy="3926880"/>
              </a:xfrm>
            </p:grpSpPr>
            <p:grpSp>
              <p:nvGrpSpPr>
                <p:cNvPr id="558" name=""/>
                <p:cNvGrpSpPr/>
                <p:nvPr/>
              </p:nvGrpSpPr>
              <p:grpSpPr>
                <a:xfrm>
                  <a:off x="1169640" y="1501560"/>
                  <a:ext cx="6843600" cy="3926880"/>
                  <a:chOff x="1169640" y="1501560"/>
                  <a:chExt cx="6843600" cy="3926880"/>
                </a:xfrm>
              </p:grpSpPr>
              <p:sp>
                <p:nvSpPr>
                  <p:cNvPr id="559" name=""/>
                  <p:cNvSpPr/>
                  <p:nvPr/>
                </p:nvSpPr>
                <p:spPr>
                  <a:xfrm>
                    <a:off x="3349440" y="3022920"/>
                    <a:ext cx="193320" cy="376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5279760" y="3064320"/>
                    <a:ext cx="193320" cy="376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2395440" y="3062520"/>
                    <a:ext cx="655200" cy="700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4246200" y="3059280"/>
                    <a:ext cx="655200" cy="700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6075000" y="3064320"/>
                    <a:ext cx="655200" cy="699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564" name=""/>
                  <p:cNvCxnSpPr/>
                  <p:nvPr/>
                </p:nvCxnSpPr>
                <p:spPr>
                  <a:xfrm>
                    <a:off x="2925360" y="1501560"/>
                    <a:ext cx="1514880" cy="1713960"/>
                  </a:xfrm>
                  <a:prstGeom prst="straightConnector1">
                    <a:avLst/>
                  </a:prstGeom>
                  <a:ln w="82440">
                    <a:solidFill>
                      <a:srgbClr val="ffffff"/>
                    </a:solidFill>
                    <a:miter/>
                  </a:ln>
                </p:spPr>
              </p:cxnSp>
              <p:cxnSp>
                <p:nvCxnSpPr>
                  <p:cNvPr id="565" name=""/>
                  <p:cNvCxnSpPr/>
                  <p:nvPr/>
                </p:nvCxnSpPr>
                <p:spPr>
                  <a:xfrm>
                    <a:off x="2888640" y="3600720"/>
                    <a:ext cx="1487880" cy="1828080"/>
                  </a:xfrm>
                  <a:prstGeom prst="straightConnector1">
                    <a:avLst/>
                  </a:prstGeom>
                  <a:ln w="82440">
                    <a:solidFill>
                      <a:srgbClr val="ffffff"/>
                    </a:solidFill>
                    <a:miter/>
                  </a:ln>
                </p:spPr>
              </p:cxnSp>
              <p:sp>
                <p:nvSpPr>
                  <p:cNvPr id="566" name=""/>
                  <p:cNvSpPr/>
                  <p:nvPr/>
                </p:nvSpPr>
                <p:spPr>
                  <a:xfrm>
                    <a:off x="3673080" y="2124360"/>
                    <a:ext cx="193320" cy="376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3740760" y="4318200"/>
                    <a:ext cx="23868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568" name=""/>
                  <p:cNvCxnSpPr/>
                  <p:nvPr/>
                </p:nvCxnSpPr>
                <p:spPr>
                  <a:xfrm flipH="1">
                    <a:off x="4570920" y="3676680"/>
                    <a:ext cx="6840" cy="1672200"/>
                  </a:xfrm>
                  <a:prstGeom prst="straightConnector1">
                    <a:avLst/>
                  </a:prstGeom>
                  <a:ln w="82440">
                    <a:solidFill>
                      <a:srgbClr val="ffffff"/>
                    </a:solidFill>
                    <a:miter/>
                  </a:ln>
                </p:spPr>
              </p:cxnSp>
              <p:sp>
                <p:nvSpPr>
                  <p:cNvPr id="569" name=""/>
                  <p:cNvSpPr/>
                  <p:nvPr/>
                </p:nvSpPr>
                <p:spPr>
                  <a:xfrm>
                    <a:off x="4615560" y="4320000"/>
                    <a:ext cx="23868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570" name=""/>
                  <p:cNvCxnSpPr/>
                  <p:nvPr/>
                </p:nvCxnSpPr>
                <p:spPr>
                  <a:xfrm flipH="1" flipV="1">
                    <a:off x="2724840" y="1590120"/>
                    <a:ext cx="1800" cy="1567800"/>
                  </a:xfrm>
                  <a:prstGeom prst="straightConnector1">
                    <a:avLst/>
                  </a:prstGeom>
                  <a:ln w="82440">
                    <a:solidFill>
                      <a:srgbClr val="ffffff"/>
                    </a:solidFill>
                    <a:miter/>
                  </a:ln>
                </p:spPr>
              </p:cxnSp>
              <p:sp>
                <p:nvSpPr>
                  <p:cNvPr id="571" name=""/>
                  <p:cNvSpPr/>
                  <p:nvPr/>
                </p:nvSpPr>
                <p:spPr>
                  <a:xfrm>
                    <a:off x="2739600" y="2124360"/>
                    <a:ext cx="193320" cy="376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572" name=""/>
                  <p:cNvCxnSpPr/>
                  <p:nvPr/>
                </p:nvCxnSpPr>
                <p:spPr>
                  <a:xfrm>
                    <a:off x="1169640" y="3417840"/>
                    <a:ext cx="1355760" cy="11880"/>
                  </a:xfrm>
                  <a:prstGeom prst="straightConnector1">
                    <a:avLst/>
                  </a:prstGeom>
                  <a:ln w="10152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573" name=""/>
                  <p:cNvCxnSpPr/>
                  <p:nvPr/>
                </p:nvCxnSpPr>
                <p:spPr>
                  <a:xfrm flipV="1">
                    <a:off x="3009240" y="3424320"/>
                    <a:ext cx="1348200" cy="3600"/>
                  </a:xfrm>
                  <a:prstGeom prst="straightConnector1">
                    <a:avLst/>
                  </a:prstGeom>
                  <a:ln w="10152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574" name=""/>
                  <p:cNvCxnSpPr/>
                  <p:nvPr/>
                </p:nvCxnSpPr>
                <p:spPr>
                  <a:xfrm>
                    <a:off x="6670440" y="3419280"/>
                    <a:ext cx="1338480" cy="1080"/>
                  </a:xfrm>
                  <a:prstGeom prst="straightConnector1">
                    <a:avLst/>
                  </a:prstGeom>
                  <a:ln w="63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575" name=""/>
                  <p:cNvCxnSpPr/>
                  <p:nvPr/>
                </p:nvCxnSpPr>
                <p:spPr>
                  <a:xfrm flipV="1">
                    <a:off x="4874760" y="3428640"/>
                    <a:ext cx="1311120" cy="6840"/>
                  </a:xfrm>
                  <a:prstGeom prst="straightConnector1">
                    <a:avLst/>
                  </a:prstGeom>
                  <a:ln w="10152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576" name=""/>
                  <p:cNvSpPr/>
                  <p:nvPr/>
                </p:nvSpPr>
                <p:spPr>
                  <a:xfrm>
                    <a:off x="7099200" y="3026160"/>
                    <a:ext cx="193320" cy="376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1536480" y="3048480"/>
                    <a:ext cx="193320" cy="376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7756200" y="3267360"/>
                    <a:ext cx="257040" cy="212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1863360" y="3170520"/>
                  <a:ext cx="5293800" cy="538200"/>
                  <a:chOff x="1863360" y="3170520"/>
                  <a:chExt cx="5293800" cy="53820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>
                    <a:off x="1863360" y="3170520"/>
                    <a:ext cx="502920" cy="538200"/>
                  </a:xfrm>
                  <a:prstGeom prst="ellipse">
                    <a:avLst/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</a:t>
                    </a:r>
                    <a:r>
                      <a:rPr b="1" lang="en-US" sz="1800" spc="-1" strike="noStrike" baseline="30000">
                        <a:solidFill>
                          <a:srgbClr val="000000"/>
                        </a:solidFill>
                        <a:latin typeface="Times New Roman"/>
                      </a:rPr>
                      <a:t>I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5847840" y="3170520"/>
                    <a:ext cx="502920" cy="538200"/>
                  </a:xfrm>
                  <a:prstGeom prst="ellipse">
                    <a:avLst/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</a:t>
                    </a:r>
                    <a:r>
                      <a:rPr b="1" lang="en-US" sz="1800" spc="-1" strike="noStrike" baseline="30000">
                        <a:solidFill>
                          <a:srgbClr val="000000"/>
                        </a:solidFill>
                        <a:latin typeface="Times New Roman"/>
                      </a:rPr>
                      <a:t>I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6654240" y="3170520"/>
                    <a:ext cx="502920" cy="538200"/>
                  </a:xfrm>
                  <a:prstGeom prst="ellipse">
                    <a:avLst/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</a:t>
                    </a:r>
                    <a:r>
                      <a:rPr b="1" lang="en-US" sz="1800" spc="-1" strike="noStrike" baseline="30000">
                        <a:solidFill>
                          <a:srgbClr val="000000"/>
                        </a:solidFill>
                        <a:latin typeface="Times New Roman"/>
                      </a:rPr>
                      <a:t>II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4681080" y="3170520"/>
                    <a:ext cx="502560" cy="538200"/>
                  </a:xfrm>
                  <a:prstGeom prst="ellipse">
                    <a:avLst/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</a:t>
                    </a:r>
                    <a:r>
                      <a:rPr b="1" lang="en-US" sz="1800" spc="-1" strike="noStrike" baseline="30000">
                        <a:solidFill>
                          <a:srgbClr val="000000"/>
                        </a:solidFill>
                        <a:latin typeface="Times New Roman"/>
                      </a:rPr>
                      <a:t>II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3855240" y="3170520"/>
                    <a:ext cx="502920" cy="538200"/>
                  </a:xfrm>
                  <a:prstGeom prst="ellipse">
                    <a:avLst/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</a:t>
                    </a:r>
                    <a:r>
                      <a:rPr b="1" lang="en-US" sz="1800" spc="-1" strike="noStrike" baseline="30000">
                        <a:solidFill>
                          <a:srgbClr val="000000"/>
                        </a:solidFill>
                        <a:latin typeface="Times New Roman"/>
                      </a:rPr>
                      <a:t>I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2709360" y="3170520"/>
                    <a:ext cx="502920" cy="538200"/>
                  </a:xfrm>
                  <a:prstGeom prst="ellipse">
                    <a:avLst/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</a:t>
                    </a:r>
                    <a:r>
                      <a:rPr b="1" lang="en-US" sz="1800" spc="-1" strike="noStrike" baseline="30000">
                        <a:solidFill>
                          <a:srgbClr val="000000"/>
                        </a:solidFill>
                        <a:latin typeface="Times New Roman"/>
                      </a:rPr>
                      <a:t>II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86" name=""/>
              <p:cNvSpPr/>
              <p:nvPr/>
            </p:nvSpPr>
            <p:spPr>
              <a:xfrm>
                <a:off x="4555800" y="5143680"/>
                <a:ext cx="144000" cy="212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269960" y="5229360"/>
                <a:ext cx="144360" cy="212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8" name=""/>
            <p:cNvSpPr/>
            <p:nvPr/>
          </p:nvSpPr>
          <p:spPr>
            <a:xfrm rot="1546800">
              <a:off x="1193040" y="3267360"/>
              <a:ext cx="23796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1065240" y="2646360"/>
            <a:ext cx="7003800" cy="594720"/>
            <a:chOff x="1065240" y="2646360"/>
            <a:chExt cx="7003800" cy="594720"/>
          </a:xfrm>
        </p:grpSpPr>
        <p:cxnSp>
          <p:nvCxnSpPr>
            <p:cNvPr id="590" name=""/>
            <p:cNvCxnSpPr/>
            <p:nvPr/>
          </p:nvCxnSpPr>
          <p:spPr>
            <a:xfrm flipH="1" rot="16200000">
              <a:off x="1494360" y="2809440"/>
              <a:ext cx="2520" cy="861120"/>
            </a:xfrm>
            <a:prstGeom prst="curvedConnector5">
              <a:avLst>
                <a:gd name="adj1" fmla="val -7400000"/>
                <a:gd name="adj2" fmla="val 49979"/>
                <a:gd name="adj3" fmla="val -7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1" name=""/>
            <p:cNvCxnSpPr/>
            <p:nvPr/>
          </p:nvCxnSpPr>
          <p:spPr>
            <a:xfrm flipH="1" rot="16200000">
              <a:off x="2526120" y="2995200"/>
              <a:ext cx="2520" cy="489600"/>
            </a:xfrm>
            <a:prstGeom prst="curvedConnector5">
              <a:avLst>
                <a:gd name="adj1" fmla="val -4700000"/>
                <a:gd name="adj2" fmla="val 49963"/>
                <a:gd name="adj3" fmla="val -47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2" name=""/>
            <p:cNvCxnSpPr/>
            <p:nvPr/>
          </p:nvCxnSpPr>
          <p:spPr>
            <a:xfrm flipH="1" rot="16200000">
              <a:off x="3522240" y="2845080"/>
              <a:ext cx="2520" cy="789840"/>
            </a:xfrm>
            <a:prstGeom prst="curvedConnector5">
              <a:avLst>
                <a:gd name="adj1" fmla="val -10000000"/>
                <a:gd name="adj2" fmla="val 49977"/>
                <a:gd name="adj3" fmla="val -100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3" name=""/>
            <p:cNvCxnSpPr/>
            <p:nvPr/>
          </p:nvCxnSpPr>
          <p:spPr>
            <a:xfrm flipH="1" rot="16200000">
              <a:off x="4507920" y="3005640"/>
              <a:ext cx="2520" cy="469080"/>
            </a:xfrm>
            <a:prstGeom prst="curvedConnector5">
              <a:avLst>
                <a:gd name="adj1" fmla="val -8600000"/>
                <a:gd name="adj2" fmla="val 50000"/>
                <a:gd name="adj3" fmla="val -86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4" name=""/>
            <p:cNvCxnSpPr/>
            <p:nvPr/>
          </p:nvCxnSpPr>
          <p:spPr>
            <a:xfrm flipH="1" rot="16200000">
              <a:off x="5504040" y="2835000"/>
              <a:ext cx="2520" cy="810360"/>
            </a:xfrm>
            <a:prstGeom prst="curvedConnector5">
              <a:avLst>
                <a:gd name="adj1" fmla="val -7300000"/>
                <a:gd name="adj2" fmla="val 50000"/>
                <a:gd name="adj3" fmla="val -73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5" name=""/>
            <p:cNvCxnSpPr/>
            <p:nvPr/>
          </p:nvCxnSpPr>
          <p:spPr>
            <a:xfrm flipH="1" rot="16200000">
              <a:off x="7570080" y="2742120"/>
              <a:ext cx="2520" cy="996120"/>
            </a:xfrm>
            <a:prstGeom prst="curvedConnector5">
              <a:avLst>
                <a:gd name="adj1" fmla="val -9900000"/>
                <a:gd name="adj2" fmla="val 50000"/>
                <a:gd name="adj3" fmla="val -99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6" name=""/>
            <p:cNvCxnSpPr/>
            <p:nvPr/>
          </p:nvCxnSpPr>
          <p:spPr>
            <a:xfrm flipH="1" rot="16200000">
              <a:off x="6490800" y="3015000"/>
              <a:ext cx="2520" cy="450000"/>
            </a:xfrm>
            <a:prstGeom prst="curvedConnector5">
              <a:avLst>
                <a:gd name="adj1" fmla="val -9900000"/>
                <a:gd name="adj2" fmla="val 49959"/>
                <a:gd name="adj3" fmla="val -99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7" name=""/>
            <p:cNvSpPr/>
            <p:nvPr/>
          </p:nvSpPr>
          <p:spPr>
            <a:xfrm>
              <a:off x="1398240" y="2676600"/>
              <a:ext cx="65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150720" y="2671920"/>
              <a:ext cx="65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208120" y="2666880"/>
              <a:ext cx="65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036920" y="2679840"/>
              <a:ext cx="65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469600" y="26845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90480" y="266688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357240" y="264636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1077840" y="3587760"/>
            <a:ext cx="7003800" cy="398880"/>
            <a:chOff x="1077840" y="3587760"/>
            <a:chExt cx="7003800" cy="398880"/>
          </a:xfrm>
        </p:grpSpPr>
        <p:cxnSp>
          <p:nvCxnSpPr>
            <p:cNvPr id="605" name=""/>
            <p:cNvCxnSpPr/>
            <p:nvPr/>
          </p:nvCxnSpPr>
          <p:spPr>
            <a:xfrm>
              <a:off x="1077840" y="3620520"/>
              <a:ext cx="8611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606" name=""/>
            <p:cNvCxnSpPr/>
            <p:nvPr/>
          </p:nvCxnSpPr>
          <p:spPr>
            <a:xfrm>
              <a:off x="5112720" y="3620520"/>
              <a:ext cx="8103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607" name=""/>
            <p:cNvCxnSpPr/>
            <p:nvPr/>
          </p:nvCxnSpPr>
          <p:spPr>
            <a:xfrm>
              <a:off x="7085880" y="3620520"/>
              <a:ext cx="9961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608" name=""/>
            <p:cNvCxnSpPr/>
            <p:nvPr/>
          </p:nvCxnSpPr>
          <p:spPr>
            <a:xfrm flipH="1">
              <a:off x="3141000" y="3620520"/>
              <a:ext cx="7898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9" name=""/>
            <p:cNvCxnSpPr/>
            <p:nvPr/>
          </p:nvCxnSpPr>
          <p:spPr>
            <a:xfrm>
              <a:off x="2295360" y="3620520"/>
              <a:ext cx="4896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610" name=""/>
            <p:cNvCxnSpPr/>
            <p:nvPr/>
          </p:nvCxnSpPr>
          <p:spPr>
            <a:xfrm>
              <a:off x="4287240" y="3620520"/>
              <a:ext cx="4690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611" name=""/>
            <p:cNvCxnSpPr/>
            <p:nvPr/>
          </p:nvCxnSpPr>
          <p:spPr>
            <a:xfrm>
              <a:off x="6279840" y="3620520"/>
              <a:ext cx="4500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612" name=""/>
            <p:cNvSpPr/>
            <p:nvPr/>
          </p:nvSpPr>
          <p:spPr>
            <a:xfrm>
              <a:off x="1432080" y="358776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403800" y="358776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376960" y="358776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288200" y="358776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501280" y="35877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474440" y="35877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427080" y="35877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2144880" y="1522080"/>
            <a:ext cx="2817720" cy="3921840"/>
            <a:chOff x="2144880" y="1522080"/>
            <a:chExt cx="2817720" cy="3921840"/>
          </a:xfrm>
        </p:grpSpPr>
        <p:cxnSp>
          <p:nvCxnSpPr>
            <p:cNvPr id="620" name=""/>
            <p:cNvCxnSpPr/>
            <p:nvPr/>
          </p:nvCxnSpPr>
          <p:spPr>
            <a:xfrm>
              <a:off x="2934000" y="1522080"/>
              <a:ext cx="1203840" cy="16470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1" name=""/>
            <p:cNvCxnSpPr/>
            <p:nvPr/>
          </p:nvCxnSpPr>
          <p:spPr>
            <a:xfrm flipV="1">
              <a:off x="2144880" y="1600920"/>
              <a:ext cx="612000" cy="1567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622" name=""/>
            <p:cNvCxnSpPr/>
            <p:nvPr/>
          </p:nvCxnSpPr>
          <p:spPr>
            <a:xfrm>
              <a:off x="2990520" y="3706920"/>
              <a:ext cx="1443960" cy="1737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3" name=""/>
            <p:cNvCxnSpPr/>
            <p:nvPr/>
          </p:nvCxnSpPr>
          <p:spPr>
            <a:xfrm flipH="1">
              <a:off x="4613040" y="3706560"/>
              <a:ext cx="349920" cy="1657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24" name=""/>
          <p:cNvGrpSpPr/>
          <p:nvPr/>
        </p:nvGrpSpPr>
        <p:grpSpPr>
          <a:xfrm>
            <a:off x="2126880" y="1507680"/>
            <a:ext cx="2818080" cy="3921840"/>
            <a:chOff x="2126880" y="1507680"/>
            <a:chExt cx="2818080" cy="3921840"/>
          </a:xfrm>
        </p:grpSpPr>
        <p:grpSp>
          <p:nvGrpSpPr>
            <p:cNvPr id="625" name=""/>
            <p:cNvGrpSpPr/>
            <p:nvPr/>
          </p:nvGrpSpPr>
          <p:grpSpPr>
            <a:xfrm>
              <a:off x="2126880" y="1507680"/>
              <a:ext cx="2818080" cy="3921840"/>
              <a:chOff x="2126880" y="1507680"/>
              <a:chExt cx="2818080" cy="3921840"/>
            </a:xfrm>
          </p:grpSpPr>
          <p:cxnSp>
            <p:nvCxnSpPr>
              <p:cNvPr id="626" name=""/>
              <p:cNvCxnSpPr/>
              <p:nvPr/>
            </p:nvCxnSpPr>
            <p:spPr>
              <a:xfrm>
                <a:off x="4119120" y="3692160"/>
                <a:ext cx="477000" cy="16578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</p:cxnSp>
          <p:cxnSp>
            <p:nvCxnSpPr>
              <p:cNvPr id="627" name=""/>
              <p:cNvCxnSpPr/>
              <p:nvPr/>
            </p:nvCxnSpPr>
            <p:spPr>
              <a:xfrm>
                <a:off x="2126880" y="3692520"/>
                <a:ext cx="2289960" cy="17373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</p:cxnSp>
          <p:cxnSp>
            <p:nvCxnSpPr>
              <p:cNvPr id="628" name=""/>
              <p:cNvCxnSpPr/>
              <p:nvPr/>
            </p:nvCxnSpPr>
            <p:spPr>
              <a:xfrm flipH="1" flipV="1">
                <a:off x="2738160" y="1586520"/>
                <a:ext cx="235440" cy="15678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29" name=""/>
              <p:cNvCxnSpPr/>
              <p:nvPr/>
            </p:nvCxnSpPr>
            <p:spPr>
              <a:xfrm>
                <a:off x="2916000" y="1507680"/>
                <a:ext cx="2029320" cy="16470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</p:cxnSp>
        </p:grpSp>
        <p:sp>
          <p:nvSpPr>
            <p:cNvPr id="630" name=""/>
            <p:cNvSpPr/>
            <p:nvPr/>
          </p:nvSpPr>
          <p:spPr>
            <a:xfrm>
              <a:off x="3725640" y="2306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128760" y="41511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468680" y="4375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536560" y="2212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980800" y="3603240"/>
            <a:ext cx="5118480" cy="2007000"/>
            <a:chOff x="2980800" y="3603240"/>
            <a:chExt cx="5118480" cy="2007000"/>
          </a:xfrm>
        </p:grpSpPr>
        <p:cxnSp>
          <p:nvCxnSpPr>
            <p:cNvPr id="635" name=""/>
            <p:cNvCxnSpPr/>
            <p:nvPr/>
          </p:nvCxnSpPr>
          <p:spPr>
            <a:xfrm flipV="1">
              <a:off x="4854240" y="3603240"/>
              <a:ext cx="3245400" cy="2007360"/>
            </a:xfrm>
            <a:prstGeom prst="straightConnector1">
              <a:avLst/>
            </a:prstGeom>
            <a:ln w="41400">
              <a:solidFill>
                <a:srgbClr val="00b800"/>
              </a:solidFill>
              <a:miter/>
              <a:tailEnd len="med" type="triangle" w="med"/>
            </a:ln>
          </p:spPr>
        </p:cxnSp>
        <p:cxnSp>
          <p:nvCxnSpPr>
            <p:cNvPr id="636" name=""/>
            <p:cNvCxnSpPr/>
            <p:nvPr/>
          </p:nvCxnSpPr>
          <p:spPr>
            <a:xfrm>
              <a:off x="2980800" y="3683160"/>
              <a:ext cx="1443960" cy="1737360"/>
            </a:xfrm>
            <a:prstGeom prst="straightConnector1">
              <a:avLst/>
            </a:prstGeom>
            <a:ln w="41400">
              <a:solidFill>
                <a:srgbClr val="00b800"/>
              </a:solidFill>
              <a:miter/>
              <a:tailEnd len="med" type="triangle" w="med"/>
            </a:ln>
          </p:spPr>
        </p:cxnSp>
      </p:grpSp>
      <p:grpSp>
        <p:nvGrpSpPr>
          <p:cNvPr id="637" name=""/>
          <p:cNvGrpSpPr/>
          <p:nvPr/>
        </p:nvGrpSpPr>
        <p:grpSpPr>
          <a:xfrm>
            <a:off x="1079640" y="1486800"/>
            <a:ext cx="3070440" cy="1725840"/>
            <a:chOff x="1079640" y="1486800"/>
            <a:chExt cx="3070440" cy="1725840"/>
          </a:xfrm>
        </p:grpSpPr>
        <p:cxnSp>
          <p:nvCxnSpPr>
            <p:cNvPr id="638" name=""/>
            <p:cNvCxnSpPr/>
            <p:nvPr/>
          </p:nvCxnSpPr>
          <p:spPr>
            <a:xfrm flipV="1">
              <a:off x="1079640" y="1486800"/>
              <a:ext cx="1472400" cy="1726200"/>
            </a:xfrm>
            <a:prstGeom prst="straightConnector1">
              <a:avLst/>
            </a:prstGeom>
            <a:ln w="41400">
              <a:solidFill>
                <a:srgbClr val="00b800"/>
              </a:solidFill>
              <a:miter/>
              <a:tailEnd len="med" type="triangle" w="med"/>
            </a:ln>
          </p:spPr>
        </p:cxnSp>
        <p:cxnSp>
          <p:nvCxnSpPr>
            <p:cNvPr id="639" name=""/>
            <p:cNvCxnSpPr/>
            <p:nvPr/>
          </p:nvCxnSpPr>
          <p:spPr>
            <a:xfrm>
              <a:off x="2946600" y="1525680"/>
              <a:ext cx="1203840" cy="1646640"/>
            </a:xfrm>
            <a:prstGeom prst="straightConnector1">
              <a:avLst/>
            </a:prstGeom>
            <a:ln w="41400">
              <a:solidFill>
                <a:srgbClr val="00b800"/>
              </a:solidFill>
              <a:miter/>
              <a:tailEnd len="med" type="triangle" w="med"/>
            </a:ln>
          </p:spPr>
        </p:cxnSp>
      </p:grpSp>
      <p:sp>
        <p:nvSpPr>
          <p:cNvPr id="640" name=""/>
          <p:cNvSpPr/>
          <p:nvPr/>
        </p:nvSpPr>
        <p:spPr>
          <a:xfrm flipH="1">
            <a:off x="3147840" y="3622680"/>
            <a:ext cx="787680" cy="0"/>
          </a:xfrm>
          <a:prstGeom prst="line">
            <a:avLst/>
          </a:prstGeom>
          <a:ln w="41400">
            <a:solidFill>
              <a:srgbClr val="00b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655560" y="5196600"/>
            <a:ext cx="1954440" cy="7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bdb00"/>
              </a:gs>
              <a:gs pos="100000">
                <a:srgbClr val="ffff00"/>
              </a:gs>
            </a:gsLst>
            <a:lin ang="13500000"/>
          </a:gra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= 100 &gt; 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= 7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268600" y="5481720"/>
            <a:ext cx="3875400" cy="689760"/>
            <a:chOff x="5268600" y="5481720"/>
            <a:chExt cx="3875400" cy="689760"/>
          </a:xfrm>
        </p:grpSpPr>
        <p:cxnSp>
          <p:nvCxnSpPr>
            <p:cNvPr id="643" name=""/>
            <p:cNvCxnSpPr/>
            <p:nvPr/>
          </p:nvCxnSpPr>
          <p:spPr>
            <a:xfrm>
              <a:off x="5275080" y="5997960"/>
              <a:ext cx="804240" cy="2160"/>
            </a:xfrm>
            <a:prstGeom prst="straightConnector1">
              <a:avLst/>
            </a:prstGeom>
            <a:ln w="41400">
              <a:solidFill>
                <a:srgbClr val="ffcc00"/>
              </a:solidFill>
              <a:miter/>
            </a:ln>
          </p:spPr>
        </p:cxnSp>
        <p:sp>
          <p:nvSpPr>
            <p:cNvPr id="644" name=""/>
            <p:cNvSpPr/>
            <p:nvPr/>
          </p:nvSpPr>
          <p:spPr>
            <a:xfrm>
              <a:off x="6251400" y="5481720"/>
              <a:ext cx="2787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Primary path         cost = 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251400" y="5834160"/>
              <a:ext cx="289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Secondary path     cost = 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6" name=""/>
            <p:cNvCxnSpPr/>
            <p:nvPr/>
          </p:nvCxnSpPr>
          <p:spPr>
            <a:xfrm>
              <a:off x="5268600" y="5689800"/>
              <a:ext cx="803880" cy="2160"/>
            </a:xfrm>
            <a:prstGeom prst="straightConnector1">
              <a:avLst/>
            </a:prstGeom>
            <a:ln w="41400">
              <a:solidFill>
                <a:srgbClr val="ff0000"/>
              </a:solidFill>
              <a:miter/>
            </a:ln>
          </p:spPr>
        </p:cxnSp>
      </p:grpSp>
      <p:grpSp>
        <p:nvGrpSpPr>
          <p:cNvPr id="647" name=""/>
          <p:cNvGrpSpPr/>
          <p:nvPr/>
        </p:nvGrpSpPr>
        <p:grpSpPr>
          <a:xfrm>
            <a:off x="523800" y="979560"/>
            <a:ext cx="7864560" cy="4890600"/>
            <a:chOff x="523800" y="979560"/>
            <a:chExt cx="7864560" cy="4890600"/>
          </a:xfrm>
        </p:grpSpPr>
        <p:grpSp>
          <p:nvGrpSpPr>
            <p:cNvPr id="648" name=""/>
            <p:cNvGrpSpPr/>
            <p:nvPr/>
          </p:nvGrpSpPr>
          <p:grpSpPr>
            <a:xfrm>
              <a:off x="523800" y="979560"/>
              <a:ext cx="7864560" cy="4890600"/>
              <a:chOff x="523800" y="979560"/>
              <a:chExt cx="7864560" cy="4890600"/>
            </a:xfrm>
          </p:grpSpPr>
          <p:sp>
            <p:nvSpPr>
              <p:cNvPr id="649" name=""/>
              <p:cNvSpPr/>
              <p:nvPr/>
            </p:nvSpPr>
            <p:spPr>
              <a:xfrm>
                <a:off x="523800" y="3125520"/>
                <a:ext cx="503280" cy="537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362320" y="1020600"/>
                <a:ext cx="503280" cy="537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363760" y="3125520"/>
                <a:ext cx="503280" cy="537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208400" y="5332320"/>
                <a:ext cx="503280" cy="537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214880" y="3122280"/>
                <a:ext cx="503280" cy="537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043680" y="3127320"/>
                <a:ext cx="503280" cy="537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885080" y="3127320"/>
                <a:ext cx="503280" cy="537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037200" y="1023840"/>
                <a:ext cx="503280" cy="537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57" name=""/>
              <p:cNvCxnSpPr>
                <a:stCxn id="649" idx="7"/>
                <a:endCxn id="650" idx="3"/>
              </p:cNvCxnSpPr>
              <p:nvPr/>
            </p:nvCxnSpPr>
            <p:spPr>
              <a:xfrm flipV="1">
                <a:off x="953640" y="1478520"/>
                <a:ext cx="1482120" cy="17262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658" name=""/>
              <p:cNvCxnSpPr>
                <a:stCxn id="650" idx="5"/>
                <a:endCxn id="653" idx="1"/>
              </p:cNvCxnSpPr>
              <p:nvPr/>
            </p:nvCxnSpPr>
            <p:spPr>
              <a:xfrm>
                <a:off x="2792520" y="1479240"/>
                <a:ext cx="1496160" cy="17229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659" name=""/>
              <p:cNvCxnSpPr>
                <a:stCxn id="651" idx="5"/>
                <a:endCxn id="652" idx="1"/>
              </p:cNvCxnSpPr>
              <p:nvPr/>
            </p:nvCxnSpPr>
            <p:spPr>
              <a:xfrm>
                <a:off x="2793960" y="3584520"/>
                <a:ext cx="1488240" cy="18273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660" name=""/>
              <p:cNvCxnSpPr>
                <a:stCxn id="652" idx="6"/>
                <a:endCxn id="655" idx="3"/>
              </p:cNvCxnSpPr>
              <p:nvPr/>
            </p:nvCxnSpPr>
            <p:spPr>
              <a:xfrm flipV="1">
                <a:off x="4711680" y="3585240"/>
                <a:ext cx="3247200" cy="20163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661" name=""/>
              <p:cNvCxnSpPr>
                <a:stCxn id="650" idx="6"/>
                <a:endCxn id="656" idx="2"/>
              </p:cNvCxnSpPr>
              <p:nvPr/>
            </p:nvCxnSpPr>
            <p:spPr>
              <a:xfrm>
                <a:off x="2865600" y="1290240"/>
                <a:ext cx="3172320" cy="32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662" name=""/>
              <p:cNvCxnSpPr>
                <a:stCxn id="656" idx="5"/>
                <a:endCxn id="655" idx="1"/>
              </p:cNvCxnSpPr>
              <p:nvPr/>
            </p:nvCxnSpPr>
            <p:spPr>
              <a:xfrm>
                <a:off x="6467040" y="1482480"/>
                <a:ext cx="1491480" cy="17244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sp>
            <p:nvSpPr>
              <p:cNvPr id="663" name=""/>
              <p:cNvSpPr/>
              <p:nvPr/>
            </p:nvSpPr>
            <p:spPr>
              <a:xfrm>
                <a:off x="1393560" y="30081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203280" y="30081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105160" y="30081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897600" y="30063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361880" y="20919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531960" y="20919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69" name=""/>
              <p:cNvCxnSpPr>
                <a:stCxn id="649" idx="5"/>
                <a:endCxn id="652" idx="2"/>
              </p:cNvCxnSpPr>
              <p:nvPr/>
            </p:nvCxnSpPr>
            <p:spPr>
              <a:xfrm>
                <a:off x="954000" y="3584160"/>
                <a:ext cx="3255120" cy="2017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sp>
            <p:nvSpPr>
              <p:cNvPr id="670" name=""/>
              <p:cNvSpPr/>
              <p:nvPr/>
            </p:nvSpPr>
            <p:spPr>
              <a:xfrm>
                <a:off x="4468680" y="9795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43760" y="188568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6413400" y="44719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593880" y="42861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369880" y="45446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5" name=""/>
              <p:cNvCxnSpPr>
                <a:stCxn id="653" idx="4"/>
                <a:endCxn id="652" idx="0"/>
              </p:cNvCxnSpPr>
              <p:nvPr/>
            </p:nvCxnSpPr>
            <p:spPr>
              <a:xfrm flipH="1">
                <a:off x="4460400" y="3660120"/>
                <a:ext cx="7200" cy="16722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sp>
            <p:nvSpPr>
              <p:cNvPr id="676" name=""/>
              <p:cNvSpPr/>
              <p:nvPr/>
            </p:nvSpPr>
            <p:spPr>
              <a:xfrm>
                <a:off x="4468680" y="42876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7" name=""/>
              <p:cNvCxnSpPr>
                <a:stCxn id="651" idx="0"/>
                <a:endCxn id="650" idx="4"/>
              </p:cNvCxnSpPr>
              <p:nvPr/>
            </p:nvCxnSpPr>
            <p:spPr>
              <a:xfrm flipH="1" flipV="1">
                <a:off x="2614320" y="1558080"/>
                <a:ext cx="2160" cy="1567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sp>
            <p:nvSpPr>
              <p:cNvPr id="678" name=""/>
              <p:cNvSpPr/>
              <p:nvPr/>
            </p:nvSpPr>
            <p:spPr>
              <a:xfrm>
                <a:off x="2598480" y="20919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9" name=""/>
              <p:cNvCxnSpPr>
                <a:stCxn id="649" idx="6"/>
                <a:endCxn id="651" idx="2"/>
              </p:cNvCxnSpPr>
              <p:nvPr/>
            </p:nvCxnSpPr>
            <p:spPr>
              <a:xfrm>
                <a:off x="1026720" y="3395160"/>
                <a:ext cx="133740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680" name=""/>
              <p:cNvCxnSpPr>
                <a:stCxn id="651" idx="6"/>
                <a:endCxn id="653" idx="2"/>
              </p:cNvCxnSpPr>
              <p:nvPr/>
            </p:nvCxnSpPr>
            <p:spPr>
              <a:xfrm flipV="1">
                <a:off x="2867040" y="3391920"/>
                <a:ext cx="1348560" cy="36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681" name=""/>
              <p:cNvCxnSpPr>
                <a:stCxn id="653" idx="6"/>
                <a:endCxn id="654" idx="2"/>
              </p:cNvCxnSpPr>
              <p:nvPr/>
            </p:nvCxnSpPr>
            <p:spPr>
              <a:xfrm>
                <a:off x="4718160" y="3392280"/>
                <a:ext cx="1326240" cy="50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682" name=""/>
              <p:cNvCxnSpPr>
                <a:stCxn id="654" idx="6"/>
                <a:endCxn id="655" idx="2"/>
              </p:cNvCxnSpPr>
              <p:nvPr/>
            </p:nvCxnSpPr>
            <p:spPr>
              <a:xfrm>
                <a:off x="6546600" y="3396600"/>
                <a:ext cx="133884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</p:grpSp>
        <p:cxnSp>
          <p:nvCxnSpPr>
            <p:cNvPr id="683" name=""/>
            <p:cNvCxnSpPr>
              <a:stCxn id="649" idx="6"/>
              <a:endCxn id="651" idx="2"/>
            </p:cNvCxnSpPr>
            <p:nvPr/>
          </p:nvCxnSpPr>
          <p:spPr>
            <a:xfrm>
              <a:off x="1026720" y="3395520"/>
              <a:ext cx="1337400" cy="1080"/>
            </a:xfrm>
            <a:prstGeom prst="straightConnector1">
              <a:avLst/>
            </a:prstGeom>
            <a:ln w="414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684" name=""/>
            <p:cNvCxnSpPr>
              <a:stCxn id="654" idx="6"/>
              <a:endCxn id="655" idx="2"/>
            </p:cNvCxnSpPr>
            <p:nvPr/>
          </p:nvCxnSpPr>
          <p:spPr>
            <a:xfrm>
              <a:off x="6546600" y="3396960"/>
              <a:ext cx="1338840" cy="1080"/>
            </a:xfrm>
            <a:prstGeom prst="straightConnector1">
              <a:avLst/>
            </a:prstGeom>
            <a:ln w="414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685" name=""/>
            <p:cNvCxnSpPr/>
            <p:nvPr/>
          </p:nvCxnSpPr>
          <p:spPr>
            <a:xfrm>
              <a:off x="2874600" y="3477960"/>
              <a:ext cx="1353240" cy="1080"/>
            </a:xfrm>
            <a:prstGeom prst="straightConnector1">
              <a:avLst/>
            </a:prstGeom>
            <a:ln w="4140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686" name=""/>
            <p:cNvCxnSpPr>
              <a:stCxn id="649" idx="7"/>
              <a:endCxn id="650" idx="3"/>
            </p:cNvCxnSpPr>
            <p:nvPr/>
          </p:nvCxnSpPr>
          <p:spPr>
            <a:xfrm flipV="1">
              <a:off x="954000" y="1478880"/>
              <a:ext cx="1481760" cy="1726200"/>
            </a:xfrm>
            <a:prstGeom prst="straightConnector1">
              <a:avLst/>
            </a:prstGeom>
            <a:ln w="41400">
              <a:solidFill>
                <a:srgbClr val="00b800"/>
              </a:solidFill>
              <a:miter/>
              <a:tailEnd len="med" type="triangle" w="med"/>
            </a:ln>
          </p:spPr>
        </p:cxnSp>
        <p:cxnSp>
          <p:nvCxnSpPr>
            <p:cNvPr id="687" name=""/>
            <p:cNvCxnSpPr>
              <a:stCxn id="650" idx="5"/>
              <a:endCxn id="653" idx="1"/>
            </p:cNvCxnSpPr>
            <p:nvPr/>
          </p:nvCxnSpPr>
          <p:spPr>
            <a:xfrm>
              <a:off x="2792160" y="1479240"/>
              <a:ext cx="1495800" cy="1723320"/>
            </a:xfrm>
            <a:prstGeom prst="straightConnector1">
              <a:avLst/>
            </a:prstGeom>
            <a:ln w="41400">
              <a:solidFill>
                <a:srgbClr val="00b800"/>
              </a:solidFill>
              <a:miter/>
              <a:tailEnd len="med" type="triangle" w="med"/>
            </a:ln>
          </p:spPr>
        </p:cxnSp>
        <p:cxnSp>
          <p:nvCxnSpPr>
            <p:cNvPr id="688" name=""/>
            <p:cNvCxnSpPr>
              <a:stCxn id="651" idx="5"/>
              <a:endCxn id="652" idx="1"/>
            </p:cNvCxnSpPr>
            <p:nvPr/>
          </p:nvCxnSpPr>
          <p:spPr>
            <a:xfrm>
              <a:off x="2793960" y="3584520"/>
              <a:ext cx="1488240" cy="1828080"/>
            </a:xfrm>
            <a:prstGeom prst="straightConnector1">
              <a:avLst/>
            </a:prstGeom>
            <a:ln w="41400">
              <a:solidFill>
                <a:srgbClr val="00b800"/>
              </a:solidFill>
              <a:miter/>
              <a:tailEnd len="med" type="triangle" w="med"/>
            </a:ln>
          </p:spPr>
        </p:cxnSp>
        <p:cxnSp>
          <p:nvCxnSpPr>
            <p:cNvPr id="689" name=""/>
            <p:cNvCxnSpPr>
              <a:stCxn id="652" idx="6"/>
              <a:endCxn id="655" idx="3"/>
            </p:cNvCxnSpPr>
            <p:nvPr/>
          </p:nvCxnSpPr>
          <p:spPr>
            <a:xfrm flipV="1">
              <a:off x="4711680" y="3585960"/>
              <a:ext cx="3247200" cy="2016720"/>
            </a:xfrm>
            <a:prstGeom prst="straightConnector1">
              <a:avLst/>
            </a:prstGeom>
            <a:ln w="41400">
              <a:solidFill>
                <a:srgbClr val="00b800"/>
              </a:solidFill>
              <a:miter/>
              <a:tailEnd len="med" type="triangle" w="med"/>
            </a:ln>
          </p:spPr>
        </p:cxnSp>
        <p:cxnSp>
          <p:nvCxnSpPr>
            <p:cNvPr id="690" name=""/>
            <p:cNvCxnSpPr/>
            <p:nvPr/>
          </p:nvCxnSpPr>
          <p:spPr>
            <a:xfrm flipH="1">
              <a:off x="2848680" y="3295440"/>
              <a:ext cx="1367640" cy="1080"/>
            </a:xfrm>
            <a:prstGeom prst="straightConnector1">
              <a:avLst/>
            </a:prstGeom>
            <a:ln w="41400">
              <a:solidFill>
                <a:srgbClr val="00b800"/>
              </a:solidFill>
              <a:miter/>
              <a:tailEnd len="med" type="triangle" w="med"/>
            </a:ln>
          </p:spPr>
        </p:cxnSp>
        <p:cxnSp>
          <p:nvCxnSpPr>
            <p:cNvPr id="691" name=""/>
            <p:cNvCxnSpPr>
              <a:stCxn id="651" idx="6"/>
              <a:endCxn id="653" idx="2"/>
            </p:cNvCxnSpPr>
            <p:nvPr/>
          </p:nvCxnSpPr>
          <p:spPr>
            <a:xfrm flipV="1">
              <a:off x="2867040" y="3391920"/>
              <a:ext cx="1348560" cy="396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692" name=""/>
            <p:cNvCxnSpPr/>
            <p:nvPr/>
          </p:nvCxnSpPr>
          <p:spPr>
            <a:xfrm>
              <a:off x="4709880" y="3392280"/>
              <a:ext cx="1353600" cy="1080"/>
            </a:xfrm>
            <a:prstGeom prst="straightConnector1">
              <a:avLst/>
            </a:prstGeom>
            <a:ln w="41400">
              <a:solidFill>
                <a:srgbClr val="3333cc"/>
              </a:solidFill>
              <a:miter/>
              <a:tailEnd len="med" type="triangle" w="med"/>
            </a:ln>
          </p:spPr>
        </p:cxnSp>
      </p:grpSp>
      <p:grpSp>
        <p:nvGrpSpPr>
          <p:cNvPr id="693" name=""/>
          <p:cNvGrpSpPr/>
          <p:nvPr/>
        </p:nvGrpSpPr>
        <p:grpSpPr>
          <a:xfrm>
            <a:off x="3298320" y="3144960"/>
            <a:ext cx="500400" cy="500040"/>
            <a:chOff x="3298320" y="3144960"/>
            <a:chExt cx="500400" cy="500040"/>
          </a:xfrm>
        </p:grpSpPr>
        <p:sp>
          <p:nvSpPr>
            <p:cNvPr id="694" name=""/>
            <p:cNvSpPr/>
            <p:nvPr/>
          </p:nvSpPr>
          <p:spPr>
            <a:xfrm>
              <a:off x="3298680" y="3144960"/>
              <a:ext cx="500040" cy="500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3298320" y="3144960"/>
              <a:ext cx="500040" cy="500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968400" y="1478880"/>
            <a:ext cx="7047000" cy="4121640"/>
            <a:chOff x="968400" y="1478880"/>
            <a:chExt cx="7047000" cy="4121640"/>
          </a:xfrm>
        </p:grpSpPr>
        <p:cxnSp>
          <p:nvCxnSpPr>
            <p:cNvPr id="697" name=""/>
            <p:cNvCxnSpPr>
              <a:endCxn id="650" idx="3"/>
            </p:cNvCxnSpPr>
            <p:nvPr/>
          </p:nvCxnSpPr>
          <p:spPr>
            <a:xfrm flipV="1">
              <a:off x="968400" y="1478880"/>
              <a:ext cx="1467360" cy="1724760"/>
            </a:xfrm>
            <a:prstGeom prst="straightConnector1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698" name=""/>
            <p:cNvCxnSpPr>
              <a:stCxn id="650" idx="5"/>
              <a:endCxn id="653" idx="1"/>
            </p:cNvCxnSpPr>
            <p:nvPr/>
          </p:nvCxnSpPr>
          <p:spPr>
            <a:xfrm>
              <a:off x="2792160" y="1479240"/>
              <a:ext cx="1495800" cy="1723320"/>
            </a:xfrm>
            <a:prstGeom prst="straightConnector1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699" name=""/>
            <p:cNvCxnSpPr/>
            <p:nvPr/>
          </p:nvCxnSpPr>
          <p:spPr>
            <a:xfrm>
              <a:off x="4717800" y="3392280"/>
              <a:ext cx="1360800" cy="5400"/>
            </a:xfrm>
            <a:prstGeom prst="straightConnector1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700" name=""/>
            <p:cNvCxnSpPr/>
            <p:nvPr/>
          </p:nvCxnSpPr>
          <p:spPr>
            <a:xfrm>
              <a:off x="6561000" y="3395520"/>
              <a:ext cx="1339200" cy="1080"/>
            </a:xfrm>
            <a:prstGeom prst="straightConnector1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701" name=""/>
            <p:cNvCxnSpPr/>
            <p:nvPr/>
          </p:nvCxnSpPr>
          <p:spPr>
            <a:xfrm>
              <a:off x="1041120" y="3393720"/>
              <a:ext cx="1337400" cy="1080"/>
            </a:xfrm>
            <a:prstGeom prst="straightConnector1">
              <a:avLst/>
            </a:prstGeom>
            <a:ln w="69840">
              <a:solidFill>
                <a:srgbClr val="ffcc00"/>
              </a:solidFill>
              <a:miter/>
              <a:tailEnd len="med" type="triangle" w="med"/>
            </a:ln>
          </p:spPr>
        </p:cxnSp>
        <p:cxnSp>
          <p:nvCxnSpPr>
            <p:cNvPr id="702" name=""/>
            <p:cNvCxnSpPr>
              <a:stCxn id="651" idx="5"/>
              <a:endCxn id="652" idx="1"/>
            </p:cNvCxnSpPr>
            <p:nvPr/>
          </p:nvCxnSpPr>
          <p:spPr>
            <a:xfrm>
              <a:off x="2793960" y="3584520"/>
              <a:ext cx="1488240" cy="1828080"/>
            </a:xfrm>
            <a:prstGeom prst="straightConnector1">
              <a:avLst/>
            </a:prstGeom>
            <a:ln w="69840">
              <a:solidFill>
                <a:srgbClr val="ffcc00"/>
              </a:solidFill>
              <a:miter/>
              <a:tailEnd len="med" type="triangle" w="med"/>
            </a:ln>
          </p:spPr>
        </p:cxnSp>
        <p:cxnSp>
          <p:nvCxnSpPr>
            <p:cNvPr id="703" name=""/>
            <p:cNvCxnSpPr/>
            <p:nvPr/>
          </p:nvCxnSpPr>
          <p:spPr>
            <a:xfrm flipV="1">
              <a:off x="4726080" y="3567960"/>
              <a:ext cx="3289680" cy="2032920"/>
            </a:xfrm>
            <a:prstGeom prst="straightConnector1">
              <a:avLst/>
            </a:prstGeom>
            <a:ln w="69840">
              <a:solidFill>
                <a:srgbClr val="ffcc00"/>
              </a:solidFill>
              <a:miter/>
              <a:tailEnd len="med" type="triangle" w="med"/>
            </a:ln>
          </p:spPr>
        </p:cxnSp>
      </p:grpSp>
      <p:grpSp>
        <p:nvGrpSpPr>
          <p:cNvPr id="704" name=""/>
          <p:cNvGrpSpPr/>
          <p:nvPr/>
        </p:nvGrpSpPr>
        <p:grpSpPr>
          <a:xfrm>
            <a:off x="2857320" y="3032280"/>
            <a:ext cx="1376280" cy="916920"/>
            <a:chOff x="2857320" y="3032280"/>
            <a:chExt cx="1376280" cy="916920"/>
          </a:xfrm>
        </p:grpSpPr>
        <p:grpSp>
          <p:nvGrpSpPr>
            <p:cNvPr id="705" name=""/>
            <p:cNvGrpSpPr/>
            <p:nvPr/>
          </p:nvGrpSpPr>
          <p:grpSpPr>
            <a:xfrm>
              <a:off x="2857320" y="3032280"/>
              <a:ext cx="1376280" cy="916920"/>
              <a:chOff x="2857320" y="3032280"/>
              <a:chExt cx="1376280" cy="916920"/>
            </a:xfrm>
          </p:grpSpPr>
          <p:grpSp>
            <p:nvGrpSpPr>
              <p:cNvPr id="706" name=""/>
              <p:cNvGrpSpPr/>
              <p:nvPr/>
            </p:nvGrpSpPr>
            <p:grpSpPr>
              <a:xfrm>
                <a:off x="2857320" y="3032280"/>
                <a:ext cx="1376280" cy="916920"/>
                <a:chOff x="2857320" y="3032280"/>
                <a:chExt cx="1376280" cy="91692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2867040" y="3486240"/>
                  <a:ext cx="1360440" cy="0"/>
                </a:xfrm>
                <a:prstGeom prst="line">
                  <a:avLst/>
                </a:prstGeom>
                <a:ln w="54000">
                  <a:solidFill>
                    <a:srgbClr val="ffffff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 flipH="1">
                  <a:off x="2857320" y="3290760"/>
                  <a:ext cx="1376280" cy="0"/>
                </a:xfrm>
                <a:prstGeom prst="line">
                  <a:avLst/>
                </a:prstGeom>
                <a:ln w="63360">
                  <a:solidFill>
                    <a:srgbClr val="ffffff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3229200" y="3032280"/>
                  <a:ext cx="755640" cy="916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710" name=""/>
              <p:cNvCxnSpPr/>
              <p:nvPr/>
            </p:nvCxnSpPr>
            <p:spPr>
              <a:xfrm flipV="1">
                <a:off x="2868840" y="3393720"/>
                <a:ext cx="1348560" cy="36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711" name=""/>
            <p:cNvSpPr/>
            <p:nvPr/>
          </p:nvSpPr>
          <p:spPr>
            <a:xfrm>
              <a:off x="2863800" y="3098880"/>
              <a:ext cx="32976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001880" y="127080"/>
            <a:ext cx="79516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</a:rPr>
              <a:t>Example of Bhandari’s algorith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001880" y="127080"/>
            <a:ext cx="795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</a:rPr>
              <a:t>TSA v.s. Bhandari’s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762120" y="1373040"/>
            <a:ext cx="3139920" cy="2055600"/>
            <a:chOff x="762120" y="1373040"/>
            <a:chExt cx="3139920" cy="2055600"/>
          </a:xfrm>
        </p:grpSpPr>
        <p:sp>
          <p:nvSpPr>
            <p:cNvPr id="715" name=""/>
            <p:cNvSpPr/>
            <p:nvPr/>
          </p:nvSpPr>
          <p:spPr>
            <a:xfrm>
              <a:off x="762120" y="1373040"/>
              <a:ext cx="380880" cy="269640"/>
            </a:xfrm>
            <a:prstGeom prst="ellipse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677960" y="1373040"/>
              <a:ext cx="381240" cy="269640"/>
            </a:xfrm>
            <a:prstGeom prst="ellipse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614680" y="1373040"/>
              <a:ext cx="380880" cy="269640"/>
            </a:xfrm>
            <a:prstGeom prst="ellipse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8" name=""/>
            <p:cNvCxnSpPr>
              <a:stCxn id="715" idx="6"/>
              <a:endCxn id="716" idx="2"/>
            </p:cNvCxnSpPr>
            <p:nvPr/>
          </p:nvCxnSpPr>
          <p:spPr>
            <a:xfrm>
              <a:off x="1154160" y="1509120"/>
              <a:ext cx="5133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719" name=""/>
            <p:cNvCxnSpPr>
              <a:stCxn id="716" idx="6"/>
              <a:endCxn id="717" idx="2"/>
            </p:cNvCxnSpPr>
            <p:nvPr/>
          </p:nvCxnSpPr>
          <p:spPr>
            <a:xfrm>
              <a:off x="2070000" y="1509120"/>
              <a:ext cx="5342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720" name=""/>
            <p:cNvSpPr/>
            <p:nvPr/>
          </p:nvSpPr>
          <p:spPr>
            <a:xfrm>
              <a:off x="762120" y="2265120"/>
              <a:ext cx="380880" cy="271440"/>
            </a:xfrm>
            <a:prstGeom prst="ellipse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677960" y="2265120"/>
              <a:ext cx="381240" cy="271440"/>
            </a:xfrm>
            <a:prstGeom prst="ellipse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614680" y="2265120"/>
              <a:ext cx="380880" cy="271440"/>
            </a:xfrm>
            <a:prstGeom prst="ellipse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62120" y="3159000"/>
              <a:ext cx="380880" cy="269640"/>
            </a:xfrm>
            <a:prstGeom prst="ellipse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677960" y="3159000"/>
              <a:ext cx="381240" cy="269640"/>
            </a:xfrm>
            <a:prstGeom prst="ellipse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614680" y="3159000"/>
              <a:ext cx="380880" cy="269640"/>
            </a:xfrm>
            <a:prstGeom prst="ellipse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6" name=""/>
            <p:cNvCxnSpPr>
              <a:stCxn id="723" idx="6"/>
              <a:endCxn id="724" idx="2"/>
            </p:cNvCxnSpPr>
            <p:nvPr/>
          </p:nvCxnSpPr>
          <p:spPr>
            <a:xfrm>
              <a:off x="1154160" y="3291840"/>
              <a:ext cx="5133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727" name=""/>
            <p:cNvCxnSpPr>
              <a:stCxn id="724" idx="6"/>
              <a:endCxn id="725" idx="2"/>
            </p:cNvCxnSpPr>
            <p:nvPr/>
          </p:nvCxnSpPr>
          <p:spPr>
            <a:xfrm>
              <a:off x="2070000" y="3293640"/>
              <a:ext cx="5342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728" name=""/>
            <p:cNvSpPr/>
            <p:nvPr/>
          </p:nvSpPr>
          <p:spPr>
            <a:xfrm>
              <a:off x="3521160" y="1373040"/>
              <a:ext cx="380880" cy="269640"/>
            </a:xfrm>
            <a:prstGeom prst="ellipse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9" name=""/>
            <p:cNvCxnSpPr>
              <a:stCxn id="717" idx="6"/>
              <a:endCxn id="728" idx="2"/>
            </p:cNvCxnSpPr>
            <p:nvPr/>
          </p:nvCxnSpPr>
          <p:spPr>
            <a:xfrm>
              <a:off x="3005280" y="1509120"/>
              <a:ext cx="5054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730" name=""/>
            <p:cNvSpPr/>
            <p:nvPr/>
          </p:nvSpPr>
          <p:spPr>
            <a:xfrm>
              <a:off x="3521160" y="2265120"/>
              <a:ext cx="380880" cy="271440"/>
            </a:xfrm>
            <a:prstGeom prst="ellipse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521160" y="3159000"/>
              <a:ext cx="380880" cy="269640"/>
            </a:xfrm>
            <a:prstGeom prst="ellipse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2" name=""/>
            <p:cNvCxnSpPr>
              <a:stCxn id="725" idx="6"/>
              <a:endCxn id="731" idx="2"/>
            </p:cNvCxnSpPr>
            <p:nvPr/>
          </p:nvCxnSpPr>
          <p:spPr>
            <a:xfrm>
              <a:off x="3005280" y="3291840"/>
              <a:ext cx="5054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733" name=""/>
            <p:cNvCxnSpPr>
              <a:stCxn id="720" idx="0"/>
              <a:endCxn id="715" idx="4"/>
            </p:cNvCxnSpPr>
            <p:nvPr/>
          </p:nvCxnSpPr>
          <p:spPr>
            <a:xfrm flipV="1">
              <a:off x="952200" y="1652400"/>
              <a:ext cx="1080" cy="6037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734" name=""/>
            <p:cNvCxnSpPr>
              <a:stCxn id="721" idx="0"/>
              <a:endCxn id="716" idx="4"/>
            </p:cNvCxnSpPr>
            <p:nvPr/>
          </p:nvCxnSpPr>
          <p:spPr>
            <a:xfrm flipV="1">
              <a:off x="1868040" y="1652400"/>
              <a:ext cx="1080" cy="6037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735" name=""/>
            <p:cNvCxnSpPr>
              <a:stCxn id="722" idx="0"/>
              <a:endCxn id="717" idx="4"/>
            </p:cNvCxnSpPr>
            <p:nvPr/>
          </p:nvCxnSpPr>
          <p:spPr>
            <a:xfrm flipV="1">
              <a:off x="2804760" y="1652400"/>
              <a:ext cx="1080" cy="6037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736" name=""/>
            <p:cNvCxnSpPr>
              <a:stCxn id="721" idx="4"/>
              <a:endCxn id="724" idx="0"/>
            </p:cNvCxnSpPr>
            <p:nvPr/>
          </p:nvCxnSpPr>
          <p:spPr>
            <a:xfrm>
              <a:off x="1868040" y="2545920"/>
              <a:ext cx="1080" cy="6037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737" name=""/>
            <p:cNvCxnSpPr>
              <a:stCxn id="720" idx="6"/>
              <a:endCxn id="721" idx="2"/>
            </p:cNvCxnSpPr>
            <p:nvPr/>
          </p:nvCxnSpPr>
          <p:spPr>
            <a:xfrm>
              <a:off x="1152360" y="2401200"/>
              <a:ext cx="5166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738" name=""/>
            <p:cNvCxnSpPr>
              <a:stCxn id="723" idx="0"/>
              <a:endCxn id="720" idx="4"/>
            </p:cNvCxnSpPr>
            <p:nvPr/>
          </p:nvCxnSpPr>
          <p:spPr>
            <a:xfrm flipV="1">
              <a:off x="952200" y="2545560"/>
              <a:ext cx="1080" cy="6037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739" name=""/>
            <p:cNvCxnSpPr>
              <a:stCxn id="721" idx="6"/>
              <a:endCxn id="722" idx="2"/>
            </p:cNvCxnSpPr>
            <p:nvPr/>
          </p:nvCxnSpPr>
          <p:spPr>
            <a:xfrm>
              <a:off x="2068560" y="2401200"/>
              <a:ext cx="5367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740" name=""/>
            <p:cNvCxnSpPr>
              <a:stCxn id="731" idx="0"/>
              <a:endCxn id="730" idx="4"/>
            </p:cNvCxnSpPr>
            <p:nvPr/>
          </p:nvCxnSpPr>
          <p:spPr>
            <a:xfrm flipV="1">
              <a:off x="3711240" y="2545560"/>
              <a:ext cx="1080" cy="6037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741" name=""/>
            <p:cNvCxnSpPr>
              <a:stCxn id="722" idx="6"/>
              <a:endCxn id="730" idx="2"/>
            </p:cNvCxnSpPr>
            <p:nvPr/>
          </p:nvCxnSpPr>
          <p:spPr>
            <a:xfrm>
              <a:off x="3005280" y="2401200"/>
              <a:ext cx="5068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742" name=""/>
            <p:cNvCxnSpPr>
              <a:stCxn id="725" idx="0"/>
              <a:endCxn id="722" idx="4"/>
            </p:cNvCxnSpPr>
            <p:nvPr/>
          </p:nvCxnSpPr>
          <p:spPr>
            <a:xfrm flipV="1">
              <a:off x="2804760" y="2545560"/>
              <a:ext cx="1080" cy="6037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743" name=""/>
            <p:cNvCxnSpPr>
              <a:stCxn id="730" idx="0"/>
              <a:endCxn id="728" idx="4"/>
            </p:cNvCxnSpPr>
            <p:nvPr/>
          </p:nvCxnSpPr>
          <p:spPr>
            <a:xfrm flipV="1">
              <a:off x="3711240" y="1652400"/>
              <a:ext cx="1080" cy="6037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grpSp>
        <p:nvGrpSpPr>
          <p:cNvPr id="744" name=""/>
          <p:cNvGrpSpPr/>
          <p:nvPr/>
        </p:nvGrpSpPr>
        <p:grpSpPr>
          <a:xfrm>
            <a:off x="952200" y="1652760"/>
            <a:ext cx="2759760" cy="1496880"/>
            <a:chOff x="952200" y="1652760"/>
            <a:chExt cx="2759760" cy="1496880"/>
          </a:xfrm>
        </p:grpSpPr>
        <p:cxnSp>
          <p:nvCxnSpPr>
            <p:cNvPr id="745" name=""/>
            <p:cNvCxnSpPr>
              <a:stCxn id="720" idx="6"/>
              <a:endCxn id="721" idx="2"/>
            </p:cNvCxnSpPr>
            <p:nvPr/>
          </p:nvCxnSpPr>
          <p:spPr>
            <a:xfrm>
              <a:off x="1152360" y="2401560"/>
              <a:ext cx="516600" cy="1080"/>
            </a:xfrm>
            <a:prstGeom prst="straightConnector1">
              <a:avLst/>
            </a:prstGeom>
            <a:ln w="38160">
              <a:solidFill>
                <a:srgbClr val="00cc00"/>
              </a:solidFill>
              <a:miter/>
              <a:tailEnd len="med" type="triangle" w="med"/>
            </a:ln>
          </p:spPr>
        </p:cxnSp>
        <p:cxnSp>
          <p:nvCxnSpPr>
            <p:cNvPr id="746" name=""/>
            <p:cNvCxnSpPr>
              <a:stCxn id="721" idx="6"/>
              <a:endCxn id="722" idx="2"/>
            </p:cNvCxnSpPr>
            <p:nvPr/>
          </p:nvCxnSpPr>
          <p:spPr>
            <a:xfrm>
              <a:off x="2068560" y="2401560"/>
              <a:ext cx="536760" cy="1080"/>
            </a:xfrm>
            <a:prstGeom prst="straightConnector1">
              <a:avLst/>
            </a:prstGeom>
            <a:ln w="38160">
              <a:solidFill>
                <a:srgbClr val="00cc00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15" idx="4"/>
              <a:endCxn id="720" idx="0"/>
            </p:cNvCxnSpPr>
            <p:nvPr/>
          </p:nvCxnSpPr>
          <p:spPr>
            <a:xfrm>
              <a:off x="952200" y="1652760"/>
              <a:ext cx="1080" cy="603720"/>
            </a:xfrm>
            <a:prstGeom prst="straightConnector1">
              <a:avLst/>
            </a:prstGeom>
            <a:ln w="38160">
              <a:solidFill>
                <a:srgbClr val="00cc00"/>
              </a:solidFill>
              <a:miter/>
              <a:tailEnd len="med" type="triangle" w="med"/>
            </a:ln>
          </p:spPr>
        </p:cxnSp>
        <p:cxnSp>
          <p:nvCxnSpPr>
            <p:cNvPr id="748" name=""/>
            <p:cNvCxnSpPr>
              <a:stCxn id="722" idx="6"/>
              <a:endCxn id="730" idx="2"/>
            </p:cNvCxnSpPr>
            <p:nvPr/>
          </p:nvCxnSpPr>
          <p:spPr>
            <a:xfrm>
              <a:off x="3005280" y="2401560"/>
              <a:ext cx="506880" cy="1080"/>
            </a:xfrm>
            <a:prstGeom prst="straightConnector1">
              <a:avLst/>
            </a:prstGeom>
            <a:ln w="38160">
              <a:solidFill>
                <a:srgbClr val="00cc00"/>
              </a:solidFill>
              <a:miter/>
              <a:tailEnd len="med" type="triangle" w="med"/>
            </a:ln>
          </p:spPr>
        </p:cxnSp>
        <p:cxnSp>
          <p:nvCxnSpPr>
            <p:cNvPr id="749" name=""/>
            <p:cNvCxnSpPr>
              <a:stCxn id="730" idx="4"/>
              <a:endCxn id="731" idx="0"/>
            </p:cNvCxnSpPr>
            <p:nvPr/>
          </p:nvCxnSpPr>
          <p:spPr>
            <a:xfrm>
              <a:off x="3711240" y="2546280"/>
              <a:ext cx="1080" cy="603720"/>
            </a:xfrm>
            <a:prstGeom prst="straightConnector1">
              <a:avLst/>
            </a:prstGeom>
            <a:ln w="28440">
              <a:solidFill>
                <a:srgbClr val="00cc00"/>
              </a:solidFill>
              <a:miter/>
              <a:tailEnd len="med" type="triangle" w="med"/>
            </a:ln>
          </p:spPr>
        </p:cxnSp>
      </p:grpSp>
      <p:grpSp>
        <p:nvGrpSpPr>
          <p:cNvPr id="750" name=""/>
          <p:cNvGrpSpPr/>
          <p:nvPr/>
        </p:nvGrpSpPr>
        <p:grpSpPr>
          <a:xfrm>
            <a:off x="952200" y="1652760"/>
            <a:ext cx="2761200" cy="1496880"/>
            <a:chOff x="952200" y="1652760"/>
            <a:chExt cx="2761200" cy="1496880"/>
          </a:xfrm>
        </p:grpSpPr>
        <p:cxnSp>
          <p:nvCxnSpPr>
            <p:cNvPr id="751" name=""/>
            <p:cNvCxnSpPr/>
            <p:nvPr/>
          </p:nvCxnSpPr>
          <p:spPr>
            <a:xfrm>
              <a:off x="952200" y="2546280"/>
              <a:ext cx="1080" cy="60372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752" name=""/>
            <p:cNvCxnSpPr>
              <a:stCxn id="716" idx="4"/>
            </p:cNvCxnSpPr>
            <p:nvPr/>
          </p:nvCxnSpPr>
          <p:spPr>
            <a:xfrm>
              <a:off x="1868040" y="1652760"/>
              <a:ext cx="2520" cy="61344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753" name=""/>
            <p:cNvCxnSpPr/>
            <p:nvPr/>
          </p:nvCxnSpPr>
          <p:spPr>
            <a:xfrm>
              <a:off x="1868040" y="2546280"/>
              <a:ext cx="1080" cy="60372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754" name=""/>
            <p:cNvCxnSpPr>
              <a:stCxn id="717" idx="4"/>
            </p:cNvCxnSpPr>
            <p:nvPr/>
          </p:nvCxnSpPr>
          <p:spPr>
            <a:xfrm>
              <a:off x="2804760" y="1652760"/>
              <a:ext cx="2520" cy="61344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755" name=""/>
            <p:cNvCxnSpPr/>
            <p:nvPr/>
          </p:nvCxnSpPr>
          <p:spPr>
            <a:xfrm>
              <a:off x="2804760" y="2546280"/>
              <a:ext cx="1080" cy="60372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756" name=""/>
            <p:cNvCxnSpPr>
              <a:stCxn id="728" idx="4"/>
            </p:cNvCxnSpPr>
            <p:nvPr/>
          </p:nvCxnSpPr>
          <p:spPr>
            <a:xfrm>
              <a:off x="3711600" y="1652760"/>
              <a:ext cx="2160" cy="61344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</a:ln>
          </p:spPr>
        </p:cxnSp>
      </p:grpSp>
      <p:grpSp>
        <p:nvGrpSpPr>
          <p:cNvPr id="757" name=""/>
          <p:cNvGrpSpPr/>
          <p:nvPr/>
        </p:nvGrpSpPr>
        <p:grpSpPr>
          <a:xfrm>
            <a:off x="4952880" y="3735360"/>
            <a:ext cx="3139920" cy="2055600"/>
            <a:chOff x="4952880" y="3735360"/>
            <a:chExt cx="3139920" cy="2055600"/>
          </a:xfrm>
        </p:grpSpPr>
        <p:sp>
          <p:nvSpPr>
            <p:cNvPr id="758" name=""/>
            <p:cNvSpPr/>
            <p:nvPr/>
          </p:nvSpPr>
          <p:spPr>
            <a:xfrm>
              <a:off x="4952880" y="3735360"/>
              <a:ext cx="380880" cy="269640"/>
            </a:xfrm>
            <a:prstGeom prst="ellipse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868720" y="3735360"/>
              <a:ext cx="381240" cy="269640"/>
            </a:xfrm>
            <a:prstGeom prst="ellipse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805440" y="3735360"/>
              <a:ext cx="380880" cy="269640"/>
            </a:xfrm>
            <a:prstGeom prst="ellipse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1" name=""/>
            <p:cNvCxnSpPr>
              <a:stCxn id="758" idx="6"/>
              <a:endCxn id="759" idx="2"/>
            </p:cNvCxnSpPr>
            <p:nvPr/>
          </p:nvCxnSpPr>
          <p:spPr>
            <a:xfrm>
              <a:off x="5344920" y="3871440"/>
              <a:ext cx="5133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762" name=""/>
            <p:cNvCxnSpPr>
              <a:stCxn id="759" idx="6"/>
              <a:endCxn id="760" idx="2"/>
            </p:cNvCxnSpPr>
            <p:nvPr/>
          </p:nvCxnSpPr>
          <p:spPr>
            <a:xfrm>
              <a:off x="6260760" y="3871440"/>
              <a:ext cx="5342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763" name=""/>
            <p:cNvSpPr/>
            <p:nvPr/>
          </p:nvSpPr>
          <p:spPr>
            <a:xfrm>
              <a:off x="4952880" y="4627440"/>
              <a:ext cx="380880" cy="271440"/>
            </a:xfrm>
            <a:prstGeom prst="ellipse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868720" y="4627440"/>
              <a:ext cx="381240" cy="271440"/>
            </a:xfrm>
            <a:prstGeom prst="ellipse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805440" y="4627440"/>
              <a:ext cx="380880" cy="271440"/>
            </a:xfrm>
            <a:prstGeom prst="ellipse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52880" y="5521320"/>
              <a:ext cx="380880" cy="269640"/>
            </a:xfrm>
            <a:prstGeom prst="ellipse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868720" y="5521320"/>
              <a:ext cx="381240" cy="269640"/>
            </a:xfrm>
            <a:prstGeom prst="ellipse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805440" y="5521320"/>
              <a:ext cx="380880" cy="269640"/>
            </a:xfrm>
            <a:prstGeom prst="ellipse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9" name=""/>
            <p:cNvCxnSpPr>
              <a:stCxn id="766" idx="6"/>
              <a:endCxn id="767" idx="2"/>
            </p:cNvCxnSpPr>
            <p:nvPr/>
          </p:nvCxnSpPr>
          <p:spPr>
            <a:xfrm>
              <a:off x="5344920" y="5654160"/>
              <a:ext cx="5133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770" name=""/>
            <p:cNvCxnSpPr>
              <a:stCxn id="767" idx="6"/>
              <a:endCxn id="768" idx="2"/>
            </p:cNvCxnSpPr>
            <p:nvPr/>
          </p:nvCxnSpPr>
          <p:spPr>
            <a:xfrm>
              <a:off x="6260760" y="5655960"/>
              <a:ext cx="5342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771" name=""/>
            <p:cNvSpPr/>
            <p:nvPr/>
          </p:nvSpPr>
          <p:spPr>
            <a:xfrm>
              <a:off x="7711920" y="3735360"/>
              <a:ext cx="380880" cy="269640"/>
            </a:xfrm>
            <a:prstGeom prst="ellipse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2" name=""/>
            <p:cNvCxnSpPr>
              <a:stCxn id="760" idx="6"/>
              <a:endCxn id="771" idx="2"/>
            </p:cNvCxnSpPr>
            <p:nvPr/>
          </p:nvCxnSpPr>
          <p:spPr>
            <a:xfrm>
              <a:off x="7196040" y="3871440"/>
              <a:ext cx="5054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773" name=""/>
            <p:cNvSpPr/>
            <p:nvPr/>
          </p:nvSpPr>
          <p:spPr>
            <a:xfrm>
              <a:off x="7711920" y="4627440"/>
              <a:ext cx="380880" cy="271440"/>
            </a:xfrm>
            <a:prstGeom prst="ellipse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711920" y="5521320"/>
              <a:ext cx="380880" cy="269640"/>
            </a:xfrm>
            <a:prstGeom prst="ellipse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5" name=""/>
            <p:cNvCxnSpPr>
              <a:stCxn id="768" idx="6"/>
              <a:endCxn id="774" idx="2"/>
            </p:cNvCxnSpPr>
            <p:nvPr/>
          </p:nvCxnSpPr>
          <p:spPr>
            <a:xfrm>
              <a:off x="7196040" y="5654160"/>
              <a:ext cx="5054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776" name=""/>
            <p:cNvCxnSpPr>
              <a:stCxn id="763" idx="0"/>
              <a:endCxn id="758" idx="4"/>
            </p:cNvCxnSpPr>
            <p:nvPr/>
          </p:nvCxnSpPr>
          <p:spPr>
            <a:xfrm flipV="1">
              <a:off x="5142960" y="4014720"/>
              <a:ext cx="1080" cy="6037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777" name=""/>
            <p:cNvCxnSpPr>
              <a:stCxn id="764" idx="0"/>
              <a:endCxn id="759" idx="4"/>
            </p:cNvCxnSpPr>
            <p:nvPr/>
          </p:nvCxnSpPr>
          <p:spPr>
            <a:xfrm flipV="1">
              <a:off x="6058800" y="4014720"/>
              <a:ext cx="1080" cy="6037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778" name=""/>
            <p:cNvCxnSpPr>
              <a:stCxn id="765" idx="0"/>
              <a:endCxn id="760" idx="4"/>
            </p:cNvCxnSpPr>
            <p:nvPr/>
          </p:nvCxnSpPr>
          <p:spPr>
            <a:xfrm flipV="1">
              <a:off x="6995520" y="4014720"/>
              <a:ext cx="1080" cy="6037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779" name=""/>
            <p:cNvCxnSpPr>
              <a:stCxn id="764" idx="4"/>
              <a:endCxn id="767" idx="0"/>
            </p:cNvCxnSpPr>
            <p:nvPr/>
          </p:nvCxnSpPr>
          <p:spPr>
            <a:xfrm>
              <a:off x="6058800" y="4908240"/>
              <a:ext cx="1080" cy="6037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780" name=""/>
            <p:cNvCxnSpPr>
              <a:stCxn id="763" idx="6"/>
              <a:endCxn id="764" idx="2"/>
            </p:cNvCxnSpPr>
            <p:nvPr/>
          </p:nvCxnSpPr>
          <p:spPr>
            <a:xfrm>
              <a:off x="5343120" y="4763520"/>
              <a:ext cx="5166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781" name=""/>
            <p:cNvCxnSpPr>
              <a:stCxn id="766" idx="0"/>
              <a:endCxn id="763" idx="4"/>
            </p:cNvCxnSpPr>
            <p:nvPr/>
          </p:nvCxnSpPr>
          <p:spPr>
            <a:xfrm flipV="1">
              <a:off x="5142960" y="4907880"/>
              <a:ext cx="1080" cy="6037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782" name=""/>
            <p:cNvCxnSpPr>
              <a:stCxn id="764" idx="6"/>
              <a:endCxn id="765" idx="2"/>
            </p:cNvCxnSpPr>
            <p:nvPr/>
          </p:nvCxnSpPr>
          <p:spPr>
            <a:xfrm>
              <a:off x="6259320" y="4763520"/>
              <a:ext cx="5367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783" name=""/>
            <p:cNvCxnSpPr>
              <a:stCxn id="774" idx="0"/>
              <a:endCxn id="773" idx="4"/>
            </p:cNvCxnSpPr>
            <p:nvPr/>
          </p:nvCxnSpPr>
          <p:spPr>
            <a:xfrm flipV="1">
              <a:off x="7902000" y="4907880"/>
              <a:ext cx="1080" cy="6037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784" name=""/>
            <p:cNvCxnSpPr>
              <a:stCxn id="765" idx="6"/>
              <a:endCxn id="773" idx="2"/>
            </p:cNvCxnSpPr>
            <p:nvPr/>
          </p:nvCxnSpPr>
          <p:spPr>
            <a:xfrm>
              <a:off x="7196040" y="4763520"/>
              <a:ext cx="5068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785" name=""/>
            <p:cNvCxnSpPr>
              <a:stCxn id="768" idx="0"/>
              <a:endCxn id="765" idx="4"/>
            </p:cNvCxnSpPr>
            <p:nvPr/>
          </p:nvCxnSpPr>
          <p:spPr>
            <a:xfrm flipV="1">
              <a:off x="6995520" y="4907880"/>
              <a:ext cx="1080" cy="6037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786" name=""/>
            <p:cNvCxnSpPr>
              <a:stCxn id="773" idx="0"/>
              <a:endCxn id="771" idx="4"/>
            </p:cNvCxnSpPr>
            <p:nvPr/>
          </p:nvCxnSpPr>
          <p:spPr>
            <a:xfrm flipV="1">
              <a:off x="7902000" y="4014720"/>
              <a:ext cx="1080" cy="6037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grpSp>
        <p:nvGrpSpPr>
          <p:cNvPr id="787" name=""/>
          <p:cNvGrpSpPr/>
          <p:nvPr/>
        </p:nvGrpSpPr>
        <p:grpSpPr>
          <a:xfrm>
            <a:off x="5152680" y="4024440"/>
            <a:ext cx="2759760" cy="1496880"/>
            <a:chOff x="5152680" y="4024440"/>
            <a:chExt cx="2759760" cy="1496880"/>
          </a:xfrm>
        </p:grpSpPr>
        <p:cxnSp>
          <p:nvCxnSpPr>
            <p:cNvPr id="788" name=""/>
            <p:cNvCxnSpPr/>
            <p:nvPr/>
          </p:nvCxnSpPr>
          <p:spPr>
            <a:xfrm>
              <a:off x="5352840" y="4773240"/>
              <a:ext cx="516600" cy="1080"/>
            </a:xfrm>
            <a:prstGeom prst="straightConnector1">
              <a:avLst/>
            </a:prstGeom>
            <a:ln w="38160">
              <a:solidFill>
                <a:srgbClr val="00cc00"/>
              </a:solidFill>
              <a:miter/>
              <a:tailEnd len="med" type="triangle" w="med"/>
            </a:ln>
          </p:spPr>
        </p:cxnSp>
        <p:cxnSp>
          <p:nvCxnSpPr>
            <p:cNvPr id="789" name=""/>
            <p:cNvCxnSpPr/>
            <p:nvPr/>
          </p:nvCxnSpPr>
          <p:spPr>
            <a:xfrm>
              <a:off x="6269040" y="4773240"/>
              <a:ext cx="536760" cy="1080"/>
            </a:xfrm>
            <a:prstGeom prst="straightConnector1">
              <a:avLst/>
            </a:prstGeom>
            <a:ln w="38160">
              <a:solidFill>
                <a:srgbClr val="00cc00"/>
              </a:solidFill>
              <a:miter/>
              <a:tailEnd len="med" type="triangle" w="med"/>
            </a:ln>
          </p:spPr>
        </p:cxnSp>
        <p:cxnSp>
          <p:nvCxnSpPr>
            <p:cNvPr id="790" name=""/>
            <p:cNvCxnSpPr/>
            <p:nvPr/>
          </p:nvCxnSpPr>
          <p:spPr>
            <a:xfrm>
              <a:off x="5152680" y="4024440"/>
              <a:ext cx="1080" cy="603720"/>
            </a:xfrm>
            <a:prstGeom prst="straightConnector1">
              <a:avLst/>
            </a:prstGeom>
            <a:ln w="38160">
              <a:solidFill>
                <a:srgbClr val="00cc00"/>
              </a:solidFill>
              <a:miter/>
              <a:tailEnd len="med" type="triangle" w="med"/>
            </a:ln>
          </p:spPr>
        </p:cxnSp>
        <p:cxnSp>
          <p:nvCxnSpPr>
            <p:cNvPr id="791" name=""/>
            <p:cNvCxnSpPr/>
            <p:nvPr/>
          </p:nvCxnSpPr>
          <p:spPr>
            <a:xfrm>
              <a:off x="7205760" y="4773240"/>
              <a:ext cx="506880" cy="1080"/>
            </a:xfrm>
            <a:prstGeom prst="straightConnector1">
              <a:avLst/>
            </a:prstGeom>
            <a:ln w="38160">
              <a:solidFill>
                <a:srgbClr val="00cc00"/>
              </a:solidFill>
              <a:miter/>
              <a:tailEnd len="med" type="triangle" w="med"/>
            </a:ln>
          </p:spPr>
        </p:cxnSp>
        <p:cxnSp>
          <p:nvCxnSpPr>
            <p:cNvPr id="792" name=""/>
            <p:cNvCxnSpPr/>
            <p:nvPr/>
          </p:nvCxnSpPr>
          <p:spPr>
            <a:xfrm>
              <a:off x="7911720" y="4917960"/>
              <a:ext cx="1080" cy="603720"/>
            </a:xfrm>
            <a:prstGeom prst="straightConnector1">
              <a:avLst/>
            </a:prstGeom>
            <a:ln w="28440">
              <a:solidFill>
                <a:srgbClr val="00cc00"/>
              </a:solidFill>
              <a:miter/>
              <a:tailEnd len="med" type="triangle" w="med"/>
            </a:ln>
          </p:spPr>
        </p:cxnSp>
      </p:grpSp>
      <p:grpSp>
        <p:nvGrpSpPr>
          <p:cNvPr id="793" name=""/>
          <p:cNvGrpSpPr/>
          <p:nvPr/>
        </p:nvGrpSpPr>
        <p:grpSpPr>
          <a:xfrm>
            <a:off x="5349960" y="3871440"/>
            <a:ext cx="2365200" cy="1784880"/>
            <a:chOff x="5349960" y="3871440"/>
            <a:chExt cx="2365200" cy="1784880"/>
          </a:xfrm>
        </p:grpSpPr>
        <p:cxnSp>
          <p:nvCxnSpPr>
            <p:cNvPr id="794" name=""/>
            <p:cNvCxnSpPr/>
            <p:nvPr/>
          </p:nvCxnSpPr>
          <p:spPr>
            <a:xfrm>
              <a:off x="6279840" y="4771440"/>
              <a:ext cx="516600" cy="1080"/>
            </a:xfrm>
            <a:prstGeom prst="straightConnector1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</p:cxnSp>
        <p:cxnSp>
          <p:nvCxnSpPr>
            <p:cNvPr id="795" name=""/>
            <p:cNvCxnSpPr/>
            <p:nvPr/>
          </p:nvCxnSpPr>
          <p:spPr>
            <a:xfrm>
              <a:off x="6276600" y="5655600"/>
              <a:ext cx="537480" cy="1080"/>
            </a:xfrm>
            <a:prstGeom prst="straightConnector1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796" name=""/>
            <p:cNvCxnSpPr/>
            <p:nvPr/>
          </p:nvCxnSpPr>
          <p:spPr>
            <a:xfrm>
              <a:off x="7009920" y="4022640"/>
              <a:ext cx="1080" cy="603720"/>
            </a:xfrm>
            <a:prstGeom prst="straightConnector1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797" name=""/>
            <p:cNvCxnSpPr/>
            <p:nvPr/>
          </p:nvCxnSpPr>
          <p:spPr>
            <a:xfrm>
              <a:off x="6299280" y="3871440"/>
              <a:ext cx="506880" cy="1080"/>
            </a:xfrm>
            <a:prstGeom prst="straightConnector1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798" name=""/>
            <p:cNvCxnSpPr/>
            <p:nvPr/>
          </p:nvCxnSpPr>
          <p:spPr>
            <a:xfrm>
              <a:off x="6063840" y="4893840"/>
              <a:ext cx="1080" cy="603720"/>
            </a:xfrm>
            <a:prstGeom prst="straightConnector1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799" name=""/>
            <p:cNvCxnSpPr/>
            <p:nvPr/>
          </p:nvCxnSpPr>
          <p:spPr>
            <a:xfrm>
              <a:off x="7178760" y="5655600"/>
              <a:ext cx="536760" cy="1080"/>
            </a:xfrm>
            <a:prstGeom prst="straightConnector1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/>
            <p:nvPr/>
          </p:nvCxnSpPr>
          <p:spPr>
            <a:xfrm>
              <a:off x="5349960" y="3871440"/>
              <a:ext cx="536760" cy="1080"/>
            </a:xfrm>
            <a:prstGeom prst="straightConnector1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</p:grpSp>
      <p:grpSp>
        <p:nvGrpSpPr>
          <p:cNvPr id="801" name=""/>
          <p:cNvGrpSpPr/>
          <p:nvPr/>
        </p:nvGrpSpPr>
        <p:grpSpPr>
          <a:xfrm>
            <a:off x="6248160" y="4497480"/>
            <a:ext cx="500400" cy="500040"/>
            <a:chOff x="6248160" y="4497480"/>
            <a:chExt cx="500400" cy="500040"/>
          </a:xfrm>
        </p:grpSpPr>
        <p:sp>
          <p:nvSpPr>
            <p:cNvPr id="802" name=""/>
            <p:cNvSpPr/>
            <p:nvPr/>
          </p:nvSpPr>
          <p:spPr>
            <a:xfrm>
              <a:off x="6248520" y="4497480"/>
              <a:ext cx="500040" cy="500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6248160" y="4497480"/>
              <a:ext cx="500040" cy="500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"/>
          <p:cNvSpPr/>
          <p:nvPr/>
        </p:nvSpPr>
        <p:spPr>
          <a:xfrm>
            <a:off x="4876920" y="1197360"/>
            <a:ext cx="3600360" cy="2224800"/>
          </a:xfrm>
          <a:prstGeom prst="horizontalScroll">
            <a:avLst>
              <a:gd name="adj" fmla="val 12500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ctr" anchorCtr="1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In spite of 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</a:rPr>
              <a:t>available resources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, TSA algorithm 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</a:rPr>
              <a:t>does not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always 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</a:rPr>
              <a:t>find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the two completely disjoint pa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85800" y="3687480"/>
            <a:ext cx="3200400" cy="2386440"/>
          </a:xfrm>
          <a:prstGeom prst="horizontalScroll">
            <a:avLst>
              <a:gd name="adj" fmla="val 12500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ctr" anchorCtr="1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TSA algorithm fails the research of the two disjoint paths, whereas Bhandari’s algrithm achieves two completely disjoint pa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5128920" y="4022640"/>
            <a:ext cx="2590920" cy="1632240"/>
            <a:chOff x="5128920" y="4022640"/>
            <a:chExt cx="2590920" cy="1632240"/>
          </a:xfrm>
        </p:grpSpPr>
        <p:cxnSp>
          <p:nvCxnSpPr>
            <p:cNvPr id="807" name=""/>
            <p:cNvCxnSpPr/>
            <p:nvPr/>
          </p:nvCxnSpPr>
          <p:spPr>
            <a:xfrm>
              <a:off x="5351040" y="4771800"/>
              <a:ext cx="532440" cy="1080"/>
            </a:xfrm>
            <a:prstGeom prst="straightConnector1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808" name=""/>
            <p:cNvCxnSpPr/>
            <p:nvPr/>
          </p:nvCxnSpPr>
          <p:spPr>
            <a:xfrm>
              <a:off x="6248520" y="5654160"/>
              <a:ext cx="576360" cy="1080"/>
            </a:xfrm>
            <a:prstGeom prst="straightConnector1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809" name=""/>
            <p:cNvCxnSpPr/>
            <p:nvPr/>
          </p:nvCxnSpPr>
          <p:spPr>
            <a:xfrm>
              <a:off x="5128920" y="4022640"/>
              <a:ext cx="1080" cy="619920"/>
            </a:xfrm>
            <a:prstGeom prst="straightConnector1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810" name=""/>
            <p:cNvCxnSpPr/>
            <p:nvPr/>
          </p:nvCxnSpPr>
          <p:spPr>
            <a:xfrm>
              <a:off x="7162560" y="5654160"/>
              <a:ext cx="557640" cy="1080"/>
            </a:xfrm>
            <a:prstGeom prst="straightConnector1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811" name=""/>
            <p:cNvCxnSpPr/>
            <p:nvPr/>
          </p:nvCxnSpPr>
          <p:spPr>
            <a:xfrm>
              <a:off x="6070320" y="4905360"/>
              <a:ext cx="1080" cy="619920"/>
            </a:xfrm>
            <a:prstGeom prst="straightConnector1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812" name=""/>
          <p:cNvGrpSpPr/>
          <p:nvPr/>
        </p:nvGrpSpPr>
        <p:grpSpPr>
          <a:xfrm>
            <a:off x="5343120" y="3870000"/>
            <a:ext cx="2567880" cy="1670400"/>
            <a:chOff x="5343120" y="3870000"/>
            <a:chExt cx="2567880" cy="1670400"/>
          </a:xfrm>
        </p:grpSpPr>
        <p:cxnSp>
          <p:nvCxnSpPr>
            <p:cNvPr id="813" name=""/>
            <p:cNvCxnSpPr/>
            <p:nvPr/>
          </p:nvCxnSpPr>
          <p:spPr>
            <a:xfrm>
              <a:off x="5343120" y="3870000"/>
              <a:ext cx="577080" cy="5400"/>
            </a:xfrm>
            <a:prstGeom prst="straightConnector1">
              <a:avLst/>
            </a:prstGeom>
            <a:ln w="63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814" name=""/>
            <p:cNvCxnSpPr/>
            <p:nvPr/>
          </p:nvCxnSpPr>
          <p:spPr>
            <a:xfrm>
              <a:off x="6259680" y="3870360"/>
              <a:ext cx="576360" cy="2160"/>
            </a:xfrm>
            <a:prstGeom prst="straightConnector1">
              <a:avLst/>
            </a:prstGeom>
            <a:ln w="63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815" name=""/>
            <p:cNvCxnSpPr/>
            <p:nvPr/>
          </p:nvCxnSpPr>
          <p:spPr>
            <a:xfrm>
              <a:off x="6995880" y="4014360"/>
              <a:ext cx="14760" cy="648360"/>
            </a:xfrm>
            <a:prstGeom prst="straightConnector1">
              <a:avLst/>
            </a:prstGeom>
            <a:ln w="63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816" name=""/>
            <p:cNvCxnSpPr/>
            <p:nvPr/>
          </p:nvCxnSpPr>
          <p:spPr>
            <a:xfrm>
              <a:off x="7195680" y="4763880"/>
              <a:ext cx="577080" cy="6840"/>
            </a:xfrm>
            <a:prstGeom prst="straightConnector1">
              <a:avLst/>
            </a:prstGeom>
            <a:ln w="63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817" name=""/>
            <p:cNvCxnSpPr/>
            <p:nvPr/>
          </p:nvCxnSpPr>
          <p:spPr>
            <a:xfrm>
              <a:off x="7902720" y="4908240"/>
              <a:ext cx="8640" cy="632520"/>
            </a:xfrm>
            <a:prstGeom prst="straightConnector1">
              <a:avLst/>
            </a:prstGeom>
            <a:ln w="63360">
              <a:solidFill>
                <a:srgbClr val="ffff00"/>
              </a:solidFill>
              <a:miter/>
              <a:tailEnd len="med" type="triangle" w="med"/>
            </a:ln>
          </p:spPr>
        </p:cxnSp>
      </p:grpSp>
      <p:grpSp>
        <p:nvGrpSpPr>
          <p:cNvPr id="818" name=""/>
          <p:cNvGrpSpPr/>
          <p:nvPr/>
        </p:nvGrpSpPr>
        <p:grpSpPr>
          <a:xfrm>
            <a:off x="6172200" y="4419720"/>
            <a:ext cx="625320" cy="669960"/>
            <a:chOff x="6172200" y="4419720"/>
            <a:chExt cx="625320" cy="669960"/>
          </a:xfrm>
        </p:grpSpPr>
        <p:sp>
          <p:nvSpPr>
            <p:cNvPr id="819" name=""/>
            <p:cNvSpPr/>
            <p:nvPr/>
          </p:nvSpPr>
          <p:spPr>
            <a:xfrm>
              <a:off x="6264360" y="4419720"/>
              <a:ext cx="533160" cy="66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172200" y="4419720"/>
              <a:ext cx="53352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172200" y="4876920"/>
              <a:ext cx="53352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264360" y="47689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001880" y="127080"/>
            <a:ext cx="795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</a:rPr>
              <a:t>Class of Recovery - CoR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01680" y="851040"/>
            <a:ext cx="84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Gold</a:t>
            </a:r>
            <a:r>
              <a:rPr b="1" i="1" lang="it-IT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01680" y="2604960"/>
            <a:ext cx="857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99"/>
              </a:spcBef>
              <a:buClr>
                <a:srgbClr val="0000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ilver</a:t>
            </a:r>
            <a:r>
              <a:rPr b="1" i="1" lang="it-IT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301680" y="4065480"/>
            <a:ext cx="864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99"/>
              </a:spcBef>
              <a:buClr>
                <a:srgbClr val="000066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Bronze</a:t>
            </a:r>
            <a:r>
              <a:rPr b="1" i="1" lang="it-IT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01680" y="552600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99"/>
              </a:spcBef>
              <a:buClr>
                <a:srgbClr val="000066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Unprotected</a:t>
            </a:r>
            <a:r>
              <a:rPr b="1" i="1" lang="it-IT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01680" y="1195560"/>
            <a:ext cx="849636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lowest blocking probability for the recove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fastest reaction times (e.g. around 50m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t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his CoR applies to the </a:t>
            </a:r>
            <a:r>
              <a:rPr b="1" i="1" lang="it-IT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P</a:t>
            </a:r>
            <a:r>
              <a:rPr b="1" i="1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rotection 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strate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it implies the computation of a pair of maximally disjoint paths to guarantee the total resource redundancy and uncorrel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01680" y="2949480"/>
            <a:ext cx="857232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fast reaction times (e.g. less than 1s)</a:t>
            </a:r>
            <a:r>
              <a:rPr b="0" lang="it-IT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t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his CoR applies to </a:t>
            </a:r>
            <a:r>
              <a:rPr b="1" i="1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Fast Restoration 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strate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it implies the computation of a pair of disjoint paths in order to guarantee a level of resource uncorrel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01680" y="4410000"/>
            <a:ext cx="864864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w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hen reaction times around 1s are acceptable</a:t>
            </a:r>
            <a:r>
              <a:rPr b="0" lang="it-IT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t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his CoR applies to </a:t>
            </a:r>
            <a:r>
              <a:rPr b="1" i="1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On-the-fly </a:t>
            </a:r>
            <a:r>
              <a:rPr b="1" i="1" lang="it-IT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R</a:t>
            </a:r>
            <a:r>
              <a:rPr b="1" i="1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estoration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strate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it implies the computation of an optimal worker path when the request is received and the computation of an optimal backup one at failure occurre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01680" y="587052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no survivability is requested for the traffic of the LSP (e.g. preemptable or </a:t>
            </a:r>
            <a:r>
              <a:rPr b="0" lang="it-IT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BE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traffic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281160" y="973080"/>
            <a:ext cx="869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Gold</a:t>
            </a:r>
            <a:r>
              <a:rPr b="1" i="1" lang="it-IT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serv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81160" y="2881440"/>
            <a:ext cx="869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99"/>
              </a:spcBef>
              <a:buClr>
                <a:srgbClr val="0000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ilver</a:t>
            </a:r>
            <a:r>
              <a:rPr b="1" i="1" lang="it-IT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serv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81160" y="5035680"/>
            <a:ext cx="869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99"/>
              </a:spcBef>
              <a:buClr>
                <a:srgbClr val="000066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Bronze</a:t>
            </a:r>
            <a:r>
              <a:rPr b="1" i="1" lang="it-IT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serv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001880" y="127080"/>
            <a:ext cx="79516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</a:rPr>
              <a:t>Class of Recovery - CoR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81160" y="1409760"/>
            <a:ext cx="86929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is the most exacting in terms of </a:t>
            </a:r>
            <a:r>
              <a:rPr b="0" i="1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optimality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of the computation</a:t>
            </a:r>
            <a:r>
              <a:rPr b="0" lang="it-IT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 least cost pair of disjoint paths is required, providing that it is also the </a:t>
            </a:r>
            <a:r>
              <a:rPr b="0" i="1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maximally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i="1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disjoint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pair in the networ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mong m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ny algorithms proposed,</a:t>
            </a:r>
            <a:r>
              <a:rPr b="0" lang="it-IT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the </a:t>
            </a:r>
            <a:r>
              <a:rPr b="0" i="1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Bhandari</a:t>
            </a:r>
            <a:r>
              <a:rPr b="0" i="1" lang="it-IT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’s</a:t>
            </a:r>
            <a:r>
              <a:rPr b="0" lang="it-IT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one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promise</a:t>
            </a:r>
            <a:r>
              <a:rPr b="0" lang="it-IT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s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lower theoretical complexity</a:t>
            </a:r>
            <a:r>
              <a:rPr b="0" lang="it-IT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79360" y="3319560"/>
            <a:ext cx="86932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is </a:t>
            </a:r>
            <a:r>
              <a:rPr b="0" i="1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sub-optimal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, because the backup paths do not take into account any modification of the network load occurred in the meanwh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we compute the backup LSP trying to satisfy the required disjointness, but with </a:t>
            </a:r>
            <a:r>
              <a:rPr b="0" i="1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no guarantee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for success and for optimality (i.e. the resulting backup not maximally disjoint and the pair might not have the cumulative shortest cost in the network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f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or this kind of computation we used the </a:t>
            </a:r>
            <a:r>
              <a:rPr b="0" i="1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TSA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algorith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81160" y="5473800"/>
            <a:ext cx="869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is the </a:t>
            </a:r>
            <a:r>
              <a:rPr b="0" i="1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slowest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approach</a:t>
            </a:r>
            <a:r>
              <a:rPr b="0" lang="it-IT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,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because of the time spent for failure detection, localisation, notification and mitig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001880" y="127080"/>
            <a:ext cx="795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</a:rPr>
              <a:t>Network topologies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40" name="" descr=""/>
          <p:cNvPicPr/>
          <p:nvPr/>
        </p:nvPicPr>
        <p:blipFill>
          <a:blip r:embed="rId1"/>
          <a:stretch/>
        </p:blipFill>
        <p:spPr>
          <a:xfrm>
            <a:off x="615960" y="3352680"/>
            <a:ext cx="2781360" cy="2810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841" name=""/>
              <p:cNvSpPr txBox="1"/>
              <p:nvPr/>
            </p:nvSpPr>
            <p:spPr>
              <a:xfrm>
                <a:off x="1308240" y="1519200"/>
                <a:ext cx="159228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D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42" name=""/>
          <p:cNvGrpSpPr/>
          <p:nvPr/>
        </p:nvGrpSpPr>
        <p:grpSpPr>
          <a:xfrm>
            <a:off x="6858000" y="860400"/>
            <a:ext cx="2112840" cy="4222800"/>
            <a:chOff x="6858000" y="860400"/>
            <a:chExt cx="2112840" cy="4222800"/>
          </a:xfrm>
        </p:grpSpPr>
        <mc:AlternateContent>
          <mc:Choice xmlns:a14="http://schemas.microsoft.com/office/drawing/2010/main" Requires="a14">
            <p:sp>
              <p:nvSpPr>
                <p:cNvPr id="843" name=""/>
                <p:cNvSpPr txBox="1"/>
                <p:nvPr/>
              </p:nvSpPr>
              <p:spPr>
                <a:xfrm>
                  <a:off x="6858000" y="860400"/>
                  <a:ext cx="1452600" cy="51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D</m:t>
                      </m:r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M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44" name=""/>
                <p:cNvSpPr txBox="1"/>
                <p:nvPr/>
              </p:nvSpPr>
              <p:spPr>
                <a:xfrm>
                  <a:off x="6858000" y="4572000"/>
                  <a:ext cx="2112840" cy="51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D</m:t>
                      </m:r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M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⋅</m:t>
                          </m:r>
                          <m:r>
                            <m:t xml:space="preserve">M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45" name=""/>
                <p:cNvSpPr txBox="1"/>
                <p:nvPr/>
              </p:nvSpPr>
              <p:spPr>
                <a:xfrm>
                  <a:off x="6858000" y="2765520"/>
                  <a:ext cx="2112840" cy="51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D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t xml:space="preserve">M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⋅</m:t>
                          </m:r>
                          <m:r>
                            <m:t xml:space="preserve">M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6" name=""/>
          <p:cNvGrpSpPr/>
          <p:nvPr/>
        </p:nvGrpSpPr>
        <p:grpSpPr>
          <a:xfrm>
            <a:off x="3962520" y="762120"/>
            <a:ext cx="2895480" cy="5623560"/>
            <a:chOff x="3962520" y="762120"/>
            <a:chExt cx="2895480" cy="5623560"/>
          </a:xfrm>
        </p:grpSpPr>
        <p:grpSp>
          <p:nvGrpSpPr>
            <p:cNvPr id="847" name=""/>
            <p:cNvGrpSpPr/>
            <p:nvPr/>
          </p:nvGrpSpPr>
          <p:grpSpPr>
            <a:xfrm>
              <a:off x="4267080" y="4738680"/>
              <a:ext cx="2303280" cy="1356840"/>
              <a:chOff x="4267080" y="4738680"/>
              <a:chExt cx="2303280" cy="1356840"/>
            </a:xfrm>
          </p:grpSpPr>
          <p:sp>
            <p:nvSpPr>
              <p:cNvPr id="848" name=""/>
              <p:cNvSpPr/>
              <p:nvPr/>
            </p:nvSpPr>
            <p:spPr>
              <a:xfrm>
                <a:off x="4267080" y="4738680"/>
                <a:ext cx="265680" cy="19692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4945320" y="4738680"/>
                <a:ext cx="265680" cy="19692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624640" y="4738680"/>
                <a:ext cx="266040" cy="19692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304680" y="4738680"/>
                <a:ext cx="265680" cy="19692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52" name=""/>
              <p:cNvCxnSpPr>
                <a:stCxn id="848" idx="6"/>
                <a:endCxn id="849" idx="2"/>
              </p:cNvCxnSpPr>
              <p:nvPr/>
            </p:nvCxnSpPr>
            <p:spPr>
              <a:xfrm>
                <a:off x="4540320" y="4836600"/>
                <a:ext cx="39708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853" name=""/>
              <p:cNvCxnSpPr>
                <a:stCxn id="849" idx="6"/>
                <a:endCxn id="850" idx="2"/>
              </p:cNvCxnSpPr>
              <p:nvPr/>
            </p:nvCxnSpPr>
            <p:spPr>
              <a:xfrm>
                <a:off x="5218920" y="4836600"/>
                <a:ext cx="39852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</p:cxnSp>
          <p:cxnSp>
            <p:nvCxnSpPr>
              <p:cNvPr id="854" name=""/>
              <p:cNvCxnSpPr>
                <a:stCxn id="850" idx="6"/>
                <a:endCxn id="851" idx="2"/>
              </p:cNvCxnSpPr>
              <p:nvPr/>
            </p:nvCxnSpPr>
            <p:spPr>
              <a:xfrm>
                <a:off x="5898240" y="4836600"/>
                <a:ext cx="39852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sp>
            <p:nvSpPr>
              <p:cNvPr id="855" name=""/>
              <p:cNvSpPr/>
              <p:nvPr/>
            </p:nvSpPr>
            <p:spPr>
              <a:xfrm>
                <a:off x="4267080" y="5317920"/>
                <a:ext cx="265680" cy="19728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945320" y="5317920"/>
                <a:ext cx="265680" cy="19728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624640" y="5317920"/>
                <a:ext cx="266040" cy="19728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304680" y="5317920"/>
                <a:ext cx="265680" cy="19728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59" name=""/>
              <p:cNvCxnSpPr>
                <a:stCxn id="855" idx="6"/>
                <a:endCxn id="856" idx="2"/>
              </p:cNvCxnSpPr>
              <p:nvPr/>
            </p:nvCxnSpPr>
            <p:spPr>
              <a:xfrm>
                <a:off x="4540320" y="5416200"/>
                <a:ext cx="39708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860" name=""/>
              <p:cNvCxnSpPr>
                <a:stCxn id="856" idx="6"/>
                <a:endCxn id="857" idx="2"/>
              </p:cNvCxnSpPr>
              <p:nvPr/>
            </p:nvCxnSpPr>
            <p:spPr>
              <a:xfrm>
                <a:off x="5218920" y="5416200"/>
                <a:ext cx="39852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</p:cxnSp>
          <p:cxnSp>
            <p:nvCxnSpPr>
              <p:cNvPr id="861" name=""/>
              <p:cNvCxnSpPr>
                <a:stCxn id="857" idx="6"/>
                <a:endCxn id="858" idx="2"/>
              </p:cNvCxnSpPr>
              <p:nvPr/>
            </p:nvCxnSpPr>
            <p:spPr>
              <a:xfrm>
                <a:off x="5898240" y="5416200"/>
                <a:ext cx="39852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sp>
            <p:nvSpPr>
              <p:cNvPr id="862" name=""/>
              <p:cNvSpPr/>
              <p:nvPr/>
            </p:nvSpPr>
            <p:spPr>
              <a:xfrm>
                <a:off x="4267080" y="5898240"/>
                <a:ext cx="265680" cy="19728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945320" y="5898240"/>
                <a:ext cx="265680" cy="19728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5624640" y="5898240"/>
                <a:ext cx="266040" cy="19728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6304680" y="5898240"/>
                <a:ext cx="265680" cy="19728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66" name=""/>
              <p:cNvCxnSpPr>
                <a:stCxn id="862" idx="6"/>
                <a:endCxn id="863" idx="2"/>
              </p:cNvCxnSpPr>
              <p:nvPr/>
            </p:nvCxnSpPr>
            <p:spPr>
              <a:xfrm>
                <a:off x="4540320" y="5996880"/>
                <a:ext cx="39708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867" name=""/>
              <p:cNvCxnSpPr>
                <a:stCxn id="863" idx="6"/>
                <a:endCxn id="864" idx="2"/>
              </p:cNvCxnSpPr>
              <p:nvPr/>
            </p:nvCxnSpPr>
            <p:spPr>
              <a:xfrm>
                <a:off x="5218920" y="5996880"/>
                <a:ext cx="39852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</p:cxnSp>
          <p:cxnSp>
            <p:nvCxnSpPr>
              <p:cNvPr id="868" name=""/>
              <p:cNvCxnSpPr>
                <a:stCxn id="864" idx="6"/>
                <a:endCxn id="865" idx="2"/>
              </p:cNvCxnSpPr>
              <p:nvPr/>
            </p:nvCxnSpPr>
            <p:spPr>
              <a:xfrm>
                <a:off x="5898240" y="5996880"/>
                <a:ext cx="39852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869" name=""/>
              <p:cNvCxnSpPr>
                <a:stCxn id="848" idx="4"/>
                <a:endCxn id="855" idx="0"/>
              </p:cNvCxnSpPr>
              <p:nvPr/>
            </p:nvCxnSpPr>
            <p:spPr>
              <a:xfrm>
                <a:off x="4399560" y="4941360"/>
                <a:ext cx="1080" cy="3711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870" name=""/>
              <p:cNvCxnSpPr>
                <a:stCxn id="855" idx="4"/>
                <a:endCxn id="862" idx="0"/>
              </p:cNvCxnSpPr>
              <p:nvPr/>
            </p:nvCxnSpPr>
            <p:spPr>
              <a:xfrm>
                <a:off x="4399560" y="5520600"/>
                <a:ext cx="1080" cy="3718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</p:cxnSp>
          <p:cxnSp>
            <p:nvCxnSpPr>
              <p:cNvPr id="871" name=""/>
              <p:cNvCxnSpPr>
                <a:stCxn id="849" idx="4"/>
                <a:endCxn id="856" idx="0"/>
              </p:cNvCxnSpPr>
              <p:nvPr/>
            </p:nvCxnSpPr>
            <p:spPr>
              <a:xfrm>
                <a:off x="5078160" y="4941360"/>
                <a:ext cx="1080" cy="3711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872" name=""/>
              <p:cNvCxnSpPr>
                <a:stCxn id="856" idx="4"/>
                <a:endCxn id="863" idx="0"/>
              </p:cNvCxnSpPr>
              <p:nvPr/>
            </p:nvCxnSpPr>
            <p:spPr>
              <a:xfrm>
                <a:off x="5078160" y="5520600"/>
                <a:ext cx="1080" cy="3718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</p:cxnSp>
          <p:cxnSp>
            <p:nvCxnSpPr>
              <p:cNvPr id="873" name=""/>
              <p:cNvCxnSpPr>
                <a:stCxn id="850" idx="4"/>
                <a:endCxn id="857" idx="0"/>
              </p:cNvCxnSpPr>
              <p:nvPr/>
            </p:nvCxnSpPr>
            <p:spPr>
              <a:xfrm>
                <a:off x="5757480" y="4941360"/>
                <a:ext cx="1080" cy="3711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874" name=""/>
              <p:cNvCxnSpPr>
                <a:stCxn id="857" idx="4"/>
                <a:endCxn id="864" idx="0"/>
              </p:cNvCxnSpPr>
              <p:nvPr/>
            </p:nvCxnSpPr>
            <p:spPr>
              <a:xfrm>
                <a:off x="5757480" y="5520600"/>
                <a:ext cx="1080" cy="3718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</p:cxnSp>
          <p:cxnSp>
            <p:nvCxnSpPr>
              <p:cNvPr id="875" name=""/>
              <p:cNvCxnSpPr>
                <a:stCxn id="851" idx="4"/>
                <a:endCxn id="858" idx="0"/>
              </p:cNvCxnSpPr>
              <p:nvPr/>
            </p:nvCxnSpPr>
            <p:spPr>
              <a:xfrm>
                <a:off x="6437160" y="4941360"/>
                <a:ext cx="1080" cy="3711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876" name=""/>
              <p:cNvCxnSpPr>
                <a:stCxn id="858" idx="4"/>
                <a:endCxn id="865" idx="0"/>
              </p:cNvCxnSpPr>
              <p:nvPr/>
            </p:nvCxnSpPr>
            <p:spPr>
              <a:xfrm>
                <a:off x="6437160" y="5520600"/>
                <a:ext cx="1080" cy="3718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</p:cxnSp>
          <p:cxnSp>
            <p:nvCxnSpPr>
              <p:cNvPr id="877" name=""/>
              <p:cNvCxnSpPr>
                <a:stCxn id="848" idx="5"/>
                <a:endCxn id="856" idx="1"/>
              </p:cNvCxnSpPr>
              <p:nvPr/>
            </p:nvCxnSpPr>
            <p:spPr>
              <a:xfrm>
                <a:off x="4493880" y="4912560"/>
                <a:ext cx="491040" cy="429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78" name=""/>
              <p:cNvCxnSpPr>
                <a:stCxn id="849" idx="5"/>
                <a:endCxn id="857" idx="1"/>
              </p:cNvCxnSpPr>
              <p:nvPr/>
            </p:nvCxnSpPr>
            <p:spPr>
              <a:xfrm>
                <a:off x="5172120" y="4912560"/>
                <a:ext cx="492120" cy="429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</p:cxnSp>
          <p:cxnSp>
            <p:nvCxnSpPr>
              <p:cNvPr id="879" name=""/>
              <p:cNvCxnSpPr>
                <a:stCxn id="850" idx="5"/>
                <a:endCxn id="858" idx="1"/>
              </p:cNvCxnSpPr>
              <p:nvPr/>
            </p:nvCxnSpPr>
            <p:spPr>
              <a:xfrm>
                <a:off x="5851800" y="4912560"/>
                <a:ext cx="492120" cy="429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80" name=""/>
              <p:cNvCxnSpPr>
                <a:stCxn id="855" idx="5"/>
                <a:endCxn id="863" idx="1"/>
              </p:cNvCxnSpPr>
              <p:nvPr/>
            </p:nvCxnSpPr>
            <p:spPr>
              <a:xfrm>
                <a:off x="4493880" y="5491800"/>
                <a:ext cx="491040" cy="4302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</p:cxnSp>
          <p:cxnSp>
            <p:nvCxnSpPr>
              <p:cNvPr id="881" name=""/>
              <p:cNvCxnSpPr>
                <a:stCxn id="856" idx="5"/>
                <a:endCxn id="864" idx="1"/>
              </p:cNvCxnSpPr>
              <p:nvPr/>
            </p:nvCxnSpPr>
            <p:spPr>
              <a:xfrm>
                <a:off x="5172120" y="5491800"/>
                <a:ext cx="492120" cy="4302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</p:cxnSp>
          <p:cxnSp>
            <p:nvCxnSpPr>
              <p:cNvPr id="882" name=""/>
              <p:cNvCxnSpPr>
                <a:stCxn id="857" idx="5"/>
                <a:endCxn id="865" idx="1"/>
              </p:cNvCxnSpPr>
              <p:nvPr/>
            </p:nvCxnSpPr>
            <p:spPr>
              <a:xfrm>
                <a:off x="5851800" y="5491800"/>
                <a:ext cx="492120" cy="4302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</p:cxnSp>
          <p:cxnSp>
            <p:nvCxnSpPr>
              <p:cNvPr id="883" name=""/>
              <p:cNvCxnSpPr>
                <a:stCxn id="855" idx="7"/>
                <a:endCxn id="849" idx="3"/>
              </p:cNvCxnSpPr>
              <p:nvPr/>
            </p:nvCxnSpPr>
            <p:spPr>
              <a:xfrm flipV="1">
                <a:off x="4493880" y="4912200"/>
                <a:ext cx="491040" cy="429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84" name=""/>
              <p:cNvCxnSpPr>
                <a:stCxn id="856" idx="7"/>
                <a:endCxn id="850" idx="3"/>
              </p:cNvCxnSpPr>
              <p:nvPr/>
            </p:nvCxnSpPr>
            <p:spPr>
              <a:xfrm flipV="1">
                <a:off x="5172120" y="4912200"/>
                <a:ext cx="492120" cy="429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</p:cxnSp>
          <p:cxnSp>
            <p:nvCxnSpPr>
              <p:cNvPr id="885" name=""/>
              <p:cNvCxnSpPr>
                <a:stCxn id="857" idx="7"/>
                <a:endCxn id="851" idx="3"/>
              </p:cNvCxnSpPr>
              <p:nvPr/>
            </p:nvCxnSpPr>
            <p:spPr>
              <a:xfrm flipV="1">
                <a:off x="5851800" y="4912200"/>
                <a:ext cx="492120" cy="429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86" name=""/>
              <p:cNvCxnSpPr>
                <a:stCxn id="862" idx="7"/>
                <a:endCxn id="856" idx="3"/>
              </p:cNvCxnSpPr>
              <p:nvPr/>
            </p:nvCxnSpPr>
            <p:spPr>
              <a:xfrm flipV="1">
                <a:off x="4493880" y="5491440"/>
                <a:ext cx="491040" cy="4302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</p:cxnSp>
          <p:cxnSp>
            <p:nvCxnSpPr>
              <p:cNvPr id="887" name=""/>
              <p:cNvCxnSpPr>
                <a:stCxn id="863" idx="7"/>
                <a:endCxn id="857" idx="3"/>
              </p:cNvCxnSpPr>
              <p:nvPr/>
            </p:nvCxnSpPr>
            <p:spPr>
              <a:xfrm flipV="1">
                <a:off x="5172120" y="5491440"/>
                <a:ext cx="492120" cy="4302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</p:cxnSp>
          <p:cxnSp>
            <p:nvCxnSpPr>
              <p:cNvPr id="888" name=""/>
              <p:cNvCxnSpPr>
                <a:stCxn id="864" idx="7"/>
                <a:endCxn id="858" idx="3"/>
              </p:cNvCxnSpPr>
              <p:nvPr/>
            </p:nvCxnSpPr>
            <p:spPr>
              <a:xfrm flipV="1">
                <a:off x="5851800" y="5491440"/>
                <a:ext cx="492120" cy="4302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</p:cxnSp>
        </p:grpSp>
        <p:grpSp>
          <p:nvGrpSpPr>
            <p:cNvPr id="889" name=""/>
            <p:cNvGrpSpPr/>
            <p:nvPr/>
          </p:nvGrpSpPr>
          <p:grpSpPr>
            <a:xfrm>
              <a:off x="4267080" y="2770200"/>
              <a:ext cx="2335320" cy="1379520"/>
              <a:chOff x="4267080" y="2770200"/>
              <a:chExt cx="2335320" cy="1379520"/>
            </a:xfrm>
          </p:grpSpPr>
          <p:sp>
            <p:nvSpPr>
              <p:cNvPr id="890" name=""/>
              <p:cNvSpPr/>
              <p:nvPr/>
            </p:nvSpPr>
            <p:spPr>
              <a:xfrm>
                <a:off x="4267080" y="2770200"/>
                <a:ext cx="296280" cy="21960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945680" y="2770200"/>
                <a:ext cx="296280" cy="21960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625720" y="2770200"/>
                <a:ext cx="296280" cy="21960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6306120" y="2770200"/>
                <a:ext cx="296280" cy="21960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94" name=""/>
              <p:cNvCxnSpPr>
                <a:stCxn id="890" idx="6"/>
                <a:endCxn id="891" idx="2"/>
              </p:cNvCxnSpPr>
              <p:nvPr/>
            </p:nvCxnSpPr>
            <p:spPr>
              <a:xfrm>
                <a:off x="4570920" y="2879640"/>
                <a:ext cx="36720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895" name=""/>
              <p:cNvCxnSpPr>
                <a:stCxn id="891" idx="6"/>
                <a:endCxn id="892" idx="2"/>
              </p:cNvCxnSpPr>
              <p:nvPr/>
            </p:nvCxnSpPr>
            <p:spPr>
              <a:xfrm>
                <a:off x="5249880" y="2879640"/>
                <a:ext cx="36864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</p:cxnSp>
          <p:cxnSp>
            <p:nvCxnSpPr>
              <p:cNvPr id="896" name=""/>
              <p:cNvCxnSpPr>
                <a:stCxn id="892" idx="6"/>
                <a:endCxn id="893" idx="2"/>
              </p:cNvCxnSpPr>
              <p:nvPr/>
            </p:nvCxnSpPr>
            <p:spPr>
              <a:xfrm>
                <a:off x="5929920" y="2879640"/>
                <a:ext cx="36864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sp>
            <p:nvSpPr>
              <p:cNvPr id="897" name=""/>
              <p:cNvSpPr/>
              <p:nvPr/>
            </p:nvSpPr>
            <p:spPr>
              <a:xfrm>
                <a:off x="4267080" y="3349440"/>
                <a:ext cx="296280" cy="21960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945680" y="3349440"/>
                <a:ext cx="296280" cy="21960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5625720" y="3349440"/>
                <a:ext cx="296280" cy="21960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6306120" y="3349440"/>
                <a:ext cx="296280" cy="21960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01" name=""/>
              <p:cNvCxnSpPr>
                <a:stCxn id="897" idx="6"/>
                <a:endCxn id="898" idx="2"/>
              </p:cNvCxnSpPr>
              <p:nvPr/>
            </p:nvCxnSpPr>
            <p:spPr>
              <a:xfrm>
                <a:off x="4570920" y="3459600"/>
                <a:ext cx="36720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902" name=""/>
              <p:cNvCxnSpPr>
                <a:stCxn id="898" idx="6"/>
                <a:endCxn id="899" idx="2"/>
              </p:cNvCxnSpPr>
              <p:nvPr/>
            </p:nvCxnSpPr>
            <p:spPr>
              <a:xfrm>
                <a:off x="5249880" y="3459600"/>
                <a:ext cx="36864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</p:cxnSp>
          <p:cxnSp>
            <p:nvCxnSpPr>
              <p:cNvPr id="903" name=""/>
              <p:cNvCxnSpPr>
                <a:stCxn id="899" idx="6"/>
                <a:endCxn id="900" idx="2"/>
              </p:cNvCxnSpPr>
              <p:nvPr/>
            </p:nvCxnSpPr>
            <p:spPr>
              <a:xfrm>
                <a:off x="5929920" y="3459600"/>
                <a:ext cx="36864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sp>
            <p:nvSpPr>
              <p:cNvPr id="904" name=""/>
              <p:cNvSpPr/>
              <p:nvPr/>
            </p:nvSpPr>
            <p:spPr>
              <a:xfrm>
                <a:off x="4267080" y="3930120"/>
                <a:ext cx="296280" cy="21960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945680" y="3930120"/>
                <a:ext cx="296280" cy="21960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625720" y="3930120"/>
                <a:ext cx="296280" cy="21960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6306120" y="3930120"/>
                <a:ext cx="296280" cy="21960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08" name=""/>
              <p:cNvCxnSpPr>
                <a:stCxn id="904" idx="6"/>
                <a:endCxn id="905" idx="2"/>
              </p:cNvCxnSpPr>
              <p:nvPr/>
            </p:nvCxnSpPr>
            <p:spPr>
              <a:xfrm>
                <a:off x="4570920" y="4039920"/>
                <a:ext cx="36720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909" name=""/>
              <p:cNvCxnSpPr>
                <a:stCxn id="905" idx="6"/>
                <a:endCxn id="906" idx="2"/>
              </p:cNvCxnSpPr>
              <p:nvPr/>
            </p:nvCxnSpPr>
            <p:spPr>
              <a:xfrm>
                <a:off x="5249880" y="4039920"/>
                <a:ext cx="36864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</p:cxnSp>
          <p:cxnSp>
            <p:nvCxnSpPr>
              <p:cNvPr id="910" name=""/>
              <p:cNvCxnSpPr>
                <a:stCxn id="906" idx="6"/>
                <a:endCxn id="907" idx="2"/>
              </p:cNvCxnSpPr>
              <p:nvPr/>
            </p:nvCxnSpPr>
            <p:spPr>
              <a:xfrm>
                <a:off x="5929920" y="4039920"/>
                <a:ext cx="36864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911" name=""/>
              <p:cNvCxnSpPr>
                <a:stCxn id="890" idx="4"/>
                <a:endCxn id="897" idx="0"/>
              </p:cNvCxnSpPr>
              <p:nvPr/>
            </p:nvCxnSpPr>
            <p:spPr>
              <a:xfrm>
                <a:off x="4415040" y="2994840"/>
                <a:ext cx="1080" cy="3488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912" name=""/>
              <p:cNvCxnSpPr>
                <a:stCxn id="897" idx="4"/>
                <a:endCxn id="904" idx="0"/>
              </p:cNvCxnSpPr>
              <p:nvPr/>
            </p:nvCxnSpPr>
            <p:spPr>
              <a:xfrm>
                <a:off x="4415040" y="3575160"/>
                <a:ext cx="1080" cy="34992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</p:cxnSp>
          <p:cxnSp>
            <p:nvCxnSpPr>
              <p:cNvPr id="913" name=""/>
              <p:cNvCxnSpPr>
                <a:stCxn id="891" idx="4"/>
                <a:endCxn id="898" idx="0"/>
              </p:cNvCxnSpPr>
              <p:nvPr/>
            </p:nvCxnSpPr>
            <p:spPr>
              <a:xfrm>
                <a:off x="5094000" y="2994840"/>
                <a:ext cx="1080" cy="3488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914" name=""/>
              <p:cNvCxnSpPr>
                <a:stCxn id="898" idx="4"/>
                <a:endCxn id="905" idx="0"/>
              </p:cNvCxnSpPr>
              <p:nvPr/>
            </p:nvCxnSpPr>
            <p:spPr>
              <a:xfrm>
                <a:off x="5094000" y="3575160"/>
                <a:ext cx="1080" cy="34992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</p:cxnSp>
          <p:cxnSp>
            <p:nvCxnSpPr>
              <p:cNvPr id="915" name=""/>
              <p:cNvCxnSpPr>
                <a:stCxn id="892" idx="4"/>
                <a:endCxn id="899" idx="0"/>
              </p:cNvCxnSpPr>
              <p:nvPr/>
            </p:nvCxnSpPr>
            <p:spPr>
              <a:xfrm>
                <a:off x="5774400" y="2994840"/>
                <a:ext cx="1080" cy="3488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916" name=""/>
              <p:cNvCxnSpPr>
                <a:stCxn id="899" idx="4"/>
                <a:endCxn id="906" idx="0"/>
              </p:cNvCxnSpPr>
              <p:nvPr/>
            </p:nvCxnSpPr>
            <p:spPr>
              <a:xfrm>
                <a:off x="5774400" y="3575160"/>
                <a:ext cx="1080" cy="34992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</p:cxnSp>
          <p:cxnSp>
            <p:nvCxnSpPr>
              <p:cNvPr id="917" name=""/>
              <p:cNvCxnSpPr>
                <a:stCxn id="893" idx="4"/>
                <a:endCxn id="900" idx="0"/>
              </p:cNvCxnSpPr>
              <p:nvPr/>
            </p:nvCxnSpPr>
            <p:spPr>
              <a:xfrm>
                <a:off x="6454080" y="2994840"/>
                <a:ext cx="1080" cy="3488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918" name=""/>
              <p:cNvCxnSpPr>
                <a:stCxn id="900" idx="4"/>
                <a:endCxn id="907" idx="0"/>
              </p:cNvCxnSpPr>
              <p:nvPr/>
            </p:nvCxnSpPr>
            <p:spPr>
              <a:xfrm>
                <a:off x="6454080" y="3575160"/>
                <a:ext cx="1080" cy="34992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</p:cxnSp>
          <p:cxnSp>
            <p:nvCxnSpPr>
              <p:cNvPr id="919" name=""/>
              <p:cNvCxnSpPr>
                <a:stCxn id="890" idx="5"/>
                <a:endCxn id="898" idx="1"/>
              </p:cNvCxnSpPr>
              <p:nvPr/>
            </p:nvCxnSpPr>
            <p:spPr>
              <a:xfrm>
                <a:off x="4519800" y="2963520"/>
                <a:ext cx="469080" cy="412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20" name=""/>
              <p:cNvCxnSpPr>
                <a:stCxn id="891" idx="5"/>
                <a:endCxn id="899" idx="1"/>
              </p:cNvCxnSpPr>
              <p:nvPr/>
            </p:nvCxnSpPr>
            <p:spPr>
              <a:xfrm>
                <a:off x="5198400" y="2963520"/>
                <a:ext cx="470520" cy="412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</p:cxnSp>
          <p:cxnSp>
            <p:nvCxnSpPr>
              <p:cNvPr id="921" name=""/>
              <p:cNvCxnSpPr>
                <a:stCxn id="892" idx="5"/>
                <a:endCxn id="900" idx="1"/>
              </p:cNvCxnSpPr>
              <p:nvPr/>
            </p:nvCxnSpPr>
            <p:spPr>
              <a:xfrm>
                <a:off x="5878800" y="2963520"/>
                <a:ext cx="470520" cy="412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22" name=""/>
              <p:cNvCxnSpPr>
                <a:stCxn id="897" idx="5"/>
                <a:endCxn id="905" idx="1"/>
              </p:cNvCxnSpPr>
              <p:nvPr/>
            </p:nvCxnSpPr>
            <p:spPr>
              <a:xfrm>
                <a:off x="4519800" y="3542760"/>
                <a:ext cx="469080" cy="413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</p:cxnSp>
          <p:cxnSp>
            <p:nvCxnSpPr>
              <p:cNvPr id="923" name=""/>
              <p:cNvCxnSpPr>
                <a:stCxn id="898" idx="5"/>
                <a:endCxn id="906" idx="1"/>
              </p:cNvCxnSpPr>
              <p:nvPr/>
            </p:nvCxnSpPr>
            <p:spPr>
              <a:xfrm>
                <a:off x="5198400" y="3542760"/>
                <a:ext cx="470520" cy="413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</p:cxnSp>
          <p:cxnSp>
            <p:nvCxnSpPr>
              <p:cNvPr id="924" name=""/>
              <p:cNvCxnSpPr>
                <a:stCxn id="899" idx="5"/>
                <a:endCxn id="907" idx="1"/>
              </p:cNvCxnSpPr>
              <p:nvPr/>
            </p:nvCxnSpPr>
            <p:spPr>
              <a:xfrm>
                <a:off x="5878800" y="3542760"/>
                <a:ext cx="470520" cy="413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</p:cxnSp>
        </p:grpSp>
        <p:grpSp>
          <p:nvGrpSpPr>
            <p:cNvPr id="925" name=""/>
            <p:cNvGrpSpPr/>
            <p:nvPr/>
          </p:nvGrpSpPr>
          <p:grpSpPr>
            <a:xfrm>
              <a:off x="4267080" y="762120"/>
              <a:ext cx="2331720" cy="1377720"/>
              <a:chOff x="4267080" y="762120"/>
              <a:chExt cx="2331720" cy="1377720"/>
            </a:xfrm>
          </p:grpSpPr>
          <p:sp>
            <p:nvSpPr>
              <p:cNvPr id="926" name=""/>
              <p:cNvSpPr/>
              <p:nvPr/>
            </p:nvSpPr>
            <p:spPr>
              <a:xfrm>
                <a:off x="4267080" y="762120"/>
                <a:ext cx="295560" cy="21924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4944600" y="762120"/>
                <a:ext cx="295560" cy="21924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623920" y="762120"/>
                <a:ext cx="295560" cy="21924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6303240" y="762120"/>
                <a:ext cx="295560" cy="21924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30" name=""/>
              <p:cNvCxnSpPr>
                <a:stCxn id="926" idx="6"/>
                <a:endCxn id="927" idx="2"/>
              </p:cNvCxnSpPr>
              <p:nvPr/>
            </p:nvCxnSpPr>
            <p:spPr>
              <a:xfrm>
                <a:off x="4570200" y="871560"/>
                <a:ext cx="36684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931" name=""/>
              <p:cNvCxnSpPr>
                <a:stCxn id="927" idx="6"/>
                <a:endCxn id="928" idx="2"/>
              </p:cNvCxnSpPr>
              <p:nvPr/>
            </p:nvCxnSpPr>
            <p:spPr>
              <a:xfrm>
                <a:off x="5248080" y="871560"/>
                <a:ext cx="36828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</p:cxnSp>
          <p:cxnSp>
            <p:nvCxnSpPr>
              <p:cNvPr id="932" name=""/>
              <p:cNvCxnSpPr>
                <a:stCxn id="928" idx="6"/>
                <a:endCxn id="929" idx="2"/>
              </p:cNvCxnSpPr>
              <p:nvPr/>
            </p:nvCxnSpPr>
            <p:spPr>
              <a:xfrm>
                <a:off x="5927760" y="871560"/>
                <a:ext cx="36756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sp>
            <p:nvSpPr>
              <p:cNvPr id="933" name=""/>
              <p:cNvSpPr/>
              <p:nvPr/>
            </p:nvSpPr>
            <p:spPr>
              <a:xfrm>
                <a:off x="4267080" y="1340640"/>
                <a:ext cx="295560" cy="21924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4944600" y="1340640"/>
                <a:ext cx="295560" cy="21924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623920" y="1340640"/>
                <a:ext cx="295560" cy="21924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6303240" y="1340640"/>
                <a:ext cx="295560" cy="21924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37" name=""/>
              <p:cNvCxnSpPr>
                <a:stCxn id="933" idx="6"/>
                <a:endCxn id="934" idx="2"/>
              </p:cNvCxnSpPr>
              <p:nvPr/>
            </p:nvCxnSpPr>
            <p:spPr>
              <a:xfrm>
                <a:off x="4570200" y="1450440"/>
                <a:ext cx="36684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938" name=""/>
              <p:cNvCxnSpPr>
                <a:stCxn id="934" idx="6"/>
                <a:endCxn id="935" idx="2"/>
              </p:cNvCxnSpPr>
              <p:nvPr/>
            </p:nvCxnSpPr>
            <p:spPr>
              <a:xfrm>
                <a:off x="5248080" y="1450440"/>
                <a:ext cx="36828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</p:cxnSp>
          <p:cxnSp>
            <p:nvCxnSpPr>
              <p:cNvPr id="939" name=""/>
              <p:cNvCxnSpPr>
                <a:stCxn id="935" idx="6"/>
                <a:endCxn id="936" idx="2"/>
              </p:cNvCxnSpPr>
              <p:nvPr/>
            </p:nvCxnSpPr>
            <p:spPr>
              <a:xfrm>
                <a:off x="5927760" y="1450440"/>
                <a:ext cx="36756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sp>
            <p:nvSpPr>
              <p:cNvPr id="940" name=""/>
              <p:cNvSpPr/>
              <p:nvPr/>
            </p:nvSpPr>
            <p:spPr>
              <a:xfrm>
                <a:off x="4267080" y="1920600"/>
                <a:ext cx="295560" cy="21924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4944600" y="1920600"/>
                <a:ext cx="295560" cy="21924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623920" y="1920600"/>
                <a:ext cx="295560" cy="21924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303240" y="1920600"/>
                <a:ext cx="295560" cy="21924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44" name=""/>
              <p:cNvCxnSpPr>
                <a:stCxn id="940" idx="6"/>
                <a:endCxn id="941" idx="2"/>
              </p:cNvCxnSpPr>
              <p:nvPr/>
            </p:nvCxnSpPr>
            <p:spPr>
              <a:xfrm>
                <a:off x="4570200" y="2030400"/>
                <a:ext cx="36684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945" name=""/>
              <p:cNvCxnSpPr>
                <a:stCxn id="941" idx="6"/>
                <a:endCxn id="942" idx="2"/>
              </p:cNvCxnSpPr>
              <p:nvPr/>
            </p:nvCxnSpPr>
            <p:spPr>
              <a:xfrm>
                <a:off x="5248080" y="2030400"/>
                <a:ext cx="36828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</p:cxnSp>
          <p:cxnSp>
            <p:nvCxnSpPr>
              <p:cNvPr id="946" name=""/>
              <p:cNvCxnSpPr>
                <a:stCxn id="942" idx="6"/>
                <a:endCxn id="943" idx="2"/>
              </p:cNvCxnSpPr>
              <p:nvPr/>
            </p:nvCxnSpPr>
            <p:spPr>
              <a:xfrm>
                <a:off x="5927760" y="2030400"/>
                <a:ext cx="36756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947" name=""/>
              <p:cNvCxnSpPr>
                <a:stCxn id="926" idx="4"/>
                <a:endCxn id="933" idx="0"/>
              </p:cNvCxnSpPr>
              <p:nvPr/>
            </p:nvCxnSpPr>
            <p:spPr>
              <a:xfrm>
                <a:off x="4415040" y="987120"/>
                <a:ext cx="1080" cy="3484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948" name=""/>
              <p:cNvCxnSpPr>
                <a:stCxn id="933" idx="4"/>
                <a:endCxn id="940" idx="0"/>
              </p:cNvCxnSpPr>
              <p:nvPr/>
            </p:nvCxnSpPr>
            <p:spPr>
              <a:xfrm>
                <a:off x="4415040" y="1565640"/>
                <a:ext cx="1080" cy="3495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</p:cxnSp>
          <p:cxnSp>
            <p:nvCxnSpPr>
              <p:cNvPr id="949" name=""/>
              <p:cNvCxnSpPr>
                <a:stCxn id="927" idx="4"/>
                <a:endCxn id="934" idx="0"/>
              </p:cNvCxnSpPr>
              <p:nvPr/>
            </p:nvCxnSpPr>
            <p:spPr>
              <a:xfrm>
                <a:off x="5092920" y="987120"/>
                <a:ext cx="1080" cy="3484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950" name=""/>
              <p:cNvCxnSpPr>
                <a:stCxn id="934" idx="4"/>
                <a:endCxn id="941" idx="0"/>
              </p:cNvCxnSpPr>
              <p:nvPr/>
            </p:nvCxnSpPr>
            <p:spPr>
              <a:xfrm>
                <a:off x="5092920" y="1565640"/>
                <a:ext cx="1080" cy="3495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</p:cxnSp>
          <p:cxnSp>
            <p:nvCxnSpPr>
              <p:cNvPr id="951" name=""/>
              <p:cNvCxnSpPr>
                <a:stCxn id="928" idx="4"/>
                <a:endCxn id="935" idx="0"/>
              </p:cNvCxnSpPr>
              <p:nvPr/>
            </p:nvCxnSpPr>
            <p:spPr>
              <a:xfrm>
                <a:off x="5772240" y="987120"/>
                <a:ext cx="1080" cy="3484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952" name=""/>
              <p:cNvCxnSpPr>
                <a:stCxn id="935" idx="4"/>
                <a:endCxn id="942" idx="0"/>
              </p:cNvCxnSpPr>
              <p:nvPr/>
            </p:nvCxnSpPr>
            <p:spPr>
              <a:xfrm>
                <a:off x="5772240" y="1565640"/>
                <a:ext cx="1080" cy="3495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</p:cxnSp>
          <p:cxnSp>
            <p:nvCxnSpPr>
              <p:cNvPr id="953" name=""/>
              <p:cNvCxnSpPr>
                <a:stCxn id="929" idx="4"/>
                <a:endCxn id="936" idx="0"/>
              </p:cNvCxnSpPr>
              <p:nvPr/>
            </p:nvCxnSpPr>
            <p:spPr>
              <a:xfrm>
                <a:off x="6451200" y="987120"/>
                <a:ext cx="1080" cy="3484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954" name=""/>
              <p:cNvCxnSpPr>
                <a:stCxn id="936" idx="4"/>
                <a:endCxn id="943" idx="0"/>
              </p:cNvCxnSpPr>
              <p:nvPr/>
            </p:nvCxnSpPr>
            <p:spPr>
              <a:xfrm>
                <a:off x="6451200" y="1565640"/>
                <a:ext cx="1080" cy="3495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</p:cxnSp>
        </p:grpSp>
        <p:sp>
          <p:nvSpPr>
            <p:cNvPr id="955" name=""/>
            <p:cNvSpPr/>
            <p:nvPr/>
          </p:nvSpPr>
          <p:spPr>
            <a:xfrm>
              <a:off x="4419720" y="2225520"/>
              <a:ext cx="1981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Manhattan topolog</a:t>
              </a:r>
              <a:r>
                <a:rPr b="1" lang="it-IT" sz="14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000680" y="6172200"/>
              <a:ext cx="2819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Meshed-</a:t>
              </a:r>
              <a:r>
                <a:rPr b="1" lang="en-GB" sz="14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Manhattan topolog</a:t>
              </a:r>
              <a:r>
                <a:rPr b="1" lang="it-IT" sz="14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962520" y="4267080"/>
              <a:ext cx="289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Half-meshed-</a:t>
              </a:r>
              <a:r>
                <a:rPr b="1" lang="en-GB" sz="14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Manhattan topolog</a:t>
              </a:r>
              <a:r>
                <a:rPr b="1" lang="it-IT" sz="14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8" name=""/>
          <p:cNvSpPr/>
          <p:nvPr/>
        </p:nvSpPr>
        <p:spPr>
          <a:xfrm>
            <a:off x="609480" y="2698920"/>
            <a:ext cx="27432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I</a:t>
            </a: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nterconnected rings top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64 nodes, </a:t>
            </a:r>
            <a:r>
              <a:rPr b="0" i="1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MD = 3.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6777720" y="1676520"/>
            <a:ext cx="2385000" cy="4211640"/>
            <a:chOff x="6777720" y="1676520"/>
            <a:chExt cx="2385000" cy="4211640"/>
          </a:xfrm>
        </p:grpSpPr>
        <p:sp>
          <p:nvSpPr>
            <p:cNvPr id="960" name=""/>
            <p:cNvSpPr/>
            <p:nvPr/>
          </p:nvSpPr>
          <p:spPr>
            <a:xfrm>
              <a:off x="7162920" y="1676520"/>
              <a:ext cx="1523880" cy="46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Nodes: 49 - 100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MD = 3,43 - 3,6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777720" y="3505320"/>
              <a:ext cx="238500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Nodes: </a:t>
              </a:r>
              <a:r>
                <a:rPr b="0" lang="en-GB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16</a:t>
              </a:r>
              <a:r>
                <a:rPr b="0" lang="it-IT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, </a:t>
              </a:r>
              <a:r>
                <a:rPr b="0" lang="en-GB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25</a:t>
              </a:r>
              <a:r>
                <a:rPr b="0" lang="it-IT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, </a:t>
              </a:r>
              <a:r>
                <a:rPr b="0" lang="en-GB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36</a:t>
              </a:r>
              <a:r>
                <a:rPr b="0" lang="it-IT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, </a:t>
              </a:r>
              <a:r>
                <a:rPr b="0" lang="en-GB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49</a:t>
              </a:r>
              <a:r>
                <a:rPr b="0" lang="it-IT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, </a:t>
              </a:r>
              <a:r>
                <a:rPr b="0" lang="en-GB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64</a:t>
              </a:r>
              <a:r>
                <a:rPr b="0" lang="it-IT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,</a:t>
              </a:r>
              <a:r>
                <a:rPr b="0" lang="en-GB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 10</a:t>
              </a:r>
              <a:r>
                <a:rPr b="0" lang="it-IT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0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MD =  </a:t>
              </a:r>
              <a:r>
                <a:rPr b="0" i="1" lang="en-GB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4</a:t>
              </a:r>
              <a:r>
                <a:rPr b="0" i="1" lang="it-IT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,</a:t>
              </a:r>
              <a:r>
                <a:rPr b="0" i="1" lang="en-GB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1 </a:t>
              </a:r>
              <a:r>
                <a:rPr b="0" i="1" lang="it-IT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 </a:t>
              </a:r>
              <a:r>
                <a:rPr b="0" i="1" lang="en-GB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4</a:t>
              </a:r>
              <a:r>
                <a:rPr b="0" i="1" lang="it-IT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,5</a:t>
              </a:r>
              <a:r>
                <a:rPr b="0" i="1" lang="en-GB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 </a:t>
              </a:r>
              <a:r>
                <a:rPr b="0" i="1" lang="it-IT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 </a:t>
              </a:r>
              <a:r>
                <a:rPr b="0" i="1" lang="en-GB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4</a:t>
              </a:r>
              <a:r>
                <a:rPr b="0" i="1" lang="it-IT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,</a:t>
              </a:r>
              <a:r>
                <a:rPr b="0" i="1" lang="en-GB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7</a:t>
              </a:r>
              <a:r>
                <a:rPr b="0" i="1" lang="it-IT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  </a:t>
              </a:r>
              <a:r>
                <a:rPr b="0" i="1" lang="en-GB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4</a:t>
              </a:r>
              <a:r>
                <a:rPr b="0" i="1" lang="it-IT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,</a:t>
              </a:r>
              <a:r>
                <a:rPr b="0" i="1" lang="en-GB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9 </a:t>
              </a:r>
              <a:r>
                <a:rPr b="0" i="1" lang="it-IT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 </a:t>
              </a:r>
              <a:r>
                <a:rPr b="0" i="1" lang="en-GB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5</a:t>
              </a:r>
              <a:r>
                <a:rPr b="0" i="1" lang="it-IT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,</a:t>
              </a:r>
              <a:r>
                <a:rPr b="0" i="1" lang="en-GB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0 </a:t>
              </a:r>
              <a:r>
                <a:rPr b="0" i="1" lang="it-IT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 </a:t>
              </a:r>
              <a:r>
                <a:rPr b="0" i="1" lang="en-GB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5</a:t>
              </a:r>
              <a:r>
                <a:rPr b="0" i="1" lang="it-IT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,</a:t>
              </a:r>
              <a:r>
                <a:rPr b="0" i="1" lang="en-GB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2</a:t>
              </a:r>
              <a:r>
                <a:rPr b="0" i="1" lang="it-IT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777720" y="5391000"/>
              <a:ext cx="238500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Nodes: </a:t>
              </a:r>
              <a:r>
                <a:rPr b="0" lang="en-GB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16</a:t>
              </a:r>
              <a:r>
                <a:rPr b="0" lang="it-IT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, </a:t>
              </a:r>
              <a:r>
                <a:rPr b="0" lang="en-GB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25</a:t>
              </a:r>
              <a:r>
                <a:rPr b="0" lang="it-IT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, </a:t>
              </a:r>
              <a:r>
                <a:rPr b="0" lang="en-GB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36</a:t>
              </a:r>
              <a:r>
                <a:rPr b="0" lang="it-IT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, </a:t>
              </a:r>
              <a:r>
                <a:rPr b="0" lang="en-GB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49</a:t>
              </a:r>
              <a:r>
                <a:rPr b="0" lang="it-IT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, </a:t>
              </a:r>
              <a:r>
                <a:rPr b="0" lang="en-GB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64</a:t>
              </a:r>
              <a:r>
                <a:rPr b="0" lang="it-IT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,</a:t>
              </a:r>
              <a:r>
                <a:rPr b="0" lang="en-GB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 10</a:t>
              </a:r>
              <a:r>
                <a:rPr b="0" lang="it-IT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0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MD =  </a:t>
              </a:r>
              <a:r>
                <a:rPr b="0" i="1" lang="en-GB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5</a:t>
              </a:r>
              <a:r>
                <a:rPr b="0" i="1" lang="it-IT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,</a:t>
              </a:r>
              <a:r>
                <a:rPr b="0" i="1" lang="en-GB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2 </a:t>
              </a:r>
              <a:r>
                <a:rPr b="0" i="1" lang="it-IT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 </a:t>
              </a:r>
              <a:r>
                <a:rPr b="0" i="1" lang="en-GB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5</a:t>
              </a:r>
              <a:r>
                <a:rPr b="0" i="1" lang="it-IT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,8</a:t>
              </a:r>
              <a:r>
                <a:rPr b="0" i="1" lang="en-GB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 </a:t>
              </a:r>
              <a:r>
                <a:rPr b="0" i="1" lang="it-IT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 </a:t>
              </a:r>
              <a:r>
                <a:rPr b="0" i="1" lang="en-GB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6</a:t>
              </a:r>
              <a:r>
                <a:rPr b="0" i="1" lang="it-IT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,</a:t>
              </a:r>
              <a:r>
                <a:rPr b="0" i="1" lang="en-GB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1</a:t>
              </a:r>
              <a:r>
                <a:rPr b="0" i="1" lang="it-IT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  </a:t>
              </a:r>
              <a:r>
                <a:rPr b="0" i="1" lang="en-GB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6</a:t>
              </a:r>
              <a:r>
                <a:rPr b="0" i="1" lang="it-IT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,4</a:t>
              </a:r>
              <a:r>
                <a:rPr b="0" i="1" lang="en-GB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 </a:t>
              </a:r>
              <a:r>
                <a:rPr b="0" i="1" lang="it-IT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 </a:t>
              </a:r>
              <a:r>
                <a:rPr b="0" i="1" lang="en-GB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6</a:t>
              </a:r>
              <a:r>
                <a:rPr b="0" i="1" lang="it-IT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,</a:t>
              </a:r>
              <a:r>
                <a:rPr b="0" i="1" lang="en-GB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6 </a:t>
              </a:r>
              <a:r>
                <a:rPr b="0" i="1" lang="it-IT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 </a:t>
              </a:r>
              <a:r>
                <a:rPr b="0" i="1" lang="en-GB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6</a:t>
              </a:r>
              <a:r>
                <a:rPr b="0" i="1" lang="it-IT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,</a:t>
              </a:r>
              <a:r>
                <a:rPr b="0" i="1" lang="en-GB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8</a:t>
              </a:r>
              <a:r>
                <a:rPr b="0" i="1" lang="it-IT" sz="12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"/>
          <p:cNvSpPr/>
          <p:nvPr/>
        </p:nvSpPr>
        <p:spPr>
          <a:xfrm>
            <a:off x="304920" y="1022400"/>
            <a:ext cx="36576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Measures have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been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collected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on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different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topologies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with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increasing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meshing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degrees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001880" y="127080"/>
            <a:ext cx="795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</a:rPr>
              <a:t>Simulation environment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2540160" y="5349960"/>
                <a:ext cx="42750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F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sjoint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ath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m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a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a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6" name=""/>
          <p:cNvSpPr/>
          <p:nvPr/>
        </p:nvSpPr>
        <p:spPr>
          <a:xfrm>
            <a:off x="452520" y="873000"/>
            <a:ext cx="722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All these topologies have been modelled with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411360" y="5334120"/>
            <a:ext cx="1447920" cy="76176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380880" y="5562720"/>
            <a:ext cx="3047760" cy="639720"/>
            <a:chOff x="380880" y="5562720"/>
            <a:chExt cx="3047760" cy="639720"/>
          </a:xfrm>
        </p:grpSpPr>
        <p:sp>
          <p:nvSpPr>
            <p:cNvPr id="969" name=""/>
            <p:cNvSpPr/>
            <p:nvPr/>
          </p:nvSpPr>
          <p:spPr>
            <a:xfrm>
              <a:off x="380880" y="5562720"/>
              <a:ext cx="19814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66"/>
                  </a:solidFill>
                  <a:latin typeface="Arial"/>
                </a:rPr>
                <a:t>Algorithm’s effectiveness in creating maximally disjoint path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2361960" y="5743440"/>
              <a:ext cx="1066680" cy="22824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1" name=""/>
          <p:cNvSpPr/>
          <p:nvPr/>
        </p:nvSpPr>
        <p:spPr>
          <a:xfrm>
            <a:off x="4957920" y="5245200"/>
            <a:ext cx="1834920" cy="8222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2" name=""/>
          <p:cNvGrpSpPr/>
          <p:nvPr/>
        </p:nvGrpSpPr>
        <p:grpSpPr>
          <a:xfrm>
            <a:off x="6352920" y="4900680"/>
            <a:ext cx="2590920" cy="426600"/>
            <a:chOff x="6352920" y="4900680"/>
            <a:chExt cx="2590920" cy="426600"/>
          </a:xfrm>
        </p:grpSpPr>
        <p:sp>
          <p:nvSpPr>
            <p:cNvPr id="973" name=""/>
            <p:cNvSpPr/>
            <p:nvPr/>
          </p:nvSpPr>
          <p:spPr>
            <a:xfrm>
              <a:off x="6962760" y="4900680"/>
              <a:ext cx="19810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66"/>
                  </a:solidFill>
                  <a:latin typeface="Arial"/>
                </a:rPr>
                <a:t>Algorithm’s effectiveness in </a:t>
              </a:r>
              <a:r>
                <a:rPr b="0" lang="en-GB" sz="1400" spc="-1" strike="noStrike">
                  <a:solidFill>
                    <a:srgbClr val="000066"/>
                  </a:solidFill>
                  <a:latin typeface="Arial"/>
                </a:rPr>
                <a:t>computing valid path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>
              <a:off x="6352920" y="5129280"/>
              <a:ext cx="533160" cy="15264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5" name=""/>
          <p:cNvSpPr/>
          <p:nvPr/>
        </p:nvSpPr>
        <p:spPr>
          <a:xfrm>
            <a:off x="317520" y="1212840"/>
            <a:ext cx="8674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generic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317520" y="3544920"/>
            <a:ext cx="86742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the number of computed LSPs (</a:t>
            </a:r>
            <a:r>
              <a:rPr b="0" i="1" lang="en-GB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comp_path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the number of totally link-/node-disjoint pairs of LSPs (</a:t>
            </a:r>
            <a:r>
              <a:rPr b="0" i="1" lang="en-GB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disjoint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the mean computation time for each LSP request (</a:t>
            </a:r>
            <a:r>
              <a:rPr b="0" i="1" lang="en-GB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time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851040" y="1500120"/>
            <a:ext cx="7073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connected by a TE-link with </a:t>
            </a:r>
            <a:r>
              <a:rPr b="0" i="1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random values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for its TE-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317520" y="1752480"/>
            <a:ext cx="8674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TE-links</a:t>
            </a:r>
            <a:r>
              <a:rPr b="0" lang="it-IT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851040" y="2016000"/>
            <a:ext cx="8292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ssumed to be bi-directional, each configured with 4 STM-64 ports VC4-multiplexed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533520" y="2414520"/>
            <a:ext cx="81532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80880" indent="-380880">
              <a:spcBef>
                <a:spcPts val="125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A large number of LSP computations (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req_path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) have been requested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on each topology, trying to establish a stress condition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452520" y="4749840"/>
            <a:ext cx="722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We defined a Global Performance Factor (GPF)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33520" y="3200400"/>
            <a:ext cx="8153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80880" indent="-380880">
              <a:spcBef>
                <a:spcPts val="125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For each topology have been observ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001880" y="127080"/>
            <a:ext cx="795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</a:rPr>
              <a:t>Global Performance Factor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984" name=""/>
          <p:cNvGraphicFramePr/>
          <p:nvPr/>
        </p:nvGraphicFramePr>
        <p:xfrm>
          <a:off x="152280" y="838080"/>
          <a:ext cx="5322960" cy="281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38080"/>
                    <a:ext cx="53229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6" name=""/>
          <p:cNvGraphicFramePr/>
          <p:nvPr/>
        </p:nvGraphicFramePr>
        <p:xfrm>
          <a:off x="3716280" y="3629160"/>
          <a:ext cx="5322960" cy="2819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16280" y="3629160"/>
                    <a:ext cx="532296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8" name=""/>
          <p:cNvSpPr/>
          <p:nvPr/>
        </p:nvSpPr>
        <p:spPr>
          <a:xfrm>
            <a:off x="212760" y="3706920"/>
            <a:ext cx="3463920" cy="24084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90440" indent="-190440" algn="just">
              <a:spcBef>
                <a:spcPts val="349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Alignment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 when meshing degree increases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 (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higher resource availability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)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349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T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rend strictly related to the </a:t>
            </a:r>
            <a:r>
              <a:rPr b="0" i="1" lang="en-GB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variance of the TE-metric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 values for the TE-li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349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The higher number of path computation failures at lower meshing degrees is strictly related to the </a:t>
            </a:r>
            <a:r>
              <a:rPr b="0" i="1" lang="en-GB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resource availability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 on TE-link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349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In case of TS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A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, this merges with the intrinsic </a:t>
            </a:r>
            <a:r>
              <a:rPr b="0" i="1" lang="en-GB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sub-optimality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 of this algorith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9" name=""/>
          <p:cNvGraphicFramePr/>
          <p:nvPr/>
        </p:nvGraphicFramePr>
        <p:xfrm>
          <a:off x="5638680" y="1295280"/>
          <a:ext cx="3279600" cy="1287720"/>
        </p:xfrm>
        <a:graphic>
          <a:graphicData uri="http://schemas.openxmlformats.org/drawingml/2006/table">
            <a:tbl>
              <a:tblPr/>
              <a:tblGrid>
                <a:gridCol w="1177920"/>
                <a:gridCol w="1050840"/>
                <a:gridCol w="1050840"/>
              </a:tblGrid>
              <a:tr h="564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isjoi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isjoi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Mean higher performance B v.s. T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+</a:t>
                      </a:r>
                      <a:r>
                        <a:rPr b="1" lang="it-I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57</a:t>
                      </a:r>
                      <a:r>
                        <a:rPr b="1" lang="en-GB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+</a:t>
                      </a:r>
                      <a:r>
                        <a:rPr b="1" lang="it-I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.79</a:t>
                      </a:r>
                      <a:r>
                        <a:rPr b="1" lang="en-GB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01880" y="127080"/>
            <a:ext cx="795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5080" y="5183280"/>
            <a:ext cx="86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4200" indent="-484200" algn="just">
              <a:spcBef>
                <a:spcPts val="601"/>
              </a:spcBef>
              <a:buClr>
                <a:srgbClr val="000066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some results of an intensive testing campa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5080" y="5715000"/>
            <a:ext cx="86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4200" indent="-484200" algn="just">
              <a:spcBef>
                <a:spcPts val="601"/>
              </a:spcBef>
              <a:buClr>
                <a:srgbClr val="000066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conclusions and future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5080" y="870120"/>
            <a:ext cx="86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4200" indent="-484200" algn="just">
              <a:spcBef>
                <a:spcPts val="601"/>
              </a:spcBef>
              <a:buClr>
                <a:srgbClr val="000066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the implementation of a centralized Path Computation System (PCS) suited for transport networks with a GMPLS control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5080" y="3025800"/>
            <a:ext cx="86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4200" indent="-484200" algn="just">
              <a:spcBef>
                <a:spcPts val="601"/>
              </a:spcBef>
              <a:buClr>
                <a:srgbClr val="000066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the design issues for the proposed implementation, with particular emphasis on the centralized approach and on the strategies for achieving the connection surviv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5080" y="2130480"/>
            <a:ext cx="867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4200" indent="-484200" algn="just">
              <a:spcBef>
                <a:spcPts val="601"/>
              </a:spcBef>
              <a:buClr>
                <a:srgbClr val="000066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the requirements for the PCS in a centralized GMPLS network sce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5080" y="4287960"/>
            <a:ext cx="867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4200" indent="-484200" algn="just">
              <a:spcBef>
                <a:spcPts val="601"/>
              </a:spcBef>
              <a:buClr>
                <a:srgbClr val="000066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the performances of bandwidth-dependent TE metrics 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and the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effects of different TE functions on the load bal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1001880" y="127080"/>
            <a:ext cx="795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</a:rPr>
              <a:t>Mean Computation Time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216000" y="1174680"/>
          <a:ext cx="8623080" cy="507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1174680"/>
                    <a:ext cx="8623080" cy="50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3" name=""/>
          <p:cNvGraphicFramePr/>
          <p:nvPr/>
        </p:nvGraphicFramePr>
        <p:xfrm>
          <a:off x="4114800" y="1066680"/>
          <a:ext cx="3397320" cy="1184040"/>
        </p:xfrm>
        <a:graphic>
          <a:graphicData uri="http://schemas.openxmlformats.org/drawingml/2006/table">
            <a:tbl>
              <a:tblPr/>
              <a:tblGrid>
                <a:gridCol w="1295640"/>
                <a:gridCol w="1050840"/>
                <a:gridCol w="1050840"/>
              </a:tblGrid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increase in </a:t>
                      </a:r>
                      <a:r>
                        <a:rPr b="0" lang="it-IT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MCT</a:t>
                      </a:r>
                      <a:r>
                        <a:rPr b="0" lang="en-GB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 for each LSP requ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+3.5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+4.1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001880" y="127080"/>
            <a:ext cx="795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</a:rPr>
              <a:t>Theoretical infinite resources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995" name=""/>
          <p:cNvGraphicFramePr/>
          <p:nvPr/>
        </p:nvGraphicFramePr>
        <p:xfrm>
          <a:off x="152280" y="1143000"/>
          <a:ext cx="870588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43000"/>
                    <a:ext cx="87058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001880" y="127080"/>
            <a:ext cx="783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</a:rPr>
              <a:t>BW-Dependent TE metrics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685800" y="5010120"/>
            <a:ext cx="7848720" cy="777600"/>
            <a:chOff x="685800" y="5010120"/>
            <a:chExt cx="7848720" cy="777600"/>
          </a:xfrm>
        </p:grpSpPr>
        <p:sp>
          <p:nvSpPr>
            <p:cNvPr id="999" name=""/>
            <p:cNvSpPr/>
            <p:nvPr/>
          </p:nvSpPr>
          <p:spPr>
            <a:xfrm>
              <a:off x="736560" y="5025960"/>
              <a:ext cx="7620120" cy="76176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0" name=""/>
                <p:cNvSpPr txBox="1"/>
                <p:nvPr/>
              </p:nvSpPr>
              <p:spPr>
                <a:xfrm>
                  <a:off x="685800" y="5010120"/>
                  <a:ext cx="7848720" cy="77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otal_cost</m:t>
                      </m:r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std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etric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TE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etric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policy</m:t>
                      </m:r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rPr>
                          <m:lit/>
                          <m:nor/>
                        </m:rPr>
                        <m:t xml:space="preserve">alloc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01" name=""/>
          <p:cNvSpPr/>
          <p:nvPr/>
        </p:nvSpPr>
        <p:spPr>
          <a:xfrm>
            <a:off x="457200" y="1174680"/>
            <a:ext cx="815328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387360" indent="-38736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The routing engine inside our PCS module is based on Dijkstra SPF algorith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457200" y="2023920"/>
            <a:ext cx="815328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387360" indent="-38736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In order to handle Constrained SPF computations, we added a 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TE-constraints validation step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457200" y="2873520"/>
            <a:ext cx="815328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387360" indent="-38736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For example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the check on the bandwidth availability of the candidate li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457200" y="3722760"/>
            <a:ext cx="8153280" cy="9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387360" indent="-38736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In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order to let the algorithm converge towards an optimal SPF solution (e.g. between those which satisfies the required TE-constraints), we choose 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bandwidth-dependent metric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5" name=""/>
          <p:cNvGrpSpPr/>
          <p:nvPr/>
        </p:nvGrpSpPr>
        <p:grpSpPr>
          <a:xfrm>
            <a:off x="658800" y="1781280"/>
            <a:ext cx="3871800" cy="1037880"/>
            <a:chOff x="658800" y="1781280"/>
            <a:chExt cx="3871800" cy="1037880"/>
          </a:xfrm>
        </p:grpSpPr>
        <p:sp>
          <p:nvSpPr>
            <p:cNvPr id="1006" name=""/>
            <p:cNvSpPr/>
            <p:nvPr/>
          </p:nvSpPr>
          <p:spPr>
            <a:xfrm>
              <a:off x="685800" y="1781280"/>
              <a:ext cx="3809880" cy="990360"/>
            </a:xfrm>
            <a:prstGeom prst="rect">
              <a:avLst/>
            </a:prstGeom>
            <a:solidFill>
              <a:srgbClr val="9999ff"/>
            </a:solidFill>
            <a:ln w="1908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7" name=""/>
                <p:cNvSpPr txBox="1"/>
                <p:nvPr/>
              </p:nvSpPr>
              <p:spPr>
                <a:xfrm>
                  <a:off x="658800" y="1805040"/>
                  <a:ext cx="3871800" cy="101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olicy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t xml:space="preserve">K</m:t>
                      </m:r>
                      <m:r>
                        <m:t xml:space="preserve">⋅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BW</m:t>
                          </m:r>
                          <m:r>
                            <m:rPr>
                              <m:lit/>
                              <m:nor/>
                            </m:rPr>
                            <m:t xml:space="preserve">tot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BW</m:t>
                          </m:r>
                          <m:r>
                            <m:rPr>
                              <m:lit/>
                              <m:nor/>
                            </m:rPr>
                            <m:t xml:space="preserve">free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K</m:t>
                      </m:r>
                      <m:r>
                        <m:t xml:space="preserve">⋅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BW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lloc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BW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tot</m:t>
                              </m:r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08" name=""/>
          <p:cNvGrpSpPr/>
          <p:nvPr/>
        </p:nvGrpSpPr>
        <p:grpSpPr>
          <a:xfrm>
            <a:off x="658800" y="2952720"/>
            <a:ext cx="8028000" cy="2454120"/>
            <a:chOff x="658800" y="2952720"/>
            <a:chExt cx="8028000" cy="2454120"/>
          </a:xfrm>
        </p:grpSpPr>
        <p:sp>
          <p:nvSpPr>
            <p:cNvPr id="1009" name=""/>
            <p:cNvSpPr/>
            <p:nvPr/>
          </p:nvSpPr>
          <p:spPr>
            <a:xfrm>
              <a:off x="685800" y="3016080"/>
              <a:ext cx="7924680" cy="2314440"/>
            </a:xfrm>
            <a:prstGeom prst="rect">
              <a:avLst/>
            </a:prstGeom>
            <a:solidFill>
              <a:srgbClr val="ff99ff"/>
            </a:solidFill>
            <a:ln w="1908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0" name=""/>
                <p:cNvSpPr txBox="1"/>
                <p:nvPr/>
              </p:nvSpPr>
              <p:spPr>
                <a:xfrm>
                  <a:off x="658800" y="2952720"/>
                  <a:ext cx="8028000" cy="245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olicy</m:t>
                      </m:r>
                      <m:r>
                        <m:t xml:space="preserve">2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r>
                                  <m:t xml:space="preserve">5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K</m:t>
                                </m:r>
                              </m:e>
                              <m:e/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W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lloc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/>
                              <m:e/>
                              <m:e/>
                            </m:mr>
                            <m:mr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1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W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lloc</m:t>
                                    </m:r>
                                  </m:e>
                                </m:d>
                              </m:e>
                              <m:e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≤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W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lloc</m:t>
                                    </m:r>
                                  </m:sub>
                                </m:sSub>
                                <m:r>
                                  <m:t xml:space="preserve">≤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W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hr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mr>
                            <m:mr>
                              <m:e/>
                              <m:e/>
                              <m:e/>
                            </m:mr>
                            <m:mr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2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W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lloc</m:t>
                                    </m:r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2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W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hr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  <m:r>
                                  <m:t xml:space="preserve">+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1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W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hr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e/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W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hr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≤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W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lloc</m:t>
                                    </m:r>
                                  </m:sub>
                                </m:sSub>
                                <m:r>
                                  <m:t xml:space="preserve">≤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W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hr</m:t>
                                    </m:r>
                                  </m:sub>
                                </m:sSub>
                              </m:e>
                            </m:mr>
                            <m:mr>
                              <m:e/>
                              <m:e/>
                              <m:e/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K</m:t>
                                </m:r>
                              </m:e>
                              <m:e/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W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lloc</m:t>
                                    </m:r>
                                  </m:sub>
                                </m:sSub>
                                <m:r>
                                  <m:t xml:space="preserve">≥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W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hr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001880" y="127080"/>
            <a:ext cx="795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</a:rPr>
              <a:t>TE policy functions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2125800" y="5305320"/>
                <a:ext cx="572292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f</m:t>
                          </m:r>
                          <m:r>
                            <m:t xml:space="preserve">1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K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f>
                                        <m:num>
                                          <m:r>
                                            <m:t xml:space="preserve">x</m:t>
                                          </m:r>
                                        </m:num>
                                        <m:den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BW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tot</m:t>
                                          </m:r>
                                        </m:den>
                                      </m:f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,</m:t>
                          </m:r>
                        </m:e>
                        <m:e/>
                        <m:e>
                          <m:r>
                            <m:t xml:space="preserve">f</m:t>
                          </m:r>
                          <m:r>
                            <m:t xml:space="preserve">2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K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f>
                                        <m:num>
                                          <m:r>
                                            <m:t xml:space="preserve">x</m:t>
                                          </m:r>
                                        </m:num>
                                        <m:den>
                                          <m:r>
                                            <m:t xml:space="preserve">1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BW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tot</m:t>
                                          </m:r>
                                        </m:den>
                                      </m:f>
                                    </m:e>
                                  </m:d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14" name=""/>
          <p:cNvSpPr/>
          <p:nvPr/>
        </p:nvSpPr>
        <p:spPr>
          <a:xfrm>
            <a:off x="5486400" y="185904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 =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resource cost per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838080" y="5715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5486400" y="231624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i="1" lang="it-IT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smoothing f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838080" y="804960"/>
            <a:ext cx="769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These policy functions increase the total cost of the link as allocated bandwidth increases, so as to avoid the overloading of the link and the resulting network congestion</a:t>
            </a:r>
            <a:r>
              <a:rPr b="0" lang="en-GB" sz="1700" spc="-1" strike="noStrike">
                <a:solidFill>
                  <a:srgbClr val="000066"/>
                </a:solidFill>
                <a:latin typeface="Arial"/>
                <a:ea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8" name=""/>
          <p:cNvGraphicFramePr/>
          <p:nvPr/>
        </p:nvGraphicFramePr>
        <p:xfrm>
          <a:off x="69840" y="701640"/>
          <a:ext cx="8564400" cy="593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" y="701640"/>
                    <a:ext cx="8564400" cy="59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1001880" y="127080"/>
            <a:ext cx="795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</a:rPr>
              <a:t>TE policy functions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5146560" y="1082520"/>
            <a:ext cx="2397240" cy="90792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policy</a:t>
            </a:r>
            <a:r>
              <a:rPr b="0" i="1" lang="en-GB" sz="16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2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achieve</a:t>
            </a:r>
            <a:r>
              <a:rPr b="0" lang="it-IT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s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a better flexibility in increasing the cost of the TE-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2666880" y="3143160"/>
            <a:ext cx="2225880" cy="115128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olicy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discourag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the link picking as th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llocated bandwidth increases on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533520" y="961920"/>
            <a:ext cx="403848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= 2</a:t>
            </a: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, 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 = 1.5</a:t>
            </a: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BW</a:t>
            </a:r>
            <a:r>
              <a:rPr b="0" i="1" lang="en-GB" sz="1800" spc="-1" strike="noStrike" baseline="-25000">
                <a:solidFill>
                  <a:srgbClr val="000066"/>
                </a:solidFill>
                <a:latin typeface="Arial"/>
              </a:rPr>
              <a:t>thr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= 75% of</a:t>
            </a: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BW</a:t>
            </a:r>
            <a:r>
              <a:rPr b="0" i="1" lang="en-GB" sz="1800" spc="-1" strike="noStrike" baseline="-25000">
                <a:solidFill>
                  <a:srgbClr val="000066"/>
                </a:solidFill>
                <a:latin typeface="Arial"/>
              </a:rPr>
              <a:t>t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001880" y="127080"/>
            <a:ext cx="795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</a:rPr>
              <a:t>Policy</a:t>
            </a:r>
            <a:r>
              <a:rPr b="1" lang="en-GB" sz="3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025" name=""/>
          <p:cNvGraphicFramePr/>
          <p:nvPr/>
        </p:nvGraphicFramePr>
        <p:xfrm>
          <a:off x="209520" y="914400"/>
          <a:ext cx="8637480" cy="536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914400"/>
                    <a:ext cx="8637480" cy="536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001880" y="127080"/>
            <a:ext cx="795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</a:rPr>
              <a:t>Simulation environment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347760" y="990720"/>
            <a:ext cx="86738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 algn="just">
              <a:spcBef>
                <a:spcPts val="60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All the requests, with recovery requirements, have been configured with four possible values for the bandwidth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533520" y="192564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5200" indent="-301680" algn="just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VC4 (e.g. 95.5% of 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req_path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at 139 Mbit/s ca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347760" y="4091040"/>
            <a:ext cx="86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 algn="just">
              <a:spcBef>
                <a:spcPts val="60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For each topology have been observ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533520" y="466236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5200" indent="-301680" algn="just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the number of computed LSPs (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comp_path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533520" y="243684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5200" indent="-301680" algn="just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VC4-4c (e.g. 3.0% of 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req_path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at 556 Mbit/s ca.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33520" y="294804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5200" indent="-301680" algn="just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VC4-16c (e.g. 1.0% of 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req_path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at 2224 Mbit/s ca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533520" y="345924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5200" indent="-301680" algn="just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VC4-64c (e.g. 0.5% of 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req_path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at 8896 Mbit/s ca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533520" y="517356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5200" indent="-301680" algn="just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the mean TE-link usage in % (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link_utilization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533520" y="568476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5200" indent="-301680" algn="just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the number of totally disjoint pairs of LSPs (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disjoint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7" name=""/>
          <p:cNvGraphicFramePr/>
          <p:nvPr/>
        </p:nvGraphicFramePr>
        <p:xfrm>
          <a:off x="228600" y="1066680"/>
          <a:ext cx="4216320" cy="234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421632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9" name=""/>
          <p:cNvGraphicFramePr/>
          <p:nvPr/>
        </p:nvGraphicFramePr>
        <p:xfrm>
          <a:off x="228600" y="3790800"/>
          <a:ext cx="4226040" cy="2357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3790800"/>
                    <a:ext cx="4226040" cy="23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1" name=""/>
          <p:cNvGraphicFramePr/>
          <p:nvPr/>
        </p:nvGraphicFramePr>
        <p:xfrm>
          <a:off x="4842000" y="3809880"/>
          <a:ext cx="4225680" cy="2357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0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42000" y="3809880"/>
                    <a:ext cx="4225680" cy="23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001880" y="127080"/>
            <a:ext cx="79516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</a:rPr>
              <a:t>Link utilization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876920" y="1320840"/>
            <a:ext cx="3886200" cy="170604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279360" indent="-27936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igher link utilization achieved when polic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es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re used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ater improvements are obtainable for lower meshing degre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provement in th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airer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tilization of the network resourc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001880" y="127080"/>
            <a:ext cx="795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</a:rPr>
              <a:t>GPF with different TE policies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046" name=""/>
          <p:cNvGraphicFramePr/>
          <p:nvPr/>
        </p:nvGraphicFramePr>
        <p:xfrm>
          <a:off x="152280" y="914400"/>
          <a:ext cx="4705560" cy="26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14400"/>
                    <a:ext cx="470556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8" name=""/>
          <p:cNvGraphicFramePr/>
          <p:nvPr/>
        </p:nvGraphicFramePr>
        <p:xfrm>
          <a:off x="152280" y="3581280"/>
          <a:ext cx="4695840" cy="261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3581280"/>
                    <a:ext cx="469584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0" name=""/>
          <p:cNvSpPr/>
          <p:nvPr/>
        </p:nvSpPr>
        <p:spPr>
          <a:xfrm>
            <a:off x="5029200" y="990720"/>
            <a:ext cx="3886200" cy="217908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279360" indent="-279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mputations with TE policies achiev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n higher performance both for Gold and for Silver CoR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 improvement in th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airer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tilization of the network resource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448240" y="3962520"/>
            <a:ext cx="3048120" cy="179028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se advantages are much evident in case of Silver CoR, because of the worst resource picking due to the sub-optimality of algorithm adopted.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001880" y="127080"/>
            <a:ext cx="795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053" name=""/>
          <p:cNvGraphicFramePr/>
          <p:nvPr/>
        </p:nvGraphicFramePr>
        <p:xfrm>
          <a:off x="5181480" y="882720"/>
          <a:ext cx="3691080" cy="1752480"/>
        </p:xfrm>
        <a:graphic>
          <a:graphicData uri="http://schemas.openxmlformats.org/drawingml/2006/table">
            <a:tbl>
              <a:tblPr/>
              <a:tblGrid>
                <a:gridCol w="1868760"/>
                <a:gridCol w="911160"/>
                <a:gridCol w="911160"/>
              </a:tblGrid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GP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ver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C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old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C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12720">
                <a:tc>
                  <a:txBody>
                    <a:bodyPr lIns="38160" rIns="38160" tIns="38160" bIns="3816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icy_1</a:t>
                      </a:r>
                      <a:r>
                        <a:rPr b="1" i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vs. no_polic</a:t>
                      </a:r>
                      <a:r>
                        <a:rPr b="1" i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2.8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5.2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60520">
                <a:tc>
                  <a:txBody>
                    <a:bodyPr lIns="38160" rIns="38160" tIns="38160" bIns="3816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icy_2  vs. no_poli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2.4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54" name=""/>
          <p:cNvGraphicFramePr/>
          <p:nvPr/>
        </p:nvGraphicFramePr>
        <p:xfrm>
          <a:off x="219240" y="882720"/>
          <a:ext cx="4692600" cy="1752480"/>
        </p:xfrm>
        <a:graphic>
          <a:graphicData uri="http://schemas.openxmlformats.org/drawingml/2006/table">
            <a:tbl>
              <a:tblPr/>
              <a:tblGrid>
                <a:gridCol w="1825560"/>
                <a:gridCol w="1044360"/>
                <a:gridCol w="911520"/>
                <a:gridCol w="911160"/>
              </a:tblGrid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ink Uti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onze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CoR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ver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C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old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C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12720">
                <a:tc>
                  <a:txBody>
                    <a:bodyPr lIns="38160" rIns="38160" tIns="38160" bIns="3816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icy_1 vs. no_poli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2.6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0.7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1.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60520">
                <a:tc>
                  <a:txBody>
                    <a:bodyPr lIns="38160" rIns="38160" tIns="38160" bIns="3816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icy_2  vs. no_poli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2.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0.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2.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1055" name=""/>
          <p:cNvSpPr/>
          <p:nvPr/>
        </p:nvSpPr>
        <p:spPr>
          <a:xfrm>
            <a:off x="241200" y="2946240"/>
            <a:ext cx="867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spcBef>
                <a:spcPts val="499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he advantages of defining complex policy functions (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</a:rPr>
              <a:t>policy</a:t>
            </a:r>
            <a:r>
              <a:rPr b="0" i="1" lang="it-IT" sz="2000" spc="-1" strike="noStrike">
                <a:solidFill>
                  <a:srgbClr val="000066"/>
                </a:solidFill>
                <a:latin typeface="Arial"/>
              </a:rPr>
              <a:t>_1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) do not pay for the introduced CPU complex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219320" y="3657600"/>
            <a:ext cx="726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66"/>
                </a:solidFill>
                <a:latin typeface="Arial"/>
              </a:rPr>
              <a:t>policy</a:t>
            </a:r>
            <a:r>
              <a:rPr b="0" i="1" lang="en-GB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improves 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</a:rPr>
              <a:t>policy</a:t>
            </a:r>
            <a:r>
              <a:rPr b="0" i="1" lang="en-GB" sz="20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performance for less than 0.25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it worsens 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</a:rPr>
              <a:t>policy</a:t>
            </a:r>
            <a:r>
              <a:rPr b="0" i="1" lang="en-GB" sz="20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performance in case of GP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41200" y="4556160"/>
            <a:ext cx="86742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spcBef>
                <a:spcPts val="499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simple policy function 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</a:rPr>
              <a:t>policy</a:t>
            </a:r>
            <a:r>
              <a:rPr b="0" i="1" lang="en-GB" sz="20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0" i="1" lang="it-IT" sz="20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is suitable and effective for a good 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</a:rPr>
              <a:t>trade-off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between the computational load on CPU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and the achievable performance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in terms of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1219320" y="5562720"/>
            <a:ext cx="59562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load balanc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blocking prob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9" name=""/>
          <p:cNvGrpSpPr/>
          <p:nvPr/>
        </p:nvGrpSpPr>
        <p:grpSpPr>
          <a:xfrm>
            <a:off x="3949560" y="1403280"/>
            <a:ext cx="4051440" cy="2635200"/>
            <a:chOff x="3949560" y="1403280"/>
            <a:chExt cx="4051440" cy="2635200"/>
          </a:xfrm>
        </p:grpSpPr>
        <p:sp>
          <p:nvSpPr>
            <p:cNvPr id="1060" name=""/>
            <p:cNvSpPr/>
            <p:nvPr/>
          </p:nvSpPr>
          <p:spPr>
            <a:xfrm>
              <a:off x="3949560" y="1403280"/>
              <a:ext cx="1019160" cy="1295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315200" y="4038480"/>
              <a:ext cx="685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01880" y="127080"/>
            <a:ext cx="795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5200" y="3116160"/>
            <a:ext cx="8674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GMPLS architecture is based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5200" y="903240"/>
            <a:ext cx="8674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The standardization committees (e.g. ITU-T, OIF and IETF) are all converging in the design of an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integrated network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with a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common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GMPLS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control plane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5200" y="1984320"/>
            <a:ext cx="8674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GMPLS will manage all the network data planes, provi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4840" y="5072040"/>
            <a:ext cx="86742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From a routing perspective, the GMPLS extens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5200" y="2409840"/>
            <a:ext cx="867420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the required 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automation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in the computation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the 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etup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and the 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recovery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of circuits for next-generation OT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5200" y="3541680"/>
            <a:ext cx="867420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a set of extensions to protocols for routing (e.g. OSPF and IS-IS) and signalling (e.g. RSVP), just available in IP network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a 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new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link management protocol (i.e. LMP), designed from scratch in order to handle correctly the distinction between the data plane and the control pla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5200" y="5533920"/>
            <a:ext cx="86742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provide new information for circuit comput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enable configurable TE policies and new recovery strate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001880" y="127080"/>
            <a:ext cx="795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</a:rPr>
              <a:t>Future work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4111560" y="1055520"/>
            <a:ext cx="4103640" cy="1663920"/>
          </a:xfrm>
          <a:prstGeom prst="wedgeRoundRectCallout">
            <a:avLst>
              <a:gd name="adj1" fmla="val 7032"/>
              <a:gd name="adj2" fmla="val 64004"/>
              <a:gd name="adj3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4" name=""/>
          <p:cNvCxnSpPr>
            <a:stCxn id="1065" idx="3"/>
            <a:endCxn id="1066" idx="0"/>
          </p:cNvCxnSpPr>
          <p:nvPr/>
        </p:nvCxnSpPr>
        <p:spPr>
          <a:xfrm>
            <a:off x="6391440" y="4168800"/>
            <a:ext cx="861120" cy="822960"/>
          </a:xfrm>
          <a:prstGeom prst="curvedConnector2">
            <a:avLst/>
          </a:prstGeom>
          <a:ln w="28440">
            <a:solidFill>
              <a:srgbClr val="000066"/>
            </a:solidFill>
            <a:prstDash val="sysDot"/>
            <a:miter/>
            <a:tailEnd len="med" type="triangle" w="med"/>
          </a:ln>
        </p:spPr>
      </p:cxnSp>
      <p:cxnSp>
        <p:nvCxnSpPr>
          <p:cNvPr id="1067" name=""/>
          <p:cNvCxnSpPr>
            <a:stCxn id="1065" idx="1"/>
            <a:endCxn id="1068" idx="0"/>
          </p:cNvCxnSpPr>
          <p:nvPr/>
        </p:nvCxnSpPr>
        <p:spPr>
          <a:xfrm>
            <a:off x="6156360" y="4168800"/>
            <a:ext cx="2160" cy="351360"/>
          </a:xfrm>
          <a:prstGeom prst="straightConnector1">
            <a:avLst/>
          </a:prstGeom>
          <a:ln w="28440">
            <a:solidFill>
              <a:srgbClr val="000066"/>
            </a:solidFill>
            <a:prstDash val="sysDot"/>
            <a:miter/>
            <a:tailEnd len="med" type="triangle" w="med"/>
          </a:ln>
        </p:spPr>
      </p:cxnSp>
      <p:sp>
        <p:nvSpPr>
          <p:cNvPr id="1069" name=""/>
          <p:cNvSpPr/>
          <p:nvPr/>
        </p:nvSpPr>
        <p:spPr>
          <a:xfrm>
            <a:off x="4525920" y="1139760"/>
            <a:ext cx="809640" cy="4064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66"/>
                </a:solidFill>
                <a:latin typeface="Arial Unicode MS"/>
              </a:rPr>
              <a:t>PD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2397240" y="128736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 Unicode MS"/>
              </a:rPr>
              <a:t>COPS-MA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2133360" y="11365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2" name=""/>
          <p:cNvCxnSpPr>
            <a:stCxn id="1069" idx="1"/>
            <a:endCxn id="1071" idx="3"/>
          </p:cNvCxnSpPr>
          <p:nvPr/>
        </p:nvCxnSpPr>
        <p:spPr>
          <a:xfrm rot="10800000">
            <a:off x="2365200" y="1342440"/>
            <a:ext cx="2161080" cy="1080"/>
          </a:xfrm>
          <a:prstGeom prst="bentConnector2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</p:cxnSp>
      <p:sp>
        <p:nvSpPr>
          <p:cNvPr id="1073" name=""/>
          <p:cNvSpPr/>
          <p:nvPr/>
        </p:nvSpPr>
        <p:spPr>
          <a:xfrm>
            <a:off x="763560" y="2044800"/>
            <a:ext cx="3175200" cy="1933560"/>
          </a:xfrm>
          <a:prstGeom prst="wedgeRoundRectCallout">
            <a:avLst>
              <a:gd name="adj1" fmla="val 83527"/>
              <a:gd name="adj2" fmla="val 101587"/>
              <a:gd name="adj3" fmla="val 16667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1952640" y="2189160"/>
            <a:ext cx="811080" cy="4064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66"/>
                </a:solidFill>
                <a:latin typeface="Arial Unicode MS"/>
              </a:rPr>
              <a:t>P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5" name=""/>
          <p:cNvCxnSpPr>
            <a:stCxn id="1071" idx="3"/>
            <a:endCxn id="1074" idx="0"/>
          </p:cNvCxnSpPr>
          <p:nvPr/>
        </p:nvCxnSpPr>
        <p:spPr>
          <a:xfrm flipH="1">
            <a:off x="2358360" y="1343160"/>
            <a:ext cx="6840" cy="846720"/>
          </a:xfrm>
          <a:prstGeom prst="straightConnector1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076" name=""/>
          <p:cNvCxnSpPr>
            <a:stCxn id="1065" idx="1"/>
            <a:endCxn id="1077" idx="0"/>
          </p:cNvCxnSpPr>
          <p:nvPr/>
        </p:nvCxnSpPr>
        <p:spPr>
          <a:xfrm flipV="1" rot="10800000">
            <a:off x="5063400" y="4168440"/>
            <a:ext cx="1092960" cy="822960"/>
          </a:xfrm>
          <a:prstGeom prst="curvedConnector2">
            <a:avLst/>
          </a:prstGeom>
          <a:ln w="28440">
            <a:solidFill>
              <a:srgbClr val="000066"/>
            </a:solidFill>
            <a:prstDash val="sysDot"/>
            <a:miter/>
            <a:tailEnd len="med" type="triangle" w="med"/>
          </a:ln>
        </p:spPr>
      </p:cxnSp>
      <p:cxnSp>
        <p:nvCxnSpPr>
          <p:cNvPr id="1078" name=""/>
          <p:cNvCxnSpPr>
            <a:stCxn id="1065" idx="3"/>
            <a:endCxn id="1079" idx="0"/>
          </p:cNvCxnSpPr>
          <p:nvPr/>
        </p:nvCxnSpPr>
        <p:spPr>
          <a:xfrm>
            <a:off x="6391080" y="4168800"/>
            <a:ext cx="130680" cy="1443600"/>
          </a:xfrm>
          <a:prstGeom prst="curvedConnector2">
            <a:avLst/>
          </a:prstGeom>
          <a:ln w="28440">
            <a:solidFill>
              <a:srgbClr val="000066"/>
            </a:solidFill>
            <a:prstDash val="sysDot"/>
            <a:miter/>
            <a:tailEnd len="med" type="triangle" w="med"/>
          </a:ln>
        </p:spPr>
      </p:cxnSp>
      <p:cxnSp>
        <p:nvCxnSpPr>
          <p:cNvPr id="1080" name=""/>
          <p:cNvCxnSpPr>
            <a:stCxn id="1065" idx="3"/>
            <a:endCxn id="1081" idx="2"/>
          </p:cNvCxnSpPr>
          <p:nvPr/>
        </p:nvCxnSpPr>
        <p:spPr>
          <a:xfrm flipV="1">
            <a:off x="6391080" y="3894840"/>
            <a:ext cx="741960" cy="273960"/>
          </a:xfrm>
          <a:prstGeom prst="curvedConnector2">
            <a:avLst/>
          </a:prstGeom>
          <a:ln w="28440">
            <a:solidFill>
              <a:srgbClr val="000066"/>
            </a:solidFill>
            <a:prstDash val="sysDot"/>
            <a:miter/>
          </a:ln>
        </p:spPr>
      </p:cxnSp>
      <p:grpSp>
        <p:nvGrpSpPr>
          <p:cNvPr id="1082" name=""/>
          <p:cNvGrpSpPr/>
          <p:nvPr/>
        </p:nvGrpSpPr>
        <p:grpSpPr>
          <a:xfrm>
            <a:off x="763560" y="968400"/>
            <a:ext cx="1279080" cy="723600"/>
            <a:chOff x="763560" y="968400"/>
            <a:chExt cx="1279080" cy="723600"/>
          </a:xfrm>
        </p:grpSpPr>
        <p:sp>
          <p:nvSpPr>
            <p:cNvPr id="1083" name=""/>
            <p:cNvSpPr/>
            <p:nvPr/>
          </p:nvSpPr>
          <p:spPr>
            <a:xfrm>
              <a:off x="906480" y="1062720"/>
              <a:ext cx="1136160" cy="62928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305360" y="10998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840600" y="1024200"/>
              <a:ext cx="1136160" cy="6292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63560" y="968400"/>
              <a:ext cx="1136160" cy="62928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000066"/>
                  </a:solidFill>
                  <a:latin typeface="Arial Unicode MS"/>
                </a:rPr>
                <a:t>Neighb. BB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87" name=""/>
          <p:cNvCxnSpPr>
            <a:stCxn id="1085" idx="3"/>
            <a:endCxn id="1071" idx="3"/>
          </p:cNvCxnSpPr>
          <p:nvPr/>
        </p:nvCxnSpPr>
        <p:spPr>
          <a:xfrm>
            <a:off x="1976400" y="1338120"/>
            <a:ext cx="389520" cy="5760"/>
          </a:xfrm>
          <a:prstGeom prst="straightConnector1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</p:cxnSp>
      <p:sp>
        <p:nvSpPr>
          <p:cNvPr id="1088" name=""/>
          <p:cNvSpPr/>
          <p:nvPr/>
        </p:nvSpPr>
        <p:spPr>
          <a:xfrm>
            <a:off x="3931200" y="5869080"/>
            <a:ext cx="5864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 algn="ctr"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sz="1200" spc="-1" strike="noStrike">
                <a:solidFill>
                  <a:srgbClr val="000066"/>
                </a:solidFill>
                <a:latin typeface="Arial"/>
              </a:rPr>
              <a:t>Host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4131720" y="4892040"/>
            <a:ext cx="77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66"/>
                </a:solidFill>
                <a:latin typeface="Arial"/>
              </a:rPr>
              <a:t>MA-BR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5531400" y="58968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66"/>
                </a:solidFill>
                <a:latin typeface="Arial"/>
              </a:rPr>
              <a:t>C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6300000" y="58968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66"/>
                </a:solidFill>
                <a:latin typeface="Arial"/>
              </a:rPr>
              <a:t>CR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7205040" y="4710960"/>
            <a:ext cx="77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66"/>
                </a:solidFill>
                <a:latin typeface="Arial"/>
              </a:rPr>
              <a:t>MA-B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5915880" y="4799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66"/>
                </a:solidFill>
                <a:latin typeface="Arial"/>
              </a:rPr>
              <a:t>CR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7949160" y="5040360"/>
            <a:ext cx="5864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 algn="ctr"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sz="1200" spc="-1" strike="noStrike">
                <a:solidFill>
                  <a:srgbClr val="000066"/>
                </a:solidFill>
                <a:latin typeface="Arial"/>
              </a:rPr>
              <a:t>Hos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5" name=""/>
          <p:cNvCxnSpPr>
            <a:stCxn id="1096" idx="1"/>
            <a:endCxn id="1077" idx="0"/>
          </p:cNvCxnSpPr>
          <p:nvPr/>
        </p:nvCxnSpPr>
        <p:spPr>
          <a:xfrm flipV="1">
            <a:off x="3898440" y="4990680"/>
            <a:ext cx="1166040" cy="737280"/>
          </a:xfrm>
          <a:prstGeom prst="straightConnector1">
            <a:avLst/>
          </a:prstGeom>
          <a:ln w="57240">
            <a:solidFill>
              <a:srgbClr val="000066"/>
            </a:solidFill>
            <a:miter/>
          </a:ln>
        </p:spPr>
      </p:cxnSp>
      <p:cxnSp>
        <p:nvCxnSpPr>
          <p:cNvPr id="1097" name=""/>
          <p:cNvCxnSpPr>
            <a:stCxn id="1098" idx="2"/>
            <a:endCxn id="1077" idx="0"/>
          </p:cNvCxnSpPr>
          <p:nvPr/>
        </p:nvCxnSpPr>
        <p:spPr>
          <a:xfrm flipH="1" flipV="1">
            <a:off x="5063760" y="4990320"/>
            <a:ext cx="729360" cy="948600"/>
          </a:xfrm>
          <a:prstGeom prst="straightConnector1">
            <a:avLst/>
          </a:prstGeom>
          <a:ln w="57240">
            <a:solidFill>
              <a:srgbClr val="000066"/>
            </a:solidFill>
            <a:miter/>
          </a:ln>
        </p:spPr>
      </p:cxnSp>
      <p:cxnSp>
        <p:nvCxnSpPr>
          <p:cNvPr id="1099" name=""/>
          <p:cNvCxnSpPr>
            <a:stCxn id="1068" idx="3"/>
            <a:endCxn id="1077" idx="1"/>
          </p:cNvCxnSpPr>
          <p:nvPr/>
        </p:nvCxnSpPr>
        <p:spPr>
          <a:xfrm flipH="1">
            <a:off x="4782600" y="4684680"/>
            <a:ext cx="1656720" cy="472320"/>
          </a:xfrm>
          <a:prstGeom prst="straightConnector1">
            <a:avLst/>
          </a:prstGeom>
          <a:ln w="57240">
            <a:solidFill>
              <a:srgbClr val="000066"/>
            </a:solidFill>
            <a:miter/>
          </a:ln>
        </p:spPr>
      </p:cxnSp>
      <p:cxnSp>
        <p:nvCxnSpPr>
          <p:cNvPr id="1100" name=""/>
          <p:cNvCxnSpPr>
            <a:stCxn id="1098" idx="1"/>
            <a:endCxn id="1079" idx="3"/>
          </p:cNvCxnSpPr>
          <p:nvPr/>
        </p:nvCxnSpPr>
        <p:spPr>
          <a:xfrm>
            <a:off x="5511600" y="5776560"/>
            <a:ext cx="1292760" cy="1080"/>
          </a:xfrm>
          <a:prstGeom prst="straightConnector1">
            <a:avLst/>
          </a:prstGeom>
          <a:ln w="57240">
            <a:solidFill>
              <a:srgbClr val="000066"/>
            </a:solidFill>
            <a:miter/>
          </a:ln>
        </p:spPr>
      </p:cxnSp>
      <p:cxnSp>
        <p:nvCxnSpPr>
          <p:cNvPr id="1101" name=""/>
          <p:cNvCxnSpPr>
            <a:stCxn id="1066" idx="3"/>
            <a:endCxn id="1068" idx="1"/>
          </p:cNvCxnSpPr>
          <p:nvPr/>
        </p:nvCxnSpPr>
        <p:spPr>
          <a:xfrm flipH="1" flipV="1">
            <a:off x="5874840" y="4684320"/>
            <a:ext cx="1658160" cy="472320"/>
          </a:xfrm>
          <a:prstGeom prst="straightConnector1">
            <a:avLst/>
          </a:prstGeom>
          <a:ln w="57240">
            <a:solidFill>
              <a:srgbClr val="000066"/>
            </a:solidFill>
            <a:miter/>
          </a:ln>
        </p:spPr>
      </p:cxnSp>
      <p:cxnSp>
        <p:nvCxnSpPr>
          <p:cNvPr id="1102" name=""/>
          <p:cNvCxnSpPr>
            <a:stCxn id="1066" idx="0"/>
            <a:endCxn id="1079" idx="2"/>
          </p:cNvCxnSpPr>
          <p:nvPr/>
        </p:nvCxnSpPr>
        <p:spPr>
          <a:xfrm flipH="1">
            <a:off x="6520680" y="4990680"/>
            <a:ext cx="731160" cy="948600"/>
          </a:xfrm>
          <a:prstGeom prst="straightConnector1">
            <a:avLst/>
          </a:prstGeom>
          <a:ln w="57240">
            <a:solidFill>
              <a:srgbClr val="000066"/>
            </a:solidFill>
            <a:miter/>
          </a:ln>
        </p:spPr>
      </p:cxnSp>
      <p:cxnSp>
        <p:nvCxnSpPr>
          <p:cNvPr id="1103" name=""/>
          <p:cNvCxnSpPr>
            <a:stCxn id="1066" idx="1"/>
            <a:endCxn id="1104" idx="3"/>
          </p:cNvCxnSpPr>
          <p:nvPr/>
        </p:nvCxnSpPr>
        <p:spPr>
          <a:xfrm>
            <a:off x="6969240" y="5155920"/>
            <a:ext cx="1521360" cy="316440"/>
          </a:xfrm>
          <a:prstGeom prst="straightConnector1">
            <a:avLst/>
          </a:prstGeom>
          <a:ln w="57240">
            <a:solidFill>
              <a:srgbClr val="000066"/>
            </a:solidFill>
            <a:miter/>
          </a:ln>
        </p:spPr>
      </p:cxnSp>
      <p:pic>
        <p:nvPicPr>
          <p:cNvPr id="1105" name="" descr=""/>
          <p:cNvPicPr/>
          <p:nvPr/>
        </p:nvPicPr>
        <p:blipFill>
          <a:blip r:embed="rId1"/>
          <a:stretch/>
        </p:blipFill>
        <p:spPr>
          <a:xfrm>
            <a:off x="7926480" y="5307120"/>
            <a:ext cx="563400" cy="326880"/>
          </a:xfrm>
          <a:prstGeom prst="rect">
            <a:avLst/>
          </a:prstGeom>
          <a:ln w="0">
            <a:noFill/>
          </a:ln>
        </p:spPr>
      </p:pic>
      <p:pic>
        <p:nvPicPr>
          <p:cNvPr id="1106" name="" descr=""/>
          <p:cNvPicPr/>
          <p:nvPr/>
        </p:nvPicPr>
        <p:blipFill>
          <a:blip r:embed="rId2"/>
          <a:stretch/>
        </p:blipFill>
        <p:spPr>
          <a:xfrm>
            <a:off x="3898800" y="5562720"/>
            <a:ext cx="563760" cy="328320"/>
          </a:xfrm>
          <a:prstGeom prst="rect">
            <a:avLst/>
          </a:prstGeom>
          <a:ln w="0">
            <a:noFill/>
          </a:ln>
        </p:spPr>
      </p:pic>
      <p:pic>
        <p:nvPicPr>
          <p:cNvPr id="1107" name="" descr=""/>
          <p:cNvPicPr/>
          <p:nvPr/>
        </p:nvPicPr>
        <p:blipFill>
          <a:blip r:embed="rId3"/>
          <a:stretch/>
        </p:blipFill>
        <p:spPr>
          <a:xfrm>
            <a:off x="6969240" y="4991040"/>
            <a:ext cx="563400" cy="328680"/>
          </a:xfrm>
          <a:prstGeom prst="rect">
            <a:avLst/>
          </a:prstGeom>
          <a:ln w="0">
            <a:noFill/>
          </a:ln>
        </p:spPr>
      </p:pic>
      <p:pic>
        <p:nvPicPr>
          <p:cNvPr id="1108" name="" descr=""/>
          <p:cNvPicPr/>
          <p:nvPr/>
        </p:nvPicPr>
        <p:blipFill>
          <a:blip r:embed="rId4"/>
          <a:stretch/>
        </p:blipFill>
        <p:spPr>
          <a:xfrm>
            <a:off x="5875200" y="4519440"/>
            <a:ext cx="563760" cy="327240"/>
          </a:xfrm>
          <a:prstGeom prst="rect">
            <a:avLst/>
          </a:prstGeom>
          <a:ln w="0">
            <a:noFill/>
          </a:ln>
        </p:spPr>
      </p:pic>
      <p:pic>
        <p:nvPicPr>
          <p:cNvPr id="1109" name="" descr=""/>
          <p:cNvPicPr/>
          <p:nvPr/>
        </p:nvPicPr>
        <p:blipFill>
          <a:blip r:embed="rId5"/>
          <a:stretch/>
        </p:blipFill>
        <p:spPr>
          <a:xfrm>
            <a:off x="4782960" y="4991040"/>
            <a:ext cx="562320" cy="328680"/>
          </a:xfrm>
          <a:prstGeom prst="rect">
            <a:avLst/>
          </a:prstGeom>
          <a:ln w="0">
            <a:noFill/>
          </a:ln>
        </p:spPr>
      </p:pic>
      <p:pic>
        <p:nvPicPr>
          <p:cNvPr id="1110" name="" descr=""/>
          <p:cNvPicPr/>
          <p:nvPr/>
        </p:nvPicPr>
        <p:blipFill>
          <a:blip r:embed="rId6"/>
          <a:stretch/>
        </p:blipFill>
        <p:spPr>
          <a:xfrm>
            <a:off x="5511960" y="5611680"/>
            <a:ext cx="563400" cy="327240"/>
          </a:xfrm>
          <a:prstGeom prst="rect">
            <a:avLst/>
          </a:prstGeom>
          <a:ln w="0">
            <a:noFill/>
          </a:ln>
        </p:spPr>
      </p:pic>
      <p:pic>
        <p:nvPicPr>
          <p:cNvPr id="1111" name="" descr=""/>
          <p:cNvPicPr/>
          <p:nvPr/>
        </p:nvPicPr>
        <p:blipFill>
          <a:blip r:embed="rId7"/>
          <a:stretch/>
        </p:blipFill>
        <p:spPr>
          <a:xfrm>
            <a:off x="6240600" y="5611680"/>
            <a:ext cx="563400" cy="327240"/>
          </a:xfrm>
          <a:prstGeom prst="rect">
            <a:avLst/>
          </a:prstGeom>
          <a:ln w="0">
            <a:noFill/>
          </a:ln>
        </p:spPr>
      </p:pic>
      <p:sp>
        <p:nvSpPr>
          <p:cNvPr id="1112" name=""/>
          <p:cNvSpPr/>
          <p:nvPr/>
        </p:nvSpPr>
        <p:spPr>
          <a:xfrm>
            <a:off x="4525920" y="2178000"/>
            <a:ext cx="809640" cy="4050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66"/>
                </a:solidFill>
                <a:latin typeface="Arial Unicode MS"/>
              </a:rPr>
              <a:t>A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3" name=""/>
          <p:cNvCxnSpPr>
            <a:stCxn id="1112" idx="3"/>
            <a:endCxn id="1114" idx="2"/>
          </p:cNvCxnSpPr>
          <p:nvPr/>
        </p:nvCxnSpPr>
        <p:spPr>
          <a:xfrm flipV="1">
            <a:off x="5335560" y="2047320"/>
            <a:ext cx="278280" cy="332280"/>
          </a:xfrm>
          <a:prstGeom prst="bentConnector2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14" name=""/>
          <p:cNvSpPr/>
          <p:nvPr/>
        </p:nvSpPr>
        <p:spPr>
          <a:xfrm>
            <a:off x="5207040" y="1641600"/>
            <a:ext cx="811080" cy="4064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66"/>
                </a:solidFill>
                <a:latin typeface="Arial Unicode MS"/>
              </a:rPr>
              <a:t>D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5" name=""/>
          <p:cNvCxnSpPr>
            <a:stCxn id="1069" idx="3"/>
            <a:endCxn id="1114" idx="0"/>
          </p:cNvCxnSpPr>
          <p:nvPr/>
        </p:nvCxnSpPr>
        <p:spPr>
          <a:xfrm>
            <a:off x="5335560" y="1342800"/>
            <a:ext cx="278280" cy="299160"/>
          </a:xfrm>
          <a:prstGeom prst="bentConnector2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16" name=""/>
          <p:cNvCxnSpPr>
            <a:stCxn id="1065" idx="3"/>
            <a:endCxn id="1065" idx="1"/>
          </p:cNvCxnSpPr>
          <p:nvPr/>
        </p:nvCxnSpPr>
        <p:spPr>
          <a:xfrm flipH="1">
            <a:off x="6155640" y="4168440"/>
            <a:ext cx="235800" cy="1080"/>
          </a:xfrm>
          <a:prstGeom prst="straightConnector1">
            <a:avLst/>
          </a:prstGeom>
          <a:ln w="28440">
            <a:solidFill>
              <a:srgbClr val="000066"/>
            </a:solidFill>
            <a:prstDash val="sysDot"/>
            <a:miter/>
          </a:ln>
        </p:spPr>
      </p:cxnSp>
      <p:sp>
        <p:nvSpPr>
          <p:cNvPr id="1117" name=""/>
          <p:cNvSpPr/>
          <p:nvPr/>
        </p:nvSpPr>
        <p:spPr>
          <a:xfrm>
            <a:off x="4932000" y="3648240"/>
            <a:ext cx="6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66"/>
                </a:solidFill>
                <a:latin typeface="Arial Unicode MS"/>
              </a:rPr>
              <a:t> </a:t>
            </a:r>
            <a:r>
              <a:rPr b="0" sz="1200" spc="-1" strike="noStrike">
                <a:solidFill>
                  <a:srgbClr val="000066"/>
                </a:solidFill>
                <a:latin typeface="Arial Unicode MS"/>
              </a:rPr>
              <a:t>SN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6725160" y="3648240"/>
            <a:ext cx="8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66"/>
                </a:solidFill>
                <a:latin typeface="Arial Unicode MS"/>
              </a:rPr>
              <a:t> </a:t>
            </a:r>
            <a:r>
              <a:rPr b="0" sz="1200" spc="-1" strike="noStrike">
                <a:solidFill>
                  <a:srgbClr val="000066"/>
                </a:solidFill>
                <a:latin typeface="Arial Unicode MS"/>
              </a:rPr>
              <a:t>OSPF-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8" name=""/>
          <p:cNvCxnSpPr>
            <a:stCxn id="1081" idx="0"/>
            <a:endCxn id="1119" idx="3"/>
          </p:cNvCxnSpPr>
          <p:nvPr/>
        </p:nvCxnSpPr>
        <p:spPr>
          <a:xfrm flipV="1" rot="16200000">
            <a:off x="6664680" y="3179880"/>
            <a:ext cx="254880" cy="681840"/>
          </a:xfrm>
          <a:prstGeom prst="curvedConnector2">
            <a:avLst/>
          </a:prstGeom>
          <a:ln w="28440">
            <a:solidFill>
              <a:srgbClr val="000066"/>
            </a:solidFill>
            <a:prstDash val="sysDot"/>
            <a:miter/>
            <a:tailEnd len="med" type="triangle" w="med"/>
          </a:ln>
        </p:spPr>
      </p:cxnSp>
      <p:cxnSp>
        <p:nvCxnSpPr>
          <p:cNvPr id="1120" name=""/>
          <p:cNvCxnSpPr>
            <a:stCxn id="1117" idx="0"/>
            <a:endCxn id="1121" idx="1"/>
          </p:cNvCxnSpPr>
          <p:nvPr/>
        </p:nvCxnSpPr>
        <p:spPr>
          <a:xfrm flipH="1" flipV="1" rot="5400000">
            <a:off x="5403960" y="3246840"/>
            <a:ext cx="254880" cy="548280"/>
          </a:xfrm>
          <a:prstGeom prst="curvedConnector2">
            <a:avLst/>
          </a:prstGeom>
          <a:ln w="28440">
            <a:solidFill>
              <a:srgbClr val="000066"/>
            </a:solidFill>
            <a:prstDash val="sysDot"/>
            <a:miter/>
            <a:tailEnd len="med" type="triangle" w="med"/>
          </a:ln>
        </p:spPr>
      </p:cxnSp>
      <p:sp>
        <p:nvSpPr>
          <p:cNvPr id="1065" name=""/>
          <p:cNvSpPr/>
          <p:nvPr/>
        </p:nvSpPr>
        <p:spPr>
          <a:xfrm>
            <a:off x="6157800" y="39625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2" name=""/>
          <p:cNvCxnSpPr>
            <a:stCxn id="1123" idx="3"/>
            <a:endCxn id="1124" idx="1"/>
          </p:cNvCxnSpPr>
          <p:nvPr/>
        </p:nvCxnSpPr>
        <p:spPr>
          <a:xfrm flipV="1">
            <a:off x="1644480" y="3040920"/>
            <a:ext cx="308880" cy="383400"/>
          </a:xfrm>
          <a:prstGeom prst="bentConnector3">
            <a:avLst>
              <a:gd name="adj1" fmla="val 49708"/>
            </a:avLst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5" name=""/>
          <p:cNvCxnSpPr>
            <a:stCxn id="1126" idx="1"/>
            <a:endCxn id="1124" idx="3"/>
          </p:cNvCxnSpPr>
          <p:nvPr/>
        </p:nvCxnSpPr>
        <p:spPr>
          <a:xfrm rot="10800000">
            <a:off x="2763000" y="3040920"/>
            <a:ext cx="311760" cy="489600"/>
          </a:xfrm>
          <a:prstGeom prst="bentConnector3">
            <a:avLst>
              <a:gd name="adj1" fmla="val 49942"/>
            </a:avLst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7" name=""/>
          <p:cNvCxnSpPr>
            <a:stCxn id="1128" idx="1"/>
            <a:endCxn id="1124" idx="3"/>
          </p:cNvCxnSpPr>
          <p:nvPr/>
        </p:nvCxnSpPr>
        <p:spPr>
          <a:xfrm rot="10800000">
            <a:off x="2763000" y="3040920"/>
            <a:ext cx="311760" cy="1080"/>
          </a:xfrm>
          <a:prstGeom prst="bentConnector2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9" name=""/>
          <p:cNvCxnSpPr>
            <a:stCxn id="1124" idx="0"/>
            <a:endCxn id="1074" idx="2"/>
          </p:cNvCxnSpPr>
          <p:nvPr/>
        </p:nvCxnSpPr>
        <p:spPr>
          <a:xfrm flipV="1">
            <a:off x="2358720" y="2594880"/>
            <a:ext cx="1080" cy="243720"/>
          </a:xfrm>
          <a:prstGeom prst="bentConnector2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30" name=""/>
          <p:cNvCxnSpPr>
            <a:stCxn id="1124" idx="1"/>
            <a:endCxn id="1131" idx="3"/>
          </p:cNvCxnSpPr>
          <p:nvPr/>
        </p:nvCxnSpPr>
        <p:spPr>
          <a:xfrm rot="10800000">
            <a:off x="1643760" y="2658240"/>
            <a:ext cx="308880" cy="383400"/>
          </a:xfrm>
          <a:prstGeom prst="bentConnector3">
            <a:avLst>
              <a:gd name="adj1" fmla="val 49708"/>
            </a:avLst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2" name=""/>
          <p:cNvSpPr/>
          <p:nvPr/>
        </p:nvSpPr>
        <p:spPr>
          <a:xfrm>
            <a:off x="1952640" y="3487680"/>
            <a:ext cx="811080" cy="4064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66"/>
                </a:solidFill>
                <a:latin typeface="Arial Unicode MS"/>
              </a:rPr>
              <a:t>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3" name=""/>
          <p:cNvCxnSpPr>
            <a:stCxn id="1132" idx="0"/>
            <a:endCxn id="1124" idx="2"/>
          </p:cNvCxnSpPr>
          <p:nvPr/>
        </p:nvCxnSpPr>
        <p:spPr>
          <a:xfrm flipV="1">
            <a:off x="2358720" y="3243960"/>
            <a:ext cx="1080" cy="243720"/>
          </a:xfrm>
          <a:prstGeom prst="bentConnector2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24" name=""/>
          <p:cNvSpPr/>
          <p:nvPr/>
        </p:nvSpPr>
        <p:spPr>
          <a:xfrm>
            <a:off x="1952640" y="2838600"/>
            <a:ext cx="811080" cy="4060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66"/>
                </a:solidFill>
                <a:latin typeface="Arial Unicode MS"/>
              </a:rPr>
              <a:t>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835200" y="2455920"/>
            <a:ext cx="809280" cy="4064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66"/>
                </a:solidFill>
                <a:latin typeface="Arial Unicode MS"/>
              </a:rPr>
              <a:t>X IW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835200" y="3220920"/>
            <a:ext cx="809280" cy="4064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66"/>
                </a:solidFill>
                <a:latin typeface="Arial Unicode MS"/>
              </a:rPr>
              <a:t>LSP IW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3075120" y="3327480"/>
            <a:ext cx="809640" cy="4064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66"/>
                </a:solidFill>
                <a:latin typeface="Arial Unicode MS"/>
              </a:rPr>
              <a:t>RSVP-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3075120" y="2838600"/>
            <a:ext cx="809640" cy="406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66"/>
                </a:solidFill>
                <a:latin typeface="Arial Unicode MS"/>
              </a:rPr>
              <a:t>OSPF-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3075120" y="2351160"/>
            <a:ext cx="809640" cy="40464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66"/>
                </a:solidFill>
                <a:latin typeface="Arial Unicode MS"/>
              </a:rPr>
              <a:t>SN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5" name=""/>
          <p:cNvCxnSpPr>
            <a:stCxn id="1134" idx="1"/>
            <a:endCxn id="1124" idx="3"/>
          </p:cNvCxnSpPr>
          <p:nvPr/>
        </p:nvCxnSpPr>
        <p:spPr>
          <a:xfrm flipV="1" rot="10800000">
            <a:off x="2763000" y="2552400"/>
            <a:ext cx="311760" cy="489600"/>
          </a:xfrm>
          <a:prstGeom prst="bentConnector3">
            <a:avLst>
              <a:gd name="adj1" fmla="val 49942"/>
            </a:avLst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6" name=""/>
          <p:cNvSpPr/>
          <p:nvPr/>
        </p:nvSpPr>
        <p:spPr>
          <a:xfrm>
            <a:off x="693000" y="4183200"/>
            <a:ext cx="3252960" cy="1919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66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66"/>
                </a:solidFill>
                <a:latin typeface="Arial Unicode MS"/>
              </a:rPr>
              <a:t>AC</a:t>
            </a:r>
            <a:r>
              <a:rPr b="0" sz="1200" spc="-1" strike="noStrike">
                <a:solidFill>
                  <a:srgbClr val="000066"/>
                </a:solidFill>
                <a:latin typeface="Arial Unicode MS"/>
              </a:rPr>
              <a:t>	</a:t>
            </a:r>
            <a:r>
              <a:rPr b="0" sz="1200" spc="-1" strike="noStrike">
                <a:solidFill>
                  <a:srgbClr val="000066"/>
                </a:solidFill>
                <a:latin typeface="Arial Unicode MS"/>
              </a:rPr>
              <a:t>Admission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66"/>
                </a:solidFill>
                <a:latin typeface="Arial Unicode MS"/>
              </a:rPr>
              <a:t>AAA</a:t>
            </a:r>
            <a:r>
              <a:rPr b="0" sz="1200" spc="-1" strike="noStrike">
                <a:solidFill>
                  <a:srgbClr val="000066"/>
                </a:solidFill>
                <a:latin typeface="Arial Unicode MS"/>
              </a:rPr>
              <a:t>	</a:t>
            </a:r>
            <a:r>
              <a:rPr b="0" sz="1200" spc="-1" strike="noStrike">
                <a:solidFill>
                  <a:srgbClr val="000066"/>
                </a:solidFill>
                <a:latin typeface="Arial Unicode MS"/>
              </a:rPr>
              <a:t>Accounting,Authoriz.,Auth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66"/>
                </a:solidFill>
                <a:latin typeface="Arial Unicode MS"/>
              </a:rPr>
              <a:t>BB</a:t>
            </a:r>
            <a:r>
              <a:rPr b="0" sz="1200" spc="-1" strike="noStrike">
                <a:solidFill>
                  <a:srgbClr val="000066"/>
                </a:solidFill>
                <a:latin typeface="Arial Unicode MS"/>
              </a:rPr>
              <a:t>	</a:t>
            </a:r>
            <a:r>
              <a:rPr b="0" sz="1200" spc="-1" strike="noStrike">
                <a:solidFill>
                  <a:srgbClr val="000066"/>
                </a:solidFill>
                <a:latin typeface="Arial Unicode MS"/>
              </a:rPr>
              <a:t>Bandwidth Bro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66"/>
                </a:solidFill>
                <a:latin typeface="Arial Unicode MS"/>
              </a:rPr>
              <a:t>DNM</a:t>
            </a:r>
            <a:r>
              <a:rPr b="0" sz="1200" spc="-1" strike="noStrike">
                <a:solidFill>
                  <a:srgbClr val="000066"/>
                </a:solidFill>
                <a:latin typeface="Arial Unicode MS"/>
              </a:rPr>
              <a:t>	</a:t>
            </a:r>
            <a:r>
              <a:rPr b="0" sz="1200" spc="-1" strike="noStrike">
                <a:solidFill>
                  <a:srgbClr val="000066"/>
                </a:solidFill>
                <a:latin typeface="Arial Unicode MS"/>
              </a:rPr>
              <a:t>Domain Network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66"/>
                </a:solidFill>
                <a:latin typeface="Arial Unicode MS"/>
              </a:rPr>
              <a:t>IWU</a:t>
            </a:r>
            <a:r>
              <a:rPr b="0" sz="1200" spc="-1" strike="noStrike">
                <a:solidFill>
                  <a:srgbClr val="000066"/>
                </a:solidFill>
                <a:latin typeface="Arial Unicode MS"/>
              </a:rPr>
              <a:t>	</a:t>
            </a:r>
            <a:r>
              <a:rPr b="0" sz="1200" spc="-1" strike="noStrike">
                <a:solidFill>
                  <a:srgbClr val="000066"/>
                </a:solidFill>
                <a:latin typeface="Arial Unicode MS"/>
              </a:rPr>
              <a:t>Inter-Working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66"/>
                </a:solidFill>
                <a:latin typeface="Arial Unicode MS"/>
              </a:rPr>
              <a:t>PCS</a:t>
            </a:r>
            <a:r>
              <a:rPr b="0" sz="1200" spc="-1" strike="noStrike">
                <a:solidFill>
                  <a:srgbClr val="000066"/>
                </a:solidFill>
                <a:latin typeface="Arial Unicode MS"/>
              </a:rPr>
              <a:t>	</a:t>
            </a:r>
            <a:r>
              <a:rPr b="0" sz="1200" spc="-1" strike="noStrike">
                <a:solidFill>
                  <a:srgbClr val="000066"/>
                </a:solidFill>
                <a:latin typeface="Arial Unicode MS"/>
              </a:rPr>
              <a:t>Path Computation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66"/>
                </a:solidFill>
                <a:latin typeface="Arial Unicode MS"/>
              </a:rPr>
              <a:t>PDP</a:t>
            </a:r>
            <a:r>
              <a:rPr b="0" sz="1200" spc="-1" strike="noStrike">
                <a:solidFill>
                  <a:srgbClr val="000066"/>
                </a:solidFill>
                <a:latin typeface="Arial Unicode MS"/>
              </a:rPr>
              <a:t>	</a:t>
            </a:r>
            <a:r>
              <a:rPr b="0" sz="1200" spc="-1" strike="noStrike">
                <a:solidFill>
                  <a:srgbClr val="000066"/>
                </a:solidFill>
                <a:latin typeface="Arial Unicode MS"/>
              </a:rPr>
              <a:t>Policy Decision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66"/>
                </a:solidFill>
                <a:latin typeface="Arial Unicode MS"/>
              </a:rPr>
              <a:t>PEP</a:t>
            </a:r>
            <a:r>
              <a:rPr b="0" sz="1200" spc="-1" strike="noStrike">
                <a:solidFill>
                  <a:srgbClr val="000066"/>
                </a:solidFill>
                <a:latin typeface="Arial Unicode MS"/>
              </a:rPr>
              <a:t>	</a:t>
            </a:r>
            <a:r>
              <a:rPr b="0" sz="1200" spc="-1" strike="noStrike">
                <a:solidFill>
                  <a:srgbClr val="000066"/>
                </a:solidFill>
                <a:latin typeface="Arial Unicode MS"/>
              </a:rPr>
              <a:t>Policy Enforcement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66"/>
                </a:solidFill>
                <a:latin typeface="Arial Unicode MS"/>
              </a:rPr>
              <a:t>RM</a:t>
            </a:r>
            <a:r>
              <a:rPr b="0" sz="1200" spc="-1" strike="noStrike">
                <a:solidFill>
                  <a:srgbClr val="000066"/>
                </a:solidFill>
                <a:latin typeface="Arial Unicode MS"/>
              </a:rPr>
              <a:t>	</a:t>
            </a:r>
            <a:r>
              <a:rPr b="0" sz="1200" spc="-1" strike="noStrike">
                <a:solidFill>
                  <a:srgbClr val="000066"/>
                </a:solidFill>
                <a:latin typeface="Arial Unicode MS"/>
              </a:rPr>
              <a:t>Rout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66"/>
                </a:solidFill>
                <a:latin typeface="Arial Unicode MS"/>
              </a:rPr>
              <a:t>TC</a:t>
            </a:r>
            <a:r>
              <a:rPr b="0" sz="1200" spc="-1" strike="noStrike">
                <a:solidFill>
                  <a:srgbClr val="000066"/>
                </a:solidFill>
                <a:latin typeface="Arial Unicode MS"/>
              </a:rPr>
              <a:t>	</a:t>
            </a:r>
            <a:r>
              <a:rPr b="0" sz="1200" spc="-1" strike="noStrike">
                <a:solidFill>
                  <a:srgbClr val="000066"/>
                </a:solidFill>
                <a:latin typeface="Arial Unicode MS"/>
              </a:rPr>
              <a:t>Traffic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7" name=""/>
          <p:cNvCxnSpPr>
            <a:stCxn id="1065" idx="1"/>
            <a:endCxn id="1117" idx="2"/>
          </p:cNvCxnSpPr>
          <p:nvPr/>
        </p:nvCxnSpPr>
        <p:spPr>
          <a:xfrm rot="10800000">
            <a:off x="5257080" y="3894840"/>
            <a:ext cx="899280" cy="273960"/>
          </a:xfrm>
          <a:prstGeom prst="curvedConnector2">
            <a:avLst/>
          </a:prstGeom>
          <a:ln w="28440">
            <a:solidFill>
              <a:srgbClr val="000066"/>
            </a:solidFill>
            <a:prstDash val="sysDot"/>
            <a:miter/>
          </a:ln>
        </p:spPr>
      </p:cxnSp>
      <p:sp>
        <p:nvSpPr>
          <p:cNvPr id="1138" name=""/>
          <p:cNvSpPr/>
          <p:nvPr/>
        </p:nvSpPr>
        <p:spPr>
          <a:xfrm>
            <a:off x="7039080" y="1139760"/>
            <a:ext cx="811080" cy="40644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66"/>
                </a:solidFill>
                <a:latin typeface="Arial Unicode MS"/>
              </a:rPr>
              <a:t>SN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9" name=""/>
          <p:cNvCxnSpPr>
            <a:stCxn id="1138" idx="1"/>
            <a:endCxn id="1114" idx="3"/>
          </p:cNvCxnSpPr>
          <p:nvPr/>
        </p:nvCxnSpPr>
        <p:spPr>
          <a:xfrm flipV="1" rot="10800000">
            <a:off x="6017400" y="1341720"/>
            <a:ext cx="1021680" cy="501840"/>
          </a:xfrm>
          <a:prstGeom prst="bentConnector3">
            <a:avLst>
              <a:gd name="adj1" fmla="val 49911"/>
            </a:avLst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1140" name=""/>
          <p:cNvGrpSpPr/>
          <p:nvPr/>
        </p:nvGrpSpPr>
        <p:grpSpPr>
          <a:xfrm>
            <a:off x="5761080" y="2805120"/>
            <a:ext cx="973080" cy="849240"/>
            <a:chOff x="5761080" y="2805120"/>
            <a:chExt cx="973080" cy="849240"/>
          </a:xfrm>
        </p:grpSpPr>
        <p:grpSp>
          <p:nvGrpSpPr>
            <p:cNvPr id="1141" name=""/>
            <p:cNvGrpSpPr/>
            <p:nvPr/>
          </p:nvGrpSpPr>
          <p:grpSpPr>
            <a:xfrm>
              <a:off x="5761080" y="2805120"/>
              <a:ext cx="973080" cy="849240"/>
              <a:chOff x="5761080" y="2805120"/>
              <a:chExt cx="973080" cy="849240"/>
            </a:xfrm>
          </p:grpSpPr>
          <p:pic>
            <p:nvPicPr>
              <p:cNvPr id="1142" name="j0282456" descr=""/>
              <p:cNvPicPr/>
              <p:nvPr/>
            </p:nvPicPr>
            <p:blipFill>
              <a:blip r:embed="rId8"/>
              <a:stretch/>
            </p:blipFill>
            <p:spPr>
              <a:xfrm>
                <a:off x="6461640" y="3436920"/>
                <a:ext cx="272520" cy="217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43" name=""/>
              <p:cNvGrpSpPr/>
              <p:nvPr/>
            </p:nvGrpSpPr>
            <p:grpSpPr>
              <a:xfrm>
                <a:off x="5907960" y="2805120"/>
                <a:ext cx="634680" cy="630360"/>
                <a:chOff x="5907960" y="2805120"/>
                <a:chExt cx="634680" cy="630360"/>
              </a:xfrm>
            </p:grpSpPr>
            <p:sp>
              <p:nvSpPr>
                <p:cNvPr id="1144" name=""/>
                <p:cNvSpPr/>
                <p:nvPr/>
              </p:nvSpPr>
              <p:spPr>
                <a:xfrm flipH="1">
                  <a:off x="5922720" y="2805120"/>
                  <a:ext cx="619920" cy="627840"/>
                </a:xfrm>
                <a:custGeom>
                  <a:avLst/>
                  <a:gdLst/>
                  <a:ahLst/>
                  <a:rect l="l" t="t" r="r" b="b"/>
                  <a:pathLst>
                    <a:path w="1833" h="2049">
                      <a:moveTo>
                        <a:pt x="326" y="190"/>
                      </a:moveTo>
                      <a:lnTo>
                        <a:pt x="409" y="43"/>
                      </a:lnTo>
                      <a:lnTo>
                        <a:pt x="556" y="0"/>
                      </a:lnTo>
                      <a:lnTo>
                        <a:pt x="599" y="3"/>
                      </a:lnTo>
                      <a:lnTo>
                        <a:pt x="640" y="7"/>
                      </a:lnTo>
                      <a:lnTo>
                        <a:pt x="681" y="12"/>
                      </a:lnTo>
                      <a:lnTo>
                        <a:pt x="720" y="15"/>
                      </a:lnTo>
                      <a:lnTo>
                        <a:pt x="758" y="20"/>
                      </a:lnTo>
                      <a:lnTo>
                        <a:pt x="796" y="24"/>
                      </a:lnTo>
                      <a:lnTo>
                        <a:pt x="833" y="28"/>
                      </a:lnTo>
                      <a:lnTo>
                        <a:pt x="868" y="33"/>
                      </a:lnTo>
                      <a:lnTo>
                        <a:pt x="904" y="38"/>
                      </a:lnTo>
                      <a:lnTo>
                        <a:pt x="939" y="43"/>
                      </a:lnTo>
                      <a:lnTo>
                        <a:pt x="973" y="48"/>
                      </a:lnTo>
                      <a:lnTo>
                        <a:pt x="1007" y="54"/>
                      </a:lnTo>
                      <a:lnTo>
                        <a:pt x="1040" y="60"/>
                      </a:lnTo>
                      <a:lnTo>
                        <a:pt x="1073" y="66"/>
                      </a:lnTo>
                      <a:lnTo>
                        <a:pt x="1107" y="73"/>
                      </a:lnTo>
                      <a:lnTo>
                        <a:pt x="1140" y="79"/>
                      </a:lnTo>
                      <a:lnTo>
                        <a:pt x="1173" y="86"/>
                      </a:lnTo>
                      <a:lnTo>
                        <a:pt x="1206" y="93"/>
                      </a:lnTo>
                      <a:lnTo>
                        <a:pt x="1239" y="101"/>
                      </a:lnTo>
                      <a:lnTo>
                        <a:pt x="1273" y="109"/>
                      </a:lnTo>
                      <a:lnTo>
                        <a:pt x="1306" y="117"/>
                      </a:lnTo>
                      <a:lnTo>
                        <a:pt x="1340" y="127"/>
                      </a:lnTo>
                      <a:lnTo>
                        <a:pt x="1374" y="136"/>
                      </a:lnTo>
                      <a:lnTo>
                        <a:pt x="1409" y="145"/>
                      </a:lnTo>
                      <a:lnTo>
                        <a:pt x="1444" y="155"/>
                      </a:lnTo>
                      <a:lnTo>
                        <a:pt x="1480" y="166"/>
                      </a:lnTo>
                      <a:lnTo>
                        <a:pt x="1517" y="176"/>
                      </a:lnTo>
                      <a:lnTo>
                        <a:pt x="1555" y="188"/>
                      </a:lnTo>
                      <a:lnTo>
                        <a:pt x="1593" y="200"/>
                      </a:lnTo>
                      <a:lnTo>
                        <a:pt x="1632" y="212"/>
                      </a:lnTo>
                      <a:lnTo>
                        <a:pt x="1672" y="225"/>
                      </a:lnTo>
                      <a:lnTo>
                        <a:pt x="1714" y="238"/>
                      </a:lnTo>
                      <a:lnTo>
                        <a:pt x="1833" y="793"/>
                      </a:lnTo>
                      <a:lnTo>
                        <a:pt x="1811" y="1396"/>
                      </a:lnTo>
                      <a:lnTo>
                        <a:pt x="1780" y="1448"/>
                      </a:lnTo>
                      <a:lnTo>
                        <a:pt x="1780" y="1533"/>
                      </a:lnTo>
                      <a:lnTo>
                        <a:pt x="1458" y="1711"/>
                      </a:lnTo>
                      <a:lnTo>
                        <a:pt x="1497" y="1763"/>
                      </a:lnTo>
                      <a:lnTo>
                        <a:pt x="1546" y="1817"/>
                      </a:lnTo>
                      <a:lnTo>
                        <a:pt x="1549" y="1890"/>
                      </a:lnTo>
                      <a:lnTo>
                        <a:pt x="1526" y="1920"/>
                      </a:lnTo>
                      <a:lnTo>
                        <a:pt x="1497" y="1946"/>
                      </a:lnTo>
                      <a:lnTo>
                        <a:pt x="1463" y="1968"/>
                      </a:lnTo>
                      <a:lnTo>
                        <a:pt x="1424" y="1986"/>
                      </a:lnTo>
                      <a:lnTo>
                        <a:pt x="1381" y="2001"/>
                      </a:lnTo>
                      <a:lnTo>
                        <a:pt x="1336" y="2014"/>
                      </a:lnTo>
                      <a:lnTo>
                        <a:pt x="1288" y="2023"/>
                      </a:lnTo>
                      <a:lnTo>
                        <a:pt x="1237" y="2031"/>
                      </a:lnTo>
                      <a:lnTo>
                        <a:pt x="1186" y="2037"/>
                      </a:lnTo>
                      <a:lnTo>
                        <a:pt x="1134" y="2041"/>
                      </a:lnTo>
                      <a:lnTo>
                        <a:pt x="1084" y="2044"/>
                      </a:lnTo>
                      <a:lnTo>
                        <a:pt x="1034" y="2045"/>
                      </a:lnTo>
                      <a:lnTo>
                        <a:pt x="986" y="2046"/>
                      </a:lnTo>
                      <a:lnTo>
                        <a:pt x="940" y="2046"/>
                      </a:lnTo>
                      <a:lnTo>
                        <a:pt x="897" y="2048"/>
                      </a:lnTo>
                      <a:lnTo>
                        <a:pt x="858" y="2049"/>
                      </a:lnTo>
                      <a:lnTo>
                        <a:pt x="833" y="2042"/>
                      </a:lnTo>
                      <a:lnTo>
                        <a:pt x="809" y="2035"/>
                      </a:lnTo>
                      <a:lnTo>
                        <a:pt x="787" y="2029"/>
                      </a:lnTo>
                      <a:lnTo>
                        <a:pt x="765" y="2022"/>
                      </a:lnTo>
                      <a:lnTo>
                        <a:pt x="744" y="2015"/>
                      </a:lnTo>
                      <a:lnTo>
                        <a:pt x="723" y="2010"/>
                      </a:lnTo>
                      <a:lnTo>
                        <a:pt x="704" y="2003"/>
                      </a:lnTo>
                      <a:lnTo>
                        <a:pt x="685" y="1995"/>
                      </a:lnTo>
                      <a:lnTo>
                        <a:pt x="666" y="1988"/>
                      </a:lnTo>
                      <a:lnTo>
                        <a:pt x="647" y="1978"/>
                      </a:lnTo>
                      <a:lnTo>
                        <a:pt x="628" y="1970"/>
                      </a:lnTo>
                      <a:lnTo>
                        <a:pt x="608" y="1960"/>
                      </a:lnTo>
                      <a:lnTo>
                        <a:pt x="589" y="1950"/>
                      </a:lnTo>
                      <a:lnTo>
                        <a:pt x="568" y="1938"/>
                      </a:lnTo>
                      <a:lnTo>
                        <a:pt x="547" y="1925"/>
                      </a:lnTo>
                      <a:lnTo>
                        <a:pt x="525" y="1912"/>
                      </a:lnTo>
                      <a:lnTo>
                        <a:pt x="525" y="1816"/>
                      </a:lnTo>
                      <a:lnTo>
                        <a:pt x="587" y="1741"/>
                      </a:lnTo>
                      <a:lnTo>
                        <a:pt x="448" y="1712"/>
                      </a:lnTo>
                      <a:lnTo>
                        <a:pt x="446" y="1677"/>
                      </a:lnTo>
                      <a:lnTo>
                        <a:pt x="94" y="1457"/>
                      </a:lnTo>
                      <a:lnTo>
                        <a:pt x="0" y="1320"/>
                      </a:lnTo>
                      <a:lnTo>
                        <a:pt x="0" y="772"/>
                      </a:lnTo>
                      <a:lnTo>
                        <a:pt x="137" y="655"/>
                      </a:lnTo>
                      <a:lnTo>
                        <a:pt x="329" y="476"/>
                      </a:lnTo>
                      <a:lnTo>
                        <a:pt x="326" y="190"/>
                      </a:lnTo>
                      <a:close/>
                    </a:path>
                  </a:pathLst>
                </a:custGeom>
                <a:solidFill>
                  <a:srgbClr val="0033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 flipH="1">
                  <a:off x="5907600" y="2805840"/>
                  <a:ext cx="446760" cy="565920"/>
                </a:xfrm>
                <a:custGeom>
                  <a:avLst/>
                  <a:gdLst/>
                  <a:ahLst/>
                  <a:rect l="l" t="t" r="r" b="b"/>
                  <a:pathLst>
                    <a:path w="1318" h="1846">
                      <a:moveTo>
                        <a:pt x="0" y="0"/>
                      </a:moveTo>
                      <a:lnTo>
                        <a:pt x="26" y="112"/>
                      </a:lnTo>
                      <a:lnTo>
                        <a:pt x="50" y="226"/>
                      </a:lnTo>
                      <a:lnTo>
                        <a:pt x="73" y="343"/>
                      </a:lnTo>
                      <a:lnTo>
                        <a:pt x="94" y="462"/>
                      </a:lnTo>
                      <a:lnTo>
                        <a:pt x="112" y="583"/>
                      </a:lnTo>
                      <a:lnTo>
                        <a:pt x="129" y="704"/>
                      </a:lnTo>
                      <a:lnTo>
                        <a:pt x="144" y="825"/>
                      </a:lnTo>
                      <a:lnTo>
                        <a:pt x="158" y="945"/>
                      </a:lnTo>
                      <a:lnTo>
                        <a:pt x="170" y="1062"/>
                      </a:lnTo>
                      <a:lnTo>
                        <a:pt x="179" y="1178"/>
                      </a:lnTo>
                      <a:lnTo>
                        <a:pt x="187" y="1291"/>
                      </a:lnTo>
                      <a:lnTo>
                        <a:pt x="193" y="1399"/>
                      </a:lnTo>
                      <a:lnTo>
                        <a:pt x="197" y="1504"/>
                      </a:lnTo>
                      <a:lnTo>
                        <a:pt x="200" y="1603"/>
                      </a:lnTo>
                      <a:lnTo>
                        <a:pt x="200" y="1697"/>
                      </a:lnTo>
                      <a:lnTo>
                        <a:pt x="197" y="1783"/>
                      </a:lnTo>
                      <a:lnTo>
                        <a:pt x="354" y="1740"/>
                      </a:lnTo>
                      <a:lnTo>
                        <a:pt x="333" y="1846"/>
                      </a:lnTo>
                      <a:lnTo>
                        <a:pt x="358" y="1846"/>
                      </a:lnTo>
                      <a:lnTo>
                        <a:pt x="385" y="1845"/>
                      </a:lnTo>
                      <a:lnTo>
                        <a:pt x="411" y="1843"/>
                      </a:lnTo>
                      <a:lnTo>
                        <a:pt x="439" y="1841"/>
                      </a:lnTo>
                      <a:lnTo>
                        <a:pt x="467" y="1838"/>
                      </a:lnTo>
                      <a:lnTo>
                        <a:pt x="494" y="1834"/>
                      </a:lnTo>
                      <a:lnTo>
                        <a:pt x="523" y="1830"/>
                      </a:lnTo>
                      <a:lnTo>
                        <a:pt x="552" y="1824"/>
                      </a:lnTo>
                      <a:lnTo>
                        <a:pt x="581" y="1819"/>
                      </a:lnTo>
                      <a:lnTo>
                        <a:pt x="610" y="1813"/>
                      </a:lnTo>
                      <a:lnTo>
                        <a:pt x="640" y="1806"/>
                      </a:lnTo>
                      <a:lnTo>
                        <a:pt x="669" y="1798"/>
                      </a:lnTo>
                      <a:lnTo>
                        <a:pt x="699" y="1790"/>
                      </a:lnTo>
                      <a:lnTo>
                        <a:pt x="729" y="1781"/>
                      </a:lnTo>
                      <a:lnTo>
                        <a:pt x="760" y="1771"/>
                      </a:lnTo>
                      <a:lnTo>
                        <a:pt x="790" y="1761"/>
                      </a:lnTo>
                      <a:lnTo>
                        <a:pt x="822" y="1750"/>
                      </a:lnTo>
                      <a:lnTo>
                        <a:pt x="851" y="1738"/>
                      </a:lnTo>
                      <a:lnTo>
                        <a:pt x="883" y="1725"/>
                      </a:lnTo>
                      <a:lnTo>
                        <a:pt x="913" y="1713"/>
                      </a:lnTo>
                      <a:lnTo>
                        <a:pt x="944" y="1698"/>
                      </a:lnTo>
                      <a:lnTo>
                        <a:pt x="974" y="1684"/>
                      </a:lnTo>
                      <a:lnTo>
                        <a:pt x="1004" y="1668"/>
                      </a:lnTo>
                      <a:lnTo>
                        <a:pt x="1033" y="1653"/>
                      </a:lnTo>
                      <a:lnTo>
                        <a:pt x="1063" y="1636"/>
                      </a:lnTo>
                      <a:lnTo>
                        <a:pt x="1093" y="1618"/>
                      </a:lnTo>
                      <a:lnTo>
                        <a:pt x="1123" y="1600"/>
                      </a:lnTo>
                      <a:lnTo>
                        <a:pt x="1152" y="1580"/>
                      </a:lnTo>
                      <a:lnTo>
                        <a:pt x="1181" y="1561"/>
                      </a:lnTo>
                      <a:lnTo>
                        <a:pt x="1210" y="1541"/>
                      </a:lnTo>
                      <a:lnTo>
                        <a:pt x="1239" y="1519"/>
                      </a:lnTo>
                      <a:lnTo>
                        <a:pt x="1266" y="1497"/>
                      </a:lnTo>
                      <a:lnTo>
                        <a:pt x="1266" y="1402"/>
                      </a:lnTo>
                      <a:lnTo>
                        <a:pt x="1318" y="1349"/>
                      </a:lnTo>
                      <a:lnTo>
                        <a:pt x="1312" y="1181"/>
                      </a:lnTo>
                      <a:lnTo>
                        <a:pt x="1303" y="1015"/>
                      </a:lnTo>
                      <a:lnTo>
                        <a:pt x="1289" y="856"/>
                      </a:lnTo>
                      <a:lnTo>
                        <a:pt x="1272" y="704"/>
                      </a:lnTo>
                      <a:lnTo>
                        <a:pt x="1250" y="562"/>
                      </a:lnTo>
                      <a:lnTo>
                        <a:pt x="1225" y="432"/>
                      </a:lnTo>
                      <a:lnTo>
                        <a:pt x="1195" y="318"/>
                      </a:lnTo>
                      <a:lnTo>
                        <a:pt x="1161" y="220"/>
                      </a:lnTo>
                      <a:lnTo>
                        <a:pt x="1131" y="209"/>
                      </a:lnTo>
                      <a:lnTo>
                        <a:pt x="1101" y="198"/>
                      </a:lnTo>
                      <a:lnTo>
                        <a:pt x="1070" y="187"/>
                      </a:lnTo>
                      <a:lnTo>
                        <a:pt x="1038" y="176"/>
                      </a:lnTo>
                      <a:lnTo>
                        <a:pt x="1006" y="166"/>
                      </a:lnTo>
                      <a:lnTo>
                        <a:pt x="974" y="156"/>
                      </a:lnTo>
                      <a:lnTo>
                        <a:pt x="940" y="145"/>
                      </a:lnTo>
                      <a:lnTo>
                        <a:pt x="906" y="135"/>
                      </a:lnTo>
                      <a:lnTo>
                        <a:pt x="871" y="126"/>
                      </a:lnTo>
                      <a:lnTo>
                        <a:pt x="837" y="117"/>
                      </a:lnTo>
                      <a:lnTo>
                        <a:pt x="801" y="107"/>
                      </a:lnTo>
                      <a:lnTo>
                        <a:pt x="765" y="98"/>
                      </a:lnTo>
                      <a:lnTo>
                        <a:pt x="729" y="89"/>
                      </a:lnTo>
                      <a:lnTo>
                        <a:pt x="693" y="81"/>
                      </a:lnTo>
                      <a:lnTo>
                        <a:pt x="656" y="73"/>
                      </a:lnTo>
                      <a:lnTo>
                        <a:pt x="619" y="65"/>
                      </a:lnTo>
                      <a:lnTo>
                        <a:pt x="581" y="58"/>
                      </a:lnTo>
                      <a:lnTo>
                        <a:pt x="543" y="51"/>
                      </a:lnTo>
                      <a:lnTo>
                        <a:pt x="505" y="44"/>
                      </a:lnTo>
                      <a:lnTo>
                        <a:pt x="467" y="38"/>
                      </a:lnTo>
                      <a:lnTo>
                        <a:pt x="429" y="33"/>
                      </a:lnTo>
                      <a:lnTo>
                        <a:pt x="390" y="27"/>
                      </a:lnTo>
                      <a:lnTo>
                        <a:pt x="350" y="22"/>
                      </a:lnTo>
                      <a:lnTo>
                        <a:pt x="312" y="18"/>
                      </a:lnTo>
                      <a:lnTo>
                        <a:pt x="273" y="14"/>
                      </a:lnTo>
                      <a:lnTo>
                        <a:pt x="234" y="11"/>
                      </a:lnTo>
                      <a:lnTo>
                        <a:pt x="195" y="7"/>
                      </a:lnTo>
                      <a:lnTo>
                        <a:pt x="156" y="5"/>
                      </a:lnTo>
                      <a:lnTo>
                        <a:pt x="117" y="3"/>
                      </a:lnTo>
                      <a:lnTo>
                        <a:pt x="77" y="1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76b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 flipH="1">
                  <a:off x="5908680" y="2808360"/>
                  <a:ext cx="430200" cy="544320"/>
                </a:xfrm>
                <a:custGeom>
                  <a:avLst/>
                  <a:gdLst/>
                  <a:ahLst/>
                  <a:rect l="l" t="t" r="r" b="b"/>
                  <a:pathLst>
                    <a:path w="1270" h="1775">
                      <a:moveTo>
                        <a:pt x="0" y="0"/>
                      </a:moveTo>
                      <a:lnTo>
                        <a:pt x="25" y="107"/>
                      </a:lnTo>
                      <a:lnTo>
                        <a:pt x="48" y="217"/>
                      </a:lnTo>
                      <a:lnTo>
                        <a:pt x="69" y="330"/>
                      </a:lnTo>
                      <a:lnTo>
                        <a:pt x="89" y="445"/>
                      </a:lnTo>
                      <a:lnTo>
                        <a:pt x="107" y="560"/>
                      </a:lnTo>
                      <a:lnTo>
                        <a:pt x="124" y="676"/>
                      </a:lnTo>
                      <a:lnTo>
                        <a:pt x="137" y="793"/>
                      </a:lnTo>
                      <a:lnTo>
                        <a:pt x="151" y="908"/>
                      </a:lnTo>
                      <a:lnTo>
                        <a:pt x="162" y="1022"/>
                      </a:lnTo>
                      <a:lnTo>
                        <a:pt x="171" y="1132"/>
                      </a:lnTo>
                      <a:lnTo>
                        <a:pt x="178" y="1241"/>
                      </a:lnTo>
                      <a:lnTo>
                        <a:pt x="183" y="1345"/>
                      </a:lnTo>
                      <a:lnTo>
                        <a:pt x="187" y="1446"/>
                      </a:lnTo>
                      <a:lnTo>
                        <a:pt x="189" y="1541"/>
                      </a:lnTo>
                      <a:lnTo>
                        <a:pt x="189" y="1631"/>
                      </a:lnTo>
                      <a:lnTo>
                        <a:pt x="187" y="1714"/>
                      </a:lnTo>
                      <a:lnTo>
                        <a:pt x="205" y="1709"/>
                      </a:lnTo>
                      <a:lnTo>
                        <a:pt x="224" y="1704"/>
                      </a:lnTo>
                      <a:lnTo>
                        <a:pt x="243" y="1699"/>
                      </a:lnTo>
                      <a:lnTo>
                        <a:pt x="262" y="1693"/>
                      </a:lnTo>
                      <a:lnTo>
                        <a:pt x="281" y="1689"/>
                      </a:lnTo>
                      <a:lnTo>
                        <a:pt x="300" y="1684"/>
                      </a:lnTo>
                      <a:lnTo>
                        <a:pt x="319" y="1678"/>
                      </a:lnTo>
                      <a:lnTo>
                        <a:pt x="338" y="1674"/>
                      </a:lnTo>
                      <a:lnTo>
                        <a:pt x="333" y="1699"/>
                      </a:lnTo>
                      <a:lnTo>
                        <a:pt x="327" y="1724"/>
                      </a:lnTo>
                      <a:lnTo>
                        <a:pt x="323" y="1750"/>
                      </a:lnTo>
                      <a:lnTo>
                        <a:pt x="317" y="1775"/>
                      </a:lnTo>
                      <a:lnTo>
                        <a:pt x="341" y="1775"/>
                      </a:lnTo>
                      <a:lnTo>
                        <a:pt x="367" y="1774"/>
                      </a:lnTo>
                      <a:lnTo>
                        <a:pt x="393" y="1773"/>
                      </a:lnTo>
                      <a:lnTo>
                        <a:pt x="420" y="1770"/>
                      </a:lnTo>
                      <a:lnTo>
                        <a:pt x="446" y="1768"/>
                      </a:lnTo>
                      <a:lnTo>
                        <a:pt x="473" y="1765"/>
                      </a:lnTo>
                      <a:lnTo>
                        <a:pt x="500" y="1761"/>
                      </a:lnTo>
                      <a:lnTo>
                        <a:pt x="528" y="1758"/>
                      </a:lnTo>
                      <a:lnTo>
                        <a:pt x="557" y="1753"/>
                      </a:lnTo>
                      <a:lnTo>
                        <a:pt x="585" y="1747"/>
                      </a:lnTo>
                      <a:lnTo>
                        <a:pt x="614" y="1742"/>
                      </a:lnTo>
                      <a:lnTo>
                        <a:pt x="643" y="1735"/>
                      </a:lnTo>
                      <a:lnTo>
                        <a:pt x="672" y="1728"/>
                      </a:lnTo>
                      <a:lnTo>
                        <a:pt x="702" y="1720"/>
                      </a:lnTo>
                      <a:lnTo>
                        <a:pt x="731" y="1712"/>
                      </a:lnTo>
                      <a:lnTo>
                        <a:pt x="761" y="1702"/>
                      </a:lnTo>
                      <a:lnTo>
                        <a:pt x="791" y="1693"/>
                      </a:lnTo>
                      <a:lnTo>
                        <a:pt x="820" y="1683"/>
                      </a:lnTo>
                      <a:lnTo>
                        <a:pt x="849" y="1671"/>
                      </a:lnTo>
                      <a:lnTo>
                        <a:pt x="879" y="1660"/>
                      </a:lnTo>
                      <a:lnTo>
                        <a:pt x="909" y="1647"/>
                      </a:lnTo>
                      <a:lnTo>
                        <a:pt x="938" y="1634"/>
                      </a:lnTo>
                      <a:lnTo>
                        <a:pt x="968" y="1621"/>
                      </a:lnTo>
                      <a:lnTo>
                        <a:pt x="997" y="1606"/>
                      </a:lnTo>
                      <a:lnTo>
                        <a:pt x="1027" y="1591"/>
                      </a:lnTo>
                      <a:lnTo>
                        <a:pt x="1055" y="1575"/>
                      </a:lnTo>
                      <a:lnTo>
                        <a:pt x="1083" y="1557"/>
                      </a:lnTo>
                      <a:lnTo>
                        <a:pt x="1112" y="1540"/>
                      </a:lnTo>
                      <a:lnTo>
                        <a:pt x="1140" y="1520"/>
                      </a:lnTo>
                      <a:lnTo>
                        <a:pt x="1167" y="1502"/>
                      </a:lnTo>
                      <a:lnTo>
                        <a:pt x="1195" y="1481"/>
                      </a:lnTo>
                      <a:lnTo>
                        <a:pt x="1221" y="1461"/>
                      </a:lnTo>
                      <a:lnTo>
                        <a:pt x="1221" y="1435"/>
                      </a:lnTo>
                      <a:lnTo>
                        <a:pt x="1221" y="1410"/>
                      </a:lnTo>
                      <a:lnTo>
                        <a:pt x="1221" y="1385"/>
                      </a:lnTo>
                      <a:lnTo>
                        <a:pt x="1221" y="1359"/>
                      </a:lnTo>
                      <a:lnTo>
                        <a:pt x="1227" y="1352"/>
                      </a:lnTo>
                      <a:lnTo>
                        <a:pt x="1234" y="1344"/>
                      </a:lnTo>
                      <a:lnTo>
                        <a:pt x="1240" y="1337"/>
                      </a:lnTo>
                      <a:lnTo>
                        <a:pt x="1246" y="1329"/>
                      </a:lnTo>
                      <a:lnTo>
                        <a:pt x="1251" y="1321"/>
                      </a:lnTo>
                      <a:lnTo>
                        <a:pt x="1258" y="1314"/>
                      </a:lnTo>
                      <a:lnTo>
                        <a:pt x="1264" y="1306"/>
                      </a:lnTo>
                      <a:lnTo>
                        <a:pt x="1270" y="1299"/>
                      </a:lnTo>
                      <a:lnTo>
                        <a:pt x="1263" y="1137"/>
                      </a:lnTo>
                      <a:lnTo>
                        <a:pt x="1254" y="978"/>
                      </a:lnTo>
                      <a:lnTo>
                        <a:pt x="1240" y="824"/>
                      </a:lnTo>
                      <a:lnTo>
                        <a:pt x="1222" y="679"/>
                      </a:lnTo>
                      <a:lnTo>
                        <a:pt x="1202" y="542"/>
                      </a:lnTo>
                      <a:lnTo>
                        <a:pt x="1178" y="417"/>
                      </a:lnTo>
                      <a:lnTo>
                        <a:pt x="1149" y="308"/>
                      </a:lnTo>
                      <a:lnTo>
                        <a:pt x="1115" y="213"/>
                      </a:lnTo>
                      <a:lnTo>
                        <a:pt x="1087" y="203"/>
                      </a:lnTo>
                      <a:lnTo>
                        <a:pt x="1058" y="192"/>
                      </a:lnTo>
                      <a:lnTo>
                        <a:pt x="1028" y="181"/>
                      </a:lnTo>
                      <a:lnTo>
                        <a:pt x="998" y="171"/>
                      </a:lnTo>
                      <a:lnTo>
                        <a:pt x="967" y="160"/>
                      </a:lnTo>
                      <a:lnTo>
                        <a:pt x="936" y="151"/>
                      </a:lnTo>
                      <a:lnTo>
                        <a:pt x="903" y="141"/>
                      </a:lnTo>
                      <a:lnTo>
                        <a:pt x="870" y="132"/>
                      </a:lnTo>
                      <a:lnTo>
                        <a:pt x="838" y="122"/>
                      </a:lnTo>
                      <a:lnTo>
                        <a:pt x="804" y="113"/>
                      </a:lnTo>
                      <a:lnTo>
                        <a:pt x="770" y="104"/>
                      </a:lnTo>
                      <a:lnTo>
                        <a:pt x="735" y="96"/>
                      </a:lnTo>
                      <a:lnTo>
                        <a:pt x="701" y="87"/>
                      </a:lnTo>
                      <a:lnTo>
                        <a:pt x="665" y="79"/>
                      </a:lnTo>
                      <a:lnTo>
                        <a:pt x="630" y="71"/>
                      </a:lnTo>
                      <a:lnTo>
                        <a:pt x="595" y="64"/>
                      </a:lnTo>
                      <a:lnTo>
                        <a:pt x="558" y="57"/>
                      </a:lnTo>
                      <a:lnTo>
                        <a:pt x="522" y="50"/>
                      </a:lnTo>
                      <a:lnTo>
                        <a:pt x="485" y="43"/>
                      </a:lnTo>
                      <a:lnTo>
                        <a:pt x="448" y="37"/>
                      </a:lnTo>
                      <a:lnTo>
                        <a:pt x="412" y="31"/>
                      </a:lnTo>
                      <a:lnTo>
                        <a:pt x="375" y="27"/>
                      </a:lnTo>
                      <a:lnTo>
                        <a:pt x="337" y="22"/>
                      </a:lnTo>
                      <a:lnTo>
                        <a:pt x="300" y="18"/>
                      </a:lnTo>
                      <a:lnTo>
                        <a:pt x="262" y="13"/>
                      </a:lnTo>
                      <a:lnTo>
                        <a:pt x="225" y="11"/>
                      </a:lnTo>
                      <a:lnTo>
                        <a:pt x="187" y="7"/>
                      </a:lnTo>
                      <a:lnTo>
                        <a:pt x="150" y="5"/>
                      </a:lnTo>
                      <a:lnTo>
                        <a:pt x="112" y="3"/>
                      </a:lnTo>
                      <a:lnTo>
                        <a:pt x="75" y="2"/>
                      </a:lnTo>
                      <a:lnTo>
                        <a:pt x="3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c72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 flipH="1">
                  <a:off x="5910480" y="2810520"/>
                  <a:ext cx="413280" cy="522000"/>
                </a:xfrm>
                <a:custGeom>
                  <a:avLst/>
                  <a:gdLst/>
                  <a:ahLst/>
                  <a:rect l="l" t="t" r="r" b="b"/>
                  <a:pathLst>
                    <a:path w="1220" h="1705">
                      <a:moveTo>
                        <a:pt x="0" y="0"/>
                      </a:moveTo>
                      <a:lnTo>
                        <a:pt x="23" y="103"/>
                      </a:lnTo>
                      <a:lnTo>
                        <a:pt x="45" y="209"/>
                      </a:lnTo>
                      <a:lnTo>
                        <a:pt x="65" y="317"/>
                      </a:lnTo>
                      <a:lnTo>
                        <a:pt x="84" y="427"/>
                      </a:lnTo>
                      <a:lnTo>
                        <a:pt x="101" y="538"/>
                      </a:lnTo>
                      <a:lnTo>
                        <a:pt x="117" y="650"/>
                      </a:lnTo>
                      <a:lnTo>
                        <a:pt x="131" y="760"/>
                      </a:lnTo>
                      <a:lnTo>
                        <a:pt x="142" y="871"/>
                      </a:lnTo>
                      <a:lnTo>
                        <a:pt x="152" y="980"/>
                      </a:lnTo>
                      <a:lnTo>
                        <a:pt x="162" y="1088"/>
                      </a:lnTo>
                      <a:lnTo>
                        <a:pt x="169" y="1192"/>
                      </a:lnTo>
                      <a:lnTo>
                        <a:pt x="174" y="1292"/>
                      </a:lnTo>
                      <a:lnTo>
                        <a:pt x="178" y="1389"/>
                      </a:lnTo>
                      <a:lnTo>
                        <a:pt x="179" y="1480"/>
                      </a:lnTo>
                      <a:lnTo>
                        <a:pt x="179" y="1567"/>
                      </a:lnTo>
                      <a:lnTo>
                        <a:pt x="178" y="1646"/>
                      </a:lnTo>
                      <a:lnTo>
                        <a:pt x="195" y="1641"/>
                      </a:lnTo>
                      <a:lnTo>
                        <a:pt x="213" y="1637"/>
                      </a:lnTo>
                      <a:lnTo>
                        <a:pt x="231" y="1631"/>
                      </a:lnTo>
                      <a:lnTo>
                        <a:pt x="249" y="1626"/>
                      </a:lnTo>
                      <a:lnTo>
                        <a:pt x="266" y="1621"/>
                      </a:lnTo>
                      <a:lnTo>
                        <a:pt x="285" y="1616"/>
                      </a:lnTo>
                      <a:lnTo>
                        <a:pt x="303" y="1610"/>
                      </a:lnTo>
                      <a:lnTo>
                        <a:pt x="322" y="1606"/>
                      </a:lnTo>
                      <a:lnTo>
                        <a:pt x="317" y="1631"/>
                      </a:lnTo>
                      <a:lnTo>
                        <a:pt x="311" y="1655"/>
                      </a:lnTo>
                      <a:lnTo>
                        <a:pt x="307" y="1679"/>
                      </a:lnTo>
                      <a:lnTo>
                        <a:pt x="302" y="1705"/>
                      </a:lnTo>
                      <a:lnTo>
                        <a:pt x="326" y="1705"/>
                      </a:lnTo>
                      <a:lnTo>
                        <a:pt x="351" y="1704"/>
                      </a:lnTo>
                      <a:lnTo>
                        <a:pt x="375" y="1702"/>
                      </a:lnTo>
                      <a:lnTo>
                        <a:pt x="400" y="1701"/>
                      </a:lnTo>
                      <a:lnTo>
                        <a:pt x="425" y="1699"/>
                      </a:lnTo>
                      <a:lnTo>
                        <a:pt x="452" y="1697"/>
                      </a:lnTo>
                      <a:lnTo>
                        <a:pt x="478" y="1694"/>
                      </a:lnTo>
                      <a:lnTo>
                        <a:pt x="506" y="1691"/>
                      </a:lnTo>
                      <a:lnTo>
                        <a:pt x="533" y="1687"/>
                      </a:lnTo>
                      <a:lnTo>
                        <a:pt x="560" y="1683"/>
                      </a:lnTo>
                      <a:lnTo>
                        <a:pt x="588" y="1678"/>
                      </a:lnTo>
                      <a:lnTo>
                        <a:pt x="617" y="1673"/>
                      </a:lnTo>
                      <a:lnTo>
                        <a:pt x="644" y="1667"/>
                      </a:lnTo>
                      <a:lnTo>
                        <a:pt x="673" y="1661"/>
                      </a:lnTo>
                      <a:lnTo>
                        <a:pt x="702" y="1653"/>
                      </a:lnTo>
                      <a:lnTo>
                        <a:pt x="731" y="1646"/>
                      </a:lnTo>
                      <a:lnTo>
                        <a:pt x="759" y="1637"/>
                      </a:lnTo>
                      <a:lnTo>
                        <a:pt x="788" y="1629"/>
                      </a:lnTo>
                      <a:lnTo>
                        <a:pt x="817" y="1618"/>
                      </a:lnTo>
                      <a:lnTo>
                        <a:pt x="846" y="1608"/>
                      </a:lnTo>
                      <a:lnTo>
                        <a:pt x="875" y="1598"/>
                      </a:lnTo>
                      <a:lnTo>
                        <a:pt x="903" y="1585"/>
                      </a:lnTo>
                      <a:lnTo>
                        <a:pt x="932" y="1572"/>
                      </a:lnTo>
                      <a:lnTo>
                        <a:pt x="960" y="1560"/>
                      </a:lnTo>
                      <a:lnTo>
                        <a:pt x="989" y="1545"/>
                      </a:lnTo>
                      <a:lnTo>
                        <a:pt x="1016" y="1530"/>
                      </a:lnTo>
                      <a:lnTo>
                        <a:pt x="1044" y="1515"/>
                      </a:lnTo>
                      <a:lnTo>
                        <a:pt x="1070" y="1497"/>
                      </a:lnTo>
                      <a:lnTo>
                        <a:pt x="1098" y="1480"/>
                      </a:lnTo>
                      <a:lnTo>
                        <a:pt x="1125" y="1462"/>
                      </a:lnTo>
                      <a:lnTo>
                        <a:pt x="1151" y="1443"/>
                      </a:lnTo>
                      <a:lnTo>
                        <a:pt x="1176" y="1423"/>
                      </a:lnTo>
                      <a:lnTo>
                        <a:pt x="1176" y="1396"/>
                      </a:lnTo>
                      <a:lnTo>
                        <a:pt x="1176" y="1370"/>
                      </a:lnTo>
                      <a:lnTo>
                        <a:pt x="1176" y="1343"/>
                      </a:lnTo>
                      <a:lnTo>
                        <a:pt x="1176" y="1317"/>
                      </a:lnTo>
                      <a:lnTo>
                        <a:pt x="1182" y="1309"/>
                      </a:lnTo>
                      <a:lnTo>
                        <a:pt x="1187" y="1299"/>
                      </a:lnTo>
                      <a:lnTo>
                        <a:pt x="1193" y="1291"/>
                      </a:lnTo>
                      <a:lnTo>
                        <a:pt x="1198" y="1282"/>
                      </a:lnTo>
                      <a:lnTo>
                        <a:pt x="1203" y="1274"/>
                      </a:lnTo>
                      <a:lnTo>
                        <a:pt x="1209" y="1266"/>
                      </a:lnTo>
                      <a:lnTo>
                        <a:pt x="1214" y="1257"/>
                      </a:lnTo>
                      <a:lnTo>
                        <a:pt x="1220" y="1249"/>
                      </a:lnTo>
                      <a:lnTo>
                        <a:pt x="1213" y="1093"/>
                      </a:lnTo>
                      <a:lnTo>
                        <a:pt x="1204" y="941"/>
                      </a:lnTo>
                      <a:lnTo>
                        <a:pt x="1190" y="794"/>
                      </a:lnTo>
                      <a:lnTo>
                        <a:pt x="1174" y="653"/>
                      </a:lnTo>
                      <a:lnTo>
                        <a:pt x="1153" y="522"/>
                      </a:lnTo>
                      <a:lnTo>
                        <a:pt x="1128" y="402"/>
                      </a:lnTo>
                      <a:lnTo>
                        <a:pt x="1100" y="296"/>
                      </a:lnTo>
                      <a:lnTo>
                        <a:pt x="1068" y="207"/>
                      </a:lnTo>
                      <a:lnTo>
                        <a:pt x="1042" y="196"/>
                      </a:lnTo>
                      <a:lnTo>
                        <a:pt x="1014" y="186"/>
                      </a:lnTo>
                      <a:lnTo>
                        <a:pt x="985" y="175"/>
                      </a:lnTo>
                      <a:lnTo>
                        <a:pt x="956" y="165"/>
                      </a:lnTo>
                      <a:lnTo>
                        <a:pt x="927" y="156"/>
                      </a:lnTo>
                      <a:lnTo>
                        <a:pt x="897" y="146"/>
                      </a:lnTo>
                      <a:lnTo>
                        <a:pt x="865" y="136"/>
                      </a:lnTo>
                      <a:lnTo>
                        <a:pt x="834" y="127"/>
                      </a:lnTo>
                      <a:lnTo>
                        <a:pt x="803" y="118"/>
                      </a:lnTo>
                      <a:lnTo>
                        <a:pt x="771" y="110"/>
                      </a:lnTo>
                      <a:lnTo>
                        <a:pt x="739" y="101"/>
                      </a:lnTo>
                      <a:lnTo>
                        <a:pt x="705" y="93"/>
                      </a:lnTo>
                      <a:lnTo>
                        <a:pt x="672" y="84"/>
                      </a:lnTo>
                      <a:lnTo>
                        <a:pt x="639" y="76"/>
                      </a:lnTo>
                      <a:lnTo>
                        <a:pt x="604" y="68"/>
                      </a:lnTo>
                      <a:lnTo>
                        <a:pt x="571" y="61"/>
                      </a:lnTo>
                      <a:lnTo>
                        <a:pt x="536" y="55"/>
                      </a:lnTo>
                      <a:lnTo>
                        <a:pt x="500" y="48"/>
                      </a:lnTo>
                      <a:lnTo>
                        <a:pt x="466" y="42"/>
                      </a:lnTo>
                      <a:lnTo>
                        <a:pt x="430" y="36"/>
                      </a:lnTo>
                      <a:lnTo>
                        <a:pt x="394" y="30"/>
                      </a:lnTo>
                      <a:lnTo>
                        <a:pt x="359" y="26"/>
                      </a:lnTo>
                      <a:lnTo>
                        <a:pt x="323" y="21"/>
                      </a:lnTo>
                      <a:lnTo>
                        <a:pt x="287" y="17"/>
                      </a:lnTo>
                      <a:lnTo>
                        <a:pt x="252" y="13"/>
                      </a:lnTo>
                      <a:lnTo>
                        <a:pt x="216" y="10"/>
                      </a:lnTo>
                      <a:lnTo>
                        <a:pt x="180" y="7"/>
                      </a:lnTo>
                      <a:lnTo>
                        <a:pt x="143" y="5"/>
                      </a:lnTo>
                      <a:lnTo>
                        <a:pt x="108" y="3"/>
                      </a:lnTo>
                      <a:lnTo>
                        <a:pt x="72" y="2"/>
                      </a:lnTo>
                      <a:lnTo>
                        <a:pt x="3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7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 flipH="1">
                  <a:off x="5910840" y="2812680"/>
                  <a:ext cx="396360" cy="501120"/>
                </a:xfrm>
                <a:custGeom>
                  <a:avLst/>
                  <a:gdLst/>
                  <a:ahLst/>
                  <a:rect l="l" t="t" r="r" b="b"/>
                  <a:pathLst>
                    <a:path w="1171" h="1634">
                      <a:moveTo>
                        <a:pt x="0" y="0"/>
                      </a:moveTo>
                      <a:lnTo>
                        <a:pt x="43" y="200"/>
                      </a:lnTo>
                      <a:lnTo>
                        <a:pt x="80" y="409"/>
                      </a:lnTo>
                      <a:lnTo>
                        <a:pt x="111" y="622"/>
                      </a:lnTo>
                      <a:lnTo>
                        <a:pt x="135" y="836"/>
                      </a:lnTo>
                      <a:lnTo>
                        <a:pt x="153" y="1044"/>
                      </a:lnTo>
                      <a:lnTo>
                        <a:pt x="164" y="1239"/>
                      </a:lnTo>
                      <a:lnTo>
                        <a:pt x="169" y="1420"/>
                      </a:lnTo>
                      <a:lnTo>
                        <a:pt x="166" y="1579"/>
                      </a:lnTo>
                      <a:lnTo>
                        <a:pt x="184" y="1575"/>
                      </a:lnTo>
                      <a:lnTo>
                        <a:pt x="201" y="1570"/>
                      </a:lnTo>
                      <a:lnTo>
                        <a:pt x="218" y="1565"/>
                      </a:lnTo>
                      <a:lnTo>
                        <a:pt x="235" y="1560"/>
                      </a:lnTo>
                      <a:lnTo>
                        <a:pt x="253" y="1555"/>
                      </a:lnTo>
                      <a:lnTo>
                        <a:pt x="270" y="1550"/>
                      </a:lnTo>
                      <a:lnTo>
                        <a:pt x="287" y="1546"/>
                      </a:lnTo>
                      <a:lnTo>
                        <a:pt x="305" y="1541"/>
                      </a:lnTo>
                      <a:lnTo>
                        <a:pt x="301" y="1564"/>
                      </a:lnTo>
                      <a:lnTo>
                        <a:pt x="295" y="1587"/>
                      </a:lnTo>
                      <a:lnTo>
                        <a:pt x="291" y="1611"/>
                      </a:lnTo>
                      <a:lnTo>
                        <a:pt x="286" y="1634"/>
                      </a:lnTo>
                      <a:lnTo>
                        <a:pt x="309" y="1634"/>
                      </a:lnTo>
                      <a:lnTo>
                        <a:pt x="332" y="1633"/>
                      </a:lnTo>
                      <a:lnTo>
                        <a:pt x="356" y="1633"/>
                      </a:lnTo>
                      <a:lnTo>
                        <a:pt x="381" y="1632"/>
                      </a:lnTo>
                      <a:lnTo>
                        <a:pt x="405" y="1631"/>
                      </a:lnTo>
                      <a:lnTo>
                        <a:pt x="430" y="1629"/>
                      </a:lnTo>
                      <a:lnTo>
                        <a:pt x="457" y="1628"/>
                      </a:lnTo>
                      <a:lnTo>
                        <a:pt x="482" y="1625"/>
                      </a:lnTo>
                      <a:lnTo>
                        <a:pt x="508" y="1622"/>
                      </a:lnTo>
                      <a:lnTo>
                        <a:pt x="535" y="1619"/>
                      </a:lnTo>
                      <a:lnTo>
                        <a:pt x="563" y="1615"/>
                      </a:lnTo>
                      <a:lnTo>
                        <a:pt x="590" y="1611"/>
                      </a:lnTo>
                      <a:lnTo>
                        <a:pt x="617" y="1607"/>
                      </a:lnTo>
                      <a:lnTo>
                        <a:pt x="646" y="1601"/>
                      </a:lnTo>
                      <a:lnTo>
                        <a:pt x="673" y="1595"/>
                      </a:lnTo>
                      <a:lnTo>
                        <a:pt x="701" y="1590"/>
                      </a:lnTo>
                      <a:lnTo>
                        <a:pt x="728" y="1583"/>
                      </a:lnTo>
                      <a:lnTo>
                        <a:pt x="756" y="1575"/>
                      </a:lnTo>
                      <a:lnTo>
                        <a:pt x="785" y="1566"/>
                      </a:lnTo>
                      <a:lnTo>
                        <a:pt x="813" y="1557"/>
                      </a:lnTo>
                      <a:lnTo>
                        <a:pt x="840" y="1548"/>
                      </a:lnTo>
                      <a:lnTo>
                        <a:pt x="868" y="1538"/>
                      </a:lnTo>
                      <a:lnTo>
                        <a:pt x="895" y="1526"/>
                      </a:lnTo>
                      <a:lnTo>
                        <a:pt x="923" y="1515"/>
                      </a:lnTo>
                      <a:lnTo>
                        <a:pt x="951" y="1502"/>
                      </a:lnTo>
                      <a:lnTo>
                        <a:pt x="977" y="1488"/>
                      </a:lnTo>
                      <a:lnTo>
                        <a:pt x="1004" y="1473"/>
                      </a:lnTo>
                      <a:lnTo>
                        <a:pt x="1030" y="1458"/>
                      </a:lnTo>
                      <a:lnTo>
                        <a:pt x="1057" y="1442"/>
                      </a:lnTo>
                      <a:lnTo>
                        <a:pt x="1082" y="1425"/>
                      </a:lnTo>
                      <a:lnTo>
                        <a:pt x="1107" y="1406"/>
                      </a:lnTo>
                      <a:lnTo>
                        <a:pt x="1132" y="1387"/>
                      </a:lnTo>
                      <a:lnTo>
                        <a:pt x="1132" y="1359"/>
                      </a:lnTo>
                      <a:lnTo>
                        <a:pt x="1132" y="1330"/>
                      </a:lnTo>
                      <a:lnTo>
                        <a:pt x="1132" y="1303"/>
                      </a:lnTo>
                      <a:lnTo>
                        <a:pt x="1132" y="1275"/>
                      </a:lnTo>
                      <a:lnTo>
                        <a:pt x="1136" y="1266"/>
                      </a:lnTo>
                      <a:lnTo>
                        <a:pt x="1141" y="1257"/>
                      </a:lnTo>
                      <a:lnTo>
                        <a:pt x="1147" y="1246"/>
                      </a:lnTo>
                      <a:lnTo>
                        <a:pt x="1151" y="1237"/>
                      </a:lnTo>
                      <a:lnTo>
                        <a:pt x="1156" y="1228"/>
                      </a:lnTo>
                      <a:lnTo>
                        <a:pt x="1162" y="1219"/>
                      </a:lnTo>
                      <a:lnTo>
                        <a:pt x="1166" y="1209"/>
                      </a:lnTo>
                      <a:lnTo>
                        <a:pt x="1171" y="1200"/>
                      </a:lnTo>
                      <a:lnTo>
                        <a:pt x="1164" y="1051"/>
                      </a:lnTo>
                      <a:lnTo>
                        <a:pt x="1155" y="904"/>
                      </a:lnTo>
                      <a:lnTo>
                        <a:pt x="1142" y="764"/>
                      </a:lnTo>
                      <a:lnTo>
                        <a:pt x="1125" y="629"/>
                      </a:lnTo>
                      <a:lnTo>
                        <a:pt x="1105" y="504"/>
                      </a:lnTo>
                      <a:lnTo>
                        <a:pt x="1081" y="388"/>
                      </a:lnTo>
                      <a:lnTo>
                        <a:pt x="1053" y="287"/>
                      </a:lnTo>
                      <a:lnTo>
                        <a:pt x="1022" y="201"/>
                      </a:lnTo>
                      <a:lnTo>
                        <a:pt x="997" y="190"/>
                      </a:lnTo>
                      <a:lnTo>
                        <a:pt x="970" y="181"/>
                      </a:lnTo>
                      <a:lnTo>
                        <a:pt x="943" y="171"/>
                      </a:lnTo>
                      <a:lnTo>
                        <a:pt x="915" y="162"/>
                      </a:lnTo>
                      <a:lnTo>
                        <a:pt x="887" y="152"/>
                      </a:lnTo>
                      <a:lnTo>
                        <a:pt x="859" y="142"/>
                      </a:lnTo>
                      <a:lnTo>
                        <a:pt x="829" y="133"/>
                      </a:lnTo>
                      <a:lnTo>
                        <a:pt x="800" y="125"/>
                      </a:lnTo>
                      <a:lnTo>
                        <a:pt x="769" y="115"/>
                      </a:lnTo>
                      <a:lnTo>
                        <a:pt x="739" y="106"/>
                      </a:lnTo>
                      <a:lnTo>
                        <a:pt x="708" y="98"/>
                      </a:lnTo>
                      <a:lnTo>
                        <a:pt x="675" y="90"/>
                      </a:lnTo>
                      <a:lnTo>
                        <a:pt x="643" y="82"/>
                      </a:lnTo>
                      <a:lnTo>
                        <a:pt x="611" y="75"/>
                      </a:lnTo>
                      <a:lnTo>
                        <a:pt x="579" y="67"/>
                      </a:lnTo>
                      <a:lnTo>
                        <a:pt x="546" y="60"/>
                      </a:lnTo>
                      <a:lnTo>
                        <a:pt x="513" y="53"/>
                      </a:lnTo>
                      <a:lnTo>
                        <a:pt x="480" y="48"/>
                      </a:lnTo>
                      <a:lnTo>
                        <a:pt x="445" y="41"/>
                      </a:lnTo>
                      <a:lnTo>
                        <a:pt x="412" y="36"/>
                      </a:lnTo>
                      <a:lnTo>
                        <a:pt x="378" y="30"/>
                      </a:lnTo>
                      <a:lnTo>
                        <a:pt x="344" y="26"/>
                      </a:lnTo>
                      <a:lnTo>
                        <a:pt x="309" y="21"/>
                      </a:lnTo>
                      <a:lnTo>
                        <a:pt x="275" y="16"/>
                      </a:lnTo>
                      <a:lnTo>
                        <a:pt x="241" y="13"/>
                      </a:lnTo>
                      <a:lnTo>
                        <a:pt x="207" y="10"/>
                      </a:lnTo>
                      <a:lnTo>
                        <a:pt x="172" y="7"/>
                      </a:lnTo>
                      <a:lnTo>
                        <a:pt x="138" y="5"/>
                      </a:lnTo>
                      <a:lnTo>
                        <a:pt x="103" y="3"/>
                      </a:lnTo>
                      <a:lnTo>
                        <a:pt x="68" y="1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7c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 flipH="1">
                  <a:off x="5911920" y="2814840"/>
                  <a:ext cx="379800" cy="479880"/>
                </a:xfrm>
                <a:custGeom>
                  <a:avLst/>
                  <a:gdLst/>
                  <a:ahLst/>
                  <a:rect l="l" t="t" r="r" b="b"/>
                  <a:pathLst>
                    <a:path w="1120" h="1564">
                      <a:moveTo>
                        <a:pt x="0" y="0"/>
                      </a:moveTo>
                      <a:lnTo>
                        <a:pt x="40" y="190"/>
                      </a:lnTo>
                      <a:lnTo>
                        <a:pt x="74" y="391"/>
                      </a:lnTo>
                      <a:lnTo>
                        <a:pt x="103" y="596"/>
                      </a:lnTo>
                      <a:lnTo>
                        <a:pt x="126" y="800"/>
                      </a:lnTo>
                      <a:lnTo>
                        <a:pt x="142" y="999"/>
                      </a:lnTo>
                      <a:lnTo>
                        <a:pt x="154" y="1187"/>
                      </a:lnTo>
                      <a:lnTo>
                        <a:pt x="157" y="1358"/>
                      </a:lnTo>
                      <a:lnTo>
                        <a:pt x="156" y="1510"/>
                      </a:lnTo>
                      <a:lnTo>
                        <a:pt x="172" y="1506"/>
                      </a:lnTo>
                      <a:lnTo>
                        <a:pt x="188" y="1501"/>
                      </a:lnTo>
                      <a:lnTo>
                        <a:pt x="205" y="1497"/>
                      </a:lnTo>
                      <a:lnTo>
                        <a:pt x="221" y="1493"/>
                      </a:lnTo>
                      <a:lnTo>
                        <a:pt x="238" y="1488"/>
                      </a:lnTo>
                      <a:lnTo>
                        <a:pt x="254" y="1484"/>
                      </a:lnTo>
                      <a:lnTo>
                        <a:pt x="270" y="1479"/>
                      </a:lnTo>
                      <a:lnTo>
                        <a:pt x="288" y="1474"/>
                      </a:lnTo>
                      <a:lnTo>
                        <a:pt x="283" y="1496"/>
                      </a:lnTo>
                      <a:lnTo>
                        <a:pt x="278" y="1519"/>
                      </a:lnTo>
                      <a:lnTo>
                        <a:pt x="274" y="1541"/>
                      </a:lnTo>
                      <a:lnTo>
                        <a:pt x="269" y="1564"/>
                      </a:lnTo>
                      <a:lnTo>
                        <a:pt x="291" y="1564"/>
                      </a:lnTo>
                      <a:lnTo>
                        <a:pt x="313" y="1564"/>
                      </a:lnTo>
                      <a:lnTo>
                        <a:pt x="336" y="1563"/>
                      </a:lnTo>
                      <a:lnTo>
                        <a:pt x="359" y="1563"/>
                      </a:lnTo>
                      <a:lnTo>
                        <a:pt x="383" y="1562"/>
                      </a:lnTo>
                      <a:lnTo>
                        <a:pt x="407" y="1561"/>
                      </a:lnTo>
                      <a:lnTo>
                        <a:pt x="433" y="1560"/>
                      </a:lnTo>
                      <a:lnTo>
                        <a:pt x="458" y="1558"/>
                      </a:lnTo>
                      <a:lnTo>
                        <a:pt x="483" y="1556"/>
                      </a:lnTo>
                      <a:lnTo>
                        <a:pt x="510" y="1554"/>
                      </a:lnTo>
                      <a:lnTo>
                        <a:pt x="535" y="1552"/>
                      </a:lnTo>
                      <a:lnTo>
                        <a:pt x="562" y="1549"/>
                      </a:lnTo>
                      <a:lnTo>
                        <a:pt x="589" y="1546"/>
                      </a:lnTo>
                      <a:lnTo>
                        <a:pt x="616" y="1541"/>
                      </a:lnTo>
                      <a:lnTo>
                        <a:pt x="642" y="1537"/>
                      </a:lnTo>
                      <a:lnTo>
                        <a:pt x="670" y="1532"/>
                      </a:lnTo>
                      <a:lnTo>
                        <a:pt x="696" y="1526"/>
                      </a:lnTo>
                      <a:lnTo>
                        <a:pt x="724" y="1520"/>
                      </a:lnTo>
                      <a:lnTo>
                        <a:pt x="751" y="1514"/>
                      </a:lnTo>
                      <a:lnTo>
                        <a:pt x="778" y="1506"/>
                      </a:lnTo>
                      <a:lnTo>
                        <a:pt x="805" y="1497"/>
                      </a:lnTo>
                      <a:lnTo>
                        <a:pt x="832" y="1488"/>
                      </a:lnTo>
                      <a:lnTo>
                        <a:pt x="859" y="1479"/>
                      </a:lnTo>
                      <a:lnTo>
                        <a:pt x="885" y="1468"/>
                      </a:lnTo>
                      <a:lnTo>
                        <a:pt x="912" y="1456"/>
                      </a:lnTo>
                      <a:lnTo>
                        <a:pt x="937" y="1444"/>
                      </a:lnTo>
                      <a:lnTo>
                        <a:pt x="964" y="1431"/>
                      </a:lnTo>
                      <a:lnTo>
                        <a:pt x="989" y="1417"/>
                      </a:lnTo>
                      <a:lnTo>
                        <a:pt x="1013" y="1402"/>
                      </a:lnTo>
                      <a:lnTo>
                        <a:pt x="1039" y="1386"/>
                      </a:lnTo>
                      <a:lnTo>
                        <a:pt x="1063" y="1368"/>
                      </a:lnTo>
                      <a:lnTo>
                        <a:pt x="1086" y="1350"/>
                      </a:lnTo>
                      <a:lnTo>
                        <a:pt x="1086" y="1320"/>
                      </a:lnTo>
                      <a:lnTo>
                        <a:pt x="1086" y="1291"/>
                      </a:lnTo>
                      <a:lnTo>
                        <a:pt x="1086" y="1261"/>
                      </a:lnTo>
                      <a:lnTo>
                        <a:pt x="1086" y="1231"/>
                      </a:lnTo>
                      <a:lnTo>
                        <a:pt x="1090" y="1221"/>
                      </a:lnTo>
                      <a:lnTo>
                        <a:pt x="1095" y="1212"/>
                      </a:lnTo>
                      <a:lnTo>
                        <a:pt x="1098" y="1201"/>
                      </a:lnTo>
                      <a:lnTo>
                        <a:pt x="1103" y="1191"/>
                      </a:lnTo>
                      <a:lnTo>
                        <a:pt x="1108" y="1181"/>
                      </a:lnTo>
                      <a:lnTo>
                        <a:pt x="1112" y="1170"/>
                      </a:lnTo>
                      <a:lnTo>
                        <a:pt x="1116" y="1160"/>
                      </a:lnTo>
                      <a:lnTo>
                        <a:pt x="1120" y="1150"/>
                      </a:lnTo>
                      <a:lnTo>
                        <a:pt x="1113" y="1007"/>
                      </a:lnTo>
                      <a:lnTo>
                        <a:pt x="1104" y="868"/>
                      </a:lnTo>
                      <a:lnTo>
                        <a:pt x="1092" y="732"/>
                      </a:lnTo>
                      <a:lnTo>
                        <a:pt x="1075" y="603"/>
                      </a:lnTo>
                      <a:lnTo>
                        <a:pt x="1056" y="483"/>
                      </a:lnTo>
                      <a:lnTo>
                        <a:pt x="1033" y="374"/>
                      </a:lnTo>
                      <a:lnTo>
                        <a:pt x="1005" y="277"/>
                      </a:lnTo>
                      <a:lnTo>
                        <a:pt x="975" y="194"/>
                      </a:lnTo>
                      <a:lnTo>
                        <a:pt x="951" y="185"/>
                      </a:lnTo>
                      <a:lnTo>
                        <a:pt x="926" y="174"/>
                      </a:lnTo>
                      <a:lnTo>
                        <a:pt x="900" y="165"/>
                      </a:lnTo>
                      <a:lnTo>
                        <a:pt x="874" y="156"/>
                      </a:lnTo>
                      <a:lnTo>
                        <a:pt x="847" y="147"/>
                      </a:lnTo>
                      <a:lnTo>
                        <a:pt x="820" y="137"/>
                      </a:lnTo>
                      <a:lnTo>
                        <a:pt x="792" y="129"/>
                      </a:lnTo>
                      <a:lnTo>
                        <a:pt x="763" y="120"/>
                      </a:lnTo>
                      <a:lnTo>
                        <a:pt x="734" y="112"/>
                      </a:lnTo>
                      <a:lnTo>
                        <a:pt x="705" y="104"/>
                      </a:lnTo>
                      <a:lnTo>
                        <a:pt x="676" y="96"/>
                      </a:lnTo>
                      <a:lnTo>
                        <a:pt x="645" y="88"/>
                      </a:lnTo>
                      <a:lnTo>
                        <a:pt x="615" y="80"/>
                      </a:lnTo>
                      <a:lnTo>
                        <a:pt x="584" y="73"/>
                      </a:lnTo>
                      <a:lnTo>
                        <a:pt x="552" y="66"/>
                      </a:lnTo>
                      <a:lnTo>
                        <a:pt x="521" y="59"/>
                      </a:lnTo>
                      <a:lnTo>
                        <a:pt x="489" y="52"/>
                      </a:lnTo>
                      <a:lnTo>
                        <a:pt x="457" y="46"/>
                      </a:lnTo>
                      <a:lnTo>
                        <a:pt x="426" y="40"/>
                      </a:lnTo>
                      <a:lnTo>
                        <a:pt x="392" y="35"/>
                      </a:lnTo>
                      <a:lnTo>
                        <a:pt x="360" y="29"/>
                      </a:lnTo>
                      <a:lnTo>
                        <a:pt x="328" y="25"/>
                      </a:lnTo>
                      <a:lnTo>
                        <a:pt x="294" y="20"/>
                      </a:lnTo>
                      <a:lnTo>
                        <a:pt x="262" y="17"/>
                      </a:lnTo>
                      <a:lnTo>
                        <a:pt x="229" y="13"/>
                      </a:lnTo>
                      <a:lnTo>
                        <a:pt x="197" y="10"/>
                      </a:lnTo>
                      <a:lnTo>
                        <a:pt x="163" y="7"/>
                      </a:lnTo>
                      <a:lnTo>
                        <a:pt x="131" y="5"/>
                      </a:lnTo>
                      <a:lnTo>
                        <a:pt x="97" y="3"/>
                      </a:lnTo>
                      <a:lnTo>
                        <a:pt x="65" y="2"/>
                      </a:lnTo>
                      <a:lnTo>
                        <a:pt x="3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982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 flipH="1">
                  <a:off x="5913720" y="2818440"/>
                  <a:ext cx="364320" cy="457560"/>
                </a:xfrm>
                <a:custGeom>
                  <a:avLst/>
                  <a:gdLst/>
                  <a:ahLst/>
                  <a:rect l="l" t="t" r="r" b="b"/>
                  <a:pathLst>
                    <a:path w="1074" h="1493">
                      <a:moveTo>
                        <a:pt x="0" y="0"/>
                      </a:moveTo>
                      <a:lnTo>
                        <a:pt x="39" y="182"/>
                      </a:lnTo>
                      <a:lnTo>
                        <a:pt x="73" y="374"/>
                      </a:lnTo>
                      <a:lnTo>
                        <a:pt x="101" y="568"/>
                      </a:lnTo>
                      <a:lnTo>
                        <a:pt x="121" y="764"/>
                      </a:lnTo>
                      <a:lnTo>
                        <a:pt x="136" y="954"/>
                      </a:lnTo>
                      <a:lnTo>
                        <a:pt x="145" y="1134"/>
                      </a:lnTo>
                      <a:lnTo>
                        <a:pt x="149" y="1297"/>
                      </a:lnTo>
                      <a:lnTo>
                        <a:pt x="147" y="1442"/>
                      </a:lnTo>
                      <a:lnTo>
                        <a:pt x="163" y="1438"/>
                      </a:lnTo>
                      <a:lnTo>
                        <a:pt x="179" y="1433"/>
                      </a:lnTo>
                      <a:lnTo>
                        <a:pt x="195" y="1430"/>
                      </a:lnTo>
                      <a:lnTo>
                        <a:pt x="210" y="1425"/>
                      </a:lnTo>
                      <a:lnTo>
                        <a:pt x="226" y="1420"/>
                      </a:lnTo>
                      <a:lnTo>
                        <a:pt x="242" y="1416"/>
                      </a:lnTo>
                      <a:lnTo>
                        <a:pt x="257" y="1412"/>
                      </a:lnTo>
                      <a:lnTo>
                        <a:pt x="273" y="1408"/>
                      </a:lnTo>
                      <a:lnTo>
                        <a:pt x="269" y="1430"/>
                      </a:lnTo>
                      <a:lnTo>
                        <a:pt x="265" y="1450"/>
                      </a:lnTo>
                      <a:lnTo>
                        <a:pt x="261" y="1472"/>
                      </a:lnTo>
                      <a:lnTo>
                        <a:pt x="257" y="1493"/>
                      </a:lnTo>
                      <a:lnTo>
                        <a:pt x="278" y="1493"/>
                      </a:lnTo>
                      <a:lnTo>
                        <a:pt x="300" y="1493"/>
                      </a:lnTo>
                      <a:lnTo>
                        <a:pt x="322" y="1493"/>
                      </a:lnTo>
                      <a:lnTo>
                        <a:pt x="344" y="1493"/>
                      </a:lnTo>
                      <a:lnTo>
                        <a:pt x="367" y="1493"/>
                      </a:lnTo>
                      <a:lnTo>
                        <a:pt x="391" y="1492"/>
                      </a:lnTo>
                      <a:lnTo>
                        <a:pt x="414" y="1492"/>
                      </a:lnTo>
                      <a:lnTo>
                        <a:pt x="438" y="1492"/>
                      </a:lnTo>
                      <a:lnTo>
                        <a:pt x="463" y="1491"/>
                      </a:lnTo>
                      <a:lnTo>
                        <a:pt x="489" y="1489"/>
                      </a:lnTo>
                      <a:lnTo>
                        <a:pt x="514" y="1488"/>
                      </a:lnTo>
                      <a:lnTo>
                        <a:pt x="539" y="1486"/>
                      </a:lnTo>
                      <a:lnTo>
                        <a:pt x="565" y="1484"/>
                      </a:lnTo>
                      <a:lnTo>
                        <a:pt x="591" y="1481"/>
                      </a:lnTo>
                      <a:lnTo>
                        <a:pt x="617" y="1478"/>
                      </a:lnTo>
                      <a:lnTo>
                        <a:pt x="643" y="1474"/>
                      </a:lnTo>
                      <a:lnTo>
                        <a:pt x="670" y="1470"/>
                      </a:lnTo>
                      <a:lnTo>
                        <a:pt x="696" y="1465"/>
                      </a:lnTo>
                      <a:lnTo>
                        <a:pt x="721" y="1460"/>
                      </a:lnTo>
                      <a:lnTo>
                        <a:pt x="748" y="1454"/>
                      </a:lnTo>
                      <a:lnTo>
                        <a:pt x="774" y="1447"/>
                      </a:lnTo>
                      <a:lnTo>
                        <a:pt x="800" y="1440"/>
                      </a:lnTo>
                      <a:lnTo>
                        <a:pt x="826" y="1431"/>
                      </a:lnTo>
                      <a:lnTo>
                        <a:pt x="852" y="1422"/>
                      </a:lnTo>
                      <a:lnTo>
                        <a:pt x="877" y="1412"/>
                      </a:lnTo>
                      <a:lnTo>
                        <a:pt x="902" y="1401"/>
                      </a:lnTo>
                      <a:lnTo>
                        <a:pt x="926" y="1389"/>
                      </a:lnTo>
                      <a:lnTo>
                        <a:pt x="951" y="1375"/>
                      </a:lnTo>
                      <a:lnTo>
                        <a:pt x="975" y="1362"/>
                      </a:lnTo>
                      <a:lnTo>
                        <a:pt x="998" y="1347"/>
                      </a:lnTo>
                      <a:lnTo>
                        <a:pt x="1021" y="1331"/>
                      </a:lnTo>
                      <a:lnTo>
                        <a:pt x="1044" y="1313"/>
                      </a:lnTo>
                      <a:lnTo>
                        <a:pt x="1044" y="1282"/>
                      </a:lnTo>
                      <a:lnTo>
                        <a:pt x="1044" y="1251"/>
                      </a:lnTo>
                      <a:lnTo>
                        <a:pt x="1044" y="1220"/>
                      </a:lnTo>
                      <a:lnTo>
                        <a:pt x="1044" y="1189"/>
                      </a:lnTo>
                      <a:lnTo>
                        <a:pt x="1051" y="1167"/>
                      </a:lnTo>
                      <a:lnTo>
                        <a:pt x="1059" y="1145"/>
                      </a:lnTo>
                      <a:lnTo>
                        <a:pt x="1066" y="1122"/>
                      </a:lnTo>
                      <a:lnTo>
                        <a:pt x="1074" y="1100"/>
                      </a:lnTo>
                      <a:lnTo>
                        <a:pt x="1067" y="963"/>
                      </a:lnTo>
                      <a:lnTo>
                        <a:pt x="1058" y="830"/>
                      </a:lnTo>
                      <a:lnTo>
                        <a:pt x="1045" y="701"/>
                      </a:lnTo>
                      <a:lnTo>
                        <a:pt x="1029" y="577"/>
                      </a:lnTo>
                      <a:lnTo>
                        <a:pt x="1009" y="463"/>
                      </a:lnTo>
                      <a:lnTo>
                        <a:pt x="986" y="359"/>
                      </a:lnTo>
                      <a:lnTo>
                        <a:pt x="961" y="266"/>
                      </a:lnTo>
                      <a:lnTo>
                        <a:pt x="931" y="188"/>
                      </a:lnTo>
                      <a:lnTo>
                        <a:pt x="908" y="179"/>
                      </a:lnTo>
                      <a:lnTo>
                        <a:pt x="884" y="170"/>
                      </a:lnTo>
                      <a:lnTo>
                        <a:pt x="860" y="161"/>
                      </a:lnTo>
                      <a:lnTo>
                        <a:pt x="835" y="151"/>
                      </a:lnTo>
                      <a:lnTo>
                        <a:pt x="810" y="142"/>
                      </a:lnTo>
                      <a:lnTo>
                        <a:pt x="784" y="134"/>
                      </a:lnTo>
                      <a:lnTo>
                        <a:pt x="757" y="125"/>
                      </a:lnTo>
                      <a:lnTo>
                        <a:pt x="731" y="117"/>
                      </a:lnTo>
                      <a:lnTo>
                        <a:pt x="703" y="109"/>
                      </a:lnTo>
                      <a:lnTo>
                        <a:pt x="675" y="101"/>
                      </a:lnTo>
                      <a:lnTo>
                        <a:pt x="647" y="93"/>
                      </a:lnTo>
                      <a:lnTo>
                        <a:pt x="618" y="85"/>
                      </a:lnTo>
                      <a:lnTo>
                        <a:pt x="589" y="78"/>
                      </a:lnTo>
                      <a:lnTo>
                        <a:pt x="559" y="71"/>
                      </a:lnTo>
                      <a:lnTo>
                        <a:pt x="530" y="64"/>
                      </a:lnTo>
                      <a:lnTo>
                        <a:pt x="500" y="57"/>
                      </a:lnTo>
                      <a:lnTo>
                        <a:pt x="469" y="50"/>
                      </a:lnTo>
                      <a:lnTo>
                        <a:pt x="439" y="44"/>
                      </a:lnTo>
                      <a:lnTo>
                        <a:pt x="408" y="38"/>
                      </a:lnTo>
                      <a:lnTo>
                        <a:pt x="377" y="34"/>
                      </a:lnTo>
                      <a:lnTo>
                        <a:pt x="346" y="28"/>
                      </a:lnTo>
                      <a:lnTo>
                        <a:pt x="315" y="23"/>
                      </a:lnTo>
                      <a:lnTo>
                        <a:pt x="284" y="20"/>
                      </a:lnTo>
                      <a:lnTo>
                        <a:pt x="253" y="15"/>
                      </a:lnTo>
                      <a:lnTo>
                        <a:pt x="220" y="12"/>
                      </a:lnTo>
                      <a:lnTo>
                        <a:pt x="189" y="10"/>
                      </a:lnTo>
                      <a:lnTo>
                        <a:pt x="157" y="6"/>
                      </a:lnTo>
                      <a:lnTo>
                        <a:pt x="126" y="4"/>
                      </a:lnTo>
                      <a:lnTo>
                        <a:pt x="95" y="3"/>
                      </a:lnTo>
                      <a:lnTo>
                        <a:pt x="63" y="2"/>
                      </a:lnTo>
                      <a:lnTo>
                        <a:pt x="3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89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 flipH="1">
                  <a:off x="5914440" y="2820240"/>
                  <a:ext cx="347400" cy="436320"/>
                </a:xfrm>
                <a:custGeom>
                  <a:avLst/>
                  <a:gdLst/>
                  <a:ahLst/>
                  <a:rect l="l" t="t" r="r" b="b"/>
                  <a:pathLst>
                    <a:path w="1024" h="1424">
                      <a:moveTo>
                        <a:pt x="0" y="0"/>
                      </a:moveTo>
                      <a:lnTo>
                        <a:pt x="38" y="172"/>
                      </a:lnTo>
                      <a:lnTo>
                        <a:pt x="70" y="354"/>
                      </a:lnTo>
                      <a:lnTo>
                        <a:pt x="95" y="541"/>
                      </a:lnTo>
                      <a:lnTo>
                        <a:pt x="114" y="726"/>
                      </a:lnTo>
                      <a:lnTo>
                        <a:pt x="128" y="907"/>
                      </a:lnTo>
                      <a:lnTo>
                        <a:pt x="136" y="1079"/>
                      </a:lnTo>
                      <a:lnTo>
                        <a:pt x="139" y="1235"/>
                      </a:lnTo>
                      <a:lnTo>
                        <a:pt x="136" y="1373"/>
                      </a:lnTo>
                      <a:lnTo>
                        <a:pt x="151" y="1369"/>
                      </a:lnTo>
                      <a:lnTo>
                        <a:pt x="166" y="1365"/>
                      </a:lnTo>
                      <a:lnTo>
                        <a:pt x="181" y="1361"/>
                      </a:lnTo>
                      <a:lnTo>
                        <a:pt x="197" y="1356"/>
                      </a:lnTo>
                      <a:lnTo>
                        <a:pt x="212" y="1353"/>
                      </a:lnTo>
                      <a:lnTo>
                        <a:pt x="227" y="1348"/>
                      </a:lnTo>
                      <a:lnTo>
                        <a:pt x="242" y="1345"/>
                      </a:lnTo>
                      <a:lnTo>
                        <a:pt x="257" y="1340"/>
                      </a:lnTo>
                      <a:lnTo>
                        <a:pt x="253" y="1361"/>
                      </a:lnTo>
                      <a:lnTo>
                        <a:pt x="249" y="1380"/>
                      </a:lnTo>
                      <a:lnTo>
                        <a:pt x="245" y="1401"/>
                      </a:lnTo>
                      <a:lnTo>
                        <a:pt x="241" y="1422"/>
                      </a:lnTo>
                      <a:lnTo>
                        <a:pt x="261" y="1422"/>
                      </a:lnTo>
                      <a:lnTo>
                        <a:pt x="281" y="1422"/>
                      </a:lnTo>
                      <a:lnTo>
                        <a:pt x="302" y="1422"/>
                      </a:lnTo>
                      <a:lnTo>
                        <a:pt x="324" y="1423"/>
                      </a:lnTo>
                      <a:lnTo>
                        <a:pt x="346" y="1423"/>
                      </a:lnTo>
                      <a:lnTo>
                        <a:pt x="369" y="1423"/>
                      </a:lnTo>
                      <a:lnTo>
                        <a:pt x="392" y="1424"/>
                      </a:lnTo>
                      <a:lnTo>
                        <a:pt x="415" y="1424"/>
                      </a:lnTo>
                      <a:lnTo>
                        <a:pt x="439" y="1424"/>
                      </a:lnTo>
                      <a:lnTo>
                        <a:pt x="463" y="1424"/>
                      </a:lnTo>
                      <a:lnTo>
                        <a:pt x="488" y="1424"/>
                      </a:lnTo>
                      <a:lnTo>
                        <a:pt x="513" y="1423"/>
                      </a:lnTo>
                      <a:lnTo>
                        <a:pt x="537" y="1422"/>
                      </a:lnTo>
                      <a:lnTo>
                        <a:pt x="563" y="1421"/>
                      </a:lnTo>
                      <a:lnTo>
                        <a:pt x="588" y="1418"/>
                      </a:lnTo>
                      <a:lnTo>
                        <a:pt x="613" y="1416"/>
                      </a:lnTo>
                      <a:lnTo>
                        <a:pt x="639" y="1414"/>
                      </a:lnTo>
                      <a:lnTo>
                        <a:pt x="664" y="1410"/>
                      </a:lnTo>
                      <a:lnTo>
                        <a:pt x="689" y="1406"/>
                      </a:lnTo>
                      <a:lnTo>
                        <a:pt x="715" y="1401"/>
                      </a:lnTo>
                      <a:lnTo>
                        <a:pt x="740" y="1396"/>
                      </a:lnTo>
                      <a:lnTo>
                        <a:pt x="765" y="1389"/>
                      </a:lnTo>
                      <a:lnTo>
                        <a:pt x="789" y="1383"/>
                      </a:lnTo>
                      <a:lnTo>
                        <a:pt x="815" y="1375"/>
                      </a:lnTo>
                      <a:lnTo>
                        <a:pt x="839" y="1366"/>
                      </a:lnTo>
                      <a:lnTo>
                        <a:pt x="863" y="1356"/>
                      </a:lnTo>
                      <a:lnTo>
                        <a:pt x="887" y="1346"/>
                      </a:lnTo>
                      <a:lnTo>
                        <a:pt x="910" y="1334"/>
                      </a:lnTo>
                      <a:lnTo>
                        <a:pt x="933" y="1322"/>
                      </a:lnTo>
                      <a:lnTo>
                        <a:pt x="955" y="1307"/>
                      </a:lnTo>
                      <a:lnTo>
                        <a:pt x="977" y="1292"/>
                      </a:lnTo>
                      <a:lnTo>
                        <a:pt x="999" y="1275"/>
                      </a:lnTo>
                      <a:lnTo>
                        <a:pt x="999" y="1243"/>
                      </a:lnTo>
                      <a:lnTo>
                        <a:pt x="999" y="1210"/>
                      </a:lnTo>
                      <a:lnTo>
                        <a:pt x="999" y="1178"/>
                      </a:lnTo>
                      <a:lnTo>
                        <a:pt x="998" y="1145"/>
                      </a:lnTo>
                      <a:lnTo>
                        <a:pt x="1005" y="1121"/>
                      </a:lnTo>
                      <a:lnTo>
                        <a:pt x="1012" y="1097"/>
                      </a:lnTo>
                      <a:lnTo>
                        <a:pt x="1019" y="1073"/>
                      </a:lnTo>
                      <a:lnTo>
                        <a:pt x="1024" y="1050"/>
                      </a:lnTo>
                      <a:lnTo>
                        <a:pt x="1018" y="920"/>
                      </a:lnTo>
                      <a:lnTo>
                        <a:pt x="1008" y="792"/>
                      </a:lnTo>
                      <a:lnTo>
                        <a:pt x="996" y="669"/>
                      </a:lnTo>
                      <a:lnTo>
                        <a:pt x="981" y="551"/>
                      </a:lnTo>
                      <a:lnTo>
                        <a:pt x="961" y="442"/>
                      </a:lnTo>
                      <a:lnTo>
                        <a:pt x="939" y="343"/>
                      </a:lnTo>
                      <a:lnTo>
                        <a:pt x="914" y="255"/>
                      </a:lnTo>
                      <a:lnTo>
                        <a:pt x="885" y="180"/>
                      </a:lnTo>
                      <a:lnTo>
                        <a:pt x="863" y="171"/>
                      </a:lnTo>
                      <a:lnTo>
                        <a:pt x="841" y="163"/>
                      </a:lnTo>
                      <a:lnTo>
                        <a:pt x="818" y="154"/>
                      </a:lnTo>
                      <a:lnTo>
                        <a:pt x="794" y="145"/>
                      </a:lnTo>
                      <a:lnTo>
                        <a:pt x="770" y="137"/>
                      </a:lnTo>
                      <a:lnTo>
                        <a:pt x="746" y="128"/>
                      </a:lnTo>
                      <a:lnTo>
                        <a:pt x="720" y="120"/>
                      </a:lnTo>
                      <a:lnTo>
                        <a:pt x="695" y="111"/>
                      </a:lnTo>
                      <a:lnTo>
                        <a:pt x="668" y="104"/>
                      </a:lnTo>
                      <a:lnTo>
                        <a:pt x="642" y="96"/>
                      </a:lnTo>
                      <a:lnTo>
                        <a:pt x="616" y="88"/>
                      </a:lnTo>
                      <a:lnTo>
                        <a:pt x="588" y="81"/>
                      </a:lnTo>
                      <a:lnTo>
                        <a:pt x="560" y="74"/>
                      </a:lnTo>
                      <a:lnTo>
                        <a:pt x="533" y="67"/>
                      </a:lnTo>
                      <a:lnTo>
                        <a:pt x="504" y="61"/>
                      </a:lnTo>
                      <a:lnTo>
                        <a:pt x="476" y="54"/>
                      </a:lnTo>
                      <a:lnTo>
                        <a:pt x="446" y="48"/>
                      </a:lnTo>
                      <a:lnTo>
                        <a:pt x="417" y="42"/>
                      </a:lnTo>
                      <a:lnTo>
                        <a:pt x="389" y="36"/>
                      </a:lnTo>
                      <a:lnTo>
                        <a:pt x="359" y="32"/>
                      </a:lnTo>
                      <a:lnTo>
                        <a:pt x="329" y="27"/>
                      </a:lnTo>
                      <a:lnTo>
                        <a:pt x="300" y="23"/>
                      </a:lnTo>
                      <a:lnTo>
                        <a:pt x="270" y="18"/>
                      </a:lnTo>
                      <a:lnTo>
                        <a:pt x="240" y="14"/>
                      </a:lnTo>
                      <a:lnTo>
                        <a:pt x="210" y="11"/>
                      </a:lnTo>
                      <a:lnTo>
                        <a:pt x="180" y="8"/>
                      </a:lnTo>
                      <a:lnTo>
                        <a:pt x="150" y="5"/>
                      </a:lnTo>
                      <a:lnTo>
                        <a:pt x="120" y="3"/>
                      </a:lnTo>
                      <a:lnTo>
                        <a:pt x="90" y="2"/>
                      </a:lnTo>
                      <a:lnTo>
                        <a:pt x="60" y="1"/>
                      </a:lnTo>
                      <a:lnTo>
                        <a:pt x="3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18c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 flipH="1">
                  <a:off x="5915160" y="2821680"/>
                  <a:ext cx="330840" cy="418320"/>
                </a:xfrm>
                <a:custGeom>
                  <a:avLst/>
                  <a:gdLst/>
                  <a:ahLst/>
                  <a:rect l="l" t="t" r="r" b="b"/>
                  <a:pathLst>
                    <a:path w="976" h="1362">
                      <a:moveTo>
                        <a:pt x="0" y="0"/>
                      </a:moveTo>
                      <a:lnTo>
                        <a:pt x="36" y="165"/>
                      </a:lnTo>
                      <a:lnTo>
                        <a:pt x="65" y="338"/>
                      </a:lnTo>
                      <a:lnTo>
                        <a:pt x="89" y="515"/>
                      </a:lnTo>
                      <a:lnTo>
                        <a:pt x="106" y="691"/>
                      </a:lnTo>
                      <a:lnTo>
                        <a:pt x="119" y="864"/>
                      </a:lnTo>
                      <a:lnTo>
                        <a:pt x="126" y="1026"/>
                      </a:lnTo>
                      <a:lnTo>
                        <a:pt x="128" y="1176"/>
                      </a:lnTo>
                      <a:lnTo>
                        <a:pt x="126" y="1306"/>
                      </a:lnTo>
                      <a:lnTo>
                        <a:pt x="141" y="1303"/>
                      </a:lnTo>
                      <a:lnTo>
                        <a:pt x="155" y="1298"/>
                      </a:lnTo>
                      <a:lnTo>
                        <a:pt x="170" y="1295"/>
                      </a:lnTo>
                      <a:lnTo>
                        <a:pt x="184" y="1291"/>
                      </a:lnTo>
                      <a:lnTo>
                        <a:pt x="197" y="1287"/>
                      </a:lnTo>
                      <a:lnTo>
                        <a:pt x="211" y="1283"/>
                      </a:lnTo>
                      <a:lnTo>
                        <a:pt x="226" y="1280"/>
                      </a:lnTo>
                      <a:lnTo>
                        <a:pt x="240" y="1276"/>
                      </a:lnTo>
                      <a:lnTo>
                        <a:pt x="237" y="1295"/>
                      </a:lnTo>
                      <a:lnTo>
                        <a:pt x="233" y="1314"/>
                      </a:lnTo>
                      <a:lnTo>
                        <a:pt x="229" y="1333"/>
                      </a:lnTo>
                      <a:lnTo>
                        <a:pt x="225" y="1352"/>
                      </a:lnTo>
                      <a:lnTo>
                        <a:pt x="263" y="1352"/>
                      </a:lnTo>
                      <a:lnTo>
                        <a:pt x="305" y="1355"/>
                      </a:lnTo>
                      <a:lnTo>
                        <a:pt x="347" y="1356"/>
                      </a:lnTo>
                      <a:lnTo>
                        <a:pt x="392" y="1358"/>
                      </a:lnTo>
                      <a:lnTo>
                        <a:pt x="438" y="1360"/>
                      </a:lnTo>
                      <a:lnTo>
                        <a:pt x="487" y="1362"/>
                      </a:lnTo>
                      <a:lnTo>
                        <a:pt x="535" y="1362"/>
                      </a:lnTo>
                      <a:lnTo>
                        <a:pt x="583" y="1360"/>
                      </a:lnTo>
                      <a:lnTo>
                        <a:pt x="633" y="1357"/>
                      </a:lnTo>
                      <a:lnTo>
                        <a:pt x="682" y="1351"/>
                      </a:lnTo>
                      <a:lnTo>
                        <a:pt x="731" y="1342"/>
                      </a:lnTo>
                      <a:lnTo>
                        <a:pt x="778" y="1329"/>
                      </a:lnTo>
                      <a:lnTo>
                        <a:pt x="825" y="1314"/>
                      </a:lnTo>
                      <a:lnTo>
                        <a:pt x="870" y="1294"/>
                      </a:lnTo>
                      <a:lnTo>
                        <a:pt x="913" y="1269"/>
                      </a:lnTo>
                      <a:lnTo>
                        <a:pt x="954" y="1240"/>
                      </a:lnTo>
                      <a:lnTo>
                        <a:pt x="954" y="1206"/>
                      </a:lnTo>
                      <a:lnTo>
                        <a:pt x="954" y="1172"/>
                      </a:lnTo>
                      <a:lnTo>
                        <a:pt x="953" y="1138"/>
                      </a:lnTo>
                      <a:lnTo>
                        <a:pt x="953" y="1105"/>
                      </a:lnTo>
                      <a:lnTo>
                        <a:pt x="959" y="1078"/>
                      </a:lnTo>
                      <a:lnTo>
                        <a:pt x="965" y="1053"/>
                      </a:lnTo>
                      <a:lnTo>
                        <a:pt x="970" y="1026"/>
                      </a:lnTo>
                      <a:lnTo>
                        <a:pt x="976" y="1001"/>
                      </a:lnTo>
                      <a:lnTo>
                        <a:pt x="969" y="877"/>
                      </a:lnTo>
                      <a:lnTo>
                        <a:pt x="959" y="756"/>
                      </a:lnTo>
                      <a:lnTo>
                        <a:pt x="946" y="638"/>
                      </a:lnTo>
                      <a:lnTo>
                        <a:pt x="931" y="528"/>
                      </a:lnTo>
                      <a:lnTo>
                        <a:pt x="913" y="424"/>
                      </a:lnTo>
                      <a:lnTo>
                        <a:pt x="891" y="330"/>
                      </a:lnTo>
                      <a:lnTo>
                        <a:pt x="867" y="246"/>
                      </a:lnTo>
                      <a:lnTo>
                        <a:pt x="839" y="175"/>
                      </a:lnTo>
                      <a:lnTo>
                        <a:pt x="818" y="167"/>
                      </a:lnTo>
                      <a:lnTo>
                        <a:pt x="798" y="158"/>
                      </a:lnTo>
                      <a:lnTo>
                        <a:pt x="776" y="150"/>
                      </a:lnTo>
                      <a:lnTo>
                        <a:pt x="754" y="142"/>
                      </a:lnTo>
                      <a:lnTo>
                        <a:pt x="732" y="134"/>
                      </a:lnTo>
                      <a:lnTo>
                        <a:pt x="708" y="126"/>
                      </a:lnTo>
                      <a:lnTo>
                        <a:pt x="685" y="118"/>
                      </a:lnTo>
                      <a:lnTo>
                        <a:pt x="660" y="110"/>
                      </a:lnTo>
                      <a:lnTo>
                        <a:pt x="635" y="102"/>
                      </a:lnTo>
                      <a:lnTo>
                        <a:pt x="611" y="95"/>
                      </a:lnTo>
                      <a:lnTo>
                        <a:pt x="584" y="87"/>
                      </a:lnTo>
                      <a:lnTo>
                        <a:pt x="559" y="80"/>
                      </a:lnTo>
                      <a:lnTo>
                        <a:pt x="533" y="73"/>
                      </a:lnTo>
                      <a:lnTo>
                        <a:pt x="506" y="66"/>
                      </a:lnTo>
                      <a:lnTo>
                        <a:pt x="480" y="60"/>
                      </a:lnTo>
                      <a:lnTo>
                        <a:pt x="452" y="53"/>
                      </a:lnTo>
                      <a:lnTo>
                        <a:pt x="424" y="48"/>
                      </a:lnTo>
                      <a:lnTo>
                        <a:pt x="397" y="42"/>
                      </a:lnTo>
                      <a:lnTo>
                        <a:pt x="369" y="37"/>
                      </a:lnTo>
                      <a:lnTo>
                        <a:pt x="341" y="32"/>
                      </a:lnTo>
                      <a:lnTo>
                        <a:pt x="313" y="27"/>
                      </a:lnTo>
                      <a:lnTo>
                        <a:pt x="285" y="22"/>
                      </a:lnTo>
                      <a:lnTo>
                        <a:pt x="256" y="19"/>
                      </a:lnTo>
                      <a:lnTo>
                        <a:pt x="227" y="15"/>
                      </a:lnTo>
                      <a:lnTo>
                        <a:pt x="200" y="12"/>
                      </a:lnTo>
                      <a:lnTo>
                        <a:pt x="171" y="8"/>
                      </a:lnTo>
                      <a:lnTo>
                        <a:pt x="142" y="6"/>
                      </a:lnTo>
                      <a:lnTo>
                        <a:pt x="113" y="4"/>
                      </a:lnTo>
                      <a:lnTo>
                        <a:pt x="86" y="3"/>
                      </a:lnTo>
                      <a:lnTo>
                        <a:pt x="57" y="2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93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 flipH="1">
                  <a:off x="5917320" y="2824920"/>
                  <a:ext cx="313920" cy="399600"/>
                </a:xfrm>
                <a:custGeom>
                  <a:avLst/>
                  <a:gdLst/>
                  <a:ahLst/>
                  <a:rect l="l" t="t" r="r" b="b"/>
                  <a:pathLst>
                    <a:path w="926" h="1303">
                      <a:moveTo>
                        <a:pt x="0" y="0"/>
                      </a:moveTo>
                      <a:lnTo>
                        <a:pt x="33" y="156"/>
                      </a:lnTo>
                      <a:lnTo>
                        <a:pt x="59" y="319"/>
                      </a:lnTo>
                      <a:lnTo>
                        <a:pt x="81" y="488"/>
                      </a:lnTo>
                      <a:lnTo>
                        <a:pt x="97" y="656"/>
                      </a:lnTo>
                      <a:lnTo>
                        <a:pt x="109" y="819"/>
                      </a:lnTo>
                      <a:lnTo>
                        <a:pt x="115" y="974"/>
                      </a:lnTo>
                      <a:lnTo>
                        <a:pt x="117" y="1114"/>
                      </a:lnTo>
                      <a:lnTo>
                        <a:pt x="115" y="1238"/>
                      </a:lnTo>
                      <a:lnTo>
                        <a:pt x="129" y="1235"/>
                      </a:lnTo>
                      <a:lnTo>
                        <a:pt x="141" y="1230"/>
                      </a:lnTo>
                      <a:lnTo>
                        <a:pt x="155" y="1227"/>
                      </a:lnTo>
                      <a:lnTo>
                        <a:pt x="169" y="1223"/>
                      </a:lnTo>
                      <a:lnTo>
                        <a:pt x="183" y="1220"/>
                      </a:lnTo>
                      <a:lnTo>
                        <a:pt x="197" y="1217"/>
                      </a:lnTo>
                      <a:lnTo>
                        <a:pt x="209" y="1213"/>
                      </a:lnTo>
                      <a:lnTo>
                        <a:pt x="223" y="1210"/>
                      </a:lnTo>
                      <a:lnTo>
                        <a:pt x="220" y="1228"/>
                      </a:lnTo>
                      <a:lnTo>
                        <a:pt x="216" y="1245"/>
                      </a:lnTo>
                      <a:lnTo>
                        <a:pt x="213" y="1264"/>
                      </a:lnTo>
                      <a:lnTo>
                        <a:pt x="208" y="1282"/>
                      </a:lnTo>
                      <a:lnTo>
                        <a:pt x="245" y="1283"/>
                      </a:lnTo>
                      <a:lnTo>
                        <a:pt x="283" y="1286"/>
                      </a:lnTo>
                      <a:lnTo>
                        <a:pt x="324" y="1288"/>
                      </a:lnTo>
                      <a:lnTo>
                        <a:pt x="368" y="1293"/>
                      </a:lnTo>
                      <a:lnTo>
                        <a:pt x="412" y="1296"/>
                      </a:lnTo>
                      <a:lnTo>
                        <a:pt x="458" y="1299"/>
                      </a:lnTo>
                      <a:lnTo>
                        <a:pt x="505" y="1302"/>
                      </a:lnTo>
                      <a:lnTo>
                        <a:pt x="552" y="1303"/>
                      </a:lnTo>
                      <a:lnTo>
                        <a:pt x="600" y="1303"/>
                      </a:lnTo>
                      <a:lnTo>
                        <a:pt x="647" y="1299"/>
                      </a:lnTo>
                      <a:lnTo>
                        <a:pt x="694" y="1294"/>
                      </a:lnTo>
                      <a:lnTo>
                        <a:pt x="740" y="1285"/>
                      </a:lnTo>
                      <a:lnTo>
                        <a:pt x="784" y="1271"/>
                      </a:lnTo>
                      <a:lnTo>
                        <a:pt x="828" y="1253"/>
                      </a:lnTo>
                      <a:lnTo>
                        <a:pt x="869" y="1230"/>
                      </a:lnTo>
                      <a:lnTo>
                        <a:pt x="908" y="1203"/>
                      </a:lnTo>
                      <a:lnTo>
                        <a:pt x="907" y="1167"/>
                      </a:lnTo>
                      <a:lnTo>
                        <a:pt x="907" y="1132"/>
                      </a:lnTo>
                      <a:lnTo>
                        <a:pt x="907" y="1098"/>
                      </a:lnTo>
                      <a:lnTo>
                        <a:pt x="907" y="1062"/>
                      </a:lnTo>
                      <a:lnTo>
                        <a:pt x="912" y="1035"/>
                      </a:lnTo>
                      <a:lnTo>
                        <a:pt x="916" y="1007"/>
                      </a:lnTo>
                      <a:lnTo>
                        <a:pt x="921" y="979"/>
                      </a:lnTo>
                      <a:lnTo>
                        <a:pt x="926" y="952"/>
                      </a:lnTo>
                      <a:lnTo>
                        <a:pt x="919" y="834"/>
                      </a:lnTo>
                      <a:lnTo>
                        <a:pt x="908" y="718"/>
                      </a:lnTo>
                      <a:lnTo>
                        <a:pt x="896" y="607"/>
                      </a:lnTo>
                      <a:lnTo>
                        <a:pt x="881" y="501"/>
                      </a:lnTo>
                      <a:lnTo>
                        <a:pt x="863" y="404"/>
                      </a:lnTo>
                      <a:lnTo>
                        <a:pt x="843" y="315"/>
                      </a:lnTo>
                      <a:lnTo>
                        <a:pt x="819" y="235"/>
                      </a:lnTo>
                      <a:lnTo>
                        <a:pt x="791" y="169"/>
                      </a:lnTo>
                      <a:lnTo>
                        <a:pt x="772" y="161"/>
                      </a:lnTo>
                      <a:lnTo>
                        <a:pt x="753" y="152"/>
                      </a:lnTo>
                      <a:lnTo>
                        <a:pt x="732" y="144"/>
                      </a:lnTo>
                      <a:lnTo>
                        <a:pt x="711" y="136"/>
                      </a:lnTo>
                      <a:lnTo>
                        <a:pt x="691" y="128"/>
                      </a:lnTo>
                      <a:lnTo>
                        <a:pt x="669" y="120"/>
                      </a:lnTo>
                      <a:lnTo>
                        <a:pt x="646" y="113"/>
                      </a:lnTo>
                      <a:lnTo>
                        <a:pt x="624" y="105"/>
                      </a:lnTo>
                      <a:lnTo>
                        <a:pt x="601" y="98"/>
                      </a:lnTo>
                      <a:lnTo>
                        <a:pt x="577" y="90"/>
                      </a:lnTo>
                      <a:lnTo>
                        <a:pt x="552" y="83"/>
                      </a:lnTo>
                      <a:lnTo>
                        <a:pt x="528" y="76"/>
                      </a:lnTo>
                      <a:lnTo>
                        <a:pt x="503" y="71"/>
                      </a:lnTo>
                      <a:lnTo>
                        <a:pt x="479" y="64"/>
                      </a:lnTo>
                      <a:lnTo>
                        <a:pt x="453" y="58"/>
                      </a:lnTo>
                      <a:lnTo>
                        <a:pt x="427" y="51"/>
                      </a:lnTo>
                      <a:lnTo>
                        <a:pt x="402" y="47"/>
                      </a:lnTo>
                      <a:lnTo>
                        <a:pt x="375" y="41"/>
                      </a:lnTo>
                      <a:lnTo>
                        <a:pt x="349" y="35"/>
                      </a:lnTo>
                      <a:lnTo>
                        <a:pt x="322" y="30"/>
                      </a:lnTo>
                      <a:lnTo>
                        <a:pt x="296" y="26"/>
                      </a:lnTo>
                      <a:lnTo>
                        <a:pt x="269" y="22"/>
                      </a:lnTo>
                      <a:lnTo>
                        <a:pt x="241" y="18"/>
                      </a:lnTo>
                      <a:lnTo>
                        <a:pt x="215" y="14"/>
                      </a:lnTo>
                      <a:lnTo>
                        <a:pt x="187" y="11"/>
                      </a:lnTo>
                      <a:lnTo>
                        <a:pt x="161" y="9"/>
                      </a:lnTo>
                      <a:lnTo>
                        <a:pt x="134" y="6"/>
                      </a:lnTo>
                      <a:lnTo>
                        <a:pt x="107" y="4"/>
                      </a:lnTo>
                      <a:lnTo>
                        <a:pt x="80" y="3"/>
                      </a:lnTo>
                      <a:lnTo>
                        <a:pt x="53" y="2"/>
                      </a:lnTo>
                      <a:lnTo>
                        <a:pt x="2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b99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 flipH="1">
                  <a:off x="5916600" y="2827080"/>
                  <a:ext cx="297000" cy="382680"/>
                </a:xfrm>
                <a:custGeom>
                  <a:avLst/>
                  <a:gdLst/>
                  <a:ahLst/>
                  <a:rect l="l" t="t" r="r" b="b"/>
                  <a:pathLst>
                    <a:path w="875" h="1247">
                      <a:moveTo>
                        <a:pt x="0" y="0"/>
                      </a:moveTo>
                      <a:lnTo>
                        <a:pt x="31" y="146"/>
                      </a:lnTo>
                      <a:lnTo>
                        <a:pt x="55" y="300"/>
                      </a:lnTo>
                      <a:lnTo>
                        <a:pt x="75" y="459"/>
                      </a:lnTo>
                      <a:lnTo>
                        <a:pt x="90" y="618"/>
                      </a:lnTo>
                      <a:lnTo>
                        <a:pt x="99" y="772"/>
                      </a:lnTo>
                      <a:lnTo>
                        <a:pt x="105" y="919"/>
                      </a:lnTo>
                      <a:lnTo>
                        <a:pt x="106" y="1052"/>
                      </a:lnTo>
                      <a:lnTo>
                        <a:pt x="103" y="1168"/>
                      </a:lnTo>
                      <a:lnTo>
                        <a:pt x="116" y="1165"/>
                      </a:lnTo>
                      <a:lnTo>
                        <a:pt x="129" y="1163"/>
                      </a:lnTo>
                      <a:lnTo>
                        <a:pt x="141" y="1159"/>
                      </a:lnTo>
                      <a:lnTo>
                        <a:pt x="154" y="1156"/>
                      </a:lnTo>
                      <a:lnTo>
                        <a:pt x="167" y="1152"/>
                      </a:lnTo>
                      <a:lnTo>
                        <a:pt x="179" y="1149"/>
                      </a:lnTo>
                      <a:lnTo>
                        <a:pt x="192" y="1145"/>
                      </a:lnTo>
                      <a:lnTo>
                        <a:pt x="205" y="1142"/>
                      </a:lnTo>
                      <a:lnTo>
                        <a:pt x="201" y="1159"/>
                      </a:lnTo>
                      <a:lnTo>
                        <a:pt x="199" y="1175"/>
                      </a:lnTo>
                      <a:lnTo>
                        <a:pt x="196" y="1193"/>
                      </a:lnTo>
                      <a:lnTo>
                        <a:pt x="192" y="1210"/>
                      </a:lnTo>
                      <a:lnTo>
                        <a:pt x="227" y="1211"/>
                      </a:lnTo>
                      <a:lnTo>
                        <a:pt x="264" y="1214"/>
                      </a:lnTo>
                      <a:lnTo>
                        <a:pt x="303" y="1219"/>
                      </a:lnTo>
                      <a:lnTo>
                        <a:pt x="344" y="1224"/>
                      </a:lnTo>
                      <a:lnTo>
                        <a:pt x="387" y="1231"/>
                      </a:lnTo>
                      <a:lnTo>
                        <a:pt x="431" y="1236"/>
                      </a:lnTo>
                      <a:lnTo>
                        <a:pt x="476" y="1241"/>
                      </a:lnTo>
                      <a:lnTo>
                        <a:pt x="522" y="1244"/>
                      </a:lnTo>
                      <a:lnTo>
                        <a:pt x="566" y="1247"/>
                      </a:lnTo>
                      <a:lnTo>
                        <a:pt x="613" y="1247"/>
                      </a:lnTo>
                      <a:lnTo>
                        <a:pt x="657" y="1243"/>
                      </a:lnTo>
                      <a:lnTo>
                        <a:pt x="701" y="1236"/>
                      </a:lnTo>
                      <a:lnTo>
                        <a:pt x="745" y="1226"/>
                      </a:lnTo>
                      <a:lnTo>
                        <a:pt x="787" y="1211"/>
                      </a:lnTo>
                      <a:lnTo>
                        <a:pt x="826" y="1191"/>
                      </a:lnTo>
                      <a:lnTo>
                        <a:pt x="863" y="1165"/>
                      </a:lnTo>
                      <a:lnTo>
                        <a:pt x="861" y="1128"/>
                      </a:lnTo>
                      <a:lnTo>
                        <a:pt x="861" y="1091"/>
                      </a:lnTo>
                      <a:lnTo>
                        <a:pt x="861" y="1056"/>
                      </a:lnTo>
                      <a:lnTo>
                        <a:pt x="861" y="1019"/>
                      </a:lnTo>
                      <a:lnTo>
                        <a:pt x="865" y="989"/>
                      </a:lnTo>
                      <a:lnTo>
                        <a:pt x="868" y="959"/>
                      </a:lnTo>
                      <a:lnTo>
                        <a:pt x="872" y="930"/>
                      </a:lnTo>
                      <a:lnTo>
                        <a:pt x="875" y="900"/>
                      </a:lnTo>
                      <a:lnTo>
                        <a:pt x="868" y="788"/>
                      </a:lnTo>
                      <a:lnTo>
                        <a:pt x="858" y="680"/>
                      </a:lnTo>
                      <a:lnTo>
                        <a:pt x="846" y="574"/>
                      </a:lnTo>
                      <a:lnTo>
                        <a:pt x="831" y="475"/>
                      </a:lnTo>
                      <a:lnTo>
                        <a:pt x="814" y="383"/>
                      </a:lnTo>
                      <a:lnTo>
                        <a:pt x="793" y="298"/>
                      </a:lnTo>
                      <a:lnTo>
                        <a:pt x="770" y="224"/>
                      </a:lnTo>
                      <a:lnTo>
                        <a:pt x="744" y="161"/>
                      </a:lnTo>
                      <a:lnTo>
                        <a:pt x="708" y="146"/>
                      </a:lnTo>
                      <a:lnTo>
                        <a:pt x="670" y="130"/>
                      </a:lnTo>
                      <a:lnTo>
                        <a:pt x="630" y="115"/>
                      </a:lnTo>
                      <a:lnTo>
                        <a:pt x="587" y="101"/>
                      </a:lnTo>
                      <a:lnTo>
                        <a:pt x="543" y="87"/>
                      </a:lnTo>
                      <a:lnTo>
                        <a:pt x="497" y="73"/>
                      </a:lnTo>
                      <a:lnTo>
                        <a:pt x="450" y="61"/>
                      </a:lnTo>
                      <a:lnTo>
                        <a:pt x="402" y="49"/>
                      </a:lnTo>
                      <a:lnTo>
                        <a:pt x="353" y="39"/>
                      </a:lnTo>
                      <a:lnTo>
                        <a:pt x="303" y="28"/>
                      </a:lnTo>
                      <a:lnTo>
                        <a:pt x="253" y="20"/>
                      </a:lnTo>
                      <a:lnTo>
                        <a:pt x="201" y="13"/>
                      </a:lnTo>
                      <a:lnTo>
                        <a:pt x="151" y="8"/>
                      </a:lnTo>
                      <a:lnTo>
                        <a:pt x="100" y="3"/>
                      </a:lnTo>
                      <a:lnTo>
                        <a:pt x="49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a0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 flipH="1">
                  <a:off x="5919480" y="2829600"/>
                  <a:ext cx="280080" cy="366840"/>
                </a:xfrm>
                <a:custGeom>
                  <a:avLst/>
                  <a:gdLst/>
                  <a:ahLst/>
                  <a:rect l="l" t="t" r="r" b="b"/>
                  <a:pathLst>
                    <a:path w="827" h="1195">
                      <a:moveTo>
                        <a:pt x="0" y="0"/>
                      </a:moveTo>
                      <a:lnTo>
                        <a:pt x="28" y="137"/>
                      </a:lnTo>
                      <a:lnTo>
                        <a:pt x="53" y="283"/>
                      </a:lnTo>
                      <a:lnTo>
                        <a:pt x="70" y="433"/>
                      </a:lnTo>
                      <a:lnTo>
                        <a:pt x="84" y="581"/>
                      </a:lnTo>
                      <a:lnTo>
                        <a:pt x="92" y="727"/>
                      </a:lnTo>
                      <a:lnTo>
                        <a:pt x="96" y="864"/>
                      </a:lnTo>
                      <a:lnTo>
                        <a:pt x="96" y="991"/>
                      </a:lnTo>
                      <a:lnTo>
                        <a:pt x="94" y="1101"/>
                      </a:lnTo>
                      <a:lnTo>
                        <a:pt x="106" y="1097"/>
                      </a:lnTo>
                      <a:lnTo>
                        <a:pt x="118" y="1095"/>
                      </a:lnTo>
                      <a:lnTo>
                        <a:pt x="130" y="1091"/>
                      </a:lnTo>
                      <a:lnTo>
                        <a:pt x="143" y="1088"/>
                      </a:lnTo>
                      <a:lnTo>
                        <a:pt x="154" y="1084"/>
                      </a:lnTo>
                      <a:lnTo>
                        <a:pt x="166" y="1081"/>
                      </a:lnTo>
                      <a:lnTo>
                        <a:pt x="178" y="1079"/>
                      </a:lnTo>
                      <a:lnTo>
                        <a:pt x="190" y="1075"/>
                      </a:lnTo>
                      <a:lnTo>
                        <a:pt x="186" y="1091"/>
                      </a:lnTo>
                      <a:lnTo>
                        <a:pt x="184" y="1107"/>
                      </a:lnTo>
                      <a:lnTo>
                        <a:pt x="181" y="1124"/>
                      </a:lnTo>
                      <a:lnTo>
                        <a:pt x="177" y="1140"/>
                      </a:lnTo>
                      <a:lnTo>
                        <a:pt x="209" y="1141"/>
                      </a:lnTo>
                      <a:lnTo>
                        <a:pt x="245" y="1144"/>
                      </a:lnTo>
                      <a:lnTo>
                        <a:pt x="282" y="1150"/>
                      </a:lnTo>
                      <a:lnTo>
                        <a:pt x="321" y="1158"/>
                      </a:lnTo>
                      <a:lnTo>
                        <a:pt x="363" y="1165"/>
                      </a:lnTo>
                      <a:lnTo>
                        <a:pt x="405" y="1173"/>
                      </a:lnTo>
                      <a:lnTo>
                        <a:pt x="449" y="1181"/>
                      </a:lnTo>
                      <a:lnTo>
                        <a:pt x="493" y="1187"/>
                      </a:lnTo>
                      <a:lnTo>
                        <a:pt x="536" y="1193"/>
                      </a:lnTo>
                      <a:lnTo>
                        <a:pt x="580" y="1195"/>
                      </a:lnTo>
                      <a:lnTo>
                        <a:pt x="623" y="1195"/>
                      </a:lnTo>
                      <a:lnTo>
                        <a:pt x="665" y="1190"/>
                      </a:lnTo>
                      <a:lnTo>
                        <a:pt x="707" y="1182"/>
                      </a:lnTo>
                      <a:lnTo>
                        <a:pt x="746" y="1170"/>
                      </a:lnTo>
                      <a:lnTo>
                        <a:pt x="784" y="1152"/>
                      </a:lnTo>
                      <a:lnTo>
                        <a:pt x="819" y="1128"/>
                      </a:lnTo>
                      <a:lnTo>
                        <a:pt x="818" y="1090"/>
                      </a:lnTo>
                      <a:lnTo>
                        <a:pt x="818" y="1052"/>
                      </a:lnTo>
                      <a:lnTo>
                        <a:pt x="818" y="1014"/>
                      </a:lnTo>
                      <a:lnTo>
                        <a:pt x="818" y="976"/>
                      </a:lnTo>
                      <a:lnTo>
                        <a:pt x="820" y="944"/>
                      </a:lnTo>
                      <a:lnTo>
                        <a:pt x="822" y="913"/>
                      </a:lnTo>
                      <a:lnTo>
                        <a:pt x="824" y="882"/>
                      </a:lnTo>
                      <a:lnTo>
                        <a:pt x="827" y="851"/>
                      </a:lnTo>
                      <a:lnTo>
                        <a:pt x="819" y="746"/>
                      </a:lnTo>
                      <a:lnTo>
                        <a:pt x="809" y="642"/>
                      </a:lnTo>
                      <a:lnTo>
                        <a:pt x="798" y="543"/>
                      </a:lnTo>
                      <a:lnTo>
                        <a:pt x="783" y="450"/>
                      </a:lnTo>
                      <a:lnTo>
                        <a:pt x="766" y="362"/>
                      </a:lnTo>
                      <a:lnTo>
                        <a:pt x="746" y="284"/>
                      </a:lnTo>
                      <a:lnTo>
                        <a:pt x="724" y="214"/>
                      </a:lnTo>
                      <a:lnTo>
                        <a:pt x="699" y="154"/>
                      </a:lnTo>
                      <a:lnTo>
                        <a:pt x="665" y="139"/>
                      </a:lnTo>
                      <a:lnTo>
                        <a:pt x="630" y="125"/>
                      </a:lnTo>
                      <a:lnTo>
                        <a:pt x="593" y="110"/>
                      </a:lnTo>
                      <a:lnTo>
                        <a:pt x="553" y="96"/>
                      </a:lnTo>
                      <a:lnTo>
                        <a:pt x="511" y="84"/>
                      </a:lnTo>
                      <a:lnTo>
                        <a:pt x="469" y="71"/>
                      </a:lnTo>
                      <a:lnTo>
                        <a:pt x="425" y="58"/>
                      </a:lnTo>
                      <a:lnTo>
                        <a:pt x="379" y="47"/>
                      </a:lnTo>
                      <a:lnTo>
                        <a:pt x="333" y="38"/>
                      </a:lnTo>
                      <a:lnTo>
                        <a:pt x="285" y="27"/>
                      </a:lnTo>
                      <a:lnTo>
                        <a:pt x="238" y="19"/>
                      </a:lnTo>
                      <a:lnTo>
                        <a:pt x="191" y="12"/>
                      </a:lnTo>
                      <a:lnTo>
                        <a:pt x="143" y="8"/>
                      </a:lnTo>
                      <a:lnTo>
                        <a:pt x="94" y="3"/>
                      </a:lnTo>
                      <a:lnTo>
                        <a:pt x="47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2a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 flipH="1">
                  <a:off x="5920560" y="2831760"/>
                  <a:ext cx="263520" cy="351360"/>
                </a:xfrm>
                <a:custGeom>
                  <a:avLst/>
                  <a:gdLst/>
                  <a:ahLst/>
                  <a:rect l="l" t="t" r="r" b="b"/>
                  <a:pathLst>
                    <a:path w="777" h="1146">
                      <a:moveTo>
                        <a:pt x="0" y="0"/>
                      </a:moveTo>
                      <a:lnTo>
                        <a:pt x="27" y="128"/>
                      </a:lnTo>
                      <a:lnTo>
                        <a:pt x="48" y="266"/>
                      </a:lnTo>
                      <a:lnTo>
                        <a:pt x="64" y="406"/>
                      </a:lnTo>
                      <a:lnTo>
                        <a:pt x="76" y="547"/>
                      </a:lnTo>
                      <a:lnTo>
                        <a:pt x="83" y="684"/>
                      </a:lnTo>
                      <a:lnTo>
                        <a:pt x="86" y="813"/>
                      </a:lnTo>
                      <a:lnTo>
                        <a:pt x="86" y="931"/>
                      </a:lnTo>
                      <a:lnTo>
                        <a:pt x="84" y="1034"/>
                      </a:lnTo>
                      <a:lnTo>
                        <a:pt x="95" y="1030"/>
                      </a:lnTo>
                      <a:lnTo>
                        <a:pt x="107" y="1028"/>
                      </a:lnTo>
                      <a:lnTo>
                        <a:pt x="117" y="1024"/>
                      </a:lnTo>
                      <a:lnTo>
                        <a:pt x="129" y="1021"/>
                      </a:lnTo>
                      <a:lnTo>
                        <a:pt x="140" y="1019"/>
                      </a:lnTo>
                      <a:lnTo>
                        <a:pt x="152" y="1015"/>
                      </a:lnTo>
                      <a:lnTo>
                        <a:pt x="162" y="1013"/>
                      </a:lnTo>
                      <a:lnTo>
                        <a:pt x="174" y="1009"/>
                      </a:lnTo>
                      <a:lnTo>
                        <a:pt x="170" y="1024"/>
                      </a:lnTo>
                      <a:lnTo>
                        <a:pt x="168" y="1039"/>
                      </a:lnTo>
                      <a:lnTo>
                        <a:pt x="164" y="1054"/>
                      </a:lnTo>
                      <a:lnTo>
                        <a:pt x="161" y="1069"/>
                      </a:lnTo>
                      <a:lnTo>
                        <a:pt x="191" y="1070"/>
                      </a:lnTo>
                      <a:lnTo>
                        <a:pt x="224" y="1075"/>
                      </a:lnTo>
                      <a:lnTo>
                        <a:pt x="260" y="1083"/>
                      </a:lnTo>
                      <a:lnTo>
                        <a:pt x="298" y="1091"/>
                      </a:lnTo>
                      <a:lnTo>
                        <a:pt x="337" y="1102"/>
                      </a:lnTo>
                      <a:lnTo>
                        <a:pt x="379" y="1112"/>
                      </a:lnTo>
                      <a:lnTo>
                        <a:pt x="420" y="1122"/>
                      </a:lnTo>
                      <a:lnTo>
                        <a:pt x="462" y="1130"/>
                      </a:lnTo>
                      <a:lnTo>
                        <a:pt x="504" y="1138"/>
                      </a:lnTo>
                      <a:lnTo>
                        <a:pt x="547" y="1144"/>
                      </a:lnTo>
                      <a:lnTo>
                        <a:pt x="588" y="1146"/>
                      </a:lnTo>
                      <a:lnTo>
                        <a:pt x="629" y="1145"/>
                      </a:lnTo>
                      <a:lnTo>
                        <a:pt x="668" y="1141"/>
                      </a:lnTo>
                      <a:lnTo>
                        <a:pt x="705" y="1130"/>
                      </a:lnTo>
                      <a:lnTo>
                        <a:pt x="740" y="1114"/>
                      </a:lnTo>
                      <a:lnTo>
                        <a:pt x="773" y="1092"/>
                      </a:lnTo>
                      <a:lnTo>
                        <a:pt x="773" y="1052"/>
                      </a:lnTo>
                      <a:lnTo>
                        <a:pt x="773" y="1013"/>
                      </a:lnTo>
                      <a:lnTo>
                        <a:pt x="773" y="973"/>
                      </a:lnTo>
                      <a:lnTo>
                        <a:pt x="773" y="933"/>
                      </a:lnTo>
                      <a:lnTo>
                        <a:pt x="774" y="900"/>
                      </a:lnTo>
                      <a:lnTo>
                        <a:pt x="775" y="868"/>
                      </a:lnTo>
                      <a:lnTo>
                        <a:pt x="776" y="834"/>
                      </a:lnTo>
                      <a:lnTo>
                        <a:pt x="777" y="801"/>
                      </a:lnTo>
                      <a:lnTo>
                        <a:pt x="769" y="702"/>
                      </a:lnTo>
                      <a:lnTo>
                        <a:pt x="760" y="605"/>
                      </a:lnTo>
                      <a:lnTo>
                        <a:pt x="748" y="513"/>
                      </a:lnTo>
                      <a:lnTo>
                        <a:pt x="735" y="426"/>
                      </a:lnTo>
                      <a:lnTo>
                        <a:pt x="717" y="344"/>
                      </a:lnTo>
                      <a:lnTo>
                        <a:pt x="699" y="270"/>
                      </a:lnTo>
                      <a:lnTo>
                        <a:pt x="677" y="205"/>
                      </a:lnTo>
                      <a:lnTo>
                        <a:pt x="653" y="149"/>
                      </a:lnTo>
                      <a:lnTo>
                        <a:pt x="622" y="135"/>
                      </a:lnTo>
                      <a:lnTo>
                        <a:pt x="590" y="120"/>
                      </a:lnTo>
                      <a:lnTo>
                        <a:pt x="555" y="107"/>
                      </a:lnTo>
                      <a:lnTo>
                        <a:pt x="518" y="94"/>
                      </a:lnTo>
                      <a:lnTo>
                        <a:pt x="479" y="81"/>
                      </a:lnTo>
                      <a:lnTo>
                        <a:pt x="439" y="69"/>
                      </a:lnTo>
                      <a:lnTo>
                        <a:pt x="397" y="57"/>
                      </a:lnTo>
                      <a:lnTo>
                        <a:pt x="356" y="46"/>
                      </a:lnTo>
                      <a:lnTo>
                        <a:pt x="312" y="36"/>
                      </a:lnTo>
                      <a:lnTo>
                        <a:pt x="268" y="27"/>
                      </a:lnTo>
                      <a:lnTo>
                        <a:pt x="223" y="19"/>
                      </a:lnTo>
                      <a:lnTo>
                        <a:pt x="178" y="12"/>
                      </a:lnTo>
                      <a:lnTo>
                        <a:pt x="133" y="6"/>
                      </a:lnTo>
                      <a:lnTo>
                        <a:pt x="88" y="3"/>
                      </a:lnTo>
                      <a:lnTo>
                        <a:pt x="44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8a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 flipH="1">
                  <a:off x="5921640" y="2833920"/>
                  <a:ext cx="246960" cy="338040"/>
                </a:xfrm>
                <a:custGeom>
                  <a:avLst/>
                  <a:gdLst/>
                  <a:ahLst/>
                  <a:rect l="l" t="t" r="r" b="b"/>
                  <a:pathLst>
                    <a:path w="728" h="1099">
                      <a:moveTo>
                        <a:pt x="0" y="0"/>
                      </a:moveTo>
                      <a:lnTo>
                        <a:pt x="25" y="119"/>
                      </a:lnTo>
                      <a:lnTo>
                        <a:pt x="45" y="247"/>
                      </a:lnTo>
                      <a:lnTo>
                        <a:pt x="59" y="380"/>
                      </a:lnTo>
                      <a:lnTo>
                        <a:pt x="68" y="511"/>
                      </a:lnTo>
                      <a:lnTo>
                        <a:pt x="74" y="639"/>
                      </a:lnTo>
                      <a:lnTo>
                        <a:pt x="77" y="760"/>
                      </a:lnTo>
                      <a:lnTo>
                        <a:pt x="76" y="870"/>
                      </a:lnTo>
                      <a:lnTo>
                        <a:pt x="74" y="965"/>
                      </a:lnTo>
                      <a:lnTo>
                        <a:pt x="84" y="962"/>
                      </a:lnTo>
                      <a:lnTo>
                        <a:pt x="94" y="959"/>
                      </a:lnTo>
                      <a:lnTo>
                        <a:pt x="105" y="957"/>
                      </a:lnTo>
                      <a:lnTo>
                        <a:pt x="115" y="954"/>
                      </a:lnTo>
                      <a:lnTo>
                        <a:pt x="125" y="952"/>
                      </a:lnTo>
                      <a:lnTo>
                        <a:pt x="136" y="948"/>
                      </a:lnTo>
                      <a:lnTo>
                        <a:pt x="146" y="946"/>
                      </a:lnTo>
                      <a:lnTo>
                        <a:pt x="157" y="943"/>
                      </a:lnTo>
                      <a:lnTo>
                        <a:pt x="154" y="957"/>
                      </a:lnTo>
                      <a:lnTo>
                        <a:pt x="152" y="970"/>
                      </a:lnTo>
                      <a:lnTo>
                        <a:pt x="150" y="984"/>
                      </a:lnTo>
                      <a:lnTo>
                        <a:pt x="146" y="998"/>
                      </a:lnTo>
                      <a:lnTo>
                        <a:pt x="175" y="1000"/>
                      </a:lnTo>
                      <a:lnTo>
                        <a:pt x="206" y="1006"/>
                      </a:lnTo>
                      <a:lnTo>
                        <a:pt x="239" y="1014"/>
                      </a:lnTo>
                      <a:lnTo>
                        <a:pt x="275" y="1024"/>
                      </a:lnTo>
                      <a:lnTo>
                        <a:pt x="313" y="1037"/>
                      </a:lnTo>
                      <a:lnTo>
                        <a:pt x="352" y="1050"/>
                      </a:lnTo>
                      <a:lnTo>
                        <a:pt x="391" y="1061"/>
                      </a:lnTo>
                      <a:lnTo>
                        <a:pt x="432" y="1074"/>
                      </a:lnTo>
                      <a:lnTo>
                        <a:pt x="473" y="1084"/>
                      </a:lnTo>
                      <a:lnTo>
                        <a:pt x="514" y="1092"/>
                      </a:lnTo>
                      <a:lnTo>
                        <a:pt x="553" y="1097"/>
                      </a:lnTo>
                      <a:lnTo>
                        <a:pt x="592" y="1099"/>
                      </a:lnTo>
                      <a:lnTo>
                        <a:pt x="629" y="1096"/>
                      </a:lnTo>
                      <a:lnTo>
                        <a:pt x="664" y="1088"/>
                      </a:lnTo>
                      <a:lnTo>
                        <a:pt x="697" y="1075"/>
                      </a:lnTo>
                      <a:lnTo>
                        <a:pt x="728" y="1054"/>
                      </a:lnTo>
                      <a:lnTo>
                        <a:pt x="728" y="1014"/>
                      </a:lnTo>
                      <a:lnTo>
                        <a:pt x="728" y="973"/>
                      </a:lnTo>
                      <a:lnTo>
                        <a:pt x="728" y="932"/>
                      </a:lnTo>
                      <a:lnTo>
                        <a:pt x="728" y="891"/>
                      </a:lnTo>
                      <a:lnTo>
                        <a:pt x="728" y="856"/>
                      </a:lnTo>
                      <a:lnTo>
                        <a:pt x="728" y="822"/>
                      </a:lnTo>
                      <a:lnTo>
                        <a:pt x="728" y="787"/>
                      </a:lnTo>
                      <a:lnTo>
                        <a:pt x="728" y="754"/>
                      </a:lnTo>
                      <a:lnTo>
                        <a:pt x="721" y="661"/>
                      </a:lnTo>
                      <a:lnTo>
                        <a:pt x="711" y="570"/>
                      </a:lnTo>
                      <a:lnTo>
                        <a:pt x="699" y="482"/>
                      </a:lnTo>
                      <a:lnTo>
                        <a:pt x="685" y="400"/>
                      </a:lnTo>
                      <a:lnTo>
                        <a:pt x="669" y="324"/>
                      </a:lnTo>
                      <a:lnTo>
                        <a:pt x="651" y="255"/>
                      </a:lnTo>
                      <a:lnTo>
                        <a:pt x="630" y="194"/>
                      </a:lnTo>
                      <a:lnTo>
                        <a:pt x="606" y="142"/>
                      </a:lnTo>
                      <a:lnTo>
                        <a:pt x="578" y="129"/>
                      </a:lnTo>
                      <a:lnTo>
                        <a:pt x="548" y="116"/>
                      </a:lnTo>
                      <a:lnTo>
                        <a:pt x="516" y="103"/>
                      </a:lnTo>
                      <a:lnTo>
                        <a:pt x="482" y="89"/>
                      </a:lnTo>
                      <a:lnTo>
                        <a:pt x="447" y="78"/>
                      </a:lnTo>
                      <a:lnTo>
                        <a:pt x="409" y="66"/>
                      </a:lnTo>
                      <a:lnTo>
                        <a:pt x="371" y="55"/>
                      </a:lnTo>
                      <a:lnTo>
                        <a:pt x="332" y="44"/>
                      </a:lnTo>
                      <a:lnTo>
                        <a:pt x="291" y="34"/>
                      </a:lnTo>
                      <a:lnTo>
                        <a:pt x="250" y="26"/>
                      </a:lnTo>
                      <a:lnTo>
                        <a:pt x="208" y="18"/>
                      </a:lnTo>
                      <a:lnTo>
                        <a:pt x="167" y="12"/>
                      </a:lnTo>
                      <a:lnTo>
                        <a:pt x="124" y="6"/>
                      </a:lnTo>
                      <a:lnTo>
                        <a:pt x="83" y="3"/>
                      </a:lnTo>
                      <a:lnTo>
                        <a:pt x="41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d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 flipH="1">
                  <a:off x="5921640" y="2837160"/>
                  <a:ext cx="231120" cy="322200"/>
                </a:xfrm>
                <a:custGeom>
                  <a:avLst/>
                  <a:gdLst/>
                  <a:ahLst/>
                  <a:rect l="l" t="t" r="r" b="b"/>
                  <a:pathLst>
                    <a:path w="683" h="1052">
                      <a:moveTo>
                        <a:pt x="0" y="0"/>
                      </a:moveTo>
                      <a:lnTo>
                        <a:pt x="23" y="111"/>
                      </a:lnTo>
                      <a:lnTo>
                        <a:pt x="40" y="230"/>
                      </a:lnTo>
                      <a:lnTo>
                        <a:pt x="53" y="352"/>
                      </a:lnTo>
                      <a:lnTo>
                        <a:pt x="61" y="475"/>
                      </a:lnTo>
                      <a:lnTo>
                        <a:pt x="64" y="594"/>
                      </a:lnTo>
                      <a:lnTo>
                        <a:pt x="67" y="707"/>
                      </a:lnTo>
                      <a:lnTo>
                        <a:pt x="66" y="809"/>
                      </a:lnTo>
                      <a:lnTo>
                        <a:pt x="63" y="897"/>
                      </a:lnTo>
                      <a:lnTo>
                        <a:pt x="72" y="894"/>
                      </a:lnTo>
                      <a:lnTo>
                        <a:pt x="83" y="891"/>
                      </a:lnTo>
                      <a:lnTo>
                        <a:pt x="92" y="889"/>
                      </a:lnTo>
                      <a:lnTo>
                        <a:pt x="102" y="886"/>
                      </a:lnTo>
                      <a:lnTo>
                        <a:pt x="112" y="884"/>
                      </a:lnTo>
                      <a:lnTo>
                        <a:pt x="121" y="881"/>
                      </a:lnTo>
                      <a:lnTo>
                        <a:pt x="131" y="878"/>
                      </a:lnTo>
                      <a:lnTo>
                        <a:pt x="140" y="876"/>
                      </a:lnTo>
                      <a:lnTo>
                        <a:pt x="138" y="889"/>
                      </a:lnTo>
                      <a:lnTo>
                        <a:pt x="136" y="901"/>
                      </a:lnTo>
                      <a:lnTo>
                        <a:pt x="132" y="915"/>
                      </a:lnTo>
                      <a:lnTo>
                        <a:pt x="130" y="928"/>
                      </a:lnTo>
                      <a:lnTo>
                        <a:pt x="157" y="930"/>
                      </a:lnTo>
                      <a:lnTo>
                        <a:pt x="187" y="936"/>
                      </a:lnTo>
                      <a:lnTo>
                        <a:pt x="218" y="945"/>
                      </a:lnTo>
                      <a:lnTo>
                        <a:pt x="252" y="958"/>
                      </a:lnTo>
                      <a:lnTo>
                        <a:pt x="288" y="972"/>
                      </a:lnTo>
                      <a:lnTo>
                        <a:pt x="325" y="987"/>
                      </a:lnTo>
                      <a:lnTo>
                        <a:pt x="364" y="1002"/>
                      </a:lnTo>
                      <a:lnTo>
                        <a:pt x="402" y="1015"/>
                      </a:lnTo>
                      <a:lnTo>
                        <a:pt x="441" y="1029"/>
                      </a:lnTo>
                      <a:lnTo>
                        <a:pt x="480" y="1040"/>
                      </a:lnTo>
                      <a:lnTo>
                        <a:pt x="517" y="1048"/>
                      </a:lnTo>
                      <a:lnTo>
                        <a:pt x="554" y="1052"/>
                      </a:lnTo>
                      <a:lnTo>
                        <a:pt x="590" y="1052"/>
                      </a:lnTo>
                      <a:lnTo>
                        <a:pt x="623" y="1048"/>
                      </a:lnTo>
                      <a:lnTo>
                        <a:pt x="654" y="1036"/>
                      </a:lnTo>
                      <a:lnTo>
                        <a:pt x="683" y="1018"/>
                      </a:lnTo>
                      <a:lnTo>
                        <a:pt x="683" y="975"/>
                      </a:lnTo>
                      <a:lnTo>
                        <a:pt x="683" y="932"/>
                      </a:lnTo>
                      <a:lnTo>
                        <a:pt x="683" y="891"/>
                      </a:lnTo>
                      <a:lnTo>
                        <a:pt x="683" y="848"/>
                      </a:lnTo>
                      <a:lnTo>
                        <a:pt x="682" y="813"/>
                      </a:lnTo>
                      <a:lnTo>
                        <a:pt x="681" y="776"/>
                      </a:lnTo>
                      <a:lnTo>
                        <a:pt x="680" y="740"/>
                      </a:lnTo>
                      <a:lnTo>
                        <a:pt x="678" y="703"/>
                      </a:lnTo>
                      <a:lnTo>
                        <a:pt x="670" y="616"/>
                      </a:lnTo>
                      <a:lnTo>
                        <a:pt x="661" y="532"/>
                      </a:lnTo>
                      <a:lnTo>
                        <a:pt x="650" y="451"/>
                      </a:lnTo>
                      <a:lnTo>
                        <a:pt x="636" y="374"/>
                      </a:lnTo>
                      <a:lnTo>
                        <a:pt x="621" y="304"/>
                      </a:lnTo>
                      <a:lnTo>
                        <a:pt x="602" y="240"/>
                      </a:lnTo>
                      <a:lnTo>
                        <a:pt x="583" y="184"/>
                      </a:lnTo>
                      <a:lnTo>
                        <a:pt x="560" y="136"/>
                      </a:lnTo>
                      <a:lnTo>
                        <a:pt x="534" y="123"/>
                      </a:lnTo>
                      <a:lnTo>
                        <a:pt x="507" y="110"/>
                      </a:lnTo>
                      <a:lnTo>
                        <a:pt x="478" y="99"/>
                      </a:lnTo>
                      <a:lnTo>
                        <a:pt x="447" y="86"/>
                      </a:lnTo>
                      <a:lnTo>
                        <a:pt x="413" y="74"/>
                      </a:lnTo>
                      <a:lnTo>
                        <a:pt x="379" y="63"/>
                      </a:lnTo>
                      <a:lnTo>
                        <a:pt x="343" y="53"/>
                      </a:lnTo>
                      <a:lnTo>
                        <a:pt x="307" y="42"/>
                      </a:lnTo>
                      <a:lnTo>
                        <a:pt x="269" y="33"/>
                      </a:lnTo>
                      <a:lnTo>
                        <a:pt x="231" y="25"/>
                      </a:lnTo>
                      <a:lnTo>
                        <a:pt x="192" y="18"/>
                      </a:lnTo>
                      <a:lnTo>
                        <a:pt x="154" y="11"/>
                      </a:lnTo>
                      <a:lnTo>
                        <a:pt x="115" y="7"/>
                      </a:lnTo>
                      <a:lnTo>
                        <a:pt x="76" y="3"/>
                      </a:lnTo>
                      <a:lnTo>
                        <a:pt x="38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2b7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 flipH="1">
                  <a:off x="5919840" y="2839320"/>
                  <a:ext cx="216360" cy="309240"/>
                </a:xfrm>
                <a:custGeom>
                  <a:avLst/>
                  <a:gdLst/>
                  <a:ahLst/>
                  <a:rect l="l" t="t" r="r" b="b"/>
                  <a:pathLst>
                    <a:path w="638" h="1010">
                      <a:moveTo>
                        <a:pt x="0" y="0"/>
                      </a:moveTo>
                      <a:lnTo>
                        <a:pt x="21" y="102"/>
                      </a:lnTo>
                      <a:lnTo>
                        <a:pt x="36" y="212"/>
                      </a:lnTo>
                      <a:lnTo>
                        <a:pt x="47" y="324"/>
                      </a:lnTo>
                      <a:lnTo>
                        <a:pt x="53" y="438"/>
                      </a:lnTo>
                      <a:lnTo>
                        <a:pt x="56" y="549"/>
                      </a:lnTo>
                      <a:lnTo>
                        <a:pt x="58" y="653"/>
                      </a:lnTo>
                      <a:lnTo>
                        <a:pt x="55" y="747"/>
                      </a:lnTo>
                      <a:lnTo>
                        <a:pt x="53" y="829"/>
                      </a:lnTo>
                      <a:lnTo>
                        <a:pt x="62" y="827"/>
                      </a:lnTo>
                      <a:lnTo>
                        <a:pt x="70" y="824"/>
                      </a:lnTo>
                      <a:lnTo>
                        <a:pt x="79" y="822"/>
                      </a:lnTo>
                      <a:lnTo>
                        <a:pt x="89" y="818"/>
                      </a:lnTo>
                      <a:lnTo>
                        <a:pt x="97" y="816"/>
                      </a:lnTo>
                      <a:lnTo>
                        <a:pt x="106" y="814"/>
                      </a:lnTo>
                      <a:lnTo>
                        <a:pt x="114" y="812"/>
                      </a:lnTo>
                      <a:lnTo>
                        <a:pt x="123" y="809"/>
                      </a:lnTo>
                      <a:lnTo>
                        <a:pt x="121" y="821"/>
                      </a:lnTo>
                      <a:lnTo>
                        <a:pt x="119" y="833"/>
                      </a:lnTo>
                      <a:lnTo>
                        <a:pt x="116" y="845"/>
                      </a:lnTo>
                      <a:lnTo>
                        <a:pt x="114" y="856"/>
                      </a:lnTo>
                      <a:lnTo>
                        <a:pt x="138" y="859"/>
                      </a:lnTo>
                      <a:lnTo>
                        <a:pt x="166" y="866"/>
                      </a:lnTo>
                      <a:lnTo>
                        <a:pt x="196" y="877"/>
                      </a:lnTo>
                      <a:lnTo>
                        <a:pt x="229" y="891"/>
                      </a:lnTo>
                      <a:lnTo>
                        <a:pt x="263" y="907"/>
                      </a:lnTo>
                      <a:lnTo>
                        <a:pt x="298" y="924"/>
                      </a:lnTo>
                      <a:lnTo>
                        <a:pt x="335" y="942"/>
                      </a:lnTo>
                      <a:lnTo>
                        <a:pt x="372" y="959"/>
                      </a:lnTo>
                      <a:lnTo>
                        <a:pt x="409" y="975"/>
                      </a:lnTo>
                      <a:lnTo>
                        <a:pt x="446" y="989"/>
                      </a:lnTo>
                      <a:lnTo>
                        <a:pt x="483" y="999"/>
                      </a:lnTo>
                      <a:lnTo>
                        <a:pt x="517" y="1006"/>
                      </a:lnTo>
                      <a:lnTo>
                        <a:pt x="551" y="1010"/>
                      </a:lnTo>
                      <a:lnTo>
                        <a:pt x="583" y="1006"/>
                      </a:lnTo>
                      <a:lnTo>
                        <a:pt x="612" y="997"/>
                      </a:lnTo>
                      <a:lnTo>
                        <a:pt x="638" y="981"/>
                      </a:lnTo>
                      <a:lnTo>
                        <a:pt x="638" y="937"/>
                      </a:lnTo>
                      <a:lnTo>
                        <a:pt x="638" y="893"/>
                      </a:lnTo>
                      <a:lnTo>
                        <a:pt x="638" y="850"/>
                      </a:lnTo>
                      <a:lnTo>
                        <a:pt x="638" y="806"/>
                      </a:lnTo>
                      <a:lnTo>
                        <a:pt x="636" y="768"/>
                      </a:lnTo>
                      <a:lnTo>
                        <a:pt x="634" y="730"/>
                      </a:lnTo>
                      <a:lnTo>
                        <a:pt x="632" y="692"/>
                      </a:lnTo>
                      <a:lnTo>
                        <a:pt x="630" y="654"/>
                      </a:lnTo>
                      <a:lnTo>
                        <a:pt x="622" y="573"/>
                      </a:lnTo>
                      <a:lnTo>
                        <a:pt x="613" y="495"/>
                      </a:lnTo>
                      <a:lnTo>
                        <a:pt x="601" y="419"/>
                      </a:lnTo>
                      <a:lnTo>
                        <a:pt x="587" y="349"/>
                      </a:lnTo>
                      <a:lnTo>
                        <a:pt x="572" y="284"/>
                      </a:lnTo>
                      <a:lnTo>
                        <a:pt x="555" y="224"/>
                      </a:lnTo>
                      <a:lnTo>
                        <a:pt x="536" y="172"/>
                      </a:lnTo>
                      <a:lnTo>
                        <a:pt x="514" y="129"/>
                      </a:lnTo>
                      <a:lnTo>
                        <a:pt x="491" y="117"/>
                      </a:lnTo>
                      <a:lnTo>
                        <a:pt x="467" y="104"/>
                      </a:lnTo>
                      <a:lnTo>
                        <a:pt x="440" y="93"/>
                      </a:lnTo>
                      <a:lnTo>
                        <a:pt x="411" y="81"/>
                      </a:lnTo>
                      <a:lnTo>
                        <a:pt x="381" y="71"/>
                      </a:lnTo>
                      <a:lnTo>
                        <a:pt x="350" y="60"/>
                      </a:lnTo>
                      <a:lnTo>
                        <a:pt x="317" y="50"/>
                      </a:lnTo>
                      <a:lnTo>
                        <a:pt x="283" y="40"/>
                      </a:lnTo>
                      <a:lnTo>
                        <a:pt x="249" y="32"/>
                      </a:lnTo>
                      <a:lnTo>
                        <a:pt x="213" y="24"/>
                      </a:lnTo>
                      <a:lnTo>
                        <a:pt x="177" y="17"/>
                      </a:lnTo>
                      <a:lnTo>
                        <a:pt x="142" y="11"/>
                      </a:lnTo>
                      <a:lnTo>
                        <a:pt x="106" y="7"/>
                      </a:lnTo>
                      <a:lnTo>
                        <a:pt x="70" y="3"/>
                      </a:lnTo>
                      <a:lnTo>
                        <a:pt x="35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4b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 flipH="1">
                  <a:off x="5919840" y="2840760"/>
                  <a:ext cx="199800" cy="297720"/>
                </a:xfrm>
                <a:custGeom>
                  <a:avLst/>
                  <a:gdLst/>
                  <a:ahLst/>
                  <a:rect l="l" t="t" r="r" b="b"/>
                  <a:pathLst>
                    <a:path w="593" h="967">
                      <a:moveTo>
                        <a:pt x="0" y="0"/>
                      </a:moveTo>
                      <a:lnTo>
                        <a:pt x="19" y="93"/>
                      </a:lnTo>
                      <a:lnTo>
                        <a:pt x="32" y="194"/>
                      </a:lnTo>
                      <a:lnTo>
                        <a:pt x="42" y="298"/>
                      </a:lnTo>
                      <a:lnTo>
                        <a:pt x="46" y="403"/>
                      </a:lnTo>
                      <a:lnTo>
                        <a:pt x="47" y="504"/>
                      </a:lnTo>
                      <a:lnTo>
                        <a:pt x="47" y="600"/>
                      </a:lnTo>
                      <a:lnTo>
                        <a:pt x="45" y="687"/>
                      </a:lnTo>
                      <a:lnTo>
                        <a:pt x="43" y="761"/>
                      </a:lnTo>
                      <a:lnTo>
                        <a:pt x="51" y="759"/>
                      </a:lnTo>
                      <a:lnTo>
                        <a:pt x="59" y="756"/>
                      </a:lnTo>
                      <a:lnTo>
                        <a:pt x="67" y="754"/>
                      </a:lnTo>
                      <a:lnTo>
                        <a:pt x="75" y="752"/>
                      </a:lnTo>
                      <a:lnTo>
                        <a:pt x="83" y="750"/>
                      </a:lnTo>
                      <a:lnTo>
                        <a:pt x="91" y="748"/>
                      </a:lnTo>
                      <a:lnTo>
                        <a:pt x="99" y="746"/>
                      </a:lnTo>
                      <a:lnTo>
                        <a:pt x="107" y="744"/>
                      </a:lnTo>
                      <a:lnTo>
                        <a:pt x="105" y="755"/>
                      </a:lnTo>
                      <a:lnTo>
                        <a:pt x="103" y="765"/>
                      </a:lnTo>
                      <a:lnTo>
                        <a:pt x="100" y="776"/>
                      </a:lnTo>
                      <a:lnTo>
                        <a:pt x="98" y="787"/>
                      </a:lnTo>
                      <a:lnTo>
                        <a:pt x="121" y="790"/>
                      </a:lnTo>
                      <a:lnTo>
                        <a:pt x="146" y="798"/>
                      </a:lnTo>
                      <a:lnTo>
                        <a:pt x="175" y="810"/>
                      </a:lnTo>
                      <a:lnTo>
                        <a:pt x="205" y="825"/>
                      </a:lnTo>
                      <a:lnTo>
                        <a:pt x="239" y="843"/>
                      </a:lnTo>
                      <a:lnTo>
                        <a:pt x="272" y="862"/>
                      </a:lnTo>
                      <a:lnTo>
                        <a:pt x="306" y="883"/>
                      </a:lnTo>
                      <a:lnTo>
                        <a:pt x="342" y="902"/>
                      </a:lnTo>
                      <a:lnTo>
                        <a:pt x="378" y="921"/>
                      </a:lnTo>
                      <a:lnTo>
                        <a:pt x="412" y="938"/>
                      </a:lnTo>
                      <a:lnTo>
                        <a:pt x="447" y="952"/>
                      </a:lnTo>
                      <a:lnTo>
                        <a:pt x="480" y="961"/>
                      </a:lnTo>
                      <a:lnTo>
                        <a:pt x="513" y="967"/>
                      </a:lnTo>
                      <a:lnTo>
                        <a:pt x="541" y="966"/>
                      </a:lnTo>
                      <a:lnTo>
                        <a:pt x="569" y="959"/>
                      </a:lnTo>
                      <a:lnTo>
                        <a:pt x="593" y="945"/>
                      </a:lnTo>
                      <a:lnTo>
                        <a:pt x="593" y="899"/>
                      </a:lnTo>
                      <a:lnTo>
                        <a:pt x="593" y="854"/>
                      </a:lnTo>
                      <a:lnTo>
                        <a:pt x="593" y="809"/>
                      </a:lnTo>
                      <a:lnTo>
                        <a:pt x="593" y="764"/>
                      </a:lnTo>
                      <a:lnTo>
                        <a:pt x="590" y="725"/>
                      </a:lnTo>
                      <a:lnTo>
                        <a:pt x="586" y="685"/>
                      </a:lnTo>
                      <a:lnTo>
                        <a:pt x="583" y="646"/>
                      </a:lnTo>
                      <a:lnTo>
                        <a:pt x="581" y="605"/>
                      </a:lnTo>
                      <a:lnTo>
                        <a:pt x="573" y="530"/>
                      </a:lnTo>
                      <a:lnTo>
                        <a:pt x="562" y="458"/>
                      </a:lnTo>
                      <a:lnTo>
                        <a:pt x="551" y="389"/>
                      </a:lnTo>
                      <a:lnTo>
                        <a:pt x="538" y="324"/>
                      </a:lnTo>
                      <a:lnTo>
                        <a:pt x="523" y="264"/>
                      </a:lnTo>
                      <a:lnTo>
                        <a:pt x="507" y="210"/>
                      </a:lnTo>
                      <a:lnTo>
                        <a:pt x="487" y="163"/>
                      </a:lnTo>
                      <a:lnTo>
                        <a:pt x="467" y="123"/>
                      </a:lnTo>
                      <a:lnTo>
                        <a:pt x="447" y="111"/>
                      </a:lnTo>
                      <a:lnTo>
                        <a:pt x="425" y="101"/>
                      </a:lnTo>
                      <a:lnTo>
                        <a:pt x="401" y="89"/>
                      </a:lnTo>
                      <a:lnTo>
                        <a:pt x="376" y="79"/>
                      </a:lnTo>
                      <a:lnTo>
                        <a:pt x="348" y="69"/>
                      </a:lnTo>
                      <a:lnTo>
                        <a:pt x="320" y="58"/>
                      </a:lnTo>
                      <a:lnTo>
                        <a:pt x="290" y="48"/>
                      </a:lnTo>
                      <a:lnTo>
                        <a:pt x="259" y="39"/>
                      </a:lnTo>
                      <a:lnTo>
                        <a:pt x="228" y="31"/>
                      </a:lnTo>
                      <a:lnTo>
                        <a:pt x="196" y="23"/>
                      </a:lnTo>
                      <a:lnTo>
                        <a:pt x="162" y="17"/>
                      </a:lnTo>
                      <a:lnTo>
                        <a:pt x="130" y="11"/>
                      </a:lnTo>
                      <a:lnTo>
                        <a:pt x="97" y="7"/>
                      </a:lnTo>
                      <a:lnTo>
                        <a:pt x="65" y="3"/>
                      </a:lnTo>
                      <a:lnTo>
                        <a:pt x="32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9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 flipH="1">
                  <a:off x="5919480" y="2844000"/>
                  <a:ext cx="186480" cy="283320"/>
                </a:xfrm>
                <a:custGeom>
                  <a:avLst/>
                  <a:gdLst/>
                  <a:ahLst/>
                  <a:rect l="l" t="t" r="r" b="b"/>
                  <a:pathLst>
                    <a:path w="548" h="926">
                      <a:moveTo>
                        <a:pt x="0" y="0"/>
                      </a:moveTo>
                      <a:lnTo>
                        <a:pt x="17" y="85"/>
                      </a:lnTo>
                      <a:lnTo>
                        <a:pt x="28" y="176"/>
                      </a:lnTo>
                      <a:lnTo>
                        <a:pt x="35" y="271"/>
                      </a:lnTo>
                      <a:lnTo>
                        <a:pt x="38" y="367"/>
                      </a:lnTo>
                      <a:lnTo>
                        <a:pt x="38" y="460"/>
                      </a:lnTo>
                      <a:lnTo>
                        <a:pt x="37" y="548"/>
                      </a:lnTo>
                      <a:lnTo>
                        <a:pt x="35" y="627"/>
                      </a:lnTo>
                      <a:lnTo>
                        <a:pt x="32" y="695"/>
                      </a:lnTo>
                      <a:lnTo>
                        <a:pt x="90" y="679"/>
                      </a:lnTo>
                      <a:lnTo>
                        <a:pt x="83" y="718"/>
                      </a:lnTo>
                      <a:lnTo>
                        <a:pt x="104" y="722"/>
                      </a:lnTo>
                      <a:lnTo>
                        <a:pt x="127" y="730"/>
                      </a:lnTo>
                      <a:lnTo>
                        <a:pt x="153" y="744"/>
                      </a:lnTo>
                      <a:lnTo>
                        <a:pt x="182" y="760"/>
                      </a:lnTo>
                      <a:lnTo>
                        <a:pt x="213" y="780"/>
                      </a:lnTo>
                      <a:lnTo>
                        <a:pt x="245" y="801"/>
                      </a:lnTo>
                      <a:lnTo>
                        <a:pt x="279" y="824"/>
                      </a:lnTo>
                      <a:lnTo>
                        <a:pt x="312" y="846"/>
                      </a:lnTo>
                      <a:lnTo>
                        <a:pt x="346" y="867"/>
                      </a:lnTo>
                      <a:lnTo>
                        <a:pt x="379" y="886"/>
                      </a:lnTo>
                      <a:lnTo>
                        <a:pt x="413" y="903"/>
                      </a:lnTo>
                      <a:lnTo>
                        <a:pt x="444" y="915"/>
                      </a:lnTo>
                      <a:lnTo>
                        <a:pt x="474" y="923"/>
                      </a:lnTo>
                      <a:lnTo>
                        <a:pt x="501" y="926"/>
                      </a:lnTo>
                      <a:lnTo>
                        <a:pt x="527" y="921"/>
                      </a:lnTo>
                      <a:lnTo>
                        <a:pt x="548" y="908"/>
                      </a:lnTo>
                      <a:lnTo>
                        <a:pt x="547" y="724"/>
                      </a:lnTo>
                      <a:lnTo>
                        <a:pt x="531" y="555"/>
                      </a:lnTo>
                      <a:lnTo>
                        <a:pt x="523" y="487"/>
                      </a:lnTo>
                      <a:lnTo>
                        <a:pt x="513" y="420"/>
                      </a:lnTo>
                      <a:lnTo>
                        <a:pt x="502" y="358"/>
                      </a:lnTo>
                      <a:lnTo>
                        <a:pt x="490" y="299"/>
                      </a:lnTo>
                      <a:lnTo>
                        <a:pt x="475" y="244"/>
                      </a:lnTo>
                      <a:lnTo>
                        <a:pt x="459" y="195"/>
                      </a:lnTo>
                      <a:lnTo>
                        <a:pt x="440" y="153"/>
                      </a:lnTo>
                      <a:lnTo>
                        <a:pt x="421" y="116"/>
                      </a:lnTo>
                      <a:lnTo>
                        <a:pt x="403" y="106"/>
                      </a:lnTo>
                      <a:lnTo>
                        <a:pt x="385" y="95"/>
                      </a:lnTo>
                      <a:lnTo>
                        <a:pt x="363" y="85"/>
                      </a:lnTo>
                      <a:lnTo>
                        <a:pt x="341" y="75"/>
                      </a:lnTo>
                      <a:lnTo>
                        <a:pt x="316" y="65"/>
                      </a:lnTo>
                      <a:lnTo>
                        <a:pt x="290" y="55"/>
                      </a:lnTo>
                      <a:lnTo>
                        <a:pt x="264" y="46"/>
                      </a:lnTo>
                      <a:lnTo>
                        <a:pt x="235" y="38"/>
                      </a:lnTo>
                      <a:lnTo>
                        <a:pt x="206" y="30"/>
                      </a:lnTo>
                      <a:lnTo>
                        <a:pt x="178" y="23"/>
                      </a:lnTo>
                      <a:lnTo>
                        <a:pt x="148" y="16"/>
                      </a:lnTo>
                      <a:lnTo>
                        <a:pt x="118" y="10"/>
                      </a:lnTo>
                      <a:lnTo>
                        <a:pt x="88" y="5"/>
                      </a:lnTo>
                      <a:lnTo>
                        <a:pt x="58" y="2"/>
                      </a:lnTo>
                      <a:lnTo>
                        <a:pt x="29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 flipH="1">
                  <a:off x="5929560" y="2866320"/>
                  <a:ext cx="348480" cy="405000"/>
                </a:xfrm>
                <a:custGeom>
                  <a:avLst/>
                  <a:gdLst/>
                  <a:ahLst/>
                  <a:rect l="l" t="t" r="r" b="b"/>
                  <a:pathLst>
                    <a:path w="1028" h="1320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49" y="2"/>
                      </a:lnTo>
                      <a:lnTo>
                        <a:pt x="73" y="3"/>
                      </a:lnTo>
                      <a:lnTo>
                        <a:pt x="97" y="3"/>
                      </a:lnTo>
                      <a:lnTo>
                        <a:pt x="122" y="4"/>
                      </a:lnTo>
                      <a:lnTo>
                        <a:pt x="147" y="5"/>
                      </a:lnTo>
                      <a:lnTo>
                        <a:pt x="172" y="7"/>
                      </a:lnTo>
                      <a:lnTo>
                        <a:pt x="197" y="8"/>
                      </a:lnTo>
                      <a:lnTo>
                        <a:pt x="223" y="11"/>
                      </a:lnTo>
                      <a:lnTo>
                        <a:pt x="248" y="12"/>
                      </a:lnTo>
                      <a:lnTo>
                        <a:pt x="274" y="14"/>
                      </a:lnTo>
                      <a:lnTo>
                        <a:pt x="300" y="16"/>
                      </a:lnTo>
                      <a:lnTo>
                        <a:pt x="326" y="19"/>
                      </a:lnTo>
                      <a:lnTo>
                        <a:pt x="353" y="21"/>
                      </a:lnTo>
                      <a:lnTo>
                        <a:pt x="380" y="25"/>
                      </a:lnTo>
                      <a:lnTo>
                        <a:pt x="408" y="27"/>
                      </a:lnTo>
                      <a:lnTo>
                        <a:pt x="436" y="30"/>
                      </a:lnTo>
                      <a:lnTo>
                        <a:pt x="463" y="34"/>
                      </a:lnTo>
                      <a:lnTo>
                        <a:pt x="492" y="37"/>
                      </a:lnTo>
                      <a:lnTo>
                        <a:pt x="521" y="42"/>
                      </a:lnTo>
                      <a:lnTo>
                        <a:pt x="550" y="45"/>
                      </a:lnTo>
                      <a:lnTo>
                        <a:pt x="580" y="50"/>
                      </a:lnTo>
                      <a:lnTo>
                        <a:pt x="610" y="54"/>
                      </a:lnTo>
                      <a:lnTo>
                        <a:pt x="640" y="59"/>
                      </a:lnTo>
                      <a:lnTo>
                        <a:pt x="671" y="65"/>
                      </a:lnTo>
                      <a:lnTo>
                        <a:pt x="703" y="69"/>
                      </a:lnTo>
                      <a:lnTo>
                        <a:pt x="734" y="75"/>
                      </a:lnTo>
                      <a:lnTo>
                        <a:pt x="766" y="81"/>
                      </a:lnTo>
                      <a:lnTo>
                        <a:pt x="800" y="87"/>
                      </a:lnTo>
                      <a:lnTo>
                        <a:pt x="833" y="93"/>
                      </a:lnTo>
                      <a:lnTo>
                        <a:pt x="868" y="99"/>
                      </a:lnTo>
                      <a:lnTo>
                        <a:pt x="902" y="106"/>
                      </a:lnTo>
                      <a:lnTo>
                        <a:pt x="928" y="230"/>
                      </a:lnTo>
                      <a:lnTo>
                        <a:pt x="952" y="350"/>
                      </a:lnTo>
                      <a:lnTo>
                        <a:pt x="973" y="469"/>
                      </a:lnTo>
                      <a:lnTo>
                        <a:pt x="991" y="588"/>
                      </a:lnTo>
                      <a:lnTo>
                        <a:pt x="1007" y="707"/>
                      </a:lnTo>
                      <a:lnTo>
                        <a:pt x="1019" y="828"/>
                      </a:lnTo>
                      <a:lnTo>
                        <a:pt x="1025" y="952"/>
                      </a:lnTo>
                      <a:lnTo>
                        <a:pt x="1028" y="1077"/>
                      </a:lnTo>
                      <a:lnTo>
                        <a:pt x="1000" y="1085"/>
                      </a:lnTo>
                      <a:lnTo>
                        <a:pt x="971" y="1094"/>
                      </a:lnTo>
                      <a:lnTo>
                        <a:pt x="944" y="1102"/>
                      </a:lnTo>
                      <a:lnTo>
                        <a:pt x="916" y="1110"/>
                      </a:lnTo>
                      <a:lnTo>
                        <a:pt x="887" y="1119"/>
                      </a:lnTo>
                      <a:lnTo>
                        <a:pt x="860" y="1125"/>
                      </a:lnTo>
                      <a:lnTo>
                        <a:pt x="832" y="1134"/>
                      </a:lnTo>
                      <a:lnTo>
                        <a:pt x="804" y="1142"/>
                      </a:lnTo>
                      <a:lnTo>
                        <a:pt x="776" y="1149"/>
                      </a:lnTo>
                      <a:lnTo>
                        <a:pt x="748" y="1157"/>
                      </a:lnTo>
                      <a:lnTo>
                        <a:pt x="720" y="1163"/>
                      </a:lnTo>
                      <a:lnTo>
                        <a:pt x="693" y="1170"/>
                      </a:lnTo>
                      <a:lnTo>
                        <a:pt x="665" y="1178"/>
                      </a:lnTo>
                      <a:lnTo>
                        <a:pt x="636" y="1185"/>
                      </a:lnTo>
                      <a:lnTo>
                        <a:pt x="609" y="1192"/>
                      </a:lnTo>
                      <a:lnTo>
                        <a:pt x="581" y="1199"/>
                      </a:lnTo>
                      <a:lnTo>
                        <a:pt x="553" y="1206"/>
                      </a:lnTo>
                      <a:lnTo>
                        <a:pt x="526" y="1214"/>
                      </a:lnTo>
                      <a:lnTo>
                        <a:pt x="497" y="1221"/>
                      </a:lnTo>
                      <a:lnTo>
                        <a:pt x="469" y="1228"/>
                      </a:lnTo>
                      <a:lnTo>
                        <a:pt x="441" y="1235"/>
                      </a:lnTo>
                      <a:lnTo>
                        <a:pt x="414" y="1243"/>
                      </a:lnTo>
                      <a:lnTo>
                        <a:pt x="386" y="1250"/>
                      </a:lnTo>
                      <a:lnTo>
                        <a:pt x="357" y="1257"/>
                      </a:lnTo>
                      <a:lnTo>
                        <a:pt x="330" y="1265"/>
                      </a:lnTo>
                      <a:lnTo>
                        <a:pt x="302" y="1272"/>
                      </a:lnTo>
                      <a:lnTo>
                        <a:pt x="274" y="1280"/>
                      </a:lnTo>
                      <a:lnTo>
                        <a:pt x="246" y="1288"/>
                      </a:lnTo>
                      <a:lnTo>
                        <a:pt x="218" y="1296"/>
                      </a:lnTo>
                      <a:lnTo>
                        <a:pt x="190" y="1304"/>
                      </a:lnTo>
                      <a:lnTo>
                        <a:pt x="162" y="1312"/>
                      </a:lnTo>
                      <a:lnTo>
                        <a:pt x="134" y="1320"/>
                      </a:lnTo>
                      <a:lnTo>
                        <a:pt x="144" y="1284"/>
                      </a:lnTo>
                      <a:lnTo>
                        <a:pt x="149" y="1228"/>
                      </a:lnTo>
                      <a:lnTo>
                        <a:pt x="148" y="1154"/>
                      </a:lnTo>
                      <a:lnTo>
                        <a:pt x="144" y="1068"/>
                      </a:lnTo>
                      <a:lnTo>
                        <a:pt x="136" y="970"/>
                      </a:lnTo>
                      <a:lnTo>
                        <a:pt x="126" y="863"/>
                      </a:lnTo>
                      <a:lnTo>
                        <a:pt x="113" y="752"/>
                      </a:lnTo>
                      <a:lnTo>
                        <a:pt x="98" y="638"/>
                      </a:lnTo>
                      <a:lnTo>
                        <a:pt x="83" y="525"/>
                      </a:lnTo>
                      <a:lnTo>
                        <a:pt x="67" y="416"/>
                      </a:lnTo>
                      <a:lnTo>
                        <a:pt x="52" y="312"/>
                      </a:lnTo>
                      <a:lnTo>
                        <a:pt x="37" y="219"/>
                      </a:lnTo>
                      <a:lnTo>
                        <a:pt x="25" y="139"/>
                      </a:lnTo>
                      <a:lnTo>
                        <a:pt x="13" y="73"/>
                      </a:lnTo>
                      <a:lnTo>
                        <a:pt x="5" y="2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33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 flipH="1">
                  <a:off x="5943960" y="2879640"/>
                  <a:ext cx="330480" cy="378360"/>
                </a:xfrm>
                <a:custGeom>
                  <a:avLst/>
                  <a:gdLst/>
                  <a:ahLst/>
                  <a:rect l="l" t="t" r="r" b="b"/>
                  <a:pathLst>
                    <a:path w="974" h="1234">
                      <a:moveTo>
                        <a:pt x="0" y="0"/>
                      </a:moveTo>
                      <a:lnTo>
                        <a:pt x="27" y="0"/>
                      </a:lnTo>
                      <a:lnTo>
                        <a:pt x="56" y="0"/>
                      </a:lnTo>
                      <a:lnTo>
                        <a:pt x="84" y="1"/>
                      </a:lnTo>
                      <a:lnTo>
                        <a:pt x="113" y="2"/>
                      </a:lnTo>
                      <a:lnTo>
                        <a:pt x="141" y="2"/>
                      </a:lnTo>
                      <a:lnTo>
                        <a:pt x="170" y="5"/>
                      </a:lnTo>
                      <a:lnTo>
                        <a:pt x="199" y="6"/>
                      </a:lnTo>
                      <a:lnTo>
                        <a:pt x="228" y="7"/>
                      </a:lnTo>
                      <a:lnTo>
                        <a:pt x="257" y="9"/>
                      </a:lnTo>
                      <a:lnTo>
                        <a:pt x="284" y="11"/>
                      </a:lnTo>
                      <a:lnTo>
                        <a:pt x="313" y="14"/>
                      </a:lnTo>
                      <a:lnTo>
                        <a:pt x="342" y="16"/>
                      </a:lnTo>
                      <a:lnTo>
                        <a:pt x="371" y="18"/>
                      </a:lnTo>
                      <a:lnTo>
                        <a:pt x="399" y="21"/>
                      </a:lnTo>
                      <a:lnTo>
                        <a:pt x="427" y="24"/>
                      </a:lnTo>
                      <a:lnTo>
                        <a:pt x="456" y="26"/>
                      </a:lnTo>
                      <a:lnTo>
                        <a:pt x="483" y="30"/>
                      </a:lnTo>
                      <a:lnTo>
                        <a:pt x="511" y="33"/>
                      </a:lnTo>
                      <a:lnTo>
                        <a:pt x="538" y="37"/>
                      </a:lnTo>
                      <a:lnTo>
                        <a:pt x="565" y="41"/>
                      </a:lnTo>
                      <a:lnTo>
                        <a:pt x="592" y="45"/>
                      </a:lnTo>
                      <a:lnTo>
                        <a:pt x="618" y="48"/>
                      </a:lnTo>
                      <a:lnTo>
                        <a:pt x="645" y="53"/>
                      </a:lnTo>
                      <a:lnTo>
                        <a:pt x="670" y="58"/>
                      </a:lnTo>
                      <a:lnTo>
                        <a:pt x="695" y="62"/>
                      </a:lnTo>
                      <a:lnTo>
                        <a:pt x="721" y="67"/>
                      </a:lnTo>
                      <a:lnTo>
                        <a:pt x="745" y="71"/>
                      </a:lnTo>
                      <a:lnTo>
                        <a:pt x="769" y="76"/>
                      </a:lnTo>
                      <a:lnTo>
                        <a:pt x="792" y="81"/>
                      </a:lnTo>
                      <a:lnTo>
                        <a:pt x="815" y="85"/>
                      </a:lnTo>
                      <a:lnTo>
                        <a:pt x="837" y="91"/>
                      </a:lnTo>
                      <a:lnTo>
                        <a:pt x="859" y="96"/>
                      </a:lnTo>
                      <a:lnTo>
                        <a:pt x="884" y="215"/>
                      </a:lnTo>
                      <a:lnTo>
                        <a:pt x="906" y="328"/>
                      </a:lnTo>
                      <a:lnTo>
                        <a:pt x="925" y="438"/>
                      </a:lnTo>
                      <a:lnTo>
                        <a:pt x="941" y="546"/>
                      </a:lnTo>
                      <a:lnTo>
                        <a:pt x="953" y="654"/>
                      </a:lnTo>
                      <a:lnTo>
                        <a:pt x="963" y="765"/>
                      </a:lnTo>
                      <a:lnTo>
                        <a:pt x="970" y="882"/>
                      </a:lnTo>
                      <a:lnTo>
                        <a:pt x="974" y="1005"/>
                      </a:lnTo>
                      <a:lnTo>
                        <a:pt x="125" y="1234"/>
                      </a:lnTo>
                      <a:lnTo>
                        <a:pt x="123" y="1079"/>
                      </a:lnTo>
                      <a:lnTo>
                        <a:pt x="115" y="925"/>
                      </a:lnTo>
                      <a:lnTo>
                        <a:pt x="101" y="770"/>
                      </a:lnTo>
                      <a:lnTo>
                        <a:pt x="85" y="616"/>
                      </a:lnTo>
                      <a:lnTo>
                        <a:pt x="64" y="463"/>
                      </a:lnTo>
                      <a:lnTo>
                        <a:pt x="43" y="309"/>
                      </a:lnTo>
                      <a:lnTo>
                        <a:pt x="22" y="15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57a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 flipH="1">
                  <a:off x="5922720" y="3193200"/>
                  <a:ext cx="308160" cy="83520"/>
                </a:xfrm>
                <a:custGeom>
                  <a:avLst/>
                  <a:gdLst/>
                  <a:ahLst/>
                  <a:rect l="l" t="t" r="r" b="b"/>
                  <a:pathLst>
                    <a:path w="909" h="276">
                      <a:moveTo>
                        <a:pt x="0" y="246"/>
                      </a:moveTo>
                      <a:lnTo>
                        <a:pt x="909" y="0"/>
                      </a:lnTo>
                      <a:lnTo>
                        <a:pt x="901" y="17"/>
                      </a:lnTo>
                      <a:lnTo>
                        <a:pt x="0" y="276"/>
                      </a:lnTo>
                      <a:lnTo>
                        <a:pt x="0" y="246"/>
                      </a:lnTo>
                      <a:close/>
                    </a:path>
                  </a:pathLst>
                </a:custGeom>
                <a:solidFill>
                  <a:srgbClr val="ffc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 flipH="1">
                  <a:off x="6019200" y="3332520"/>
                  <a:ext cx="235800" cy="86040"/>
                </a:xfrm>
                <a:custGeom>
                  <a:avLst/>
                  <a:gdLst/>
                  <a:ahLst/>
                  <a:rect l="l" t="t" r="r" b="b"/>
                  <a:pathLst>
                    <a:path w="695" h="277">
                      <a:moveTo>
                        <a:pt x="618" y="0"/>
                      </a:moveTo>
                      <a:lnTo>
                        <a:pt x="595" y="13"/>
                      </a:lnTo>
                      <a:lnTo>
                        <a:pt x="569" y="26"/>
                      </a:lnTo>
                      <a:lnTo>
                        <a:pt x="542" y="39"/>
                      </a:lnTo>
                      <a:lnTo>
                        <a:pt x="515" y="50"/>
                      </a:lnTo>
                      <a:lnTo>
                        <a:pt x="485" y="62"/>
                      </a:lnTo>
                      <a:lnTo>
                        <a:pt x="454" y="72"/>
                      </a:lnTo>
                      <a:lnTo>
                        <a:pt x="422" y="81"/>
                      </a:lnTo>
                      <a:lnTo>
                        <a:pt x="390" y="91"/>
                      </a:lnTo>
                      <a:lnTo>
                        <a:pt x="358" y="100"/>
                      </a:lnTo>
                      <a:lnTo>
                        <a:pt x="325" y="108"/>
                      </a:lnTo>
                      <a:lnTo>
                        <a:pt x="291" y="115"/>
                      </a:lnTo>
                      <a:lnTo>
                        <a:pt x="258" y="122"/>
                      </a:lnTo>
                      <a:lnTo>
                        <a:pt x="225" y="129"/>
                      </a:lnTo>
                      <a:lnTo>
                        <a:pt x="192" y="134"/>
                      </a:lnTo>
                      <a:lnTo>
                        <a:pt x="160" y="139"/>
                      </a:lnTo>
                      <a:lnTo>
                        <a:pt x="129" y="144"/>
                      </a:lnTo>
                      <a:lnTo>
                        <a:pt x="109" y="160"/>
                      </a:lnTo>
                      <a:lnTo>
                        <a:pt x="92" y="174"/>
                      </a:lnTo>
                      <a:lnTo>
                        <a:pt x="75" y="186"/>
                      </a:lnTo>
                      <a:lnTo>
                        <a:pt x="60" y="198"/>
                      </a:lnTo>
                      <a:lnTo>
                        <a:pt x="45" y="212"/>
                      </a:lnTo>
                      <a:lnTo>
                        <a:pt x="30" y="225"/>
                      </a:lnTo>
                      <a:lnTo>
                        <a:pt x="15" y="243"/>
                      </a:lnTo>
                      <a:lnTo>
                        <a:pt x="0" y="263"/>
                      </a:lnTo>
                      <a:lnTo>
                        <a:pt x="43" y="269"/>
                      </a:lnTo>
                      <a:lnTo>
                        <a:pt x="85" y="274"/>
                      </a:lnTo>
                      <a:lnTo>
                        <a:pt x="124" y="276"/>
                      </a:lnTo>
                      <a:lnTo>
                        <a:pt x="163" y="277"/>
                      </a:lnTo>
                      <a:lnTo>
                        <a:pt x="200" y="277"/>
                      </a:lnTo>
                      <a:lnTo>
                        <a:pt x="237" y="276"/>
                      </a:lnTo>
                      <a:lnTo>
                        <a:pt x="272" y="274"/>
                      </a:lnTo>
                      <a:lnTo>
                        <a:pt x="306" y="270"/>
                      </a:lnTo>
                      <a:lnTo>
                        <a:pt x="339" y="266"/>
                      </a:lnTo>
                      <a:lnTo>
                        <a:pt x="372" y="261"/>
                      </a:lnTo>
                      <a:lnTo>
                        <a:pt x="405" y="255"/>
                      </a:lnTo>
                      <a:lnTo>
                        <a:pt x="436" y="248"/>
                      </a:lnTo>
                      <a:lnTo>
                        <a:pt x="468" y="243"/>
                      </a:lnTo>
                      <a:lnTo>
                        <a:pt x="501" y="236"/>
                      </a:lnTo>
                      <a:lnTo>
                        <a:pt x="533" y="228"/>
                      </a:lnTo>
                      <a:lnTo>
                        <a:pt x="565" y="221"/>
                      </a:lnTo>
                      <a:lnTo>
                        <a:pt x="670" y="147"/>
                      </a:lnTo>
                      <a:lnTo>
                        <a:pt x="695" y="79"/>
                      </a:lnTo>
                      <a:lnTo>
                        <a:pt x="686" y="69"/>
                      </a:lnTo>
                      <a:lnTo>
                        <a:pt x="677" y="58"/>
                      </a:lnTo>
                      <a:lnTo>
                        <a:pt x="667" y="49"/>
                      </a:lnTo>
                      <a:lnTo>
                        <a:pt x="657" y="39"/>
                      </a:lnTo>
                      <a:lnTo>
                        <a:pt x="647" y="30"/>
                      </a:lnTo>
                      <a:lnTo>
                        <a:pt x="637" y="20"/>
                      </a:lnTo>
                      <a:lnTo>
                        <a:pt x="627" y="10"/>
                      </a:lnTo>
                      <a:lnTo>
                        <a:pt x="618" y="0"/>
                      </a:lnTo>
                      <a:close/>
                    </a:path>
                  </a:pathLst>
                </a:custGeom>
                <a:solidFill>
                  <a:srgbClr val="8c4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 flipH="1">
                  <a:off x="6020280" y="3357360"/>
                  <a:ext cx="276840" cy="78120"/>
                </a:xfrm>
                <a:custGeom>
                  <a:avLst/>
                  <a:gdLst/>
                  <a:ahLst/>
                  <a:rect l="l" t="t" r="r" b="b"/>
                  <a:pathLst>
                    <a:path w="819" h="254">
                      <a:moveTo>
                        <a:pt x="626" y="151"/>
                      </a:moveTo>
                      <a:lnTo>
                        <a:pt x="643" y="143"/>
                      </a:lnTo>
                      <a:lnTo>
                        <a:pt x="660" y="135"/>
                      </a:lnTo>
                      <a:lnTo>
                        <a:pt x="675" y="127"/>
                      </a:lnTo>
                      <a:lnTo>
                        <a:pt x="690" y="119"/>
                      </a:lnTo>
                      <a:lnTo>
                        <a:pt x="704" y="110"/>
                      </a:lnTo>
                      <a:lnTo>
                        <a:pt x="717" y="104"/>
                      </a:lnTo>
                      <a:lnTo>
                        <a:pt x="729" y="96"/>
                      </a:lnTo>
                      <a:lnTo>
                        <a:pt x="741" y="87"/>
                      </a:lnTo>
                      <a:lnTo>
                        <a:pt x="752" y="78"/>
                      </a:lnTo>
                      <a:lnTo>
                        <a:pt x="763" y="69"/>
                      </a:lnTo>
                      <a:lnTo>
                        <a:pt x="773" y="60"/>
                      </a:lnTo>
                      <a:lnTo>
                        <a:pt x="782" y="49"/>
                      </a:lnTo>
                      <a:lnTo>
                        <a:pt x="792" y="39"/>
                      </a:lnTo>
                      <a:lnTo>
                        <a:pt x="801" y="26"/>
                      </a:lnTo>
                      <a:lnTo>
                        <a:pt x="810" y="14"/>
                      </a:lnTo>
                      <a:lnTo>
                        <a:pt x="819" y="0"/>
                      </a:lnTo>
                      <a:lnTo>
                        <a:pt x="819" y="98"/>
                      </a:lnTo>
                      <a:lnTo>
                        <a:pt x="807" y="113"/>
                      </a:lnTo>
                      <a:lnTo>
                        <a:pt x="793" y="127"/>
                      </a:lnTo>
                      <a:lnTo>
                        <a:pt x="780" y="140"/>
                      </a:lnTo>
                      <a:lnTo>
                        <a:pt x="766" y="152"/>
                      </a:lnTo>
                      <a:lnTo>
                        <a:pt x="751" y="162"/>
                      </a:lnTo>
                      <a:lnTo>
                        <a:pt x="737" y="172"/>
                      </a:lnTo>
                      <a:lnTo>
                        <a:pt x="723" y="181"/>
                      </a:lnTo>
                      <a:lnTo>
                        <a:pt x="706" y="189"/>
                      </a:lnTo>
                      <a:lnTo>
                        <a:pt x="690" y="197"/>
                      </a:lnTo>
                      <a:lnTo>
                        <a:pt x="674" y="203"/>
                      </a:lnTo>
                      <a:lnTo>
                        <a:pt x="657" y="210"/>
                      </a:lnTo>
                      <a:lnTo>
                        <a:pt x="640" y="215"/>
                      </a:lnTo>
                      <a:lnTo>
                        <a:pt x="621" y="221"/>
                      </a:lnTo>
                      <a:lnTo>
                        <a:pt x="603" y="226"/>
                      </a:lnTo>
                      <a:lnTo>
                        <a:pt x="583" y="231"/>
                      </a:lnTo>
                      <a:lnTo>
                        <a:pt x="564" y="236"/>
                      </a:lnTo>
                      <a:lnTo>
                        <a:pt x="532" y="241"/>
                      </a:lnTo>
                      <a:lnTo>
                        <a:pt x="500" y="244"/>
                      </a:lnTo>
                      <a:lnTo>
                        <a:pt x="467" y="248"/>
                      </a:lnTo>
                      <a:lnTo>
                        <a:pt x="433" y="251"/>
                      </a:lnTo>
                      <a:lnTo>
                        <a:pt x="399" y="253"/>
                      </a:lnTo>
                      <a:lnTo>
                        <a:pt x="364" y="254"/>
                      </a:lnTo>
                      <a:lnTo>
                        <a:pt x="330" y="254"/>
                      </a:lnTo>
                      <a:lnTo>
                        <a:pt x="294" y="254"/>
                      </a:lnTo>
                      <a:lnTo>
                        <a:pt x="257" y="252"/>
                      </a:lnTo>
                      <a:lnTo>
                        <a:pt x="221" y="250"/>
                      </a:lnTo>
                      <a:lnTo>
                        <a:pt x="185" y="246"/>
                      </a:lnTo>
                      <a:lnTo>
                        <a:pt x="148" y="241"/>
                      </a:lnTo>
                      <a:lnTo>
                        <a:pt x="111" y="235"/>
                      </a:lnTo>
                      <a:lnTo>
                        <a:pt x="74" y="227"/>
                      </a:lnTo>
                      <a:lnTo>
                        <a:pt x="37" y="218"/>
                      </a:lnTo>
                      <a:lnTo>
                        <a:pt x="0" y="207"/>
                      </a:lnTo>
                      <a:lnTo>
                        <a:pt x="7" y="158"/>
                      </a:lnTo>
                      <a:lnTo>
                        <a:pt x="50" y="165"/>
                      </a:lnTo>
                      <a:lnTo>
                        <a:pt x="91" y="170"/>
                      </a:lnTo>
                      <a:lnTo>
                        <a:pt x="130" y="175"/>
                      </a:lnTo>
                      <a:lnTo>
                        <a:pt x="170" y="178"/>
                      </a:lnTo>
                      <a:lnTo>
                        <a:pt x="208" y="181"/>
                      </a:lnTo>
                      <a:lnTo>
                        <a:pt x="244" y="183"/>
                      </a:lnTo>
                      <a:lnTo>
                        <a:pt x="281" y="183"/>
                      </a:lnTo>
                      <a:lnTo>
                        <a:pt x="317" y="183"/>
                      </a:lnTo>
                      <a:lnTo>
                        <a:pt x="354" y="182"/>
                      </a:lnTo>
                      <a:lnTo>
                        <a:pt x="391" y="180"/>
                      </a:lnTo>
                      <a:lnTo>
                        <a:pt x="428" y="176"/>
                      </a:lnTo>
                      <a:lnTo>
                        <a:pt x="464" y="173"/>
                      </a:lnTo>
                      <a:lnTo>
                        <a:pt x="504" y="168"/>
                      </a:lnTo>
                      <a:lnTo>
                        <a:pt x="543" y="163"/>
                      </a:lnTo>
                      <a:lnTo>
                        <a:pt x="583" y="158"/>
                      </a:lnTo>
                      <a:lnTo>
                        <a:pt x="626" y="151"/>
                      </a:lnTo>
                      <a:close/>
                    </a:path>
                  </a:pathLst>
                </a:custGeom>
                <a:solidFill>
                  <a:srgbClr val="8c4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 flipH="1">
                  <a:off x="6027840" y="3370680"/>
                  <a:ext cx="128160" cy="64440"/>
                </a:xfrm>
                <a:custGeom>
                  <a:avLst/>
                  <a:gdLst/>
                  <a:ahLst/>
                  <a:rect l="l" t="t" r="r" b="b"/>
                  <a:pathLst>
                    <a:path w="379" h="211">
                      <a:moveTo>
                        <a:pt x="323" y="53"/>
                      </a:moveTo>
                      <a:lnTo>
                        <a:pt x="376" y="0"/>
                      </a:lnTo>
                      <a:lnTo>
                        <a:pt x="379" y="70"/>
                      </a:lnTo>
                      <a:lnTo>
                        <a:pt x="336" y="114"/>
                      </a:lnTo>
                      <a:lnTo>
                        <a:pt x="315" y="125"/>
                      </a:lnTo>
                      <a:lnTo>
                        <a:pt x="295" y="135"/>
                      </a:lnTo>
                      <a:lnTo>
                        <a:pt x="276" y="144"/>
                      </a:lnTo>
                      <a:lnTo>
                        <a:pt x="255" y="152"/>
                      </a:lnTo>
                      <a:lnTo>
                        <a:pt x="235" y="160"/>
                      </a:lnTo>
                      <a:lnTo>
                        <a:pt x="216" y="166"/>
                      </a:lnTo>
                      <a:lnTo>
                        <a:pt x="195" y="171"/>
                      </a:lnTo>
                      <a:lnTo>
                        <a:pt x="175" y="177"/>
                      </a:lnTo>
                      <a:lnTo>
                        <a:pt x="155" y="182"/>
                      </a:lnTo>
                      <a:lnTo>
                        <a:pt x="134" y="186"/>
                      </a:lnTo>
                      <a:lnTo>
                        <a:pt x="113" y="191"/>
                      </a:lnTo>
                      <a:lnTo>
                        <a:pt x="93" y="194"/>
                      </a:lnTo>
                      <a:lnTo>
                        <a:pt x="71" y="199"/>
                      </a:lnTo>
                      <a:lnTo>
                        <a:pt x="50" y="203"/>
                      </a:lnTo>
                      <a:lnTo>
                        <a:pt x="27" y="207"/>
                      </a:lnTo>
                      <a:lnTo>
                        <a:pt x="5" y="211"/>
                      </a:lnTo>
                      <a:lnTo>
                        <a:pt x="0" y="132"/>
                      </a:lnTo>
                      <a:lnTo>
                        <a:pt x="17" y="128"/>
                      </a:lnTo>
                      <a:lnTo>
                        <a:pt x="34" y="124"/>
                      </a:lnTo>
                      <a:lnTo>
                        <a:pt x="52" y="121"/>
                      </a:lnTo>
                      <a:lnTo>
                        <a:pt x="71" y="118"/>
                      </a:lnTo>
                      <a:lnTo>
                        <a:pt x="90" y="115"/>
                      </a:lnTo>
                      <a:lnTo>
                        <a:pt x="110" y="112"/>
                      </a:lnTo>
                      <a:lnTo>
                        <a:pt x="131" y="108"/>
                      </a:lnTo>
                      <a:lnTo>
                        <a:pt x="151" y="105"/>
                      </a:lnTo>
                      <a:lnTo>
                        <a:pt x="172" y="101"/>
                      </a:lnTo>
                      <a:lnTo>
                        <a:pt x="193" y="97"/>
                      </a:lnTo>
                      <a:lnTo>
                        <a:pt x="215" y="91"/>
                      </a:lnTo>
                      <a:lnTo>
                        <a:pt x="237" y="85"/>
                      </a:lnTo>
                      <a:lnTo>
                        <a:pt x="258" y="78"/>
                      </a:lnTo>
                      <a:lnTo>
                        <a:pt x="280" y="71"/>
                      </a:lnTo>
                      <a:lnTo>
                        <a:pt x="301" y="62"/>
                      </a:lnTo>
                      <a:lnTo>
                        <a:pt x="323" y="53"/>
                      </a:lnTo>
                      <a:close/>
                    </a:path>
                  </a:pathLst>
                </a:custGeom>
                <a:solidFill>
                  <a:srgbClr val="b76b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 flipH="1">
                  <a:off x="6041160" y="3381840"/>
                  <a:ext cx="97200" cy="50040"/>
                </a:xfrm>
                <a:custGeom>
                  <a:avLst/>
                  <a:gdLst/>
                  <a:ahLst/>
                  <a:rect l="l" t="t" r="r" b="b"/>
                  <a:pathLst>
                    <a:path w="287" h="165">
                      <a:moveTo>
                        <a:pt x="5" y="103"/>
                      </a:moveTo>
                      <a:lnTo>
                        <a:pt x="21" y="101"/>
                      </a:lnTo>
                      <a:lnTo>
                        <a:pt x="37" y="98"/>
                      </a:lnTo>
                      <a:lnTo>
                        <a:pt x="53" y="96"/>
                      </a:lnTo>
                      <a:lnTo>
                        <a:pt x="71" y="93"/>
                      </a:lnTo>
                      <a:lnTo>
                        <a:pt x="88" y="88"/>
                      </a:lnTo>
                      <a:lnTo>
                        <a:pt x="105" y="83"/>
                      </a:lnTo>
                      <a:lnTo>
                        <a:pt x="122" y="78"/>
                      </a:lnTo>
                      <a:lnTo>
                        <a:pt x="141" y="72"/>
                      </a:lnTo>
                      <a:lnTo>
                        <a:pt x="158" y="65"/>
                      </a:lnTo>
                      <a:lnTo>
                        <a:pt x="177" y="58"/>
                      </a:lnTo>
                      <a:lnTo>
                        <a:pt x="195" y="50"/>
                      </a:lnTo>
                      <a:lnTo>
                        <a:pt x="213" y="41"/>
                      </a:lnTo>
                      <a:lnTo>
                        <a:pt x="232" y="31"/>
                      </a:lnTo>
                      <a:lnTo>
                        <a:pt x="250" y="22"/>
                      </a:lnTo>
                      <a:lnTo>
                        <a:pt x="269" y="12"/>
                      </a:lnTo>
                      <a:lnTo>
                        <a:pt x="287" y="0"/>
                      </a:lnTo>
                      <a:lnTo>
                        <a:pt x="287" y="75"/>
                      </a:lnTo>
                      <a:lnTo>
                        <a:pt x="269" y="86"/>
                      </a:lnTo>
                      <a:lnTo>
                        <a:pt x="250" y="95"/>
                      </a:lnTo>
                      <a:lnTo>
                        <a:pt x="232" y="104"/>
                      </a:lnTo>
                      <a:lnTo>
                        <a:pt x="215" y="112"/>
                      </a:lnTo>
                      <a:lnTo>
                        <a:pt x="196" y="121"/>
                      </a:lnTo>
                      <a:lnTo>
                        <a:pt x="178" y="128"/>
                      </a:lnTo>
                      <a:lnTo>
                        <a:pt x="161" y="135"/>
                      </a:lnTo>
                      <a:lnTo>
                        <a:pt x="142" y="142"/>
                      </a:lnTo>
                      <a:lnTo>
                        <a:pt x="124" y="148"/>
                      </a:lnTo>
                      <a:lnTo>
                        <a:pt x="106" y="152"/>
                      </a:lnTo>
                      <a:lnTo>
                        <a:pt x="89" y="157"/>
                      </a:lnTo>
                      <a:lnTo>
                        <a:pt x="71" y="160"/>
                      </a:lnTo>
                      <a:lnTo>
                        <a:pt x="53" y="163"/>
                      </a:lnTo>
                      <a:lnTo>
                        <a:pt x="35" y="164"/>
                      </a:lnTo>
                      <a:lnTo>
                        <a:pt x="18" y="165"/>
                      </a:lnTo>
                      <a:lnTo>
                        <a:pt x="0" y="165"/>
                      </a:lnTo>
                      <a:lnTo>
                        <a:pt x="5" y="103"/>
                      </a:lnTo>
                      <a:close/>
                    </a:path>
                  </a:pathLst>
                </a:custGeom>
                <a:solidFill>
                  <a:srgbClr val="b76b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 flipH="1">
                  <a:off x="6043320" y="3384000"/>
                  <a:ext cx="91440" cy="46800"/>
                </a:xfrm>
                <a:custGeom>
                  <a:avLst/>
                  <a:gdLst/>
                  <a:ahLst/>
                  <a:rect l="l" t="t" r="r" b="b"/>
                  <a:pathLst>
                    <a:path w="269" h="158">
                      <a:moveTo>
                        <a:pt x="3" y="96"/>
                      </a:moveTo>
                      <a:lnTo>
                        <a:pt x="18" y="93"/>
                      </a:lnTo>
                      <a:lnTo>
                        <a:pt x="33" y="91"/>
                      </a:lnTo>
                      <a:lnTo>
                        <a:pt x="48" y="89"/>
                      </a:lnTo>
                      <a:lnTo>
                        <a:pt x="64" y="85"/>
                      </a:lnTo>
                      <a:lnTo>
                        <a:pt x="80" y="82"/>
                      </a:lnTo>
                      <a:lnTo>
                        <a:pt x="96" y="77"/>
                      </a:lnTo>
                      <a:lnTo>
                        <a:pt x="114" y="72"/>
                      </a:lnTo>
                      <a:lnTo>
                        <a:pt x="130" y="67"/>
                      </a:lnTo>
                      <a:lnTo>
                        <a:pt x="147" y="60"/>
                      </a:lnTo>
                      <a:lnTo>
                        <a:pt x="164" y="53"/>
                      </a:lnTo>
                      <a:lnTo>
                        <a:pt x="182" y="46"/>
                      </a:lnTo>
                      <a:lnTo>
                        <a:pt x="199" y="38"/>
                      </a:lnTo>
                      <a:lnTo>
                        <a:pt x="216" y="30"/>
                      </a:lnTo>
                      <a:lnTo>
                        <a:pt x="235" y="21"/>
                      </a:lnTo>
                      <a:lnTo>
                        <a:pt x="252" y="11"/>
                      </a:lnTo>
                      <a:lnTo>
                        <a:pt x="269" y="0"/>
                      </a:lnTo>
                      <a:lnTo>
                        <a:pt x="269" y="19"/>
                      </a:lnTo>
                      <a:lnTo>
                        <a:pt x="269" y="37"/>
                      </a:lnTo>
                      <a:lnTo>
                        <a:pt x="269" y="55"/>
                      </a:lnTo>
                      <a:lnTo>
                        <a:pt x="269" y="74"/>
                      </a:lnTo>
                      <a:lnTo>
                        <a:pt x="252" y="83"/>
                      </a:lnTo>
                      <a:lnTo>
                        <a:pt x="233" y="92"/>
                      </a:lnTo>
                      <a:lnTo>
                        <a:pt x="216" y="100"/>
                      </a:lnTo>
                      <a:lnTo>
                        <a:pt x="199" y="108"/>
                      </a:lnTo>
                      <a:lnTo>
                        <a:pt x="182" y="116"/>
                      </a:lnTo>
                      <a:lnTo>
                        <a:pt x="165" y="123"/>
                      </a:lnTo>
                      <a:lnTo>
                        <a:pt x="148" y="130"/>
                      </a:lnTo>
                      <a:lnTo>
                        <a:pt x="131" y="136"/>
                      </a:lnTo>
                      <a:lnTo>
                        <a:pt x="115" y="141"/>
                      </a:lnTo>
                      <a:lnTo>
                        <a:pt x="98" y="145"/>
                      </a:lnTo>
                      <a:lnTo>
                        <a:pt x="81" y="150"/>
                      </a:lnTo>
                      <a:lnTo>
                        <a:pt x="65" y="153"/>
                      </a:lnTo>
                      <a:lnTo>
                        <a:pt x="48" y="156"/>
                      </a:lnTo>
                      <a:lnTo>
                        <a:pt x="32" y="157"/>
                      </a:lnTo>
                      <a:lnTo>
                        <a:pt x="16" y="158"/>
                      </a:lnTo>
                      <a:lnTo>
                        <a:pt x="0" y="158"/>
                      </a:lnTo>
                      <a:lnTo>
                        <a:pt x="1" y="142"/>
                      </a:lnTo>
                      <a:lnTo>
                        <a:pt x="2" y="127"/>
                      </a:lnTo>
                      <a:lnTo>
                        <a:pt x="2" y="111"/>
                      </a:lnTo>
                      <a:lnTo>
                        <a:pt x="3" y="96"/>
                      </a:lnTo>
                      <a:close/>
                    </a:path>
                  </a:pathLst>
                </a:custGeom>
                <a:solidFill>
                  <a:srgbClr val="bc72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 flipH="1">
                  <a:off x="6047280" y="3385440"/>
                  <a:ext cx="84600" cy="45720"/>
                </a:xfrm>
                <a:custGeom>
                  <a:avLst/>
                  <a:gdLst/>
                  <a:ahLst/>
                  <a:rect l="l" t="t" r="r" b="b"/>
                  <a:pathLst>
                    <a:path w="251" h="151">
                      <a:moveTo>
                        <a:pt x="2" y="90"/>
                      </a:moveTo>
                      <a:lnTo>
                        <a:pt x="16" y="87"/>
                      </a:lnTo>
                      <a:lnTo>
                        <a:pt x="30" y="86"/>
                      </a:lnTo>
                      <a:lnTo>
                        <a:pt x="45" y="83"/>
                      </a:lnTo>
                      <a:lnTo>
                        <a:pt x="60" y="79"/>
                      </a:lnTo>
                      <a:lnTo>
                        <a:pt x="75" y="76"/>
                      </a:lnTo>
                      <a:lnTo>
                        <a:pt x="90" y="72"/>
                      </a:lnTo>
                      <a:lnTo>
                        <a:pt x="106" y="68"/>
                      </a:lnTo>
                      <a:lnTo>
                        <a:pt x="122" y="62"/>
                      </a:lnTo>
                      <a:lnTo>
                        <a:pt x="137" y="56"/>
                      </a:lnTo>
                      <a:lnTo>
                        <a:pt x="153" y="49"/>
                      </a:lnTo>
                      <a:lnTo>
                        <a:pt x="170" y="44"/>
                      </a:lnTo>
                      <a:lnTo>
                        <a:pt x="186" y="36"/>
                      </a:lnTo>
                      <a:lnTo>
                        <a:pt x="202" y="28"/>
                      </a:lnTo>
                      <a:lnTo>
                        <a:pt x="219" y="19"/>
                      </a:lnTo>
                      <a:lnTo>
                        <a:pt x="235" y="10"/>
                      </a:lnTo>
                      <a:lnTo>
                        <a:pt x="251" y="0"/>
                      </a:lnTo>
                      <a:lnTo>
                        <a:pt x="251" y="18"/>
                      </a:lnTo>
                      <a:lnTo>
                        <a:pt x="251" y="37"/>
                      </a:lnTo>
                      <a:lnTo>
                        <a:pt x="251" y="55"/>
                      </a:lnTo>
                      <a:lnTo>
                        <a:pt x="251" y="74"/>
                      </a:lnTo>
                      <a:lnTo>
                        <a:pt x="235" y="83"/>
                      </a:lnTo>
                      <a:lnTo>
                        <a:pt x="219" y="91"/>
                      </a:lnTo>
                      <a:lnTo>
                        <a:pt x="202" y="99"/>
                      </a:lnTo>
                      <a:lnTo>
                        <a:pt x="186" y="106"/>
                      </a:lnTo>
                      <a:lnTo>
                        <a:pt x="170" y="113"/>
                      </a:lnTo>
                      <a:lnTo>
                        <a:pt x="154" y="120"/>
                      </a:lnTo>
                      <a:lnTo>
                        <a:pt x="138" y="125"/>
                      </a:lnTo>
                      <a:lnTo>
                        <a:pt x="123" y="131"/>
                      </a:lnTo>
                      <a:lnTo>
                        <a:pt x="107" y="136"/>
                      </a:lnTo>
                      <a:lnTo>
                        <a:pt x="92" y="139"/>
                      </a:lnTo>
                      <a:lnTo>
                        <a:pt x="76" y="144"/>
                      </a:lnTo>
                      <a:lnTo>
                        <a:pt x="61" y="146"/>
                      </a:lnTo>
                      <a:lnTo>
                        <a:pt x="46" y="148"/>
                      </a:lnTo>
                      <a:lnTo>
                        <a:pt x="30" y="150"/>
                      </a:lnTo>
                      <a:lnTo>
                        <a:pt x="15" y="151"/>
                      </a:lnTo>
                      <a:lnTo>
                        <a:pt x="0" y="151"/>
                      </a:lnTo>
                      <a:lnTo>
                        <a:pt x="1" y="136"/>
                      </a:lnTo>
                      <a:lnTo>
                        <a:pt x="1" y="120"/>
                      </a:lnTo>
                      <a:lnTo>
                        <a:pt x="2" y="105"/>
                      </a:lnTo>
                      <a:lnTo>
                        <a:pt x="2" y="90"/>
                      </a:lnTo>
                      <a:close/>
                    </a:path>
                  </a:pathLst>
                </a:custGeom>
                <a:solidFill>
                  <a:srgbClr val="c47a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flipH="1">
                  <a:off x="6049440" y="3386160"/>
                  <a:ext cx="79560" cy="44640"/>
                </a:xfrm>
                <a:custGeom>
                  <a:avLst/>
                  <a:gdLst/>
                  <a:ahLst/>
                  <a:rect l="l" t="t" r="r" b="b"/>
                  <a:pathLst>
                    <a:path w="234" h="144">
                      <a:moveTo>
                        <a:pt x="2" y="83"/>
                      </a:moveTo>
                      <a:lnTo>
                        <a:pt x="15" y="81"/>
                      </a:lnTo>
                      <a:lnTo>
                        <a:pt x="27" y="79"/>
                      </a:lnTo>
                      <a:lnTo>
                        <a:pt x="41" y="77"/>
                      </a:lnTo>
                      <a:lnTo>
                        <a:pt x="55" y="73"/>
                      </a:lnTo>
                      <a:lnTo>
                        <a:pt x="69" y="71"/>
                      </a:lnTo>
                      <a:lnTo>
                        <a:pt x="83" y="66"/>
                      </a:lnTo>
                      <a:lnTo>
                        <a:pt x="98" y="62"/>
                      </a:lnTo>
                      <a:lnTo>
                        <a:pt x="113" y="57"/>
                      </a:lnTo>
                      <a:lnTo>
                        <a:pt x="128" y="53"/>
                      </a:lnTo>
                      <a:lnTo>
                        <a:pt x="143" y="47"/>
                      </a:lnTo>
                      <a:lnTo>
                        <a:pt x="158" y="40"/>
                      </a:lnTo>
                      <a:lnTo>
                        <a:pt x="174" y="33"/>
                      </a:lnTo>
                      <a:lnTo>
                        <a:pt x="189" y="25"/>
                      </a:lnTo>
                      <a:lnTo>
                        <a:pt x="204" y="17"/>
                      </a:lnTo>
                      <a:lnTo>
                        <a:pt x="219" y="9"/>
                      </a:lnTo>
                      <a:lnTo>
                        <a:pt x="234" y="0"/>
                      </a:lnTo>
                      <a:lnTo>
                        <a:pt x="234" y="18"/>
                      </a:lnTo>
                      <a:lnTo>
                        <a:pt x="234" y="37"/>
                      </a:lnTo>
                      <a:lnTo>
                        <a:pt x="234" y="55"/>
                      </a:lnTo>
                      <a:lnTo>
                        <a:pt x="234" y="73"/>
                      </a:lnTo>
                      <a:lnTo>
                        <a:pt x="219" y="81"/>
                      </a:lnTo>
                      <a:lnTo>
                        <a:pt x="204" y="88"/>
                      </a:lnTo>
                      <a:lnTo>
                        <a:pt x="189" y="95"/>
                      </a:lnTo>
                      <a:lnTo>
                        <a:pt x="174" y="102"/>
                      </a:lnTo>
                      <a:lnTo>
                        <a:pt x="159" y="109"/>
                      </a:lnTo>
                      <a:lnTo>
                        <a:pt x="144" y="115"/>
                      </a:lnTo>
                      <a:lnTo>
                        <a:pt x="129" y="119"/>
                      </a:lnTo>
                      <a:lnTo>
                        <a:pt x="115" y="125"/>
                      </a:lnTo>
                      <a:lnTo>
                        <a:pt x="100" y="130"/>
                      </a:lnTo>
                      <a:lnTo>
                        <a:pt x="86" y="133"/>
                      </a:lnTo>
                      <a:lnTo>
                        <a:pt x="71" y="137"/>
                      </a:lnTo>
                      <a:lnTo>
                        <a:pt x="57" y="139"/>
                      </a:lnTo>
                      <a:lnTo>
                        <a:pt x="42" y="141"/>
                      </a:lnTo>
                      <a:lnTo>
                        <a:pt x="29" y="142"/>
                      </a:lnTo>
                      <a:lnTo>
                        <a:pt x="14" y="144"/>
                      </a:lnTo>
                      <a:lnTo>
                        <a:pt x="0" y="144"/>
                      </a:lnTo>
                      <a:lnTo>
                        <a:pt x="1" y="129"/>
                      </a:lnTo>
                      <a:lnTo>
                        <a:pt x="1" y="114"/>
                      </a:lnTo>
                      <a:lnTo>
                        <a:pt x="1" y="98"/>
                      </a:lnTo>
                      <a:lnTo>
                        <a:pt x="2" y="83"/>
                      </a:lnTo>
                      <a:close/>
                    </a:path>
                  </a:pathLst>
                </a:custGeom>
                <a:solidFill>
                  <a:srgbClr val="c982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 flipH="1">
                  <a:off x="6053760" y="3388680"/>
                  <a:ext cx="73440" cy="42480"/>
                </a:xfrm>
                <a:custGeom>
                  <a:avLst/>
                  <a:gdLst/>
                  <a:ahLst/>
                  <a:rect l="l" t="t" r="r" b="b"/>
                  <a:pathLst>
                    <a:path w="214" h="139">
                      <a:moveTo>
                        <a:pt x="1" y="76"/>
                      </a:moveTo>
                      <a:lnTo>
                        <a:pt x="13" y="75"/>
                      </a:lnTo>
                      <a:lnTo>
                        <a:pt x="24" y="73"/>
                      </a:lnTo>
                      <a:lnTo>
                        <a:pt x="37" y="71"/>
                      </a:lnTo>
                      <a:lnTo>
                        <a:pt x="49" y="68"/>
                      </a:lnTo>
                      <a:lnTo>
                        <a:pt x="62" y="65"/>
                      </a:lnTo>
                      <a:lnTo>
                        <a:pt x="76" y="61"/>
                      </a:lnTo>
                      <a:lnTo>
                        <a:pt x="90" y="58"/>
                      </a:lnTo>
                      <a:lnTo>
                        <a:pt x="104" y="53"/>
                      </a:lnTo>
                      <a:lnTo>
                        <a:pt x="117" y="49"/>
                      </a:lnTo>
                      <a:lnTo>
                        <a:pt x="131" y="43"/>
                      </a:lnTo>
                      <a:lnTo>
                        <a:pt x="145" y="37"/>
                      </a:lnTo>
                      <a:lnTo>
                        <a:pt x="159" y="32"/>
                      </a:lnTo>
                      <a:lnTo>
                        <a:pt x="173" y="25"/>
                      </a:lnTo>
                      <a:lnTo>
                        <a:pt x="187" y="17"/>
                      </a:lnTo>
                      <a:lnTo>
                        <a:pt x="200" y="8"/>
                      </a:lnTo>
                      <a:lnTo>
                        <a:pt x="214" y="0"/>
                      </a:lnTo>
                      <a:lnTo>
                        <a:pt x="214" y="19"/>
                      </a:lnTo>
                      <a:lnTo>
                        <a:pt x="214" y="36"/>
                      </a:lnTo>
                      <a:lnTo>
                        <a:pt x="214" y="55"/>
                      </a:lnTo>
                      <a:lnTo>
                        <a:pt x="214" y="73"/>
                      </a:lnTo>
                      <a:lnTo>
                        <a:pt x="200" y="80"/>
                      </a:lnTo>
                      <a:lnTo>
                        <a:pt x="187" y="87"/>
                      </a:lnTo>
                      <a:lnTo>
                        <a:pt x="172" y="94"/>
                      </a:lnTo>
                      <a:lnTo>
                        <a:pt x="159" y="99"/>
                      </a:lnTo>
                      <a:lnTo>
                        <a:pt x="145" y="105"/>
                      </a:lnTo>
                      <a:lnTo>
                        <a:pt x="131" y="111"/>
                      </a:lnTo>
                      <a:lnTo>
                        <a:pt x="117" y="116"/>
                      </a:lnTo>
                      <a:lnTo>
                        <a:pt x="105" y="120"/>
                      </a:lnTo>
                      <a:lnTo>
                        <a:pt x="91" y="125"/>
                      </a:lnTo>
                      <a:lnTo>
                        <a:pt x="78" y="128"/>
                      </a:lnTo>
                      <a:lnTo>
                        <a:pt x="64" y="132"/>
                      </a:lnTo>
                      <a:lnTo>
                        <a:pt x="52" y="134"/>
                      </a:lnTo>
                      <a:lnTo>
                        <a:pt x="39" y="136"/>
                      </a:lnTo>
                      <a:lnTo>
                        <a:pt x="26" y="137"/>
                      </a:lnTo>
                      <a:lnTo>
                        <a:pt x="13" y="139"/>
                      </a:lnTo>
                      <a:lnTo>
                        <a:pt x="0" y="139"/>
                      </a:lnTo>
                      <a:lnTo>
                        <a:pt x="0" y="122"/>
                      </a:lnTo>
                      <a:lnTo>
                        <a:pt x="0" y="108"/>
                      </a:lnTo>
                      <a:lnTo>
                        <a:pt x="0" y="91"/>
                      </a:lnTo>
                      <a:lnTo>
                        <a:pt x="1" y="76"/>
                      </a:lnTo>
                      <a:close/>
                    </a:path>
                  </a:pathLst>
                </a:custGeom>
                <a:solidFill>
                  <a:srgbClr val="ce89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 flipH="1">
                  <a:off x="6056280" y="339084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197" h="132">
                      <a:moveTo>
                        <a:pt x="0" y="70"/>
                      </a:moveTo>
                      <a:lnTo>
                        <a:pt x="10" y="69"/>
                      </a:lnTo>
                      <a:lnTo>
                        <a:pt x="22" y="68"/>
                      </a:lnTo>
                      <a:lnTo>
                        <a:pt x="32" y="66"/>
                      </a:lnTo>
                      <a:lnTo>
                        <a:pt x="45" y="63"/>
                      </a:lnTo>
                      <a:lnTo>
                        <a:pt x="56" y="60"/>
                      </a:lnTo>
                      <a:lnTo>
                        <a:pt x="69" y="58"/>
                      </a:lnTo>
                      <a:lnTo>
                        <a:pt x="82" y="54"/>
                      </a:lnTo>
                      <a:lnTo>
                        <a:pt x="94" y="50"/>
                      </a:lnTo>
                      <a:lnTo>
                        <a:pt x="107" y="45"/>
                      </a:lnTo>
                      <a:lnTo>
                        <a:pt x="120" y="40"/>
                      </a:lnTo>
                      <a:lnTo>
                        <a:pt x="134" y="35"/>
                      </a:lnTo>
                      <a:lnTo>
                        <a:pt x="146" y="29"/>
                      </a:lnTo>
                      <a:lnTo>
                        <a:pt x="159" y="23"/>
                      </a:lnTo>
                      <a:lnTo>
                        <a:pt x="172" y="16"/>
                      </a:lnTo>
                      <a:lnTo>
                        <a:pt x="184" y="8"/>
                      </a:lnTo>
                      <a:lnTo>
                        <a:pt x="197" y="0"/>
                      </a:lnTo>
                      <a:lnTo>
                        <a:pt x="197" y="18"/>
                      </a:lnTo>
                      <a:lnTo>
                        <a:pt x="197" y="37"/>
                      </a:lnTo>
                      <a:lnTo>
                        <a:pt x="197" y="55"/>
                      </a:lnTo>
                      <a:lnTo>
                        <a:pt x="197" y="74"/>
                      </a:lnTo>
                      <a:lnTo>
                        <a:pt x="184" y="81"/>
                      </a:lnTo>
                      <a:lnTo>
                        <a:pt x="170" y="86"/>
                      </a:lnTo>
                      <a:lnTo>
                        <a:pt x="158" y="92"/>
                      </a:lnTo>
                      <a:lnTo>
                        <a:pt x="145" y="98"/>
                      </a:lnTo>
                      <a:lnTo>
                        <a:pt x="132" y="103"/>
                      </a:lnTo>
                      <a:lnTo>
                        <a:pt x="121" y="107"/>
                      </a:lnTo>
                      <a:lnTo>
                        <a:pt x="108" y="112"/>
                      </a:lnTo>
                      <a:lnTo>
                        <a:pt x="96" y="116"/>
                      </a:lnTo>
                      <a:lnTo>
                        <a:pt x="84" y="120"/>
                      </a:lnTo>
                      <a:lnTo>
                        <a:pt x="71" y="123"/>
                      </a:lnTo>
                      <a:lnTo>
                        <a:pt x="60" y="126"/>
                      </a:lnTo>
                      <a:lnTo>
                        <a:pt x="47" y="128"/>
                      </a:lnTo>
                      <a:lnTo>
                        <a:pt x="36" y="130"/>
                      </a:lnTo>
                      <a:lnTo>
                        <a:pt x="24" y="131"/>
                      </a:lnTo>
                      <a:lnTo>
                        <a:pt x="12" y="132"/>
                      </a:lnTo>
                      <a:lnTo>
                        <a:pt x="0" y="132"/>
                      </a:lnTo>
                      <a:lnTo>
                        <a:pt x="0" y="116"/>
                      </a:lnTo>
                      <a:lnTo>
                        <a:pt x="0" y="101"/>
                      </a:lnTo>
                      <a:lnTo>
                        <a:pt x="0" y="85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d693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 flipH="1">
                  <a:off x="6059520" y="3391920"/>
                  <a:ext cx="60120" cy="37800"/>
                </a:xfrm>
                <a:custGeom>
                  <a:avLst/>
                  <a:gdLst/>
                  <a:ahLst/>
                  <a:rect l="l" t="t" r="r" b="b"/>
                  <a:pathLst>
                    <a:path w="181" h="126">
                      <a:moveTo>
                        <a:pt x="0" y="64"/>
                      </a:moveTo>
                      <a:lnTo>
                        <a:pt x="20" y="62"/>
                      </a:lnTo>
                      <a:lnTo>
                        <a:pt x="40" y="57"/>
                      </a:lnTo>
                      <a:lnTo>
                        <a:pt x="62" y="53"/>
                      </a:lnTo>
                      <a:lnTo>
                        <a:pt x="86" y="46"/>
                      </a:lnTo>
                      <a:lnTo>
                        <a:pt x="111" y="38"/>
                      </a:lnTo>
                      <a:lnTo>
                        <a:pt x="134" y="27"/>
                      </a:lnTo>
                      <a:lnTo>
                        <a:pt x="158" y="15"/>
                      </a:lnTo>
                      <a:lnTo>
                        <a:pt x="181" y="0"/>
                      </a:lnTo>
                      <a:lnTo>
                        <a:pt x="181" y="18"/>
                      </a:lnTo>
                      <a:lnTo>
                        <a:pt x="181" y="36"/>
                      </a:lnTo>
                      <a:lnTo>
                        <a:pt x="181" y="55"/>
                      </a:lnTo>
                      <a:lnTo>
                        <a:pt x="181" y="73"/>
                      </a:lnTo>
                      <a:lnTo>
                        <a:pt x="157" y="85"/>
                      </a:lnTo>
                      <a:lnTo>
                        <a:pt x="133" y="95"/>
                      </a:lnTo>
                      <a:lnTo>
                        <a:pt x="110" y="104"/>
                      </a:lnTo>
                      <a:lnTo>
                        <a:pt x="88" y="111"/>
                      </a:lnTo>
                      <a:lnTo>
                        <a:pt x="66" y="117"/>
                      </a:lnTo>
                      <a:lnTo>
                        <a:pt x="44" y="122"/>
                      </a:lnTo>
                      <a:lnTo>
                        <a:pt x="22" y="125"/>
                      </a:lnTo>
                      <a:lnTo>
                        <a:pt x="0" y="126"/>
                      </a:lnTo>
                      <a:lnTo>
                        <a:pt x="0" y="110"/>
                      </a:lnTo>
                      <a:lnTo>
                        <a:pt x="0" y="95"/>
                      </a:lnTo>
                      <a:lnTo>
                        <a:pt x="0" y="79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db99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 flipH="1">
                  <a:off x="6063480" y="3393000"/>
                  <a:ext cx="54720" cy="36360"/>
                </a:xfrm>
                <a:custGeom>
                  <a:avLst/>
                  <a:gdLst/>
                  <a:ahLst/>
                  <a:rect l="l" t="t" r="r" b="b"/>
                  <a:pathLst>
                    <a:path w="163" h="118">
                      <a:moveTo>
                        <a:pt x="0" y="56"/>
                      </a:moveTo>
                      <a:lnTo>
                        <a:pt x="17" y="54"/>
                      </a:lnTo>
                      <a:lnTo>
                        <a:pt x="36" y="50"/>
                      </a:lnTo>
                      <a:lnTo>
                        <a:pt x="57" y="46"/>
                      </a:lnTo>
                      <a:lnTo>
                        <a:pt x="77" y="40"/>
                      </a:lnTo>
                      <a:lnTo>
                        <a:pt x="99" y="33"/>
                      </a:lnTo>
                      <a:lnTo>
                        <a:pt x="121" y="24"/>
                      </a:lnTo>
                      <a:lnTo>
                        <a:pt x="142" y="12"/>
                      </a:lnTo>
                      <a:lnTo>
                        <a:pt x="163" y="0"/>
                      </a:lnTo>
                      <a:lnTo>
                        <a:pt x="163" y="18"/>
                      </a:lnTo>
                      <a:lnTo>
                        <a:pt x="163" y="35"/>
                      </a:lnTo>
                      <a:lnTo>
                        <a:pt x="163" y="54"/>
                      </a:lnTo>
                      <a:lnTo>
                        <a:pt x="163" y="72"/>
                      </a:lnTo>
                      <a:lnTo>
                        <a:pt x="141" y="82"/>
                      </a:lnTo>
                      <a:lnTo>
                        <a:pt x="120" y="92"/>
                      </a:lnTo>
                      <a:lnTo>
                        <a:pt x="99" y="99"/>
                      </a:lnTo>
                      <a:lnTo>
                        <a:pt x="78" y="105"/>
                      </a:lnTo>
                      <a:lnTo>
                        <a:pt x="59" y="110"/>
                      </a:lnTo>
                      <a:lnTo>
                        <a:pt x="39" y="115"/>
                      </a:lnTo>
                      <a:lnTo>
                        <a:pt x="20" y="117"/>
                      </a:lnTo>
                      <a:lnTo>
                        <a:pt x="0" y="118"/>
                      </a:lnTo>
                      <a:lnTo>
                        <a:pt x="0" y="102"/>
                      </a:lnTo>
                      <a:lnTo>
                        <a:pt x="0" y="87"/>
                      </a:lnTo>
                      <a:lnTo>
                        <a:pt x="0" y="71"/>
                      </a:lnTo>
                      <a:lnTo>
                        <a:pt x="0" y="56"/>
                      </a:lnTo>
                      <a:close/>
                    </a:path>
                  </a:pathLst>
                </a:custGeom>
                <a:solidFill>
                  <a:srgbClr val="e0a0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 flipH="1">
                  <a:off x="6067080" y="3395160"/>
                  <a:ext cx="48960" cy="34560"/>
                </a:xfrm>
                <a:custGeom>
                  <a:avLst/>
                  <a:gdLst/>
                  <a:ahLst/>
                  <a:rect l="l" t="t" r="r" b="b"/>
                  <a:pathLst>
                    <a:path w="145" h="112">
                      <a:moveTo>
                        <a:pt x="0" y="51"/>
                      </a:moveTo>
                      <a:lnTo>
                        <a:pt x="15" y="49"/>
                      </a:lnTo>
                      <a:lnTo>
                        <a:pt x="31" y="46"/>
                      </a:lnTo>
                      <a:lnTo>
                        <a:pt x="50" y="42"/>
                      </a:lnTo>
                      <a:lnTo>
                        <a:pt x="69" y="36"/>
                      </a:lnTo>
                      <a:lnTo>
                        <a:pt x="89" y="30"/>
                      </a:lnTo>
                      <a:lnTo>
                        <a:pt x="108" y="22"/>
                      </a:lnTo>
                      <a:lnTo>
                        <a:pt x="127" y="12"/>
                      </a:lnTo>
                      <a:lnTo>
                        <a:pt x="145" y="0"/>
                      </a:lnTo>
                      <a:lnTo>
                        <a:pt x="145" y="19"/>
                      </a:lnTo>
                      <a:lnTo>
                        <a:pt x="145" y="36"/>
                      </a:lnTo>
                      <a:lnTo>
                        <a:pt x="145" y="53"/>
                      </a:lnTo>
                      <a:lnTo>
                        <a:pt x="145" y="72"/>
                      </a:lnTo>
                      <a:lnTo>
                        <a:pt x="126" y="81"/>
                      </a:lnTo>
                      <a:lnTo>
                        <a:pt x="106" y="88"/>
                      </a:lnTo>
                      <a:lnTo>
                        <a:pt x="88" y="95"/>
                      </a:lnTo>
                      <a:lnTo>
                        <a:pt x="70" y="100"/>
                      </a:lnTo>
                      <a:lnTo>
                        <a:pt x="53" y="105"/>
                      </a:lnTo>
                      <a:lnTo>
                        <a:pt x="36" y="109"/>
                      </a:lnTo>
                      <a:lnTo>
                        <a:pt x="19" y="111"/>
                      </a:lnTo>
                      <a:lnTo>
                        <a:pt x="1" y="112"/>
                      </a:lnTo>
                      <a:lnTo>
                        <a:pt x="0" y="97"/>
                      </a:lnTo>
                      <a:lnTo>
                        <a:pt x="0" y="81"/>
                      </a:lnTo>
                      <a:lnTo>
                        <a:pt x="0" y="66"/>
                      </a:lnTo>
                      <a:lnTo>
                        <a:pt x="0" y="51"/>
                      </a:lnTo>
                      <a:close/>
                    </a:path>
                  </a:pathLst>
                </a:custGeom>
                <a:solidFill>
                  <a:srgbClr val="e8aa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 flipH="1">
                  <a:off x="6068880" y="3397320"/>
                  <a:ext cx="44640" cy="31320"/>
                </a:xfrm>
                <a:custGeom>
                  <a:avLst/>
                  <a:gdLst/>
                  <a:ahLst/>
                  <a:rect l="l" t="t" r="r" b="b"/>
                  <a:pathLst>
                    <a:path w="129" h="105">
                      <a:moveTo>
                        <a:pt x="0" y="44"/>
                      </a:moveTo>
                      <a:lnTo>
                        <a:pt x="13" y="42"/>
                      </a:lnTo>
                      <a:lnTo>
                        <a:pt x="28" y="39"/>
                      </a:lnTo>
                      <a:lnTo>
                        <a:pt x="44" y="36"/>
                      </a:lnTo>
                      <a:lnTo>
                        <a:pt x="61" y="31"/>
                      </a:lnTo>
                      <a:lnTo>
                        <a:pt x="78" y="25"/>
                      </a:lnTo>
                      <a:lnTo>
                        <a:pt x="97" y="18"/>
                      </a:lnTo>
                      <a:lnTo>
                        <a:pt x="113" y="10"/>
                      </a:lnTo>
                      <a:lnTo>
                        <a:pt x="129" y="0"/>
                      </a:lnTo>
                      <a:lnTo>
                        <a:pt x="129" y="17"/>
                      </a:lnTo>
                      <a:lnTo>
                        <a:pt x="129" y="36"/>
                      </a:lnTo>
                      <a:lnTo>
                        <a:pt x="129" y="53"/>
                      </a:lnTo>
                      <a:lnTo>
                        <a:pt x="129" y="71"/>
                      </a:lnTo>
                      <a:lnTo>
                        <a:pt x="112" y="78"/>
                      </a:lnTo>
                      <a:lnTo>
                        <a:pt x="95" y="85"/>
                      </a:lnTo>
                      <a:lnTo>
                        <a:pt x="78" y="91"/>
                      </a:lnTo>
                      <a:lnTo>
                        <a:pt x="62" y="94"/>
                      </a:lnTo>
                      <a:lnTo>
                        <a:pt x="47" y="99"/>
                      </a:lnTo>
                      <a:lnTo>
                        <a:pt x="32" y="101"/>
                      </a:lnTo>
                      <a:lnTo>
                        <a:pt x="17" y="104"/>
                      </a:lnTo>
                      <a:lnTo>
                        <a:pt x="2" y="105"/>
                      </a:lnTo>
                      <a:lnTo>
                        <a:pt x="1" y="90"/>
                      </a:lnTo>
                      <a:lnTo>
                        <a:pt x="1" y="74"/>
                      </a:lnTo>
                      <a:lnTo>
                        <a:pt x="1" y="59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ed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 flipH="1">
                  <a:off x="6071760" y="3398760"/>
                  <a:ext cx="37800" cy="29880"/>
                </a:xfrm>
                <a:custGeom>
                  <a:avLst/>
                  <a:gdLst/>
                  <a:ahLst/>
                  <a:rect l="l" t="t" r="r" b="b"/>
                  <a:pathLst>
                    <a:path w="112" h="99">
                      <a:moveTo>
                        <a:pt x="0" y="38"/>
                      </a:moveTo>
                      <a:lnTo>
                        <a:pt x="11" y="37"/>
                      </a:lnTo>
                      <a:lnTo>
                        <a:pt x="23" y="34"/>
                      </a:lnTo>
                      <a:lnTo>
                        <a:pt x="38" y="32"/>
                      </a:lnTo>
                      <a:lnTo>
                        <a:pt x="53" y="27"/>
                      </a:lnTo>
                      <a:lnTo>
                        <a:pt x="68" y="23"/>
                      </a:lnTo>
                      <a:lnTo>
                        <a:pt x="84" y="17"/>
                      </a:lnTo>
                      <a:lnTo>
                        <a:pt x="98" y="9"/>
                      </a:lnTo>
                      <a:lnTo>
                        <a:pt x="112" y="0"/>
                      </a:lnTo>
                      <a:lnTo>
                        <a:pt x="112" y="18"/>
                      </a:lnTo>
                      <a:lnTo>
                        <a:pt x="112" y="35"/>
                      </a:lnTo>
                      <a:lnTo>
                        <a:pt x="112" y="54"/>
                      </a:lnTo>
                      <a:lnTo>
                        <a:pt x="112" y="71"/>
                      </a:lnTo>
                      <a:lnTo>
                        <a:pt x="96" y="78"/>
                      </a:lnTo>
                      <a:lnTo>
                        <a:pt x="81" y="83"/>
                      </a:lnTo>
                      <a:lnTo>
                        <a:pt x="67" y="87"/>
                      </a:lnTo>
                      <a:lnTo>
                        <a:pt x="54" y="91"/>
                      </a:lnTo>
                      <a:lnTo>
                        <a:pt x="40" y="93"/>
                      </a:lnTo>
                      <a:lnTo>
                        <a:pt x="28" y="95"/>
                      </a:lnTo>
                      <a:lnTo>
                        <a:pt x="15" y="98"/>
                      </a:lnTo>
                      <a:lnTo>
                        <a:pt x="2" y="99"/>
                      </a:lnTo>
                      <a:lnTo>
                        <a:pt x="1" y="84"/>
                      </a:lnTo>
                      <a:lnTo>
                        <a:pt x="1" y="69"/>
                      </a:lnTo>
                      <a:lnTo>
                        <a:pt x="1" y="53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f2b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 flipH="1">
                  <a:off x="6075720" y="3399840"/>
                  <a:ext cx="32400" cy="28800"/>
                </a:xfrm>
                <a:custGeom>
                  <a:avLst/>
                  <a:gdLst/>
                  <a:ahLst/>
                  <a:rect l="l" t="t" r="r" b="b"/>
                  <a:pathLst>
                    <a:path w="95" h="94">
                      <a:moveTo>
                        <a:pt x="0" y="32"/>
                      </a:moveTo>
                      <a:lnTo>
                        <a:pt x="8" y="30"/>
                      </a:lnTo>
                      <a:lnTo>
                        <a:pt x="19" y="29"/>
                      </a:lnTo>
                      <a:lnTo>
                        <a:pt x="31" y="27"/>
                      </a:lnTo>
                      <a:lnTo>
                        <a:pt x="44" y="25"/>
                      </a:lnTo>
                      <a:lnTo>
                        <a:pt x="58" y="20"/>
                      </a:lnTo>
                      <a:lnTo>
                        <a:pt x="71" y="15"/>
                      </a:lnTo>
                      <a:lnTo>
                        <a:pt x="83" y="8"/>
                      </a:lnTo>
                      <a:lnTo>
                        <a:pt x="95" y="0"/>
                      </a:lnTo>
                      <a:lnTo>
                        <a:pt x="95" y="19"/>
                      </a:lnTo>
                      <a:lnTo>
                        <a:pt x="95" y="36"/>
                      </a:lnTo>
                      <a:lnTo>
                        <a:pt x="95" y="53"/>
                      </a:lnTo>
                      <a:lnTo>
                        <a:pt x="95" y="72"/>
                      </a:lnTo>
                      <a:lnTo>
                        <a:pt x="81" y="76"/>
                      </a:lnTo>
                      <a:lnTo>
                        <a:pt x="68" y="80"/>
                      </a:lnTo>
                      <a:lnTo>
                        <a:pt x="57" y="83"/>
                      </a:lnTo>
                      <a:lnTo>
                        <a:pt x="46" y="86"/>
                      </a:lnTo>
                      <a:lnTo>
                        <a:pt x="35" y="88"/>
                      </a:lnTo>
                      <a:lnTo>
                        <a:pt x="24" y="90"/>
                      </a:lnTo>
                      <a:lnTo>
                        <a:pt x="14" y="93"/>
                      </a:lnTo>
                      <a:lnTo>
                        <a:pt x="4" y="94"/>
                      </a:lnTo>
                      <a:lnTo>
                        <a:pt x="3" y="78"/>
                      </a:lnTo>
                      <a:lnTo>
                        <a:pt x="3" y="63"/>
                      </a:lnTo>
                      <a:lnTo>
                        <a:pt x="1" y="46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f9c1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 flipH="1">
                  <a:off x="6079320" y="3402000"/>
                  <a:ext cx="26640" cy="26640"/>
                </a:xfrm>
                <a:custGeom>
                  <a:avLst/>
                  <a:gdLst/>
                  <a:ahLst/>
                  <a:rect l="l" t="t" r="r" b="b"/>
                  <a:pathLst>
                    <a:path w="78" h="87">
                      <a:moveTo>
                        <a:pt x="0" y="24"/>
                      </a:moveTo>
                      <a:lnTo>
                        <a:pt x="7" y="23"/>
                      </a:lnTo>
                      <a:lnTo>
                        <a:pt x="15" y="22"/>
                      </a:lnTo>
                      <a:lnTo>
                        <a:pt x="25" y="21"/>
                      </a:lnTo>
                      <a:lnTo>
                        <a:pt x="36" y="19"/>
                      </a:lnTo>
                      <a:lnTo>
                        <a:pt x="47" y="16"/>
                      </a:lnTo>
                      <a:lnTo>
                        <a:pt x="59" y="13"/>
                      </a:lnTo>
                      <a:lnTo>
                        <a:pt x="69" y="7"/>
                      </a:lnTo>
                      <a:lnTo>
                        <a:pt x="78" y="0"/>
                      </a:lnTo>
                      <a:lnTo>
                        <a:pt x="78" y="70"/>
                      </a:lnTo>
                      <a:lnTo>
                        <a:pt x="67" y="74"/>
                      </a:lnTo>
                      <a:lnTo>
                        <a:pt x="57" y="77"/>
                      </a:lnTo>
                      <a:lnTo>
                        <a:pt x="46" y="80"/>
                      </a:lnTo>
                      <a:lnTo>
                        <a:pt x="38" y="81"/>
                      </a:lnTo>
                      <a:lnTo>
                        <a:pt x="29" y="82"/>
                      </a:lnTo>
                      <a:lnTo>
                        <a:pt x="21" y="84"/>
                      </a:lnTo>
                      <a:lnTo>
                        <a:pt x="13" y="85"/>
                      </a:lnTo>
                      <a:lnTo>
                        <a:pt x="5" y="87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ffc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 flipH="1">
                  <a:off x="6037920" y="3344040"/>
                  <a:ext cx="141840" cy="68760"/>
                </a:xfrm>
                <a:custGeom>
                  <a:avLst/>
                  <a:gdLst/>
                  <a:ahLst/>
                  <a:rect l="l" t="t" r="r" b="b"/>
                  <a:pathLst>
                    <a:path w="415" h="227">
                      <a:moveTo>
                        <a:pt x="322" y="0"/>
                      </a:moveTo>
                      <a:lnTo>
                        <a:pt x="362" y="54"/>
                      </a:lnTo>
                      <a:lnTo>
                        <a:pt x="415" y="107"/>
                      </a:lnTo>
                      <a:lnTo>
                        <a:pt x="390" y="123"/>
                      </a:lnTo>
                      <a:lnTo>
                        <a:pt x="364" y="138"/>
                      </a:lnTo>
                      <a:lnTo>
                        <a:pt x="336" y="151"/>
                      </a:lnTo>
                      <a:lnTo>
                        <a:pt x="308" y="162"/>
                      </a:lnTo>
                      <a:lnTo>
                        <a:pt x="280" y="173"/>
                      </a:lnTo>
                      <a:lnTo>
                        <a:pt x="251" y="182"/>
                      </a:lnTo>
                      <a:lnTo>
                        <a:pt x="223" y="190"/>
                      </a:lnTo>
                      <a:lnTo>
                        <a:pt x="194" y="198"/>
                      </a:lnTo>
                      <a:lnTo>
                        <a:pt x="167" y="204"/>
                      </a:lnTo>
                      <a:lnTo>
                        <a:pt x="139" y="210"/>
                      </a:lnTo>
                      <a:lnTo>
                        <a:pt x="112" y="213"/>
                      </a:lnTo>
                      <a:lnTo>
                        <a:pt x="87" y="218"/>
                      </a:lnTo>
                      <a:lnTo>
                        <a:pt x="63" y="220"/>
                      </a:lnTo>
                      <a:lnTo>
                        <a:pt x="40" y="223"/>
                      </a:lnTo>
                      <a:lnTo>
                        <a:pt x="19" y="226"/>
                      </a:lnTo>
                      <a:lnTo>
                        <a:pt x="0" y="227"/>
                      </a:lnTo>
                      <a:lnTo>
                        <a:pt x="27" y="90"/>
                      </a:lnTo>
                      <a:lnTo>
                        <a:pt x="45" y="88"/>
                      </a:lnTo>
                      <a:lnTo>
                        <a:pt x="64" y="84"/>
                      </a:lnTo>
                      <a:lnTo>
                        <a:pt x="84" y="79"/>
                      </a:lnTo>
                      <a:lnTo>
                        <a:pt x="104" y="75"/>
                      </a:lnTo>
                      <a:lnTo>
                        <a:pt x="126" y="69"/>
                      </a:lnTo>
                      <a:lnTo>
                        <a:pt x="148" y="63"/>
                      </a:lnTo>
                      <a:lnTo>
                        <a:pt x="170" y="58"/>
                      </a:lnTo>
                      <a:lnTo>
                        <a:pt x="191" y="51"/>
                      </a:lnTo>
                      <a:lnTo>
                        <a:pt x="213" y="44"/>
                      </a:lnTo>
                      <a:lnTo>
                        <a:pt x="232" y="37"/>
                      </a:lnTo>
                      <a:lnTo>
                        <a:pt x="252" y="30"/>
                      </a:lnTo>
                      <a:lnTo>
                        <a:pt x="269" y="23"/>
                      </a:lnTo>
                      <a:lnTo>
                        <a:pt x="285" y="17"/>
                      </a:lnTo>
                      <a:lnTo>
                        <a:pt x="300" y="10"/>
                      </a:lnTo>
                      <a:lnTo>
                        <a:pt x="313" y="5"/>
                      </a:lnTo>
                      <a:lnTo>
                        <a:pt x="322" y="0"/>
                      </a:lnTo>
                      <a:close/>
                    </a:path>
                  </a:pathLst>
                </a:custGeom>
                <a:solidFill>
                  <a:srgbClr val="8c4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 flipH="1">
                  <a:off x="6040080" y="3344040"/>
                  <a:ext cx="133920" cy="68040"/>
                </a:xfrm>
                <a:custGeom>
                  <a:avLst/>
                  <a:gdLst/>
                  <a:ahLst/>
                  <a:rect l="l" t="t" r="r" b="b"/>
                  <a:pathLst>
                    <a:path w="393" h="223">
                      <a:moveTo>
                        <a:pt x="299" y="0"/>
                      </a:moveTo>
                      <a:lnTo>
                        <a:pt x="304" y="7"/>
                      </a:lnTo>
                      <a:lnTo>
                        <a:pt x="310" y="13"/>
                      </a:lnTo>
                      <a:lnTo>
                        <a:pt x="314" y="20"/>
                      </a:lnTo>
                      <a:lnTo>
                        <a:pt x="320" y="27"/>
                      </a:lnTo>
                      <a:lnTo>
                        <a:pt x="325" y="34"/>
                      </a:lnTo>
                      <a:lnTo>
                        <a:pt x="329" y="41"/>
                      </a:lnTo>
                      <a:lnTo>
                        <a:pt x="335" y="48"/>
                      </a:lnTo>
                      <a:lnTo>
                        <a:pt x="340" y="55"/>
                      </a:lnTo>
                      <a:lnTo>
                        <a:pt x="346" y="61"/>
                      </a:lnTo>
                      <a:lnTo>
                        <a:pt x="352" y="67"/>
                      </a:lnTo>
                      <a:lnTo>
                        <a:pt x="359" y="74"/>
                      </a:lnTo>
                      <a:lnTo>
                        <a:pt x="366" y="81"/>
                      </a:lnTo>
                      <a:lnTo>
                        <a:pt x="373" y="88"/>
                      </a:lnTo>
                      <a:lnTo>
                        <a:pt x="380" y="95"/>
                      </a:lnTo>
                      <a:lnTo>
                        <a:pt x="386" y="102"/>
                      </a:lnTo>
                      <a:lnTo>
                        <a:pt x="393" y="109"/>
                      </a:lnTo>
                      <a:lnTo>
                        <a:pt x="368" y="124"/>
                      </a:lnTo>
                      <a:lnTo>
                        <a:pt x="343" y="138"/>
                      </a:lnTo>
                      <a:lnTo>
                        <a:pt x="318" y="150"/>
                      </a:lnTo>
                      <a:lnTo>
                        <a:pt x="291" y="162"/>
                      </a:lnTo>
                      <a:lnTo>
                        <a:pt x="265" y="171"/>
                      </a:lnTo>
                      <a:lnTo>
                        <a:pt x="237" y="180"/>
                      </a:lnTo>
                      <a:lnTo>
                        <a:pt x="211" y="188"/>
                      </a:lnTo>
                      <a:lnTo>
                        <a:pt x="184" y="195"/>
                      </a:lnTo>
                      <a:lnTo>
                        <a:pt x="158" y="201"/>
                      </a:lnTo>
                      <a:lnTo>
                        <a:pt x="132" y="205"/>
                      </a:lnTo>
                      <a:lnTo>
                        <a:pt x="107" y="210"/>
                      </a:lnTo>
                      <a:lnTo>
                        <a:pt x="83" y="214"/>
                      </a:lnTo>
                      <a:lnTo>
                        <a:pt x="60" y="217"/>
                      </a:lnTo>
                      <a:lnTo>
                        <a:pt x="39" y="219"/>
                      </a:lnTo>
                      <a:lnTo>
                        <a:pt x="18" y="222"/>
                      </a:lnTo>
                      <a:lnTo>
                        <a:pt x="0" y="223"/>
                      </a:lnTo>
                      <a:lnTo>
                        <a:pt x="7" y="188"/>
                      </a:lnTo>
                      <a:lnTo>
                        <a:pt x="14" y="154"/>
                      </a:lnTo>
                      <a:lnTo>
                        <a:pt x="19" y="119"/>
                      </a:lnTo>
                      <a:lnTo>
                        <a:pt x="26" y="83"/>
                      </a:lnTo>
                      <a:lnTo>
                        <a:pt x="42" y="81"/>
                      </a:lnTo>
                      <a:lnTo>
                        <a:pt x="60" y="78"/>
                      </a:lnTo>
                      <a:lnTo>
                        <a:pt x="79" y="74"/>
                      </a:lnTo>
                      <a:lnTo>
                        <a:pt x="98" y="70"/>
                      </a:lnTo>
                      <a:lnTo>
                        <a:pt x="118" y="64"/>
                      </a:lnTo>
                      <a:lnTo>
                        <a:pt x="138" y="59"/>
                      </a:lnTo>
                      <a:lnTo>
                        <a:pt x="159" y="53"/>
                      </a:lnTo>
                      <a:lnTo>
                        <a:pt x="178" y="47"/>
                      </a:lnTo>
                      <a:lnTo>
                        <a:pt x="198" y="41"/>
                      </a:lnTo>
                      <a:lnTo>
                        <a:pt x="216" y="35"/>
                      </a:lnTo>
                      <a:lnTo>
                        <a:pt x="235" y="28"/>
                      </a:lnTo>
                      <a:lnTo>
                        <a:pt x="251" y="22"/>
                      </a:lnTo>
                      <a:lnTo>
                        <a:pt x="266" y="17"/>
                      </a:lnTo>
                      <a:lnTo>
                        <a:pt x="278" y="11"/>
                      </a:lnTo>
                      <a:lnTo>
                        <a:pt x="290" y="5"/>
                      </a:lnTo>
                      <a:lnTo>
                        <a:pt x="299" y="0"/>
                      </a:lnTo>
                      <a:close/>
                    </a:path>
                  </a:pathLst>
                </a:custGeom>
                <a:solidFill>
                  <a:srgbClr val="914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 flipH="1">
                  <a:off x="6041880" y="3345120"/>
                  <a:ext cx="124920" cy="66960"/>
                </a:xfrm>
                <a:custGeom>
                  <a:avLst/>
                  <a:gdLst/>
                  <a:ahLst/>
                  <a:rect l="l" t="t" r="r" b="b"/>
                  <a:pathLst>
                    <a:path w="370" h="219">
                      <a:moveTo>
                        <a:pt x="276" y="0"/>
                      </a:moveTo>
                      <a:lnTo>
                        <a:pt x="281" y="7"/>
                      </a:lnTo>
                      <a:lnTo>
                        <a:pt x="286" y="14"/>
                      </a:lnTo>
                      <a:lnTo>
                        <a:pt x="291" y="20"/>
                      </a:lnTo>
                      <a:lnTo>
                        <a:pt x="296" y="27"/>
                      </a:lnTo>
                      <a:lnTo>
                        <a:pt x="301" y="34"/>
                      </a:lnTo>
                      <a:lnTo>
                        <a:pt x="306" y="41"/>
                      </a:lnTo>
                      <a:lnTo>
                        <a:pt x="311" y="47"/>
                      </a:lnTo>
                      <a:lnTo>
                        <a:pt x="316" y="54"/>
                      </a:lnTo>
                      <a:lnTo>
                        <a:pt x="323" y="61"/>
                      </a:lnTo>
                      <a:lnTo>
                        <a:pt x="329" y="69"/>
                      </a:lnTo>
                      <a:lnTo>
                        <a:pt x="336" y="76"/>
                      </a:lnTo>
                      <a:lnTo>
                        <a:pt x="343" y="83"/>
                      </a:lnTo>
                      <a:lnTo>
                        <a:pt x="349" y="90"/>
                      </a:lnTo>
                      <a:lnTo>
                        <a:pt x="356" y="96"/>
                      </a:lnTo>
                      <a:lnTo>
                        <a:pt x="363" y="103"/>
                      </a:lnTo>
                      <a:lnTo>
                        <a:pt x="370" y="110"/>
                      </a:lnTo>
                      <a:lnTo>
                        <a:pt x="347" y="124"/>
                      </a:lnTo>
                      <a:lnTo>
                        <a:pt x="323" y="138"/>
                      </a:lnTo>
                      <a:lnTo>
                        <a:pt x="298" y="149"/>
                      </a:lnTo>
                      <a:lnTo>
                        <a:pt x="274" y="160"/>
                      </a:lnTo>
                      <a:lnTo>
                        <a:pt x="249" y="169"/>
                      </a:lnTo>
                      <a:lnTo>
                        <a:pt x="223" y="177"/>
                      </a:lnTo>
                      <a:lnTo>
                        <a:pt x="198" y="185"/>
                      </a:lnTo>
                      <a:lnTo>
                        <a:pt x="173" y="192"/>
                      </a:lnTo>
                      <a:lnTo>
                        <a:pt x="149" y="198"/>
                      </a:lnTo>
                      <a:lnTo>
                        <a:pt x="124" y="202"/>
                      </a:lnTo>
                      <a:lnTo>
                        <a:pt x="100" y="206"/>
                      </a:lnTo>
                      <a:lnTo>
                        <a:pt x="78" y="209"/>
                      </a:lnTo>
                      <a:lnTo>
                        <a:pt x="56" y="213"/>
                      </a:lnTo>
                      <a:lnTo>
                        <a:pt x="36" y="215"/>
                      </a:lnTo>
                      <a:lnTo>
                        <a:pt x="17" y="217"/>
                      </a:lnTo>
                      <a:lnTo>
                        <a:pt x="0" y="219"/>
                      </a:lnTo>
                      <a:lnTo>
                        <a:pt x="6" y="183"/>
                      </a:lnTo>
                      <a:lnTo>
                        <a:pt x="13" y="147"/>
                      </a:lnTo>
                      <a:lnTo>
                        <a:pt x="18" y="113"/>
                      </a:lnTo>
                      <a:lnTo>
                        <a:pt x="24" y="77"/>
                      </a:lnTo>
                      <a:lnTo>
                        <a:pt x="39" y="75"/>
                      </a:lnTo>
                      <a:lnTo>
                        <a:pt x="55" y="71"/>
                      </a:lnTo>
                      <a:lnTo>
                        <a:pt x="73" y="68"/>
                      </a:lnTo>
                      <a:lnTo>
                        <a:pt x="90" y="63"/>
                      </a:lnTo>
                      <a:lnTo>
                        <a:pt x="108" y="58"/>
                      </a:lnTo>
                      <a:lnTo>
                        <a:pt x="127" y="54"/>
                      </a:lnTo>
                      <a:lnTo>
                        <a:pt x="146" y="49"/>
                      </a:lnTo>
                      <a:lnTo>
                        <a:pt x="165" y="44"/>
                      </a:lnTo>
                      <a:lnTo>
                        <a:pt x="182" y="38"/>
                      </a:lnTo>
                      <a:lnTo>
                        <a:pt x="199" y="32"/>
                      </a:lnTo>
                      <a:lnTo>
                        <a:pt x="215" y="26"/>
                      </a:lnTo>
                      <a:lnTo>
                        <a:pt x="232" y="20"/>
                      </a:lnTo>
                      <a:lnTo>
                        <a:pt x="245" y="15"/>
                      </a:lnTo>
                      <a:lnTo>
                        <a:pt x="258" y="10"/>
                      </a:lnTo>
                      <a:lnTo>
                        <a:pt x="268" y="4"/>
                      </a:lnTo>
                      <a:lnTo>
                        <a:pt x="276" y="0"/>
                      </a:lnTo>
                      <a:close/>
                    </a:path>
                  </a:pathLst>
                </a:custGeom>
                <a:solidFill>
                  <a:srgbClr val="964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 flipH="1">
                  <a:off x="6043320" y="3346200"/>
                  <a:ext cx="118080" cy="65880"/>
                </a:xfrm>
                <a:custGeom>
                  <a:avLst/>
                  <a:gdLst/>
                  <a:ahLst/>
                  <a:rect l="l" t="t" r="r" b="b"/>
                  <a:pathLst>
                    <a:path w="349" h="214">
                      <a:moveTo>
                        <a:pt x="254" y="0"/>
                      </a:moveTo>
                      <a:lnTo>
                        <a:pt x="258" y="7"/>
                      </a:lnTo>
                      <a:lnTo>
                        <a:pt x="263" y="14"/>
                      </a:lnTo>
                      <a:lnTo>
                        <a:pt x="269" y="21"/>
                      </a:lnTo>
                      <a:lnTo>
                        <a:pt x="273" y="28"/>
                      </a:lnTo>
                      <a:lnTo>
                        <a:pt x="278" y="35"/>
                      </a:lnTo>
                      <a:lnTo>
                        <a:pt x="283" y="42"/>
                      </a:lnTo>
                      <a:lnTo>
                        <a:pt x="288" y="47"/>
                      </a:lnTo>
                      <a:lnTo>
                        <a:pt x="293" y="54"/>
                      </a:lnTo>
                      <a:lnTo>
                        <a:pt x="300" y="61"/>
                      </a:lnTo>
                      <a:lnTo>
                        <a:pt x="307" y="69"/>
                      </a:lnTo>
                      <a:lnTo>
                        <a:pt x="313" y="76"/>
                      </a:lnTo>
                      <a:lnTo>
                        <a:pt x="320" y="83"/>
                      </a:lnTo>
                      <a:lnTo>
                        <a:pt x="327" y="91"/>
                      </a:lnTo>
                      <a:lnTo>
                        <a:pt x="334" y="98"/>
                      </a:lnTo>
                      <a:lnTo>
                        <a:pt x="342" y="105"/>
                      </a:lnTo>
                      <a:lnTo>
                        <a:pt x="349" y="112"/>
                      </a:lnTo>
                      <a:lnTo>
                        <a:pt x="327" y="126"/>
                      </a:lnTo>
                      <a:lnTo>
                        <a:pt x="304" y="137"/>
                      </a:lnTo>
                      <a:lnTo>
                        <a:pt x="281" y="149"/>
                      </a:lnTo>
                      <a:lnTo>
                        <a:pt x="257" y="159"/>
                      </a:lnTo>
                      <a:lnTo>
                        <a:pt x="234" y="167"/>
                      </a:lnTo>
                      <a:lnTo>
                        <a:pt x="210" y="175"/>
                      </a:lnTo>
                      <a:lnTo>
                        <a:pt x="186" y="183"/>
                      </a:lnTo>
                      <a:lnTo>
                        <a:pt x="163" y="189"/>
                      </a:lnTo>
                      <a:lnTo>
                        <a:pt x="138" y="195"/>
                      </a:lnTo>
                      <a:lnTo>
                        <a:pt x="116" y="199"/>
                      </a:lnTo>
                      <a:lnTo>
                        <a:pt x="95" y="203"/>
                      </a:lnTo>
                      <a:lnTo>
                        <a:pt x="73" y="206"/>
                      </a:lnTo>
                      <a:lnTo>
                        <a:pt x="53" y="209"/>
                      </a:lnTo>
                      <a:lnTo>
                        <a:pt x="34" y="211"/>
                      </a:lnTo>
                      <a:lnTo>
                        <a:pt x="16" y="213"/>
                      </a:lnTo>
                      <a:lnTo>
                        <a:pt x="0" y="214"/>
                      </a:lnTo>
                      <a:lnTo>
                        <a:pt x="6" y="179"/>
                      </a:lnTo>
                      <a:lnTo>
                        <a:pt x="12" y="143"/>
                      </a:lnTo>
                      <a:lnTo>
                        <a:pt x="17" y="106"/>
                      </a:lnTo>
                      <a:lnTo>
                        <a:pt x="23" y="70"/>
                      </a:lnTo>
                      <a:lnTo>
                        <a:pt x="37" y="68"/>
                      </a:lnTo>
                      <a:lnTo>
                        <a:pt x="52" y="65"/>
                      </a:lnTo>
                      <a:lnTo>
                        <a:pt x="67" y="61"/>
                      </a:lnTo>
                      <a:lnTo>
                        <a:pt x="84" y="58"/>
                      </a:lnTo>
                      <a:lnTo>
                        <a:pt x="100" y="53"/>
                      </a:lnTo>
                      <a:lnTo>
                        <a:pt x="118" y="50"/>
                      </a:lnTo>
                      <a:lnTo>
                        <a:pt x="135" y="45"/>
                      </a:lnTo>
                      <a:lnTo>
                        <a:pt x="151" y="41"/>
                      </a:lnTo>
                      <a:lnTo>
                        <a:pt x="167" y="35"/>
                      </a:lnTo>
                      <a:lnTo>
                        <a:pt x="183" y="30"/>
                      </a:lnTo>
                      <a:lnTo>
                        <a:pt x="198" y="26"/>
                      </a:lnTo>
                      <a:lnTo>
                        <a:pt x="212" y="20"/>
                      </a:lnTo>
                      <a:lnTo>
                        <a:pt x="225" y="15"/>
                      </a:lnTo>
                      <a:lnTo>
                        <a:pt x="236" y="9"/>
                      </a:lnTo>
                      <a:lnTo>
                        <a:pt x="245" y="5"/>
                      </a:lnTo>
                      <a:lnTo>
                        <a:pt x="254" y="0"/>
                      </a:lnTo>
                      <a:close/>
                    </a:path>
                  </a:pathLst>
                </a:custGeom>
                <a:solidFill>
                  <a:srgbClr val="9e5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 flipH="1">
                  <a:off x="6046920" y="3347280"/>
                  <a:ext cx="109440" cy="64440"/>
                </a:xfrm>
                <a:custGeom>
                  <a:avLst/>
                  <a:gdLst/>
                  <a:ahLst/>
                  <a:rect l="l" t="t" r="r" b="b"/>
                  <a:pathLst>
                    <a:path w="325" h="210">
                      <a:moveTo>
                        <a:pt x="230" y="0"/>
                      </a:moveTo>
                      <a:lnTo>
                        <a:pt x="234" y="6"/>
                      </a:lnTo>
                      <a:lnTo>
                        <a:pt x="240" y="13"/>
                      </a:lnTo>
                      <a:lnTo>
                        <a:pt x="245" y="20"/>
                      </a:lnTo>
                      <a:lnTo>
                        <a:pt x="250" y="27"/>
                      </a:lnTo>
                      <a:lnTo>
                        <a:pt x="255" y="34"/>
                      </a:lnTo>
                      <a:lnTo>
                        <a:pt x="260" y="41"/>
                      </a:lnTo>
                      <a:lnTo>
                        <a:pt x="265" y="48"/>
                      </a:lnTo>
                      <a:lnTo>
                        <a:pt x="270" y="55"/>
                      </a:lnTo>
                      <a:lnTo>
                        <a:pt x="277" y="62"/>
                      </a:lnTo>
                      <a:lnTo>
                        <a:pt x="284" y="70"/>
                      </a:lnTo>
                      <a:lnTo>
                        <a:pt x="291" y="77"/>
                      </a:lnTo>
                      <a:lnTo>
                        <a:pt x="298" y="84"/>
                      </a:lnTo>
                      <a:lnTo>
                        <a:pt x="305" y="92"/>
                      </a:lnTo>
                      <a:lnTo>
                        <a:pt x="311" y="99"/>
                      </a:lnTo>
                      <a:lnTo>
                        <a:pt x="318" y="107"/>
                      </a:lnTo>
                      <a:lnTo>
                        <a:pt x="325" y="114"/>
                      </a:lnTo>
                      <a:lnTo>
                        <a:pt x="305" y="126"/>
                      </a:lnTo>
                      <a:lnTo>
                        <a:pt x="284" y="138"/>
                      </a:lnTo>
                      <a:lnTo>
                        <a:pt x="262" y="148"/>
                      </a:lnTo>
                      <a:lnTo>
                        <a:pt x="240" y="157"/>
                      </a:lnTo>
                      <a:lnTo>
                        <a:pt x="217" y="167"/>
                      </a:lnTo>
                      <a:lnTo>
                        <a:pt x="195" y="173"/>
                      </a:lnTo>
                      <a:lnTo>
                        <a:pt x="173" y="180"/>
                      </a:lnTo>
                      <a:lnTo>
                        <a:pt x="151" y="186"/>
                      </a:lnTo>
                      <a:lnTo>
                        <a:pt x="129" y="191"/>
                      </a:lnTo>
                      <a:lnTo>
                        <a:pt x="108" y="195"/>
                      </a:lnTo>
                      <a:lnTo>
                        <a:pt x="87" y="200"/>
                      </a:lnTo>
                      <a:lnTo>
                        <a:pt x="67" y="202"/>
                      </a:lnTo>
                      <a:lnTo>
                        <a:pt x="49" y="206"/>
                      </a:lnTo>
                      <a:lnTo>
                        <a:pt x="32" y="207"/>
                      </a:lnTo>
                      <a:lnTo>
                        <a:pt x="15" y="209"/>
                      </a:lnTo>
                      <a:lnTo>
                        <a:pt x="0" y="210"/>
                      </a:lnTo>
                      <a:lnTo>
                        <a:pt x="6" y="173"/>
                      </a:lnTo>
                      <a:lnTo>
                        <a:pt x="11" y="138"/>
                      </a:lnTo>
                      <a:lnTo>
                        <a:pt x="17" y="101"/>
                      </a:lnTo>
                      <a:lnTo>
                        <a:pt x="21" y="65"/>
                      </a:lnTo>
                      <a:lnTo>
                        <a:pt x="34" y="63"/>
                      </a:lnTo>
                      <a:lnTo>
                        <a:pt x="48" y="59"/>
                      </a:lnTo>
                      <a:lnTo>
                        <a:pt x="61" y="56"/>
                      </a:lnTo>
                      <a:lnTo>
                        <a:pt x="76" y="52"/>
                      </a:lnTo>
                      <a:lnTo>
                        <a:pt x="91" y="49"/>
                      </a:lnTo>
                      <a:lnTo>
                        <a:pt x="106" y="44"/>
                      </a:lnTo>
                      <a:lnTo>
                        <a:pt x="123" y="41"/>
                      </a:lnTo>
                      <a:lnTo>
                        <a:pt x="137" y="36"/>
                      </a:lnTo>
                      <a:lnTo>
                        <a:pt x="152" y="32"/>
                      </a:lnTo>
                      <a:lnTo>
                        <a:pt x="166" y="28"/>
                      </a:lnTo>
                      <a:lnTo>
                        <a:pt x="180" y="24"/>
                      </a:lnTo>
                      <a:lnTo>
                        <a:pt x="193" y="18"/>
                      </a:lnTo>
                      <a:lnTo>
                        <a:pt x="204" y="13"/>
                      </a:lnTo>
                      <a:lnTo>
                        <a:pt x="214" y="9"/>
                      </a:lnTo>
                      <a:lnTo>
                        <a:pt x="223" y="4"/>
                      </a:lnTo>
                      <a:lnTo>
                        <a:pt x="230" y="0"/>
                      </a:lnTo>
                      <a:close/>
                    </a:path>
                  </a:pathLst>
                </a:custGeom>
                <a:solidFill>
                  <a:srgbClr val="a35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 flipH="1">
                  <a:off x="6049080" y="3348360"/>
                  <a:ext cx="101520" cy="62280"/>
                </a:xfrm>
                <a:custGeom>
                  <a:avLst/>
                  <a:gdLst/>
                  <a:ahLst/>
                  <a:rect l="l" t="t" r="r" b="b"/>
                  <a:pathLst>
                    <a:path w="301" h="206">
                      <a:moveTo>
                        <a:pt x="206" y="0"/>
                      </a:moveTo>
                      <a:lnTo>
                        <a:pt x="210" y="7"/>
                      </a:lnTo>
                      <a:lnTo>
                        <a:pt x="216" y="14"/>
                      </a:lnTo>
                      <a:lnTo>
                        <a:pt x="221" y="21"/>
                      </a:lnTo>
                      <a:lnTo>
                        <a:pt x="226" y="28"/>
                      </a:lnTo>
                      <a:lnTo>
                        <a:pt x="231" y="35"/>
                      </a:lnTo>
                      <a:lnTo>
                        <a:pt x="236" y="41"/>
                      </a:lnTo>
                      <a:lnTo>
                        <a:pt x="241" y="48"/>
                      </a:lnTo>
                      <a:lnTo>
                        <a:pt x="246" y="55"/>
                      </a:lnTo>
                      <a:lnTo>
                        <a:pt x="253" y="63"/>
                      </a:lnTo>
                      <a:lnTo>
                        <a:pt x="260" y="70"/>
                      </a:lnTo>
                      <a:lnTo>
                        <a:pt x="267" y="78"/>
                      </a:lnTo>
                      <a:lnTo>
                        <a:pt x="274" y="85"/>
                      </a:lnTo>
                      <a:lnTo>
                        <a:pt x="281" y="93"/>
                      </a:lnTo>
                      <a:lnTo>
                        <a:pt x="288" y="101"/>
                      </a:lnTo>
                      <a:lnTo>
                        <a:pt x="294" y="108"/>
                      </a:lnTo>
                      <a:lnTo>
                        <a:pt x="301" y="116"/>
                      </a:lnTo>
                      <a:lnTo>
                        <a:pt x="282" y="128"/>
                      </a:lnTo>
                      <a:lnTo>
                        <a:pt x="262" y="138"/>
                      </a:lnTo>
                      <a:lnTo>
                        <a:pt x="243" y="149"/>
                      </a:lnTo>
                      <a:lnTo>
                        <a:pt x="222" y="157"/>
                      </a:lnTo>
                      <a:lnTo>
                        <a:pt x="201" y="165"/>
                      </a:lnTo>
                      <a:lnTo>
                        <a:pt x="180" y="172"/>
                      </a:lnTo>
                      <a:lnTo>
                        <a:pt x="160" y="178"/>
                      </a:lnTo>
                      <a:lnTo>
                        <a:pt x="139" y="183"/>
                      </a:lnTo>
                      <a:lnTo>
                        <a:pt x="118" y="189"/>
                      </a:lnTo>
                      <a:lnTo>
                        <a:pt x="99" y="192"/>
                      </a:lnTo>
                      <a:lnTo>
                        <a:pt x="80" y="196"/>
                      </a:lnTo>
                      <a:lnTo>
                        <a:pt x="62" y="199"/>
                      </a:lnTo>
                      <a:lnTo>
                        <a:pt x="44" y="202"/>
                      </a:lnTo>
                      <a:lnTo>
                        <a:pt x="28" y="204"/>
                      </a:lnTo>
                      <a:lnTo>
                        <a:pt x="13" y="205"/>
                      </a:lnTo>
                      <a:lnTo>
                        <a:pt x="0" y="206"/>
                      </a:lnTo>
                      <a:lnTo>
                        <a:pt x="4" y="169"/>
                      </a:lnTo>
                      <a:lnTo>
                        <a:pt x="10" y="132"/>
                      </a:lnTo>
                      <a:lnTo>
                        <a:pt x="15" y="96"/>
                      </a:lnTo>
                      <a:lnTo>
                        <a:pt x="19" y="59"/>
                      </a:lnTo>
                      <a:lnTo>
                        <a:pt x="31" y="56"/>
                      </a:lnTo>
                      <a:lnTo>
                        <a:pt x="43" y="53"/>
                      </a:lnTo>
                      <a:lnTo>
                        <a:pt x="56" y="49"/>
                      </a:lnTo>
                      <a:lnTo>
                        <a:pt x="69" y="47"/>
                      </a:lnTo>
                      <a:lnTo>
                        <a:pt x="82" y="44"/>
                      </a:lnTo>
                      <a:lnTo>
                        <a:pt x="96" y="40"/>
                      </a:lnTo>
                      <a:lnTo>
                        <a:pt x="110" y="37"/>
                      </a:lnTo>
                      <a:lnTo>
                        <a:pt x="124" y="33"/>
                      </a:lnTo>
                      <a:lnTo>
                        <a:pt x="137" y="30"/>
                      </a:lnTo>
                      <a:lnTo>
                        <a:pt x="149" y="25"/>
                      </a:lnTo>
                      <a:lnTo>
                        <a:pt x="162" y="22"/>
                      </a:lnTo>
                      <a:lnTo>
                        <a:pt x="172" y="17"/>
                      </a:lnTo>
                      <a:lnTo>
                        <a:pt x="183" y="14"/>
                      </a:lnTo>
                      <a:lnTo>
                        <a:pt x="192" y="9"/>
                      </a:lnTo>
                      <a:lnTo>
                        <a:pt x="200" y="5"/>
                      </a:lnTo>
                      <a:lnTo>
                        <a:pt x="206" y="0"/>
                      </a:lnTo>
                      <a:close/>
                    </a:path>
                  </a:pathLst>
                </a:custGeom>
                <a:solidFill>
                  <a:srgbClr val="a86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 flipH="1">
                  <a:off x="6049440" y="3349440"/>
                  <a:ext cx="94680" cy="61200"/>
                </a:xfrm>
                <a:custGeom>
                  <a:avLst/>
                  <a:gdLst/>
                  <a:ahLst/>
                  <a:rect l="l" t="t" r="r" b="b"/>
                  <a:pathLst>
                    <a:path w="279" h="202">
                      <a:moveTo>
                        <a:pt x="183" y="0"/>
                      </a:moveTo>
                      <a:lnTo>
                        <a:pt x="188" y="7"/>
                      </a:lnTo>
                      <a:lnTo>
                        <a:pt x="192" y="14"/>
                      </a:lnTo>
                      <a:lnTo>
                        <a:pt x="198" y="21"/>
                      </a:lnTo>
                      <a:lnTo>
                        <a:pt x="203" y="28"/>
                      </a:lnTo>
                      <a:lnTo>
                        <a:pt x="207" y="35"/>
                      </a:lnTo>
                      <a:lnTo>
                        <a:pt x="213" y="42"/>
                      </a:lnTo>
                      <a:lnTo>
                        <a:pt x="218" y="49"/>
                      </a:lnTo>
                      <a:lnTo>
                        <a:pt x="222" y="56"/>
                      </a:lnTo>
                      <a:lnTo>
                        <a:pt x="229" y="64"/>
                      </a:lnTo>
                      <a:lnTo>
                        <a:pt x="236" y="71"/>
                      </a:lnTo>
                      <a:lnTo>
                        <a:pt x="243" y="79"/>
                      </a:lnTo>
                      <a:lnTo>
                        <a:pt x="251" y="87"/>
                      </a:lnTo>
                      <a:lnTo>
                        <a:pt x="258" y="95"/>
                      </a:lnTo>
                      <a:lnTo>
                        <a:pt x="265" y="102"/>
                      </a:lnTo>
                      <a:lnTo>
                        <a:pt x="272" y="110"/>
                      </a:lnTo>
                      <a:lnTo>
                        <a:pt x="279" y="118"/>
                      </a:lnTo>
                      <a:lnTo>
                        <a:pt x="261" y="128"/>
                      </a:lnTo>
                      <a:lnTo>
                        <a:pt x="243" y="139"/>
                      </a:lnTo>
                      <a:lnTo>
                        <a:pt x="223" y="148"/>
                      </a:lnTo>
                      <a:lnTo>
                        <a:pt x="205" y="156"/>
                      </a:lnTo>
                      <a:lnTo>
                        <a:pt x="185" y="163"/>
                      </a:lnTo>
                      <a:lnTo>
                        <a:pt x="166" y="170"/>
                      </a:lnTo>
                      <a:lnTo>
                        <a:pt x="146" y="175"/>
                      </a:lnTo>
                      <a:lnTo>
                        <a:pt x="128" y="180"/>
                      </a:lnTo>
                      <a:lnTo>
                        <a:pt x="109" y="185"/>
                      </a:lnTo>
                      <a:lnTo>
                        <a:pt x="91" y="189"/>
                      </a:lnTo>
                      <a:lnTo>
                        <a:pt x="74" y="193"/>
                      </a:lnTo>
                      <a:lnTo>
                        <a:pt x="56" y="195"/>
                      </a:lnTo>
                      <a:lnTo>
                        <a:pt x="40" y="197"/>
                      </a:lnTo>
                      <a:lnTo>
                        <a:pt x="26" y="200"/>
                      </a:lnTo>
                      <a:lnTo>
                        <a:pt x="12" y="201"/>
                      </a:lnTo>
                      <a:lnTo>
                        <a:pt x="0" y="202"/>
                      </a:lnTo>
                      <a:lnTo>
                        <a:pt x="4" y="165"/>
                      </a:lnTo>
                      <a:lnTo>
                        <a:pt x="9" y="127"/>
                      </a:lnTo>
                      <a:lnTo>
                        <a:pt x="12" y="89"/>
                      </a:lnTo>
                      <a:lnTo>
                        <a:pt x="17" y="52"/>
                      </a:lnTo>
                      <a:lnTo>
                        <a:pt x="38" y="46"/>
                      </a:lnTo>
                      <a:lnTo>
                        <a:pt x="62" y="41"/>
                      </a:lnTo>
                      <a:lnTo>
                        <a:pt x="86" y="35"/>
                      </a:lnTo>
                      <a:lnTo>
                        <a:pt x="110" y="29"/>
                      </a:lnTo>
                      <a:lnTo>
                        <a:pt x="132" y="23"/>
                      </a:lnTo>
                      <a:lnTo>
                        <a:pt x="153" y="17"/>
                      </a:lnTo>
                      <a:lnTo>
                        <a:pt x="170" y="8"/>
                      </a:lnTo>
                      <a:lnTo>
                        <a:pt x="183" y="0"/>
                      </a:lnTo>
                      <a:close/>
                    </a:path>
                  </a:pathLst>
                </a:custGeom>
                <a:solidFill>
                  <a:srgbClr val="ad6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 flipH="1">
                  <a:off x="6052320" y="3349440"/>
                  <a:ext cx="87120" cy="61200"/>
                </a:xfrm>
                <a:custGeom>
                  <a:avLst/>
                  <a:gdLst/>
                  <a:ahLst/>
                  <a:rect l="l" t="t" r="r" b="b"/>
                  <a:pathLst>
                    <a:path w="257" h="198">
                      <a:moveTo>
                        <a:pt x="160" y="0"/>
                      </a:moveTo>
                      <a:lnTo>
                        <a:pt x="165" y="7"/>
                      </a:lnTo>
                      <a:lnTo>
                        <a:pt x="169" y="14"/>
                      </a:lnTo>
                      <a:lnTo>
                        <a:pt x="175" y="20"/>
                      </a:lnTo>
                      <a:lnTo>
                        <a:pt x="180" y="27"/>
                      </a:lnTo>
                      <a:lnTo>
                        <a:pt x="184" y="35"/>
                      </a:lnTo>
                      <a:lnTo>
                        <a:pt x="190" y="42"/>
                      </a:lnTo>
                      <a:lnTo>
                        <a:pt x="195" y="49"/>
                      </a:lnTo>
                      <a:lnTo>
                        <a:pt x="199" y="56"/>
                      </a:lnTo>
                      <a:lnTo>
                        <a:pt x="206" y="64"/>
                      </a:lnTo>
                      <a:lnTo>
                        <a:pt x="214" y="72"/>
                      </a:lnTo>
                      <a:lnTo>
                        <a:pt x="221" y="79"/>
                      </a:lnTo>
                      <a:lnTo>
                        <a:pt x="228" y="87"/>
                      </a:lnTo>
                      <a:lnTo>
                        <a:pt x="235" y="95"/>
                      </a:lnTo>
                      <a:lnTo>
                        <a:pt x="242" y="103"/>
                      </a:lnTo>
                      <a:lnTo>
                        <a:pt x="250" y="111"/>
                      </a:lnTo>
                      <a:lnTo>
                        <a:pt x="257" y="120"/>
                      </a:lnTo>
                      <a:lnTo>
                        <a:pt x="241" y="130"/>
                      </a:lnTo>
                      <a:lnTo>
                        <a:pt x="223" y="139"/>
                      </a:lnTo>
                      <a:lnTo>
                        <a:pt x="205" y="147"/>
                      </a:lnTo>
                      <a:lnTo>
                        <a:pt x="188" y="154"/>
                      </a:lnTo>
                      <a:lnTo>
                        <a:pt x="169" y="161"/>
                      </a:lnTo>
                      <a:lnTo>
                        <a:pt x="152" y="168"/>
                      </a:lnTo>
                      <a:lnTo>
                        <a:pt x="135" y="174"/>
                      </a:lnTo>
                      <a:lnTo>
                        <a:pt x="116" y="178"/>
                      </a:lnTo>
                      <a:lnTo>
                        <a:pt x="100" y="183"/>
                      </a:lnTo>
                      <a:lnTo>
                        <a:pt x="83" y="186"/>
                      </a:lnTo>
                      <a:lnTo>
                        <a:pt x="67" y="190"/>
                      </a:lnTo>
                      <a:lnTo>
                        <a:pt x="52" y="192"/>
                      </a:lnTo>
                      <a:lnTo>
                        <a:pt x="37" y="194"/>
                      </a:lnTo>
                      <a:lnTo>
                        <a:pt x="24" y="196"/>
                      </a:lnTo>
                      <a:lnTo>
                        <a:pt x="11" y="197"/>
                      </a:lnTo>
                      <a:lnTo>
                        <a:pt x="0" y="198"/>
                      </a:lnTo>
                      <a:lnTo>
                        <a:pt x="5" y="160"/>
                      </a:lnTo>
                      <a:lnTo>
                        <a:pt x="8" y="122"/>
                      </a:lnTo>
                      <a:lnTo>
                        <a:pt x="13" y="84"/>
                      </a:lnTo>
                      <a:lnTo>
                        <a:pt x="16" y="46"/>
                      </a:lnTo>
                      <a:lnTo>
                        <a:pt x="34" y="40"/>
                      </a:lnTo>
                      <a:lnTo>
                        <a:pt x="55" y="35"/>
                      </a:lnTo>
                      <a:lnTo>
                        <a:pt x="77" y="31"/>
                      </a:lnTo>
                      <a:lnTo>
                        <a:pt x="98" y="26"/>
                      </a:lnTo>
                      <a:lnTo>
                        <a:pt x="117" y="22"/>
                      </a:lnTo>
                      <a:lnTo>
                        <a:pt x="135" y="16"/>
                      </a:lnTo>
                      <a:lnTo>
                        <a:pt x="150" y="8"/>
                      </a:lnTo>
                      <a:lnTo>
                        <a:pt x="160" y="0"/>
                      </a:lnTo>
                      <a:close/>
                    </a:path>
                  </a:pathLst>
                </a:custGeom>
                <a:solidFill>
                  <a:srgbClr val="b57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 flipH="1">
                  <a:off x="6054480" y="3350520"/>
                  <a:ext cx="79200" cy="59040"/>
                </a:xfrm>
                <a:custGeom>
                  <a:avLst/>
                  <a:gdLst/>
                  <a:ahLst/>
                  <a:rect l="l" t="t" r="r" b="b"/>
                  <a:pathLst>
                    <a:path w="234" h="194">
                      <a:moveTo>
                        <a:pt x="136" y="0"/>
                      </a:moveTo>
                      <a:lnTo>
                        <a:pt x="141" y="7"/>
                      </a:lnTo>
                      <a:lnTo>
                        <a:pt x="147" y="14"/>
                      </a:lnTo>
                      <a:lnTo>
                        <a:pt x="151" y="21"/>
                      </a:lnTo>
                      <a:lnTo>
                        <a:pt x="157" y="28"/>
                      </a:lnTo>
                      <a:lnTo>
                        <a:pt x="161" y="35"/>
                      </a:lnTo>
                      <a:lnTo>
                        <a:pt x="166" y="42"/>
                      </a:lnTo>
                      <a:lnTo>
                        <a:pt x="172" y="50"/>
                      </a:lnTo>
                      <a:lnTo>
                        <a:pt x="176" y="57"/>
                      </a:lnTo>
                      <a:lnTo>
                        <a:pt x="183" y="65"/>
                      </a:lnTo>
                      <a:lnTo>
                        <a:pt x="190" y="73"/>
                      </a:lnTo>
                      <a:lnTo>
                        <a:pt x="197" y="81"/>
                      </a:lnTo>
                      <a:lnTo>
                        <a:pt x="205" y="89"/>
                      </a:lnTo>
                      <a:lnTo>
                        <a:pt x="212" y="97"/>
                      </a:lnTo>
                      <a:lnTo>
                        <a:pt x="219" y="105"/>
                      </a:lnTo>
                      <a:lnTo>
                        <a:pt x="227" y="113"/>
                      </a:lnTo>
                      <a:lnTo>
                        <a:pt x="234" y="121"/>
                      </a:lnTo>
                      <a:lnTo>
                        <a:pt x="219" y="130"/>
                      </a:lnTo>
                      <a:lnTo>
                        <a:pt x="203" y="138"/>
                      </a:lnTo>
                      <a:lnTo>
                        <a:pt x="187" y="146"/>
                      </a:lnTo>
                      <a:lnTo>
                        <a:pt x="171" y="153"/>
                      </a:lnTo>
                      <a:lnTo>
                        <a:pt x="155" y="160"/>
                      </a:lnTo>
                      <a:lnTo>
                        <a:pt x="137" y="166"/>
                      </a:lnTo>
                      <a:lnTo>
                        <a:pt x="121" y="171"/>
                      </a:lnTo>
                      <a:lnTo>
                        <a:pt x="105" y="175"/>
                      </a:lnTo>
                      <a:lnTo>
                        <a:pt x="90" y="180"/>
                      </a:lnTo>
                      <a:lnTo>
                        <a:pt x="75" y="183"/>
                      </a:lnTo>
                      <a:lnTo>
                        <a:pt x="60" y="186"/>
                      </a:lnTo>
                      <a:lnTo>
                        <a:pt x="46" y="188"/>
                      </a:lnTo>
                      <a:lnTo>
                        <a:pt x="34" y="190"/>
                      </a:lnTo>
                      <a:lnTo>
                        <a:pt x="21" y="193"/>
                      </a:lnTo>
                      <a:lnTo>
                        <a:pt x="11" y="193"/>
                      </a:lnTo>
                      <a:lnTo>
                        <a:pt x="0" y="194"/>
                      </a:lnTo>
                      <a:lnTo>
                        <a:pt x="4" y="155"/>
                      </a:lnTo>
                      <a:lnTo>
                        <a:pt x="7" y="117"/>
                      </a:lnTo>
                      <a:lnTo>
                        <a:pt x="11" y="78"/>
                      </a:lnTo>
                      <a:lnTo>
                        <a:pt x="14" y="39"/>
                      </a:lnTo>
                      <a:lnTo>
                        <a:pt x="30" y="34"/>
                      </a:lnTo>
                      <a:lnTo>
                        <a:pt x="47" y="29"/>
                      </a:lnTo>
                      <a:lnTo>
                        <a:pt x="66" y="26"/>
                      </a:lnTo>
                      <a:lnTo>
                        <a:pt x="83" y="22"/>
                      </a:lnTo>
                      <a:lnTo>
                        <a:pt x="99" y="19"/>
                      </a:lnTo>
                      <a:lnTo>
                        <a:pt x="114" y="14"/>
                      </a:lnTo>
                      <a:lnTo>
                        <a:pt x="127" y="8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ba7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 flipH="1">
                  <a:off x="6057000" y="3351600"/>
                  <a:ext cx="71280" cy="57960"/>
                </a:xfrm>
                <a:custGeom>
                  <a:avLst/>
                  <a:gdLst/>
                  <a:ahLst/>
                  <a:rect l="l" t="t" r="r" b="b"/>
                  <a:pathLst>
                    <a:path w="212" h="191">
                      <a:moveTo>
                        <a:pt x="113" y="0"/>
                      </a:moveTo>
                      <a:lnTo>
                        <a:pt x="118" y="7"/>
                      </a:lnTo>
                      <a:lnTo>
                        <a:pt x="124" y="15"/>
                      </a:lnTo>
                      <a:lnTo>
                        <a:pt x="128" y="22"/>
                      </a:lnTo>
                      <a:lnTo>
                        <a:pt x="134" y="29"/>
                      </a:lnTo>
                      <a:lnTo>
                        <a:pt x="139" y="36"/>
                      </a:lnTo>
                      <a:lnTo>
                        <a:pt x="143" y="43"/>
                      </a:lnTo>
                      <a:lnTo>
                        <a:pt x="149" y="51"/>
                      </a:lnTo>
                      <a:lnTo>
                        <a:pt x="154" y="58"/>
                      </a:lnTo>
                      <a:lnTo>
                        <a:pt x="160" y="66"/>
                      </a:lnTo>
                      <a:lnTo>
                        <a:pt x="169" y="74"/>
                      </a:lnTo>
                      <a:lnTo>
                        <a:pt x="175" y="82"/>
                      </a:lnTo>
                      <a:lnTo>
                        <a:pt x="183" y="90"/>
                      </a:lnTo>
                      <a:lnTo>
                        <a:pt x="190" y="100"/>
                      </a:lnTo>
                      <a:lnTo>
                        <a:pt x="197" y="108"/>
                      </a:lnTo>
                      <a:lnTo>
                        <a:pt x="205" y="116"/>
                      </a:lnTo>
                      <a:lnTo>
                        <a:pt x="212" y="124"/>
                      </a:lnTo>
                      <a:lnTo>
                        <a:pt x="198" y="132"/>
                      </a:lnTo>
                      <a:lnTo>
                        <a:pt x="183" y="140"/>
                      </a:lnTo>
                      <a:lnTo>
                        <a:pt x="169" y="147"/>
                      </a:lnTo>
                      <a:lnTo>
                        <a:pt x="154" y="154"/>
                      </a:lnTo>
                      <a:lnTo>
                        <a:pt x="139" y="159"/>
                      </a:lnTo>
                      <a:lnTo>
                        <a:pt x="124" y="164"/>
                      </a:lnTo>
                      <a:lnTo>
                        <a:pt x="109" y="170"/>
                      </a:lnTo>
                      <a:lnTo>
                        <a:pt x="95" y="173"/>
                      </a:lnTo>
                      <a:lnTo>
                        <a:pt x="81" y="177"/>
                      </a:lnTo>
                      <a:lnTo>
                        <a:pt x="67" y="180"/>
                      </a:lnTo>
                      <a:lnTo>
                        <a:pt x="53" y="184"/>
                      </a:lnTo>
                      <a:lnTo>
                        <a:pt x="42" y="186"/>
                      </a:lnTo>
                      <a:lnTo>
                        <a:pt x="30" y="187"/>
                      </a:lnTo>
                      <a:lnTo>
                        <a:pt x="19" y="189"/>
                      </a:lnTo>
                      <a:lnTo>
                        <a:pt x="10" y="189"/>
                      </a:lnTo>
                      <a:lnTo>
                        <a:pt x="0" y="191"/>
                      </a:lnTo>
                      <a:lnTo>
                        <a:pt x="4" y="151"/>
                      </a:lnTo>
                      <a:lnTo>
                        <a:pt x="7" y="112"/>
                      </a:lnTo>
                      <a:lnTo>
                        <a:pt x="11" y="73"/>
                      </a:lnTo>
                      <a:lnTo>
                        <a:pt x="13" y="34"/>
                      </a:lnTo>
                      <a:lnTo>
                        <a:pt x="27" y="28"/>
                      </a:lnTo>
                      <a:lnTo>
                        <a:pt x="41" y="25"/>
                      </a:lnTo>
                      <a:lnTo>
                        <a:pt x="56" y="22"/>
                      </a:lnTo>
                      <a:lnTo>
                        <a:pt x="71" y="20"/>
                      </a:lnTo>
                      <a:lnTo>
                        <a:pt x="83" y="18"/>
                      </a:lnTo>
                      <a:lnTo>
                        <a:pt x="96" y="14"/>
                      </a:lnTo>
                      <a:lnTo>
                        <a:pt x="105" y="9"/>
                      </a:lnTo>
                      <a:lnTo>
                        <a:pt x="113" y="0"/>
                      </a:lnTo>
                      <a:close/>
                    </a:path>
                  </a:pathLst>
                </a:custGeom>
                <a:solidFill>
                  <a:srgbClr val="bf7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 flipH="1">
                  <a:off x="6059160" y="3353040"/>
                  <a:ext cx="63360" cy="56880"/>
                </a:xfrm>
                <a:custGeom>
                  <a:avLst/>
                  <a:gdLst/>
                  <a:ahLst/>
                  <a:rect l="l" t="t" r="r" b="b"/>
                  <a:pathLst>
                    <a:path w="187" h="185">
                      <a:moveTo>
                        <a:pt x="89" y="0"/>
                      </a:moveTo>
                      <a:lnTo>
                        <a:pt x="94" y="7"/>
                      </a:lnTo>
                      <a:lnTo>
                        <a:pt x="99" y="14"/>
                      </a:lnTo>
                      <a:lnTo>
                        <a:pt x="104" y="21"/>
                      </a:lnTo>
                      <a:lnTo>
                        <a:pt x="109" y="29"/>
                      </a:lnTo>
                      <a:lnTo>
                        <a:pt x="114" y="36"/>
                      </a:lnTo>
                      <a:lnTo>
                        <a:pt x="119" y="43"/>
                      </a:lnTo>
                      <a:lnTo>
                        <a:pt x="124" y="51"/>
                      </a:lnTo>
                      <a:lnTo>
                        <a:pt x="129" y="58"/>
                      </a:lnTo>
                      <a:lnTo>
                        <a:pt x="136" y="66"/>
                      </a:lnTo>
                      <a:lnTo>
                        <a:pt x="144" y="74"/>
                      </a:lnTo>
                      <a:lnTo>
                        <a:pt x="151" y="83"/>
                      </a:lnTo>
                      <a:lnTo>
                        <a:pt x="159" y="91"/>
                      </a:lnTo>
                      <a:lnTo>
                        <a:pt x="165" y="99"/>
                      </a:lnTo>
                      <a:lnTo>
                        <a:pt x="172" y="108"/>
                      </a:lnTo>
                      <a:lnTo>
                        <a:pt x="180" y="116"/>
                      </a:lnTo>
                      <a:lnTo>
                        <a:pt x="187" y="124"/>
                      </a:lnTo>
                      <a:lnTo>
                        <a:pt x="175" y="132"/>
                      </a:lnTo>
                      <a:lnTo>
                        <a:pt x="162" y="139"/>
                      </a:lnTo>
                      <a:lnTo>
                        <a:pt x="148" y="145"/>
                      </a:lnTo>
                      <a:lnTo>
                        <a:pt x="136" y="151"/>
                      </a:lnTo>
                      <a:lnTo>
                        <a:pt x="122" y="157"/>
                      </a:lnTo>
                      <a:lnTo>
                        <a:pt x="108" y="161"/>
                      </a:lnTo>
                      <a:lnTo>
                        <a:pt x="95" y="166"/>
                      </a:lnTo>
                      <a:lnTo>
                        <a:pt x="83" y="170"/>
                      </a:lnTo>
                      <a:lnTo>
                        <a:pt x="70" y="174"/>
                      </a:lnTo>
                      <a:lnTo>
                        <a:pt x="57" y="176"/>
                      </a:lnTo>
                      <a:lnTo>
                        <a:pt x="46" y="180"/>
                      </a:lnTo>
                      <a:lnTo>
                        <a:pt x="35" y="181"/>
                      </a:lnTo>
                      <a:lnTo>
                        <a:pt x="25" y="183"/>
                      </a:lnTo>
                      <a:lnTo>
                        <a:pt x="16" y="184"/>
                      </a:lnTo>
                      <a:lnTo>
                        <a:pt x="7" y="185"/>
                      </a:lnTo>
                      <a:lnTo>
                        <a:pt x="0" y="185"/>
                      </a:lnTo>
                      <a:lnTo>
                        <a:pt x="2" y="145"/>
                      </a:lnTo>
                      <a:lnTo>
                        <a:pt x="5" y="106"/>
                      </a:lnTo>
                      <a:lnTo>
                        <a:pt x="8" y="66"/>
                      </a:lnTo>
                      <a:lnTo>
                        <a:pt x="10" y="26"/>
                      </a:lnTo>
                      <a:lnTo>
                        <a:pt x="22" y="21"/>
                      </a:lnTo>
                      <a:lnTo>
                        <a:pt x="33" y="17"/>
                      </a:lnTo>
                      <a:lnTo>
                        <a:pt x="45" y="16"/>
                      </a:lnTo>
                      <a:lnTo>
                        <a:pt x="56" y="15"/>
                      </a:lnTo>
                      <a:lnTo>
                        <a:pt x="66" y="14"/>
                      </a:lnTo>
                      <a:lnTo>
                        <a:pt x="76" y="11"/>
                      </a:lnTo>
                      <a:lnTo>
                        <a:pt x="84" y="8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c48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 flipH="1">
                  <a:off x="6060240" y="3353760"/>
                  <a:ext cx="56880" cy="55800"/>
                </a:xfrm>
                <a:custGeom>
                  <a:avLst/>
                  <a:gdLst/>
                  <a:ahLst/>
                  <a:rect l="l" t="t" r="r" b="b"/>
                  <a:pathLst>
                    <a:path w="166" h="182">
                      <a:moveTo>
                        <a:pt x="67" y="0"/>
                      </a:moveTo>
                      <a:lnTo>
                        <a:pt x="71" y="7"/>
                      </a:lnTo>
                      <a:lnTo>
                        <a:pt x="76" y="15"/>
                      </a:lnTo>
                      <a:lnTo>
                        <a:pt x="82" y="22"/>
                      </a:lnTo>
                      <a:lnTo>
                        <a:pt x="86" y="29"/>
                      </a:lnTo>
                      <a:lnTo>
                        <a:pt x="91" y="37"/>
                      </a:lnTo>
                      <a:lnTo>
                        <a:pt x="97" y="44"/>
                      </a:lnTo>
                      <a:lnTo>
                        <a:pt x="101" y="52"/>
                      </a:lnTo>
                      <a:lnTo>
                        <a:pt x="106" y="59"/>
                      </a:lnTo>
                      <a:lnTo>
                        <a:pt x="114" y="67"/>
                      </a:lnTo>
                      <a:lnTo>
                        <a:pt x="121" y="75"/>
                      </a:lnTo>
                      <a:lnTo>
                        <a:pt x="129" y="84"/>
                      </a:lnTo>
                      <a:lnTo>
                        <a:pt x="136" y="92"/>
                      </a:lnTo>
                      <a:lnTo>
                        <a:pt x="144" y="102"/>
                      </a:lnTo>
                      <a:lnTo>
                        <a:pt x="151" y="110"/>
                      </a:lnTo>
                      <a:lnTo>
                        <a:pt x="159" y="119"/>
                      </a:lnTo>
                      <a:lnTo>
                        <a:pt x="166" y="127"/>
                      </a:lnTo>
                      <a:lnTo>
                        <a:pt x="143" y="140"/>
                      </a:lnTo>
                      <a:lnTo>
                        <a:pt x="118" y="151"/>
                      </a:lnTo>
                      <a:lnTo>
                        <a:pt x="95" y="160"/>
                      </a:lnTo>
                      <a:lnTo>
                        <a:pt x="72" y="168"/>
                      </a:lnTo>
                      <a:lnTo>
                        <a:pt x="50" y="174"/>
                      </a:lnTo>
                      <a:lnTo>
                        <a:pt x="31" y="179"/>
                      </a:lnTo>
                      <a:lnTo>
                        <a:pt x="14" y="181"/>
                      </a:lnTo>
                      <a:lnTo>
                        <a:pt x="0" y="182"/>
                      </a:lnTo>
                      <a:lnTo>
                        <a:pt x="2" y="142"/>
                      </a:lnTo>
                      <a:lnTo>
                        <a:pt x="4" y="102"/>
                      </a:lnTo>
                      <a:lnTo>
                        <a:pt x="7" y="61"/>
                      </a:lnTo>
                      <a:lnTo>
                        <a:pt x="9" y="21"/>
                      </a:lnTo>
                      <a:lnTo>
                        <a:pt x="18" y="15"/>
                      </a:lnTo>
                      <a:lnTo>
                        <a:pt x="26" y="13"/>
                      </a:lnTo>
                      <a:lnTo>
                        <a:pt x="34" y="13"/>
                      </a:lnTo>
                      <a:lnTo>
                        <a:pt x="42" y="13"/>
                      </a:lnTo>
                      <a:lnTo>
                        <a:pt x="49" y="13"/>
                      </a:lnTo>
                      <a:lnTo>
                        <a:pt x="56" y="12"/>
                      </a:lnTo>
                      <a:lnTo>
                        <a:pt x="62" y="7"/>
                      </a:lnTo>
                      <a:lnTo>
                        <a:pt x="67" y="0"/>
                      </a:lnTo>
                      <a:close/>
                    </a:path>
                  </a:pathLst>
                </a:custGeom>
                <a:solidFill>
                  <a:srgbClr val="cc8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 flipH="1">
                  <a:off x="6061680" y="3353760"/>
                  <a:ext cx="47880" cy="54360"/>
                </a:xfrm>
                <a:custGeom>
                  <a:avLst/>
                  <a:gdLst/>
                  <a:ahLst/>
                  <a:rect l="l" t="t" r="r" b="b"/>
                  <a:pathLst>
                    <a:path w="143" h="177">
                      <a:moveTo>
                        <a:pt x="43" y="0"/>
                      </a:moveTo>
                      <a:lnTo>
                        <a:pt x="83" y="57"/>
                      </a:lnTo>
                      <a:lnTo>
                        <a:pt x="143" y="128"/>
                      </a:lnTo>
                      <a:lnTo>
                        <a:pt x="122" y="139"/>
                      </a:lnTo>
                      <a:lnTo>
                        <a:pt x="101" y="149"/>
                      </a:lnTo>
                      <a:lnTo>
                        <a:pt x="81" y="157"/>
                      </a:lnTo>
                      <a:lnTo>
                        <a:pt x="61" y="164"/>
                      </a:lnTo>
                      <a:lnTo>
                        <a:pt x="43" y="170"/>
                      </a:lnTo>
                      <a:lnTo>
                        <a:pt x="25" y="174"/>
                      </a:lnTo>
                      <a:lnTo>
                        <a:pt x="12" y="176"/>
                      </a:lnTo>
                      <a:lnTo>
                        <a:pt x="0" y="177"/>
                      </a:lnTo>
                      <a:lnTo>
                        <a:pt x="8" y="14"/>
                      </a:lnTo>
                      <a:lnTo>
                        <a:pt x="14" y="8"/>
                      </a:lnTo>
                      <a:lnTo>
                        <a:pt x="20" y="7"/>
                      </a:lnTo>
                      <a:lnTo>
                        <a:pt x="24" y="7"/>
                      </a:lnTo>
                      <a:lnTo>
                        <a:pt x="29" y="8"/>
                      </a:lnTo>
                      <a:lnTo>
                        <a:pt x="33" y="10"/>
                      </a:lnTo>
                      <a:lnTo>
                        <a:pt x="37" y="10"/>
                      </a:lnTo>
                      <a:lnTo>
                        <a:pt x="40" y="7"/>
                      </a:lnTo>
                      <a:lnTo>
                        <a:pt x="43" y="0"/>
                      </a:lnTo>
                      <a:close/>
                    </a:path>
                  </a:pathLst>
                </a:custGeom>
                <a:solidFill>
                  <a:srgbClr val="d18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 flipH="1">
                  <a:off x="6192000" y="3369600"/>
                  <a:ext cx="121680" cy="44280"/>
                </a:xfrm>
                <a:custGeom>
                  <a:avLst/>
                  <a:gdLst/>
                  <a:ahLst/>
                  <a:rect l="l" t="t" r="r" b="b"/>
                  <a:pathLst>
                    <a:path w="360" h="144">
                      <a:moveTo>
                        <a:pt x="360" y="16"/>
                      </a:moveTo>
                      <a:lnTo>
                        <a:pt x="274" y="144"/>
                      </a:lnTo>
                      <a:lnTo>
                        <a:pt x="262" y="144"/>
                      </a:lnTo>
                      <a:lnTo>
                        <a:pt x="248" y="144"/>
                      </a:lnTo>
                      <a:lnTo>
                        <a:pt x="234" y="144"/>
                      </a:lnTo>
                      <a:lnTo>
                        <a:pt x="220" y="143"/>
                      </a:lnTo>
                      <a:lnTo>
                        <a:pt x="206" y="143"/>
                      </a:lnTo>
                      <a:lnTo>
                        <a:pt x="191" y="142"/>
                      </a:lnTo>
                      <a:lnTo>
                        <a:pt x="175" y="141"/>
                      </a:lnTo>
                      <a:lnTo>
                        <a:pt x="159" y="139"/>
                      </a:lnTo>
                      <a:lnTo>
                        <a:pt x="143" y="136"/>
                      </a:lnTo>
                      <a:lnTo>
                        <a:pt x="125" y="133"/>
                      </a:lnTo>
                      <a:lnTo>
                        <a:pt x="106" y="128"/>
                      </a:lnTo>
                      <a:lnTo>
                        <a:pt x="88" y="122"/>
                      </a:lnTo>
                      <a:lnTo>
                        <a:pt x="67" y="116"/>
                      </a:lnTo>
                      <a:lnTo>
                        <a:pt x="46" y="107"/>
                      </a:lnTo>
                      <a:lnTo>
                        <a:pt x="23" y="97"/>
                      </a:lnTo>
                      <a:lnTo>
                        <a:pt x="0" y="86"/>
                      </a:lnTo>
                      <a:lnTo>
                        <a:pt x="130" y="0"/>
                      </a:lnTo>
                      <a:lnTo>
                        <a:pt x="142" y="4"/>
                      </a:lnTo>
                      <a:lnTo>
                        <a:pt x="155" y="7"/>
                      </a:lnTo>
                      <a:lnTo>
                        <a:pt x="166" y="10"/>
                      </a:lnTo>
                      <a:lnTo>
                        <a:pt x="179" y="12"/>
                      </a:lnTo>
                      <a:lnTo>
                        <a:pt x="193" y="13"/>
                      </a:lnTo>
                      <a:lnTo>
                        <a:pt x="205" y="14"/>
                      </a:lnTo>
                      <a:lnTo>
                        <a:pt x="219" y="15"/>
                      </a:lnTo>
                      <a:lnTo>
                        <a:pt x="233" y="16"/>
                      </a:lnTo>
                      <a:lnTo>
                        <a:pt x="247" y="16"/>
                      </a:lnTo>
                      <a:lnTo>
                        <a:pt x="262" y="16"/>
                      </a:lnTo>
                      <a:lnTo>
                        <a:pt x="277" y="16"/>
                      </a:lnTo>
                      <a:lnTo>
                        <a:pt x="293" y="16"/>
                      </a:lnTo>
                      <a:lnTo>
                        <a:pt x="309" y="16"/>
                      </a:lnTo>
                      <a:lnTo>
                        <a:pt x="325" y="16"/>
                      </a:lnTo>
                      <a:lnTo>
                        <a:pt x="342" y="16"/>
                      </a:lnTo>
                      <a:lnTo>
                        <a:pt x="360" y="16"/>
                      </a:lnTo>
                      <a:close/>
                    </a:path>
                  </a:pathLst>
                </a:custGeom>
                <a:solidFill>
                  <a:srgbClr val="8c4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 flipH="1">
                  <a:off x="6195960" y="3369600"/>
                  <a:ext cx="117000" cy="44280"/>
                </a:xfrm>
                <a:custGeom>
                  <a:avLst/>
                  <a:gdLst/>
                  <a:ahLst/>
                  <a:rect l="l" t="t" r="r" b="b"/>
                  <a:pathLst>
                    <a:path w="345" h="144">
                      <a:moveTo>
                        <a:pt x="345" y="18"/>
                      </a:moveTo>
                      <a:lnTo>
                        <a:pt x="333" y="35"/>
                      </a:lnTo>
                      <a:lnTo>
                        <a:pt x="323" y="50"/>
                      </a:lnTo>
                      <a:lnTo>
                        <a:pt x="311" y="66"/>
                      </a:lnTo>
                      <a:lnTo>
                        <a:pt x="301" y="81"/>
                      </a:lnTo>
                      <a:lnTo>
                        <a:pt x="289" y="97"/>
                      </a:lnTo>
                      <a:lnTo>
                        <a:pt x="279" y="113"/>
                      </a:lnTo>
                      <a:lnTo>
                        <a:pt x="267" y="128"/>
                      </a:lnTo>
                      <a:lnTo>
                        <a:pt x="257" y="144"/>
                      </a:lnTo>
                      <a:lnTo>
                        <a:pt x="244" y="144"/>
                      </a:lnTo>
                      <a:lnTo>
                        <a:pt x="233" y="144"/>
                      </a:lnTo>
                      <a:lnTo>
                        <a:pt x="220" y="143"/>
                      </a:lnTo>
                      <a:lnTo>
                        <a:pt x="206" y="143"/>
                      </a:lnTo>
                      <a:lnTo>
                        <a:pt x="194" y="143"/>
                      </a:lnTo>
                      <a:lnTo>
                        <a:pt x="180" y="142"/>
                      </a:lnTo>
                      <a:lnTo>
                        <a:pt x="165" y="141"/>
                      </a:lnTo>
                      <a:lnTo>
                        <a:pt x="150" y="138"/>
                      </a:lnTo>
                      <a:lnTo>
                        <a:pt x="134" y="136"/>
                      </a:lnTo>
                      <a:lnTo>
                        <a:pt x="118" y="133"/>
                      </a:lnTo>
                      <a:lnTo>
                        <a:pt x="100" y="128"/>
                      </a:lnTo>
                      <a:lnTo>
                        <a:pt x="82" y="123"/>
                      </a:lnTo>
                      <a:lnTo>
                        <a:pt x="64" y="116"/>
                      </a:lnTo>
                      <a:lnTo>
                        <a:pt x="43" y="108"/>
                      </a:lnTo>
                      <a:lnTo>
                        <a:pt x="22" y="99"/>
                      </a:lnTo>
                      <a:lnTo>
                        <a:pt x="0" y="88"/>
                      </a:lnTo>
                      <a:lnTo>
                        <a:pt x="16" y="77"/>
                      </a:lnTo>
                      <a:lnTo>
                        <a:pt x="32" y="66"/>
                      </a:lnTo>
                      <a:lnTo>
                        <a:pt x="49" y="55"/>
                      </a:lnTo>
                      <a:lnTo>
                        <a:pt x="64" y="44"/>
                      </a:lnTo>
                      <a:lnTo>
                        <a:pt x="80" y="32"/>
                      </a:lnTo>
                      <a:lnTo>
                        <a:pt x="96" y="22"/>
                      </a:lnTo>
                      <a:lnTo>
                        <a:pt x="111" y="10"/>
                      </a:lnTo>
                      <a:lnTo>
                        <a:pt x="127" y="0"/>
                      </a:lnTo>
                      <a:lnTo>
                        <a:pt x="138" y="4"/>
                      </a:lnTo>
                      <a:lnTo>
                        <a:pt x="150" y="7"/>
                      </a:lnTo>
                      <a:lnTo>
                        <a:pt x="161" y="9"/>
                      </a:lnTo>
                      <a:lnTo>
                        <a:pt x="173" y="12"/>
                      </a:lnTo>
                      <a:lnTo>
                        <a:pt x="186" y="13"/>
                      </a:lnTo>
                      <a:lnTo>
                        <a:pt x="198" y="15"/>
                      </a:lnTo>
                      <a:lnTo>
                        <a:pt x="212" y="16"/>
                      </a:lnTo>
                      <a:lnTo>
                        <a:pt x="225" y="16"/>
                      </a:lnTo>
                      <a:lnTo>
                        <a:pt x="239" y="17"/>
                      </a:lnTo>
                      <a:lnTo>
                        <a:pt x="252" y="17"/>
                      </a:lnTo>
                      <a:lnTo>
                        <a:pt x="267" y="18"/>
                      </a:lnTo>
                      <a:lnTo>
                        <a:pt x="282" y="18"/>
                      </a:lnTo>
                      <a:lnTo>
                        <a:pt x="297" y="18"/>
                      </a:lnTo>
                      <a:lnTo>
                        <a:pt x="312" y="18"/>
                      </a:lnTo>
                      <a:lnTo>
                        <a:pt x="328" y="18"/>
                      </a:lnTo>
                      <a:lnTo>
                        <a:pt x="345" y="18"/>
                      </a:lnTo>
                      <a:close/>
                    </a:path>
                  </a:pathLst>
                </a:custGeom>
                <a:solidFill>
                  <a:srgbClr val="7c4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 flipH="1">
                  <a:off x="6202080" y="3368520"/>
                  <a:ext cx="111600" cy="43200"/>
                </a:xfrm>
                <a:custGeom>
                  <a:avLst/>
                  <a:gdLst/>
                  <a:ahLst/>
                  <a:rect l="l" t="t" r="r" b="b"/>
                  <a:pathLst>
                    <a:path w="330" h="143">
                      <a:moveTo>
                        <a:pt x="330" y="19"/>
                      </a:moveTo>
                      <a:lnTo>
                        <a:pt x="318" y="34"/>
                      </a:lnTo>
                      <a:lnTo>
                        <a:pt x="308" y="49"/>
                      </a:lnTo>
                      <a:lnTo>
                        <a:pt x="296" y="66"/>
                      </a:lnTo>
                      <a:lnTo>
                        <a:pt x="285" y="81"/>
                      </a:lnTo>
                      <a:lnTo>
                        <a:pt x="273" y="97"/>
                      </a:lnTo>
                      <a:lnTo>
                        <a:pt x="263" y="112"/>
                      </a:lnTo>
                      <a:lnTo>
                        <a:pt x="251" y="128"/>
                      </a:lnTo>
                      <a:lnTo>
                        <a:pt x="240" y="143"/>
                      </a:lnTo>
                      <a:lnTo>
                        <a:pt x="228" y="143"/>
                      </a:lnTo>
                      <a:lnTo>
                        <a:pt x="217" y="142"/>
                      </a:lnTo>
                      <a:lnTo>
                        <a:pt x="205" y="142"/>
                      </a:lnTo>
                      <a:lnTo>
                        <a:pt x="193" y="142"/>
                      </a:lnTo>
                      <a:lnTo>
                        <a:pt x="180" y="140"/>
                      </a:lnTo>
                      <a:lnTo>
                        <a:pt x="167" y="140"/>
                      </a:lnTo>
                      <a:lnTo>
                        <a:pt x="153" y="139"/>
                      </a:lnTo>
                      <a:lnTo>
                        <a:pt x="140" y="137"/>
                      </a:lnTo>
                      <a:lnTo>
                        <a:pt x="126" y="135"/>
                      </a:lnTo>
                      <a:lnTo>
                        <a:pt x="110" y="131"/>
                      </a:lnTo>
                      <a:lnTo>
                        <a:pt x="93" y="127"/>
                      </a:lnTo>
                      <a:lnTo>
                        <a:pt x="77" y="122"/>
                      </a:lnTo>
                      <a:lnTo>
                        <a:pt x="59" y="115"/>
                      </a:lnTo>
                      <a:lnTo>
                        <a:pt x="41" y="108"/>
                      </a:lnTo>
                      <a:lnTo>
                        <a:pt x="21" y="99"/>
                      </a:lnTo>
                      <a:lnTo>
                        <a:pt x="0" y="89"/>
                      </a:lnTo>
                      <a:lnTo>
                        <a:pt x="15" y="77"/>
                      </a:lnTo>
                      <a:lnTo>
                        <a:pt x="31" y="67"/>
                      </a:lnTo>
                      <a:lnTo>
                        <a:pt x="46" y="55"/>
                      </a:lnTo>
                      <a:lnTo>
                        <a:pt x="62" y="44"/>
                      </a:lnTo>
                      <a:lnTo>
                        <a:pt x="77" y="33"/>
                      </a:lnTo>
                      <a:lnTo>
                        <a:pt x="92" y="22"/>
                      </a:lnTo>
                      <a:lnTo>
                        <a:pt x="108" y="11"/>
                      </a:lnTo>
                      <a:lnTo>
                        <a:pt x="123" y="0"/>
                      </a:lnTo>
                      <a:lnTo>
                        <a:pt x="134" y="3"/>
                      </a:lnTo>
                      <a:lnTo>
                        <a:pt x="144" y="6"/>
                      </a:lnTo>
                      <a:lnTo>
                        <a:pt x="156" y="9"/>
                      </a:lnTo>
                      <a:lnTo>
                        <a:pt x="167" y="10"/>
                      </a:lnTo>
                      <a:lnTo>
                        <a:pt x="179" y="13"/>
                      </a:lnTo>
                      <a:lnTo>
                        <a:pt x="191" y="14"/>
                      </a:lnTo>
                      <a:lnTo>
                        <a:pt x="204" y="16"/>
                      </a:lnTo>
                      <a:lnTo>
                        <a:pt x="217" y="16"/>
                      </a:lnTo>
                      <a:lnTo>
                        <a:pt x="229" y="17"/>
                      </a:lnTo>
                      <a:lnTo>
                        <a:pt x="243" y="18"/>
                      </a:lnTo>
                      <a:lnTo>
                        <a:pt x="257" y="18"/>
                      </a:lnTo>
                      <a:lnTo>
                        <a:pt x="271" y="19"/>
                      </a:lnTo>
                      <a:lnTo>
                        <a:pt x="286" y="19"/>
                      </a:lnTo>
                      <a:lnTo>
                        <a:pt x="300" y="19"/>
                      </a:lnTo>
                      <a:lnTo>
                        <a:pt x="315" y="19"/>
                      </a:lnTo>
                      <a:lnTo>
                        <a:pt x="330" y="19"/>
                      </a:lnTo>
                      <a:close/>
                    </a:path>
                  </a:pathLst>
                </a:custGeom>
                <a:solidFill>
                  <a:srgbClr val="6b4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 flipH="1">
                  <a:off x="6207840" y="3368520"/>
                  <a:ext cx="105840" cy="43200"/>
                </a:xfrm>
                <a:custGeom>
                  <a:avLst/>
                  <a:gdLst/>
                  <a:ahLst/>
                  <a:rect l="l" t="t" r="r" b="b"/>
                  <a:pathLst>
                    <a:path w="314" h="142">
                      <a:moveTo>
                        <a:pt x="314" y="21"/>
                      </a:moveTo>
                      <a:lnTo>
                        <a:pt x="302" y="36"/>
                      </a:lnTo>
                      <a:lnTo>
                        <a:pt x="290" y="51"/>
                      </a:lnTo>
                      <a:lnTo>
                        <a:pt x="280" y="66"/>
                      </a:lnTo>
                      <a:lnTo>
                        <a:pt x="269" y="81"/>
                      </a:lnTo>
                      <a:lnTo>
                        <a:pt x="257" y="98"/>
                      </a:lnTo>
                      <a:lnTo>
                        <a:pt x="246" y="112"/>
                      </a:lnTo>
                      <a:lnTo>
                        <a:pt x="234" y="127"/>
                      </a:lnTo>
                      <a:lnTo>
                        <a:pt x="223" y="142"/>
                      </a:lnTo>
                      <a:lnTo>
                        <a:pt x="212" y="142"/>
                      </a:lnTo>
                      <a:lnTo>
                        <a:pt x="202" y="141"/>
                      </a:lnTo>
                      <a:lnTo>
                        <a:pt x="190" y="141"/>
                      </a:lnTo>
                      <a:lnTo>
                        <a:pt x="180" y="141"/>
                      </a:lnTo>
                      <a:lnTo>
                        <a:pt x="167" y="140"/>
                      </a:lnTo>
                      <a:lnTo>
                        <a:pt x="156" y="140"/>
                      </a:lnTo>
                      <a:lnTo>
                        <a:pt x="143" y="138"/>
                      </a:lnTo>
                      <a:lnTo>
                        <a:pt x="130" y="137"/>
                      </a:lnTo>
                      <a:lnTo>
                        <a:pt x="117" y="134"/>
                      </a:lnTo>
                      <a:lnTo>
                        <a:pt x="103" y="131"/>
                      </a:lnTo>
                      <a:lnTo>
                        <a:pt x="88" y="126"/>
                      </a:lnTo>
                      <a:lnTo>
                        <a:pt x="72" y="122"/>
                      </a:lnTo>
                      <a:lnTo>
                        <a:pt x="55" y="116"/>
                      </a:lnTo>
                      <a:lnTo>
                        <a:pt x="38" y="109"/>
                      </a:lnTo>
                      <a:lnTo>
                        <a:pt x="20" y="100"/>
                      </a:lnTo>
                      <a:lnTo>
                        <a:pt x="0" y="91"/>
                      </a:lnTo>
                      <a:lnTo>
                        <a:pt x="15" y="79"/>
                      </a:lnTo>
                      <a:lnTo>
                        <a:pt x="30" y="68"/>
                      </a:lnTo>
                      <a:lnTo>
                        <a:pt x="45" y="57"/>
                      </a:lnTo>
                      <a:lnTo>
                        <a:pt x="60" y="46"/>
                      </a:lnTo>
                      <a:lnTo>
                        <a:pt x="75" y="34"/>
                      </a:lnTo>
                      <a:lnTo>
                        <a:pt x="90" y="23"/>
                      </a:lnTo>
                      <a:lnTo>
                        <a:pt x="105" y="11"/>
                      </a:lnTo>
                      <a:lnTo>
                        <a:pt x="120" y="0"/>
                      </a:lnTo>
                      <a:lnTo>
                        <a:pt x="129" y="3"/>
                      </a:lnTo>
                      <a:lnTo>
                        <a:pt x="140" y="5"/>
                      </a:lnTo>
                      <a:lnTo>
                        <a:pt x="150" y="8"/>
                      </a:lnTo>
                      <a:lnTo>
                        <a:pt x="161" y="10"/>
                      </a:lnTo>
                      <a:lnTo>
                        <a:pt x="172" y="12"/>
                      </a:lnTo>
                      <a:lnTo>
                        <a:pt x="183" y="15"/>
                      </a:lnTo>
                      <a:lnTo>
                        <a:pt x="196" y="16"/>
                      </a:lnTo>
                      <a:lnTo>
                        <a:pt x="209" y="17"/>
                      </a:lnTo>
                      <a:lnTo>
                        <a:pt x="220" y="18"/>
                      </a:lnTo>
                      <a:lnTo>
                        <a:pt x="233" y="19"/>
                      </a:lnTo>
                      <a:lnTo>
                        <a:pt x="247" y="20"/>
                      </a:lnTo>
                      <a:lnTo>
                        <a:pt x="259" y="20"/>
                      </a:lnTo>
                      <a:lnTo>
                        <a:pt x="273" y="21"/>
                      </a:lnTo>
                      <a:lnTo>
                        <a:pt x="286" y="21"/>
                      </a:lnTo>
                      <a:lnTo>
                        <a:pt x="300" y="21"/>
                      </a:lnTo>
                      <a:lnTo>
                        <a:pt x="314" y="21"/>
                      </a:lnTo>
                      <a:close/>
                    </a:path>
                  </a:pathLst>
                </a:custGeom>
                <a:solidFill>
                  <a:srgbClr val="5b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 flipH="1">
                  <a:off x="6212160" y="3367440"/>
                  <a:ext cx="101520" cy="43200"/>
                </a:xfrm>
                <a:custGeom>
                  <a:avLst/>
                  <a:gdLst/>
                  <a:ahLst/>
                  <a:rect l="l" t="t" r="r" b="b"/>
                  <a:pathLst>
                    <a:path w="299" h="142">
                      <a:moveTo>
                        <a:pt x="299" y="23"/>
                      </a:moveTo>
                      <a:lnTo>
                        <a:pt x="287" y="38"/>
                      </a:lnTo>
                      <a:lnTo>
                        <a:pt x="275" y="53"/>
                      </a:lnTo>
                      <a:lnTo>
                        <a:pt x="264" y="67"/>
                      </a:lnTo>
                      <a:lnTo>
                        <a:pt x="252" y="82"/>
                      </a:lnTo>
                      <a:lnTo>
                        <a:pt x="240" y="97"/>
                      </a:lnTo>
                      <a:lnTo>
                        <a:pt x="228" y="112"/>
                      </a:lnTo>
                      <a:lnTo>
                        <a:pt x="217" y="127"/>
                      </a:lnTo>
                      <a:lnTo>
                        <a:pt x="205" y="142"/>
                      </a:lnTo>
                      <a:lnTo>
                        <a:pt x="196" y="142"/>
                      </a:lnTo>
                      <a:lnTo>
                        <a:pt x="186" y="141"/>
                      </a:lnTo>
                      <a:lnTo>
                        <a:pt x="176" y="141"/>
                      </a:lnTo>
                      <a:lnTo>
                        <a:pt x="166" y="141"/>
                      </a:lnTo>
                      <a:lnTo>
                        <a:pt x="156" y="140"/>
                      </a:lnTo>
                      <a:lnTo>
                        <a:pt x="144" y="139"/>
                      </a:lnTo>
                      <a:lnTo>
                        <a:pt x="133" y="138"/>
                      </a:lnTo>
                      <a:lnTo>
                        <a:pt x="121" y="135"/>
                      </a:lnTo>
                      <a:lnTo>
                        <a:pt x="108" y="133"/>
                      </a:lnTo>
                      <a:lnTo>
                        <a:pt x="96" y="129"/>
                      </a:lnTo>
                      <a:lnTo>
                        <a:pt x="82" y="126"/>
                      </a:lnTo>
                      <a:lnTo>
                        <a:pt x="67" y="121"/>
                      </a:lnTo>
                      <a:lnTo>
                        <a:pt x="52" y="116"/>
                      </a:lnTo>
                      <a:lnTo>
                        <a:pt x="36" y="109"/>
                      </a:lnTo>
                      <a:lnTo>
                        <a:pt x="19" y="102"/>
                      </a:lnTo>
                      <a:lnTo>
                        <a:pt x="0" y="93"/>
                      </a:lnTo>
                      <a:lnTo>
                        <a:pt x="15" y="81"/>
                      </a:lnTo>
                      <a:lnTo>
                        <a:pt x="29" y="70"/>
                      </a:lnTo>
                      <a:lnTo>
                        <a:pt x="44" y="58"/>
                      </a:lnTo>
                      <a:lnTo>
                        <a:pt x="59" y="47"/>
                      </a:lnTo>
                      <a:lnTo>
                        <a:pt x="73" y="35"/>
                      </a:lnTo>
                      <a:lnTo>
                        <a:pt x="88" y="23"/>
                      </a:lnTo>
                      <a:lnTo>
                        <a:pt x="102" y="12"/>
                      </a:lnTo>
                      <a:lnTo>
                        <a:pt x="117" y="0"/>
                      </a:lnTo>
                      <a:lnTo>
                        <a:pt x="135" y="6"/>
                      </a:lnTo>
                      <a:lnTo>
                        <a:pt x="155" y="11"/>
                      </a:lnTo>
                      <a:lnTo>
                        <a:pt x="176" y="14"/>
                      </a:lnTo>
                      <a:lnTo>
                        <a:pt x="199" y="18"/>
                      </a:lnTo>
                      <a:lnTo>
                        <a:pt x="224" y="20"/>
                      </a:lnTo>
                      <a:lnTo>
                        <a:pt x="249" y="22"/>
                      </a:lnTo>
                      <a:lnTo>
                        <a:pt x="273" y="23"/>
                      </a:lnTo>
                      <a:lnTo>
                        <a:pt x="299" y="23"/>
                      </a:lnTo>
                      <a:close/>
                    </a:path>
                  </a:pathLst>
                </a:custGeom>
                <a:solidFill>
                  <a:srgbClr val="4c3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 flipH="1">
                  <a:off x="6217920" y="3367440"/>
                  <a:ext cx="95760" cy="42480"/>
                </a:xfrm>
                <a:custGeom>
                  <a:avLst/>
                  <a:gdLst/>
                  <a:ahLst/>
                  <a:rect l="l" t="t" r="r" b="b"/>
                  <a:pathLst>
                    <a:path w="284" h="140">
                      <a:moveTo>
                        <a:pt x="284" y="24"/>
                      </a:moveTo>
                      <a:lnTo>
                        <a:pt x="272" y="38"/>
                      </a:lnTo>
                      <a:lnTo>
                        <a:pt x="261" y="53"/>
                      </a:lnTo>
                      <a:lnTo>
                        <a:pt x="248" y="67"/>
                      </a:lnTo>
                      <a:lnTo>
                        <a:pt x="236" y="82"/>
                      </a:lnTo>
                      <a:lnTo>
                        <a:pt x="224" y="97"/>
                      </a:lnTo>
                      <a:lnTo>
                        <a:pt x="212" y="111"/>
                      </a:lnTo>
                      <a:lnTo>
                        <a:pt x="199" y="126"/>
                      </a:lnTo>
                      <a:lnTo>
                        <a:pt x="188" y="140"/>
                      </a:lnTo>
                      <a:lnTo>
                        <a:pt x="179" y="140"/>
                      </a:lnTo>
                      <a:lnTo>
                        <a:pt x="171" y="139"/>
                      </a:lnTo>
                      <a:lnTo>
                        <a:pt x="161" y="139"/>
                      </a:lnTo>
                      <a:lnTo>
                        <a:pt x="152" y="139"/>
                      </a:lnTo>
                      <a:lnTo>
                        <a:pt x="142" y="137"/>
                      </a:lnTo>
                      <a:lnTo>
                        <a:pt x="133" y="136"/>
                      </a:lnTo>
                      <a:lnTo>
                        <a:pt x="122" y="135"/>
                      </a:lnTo>
                      <a:lnTo>
                        <a:pt x="111" y="134"/>
                      </a:lnTo>
                      <a:lnTo>
                        <a:pt x="99" y="132"/>
                      </a:lnTo>
                      <a:lnTo>
                        <a:pt x="88" y="128"/>
                      </a:lnTo>
                      <a:lnTo>
                        <a:pt x="75" y="125"/>
                      </a:lnTo>
                      <a:lnTo>
                        <a:pt x="61" y="120"/>
                      </a:lnTo>
                      <a:lnTo>
                        <a:pt x="47" y="115"/>
                      </a:lnTo>
                      <a:lnTo>
                        <a:pt x="32" y="109"/>
                      </a:lnTo>
                      <a:lnTo>
                        <a:pt x="16" y="102"/>
                      </a:lnTo>
                      <a:lnTo>
                        <a:pt x="0" y="94"/>
                      </a:lnTo>
                      <a:lnTo>
                        <a:pt x="14" y="82"/>
                      </a:lnTo>
                      <a:lnTo>
                        <a:pt x="29" y="71"/>
                      </a:lnTo>
                      <a:lnTo>
                        <a:pt x="43" y="59"/>
                      </a:lnTo>
                      <a:lnTo>
                        <a:pt x="57" y="46"/>
                      </a:lnTo>
                      <a:lnTo>
                        <a:pt x="72" y="35"/>
                      </a:lnTo>
                      <a:lnTo>
                        <a:pt x="85" y="23"/>
                      </a:lnTo>
                      <a:lnTo>
                        <a:pt x="99" y="12"/>
                      </a:lnTo>
                      <a:lnTo>
                        <a:pt x="113" y="0"/>
                      </a:lnTo>
                      <a:lnTo>
                        <a:pt x="129" y="5"/>
                      </a:lnTo>
                      <a:lnTo>
                        <a:pt x="149" y="10"/>
                      </a:lnTo>
                      <a:lnTo>
                        <a:pt x="170" y="13"/>
                      </a:lnTo>
                      <a:lnTo>
                        <a:pt x="191" y="18"/>
                      </a:lnTo>
                      <a:lnTo>
                        <a:pt x="214" y="20"/>
                      </a:lnTo>
                      <a:lnTo>
                        <a:pt x="237" y="22"/>
                      </a:lnTo>
                      <a:lnTo>
                        <a:pt x="261" y="24"/>
                      </a:lnTo>
                      <a:lnTo>
                        <a:pt x="284" y="24"/>
                      </a:lnTo>
                      <a:close/>
                    </a:path>
                  </a:pathLst>
                </a:custGeom>
                <a:solidFill>
                  <a:srgbClr val="3d3d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 flipH="1">
                  <a:off x="6222240" y="3367440"/>
                  <a:ext cx="91440" cy="42480"/>
                </a:xfrm>
                <a:custGeom>
                  <a:avLst/>
                  <a:gdLst/>
                  <a:ahLst/>
                  <a:rect l="l" t="t" r="r" b="b"/>
                  <a:pathLst>
                    <a:path w="270" h="139">
                      <a:moveTo>
                        <a:pt x="270" y="26"/>
                      </a:moveTo>
                      <a:lnTo>
                        <a:pt x="257" y="40"/>
                      </a:lnTo>
                      <a:lnTo>
                        <a:pt x="244" y="54"/>
                      </a:lnTo>
                      <a:lnTo>
                        <a:pt x="233" y="68"/>
                      </a:lnTo>
                      <a:lnTo>
                        <a:pt x="220" y="83"/>
                      </a:lnTo>
                      <a:lnTo>
                        <a:pt x="208" y="97"/>
                      </a:lnTo>
                      <a:lnTo>
                        <a:pt x="196" y="111"/>
                      </a:lnTo>
                      <a:lnTo>
                        <a:pt x="183" y="126"/>
                      </a:lnTo>
                      <a:lnTo>
                        <a:pt x="171" y="139"/>
                      </a:lnTo>
                      <a:lnTo>
                        <a:pt x="155" y="138"/>
                      </a:lnTo>
                      <a:lnTo>
                        <a:pt x="138" y="137"/>
                      </a:lnTo>
                      <a:lnTo>
                        <a:pt x="120" y="136"/>
                      </a:lnTo>
                      <a:lnTo>
                        <a:pt x="102" y="132"/>
                      </a:lnTo>
                      <a:lnTo>
                        <a:pt x="80" y="128"/>
                      </a:lnTo>
                      <a:lnTo>
                        <a:pt x="57" y="120"/>
                      </a:lnTo>
                      <a:lnTo>
                        <a:pt x="30" y="109"/>
                      </a:lnTo>
                      <a:lnTo>
                        <a:pt x="0" y="96"/>
                      </a:lnTo>
                      <a:lnTo>
                        <a:pt x="14" y="84"/>
                      </a:lnTo>
                      <a:lnTo>
                        <a:pt x="28" y="71"/>
                      </a:lnTo>
                      <a:lnTo>
                        <a:pt x="42" y="60"/>
                      </a:lnTo>
                      <a:lnTo>
                        <a:pt x="55" y="47"/>
                      </a:lnTo>
                      <a:lnTo>
                        <a:pt x="69" y="36"/>
                      </a:lnTo>
                      <a:lnTo>
                        <a:pt x="83" y="24"/>
                      </a:lnTo>
                      <a:lnTo>
                        <a:pt x="96" y="12"/>
                      </a:lnTo>
                      <a:lnTo>
                        <a:pt x="110" y="0"/>
                      </a:lnTo>
                      <a:lnTo>
                        <a:pt x="125" y="5"/>
                      </a:lnTo>
                      <a:lnTo>
                        <a:pt x="143" y="9"/>
                      </a:lnTo>
                      <a:lnTo>
                        <a:pt x="163" y="14"/>
                      </a:lnTo>
                      <a:lnTo>
                        <a:pt x="183" y="18"/>
                      </a:lnTo>
                      <a:lnTo>
                        <a:pt x="205" y="22"/>
                      </a:lnTo>
                      <a:lnTo>
                        <a:pt x="227" y="24"/>
                      </a:lnTo>
                      <a:lnTo>
                        <a:pt x="249" y="25"/>
                      </a:lnTo>
                      <a:lnTo>
                        <a:pt x="270" y="26"/>
                      </a:lnTo>
                      <a:close/>
                    </a:path>
                  </a:pathLst>
                </a:custGeom>
                <a:solidFill>
                  <a:srgbClr val="2b3a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 flipH="1">
                  <a:off x="6228000" y="3366360"/>
                  <a:ext cx="85680" cy="42120"/>
                </a:xfrm>
                <a:custGeom>
                  <a:avLst/>
                  <a:gdLst/>
                  <a:ahLst/>
                  <a:rect l="l" t="t" r="r" b="b"/>
                  <a:pathLst>
                    <a:path w="254" h="138">
                      <a:moveTo>
                        <a:pt x="254" y="27"/>
                      </a:moveTo>
                      <a:lnTo>
                        <a:pt x="241" y="41"/>
                      </a:lnTo>
                      <a:lnTo>
                        <a:pt x="228" y="55"/>
                      </a:lnTo>
                      <a:lnTo>
                        <a:pt x="216" y="69"/>
                      </a:lnTo>
                      <a:lnTo>
                        <a:pt x="204" y="83"/>
                      </a:lnTo>
                      <a:lnTo>
                        <a:pt x="191" y="97"/>
                      </a:lnTo>
                      <a:lnTo>
                        <a:pt x="179" y="110"/>
                      </a:lnTo>
                      <a:lnTo>
                        <a:pt x="166" y="124"/>
                      </a:lnTo>
                      <a:lnTo>
                        <a:pt x="153" y="138"/>
                      </a:lnTo>
                      <a:lnTo>
                        <a:pt x="140" y="137"/>
                      </a:lnTo>
                      <a:lnTo>
                        <a:pt x="125" y="136"/>
                      </a:lnTo>
                      <a:lnTo>
                        <a:pt x="108" y="135"/>
                      </a:lnTo>
                      <a:lnTo>
                        <a:pt x="91" y="131"/>
                      </a:lnTo>
                      <a:lnTo>
                        <a:pt x="72" y="127"/>
                      </a:lnTo>
                      <a:lnTo>
                        <a:pt x="51" y="120"/>
                      </a:lnTo>
                      <a:lnTo>
                        <a:pt x="27" y="109"/>
                      </a:lnTo>
                      <a:lnTo>
                        <a:pt x="0" y="97"/>
                      </a:lnTo>
                      <a:lnTo>
                        <a:pt x="14" y="84"/>
                      </a:lnTo>
                      <a:lnTo>
                        <a:pt x="27" y="72"/>
                      </a:lnTo>
                      <a:lnTo>
                        <a:pt x="41" y="60"/>
                      </a:lnTo>
                      <a:lnTo>
                        <a:pt x="53" y="48"/>
                      </a:lnTo>
                      <a:lnTo>
                        <a:pt x="67" y="36"/>
                      </a:lnTo>
                      <a:lnTo>
                        <a:pt x="80" y="24"/>
                      </a:lnTo>
                      <a:lnTo>
                        <a:pt x="92" y="11"/>
                      </a:lnTo>
                      <a:lnTo>
                        <a:pt x="105" y="0"/>
                      </a:lnTo>
                      <a:lnTo>
                        <a:pt x="119" y="4"/>
                      </a:lnTo>
                      <a:lnTo>
                        <a:pt x="136" y="9"/>
                      </a:lnTo>
                      <a:lnTo>
                        <a:pt x="155" y="14"/>
                      </a:lnTo>
                      <a:lnTo>
                        <a:pt x="175" y="17"/>
                      </a:lnTo>
                      <a:lnTo>
                        <a:pt x="196" y="22"/>
                      </a:lnTo>
                      <a:lnTo>
                        <a:pt x="216" y="25"/>
                      </a:lnTo>
                      <a:lnTo>
                        <a:pt x="235" y="26"/>
                      </a:lnTo>
                      <a:lnTo>
                        <a:pt x="254" y="27"/>
                      </a:lnTo>
                      <a:close/>
                    </a:path>
                  </a:pathLst>
                </a:custGeom>
                <a:solidFill>
                  <a:srgbClr val="1c3a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 flipH="1">
                  <a:off x="6232680" y="3366360"/>
                  <a:ext cx="80280" cy="42120"/>
                </a:xfrm>
                <a:custGeom>
                  <a:avLst/>
                  <a:gdLst/>
                  <a:ahLst/>
                  <a:rect l="l" t="t" r="r" b="b"/>
                  <a:pathLst>
                    <a:path w="239" h="138">
                      <a:moveTo>
                        <a:pt x="239" y="29"/>
                      </a:moveTo>
                      <a:lnTo>
                        <a:pt x="226" y="43"/>
                      </a:lnTo>
                      <a:lnTo>
                        <a:pt x="213" y="56"/>
                      </a:lnTo>
                      <a:lnTo>
                        <a:pt x="201" y="70"/>
                      </a:lnTo>
                      <a:lnTo>
                        <a:pt x="188" y="84"/>
                      </a:lnTo>
                      <a:lnTo>
                        <a:pt x="174" y="97"/>
                      </a:lnTo>
                      <a:lnTo>
                        <a:pt x="161" y="111"/>
                      </a:lnTo>
                      <a:lnTo>
                        <a:pt x="149" y="124"/>
                      </a:lnTo>
                      <a:lnTo>
                        <a:pt x="136" y="138"/>
                      </a:lnTo>
                      <a:lnTo>
                        <a:pt x="123" y="137"/>
                      </a:lnTo>
                      <a:lnTo>
                        <a:pt x="111" y="135"/>
                      </a:lnTo>
                      <a:lnTo>
                        <a:pt x="97" y="133"/>
                      </a:lnTo>
                      <a:lnTo>
                        <a:pt x="82" y="130"/>
                      </a:lnTo>
                      <a:lnTo>
                        <a:pt x="66" y="125"/>
                      </a:lnTo>
                      <a:lnTo>
                        <a:pt x="47" y="119"/>
                      </a:lnTo>
                      <a:lnTo>
                        <a:pt x="26" y="110"/>
                      </a:lnTo>
                      <a:lnTo>
                        <a:pt x="0" y="99"/>
                      </a:lnTo>
                      <a:lnTo>
                        <a:pt x="13" y="86"/>
                      </a:lnTo>
                      <a:lnTo>
                        <a:pt x="26" y="73"/>
                      </a:lnTo>
                      <a:lnTo>
                        <a:pt x="39" y="62"/>
                      </a:lnTo>
                      <a:lnTo>
                        <a:pt x="52" y="49"/>
                      </a:lnTo>
                      <a:lnTo>
                        <a:pt x="65" y="36"/>
                      </a:lnTo>
                      <a:lnTo>
                        <a:pt x="77" y="25"/>
                      </a:lnTo>
                      <a:lnTo>
                        <a:pt x="89" y="12"/>
                      </a:lnTo>
                      <a:lnTo>
                        <a:pt x="102" y="0"/>
                      </a:lnTo>
                      <a:lnTo>
                        <a:pt x="114" y="3"/>
                      </a:lnTo>
                      <a:lnTo>
                        <a:pt x="130" y="8"/>
                      </a:lnTo>
                      <a:lnTo>
                        <a:pt x="148" y="13"/>
                      </a:lnTo>
                      <a:lnTo>
                        <a:pt x="167" y="18"/>
                      </a:lnTo>
                      <a:lnTo>
                        <a:pt x="186" y="23"/>
                      </a:lnTo>
                      <a:lnTo>
                        <a:pt x="205" y="26"/>
                      </a:lnTo>
                      <a:lnTo>
                        <a:pt x="223" y="28"/>
                      </a:lnTo>
                      <a:lnTo>
                        <a:pt x="239" y="29"/>
                      </a:lnTo>
                      <a:close/>
                    </a:path>
                  </a:pathLst>
                </a:custGeom>
                <a:solidFill>
                  <a:srgbClr val="0c3a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 flipH="1">
                  <a:off x="6237000" y="3364920"/>
                  <a:ext cx="75960" cy="42480"/>
                </a:xfrm>
                <a:custGeom>
                  <a:avLst/>
                  <a:gdLst/>
                  <a:ahLst/>
                  <a:rect l="l" t="t" r="r" b="b"/>
                  <a:pathLst>
                    <a:path w="224" h="137">
                      <a:moveTo>
                        <a:pt x="224" y="31"/>
                      </a:moveTo>
                      <a:lnTo>
                        <a:pt x="211" y="44"/>
                      </a:lnTo>
                      <a:lnTo>
                        <a:pt x="197" y="58"/>
                      </a:lnTo>
                      <a:lnTo>
                        <a:pt x="184" y="71"/>
                      </a:lnTo>
                      <a:lnTo>
                        <a:pt x="172" y="84"/>
                      </a:lnTo>
                      <a:lnTo>
                        <a:pt x="158" y="97"/>
                      </a:lnTo>
                      <a:lnTo>
                        <a:pt x="145" y="111"/>
                      </a:lnTo>
                      <a:lnTo>
                        <a:pt x="132" y="124"/>
                      </a:lnTo>
                      <a:lnTo>
                        <a:pt x="119" y="137"/>
                      </a:lnTo>
                      <a:lnTo>
                        <a:pt x="108" y="136"/>
                      </a:lnTo>
                      <a:lnTo>
                        <a:pt x="97" y="134"/>
                      </a:lnTo>
                      <a:lnTo>
                        <a:pt x="85" y="132"/>
                      </a:lnTo>
                      <a:lnTo>
                        <a:pt x="73" y="128"/>
                      </a:lnTo>
                      <a:lnTo>
                        <a:pt x="58" y="124"/>
                      </a:lnTo>
                      <a:lnTo>
                        <a:pt x="42" y="118"/>
                      </a:lnTo>
                      <a:lnTo>
                        <a:pt x="22" y="111"/>
                      </a:lnTo>
                      <a:lnTo>
                        <a:pt x="0" y="101"/>
                      </a:lnTo>
                      <a:lnTo>
                        <a:pt x="13" y="88"/>
                      </a:lnTo>
                      <a:lnTo>
                        <a:pt x="26" y="75"/>
                      </a:lnTo>
                      <a:lnTo>
                        <a:pt x="38" y="63"/>
                      </a:lnTo>
                      <a:lnTo>
                        <a:pt x="50" y="50"/>
                      </a:lnTo>
                      <a:lnTo>
                        <a:pt x="62" y="38"/>
                      </a:lnTo>
                      <a:lnTo>
                        <a:pt x="74" y="26"/>
                      </a:lnTo>
                      <a:lnTo>
                        <a:pt x="87" y="13"/>
                      </a:lnTo>
                      <a:lnTo>
                        <a:pt x="98" y="0"/>
                      </a:lnTo>
                      <a:lnTo>
                        <a:pt x="110" y="4"/>
                      </a:lnTo>
                      <a:lnTo>
                        <a:pt x="123" y="8"/>
                      </a:lnTo>
                      <a:lnTo>
                        <a:pt x="141" y="14"/>
                      </a:lnTo>
                      <a:lnTo>
                        <a:pt x="158" y="19"/>
                      </a:lnTo>
                      <a:lnTo>
                        <a:pt x="176" y="23"/>
                      </a:lnTo>
                      <a:lnTo>
                        <a:pt x="195" y="28"/>
                      </a:lnTo>
                      <a:lnTo>
                        <a:pt x="210" y="30"/>
                      </a:lnTo>
                      <a:lnTo>
                        <a:pt x="224" y="31"/>
                      </a:lnTo>
                      <a:close/>
                    </a:path>
                  </a:pathLst>
                </a:custGeom>
                <a:solidFill>
                  <a:srgbClr val="0035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 flipH="1">
                  <a:off x="6242760" y="3364920"/>
                  <a:ext cx="70200" cy="41400"/>
                </a:xfrm>
                <a:custGeom>
                  <a:avLst/>
                  <a:gdLst/>
                  <a:ahLst/>
                  <a:rect l="l" t="t" r="r" b="b"/>
                  <a:pathLst>
                    <a:path w="209" h="136">
                      <a:moveTo>
                        <a:pt x="209" y="32"/>
                      </a:moveTo>
                      <a:lnTo>
                        <a:pt x="195" y="45"/>
                      </a:lnTo>
                      <a:lnTo>
                        <a:pt x="182" y="58"/>
                      </a:lnTo>
                      <a:lnTo>
                        <a:pt x="168" y="72"/>
                      </a:lnTo>
                      <a:lnTo>
                        <a:pt x="156" y="84"/>
                      </a:lnTo>
                      <a:lnTo>
                        <a:pt x="142" y="97"/>
                      </a:lnTo>
                      <a:lnTo>
                        <a:pt x="128" y="110"/>
                      </a:lnTo>
                      <a:lnTo>
                        <a:pt x="115" y="123"/>
                      </a:lnTo>
                      <a:lnTo>
                        <a:pt x="102" y="136"/>
                      </a:lnTo>
                      <a:lnTo>
                        <a:pt x="92" y="135"/>
                      </a:lnTo>
                      <a:lnTo>
                        <a:pt x="83" y="133"/>
                      </a:lnTo>
                      <a:lnTo>
                        <a:pt x="74" y="130"/>
                      </a:lnTo>
                      <a:lnTo>
                        <a:pt x="64" y="127"/>
                      </a:lnTo>
                      <a:lnTo>
                        <a:pt x="51" y="123"/>
                      </a:lnTo>
                      <a:lnTo>
                        <a:pt x="36" y="118"/>
                      </a:lnTo>
                      <a:lnTo>
                        <a:pt x="20" y="111"/>
                      </a:lnTo>
                      <a:lnTo>
                        <a:pt x="0" y="102"/>
                      </a:lnTo>
                      <a:lnTo>
                        <a:pt x="12" y="89"/>
                      </a:lnTo>
                      <a:lnTo>
                        <a:pt x="24" y="76"/>
                      </a:lnTo>
                      <a:lnTo>
                        <a:pt x="36" y="64"/>
                      </a:lnTo>
                      <a:lnTo>
                        <a:pt x="49" y="51"/>
                      </a:lnTo>
                      <a:lnTo>
                        <a:pt x="60" y="38"/>
                      </a:lnTo>
                      <a:lnTo>
                        <a:pt x="72" y="26"/>
                      </a:lnTo>
                      <a:lnTo>
                        <a:pt x="83" y="13"/>
                      </a:lnTo>
                      <a:lnTo>
                        <a:pt x="95" y="0"/>
                      </a:lnTo>
                      <a:lnTo>
                        <a:pt x="105" y="4"/>
                      </a:lnTo>
                      <a:lnTo>
                        <a:pt x="118" y="7"/>
                      </a:lnTo>
                      <a:lnTo>
                        <a:pt x="134" y="13"/>
                      </a:lnTo>
                      <a:lnTo>
                        <a:pt x="150" y="19"/>
                      </a:lnTo>
                      <a:lnTo>
                        <a:pt x="167" y="23"/>
                      </a:lnTo>
                      <a:lnTo>
                        <a:pt x="183" y="28"/>
                      </a:lnTo>
                      <a:lnTo>
                        <a:pt x="197" y="31"/>
                      </a:lnTo>
                      <a:lnTo>
                        <a:pt x="209" y="32"/>
                      </a:lnTo>
                      <a:close/>
                    </a:path>
                  </a:pathLst>
                </a:custGeom>
                <a:solidFill>
                  <a:srgbClr val="0035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 flipH="1">
                  <a:off x="6248880" y="3364200"/>
                  <a:ext cx="64800" cy="41040"/>
                </a:xfrm>
                <a:custGeom>
                  <a:avLst/>
                  <a:gdLst/>
                  <a:ahLst/>
                  <a:rect l="l" t="t" r="r" b="b"/>
                  <a:pathLst>
                    <a:path w="194" h="136">
                      <a:moveTo>
                        <a:pt x="194" y="34"/>
                      </a:moveTo>
                      <a:lnTo>
                        <a:pt x="180" y="47"/>
                      </a:lnTo>
                      <a:lnTo>
                        <a:pt x="166" y="60"/>
                      </a:lnTo>
                      <a:lnTo>
                        <a:pt x="152" y="73"/>
                      </a:lnTo>
                      <a:lnTo>
                        <a:pt x="140" y="85"/>
                      </a:lnTo>
                      <a:lnTo>
                        <a:pt x="126" y="98"/>
                      </a:lnTo>
                      <a:lnTo>
                        <a:pt x="112" y="111"/>
                      </a:lnTo>
                      <a:lnTo>
                        <a:pt x="98" y="123"/>
                      </a:lnTo>
                      <a:lnTo>
                        <a:pt x="84" y="136"/>
                      </a:lnTo>
                      <a:lnTo>
                        <a:pt x="77" y="135"/>
                      </a:lnTo>
                      <a:lnTo>
                        <a:pt x="70" y="132"/>
                      </a:lnTo>
                      <a:lnTo>
                        <a:pt x="62" y="130"/>
                      </a:lnTo>
                      <a:lnTo>
                        <a:pt x="54" y="127"/>
                      </a:lnTo>
                      <a:lnTo>
                        <a:pt x="44" y="122"/>
                      </a:lnTo>
                      <a:lnTo>
                        <a:pt x="31" y="117"/>
                      </a:lnTo>
                      <a:lnTo>
                        <a:pt x="17" y="112"/>
                      </a:lnTo>
                      <a:lnTo>
                        <a:pt x="0" y="104"/>
                      </a:lnTo>
                      <a:lnTo>
                        <a:pt x="12" y="91"/>
                      </a:lnTo>
                      <a:lnTo>
                        <a:pt x="23" y="77"/>
                      </a:lnTo>
                      <a:lnTo>
                        <a:pt x="35" y="64"/>
                      </a:lnTo>
                      <a:lnTo>
                        <a:pt x="46" y="52"/>
                      </a:lnTo>
                      <a:lnTo>
                        <a:pt x="58" y="39"/>
                      </a:lnTo>
                      <a:lnTo>
                        <a:pt x="69" y="25"/>
                      </a:lnTo>
                      <a:lnTo>
                        <a:pt x="81" y="13"/>
                      </a:lnTo>
                      <a:lnTo>
                        <a:pt x="91" y="0"/>
                      </a:lnTo>
                      <a:lnTo>
                        <a:pt x="99" y="2"/>
                      </a:lnTo>
                      <a:lnTo>
                        <a:pt x="112" y="7"/>
                      </a:lnTo>
                      <a:lnTo>
                        <a:pt x="126" y="13"/>
                      </a:lnTo>
                      <a:lnTo>
                        <a:pt x="142" y="18"/>
                      </a:lnTo>
                      <a:lnTo>
                        <a:pt x="158" y="25"/>
                      </a:lnTo>
                      <a:lnTo>
                        <a:pt x="173" y="30"/>
                      </a:lnTo>
                      <a:lnTo>
                        <a:pt x="184" y="33"/>
                      </a:lnTo>
                      <a:lnTo>
                        <a:pt x="194" y="34"/>
                      </a:lnTo>
                      <a:close/>
                    </a:path>
                  </a:pathLst>
                </a:custGeom>
                <a:solidFill>
                  <a:srgbClr val="00334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 flipH="1">
                  <a:off x="6252840" y="3364200"/>
                  <a:ext cx="60120" cy="41040"/>
                </a:xfrm>
                <a:custGeom>
                  <a:avLst/>
                  <a:gdLst/>
                  <a:ahLst/>
                  <a:rect l="l" t="t" r="r" b="b"/>
                  <a:pathLst>
                    <a:path w="179" h="133">
                      <a:moveTo>
                        <a:pt x="179" y="35"/>
                      </a:moveTo>
                      <a:lnTo>
                        <a:pt x="69" y="133"/>
                      </a:lnTo>
                      <a:lnTo>
                        <a:pt x="64" y="132"/>
                      </a:lnTo>
                      <a:lnTo>
                        <a:pt x="58" y="130"/>
                      </a:lnTo>
                      <a:lnTo>
                        <a:pt x="52" y="128"/>
                      </a:lnTo>
                      <a:lnTo>
                        <a:pt x="45" y="125"/>
                      </a:lnTo>
                      <a:lnTo>
                        <a:pt x="36" y="121"/>
                      </a:lnTo>
                      <a:lnTo>
                        <a:pt x="27" y="116"/>
                      </a:lnTo>
                      <a:lnTo>
                        <a:pt x="14" y="112"/>
                      </a:lnTo>
                      <a:lnTo>
                        <a:pt x="0" y="105"/>
                      </a:lnTo>
                      <a:lnTo>
                        <a:pt x="88" y="0"/>
                      </a:lnTo>
                      <a:lnTo>
                        <a:pt x="95" y="2"/>
                      </a:lnTo>
                      <a:lnTo>
                        <a:pt x="105" y="7"/>
                      </a:lnTo>
                      <a:lnTo>
                        <a:pt x="119" y="12"/>
                      </a:lnTo>
                      <a:lnTo>
                        <a:pt x="134" y="18"/>
                      </a:lnTo>
                      <a:lnTo>
                        <a:pt x="149" y="25"/>
                      </a:lnTo>
                      <a:lnTo>
                        <a:pt x="163" y="30"/>
                      </a:lnTo>
                      <a:lnTo>
                        <a:pt x="173" y="34"/>
                      </a:lnTo>
                      <a:lnTo>
                        <a:pt x="179" y="35"/>
                      </a:lnTo>
                      <a:close/>
                    </a:path>
                  </a:pathLst>
                </a:custGeom>
                <a:solidFill>
                  <a:srgbClr val="0033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 flipH="1">
                  <a:off x="6347160" y="2830680"/>
                  <a:ext cx="73440" cy="511200"/>
                </a:xfrm>
                <a:custGeom>
                  <a:avLst/>
                  <a:gdLst/>
                  <a:ahLst/>
                  <a:rect l="l" t="t" r="r" b="b"/>
                  <a:pathLst>
                    <a:path w="215" h="1665">
                      <a:moveTo>
                        <a:pt x="0" y="71"/>
                      </a:moveTo>
                      <a:lnTo>
                        <a:pt x="27" y="219"/>
                      </a:lnTo>
                      <a:lnTo>
                        <a:pt x="53" y="383"/>
                      </a:lnTo>
                      <a:lnTo>
                        <a:pt x="77" y="565"/>
                      </a:lnTo>
                      <a:lnTo>
                        <a:pt x="100" y="761"/>
                      </a:lnTo>
                      <a:lnTo>
                        <a:pt x="120" y="968"/>
                      </a:lnTo>
                      <a:lnTo>
                        <a:pt x="137" y="1186"/>
                      </a:lnTo>
                      <a:lnTo>
                        <a:pt x="151" y="1409"/>
                      </a:lnTo>
                      <a:lnTo>
                        <a:pt x="161" y="1639"/>
                      </a:lnTo>
                      <a:lnTo>
                        <a:pt x="215" y="1665"/>
                      </a:lnTo>
                      <a:lnTo>
                        <a:pt x="214" y="1558"/>
                      </a:lnTo>
                      <a:lnTo>
                        <a:pt x="211" y="1452"/>
                      </a:lnTo>
                      <a:lnTo>
                        <a:pt x="206" y="1347"/>
                      </a:lnTo>
                      <a:lnTo>
                        <a:pt x="199" y="1242"/>
                      </a:lnTo>
                      <a:lnTo>
                        <a:pt x="191" y="1139"/>
                      </a:lnTo>
                      <a:lnTo>
                        <a:pt x="181" y="1035"/>
                      </a:lnTo>
                      <a:lnTo>
                        <a:pt x="169" y="932"/>
                      </a:lnTo>
                      <a:lnTo>
                        <a:pt x="156" y="829"/>
                      </a:lnTo>
                      <a:lnTo>
                        <a:pt x="143" y="727"/>
                      </a:lnTo>
                      <a:lnTo>
                        <a:pt x="128" y="623"/>
                      </a:lnTo>
                      <a:lnTo>
                        <a:pt x="111" y="520"/>
                      </a:lnTo>
                      <a:lnTo>
                        <a:pt x="94" y="417"/>
                      </a:lnTo>
                      <a:lnTo>
                        <a:pt x="77" y="313"/>
                      </a:lnTo>
                      <a:lnTo>
                        <a:pt x="58" y="210"/>
                      </a:lnTo>
                      <a:lnTo>
                        <a:pt x="40" y="105"/>
                      </a:lnTo>
                      <a:lnTo>
                        <a:pt x="22" y="0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0033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 flipH="1">
                  <a:off x="6289200" y="2805120"/>
                  <a:ext cx="79200" cy="545400"/>
                </a:xfrm>
                <a:custGeom>
                  <a:avLst/>
                  <a:gdLst/>
                  <a:ahLst/>
                  <a:rect l="l" t="t" r="r" b="b"/>
                  <a:pathLst>
                    <a:path w="237" h="1780">
                      <a:moveTo>
                        <a:pt x="0" y="13"/>
                      </a:moveTo>
                      <a:lnTo>
                        <a:pt x="25" y="126"/>
                      </a:lnTo>
                      <a:lnTo>
                        <a:pt x="47" y="236"/>
                      </a:lnTo>
                      <a:lnTo>
                        <a:pt x="69" y="345"/>
                      </a:lnTo>
                      <a:lnTo>
                        <a:pt x="88" y="455"/>
                      </a:lnTo>
                      <a:lnTo>
                        <a:pt x="106" y="562"/>
                      </a:lnTo>
                      <a:lnTo>
                        <a:pt x="122" y="669"/>
                      </a:lnTo>
                      <a:lnTo>
                        <a:pt x="137" y="775"/>
                      </a:lnTo>
                      <a:lnTo>
                        <a:pt x="149" y="882"/>
                      </a:lnTo>
                      <a:lnTo>
                        <a:pt x="161" y="988"/>
                      </a:lnTo>
                      <a:lnTo>
                        <a:pt x="171" y="1094"/>
                      </a:lnTo>
                      <a:lnTo>
                        <a:pt x="180" y="1201"/>
                      </a:lnTo>
                      <a:lnTo>
                        <a:pt x="187" y="1309"/>
                      </a:lnTo>
                      <a:lnTo>
                        <a:pt x="194" y="1418"/>
                      </a:lnTo>
                      <a:lnTo>
                        <a:pt x="199" y="1527"/>
                      </a:lnTo>
                      <a:lnTo>
                        <a:pt x="202" y="1638"/>
                      </a:lnTo>
                      <a:lnTo>
                        <a:pt x="206" y="1749"/>
                      </a:lnTo>
                      <a:lnTo>
                        <a:pt x="237" y="1780"/>
                      </a:lnTo>
                      <a:lnTo>
                        <a:pt x="236" y="1670"/>
                      </a:lnTo>
                      <a:lnTo>
                        <a:pt x="232" y="1560"/>
                      </a:lnTo>
                      <a:lnTo>
                        <a:pt x="228" y="1450"/>
                      </a:lnTo>
                      <a:lnTo>
                        <a:pt x="221" y="1339"/>
                      </a:lnTo>
                      <a:lnTo>
                        <a:pt x="213" y="1229"/>
                      </a:lnTo>
                      <a:lnTo>
                        <a:pt x="204" y="1117"/>
                      </a:lnTo>
                      <a:lnTo>
                        <a:pt x="193" y="1006"/>
                      </a:lnTo>
                      <a:lnTo>
                        <a:pt x="180" y="895"/>
                      </a:lnTo>
                      <a:lnTo>
                        <a:pt x="167" y="784"/>
                      </a:lnTo>
                      <a:lnTo>
                        <a:pt x="152" y="673"/>
                      </a:lnTo>
                      <a:lnTo>
                        <a:pt x="136" y="561"/>
                      </a:lnTo>
                      <a:lnTo>
                        <a:pt x="117" y="449"/>
                      </a:lnTo>
                      <a:lnTo>
                        <a:pt x="98" y="337"/>
                      </a:lnTo>
                      <a:lnTo>
                        <a:pt x="77" y="225"/>
                      </a:lnTo>
                      <a:lnTo>
                        <a:pt x="55" y="113"/>
                      </a:lnTo>
                      <a:lnTo>
                        <a:pt x="32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33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 flipH="1">
                  <a:off x="6292440" y="2805840"/>
                  <a:ext cx="79200" cy="543600"/>
                </a:xfrm>
                <a:custGeom>
                  <a:avLst/>
                  <a:gdLst/>
                  <a:ahLst/>
                  <a:rect l="l" t="t" r="r" b="b"/>
                  <a:pathLst>
                    <a:path w="235" h="1774">
                      <a:moveTo>
                        <a:pt x="0" y="13"/>
                      </a:moveTo>
                      <a:lnTo>
                        <a:pt x="24" y="126"/>
                      </a:lnTo>
                      <a:lnTo>
                        <a:pt x="47" y="237"/>
                      </a:lnTo>
                      <a:lnTo>
                        <a:pt x="68" y="346"/>
                      </a:lnTo>
                      <a:lnTo>
                        <a:pt x="86" y="454"/>
                      </a:lnTo>
                      <a:lnTo>
                        <a:pt x="104" y="561"/>
                      </a:lnTo>
                      <a:lnTo>
                        <a:pt x="121" y="668"/>
                      </a:lnTo>
                      <a:lnTo>
                        <a:pt x="134" y="774"/>
                      </a:lnTo>
                      <a:lnTo>
                        <a:pt x="147" y="880"/>
                      </a:lnTo>
                      <a:lnTo>
                        <a:pt x="159" y="986"/>
                      </a:lnTo>
                      <a:lnTo>
                        <a:pt x="169" y="1092"/>
                      </a:lnTo>
                      <a:lnTo>
                        <a:pt x="178" y="1199"/>
                      </a:lnTo>
                      <a:lnTo>
                        <a:pt x="186" y="1306"/>
                      </a:lnTo>
                      <a:lnTo>
                        <a:pt x="192" y="1415"/>
                      </a:lnTo>
                      <a:lnTo>
                        <a:pt x="198" y="1524"/>
                      </a:lnTo>
                      <a:lnTo>
                        <a:pt x="201" y="1635"/>
                      </a:lnTo>
                      <a:lnTo>
                        <a:pt x="205" y="1746"/>
                      </a:lnTo>
                      <a:lnTo>
                        <a:pt x="212" y="1753"/>
                      </a:lnTo>
                      <a:lnTo>
                        <a:pt x="220" y="1760"/>
                      </a:lnTo>
                      <a:lnTo>
                        <a:pt x="226" y="1767"/>
                      </a:lnTo>
                      <a:lnTo>
                        <a:pt x="235" y="1774"/>
                      </a:lnTo>
                      <a:lnTo>
                        <a:pt x="232" y="1663"/>
                      </a:lnTo>
                      <a:lnTo>
                        <a:pt x="229" y="1554"/>
                      </a:lnTo>
                      <a:lnTo>
                        <a:pt x="224" y="1443"/>
                      </a:lnTo>
                      <a:lnTo>
                        <a:pt x="217" y="1333"/>
                      </a:lnTo>
                      <a:lnTo>
                        <a:pt x="209" y="1223"/>
                      </a:lnTo>
                      <a:lnTo>
                        <a:pt x="200" y="1113"/>
                      </a:lnTo>
                      <a:lnTo>
                        <a:pt x="190" y="1002"/>
                      </a:lnTo>
                      <a:lnTo>
                        <a:pt x="178" y="892"/>
                      </a:lnTo>
                      <a:lnTo>
                        <a:pt x="164" y="781"/>
                      </a:lnTo>
                      <a:lnTo>
                        <a:pt x="149" y="671"/>
                      </a:lnTo>
                      <a:lnTo>
                        <a:pt x="133" y="559"/>
                      </a:lnTo>
                      <a:lnTo>
                        <a:pt x="115" y="448"/>
                      </a:lnTo>
                      <a:lnTo>
                        <a:pt x="96" y="337"/>
                      </a:lnTo>
                      <a:lnTo>
                        <a:pt x="76" y="225"/>
                      </a:lnTo>
                      <a:lnTo>
                        <a:pt x="54" y="113"/>
                      </a:lnTo>
                      <a:lnTo>
                        <a:pt x="31" y="0"/>
                      </a:lnTo>
                      <a:lnTo>
                        <a:pt x="23" y="3"/>
                      </a:lnTo>
                      <a:lnTo>
                        <a:pt x="16" y="6"/>
                      </a:lnTo>
                      <a:lnTo>
                        <a:pt x="8" y="1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334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 flipH="1">
                  <a:off x="6296040" y="2806920"/>
                  <a:ext cx="77760" cy="542520"/>
                </a:xfrm>
                <a:custGeom>
                  <a:avLst/>
                  <a:gdLst/>
                  <a:ahLst/>
                  <a:rect l="l" t="t" r="r" b="b"/>
                  <a:pathLst>
                    <a:path w="231" h="1766">
                      <a:moveTo>
                        <a:pt x="0" y="11"/>
                      </a:moveTo>
                      <a:lnTo>
                        <a:pt x="24" y="123"/>
                      </a:lnTo>
                      <a:lnTo>
                        <a:pt x="46" y="235"/>
                      </a:lnTo>
                      <a:lnTo>
                        <a:pt x="66" y="343"/>
                      </a:lnTo>
                      <a:lnTo>
                        <a:pt x="86" y="451"/>
                      </a:lnTo>
                      <a:lnTo>
                        <a:pt x="103" y="558"/>
                      </a:lnTo>
                      <a:lnTo>
                        <a:pt x="119" y="666"/>
                      </a:lnTo>
                      <a:lnTo>
                        <a:pt x="133" y="771"/>
                      </a:lnTo>
                      <a:lnTo>
                        <a:pt x="146" y="877"/>
                      </a:lnTo>
                      <a:lnTo>
                        <a:pt x="157" y="983"/>
                      </a:lnTo>
                      <a:lnTo>
                        <a:pt x="168" y="1089"/>
                      </a:lnTo>
                      <a:lnTo>
                        <a:pt x="176" y="1195"/>
                      </a:lnTo>
                      <a:lnTo>
                        <a:pt x="184" y="1302"/>
                      </a:lnTo>
                      <a:lnTo>
                        <a:pt x="190" y="1411"/>
                      </a:lnTo>
                      <a:lnTo>
                        <a:pt x="195" y="1520"/>
                      </a:lnTo>
                      <a:lnTo>
                        <a:pt x="199" y="1631"/>
                      </a:lnTo>
                      <a:lnTo>
                        <a:pt x="202" y="1742"/>
                      </a:lnTo>
                      <a:lnTo>
                        <a:pt x="209" y="1748"/>
                      </a:lnTo>
                      <a:lnTo>
                        <a:pt x="217" y="1754"/>
                      </a:lnTo>
                      <a:lnTo>
                        <a:pt x="224" y="1761"/>
                      </a:lnTo>
                      <a:lnTo>
                        <a:pt x="231" y="1766"/>
                      </a:lnTo>
                      <a:lnTo>
                        <a:pt x="229" y="1656"/>
                      </a:lnTo>
                      <a:lnTo>
                        <a:pt x="225" y="1546"/>
                      </a:lnTo>
                      <a:lnTo>
                        <a:pt x="221" y="1437"/>
                      </a:lnTo>
                      <a:lnTo>
                        <a:pt x="214" y="1327"/>
                      </a:lnTo>
                      <a:lnTo>
                        <a:pt x="206" y="1217"/>
                      </a:lnTo>
                      <a:lnTo>
                        <a:pt x="196" y="1108"/>
                      </a:lnTo>
                      <a:lnTo>
                        <a:pt x="186" y="997"/>
                      </a:lnTo>
                      <a:lnTo>
                        <a:pt x="175" y="888"/>
                      </a:lnTo>
                      <a:lnTo>
                        <a:pt x="161" y="777"/>
                      </a:lnTo>
                      <a:lnTo>
                        <a:pt x="147" y="667"/>
                      </a:lnTo>
                      <a:lnTo>
                        <a:pt x="131" y="556"/>
                      </a:lnTo>
                      <a:lnTo>
                        <a:pt x="114" y="446"/>
                      </a:lnTo>
                      <a:lnTo>
                        <a:pt x="95" y="335"/>
                      </a:lnTo>
                      <a:lnTo>
                        <a:pt x="74" y="223"/>
                      </a:lnTo>
                      <a:lnTo>
                        <a:pt x="54" y="112"/>
                      </a:lnTo>
                      <a:lnTo>
                        <a:pt x="31" y="0"/>
                      </a:lnTo>
                      <a:lnTo>
                        <a:pt x="23" y="2"/>
                      </a:lnTo>
                      <a:lnTo>
                        <a:pt x="16" y="6"/>
                      </a:lnTo>
                      <a:lnTo>
                        <a:pt x="8" y="9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35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 flipH="1">
                  <a:off x="6300360" y="2808360"/>
                  <a:ext cx="77040" cy="540000"/>
                </a:xfrm>
                <a:custGeom>
                  <a:avLst/>
                  <a:gdLst/>
                  <a:ahLst/>
                  <a:rect l="l" t="t" r="r" b="b"/>
                  <a:pathLst>
                    <a:path w="230" h="1761">
                      <a:moveTo>
                        <a:pt x="0" y="13"/>
                      </a:moveTo>
                      <a:lnTo>
                        <a:pt x="25" y="125"/>
                      </a:lnTo>
                      <a:lnTo>
                        <a:pt x="47" y="235"/>
                      </a:lnTo>
                      <a:lnTo>
                        <a:pt x="66" y="343"/>
                      </a:lnTo>
                      <a:lnTo>
                        <a:pt x="86" y="452"/>
                      </a:lnTo>
                      <a:lnTo>
                        <a:pt x="102" y="559"/>
                      </a:lnTo>
                      <a:lnTo>
                        <a:pt x="118" y="665"/>
                      </a:lnTo>
                      <a:lnTo>
                        <a:pt x="132" y="771"/>
                      </a:lnTo>
                      <a:lnTo>
                        <a:pt x="144" y="877"/>
                      </a:lnTo>
                      <a:lnTo>
                        <a:pt x="156" y="981"/>
                      </a:lnTo>
                      <a:lnTo>
                        <a:pt x="166" y="1087"/>
                      </a:lnTo>
                      <a:lnTo>
                        <a:pt x="174" y="1193"/>
                      </a:lnTo>
                      <a:lnTo>
                        <a:pt x="182" y="1300"/>
                      </a:lnTo>
                      <a:lnTo>
                        <a:pt x="188" y="1409"/>
                      </a:lnTo>
                      <a:lnTo>
                        <a:pt x="194" y="1518"/>
                      </a:lnTo>
                      <a:lnTo>
                        <a:pt x="197" y="1629"/>
                      </a:lnTo>
                      <a:lnTo>
                        <a:pt x="201" y="1740"/>
                      </a:lnTo>
                      <a:lnTo>
                        <a:pt x="208" y="1745"/>
                      </a:lnTo>
                      <a:lnTo>
                        <a:pt x="216" y="1751"/>
                      </a:lnTo>
                      <a:lnTo>
                        <a:pt x="223" y="1755"/>
                      </a:lnTo>
                      <a:lnTo>
                        <a:pt x="230" y="1761"/>
                      </a:lnTo>
                      <a:lnTo>
                        <a:pt x="227" y="1650"/>
                      </a:lnTo>
                      <a:lnTo>
                        <a:pt x="223" y="1541"/>
                      </a:lnTo>
                      <a:lnTo>
                        <a:pt x="218" y="1432"/>
                      </a:lnTo>
                      <a:lnTo>
                        <a:pt x="211" y="1322"/>
                      </a:lnTo>
                      <a:lnTo>
                        <a:pt x="203" y="1213"/>
                      </a:lnTo>
                      <a:lnTo>
                        <a:pt x="195" y="1103"/>
                      </a:lnTo>
                      <a:lnTo>
                        <a:pt x="184" y="994"/>
                      </a:lnTo>
                      <a:lnTo>
                        <a:pt x="172" y="885"/>
                      </a:lnTo>
                      <a:lnTo>
                        <a:pt x="159" y="775"/>
                      </a:lnTo>
                      <a:lnTo>
                        <a:pt x="144" y="666"/>
                      </a:lnTo>
                      <a:lnTo>
                        <a:pt x="129" y="555"/>
                      </a:lnTo>
                      <a:lnTo>
                        <a:pt x="112" y="446"/>
                      </a:lnTo>
                      <a:lnTo>
                        <a:pt x="94" y="334"/>
                      </a:lnTo>
                      <a:lnTo>
                        <a:pt x="74" y="224"/>
                      </a:lnTo>
                      <a:lnTo>
                        <a:pt x="52" y="112"/>
                      </a:lnTo>
                      <a:lnTo>
                        <a:pt x="30" y="0"/>
                      </a:lnTo>
                      <a:lnTo>
                        <a:pt x="23" y="4"/>
                      </a:lnTo>
                      <a:lnTo>
                        <a:pt x="15" y="6"/>
                      </a:lnTo>
                      <a:lnTo>
                        <a:pt x="9" y="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35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 flipH="1">
                  <a:off x="6302880" y="2808360"/>
                  <a:ext cx="75960" cy="538920"/>
                </a:xfrm>
                <a:custGeom>
                  <a:avLst/>
                  <a:gdLst/>
                  <a:ahLst/>
                  <a:rect l="l" t="t" r="r" b="b"/>
                  <a:pathLst>
                    <a:path w="227" h="1754">
                      <a:moveTo>
                        <a:pt x="0" y="11"/>
                      </a:moveTo>
                      <a:lnTo>
                        <a:pt x="25" y="123"/>
                      </a:lnTo>
                      <a:lnTo>
                        <a:pt x="46" y="233"/>
                      </a:lnTo>
                      <a:lnTo>
                        <a:pt x="66" y="342"/>
                      </a:lnTo>
                      <a:lnTo>
                        <a:pt x="84" y="450"/>
                      </a:lnTo>
                      <a:lnTo>
                        <a:pt x="102" y="556"/>
                      </a:lnTo>
                      <a:lnTo>
                        <a:pt x="117" y="662"/>
                      </a:lnTo>
                      <a:lnTo>
                        <a:pt x="131" y="768"/>
                      </a:lnTo>
                      <a:lnTo>
                        <a:pt x="143" y="874"/>
                      </a:lnTo>
                      <a:lnTo>
                        <a:pt x="155" y="979"/>
                      </a:lnTo>
                      <a:lnTo>
                        <a:pt x="164" y="1084"/>
                      </a:lnTo>
                      <a:lnTo>
                        <a:pt x="173" y="1190"/>
                      </a:lnTo>
                      <a:lnTo>
                        <a:pt x="180" y="1297"/>
                      </a:lnTo>
                      <a:lnTo>
                        <a:pt x="186" y="1405"/>
                      </a:lnTo>
                      <a:lnTo>
                        <a:pt x="192" y="1514"/>
                      </a:lnTo>
                      <a:lnTo>
                        <a:pt x="195" y="1625"/>
                      </a:lnTo>
                      <a:lnTo>
                        <a:pt x="199" y="1736"/>
                      </a:lnTo>
                      <a:lnTo>
                        <a:pt x="205" y="1741"/>
                      </a:lnTo>
                      <a:lnTo>
                        <a:pt x="212" y="1744"/>
                      </a:lnTo>
                      <a:lnTo>
                        <a:pt x="219" y="1749"/>
                      </a:lnTo>
                      <a:lnTo>
                        <a:pt x="227" y="1754"/>
                      </a:lnTo>
                      <a:lnTo>
                        <a:pt x="225" y="1644"/>
                      </a:lnTo>
                      <a:lnTo>
                        <a:pt x="220" y="1534"/>
                      </a:lnTo>
                      <a:lnTo>
                        <a:pt x="216" y="1425"/>
                      </a:lnTo>
                      <a:lnTo>
                        <a:pt x="209" y="1316"/>
                      </a:lnTo>
                      <a:lnTo>
                        <a:pt x="201" y="1207"/>
                      </a:lnTo>
                      <a:lnTo>
                        <a:pt x="192" y="1098"/>
                      </a:lnTo>
                      <a:lnTo>
                        <a:pt x="181" y="989"/>
                      </a:lnTo>
                      <a:lnTo>
                        <a:pt x="170" y="881"/>
                      </a:lnTo>
                      <a:lnTo>
                        <a:pt x="157" y="771"/>
                      </a:lnTo>
                      <a:lnTo>
                        <a:pt x="143" y="662"/>
                      </a:lnTo>
                      <a:lnTo>
                        <a:pt x="127" y="552"/>
                      </a:lnTo>
                      <a:lnTo>
                        <a:pt x="111" y="443"/>
                      </a:lnTo>
                      <a:lnTo>
                        <a:pt x="93" y="334"/>
                      </a:lnTo>
                      <a:lnTo>
                        <a:pt x="73" y="223"/>
                      </a:lnTo>
                      <a:lnTo>
                        <a:pt x="52" y="111"/>
                      </a:lnTo>
                      <a:lnTo>
                        <a:pt x="30" y="0"/>
                      </a:lnTo>
                      <a:lnTo>
                        <a:pt x="23" y="3"/>
                      </a:lnTo>
                      <a:lnTo>
                        <a:pt x="15" y="5"/>
                      </a:lnTo>
                      <a:lnTo>
                        <a:pt x="8" y="9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c3a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 flipH="1">
                  <a:off x="6306480" y="2809080"/>
                  <a:ext cx="75960" cy="536760"/>
                </a:xfrm>
                <a:custGeom>
                  <a:avLst/>
                  <a:gdLst/>
                  <a:ahLst/>
                  <a:rect l="l" t="t" r="r" b="b"/>
                  <a:pathLst>
                    <a:path w="224" h="1748">
                      <a:moveTo>
                        <a:pt x="0" y="10"/>
                      </a:moveTo>
                      <a:lnTo>
                        <a:pt x="23" y="122"/>
                      </a:lnTo>
                      <a:lnTo>
                        <a:pt x="45" y="232"/>
                      </a:lnTo>
                      <a:lnTo>
                        <a:pt x="65" y="341"/>
                      </a:lnTo>
                      <a:lnTo>
                        <a:pt x="83" y="448"/>
                      </a:lnTo>
                      <a:lnTo>
                        <a:pt x="99" y="554"/>
                      </a:lnTo>
                      <a:lnTo>
                        <a:pt x="116" y="660"/>
                      </a:lnTo>
                      <a:lnTo>
                        <a:pt x="129" y="766"/>
                      </a:lnTo>
                      <a:lnTo>
                        <a:pt x="142" y="871"/>
                      </a:lnTo>
                      <a:lnTo>
                        <a:pt x="152" y="977"/>
                      </a:lnTo>
                      <a:lnTo>
                        <a:pt x="163" y="1081"/>
                      </a:lnTo>
                      <a:lnTo>
                        <a:pt x="171" y="1187"/>
                      </a:lnTo>
                      <a:lnTo>
                        <a:pt x="178" y="1294"/>
                      </a:lnTo>
                      <a:lnTo>
                        <a:pt x="185" y="1402"/>
                      </a:lnTo>
                      <a:lnTo>
                        <a:pt x="189" y="1511"/>
                      </a:lnTo>
                      <a:lnTo>
                        <a:pt x="193" y="1622"/>
                      </a:lnTo>
                      <a:lnTo>
                        <a:pt x="196" y="1733"/>
                      </a:lnTo>
                      <a:lnTo>
                        <a:pt x="203" y="1737"/>
                      </a:lnTo>
                      <a:lnTo>
                        <a:pt x="210" y="1740"/>
                      </a:lnTo>
                      <a:lnTo>
                        <a:pt x="217" y="1745"/>
                      </a:lnTo>
                      <a:lnTo>
                        <a:pt x="224" y="1748"/>
                      </a:lnTo>
                      <a:lnTo>
                        <a:pt x="220" y="1639"/>
                      </a:lnTo>
                      <a:lnTo>
                        <a:pt x="217" y="1529"/>
                      </a:lnTo>
                      <a:lnTo>
                        <a:pt x="211" y="1420"/>
                      </a:lnTo>
                      <a:lnTo>
                        <a:pt x="205" y="1311"/>
                      </a:lnTo>
                      <a:lnTo>
                        <a:pt x="197" y="1202"/>
                      </a:lnTo>
                      <a:lnTo>
                        <a:pt x="188" y="1094"/>
                      </a:lnTo>
                      <a:lnTo>
                        <a:pt x="178" y="986"/>
                      </a:lnTo>
                      <a:lnTo>
                        <a:pt x="167" y="878"/>
                      </a:lnTo>
                      <a:lnTo>
                        <a:pt x="155" y="769"/>
                      </a:lnTo>
                      <a:lnTo>
                        <a:pt x="141" y="660"/>
                      </a:lnTo>
                      <a:lnTo>
                        <a:pt x="125" y="552"/>
                      </a:lnTo>
                      <a:lnTo>
                        <a:pt x="109" y="442"/>
                      </a:lnTo>
                      <a:lnTo>
                        <a:pt x="91" y="333"/>
                      </a:lnTo>
                      <a:lnTo>
                        <a:pt x="72" y="222"/>
                      </a:lnTo>
                      <a:lnTo>
                        <a:pt x="52" y="112"/>
                      </a:lnTo>
                      <a:lnTo>
                        <a:pt x="30" y="0"/>
                      </a:lnTo>
                      <a:lnTo>
                        <a:pt x="22" y="2"/>
                      </a:lnTo>
                      <a:lnTo>
                        <a:pt x="15" y="5"/>
                      </a:lnTo>
                      <a:lnTo>
                        <a:pt x="7" y="8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1c3a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 flipH="1">
                  <a:off x="6309720" y="2810520"/>
                  <a:ext cx="74520" cy="534240"/>
                </a:xfrm>
                <a:custGeom>
                  <a:avLst/>
                  <a:gdLst/>
                  <a:ahLst/>
                  <a:rect l="l" t="t" r="r" b="b"/>
                  <a:pathLst>
                    <a:path w="221" h="1741">
                      <a:moveTo>
                        <a:pt x="0" y="10"/>
                      </a:moveTo>
                      <a:lnTo>
                        <a:pt x="23" y="122"/>
                      </a:lnTo>
                      <a:lnTo>
                        <a:pt x="44" y="231"/>
                      </a:lnTo>
                      <a:lnTo>
                        <a:pt x="64" y="339"/>
                      </a:lnTo>
                      <a:lnTo>
                        <a:pt x="82" y="446"/>
                      </a:lnTo>
                      <a:lnTo>
                        <a:pt x="99" y="552"/>
                      </a:lnTo>
                      <a:lnTo>
                        <a:pt x="114" y="658"/>
                      </a:lnTo>
                      <a:lnTo>
                        <a:pt x="128" y="763"/>
                      </a:lnTo>
                      <a:lnTo>
                        <a:pt x="140" y="868"/>
                      </a:lnTo>
                      <a:lnTo>
                        <a:pt x="151" y="974"/>
                      </a:lnTo>
                      <a:lnTo>
                        <a:pt x="160" y="1079"/>
                      </a:lnTo>
                      <a:lnTo>
                        <a:pt x="170" y="1185"/>
                      </a:lnTo>
                      <a:lnTo>
                        <a:pt x="176" y="1290"/>
                      </a:lnTo>
                      <a:lnTo>
                        <a:pt x="182" y="1399"/>
                      </a:lnTo>
                      <a:lnTo>
                        <a:pt x="188" y="1507"/>
                      </a:lnTo>
                      <a:lnTo>
                        <a:pt x="191" y="1618"/>
                      </a:lnTo>
                      <a:lnTo>
                        <a:pt x="195" y="1729"/>
                      </a:lnTo>
                      <a:lnTo>
                        <a:pt x="201" y="1733"/>
                      </a:lnTo>
                      <a:lnTo>
                        <a:pt x="208" y="1735"/>
                      </a:lnTo>
                      <a:lnTo>
                        <a:pt x="215" y="1738"/>
                      </a:lnTo>
                      <a:lnTo>
                        <a:pt x="221" y="1741"/>
                      </a:lnTo>
                      <a:lnTo>
                        <a:pt x="218" y="1631"/>
                      </a:lnTo>
                      <a:lnTo>
                        <a:pt x="213" y="1522"/>
                      </a:lnTo>
                      <a:lnTo>
                        <a:pt x="209" y="1413"/>
                      </a:lnTo>
                      <a:lnTo>
                        <a:pt x="202" y="1304"/>
                      </a:lnTo>
                      <a:lnTo>
                        <a:pt x="194" y="1196"/>
                      </a:lnTo>
                      <a:lnTo>
                        <a:pt x="186" y="1089"/>
                      </a:lnTo>
                      <a:lnTo>
                        <a:pt x="175" y="981"/>
                      </a:lnTo>
                      <a:lnTo>
                        <a:pt x="164" y="874"/>
                      </a:lnTo>
                      <a:lnTo>
                        <a:pt x="152" y="765"/>
                      </a:lnTo>
                      <a:lnTo>
                        <a:pt x="138" y="657"/>
                      </a:lnTo>
                      <a:lnTo>
                        <a:pt x="124" y="549"/>
                      </a:lnTo>
                      <a:lnTo>
                        <a:pt x="107" y="441"/>
                      </a:lnTo>
                      <a:lnTo>
                        <a:pt x="90" y="331"/>
                      </a:lnTo>
                      <a:lnTo>
                        <a:pt x="71" y="221"/>
                      </a:lnTo>
                      <a:lnTo>
                        <a:pt x="51" y="111"/>
                      </a:lnTo>
                      <a:lnTo>
                        <a:pt x="29" y="0"/>
                      </a:lnTo>
                      <a:lnTo>
                        <a:pt x="22" y="2"/>
                      </a:lnTo>
                      <a:lnTo>
                        <a:pt x="15" y="4"/>
                      </a:lnTo>
                      <a:lnTo>
                        <a:pt x="7" y="8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2b3a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 flipH="1">
                  <a:off x="6313680" y="2812680"/>
                  <a:ext cx="73440" cy="531000"/>
                </a:xfrm>
                <a:custGeom>
                  <a:avLst/>
                  <a:gdLst/>
                  <a:ahLst/>
                  <a:rect l="l" t="t" r="r" b="b"/>
                  <a:pathLst>
                    <a:path w="219" h="1734">
                      <a:moveTo>
                        <a:pt x="0" y="9"/>
                      </a:moveTo>
                      <a:lnTo>
                        <a:pt x="23" y="121"/>
                      </a:lnTo>
                      <a:lnTo>
                        <a:pt x="44" y="230"/>
                      </a:lnTo>
                      <a:lnTo>
                        <a:pt x="62" y="339"/>
                      </a:lnTo>
                      <a:lnTo>
                        <a:pt x="81" y="446"/>
                      </a:lnTo>
                      <a:lnTo>
                        <a:pt x="97" y="552"/>
                      </a:lnTo>
                      <a:lnTo>
                        <a:pt x="112" y="656"/>
                      </a:lnTo>
                      <a:lnTo>
                        <a:pt x="126" y="761"/>
                      </a:lnTo>
                      <a:lnTo>
                        <a:pt x="138" y="866"/>
                      </a:lnTo>
                      <a:lnTo>
                        <a:pt x="149" y="971"/>
                      </a:lnTo>
                      <a:lnTo>
                        <a:pt x="158" y="1077"/>
                      </a:lnTo>
                      <a:lnTo>
                        <a:pt x="167" y="1182"/>
                      </a:lnTo>
                      <a:lnTo>
                        <a:pt x="174" y="1289"/>
                      </a:lnTo>
                      <a:lnTo>
                        <a:pt x="180" y="1396"/>
                      </a:lnTo>
                      <a:lnTo>
                        <a:pt x="186" y="1504"/>
                      </a:lnTo>
                      <a:lnTo>
                        <a:pt x="189" y="1615"/>
                      </a:lnTo>
                      <a:lnTo>
                        <a:pt x="193" y="1726"/>
                      </a:lnTo>
                      <a:lnTo>
                        <a:pt x="198" y="1729"/>
                      </a:lnTo>
                      <a:lnTo>
                        <a:pt x="205" y="1731"/>
                      </a:lnTo>
                      <a:lnTo>
                        <a:pt x="212" y="1732"/>
                      </a:lnTo>
                      <a:lnTo>
                        <a:pt x="219" y="1734"/>
                      </a:lnTo>
                      <a:lnTo>
                        <a:pt x="216" y="1625"/>
                      </a:lnTo>
                      <a:lnTo>
                        <a:pt x="211" y="1516"/>
                      </a:lnTo>
                      <a:lnTo>
                        <a:pt x="205" y="1407"/>
                      </a:lnTo>
                      <a:lnTo>
                        <a:pt x="198" y="1299"/>
                      </a:lnTo>
                      <a:lnTo>
                        <a:pt x="191" y="1192"/>
                      </a:lnTo>
                      <a:lnTo>
                        <a:pt x="182" y="1085"/>
                      </a:lnTo>
                      <a:lnTo>
                        <a:pt x="172" y="978"/>
                      </a:lnTo>
                      <a:lnTo>
                        <a:pt x="161" y="871"/>
                      </a:lnTo>
                      <a:lnTo>
                        <a:pt x="149" y="764"/>
                      </a:lnTo>
                      <a:lnTo>
                        <a:pt x="135" y="655"/>
                      </a:lnTo>
                      <a:lnTo>
                        <a:pt x="121" y="548"/>
                      </a:lnTo>
                      <a:lnTo>
                        <a:pt x="105" y="440"/>
                      </a:lnTo>
                      <a:lnTo>
                        <a:pt x="88" y="331"/>
                      </a:lnTo>
                      <a:lnTo>
                        <a:pt x="69" y="221"/>
                      </a:lnTo>
                      <a:lnTo>
                        <a:pt x="50" y="112"/>
                      </a:lnTo>
                      <a:lnTo>
                        <a:pt x="29" y="0"/>
                      </a:lnTo>
                      <a:lnTo>
                        <a:pt x="21" y="2"/>
                      </a:lnTo>
                      <a:lnTo>
                        <a:pt x="14" y="5"/>
                      </a:lnTo>
                      <a:lnTo>
                        <a:pt x="7" y="7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3d3d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 flipH="1">
                  <a:off x="6317640" y="2812680"/>
                  <a:ext cx="72360" cy="529920"/>
                </a:xfrm>
                <a:custGeom>
                  <a:avLst/>
                  <a:gdLst/>
                  <a:ahLst/>
                  <a:rect l="l" t="t" r="r" b="b"/>
                  <a:pathLst>
                    <a:path w="216" h="1728">
                      <a:moveTo>
                        <a:pt x="0" y="10"/>
                      </a:moveTo>
                      <a:lnTo>
                        <a:pt x="22" y="120"/>
                      </a:lnTo>
                      <a:lnTo>
                        <a:pt x="43" y="230"/>
                      </a:lnTo>
                      <a:lnTo>
                        <a:pt x="62" y="338"/>
                      </a:lnTo>
                      <a:lnTo>
                        <a:pt x="80" y="444"/>
                      </a:lnTo>
                      <a:lnTo>
                        <a:pt x="96" y="550"/>
                      </a:lnTo>
                      <a:lnTo>
                        <a:pt x="111" y="656"/>
                      </a:lnTo>
                      <a:lnTo>
                        <a:pt x="123" y="759"/>
                      </a:lnTo>
                      <a:lnTo>
                        <a:pt x="136" y="864"/>
                      </a:lnTo>
                      <a:lnTo>
                        <a:pt x="146" y="969"/>
                      </a:lnTo>
                      <a:lnTo>
                        <a:pt x="156" y="1074"/>
                      </a:lnTo>
                      <a:lnTo>
                        <a:pt x="165" y="1179"/>
                      </a:lnTo>
                      <a:lnTo>
                        <a:pt x="172" y="1286"/>
                      </a:lnTo>
                      <a:lnTo>
                        <a:pt x="178" y="1393"/>
                      </a:lnTo>
                      <a:lnTo>
                        <a:pt x="183" y="1501"/>
                      </a:lnTo>
                      <a:lnTo>
                        <a:pt x="187" y="1612"/>
                      </a:lnTo>
                      <a:lnTo>
                        <a:pt x="190" y="1723"/>
                      </a:lnTo>
                      <a:lnTo>
                        <a:pt x="196" y="1724"/>
                      </a:lnTo>
                      <a:lnTo>
                        <a:pt x="203" y="1726"/>
                      </a:lnTo>
                      <a:lnTo>
                        <a:pt x="210" y="1727"/>
                      </a:lnTo>
                      <a:lnTo>
                        <a:pt x="216" y="1728"/>
                      </a:lnTo>
                      <a:lnTo>
                        <a:pt x="212" y="1618"/>
                      </a:lnTo>
                      <a:lnTo>
                        <a:pt x="207" y="1509"/>
                      </a:lnTo>
                      <a:lnTo>
                        <a:pt x="202" y="1401"/>
                      </a:lnTo>
                      <a:lnTo>
                        <a:pt x="195" y="1294"/>
                      </a:lnTo>
                      <a:lnTo>
                        <a:pt x="187" y="1187"/>
                      </a:lnTo>
                      <a:lnTo>
                        <a:pt x="179" y="1080"/>
                      </a:lnTo>
                      <a:lnTo>
                        <a:pt x="168" y="974"/>
                      </a:lnTo>
                      <a:lnTo>
                        <a:pt x="158" y="866"/>
                      </a:lnTo>
                      <a:lnTo>
                        <a:pt x="146" y="761"/>
                      </a:lnTo>
                      <a:lnTo>
                        <a:pt x="133" y="653"/>
                      </a:lnTo>
                      <a:lnTo>
                        <a:pt x="119" y="546"/>
                      </a:lnTo>
                      <a:lnTo>
                        <a:pt x="103" y="438"/>
                      </a:lnTo>
                      <a:lnTo>
                        <a:pt x="87" y="330"/>
                      </a:lnTo>
                      <a:lnTo>
                        <a:pt x="68" y="222"/>
                      </a:lnTo>
                      <a:lnTo>
                        <a:pt x="49" y="111"/>
                      </a:lnTo>
                      <a:lnTo>
                        <a:pt x="28" y="0"/>
                      </a:lnTo>
                      <a:lnTo>
                        <a:pt x="21" y="3"/>
                      </a:lnTo>
                      <a:lnTo>
                        <a:pt x="14" y="5"/>
                      </a:lnTo>
                      <a:lnTo>
                        <a:pt x="7" y="7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4c3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 flipH="1">
                  <a:off x="6321600" y="2813760"/>
                  <a:ext cx="71280" cy="527760"/>
                </a:xfrm>
                <a:custGeom>
                  <a:avLst/>
                  <a:gdLst/>
                  <a:ahLst/>
                  <a:rect l="l" t="t" r="r" b="b"/>
                  <a:pathLst>
                    <a:path w="213" h="1720">
                      <a:moveTo>
                        <a:pt x="0" y="8"/>
                      </a:moveTo>
                      <a:lnTo>
                        <a:pt x="22" y="119"/>
                      </a:lnTo>
                      <a:lnTo>
                        <a:pt x="43" y="228"/>
                      </a:lnTo>
                      <a:lnTo>
                        <a:pt x="61" y="336"/>
                      </a:lnTo>
                      <a:lnTo>
                        <a:pt x="80" y="442"/>
                      </a:lnTo>
                      <a:lnTo>
                        <a:pt x="95" y="548"/>
                      </a:lnTo>
                      <a:lnTo>
                        <a:pt x="109" y="653"/>
                      </a:lnTo>
                      <a:lnTo>
                        <a:pt x="122" y="758"/>
                      </a:lnTo>
                      <a:lnTo>
                        <a:pt x="135" y="861"/>
                      </a:lnTo>
                      <a:lnTo>
                        <a:pt x="145" y="966"/>
                      </a:lnTo>
                      <a:lnTo>
                        <a:pt x="154" y="1071"/>
                      </a:lnTo>
                      <a:lnTo>
                        <a:pt x="162" y="1176"/>
                      </a:lnTo>
                      <a:lnTo>
                        <a:pt x="169" y="1282"/>
                      </a:lnTo>
                      <a:lnTo>
                        <a:pt x="176" y="1389"/>
                      </a:lnTo>
                      <a:lnTo>
                        <a:pt x="181" y="1497"/>
                      </a:lnTo>
                      <a:lnTo>
                        <a:pt x="184" y="1608"/>
                      </a:lnTo>
                      <a:lnTo>
                        <a:pt x="188" y="1719"/>
                      </a:lnTo>
                      <a:lnTo>
                        <a:pt x="194" y="1720"/>
                      </a:lnTo>
                      <a:lnTo>
                        <a:pt x="200" y="1720"/>
                      </a:lnTo>
                      <a:lnTo>
                        <a:pt x="207" y="1720"/>
                      </a:lnTo>
                      <a:lnTo>
                        <a:pt x="213" y="1720"/>
                      </a:lnTo>
                      <a:lnTo>
                        <a:pt x="210" y="1611"/>
                      </a:lnTo>
                      <a:lnTo>
                        <a:pt x="204" y="1503"/>
                      </a:lnTo>
                      <a:lnTo>
                        <a:pt x="199" y="1395"/>
                      </a:lnTo>
                      <a:lnTo>
                        <a:pt x="192" y="1287"/>
                      </a:lnTo>
                      <a:lnTo>
                        <a:pt x="184" y="1180"/>
                      </a:lnTo>
                      <a:lnTo>
                        <a:pt x="176" y="1074"/>
                      </a:lnTo>
                      <a:lnTo>
                        <a:pt x="166" y="968"/>
                      </a:lnTo>
                      <a:lnTo>
                        <a:pt x="156" y="862"/>
                      </a:lnTo>
                      <a:lnTo>
                        <a:pt x="144" y="757"/>
                      </a:lnTo>
                      <a:lnTo>
                        <a:pt x="130" y="651"/>
                      </a:lnTo>
                      <a:lnTo>
                        <a:pt x="116" y="543"/>
                      </a:lnTo>
                      <a:lnTo>
                        <a:pt x="101" y="436"/>
                      </a:lnTo>
                      <a:lnTo>
                        <a:pt x="85" y="328"/>
                      </a:lnTo>
                      <a:lnTo>
                        <a:pt x="67" y="220"/>
                      </a:lnTo>
                      <a:lnTo>
                        <a:pt x="48" y="110"/>
                      </a:lnTo>
                      <a:lnTo>
                        <a:pt x="28" y="0"/>
                      </a:lnTo>
                      <a:lnTo>
                        <a:pt x="21" y="2"/>
                      </a:lnTo>
                      <a:lnTo>
                        <a:pt x="14" y="3"/>
                      </a:lnTo>
                      <a:lnTo>
                        <a:pt x="7" y="6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5b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 flipH="1">
                  <a:off x="6324840" y="2814840"/>
                  <a:ext cx="71280" cy="526680"/>
                </a:xfrm>
                <a:custGeom>
                  <a:avLst/>
                  <a:gdLst/>
                  <a:ahLst/>
                  <a:rect l="l" t="t" r="r" b="b"/>
                  <a:pathLst>
                    <a:path w="211" h="1716">
                      <a:moveTo>
                        <a:pt x="0" y="7"/>
                      </a:moveTo>
                      <a:lnTo>
                        <a:pt x="22" y="118"/>
                      </a:lnTo>
                      <a:lnTo>
                        <a:pt x="41" y="227"/>
                      </a:lnTo>
                      <a:lnTo>
                        <a:pt x="60" y="334"/>
                      </a:lnTo>
                      <a:lnTo>
                        <a:pt x="77" y="441"/>
                      </a:lnTo>
                      <a:lnTo>
                        <a:pt x="93" y="546"/>
                      </a:lnTo>
                      <a:lnTo>
                        <a:pt x="107" y="651"/>
                      </a:lnTo>
                      <a:lnTo>
                        <a:pt x="121" y="756"/>
                      </a:lnTo>
                      <a:lnTo>
                        <a:pt x="132" y="859"/>
                      </a:lnTo>
                      <a:lnTo>
                        <a:pt x="143" y="964"/>
                      </a:lnTo>
                      <a:lnTo>
                        <a:pt x="152" y="1068"/>
                      </a:lnTo>
                      <a:lnTo>
                        <a:pt x="161" y="1173"/>
                      </a:lnTo>
                      <a:lnTo>
                        <a:pt x="168" y="1279"/>
                      </a:lnTo>
                      <a:lnTo>
                        <a:pt x="174" y="1386"/>
                      </a:lnTo>
                      <a:lnTo>
                        <a:pt x="179" y="1494"/>
                      </a:lnTo>
                      <a:lnTo>
                        <a:pt x="183" y="1605"/>
                      </a:lnTo>
                      <a:lnTo>
                        <a:pt x="185" y="1716"/>
                      </a:lnTo>
                      <a:lnTo>
                        <a:pt x="192" y="1716"/>
                      </a:lnTo>
                      <a:lnTo>
                        <a:pt x="198" y="1715"/>
                      </a:lnTo>
                      <a:lnTo>
                        <a:pt x="205" y="1715"/>
                      </a:lnTo>
                      <a:lnTo>
                        <a:pt x="211" y="1714"/>
                      </a:lnTo>
                      <a:lnTo>
                        <a:pt x="202" y="1496"/>
                      </a:lnTo>
                      <a:lnTo>
                        <a:pt x="189" y="1282"/>
                      </a:lnTo>
                      <a:lnTo>
                        <a:pt x="172" y="1070"/>
                      </a:lnTo>
                      <a:lnTo>
                        <a:pt x="152" y="858"/>
                      </a:lnTo>
                      <a:lnTo>
                        <a:pt x="128" y="648"/>
                      </a:lnTo>
                      <a:lnTo>
                        <a:pt x="99" y="436"/>
                      </a:lnTo>
                      <a:lnTo>
                        <a:pt x="66" y="220"/>
                      </a:lnTo>
                      <a:lnTo>
                        <a:pt x="28" y="0"/>
                      </a:lnTo>
                      <a:lnTo>
                        <a:pt x="21" y="2"/>
                      </a:lnTo>
                      <a:lnTo>
                        <a:pt x="14" y="4"/>
                      </a:lnTo>
                      <a:lnTo>
                        <a:pt x="7" y="5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6b4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 flipH="1">
                  <a:off x="6328800" y="2815920"/>
                  <a:ext cx="70200" cy="525600"/>
                </a:xfrm>
                <a:custGeom>
                  <a:avLst/>
                  <a:gdLst/>
                  <a:ahLst/>
                  <a:rect l="l" t="t" r="r" b="b"/>
                  <a:pathLst>
                    <a:path w="207" h="1712">
                      <a:moveTo>
                        <a:pt x="0" y="7"/>
                      </a:moveTo>
                      <a:lnTo>
                        <a:pt x="21" y="117"/>
                      </a:lnTo>
                      <a:lnTo>
                        <a:pt x="41" y="226"/>
                      </a:lnTo>
                      <a:lnTo>
                        <a:pt x="60" y="333"/>
                      </a:lnTo>
                      <a:lnTo>
                        <a:pt x="76" y="440"/>
                      </a:lnTo>
                      <a:lnTo>
                        <a:pt x="92" y="545"/>
                      </a:lnTo>
                      <a:lnTo>
                        <a:pt x="106" y="648"/>
                      </a:lnTo>
                      <a:lnTo>
                        <a:pt x="120" y="753"/>
                      </a:lnTo>
                      <a:lnTo>
                        <a:pt x="131" y="857"/>
                      </a:lnTo>
                      <a:lnTo>
                        <a:pt x="142" y="960"/>
                      </a:lnTo>
                      <a:lnTo>
                        <a:pt x="151" y="1065"/>
                      </a:lnTo>
                      <a:lnTo>
                        <a:pt x="159" y="1170"/>
                      </a:lnTo>
                      <a:lnTo>
                        <a:pt x="166" y="1276"/>
                      </a:lnTo>
                      <a:lnTo>
                        <a:pt x="173" y="1382"/>
                      </a:lnTo>
                      <a:lnTo>
                        <a:pt x="177" y="1490"/>
                      </a:lnTo>
                      <a:lnTo>
                        <a:pt x="181" y="1601"/>
                      </a:lnTo>
                      <a:lnTo>
                        <a:pt x="184" y="1712"/>
                      </a:lnTo>
                      <a:lnTo>
                        <a:pt x="190" y="1711"/>
                      </a:lnTo>
                      <a:lnTo>
                        <a:pt x="196" y="1710"/>
                      </a:lnTo>
                      <a:lnTo>
                        <a:pt x="202" y="1708"/>
                      </a:lnTo>
                      <a:lnTo>
                        <a:pt x="207" y="1706"/>
                      </a:lnTo>
                      <a:lnTo>
                        <a:pt x="197" y="1489"/>
                      </a:lnTo>
                      <a:lnTo>
                        <a:pt x="184" y="1275"/>
                      </a:lnTo>
                      <a:lnTo>
                        <a:pt x="168" y="1064"/>
                      </a:lnTo>
                      <a:lnTo>
                        <a:pt x="149" y="854"/>
                      </a:lnTo>
                      <a:lnTo>
                        <a:pt x="125" y="645"/>
                      </a:lnTo>
                      <a:lnTo>
                        <a:pt x="97" y="433"/>
                      </a:lnTo>
                      <a:lnTo>
                        <a:pt x="64" y="219"/>
                      </a:lnTo>
                      <a:lnTo>
                        <a:pt x="26" y="0"/>
                      </a:lnTo>
                      <a:lnTo>
                        <a:pt x="20" y="1"/>
                      </a:lnTo>
                      <a:lnTo>
                        <a:pt x="13" y="3"/>
                      </a:lnTo>
                      <a:lnTo>
                        <a:pt x="6" y="4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7c4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 flipH="1">
                  <a:off x="6332760" y="2817000"/>
                  <a:ext cx="69120" cy="524520"/>
                </a:xfrm>
                <a:custGeom>
                  <a:avLst/>
                  <a:gdLst/>
                  <a:ahLst/>
                  <a:rect l="l" t="t" r="r" b="b"/>
                  <a:pathLst>
                    <a:path w="205" h="1709">
                      <a:moveTo>
                        <a:pt x="0" y="6"/>
                      </a:moveTo>
                      <a:lnTo>
                        <a:pt x="40" y="225"/>
                      </a:lnTo>
                      <a:lnTo>
                        <a:pt x="75" y="438"/>
                      </a:lnTo>
                      <a:lnTo>
                        <a:pt x="105" y="647"/>
                      </a:lnTo>
                      <a:lnTo>
                        <a:pt x="129" y="855"/>
                      </a:lnTo>
                      <a:lnTo>
                        <a:pt x="148" y="1062"/>
                      </a:lnTo>
                      <a:lnTo>
                        <a:pt x="163" y="1273"/>
                      </a:lnTo>
                      <a:lnTo>
                        <a:pt x="175" y="1487"/>
                      </a:lnTo>
                      <a:lnTo>
                        <a:pt x="182" y="1709"/>
                      </a:lnTo>
                      <a:lnTo>
                        <a:pt x="205" y="1700"/>
                      </a:lnTo>
                      <a:lnTo>
                        <a:pt x="195" y="1482"/>
                      </a:lnTo>
                      <a:lnTo>
                        <a:pt x="182" y="1269"/>
                      </a:lnTo>
                      <a:lnTo>
                        <a:pt x="166" y="1060"/>
                      </a:lnTo>
                      <a:lnTo>
                        <a:pt x="146" y="851"/>
                      </a:lnTo>
                      <a:lnTo>
                        <a:pt x="123" y="643"/>
                      </a:lnTo>
                      <a:lnTo>
                        <a:pt x="95" y="432"/>
                      </a:lnTo>
                      <a:lnTo>
                        <a:pt x="63" y="219"/>
                      </a:lnTo>
                      <a:lnTo>
                        <a:pt x="26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8c4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 flipH="1">
                  <a:off x="6350760" y="2832840"/>
                  <a:ext cx="71280" cy="507600"/>
                </a:xfrm>
                <a:custGeom>
                  <a:avLst/>
                  <a:gdLst/>
                  <a:ahLst/>
                  <a:rect l="l" t="t" r="r" b="b"/>
                  <a:pathLst>
                    <a:path w="212" h="1651">
                      <a:moveTo>
                        <a:pt x="0" y="67"/>
                      </a:moveTo>
                      <a:lnTo>
                        <a:pt x="28" y="217"/>
                      </a:lnTo>
                      <a:lnTo>
                        <a:pt x="53" y="382"/>
                      </a:lnTo>
                      <a:lnTo>
                        <a:pt x="78" y="563"/>
                      </a:lnTo>
                      <a:lnTo>
                        <a:pt x="100" y="757"/>
                      </a:lnTo>
                      <a:lnTo>
                        <a:pt x="120" y="962"/>
                      </a:lnTo>
                      <a:lnTo>
                        <a:pt x="137" y="1176"/>
                      </a:lnTo>
                      <a:lnTo>
                        <a:pt x="151" y="1398"/>
                      </a:lnTo>
                      <a:lnTo>
                        <a:pt x="161" y="1626"/>
                      </a:lnTo>
                      <a:lnTo>
                        <a:pt x="167" y="1630"/>
                      </a:lnTo>
                      <a:lnTo>
                        <a:pt x="174" y="1633"/>
                      </a:lnTo>
                      <a:lnTo>
                        <a:pt x="180" y="1637"/>
                      </a:lnTo>
                      <a:lnTo>
                        <a:pt x="187" y="1639"/>
                      </a:lnTo>
                      <a:lnTo>
                        <a:pt x="192" y="1642"/>
                      </a:lnTo>
                      <a:lnTo>
                        <a:pt x="199" y="1646"/>
                      </a:lnTo>
                      <a:lnTo>
                        <a:pt x="205" y="1648"/>
                      </a:lnTo>
                      <a:lnTo>
                        <a:pt x="212" y="1651"/>
                      </a:lnTo>
                      <a:lnTo>
                        <a:pt x="211" y="1546"/>
                      </a:lnTo>
                      <a:lnTo>
                        <a:pt x="207" y="1440"/>
                      </a:lnTo>
                      <a:lnTo>
                        <a:pt x="202" y="1336"/>
                      </a:lnTo>
                      <a:lnTo>
                        <a:pt x="196" y="1232"/>
                      </a:lnTo>
                      <a:lnTo>
                        <a:pt x="187" y="1129"/>
                      </a:lnTo>
                      <a:lnTo>
                        <a:pt x="177" y="1026"/>
                      </a:lnTo>
                      <a:lnTo>
                        <a:pt x="166" y="924"/>
                      </a:lnTo>
                      <a:lnTo>
                        <a:pt x="154" y="822"/>
                      </a:lnTo>
                      <a:lnTo>
                        <a:pt x="141" y="721"/>
                      </a:lnTo>
                      <a:lnTo>
                        <a:pt x="126" y="619"/>
                      </a:lnTo>
                      <a:lnTo>
                        <a:pt x="111" y="517"/>
                      </a:lnTo>
                      <a:lnTo>
                        <a:pt x="94" y="415"/>
                      </a:lnTo>
                      <a:lnTo>
                        <a:pt x="77" y="312"/>
                      </a:lnTo>
                      <a:lnTo>
                        <a:pt x="60" y="209"/>
                      </a:lnTo>
                      <a:lnTo>
                        <a:pt x="43" y="105"/>
                      </a:lnTo>
                      <a:lnTo>
                        <a:pt x="24" y="0"/>
                      </a:lnTo>
                      <a:lnTo>
                        <a:pt x="18" y="16"/>
                      </a:lnTo>
                      <a:lnTo>
                        <a:pt x="13" y="34"/>
                      </a:lnTo>
                      <a:lnTo>
                        <a:pt x="6" y="51"/>
                      </a:lnTo>
                      <a:lnTo>
                        <a:pt x="0" y="67"/>
                      </a:lnTo>
                      <a:close/>
                    </a:path>
                  </a:pathLst>
                </a:custGeom>
                <a:solidFill>
                  <a:srgbClr val="00334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 flipH="1">
                  <a:off x="6353280" y="2835000"/>
                  <a:ext cx="70200" cy="503280"/>
                </a:xfrm>
                <a:custGeom>
                  <a:avLst/>
                  <a:gdLst/>
                  <a:ahLst/>
                  <a:rect l="l" t="t" r="r" b="b"/>
                  <a:pathLst>
                    <a:path w="208" h="1639">
                      <a:moveTo>
                        <a:pt x="0" y="64"/>
                      </a:moveTo>
                      <a:lnTo>
                        <a:pt x="28" y="216"/>
                      </a:lnTo>
                      <a:lnTo>
                        <a:pt x="53" y="381"/>
                      </a:lnTo>
                      <a:lnTo>
                        <a:pt x="78" y="561"/>
                      </a:lnTo>
                      <a:lnTo>
                        <a:pt x="99" y="753"/>
                      </a:lnTo>
                      <a:lnTo>
                        <a:pt x="119" y="955"/>
                      </a:lnTo>
                      <a:lnTo>
                        <a:pt x="136" y="1168"/>
                      </a:lnTo>
                      <a:lnTo>
                        <a:pt x="149" y="1388"/>
                      </a:lnTo>
                      <a:lnTo>
                        <a:pt x="159" y="1616"/>
                      </a:lnTo>
                      <a:lnTo>
                        <a:pt x="165" y="1619"/>
                      </a:lnTo>
                      <a:lnTo>
                        <a:pt x="172" y="1622"/>
                      </a:lnTo>
                      <a:lnTo>
                        <a:pt x="178" y="1625"/>
                      </a:lnTo>
                      <a:lnTo>
                        <a:pt x="184" y="1627"/>
                      </a:lnTo>
                      <a:lnTo>
                        <a:pt x="189" y="1631"/>
                      </a:lnTo>
                      <a:lnTo>
                        <a:pt x="196" y="1633"/>
                      </a:lnTo>
                      <a:lnTo>
                        <a:pt x="202" y="1637"/>
                      </a:lnTo>
                      <a:lnTo>
                        <a:pt x="208" y="1639"/>
                      </a:lnTo>
                      <a:lnTo>
                        <a:pt x="203" y="1428"/>
                      </a:lnTo>
                      <a:lnTo>
                        <a:pt x="192" y="1221"/>
                      </a:lnTo>
                      <a:lnTo>
                        <a:pt x="173" y="1018"/>
                      </a:lnTo>
                      <a:lnTo>
                        <a:pt x="151" y="817"/>
                      </a:lnTo>
                      <a:lnTo>
                        <a:pt x="124" y="615"/>
                      </a:lnTo>
                      <a:lnTo>
                        <a:pt x="93" y="414"/>
                      </a:lnTo>
                      <a:lnTo>
                        <a:pt x="60" y="209"/>
                      </a:lnTo>
                      <a:lnTo>
                        <a:pt x="25" y="0"/>
                      </a:lnTo>
                      <a:lnTo>
                        <a:pt x="19" y="16"/>
                      </a:lnTo>
                      <a:lnTo>
                        <a:pt x="13" y="32"/>
                      </a:lnTo>
                      <a:lnTo>
                        <a:pt x="6" y="47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35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 flipH="1">
                  <a:off x="6356880" y="2838240"/>
                  <a:ext cx="68040" cy="498600"/>
                </a:xfrm>
                <a:custGeom>
                  <a:avLst/>
                  <a:gdLst/>
                  <a:ahLst/>
                  <a:rect l="l" t="t" r="r" b="b"/>
                  <a:pathLst>
                    <a:path w="201" h="1626">
                      <a:moveTo>
                        <a:pt x="0" y="59"/>
                      </a:moveTo>
                      <a:lnTo>
                        <a:pt x="26" y="213"/>
                      </a:lnTo>
                      <a:lnTo>
                        <a:pt x="53" y="380"/>
                      </a:lnTo>
                      <a:lnTo>
                        <a:pt x="76" y="559"/>
                      </a:lnTo>
                      <a:lnTo>
                        <a:pt x="98" y="748"/>
                      </a:lnTo>
                      <a:lnTo>
                        <a:pt x="116" y="948"/>
                      </a:lnTo>
                      <a:lnTo>
                        <a:pt x="132" y="1158"/>
                      </a:lnTo>
                      <a:lnTo>
                        <a:pt x="146" y="1377"/>
                      </a:lnTo>
                      <a:lnTo>
                        <a:pt x="155" y="1603"/>
                      </a:lnTo>
                      <a:lnTo>
                        <a:pt x="161" y="1607"/>
                      </a:lnTo>
                      <a:lnTo>
                        <a:pt x="167" y="1609"/>
                      </a:lnTo>
                      <a:lnTo>
                        <a:pt x="173" y="1613"/>
                      </a:lnTo>
                      <a:lnTo>
                        <a:pt x="178" y="1615"/>
                      </a:lnTo>
                      <a:lnTo>
                        <a:pt x="184" y="1617"/>
                      </a:lnTo>
                      <a:lnTo>
                        <a:pt x="190" y="1621"/>
                      </a:lnTo>
                      <a:lnTo>
                        <a:pt x="196" y="1623"/>
                      </a:lnTo>
                      <a:lnTo>
                        <a:pt x="201" y="1626"/>
                      </a:lnTo>
                      <a:lnTo>
                        <a:pt x="196" y="1416"/>
                      </a:lnTo>
                      <a:lnTo>
                        <a:pt x="184" y="1211"/>
                      </a:lnTo>
                      <a:lnTo>
                        <a:pt x="167" y="1009"/>
                      </a:lnTo>
                      <a:lnTo>
                        <a:pt x="145" y="810"/>
                      </a:lnTo>
                      <a:lnTo>
                        <a:pt x="119" y="611"/>
                      </a:lnTo>
                      <a:lnTo>
                        <a:pt x="90" y="410"/>
                      </a:lnTo>
                      <a:lnTo>
                        <a:pt x="58" y="208"/>
                      </a:lnTo>
                      <a:lnTo>
                        <a:pt x="23" y="0"/>
                      </a:lnTo>
                      <a:lnTo>
                        <a:pt x="17" y="15"/>
                      </a:lnTo>
                      <a:lnTo>
                        <a:pt x="11" y="29"/>
                      </a:lnTo>
                      <a:lnTo>
                        <a:pt x="6" y="44"/>
                      </a:lnTo>
                      <a:lnTo>
                        <a:pt x="0" y="59"/>
                      </a:lnTo>
                      <a:close/>
                    </a:path>
                  </a:pathLst>
                </a:custGeom>
                <a:solidFill>
                  <a:srgbClr val="0035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 flipH="1">
                  <a:off x="6359760" y="2840760"/>
                  <a:ext cx="66960" cy="495360"/>
                </a:xfrm>
                <a:custGeom>
                  <a:avLst/>
                  <a:gdLst/>
                  <a:ahLst/>
                  <a:rect l="l" t="t" r="r" b="b"/>
                  <a:pathLst>
                    <a:path w="198" h="1614">
                      <a:moveTo>
                        <a:pt x="0" y="57"/>
                      </a:moveTo>
                      <a:lnTo>
                        <a:pt x="28" y="214"/>
                      </a:lnTo>
                      <a:lnTo>
                        <a:pt x="53" y="380"/>
                      </a:lnTo>
                      <a:lnTo>
                        <a:pt x="77" y="558"/>
                      </a:lnTo>
                      <a:lnTo>
                        <a:pt x="98" y="746"/>
                      </a:lnTo>
                      <a:lnTo>
                        <a:pt x="118" y="942"/>
                      </a:lnTo>
                      <a:lnTo>
                        <a:pt x="133" y="1150"/>
                      </a:lnTo>
                      <a:lnTo>
                        <a:pt x="145" y="1366"/>
                      </a:lnTo>
                      <a:lnTo>
                        <a:pt x="155" y="1593"/>
                      </a:lnTo>
                      <a:lnTo>
                        <a:pt x="160" y="1595"/>
                      </a:lnTo>
                      <a:lnTo>
                        <a:pt x="166" y="1598"/>
                      </a:lnTo>
                      <a:lnTo>
                        <a:pt x="171" y="1601"/>
                      </a:lnTo>
                      <a:lnTo>
                        <a:pt x="176" y="1603"/>
                      </a:lnTo>
                      <a:lnTo>
                        <a:pt x="182" y="1606"/>
                      </a:lnTo>
                      <a:lnTo>
                        <a:pt x="187" y="1608"/>
                      </a:lnTo>
                      <a:lnTo>
                        <a:pt x="193" y="1612"/>
                      </a:lnTo>
                      <a:lnTo>
                        <a:pt x="198" y="1614"/>
                      </a:lnTo>
                      <a:lnTo>
                        <a:pt x="193" y="1403"/>
                      </a:lnTo>
                      <a:lnTo>
                        <a:pt x="181" y="1199"/>
                      </a:lnTo>
                      <a:lnTo>
                        <a:pt x="164" y="1000"/>
                      </a:lnTo>
                      <a:lnTo>
                        <a:pt x="143" y="803"/>
                      </a:lnTo>
                      <a:lnTo>
                        <a:pt x="118" y="607"/>
                      </a:lnTo>
                      <a:lnTo>
                        <a:pt x="89" y="409"/>
                      </a:lnTo>
                      <a:lnTo>
                        <a:pt x="58" y="208"/>
                      </a:lnTo>
                      <a:lnTo>
                        <a:pt x="24" y="0"/>
                      </a:lnTo>
                      <a:lnTo>
                        <a:pt x="19" y="14"/>
                      </a:lnTo>
                      <a:lnTo>
                        <a:pt x="13" y="28"/>
                      </a:lnTo>
                      <a:lnTo>
                        <a:pt x="6" y="42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0c3a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 flipH="1">
                  <a:off x="6363720" y="2844000"/>
                  <a:ext cx="64440" cy="490680"/>
                </a:xfrm>
                <a:custGeom>
                  <a:avLst/>
                  <a:gdLst/>
                  <a:ahLst/>
                  <a:rect l="l" t="t" r="r" b="b"/>
                  <a:pathLst>
                    <a:path w="192" h="1600">
                      <a:moveTo>
                        <a:pt x="0" y="52"/>
                      </a:moveTo>
                      <a:lnTo>
                        <a:pt x="27" y="211"/>
                      </a:lnTo>
                      <a:lnTo>
                        <a:pt x="53" y="378"/>
                      </a:lnTo>
                      <a:lnTo>
                        <a:pt x="77" y="555"/>
                      </a:lnTo>
                      <a:lnTo>
                        <a:pt x="97" y="740"/>
                      </a:lnTo>
                      <a:lnTo>
                        <a:pt x="116" y="936"/>
                      </a:lnTo>
                      <a:lnTo>
                        <a:pt x="132" y="1141"/>
                      </a:lnTo>
                      <a:lnTo>
                        <a:pt x="144" y="1355"/>
                      </a:lnTo>
                      <a:lnTo>
                        <a:pt x="153" y="1581"/>
                      </a:lnTo>
                      <a:lnTo>
                        <a:pt x="157" y="1583"/>
                      </a:lnTo>
                      <a:lnTo>
                        <a:pt x="162" y="1585"/>
                      </a:lnTo>
                      <a:lnTo>
                        <a:pt x="168" y="1588"/>
                      </a:lnTo>
                      <a:lnTo>
                        <a:pt x="172" y="1590"/>
                      </a:lnTo>
                      <a:lnTo>
                        <a:pt x="177" y="1593"/>
                      </a:lnTo>
                      <a:lnTo>
                        <a:pt x="183" y="1596"/>
                      </a:lnTo>
                      <a:lnTo>
                        <a:pt x="187" y="1598"/>
                      </a:lnTo>
                      <a:lnTo>
                        <a:pt x="192" y="1600"/>
                      </a:lnTo>
                      <a:lnTo>
                        <a:pt x="186" y="1391"/>
                      </a:lnTo>
                      <a:lnTo>
                        <a:pt x="175" y="1188"/>
                      </a:lnTo>
                      <a:lnTo>
                        <a:pt x="159" y="991"/>
                      </a:lnTo>
                      <a:lnTo>
                        <a:pt x="138" y="796"/>
                      </a:lnTo>
                      <a:lnTo>
                        <a:pt x="114" y="602"/>
                      </a:lnTo>
                      <a:lnTo>
                        <a:pt x="86" y="406"/>
                      </a:lnTo>
                      <a:lnTo>
                        <a:pt x="56" y="206"/>
                      </a:lnTo>
                      <a:lnTo>
                        <a:pt x="24" y="0"/>
                      </a:lnTo>
                      <a:lnTo>
                        <a:pt x="18" y="12"/>
                      </a:lnTo>
                      <a:lnTo>
                        <a:pt x="12" y="26"/>
                      </a:lnTo>
                      <a:lnTo>
                        <a:pt x="6" y="40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1c3a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 flipH="1">
                  <a:off x="6365520" y="2846160"/>
                  <a:ext cx="63720" cy="486360"/>
                </a:xfrm>
                <a:custGeom>
                  <a:avLst/>
                  <a:gdLst/>
                  <a:ahLst/>
                  <a:rect l="l" t="t" r="r" b="b"/>
                  <a:pathLst>
                    <a:path w="188" h="1587">
                      <a:moveTo>
                        <a:pt x="0" y="48"/>
                      </a:moveTo>
                      <a:lnTo>
                        <a:pt x="28" y="209"/>
                      </a:lnTo>
                      <a:lnTo>
                        <a:pt x="53" y="377"/>
                      </a:lnTo>
                      <a:lnTo>
                        <a:pt x="77" y="552"/>
                      </a:lnTo>
                      <a:lnTo>
                        <a:pt x="98" y="736"/>
                      </a:lnTo>
                      <a:lnTo>
                        <a:pt x="116" y="929"/>
                      </a:lnTo>
                      <a:lnTo>
                        <a:pt x="130" y="1131"/>
                      </a:lnTo>
                      <a:lnTo>
                        <a:pt x="142" y="1345"/>
                      </a:lnTo>
                      <a:lnTo>
                        <a:pt x="150" y="1569"/>
                      </a:lnTo>
                      <a:lnTo>
                        <a:pt x="154" y="1572"/>
                      </a:lnTo>
                      <a:lnTo>
                        <a:pt x="159" y="1574"/>
                      </a:lnTo>
                      <a:lnTo>
                        <a:pt x="164" y="1576"/>
                      </a:lnTo>
                      <a:lnTo>
                        <a:pt x="169" y="1577"/>
                      </a:lnTo>
                      <a:lnTo>
                        <a:pt x="174" y="1580"/>
                      </a:lnTo>
                      <a:lnTo>
                        <a:pt x="178" y="1582"/>
                      </a:lnTo>
                      <a:lnTo>
                        <a:pt x="183" y="1584"/>
                      </a:lnTo>
                      <a:lnTo>
                        <a:pt x="188" y="1587"/>
                      </a:lnTo>
                      <a:lnTo>
                        <a:pt x="182" y="1377"/>
                      </a:lnTo>
                      <a:lnTo>
                        <a:pt x="170" y="1177"/>
                      </a:lnTo>
                      <a:lnTo>
                        <a:pt x="154" y="981"/>
                      </a:lnTo>
                      <a:lnTo>
                        <a:pt x="135" y="790"/>
                      </a:lnTo>
                      <a:lnTo>
                        <a:pt x="112" y="597"/>
                      </a:lnTo>
                      <a:lnTo>
                        <a:pt x="85" y="404"/>
                      </a:lnTo>
                      <a:lnTo>
                        <a:pt x="55" y="206"/>
                      </a:lnTo>
                      <a:lnTo>
                        <a:pt x="24" y="0"/>
                      </a:lnTo>
                      <a:lnTo>
                        <a:pt x="18" y="11"/>
                      </a:lnTo>
                      <a:lnTo>
                        <a:pt x="13" y="24"/>
                      </a:lnTo>
                      <a:lnTo>
                        <a:pt x="6" y="35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2b3a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 flipH="1">
                  <a:off x="6369120" y="2848320"/>
                  <a:ext cx="62280" cy="483120"/>
                </a:xfrm>
                <a:custGeom>
                  <a:avLst/>
                  <a:gdLst/>
                  <a:ahLst/>
                  <a:rect l="l" t="t" r="r" b="b"/>
                  <a:pathLst>
                    <a:path w="184" h="1574">
                      <a:moveTo>
                        <a:pt x="0" y="46"/>
                      </a:moveTo>
                      <a:lnTo>
                        <a:pt x="28" y="209"/>
                      </a:lnTo>
                      <a:lnTo>
                        <a:pt x="54" y="378"/>
                      </a:lnTo>
                      <a:lnTo>
                        <a:pt x="77" y="551"/>
                      </a:lnTo>
                      <a:lnTo>
                        <a:pt x="98" y="732"/>
                      </a:lnTo>
                      <a:lnTo>
                        <a:pt x="115" y="923"/>
                      </a:lnTo>
                      <a:lnTo>
                        <a:pt x="130" y="1123"/>
                      </a:lnTo>
                      <a:lnTo>
                        <a:pt x="142" y="1334"/>
                      </a:lnTo>
                      <a:lnTo>
                        <a:pt x="150" y="1558"/>
                      </a:lnTo>
                      <a:lnTo>
                        <a:pt x="155" y="1560"/>
                      </a:lnTo>
                      <a:lnTo>
                        <a:pt x="159" y="1562"/>
                      </a:lnTo>
                      <a:lnTo>
                        <a:pt x="163" y="1564"/>
                      </a:lnTo>
                      <a:lnTo>
                        <a:pt x="167" y="1566"/>
                      </a:lnTo>
                      <a:lnTo>
                        <a:pt x="172" y="1568"/>
                      </a:lnTo>
                      <a:lnTo>
                        <a:pt x="176" y="1569"/>
                      </a:lnTo>
                      <a:lnTo>
                        <a:pt x="180" y="1572"/>
                      </a:lnTo>
                      <a:lnTo>
                        <a:pt x="184" y="1574"/>
                      </a:lnTo>
                      <a:lnTo>
                        <a:pt x="178" y="1366"/>
                      </a:lnTo>
                      <a:lnTo>
                        <a:pt x="166" y="1166"/>
                      </a:lnTo>
                      <a:lnTo>
                        <a:pt x="151" y="973"/>
                      </a:lnTo>
                      <a:lnTo>
                        <a:pt x="133" y="783"/>
                      </a:lnTo>
                      <a:lnTo>
                        <a:pt x="110" y="594"/>
                      </a:lnTo>
                      <a:lnTo>
                        <a:pt x="84" y="402"/>
                      </a:lnTo>
                      <a:lnTo>
                        <a:pt x="55" y="205"/>
                      </a:lnTo>
                      <a:lnTo>
                        <a:pt x="26" y="0"/>
                      </a:lnTo>
                      <a:lnTo>
                        <a:pt x="20" y="11"/>
                      </a:lnTo>
                      <a:lnTo>
                        <a:pt x="13" y="23"/>
                      </a:lnTo>
                      <a:lnTo>
                        <a:pt x="7" y="34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3d3d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 flipH="1">
                  <a:off x="6372360" y="2850480"/>
                  <a:ext cx="60120" cy="479880"/>
                </a:xfrm>
                <a:custGeom>
                  <a:avLst/>
                  <a:gdLst/>
                  <a:ahLst/>
                  <a:rect l="l" t="t" r="r" b="b"/>
                  <a:pathLst>
                    <a:path w="178" h="1561">
                      <a:moveTo>
                        <a:pt x="0" y="42"/>
                      </a:moveTo>
                      <a:lnTo>
                        <a:pt x="27" y="208"/>
                      </a:lnTo>
                      <a:lnTo>
                        <a:pt x="53" y="376"/>
                      </a:lnTo>
                      <a:lnTo>
                        <a:pt x="76" y="549"/>
                      </a:lnTo>
                      <a:lnTo>
                        <a:pt x="95" y="729"/>
                      </a:lnTo>
                      <a:lnTo>
                        <a:pt x="114" y="917"/>
                      </a:lnTo>
                      <a:lnTo>
                        <a:pt x="128" y="1115"/>
                      </a:lnTo>
                      <a:lnTo>
                        <a:pt x="139" y="1324"/>
                      </a:lnTo>
                      <a:lnTo>
                        <a:pt x="146" y="1548"/>
                      </a:lnTo>
                      <a:lnTo>
                        <a:pt x="154" y="1551"/>
                      </a:lnTo>
                      <a:lnTo>
                        <a:pt x="162" y="1554"/>
                      </a:lnTo>
                      <a:lnTo>
                        <a:pt x="170" y="1558"/>
                      </a:lnTo>
                      <a:lnTo>
                        <a:pt x="178" y="1561"/>
                      </a:lnTo>
                      <a:lnTo>
                        <a:pt x="171" y="1353"/>
                      </a:lnTo>
                      <a:lnTo>
                        <a:pt x="161" y="1155"/>
                      </a:lnTo>
                      <a:lnTo>
                        <a:pt x="146" y="965"/>
                      </a:lnTo>
                      <a:lnTo>
                        <a:pt x="128" y="777"/>
                      </a:lnTo>
                      <a:lnTo>
                        <a:pt x="106" y="591"/>
                      </a:lnTo>
                      <a:lnTo>
                        <a:pt x="82" y="401"/>
                      </a:lnTo>
                      <a:lnTo>
                        <a:pt x="54" y="205"/>
                      </a:lnTo>
                      <a:lnTo>
                        <a:pt x="25" y="0"/>
                      </a:lnTo>
                      <a:lnTo>
                        <a:pt x="18" y="10"/>
                      </a:lnTo>
                      <a:lnTo>
                        <a:pt x="12" y="21"/>
                      </a:lnTo>
                      <a:lnTo>
                        <a:pt x="5" y="32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4c3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 flipH="1">
                  <a:off x="6376320" y="2854080"/>
                  <a:ext cx="59040" cy="475200"/>
                </a:xfrm>
                <a:custGeom>
                  <a:avLst/>
                  <a:gdLst/>
                  <a:ahLst/>
                  <a:rect l="l" t="t" r="r" b="b"/>
                  <a:pathLst>
                    <a:path w="175" h="1548">
                      <a:moveTo>
                        <a:pt x="0" y="38"/>
                      </a:moveTo>
                      <a:lnTo>
                        <a:pt x="28" y="206"/>
                      </a:lnTo>
                      <a:lnTo>
                        <a:pt x="53" y="375"/>
                      </a:lnTo>
                      <a:lnTo>
                        <a:pt x="76" y="547"/>
                      </a:lnTo>
                      <a:lnTo>
                        <a:pt x="97" y="724"/>
                      </a:lnTo>
                      <a:lnTo>
                        <a:pt x="114" y="910"/>
                      </a:lnTo>
                      <a:lnTo>
                        <a:pt x="128" y="1106"/>
                      </a:lnTo>
                      <a:lnTo>
                        <a:pt x="138" y="1313"/>
                      </a:lnTo>
                      <a:lnTo>
                        <a:pt x="145" y="1535"/>
                      </a:lnTo>
                      <a:lnTo>
                        <a:pt x="153" y="1539"/>
                      </a:lnTo>
                      <a:lnTo>
                        <a:pt x="160" y="1542"/>
                      </a:lnTo>
                      <a:lnTo>
                        <a:pt x="167" y="1545"/>
                      </a:lnTo>
                      <a:lnTo>
                        <a:pt x="175" y="1548"/>
                      </a:lnTo>
                      <a:lnTo>
                        <a:pt x="168" y="1341"/>
                      </a:lnTo>
                      <a:lnTo>
                        <a:pt x="157" y="1145"/>
                      </a:lnTo>
                      <a:lnTo>
                        <a:pt x="142" y="956"/>
                      </a:lnTo>
                      <a:lnTo>
                        <a:pt x="124" y="770"/>
                      </a:lnTo>
                      <a:lnTo>
                        <a:pt x="104" y="586"/>
                      </a:lnTo>
                      <a:lnTo>
                        <a:pt x="81" y="399"/>
                      </a:lnTo>
                      <a:lnTo>
                        <a:pt x="55" y="204"/>
                      </a:lnTo>
                      <a:lnTo>
                        <a:pt x="26" y="0"/>
                      </a:lnTo>
                      <a:lnTo>
                        <a:pt x="20" y="9"/>
                      </a:lnTo>
                      <a:lnTo>
                        <a:pt x="14" y="18"/>
                      </a:lnTo>
                      <a:lnTo>
                        <a:pt x="7" y="2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5b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 flipH="1">
                  <a:off x="6379560" y="2856240"/>
                  <a:ext cx="56880" cy="471960"/>
                </a:xfrm>
                <a:custGeom>
                  <a:avLst/>
                  <a:gdLst/>
                  <a:ahLst/>
                  <a:rect l="l" t="t" r="r" b="b"/>
                  <a:pathLst>
                    <a:path w="171" h="1535">
                      <a:moveTo>
                        <a:pt x="0" y="35"/>
                      </a:moveTo>
                      <a:lnTo>
                        <a:pt x="28" y="205"/>
                      </a:lnTo>
                      <a:lnTo>
                        <a:pt x="53" y="374"/>
                      </a:lnTo>
                      <a:lnTo>
                        <a:pt x="76" y="546"/>
                      </a:lnTo>
                      <a:lnTo>
                        <a:pt x="96" y="721"/>
                      </a:lnTo>
                      <a:lnTo>
                        <a:pt x="113" y="904"/>
                      </a:lnTo>
                      <a:lnTo>
                        <a:pt x="126" y="1096"/>
                      </a:lnTo>
                      <a:lnTo>
                        <a:pt x="136" y="1303"/>
                      </a:lnTo>
                      <a:lnTo>
                        <a:pt x="143" y="1525"/>
                      </a:lnTo>
                      <a:lnTo>
                        <a:pt x="150" y="1527"/>
                      </a:lnTo>
                      <a:lnTo>
                        <a:pt x="157" y="1529"/>
                      </a:lnTo>
                      <a:lnTo>
                        <a:pt x="164" y="1533"/>
                      </a:lnTo>
                      <a:lnTo>
                        <a:pt x="171" y="1535"/>
                      </a:lnTo>
                      <a:lnTo>
                        <a:pt x="163" y="1329"/>
                      </a:lnTo>
                      <a:lnTo>
                        <a:pt x="152" y="1133"/>
                      </a:lnTo>
                      <a:lnTo>
                        <a:pt x="139" y="947"/>
                      </a:lnTo>
                      <a:lnTo>
                        <a:pt x="121" y="764"/>
                      </a:lnTo>
                      <a:lnTo>
                        <a:pt x="102" y="582"/>
                      </a:lnTo>
                      <a:lnTo>
                        <a:pt x="79" y="396"/>
                      </a:lnTo>
                      <a:lnTo>
                        <a:pt x="54" y="204"/>
                      </a:lnTo>
                      <a:lnTo>
                        <a:pt x="27" y="0"/>
                      </a:lnTo>
                      <a:lnTo>
                        <a:pt x="20" y="8"/>
                      </a:lnTo>
                      <a:lnTo>
                        <a:pt x="14" y="17"/>
                      </a:lnTo>
                      <a:lnTo>
                        <a:pt x="7" y="25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6b4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 flipH="1">
                  <a:off x="6381360" y="2858400"/>
                  <a:ext cx="55800" cy="467640"/>
                </a:xfrm>
                <a:custGeom>
                  <a:avLst/>
                  <a:gdLst/>
                  <a:ahLst/>
                  <a:rect l="l" t="t" r="r" b="b"/>
                  <a:pathLst>
                    <a:path w="166" h="1524">
                      <a:moveTo>
                        <a:pt x="0" y="32"/>
                      </a:moveTo>
                      <a:lnTo>
                        <a:pt x="27" y="205"/>
                      </a:lnTo>
                      <a:lnTo>
                        <a:pt x="53" y="376"/>
                      </a:lnTo>
                      <a:lnTo>
                        <a:pt x="75" y="545"/>
                      </a:lnTo>
                      <a:lnTo>
                        <a:pt x="94" y="718"/>
                      </a:lnTo>
                      <a:lnTo>
                        <a:pt x="111" y="898"/>
                      </a:lnTo>
                      <a:lnTo>
                        <a:pt x="124" y="1088"/>
                      </a:lnTo>
                      <a:lnTo>
                        <a:pt x="135" y="1292"/>
                      </a:lnTo>
                      <a:lnTo>
                        <a:pt x="140" y="1513"/>
                      </a:lnTo>
                      <a:lnTo>
                        <a:pt x="147" y="1516"/>
                      </a:lnTo>
                      <a:lnTo>
                        <a:pt x="154" y="1518"/>
                      </a:lnTo>
                      <a:lnTo>
                        <a:pt x="160" y="1521"/>
                      </a:lnTo>
                      <a:lnTo>
                        <a:pt x="166" y="1524"/>
                      </a:lnTo>
                      <a:lnTo>
                        <a:pt x="158" y="1318"/>
                      </a:lnTo>
                      <a:lnTo>
                        <a:pt x="146" y="1124"/>
                      </a:lnTo>
                      <a:lnTo>
                        <a:pt x="133" y="939"/>
                      </a:lnTo>
                      <a:lnTo>
                        <a:pt x="117" y="758"/>
                      </a:lnTo>
                      <a:lnTo>
                        <a:pt x="98" y="578"/>
                      </a:lnTo>
                      <a:lnTo>
                        <a:pt x="77" y="395"/>
                      </a:lnTo>
                      <a:lnTo>
                        <a:pt x="53" y="204"/>
                      </a:lnTo>
                      <a:lnTo>
                        <a:pt x="26" y="0"/>
                      </a:lnTo>
                      <a:lnTo>
                        <a:pt x="19" y="8"/>
                      </a:lnTo>
                      <a:lnTo>
                        <a:pt x="12" y="16"/>
                      </a:lnTo>
                      <a:lnTo>
                        <a:pt x="6" y="24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7c4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 flipH="1">
                  <a:off x="6385320" y="2862000"/>
                  <a:ext cx="54720" cy="462960"/>
                </a:xfrm>
                <a:custGeom>
                  <a:avLst/>
                  <a:gdLst/>
                  <a:ahLst/>
                  <a:rect l="l" t="t" r="r" b="b"/>
                  <a:pathLst>
                    <a:path w="161" h="1510">
                      <a:moveTo>
                        <a:pt x="0" y="28"/>
                      </a:moveTo>
                      <a:lnTo>
                        <a:pt x="28" y="203"/>
                      </a:lnTo>
                      <a:lnTo>
                        <a:pt x="53" y="374"/>
                      </a:lnTo>
                      <a:lnTo>
                        <a:pt x="75" y="542"/>
                      </a:lnTo>
                      <a:lnTo>
                        <a:pt x="95" y="713"/>
                      </a:lnTo>
                      <a:lnTo>
                        <a:pt x="111" y="891"/>
                      </a:lnTo>
                      <a:lnTo>
                        <a:pt x="123" y="1079"/>
                      </a:lnTo>
                      <a:lnTo>
                        <a:pt x="134" y="1281"/>
                      </a:lnTo>
                      <a:lnTo>
                        <a:pt x="140" y="1502"/>
                      </a:lnTo>
                      <a:lnTo>
                        <a:pt x="161" y="1510"/>
                      </a:lnTo>
                      <a:lnTo>
                        <a:pt x="153" y="1304"/>
                      </a:lnTo>
                      <a:lnTo>
                        <a:pt x="142" y="1112"/>
                      </a:lnTo>
                      <a:lnTo>
                        <a:pt x="129" y="930"/>
                      </a:lnTo>
                      <a:lnTo>
                        <a:pt x="113" y="751"/>
                      </a:lnTo>
                      <a:lnTo>
                        <a:pt x="96" y="574"/>
                      </a:lnTo>
                      <a:lnTo>
                        <a:pt x="75" y="393"/>
                      </a:lnTo>
                      <a:lnTo>
                        <a:pt x="52" y="203"/>
                      </a:lnTo>
                      <a:lnTo>
                        <a:pt x="27" y="0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8c4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 flipH="1">
                  <a:off x="5936400" y="3240000"/>
                  <a:ext cx="16560" cy="25560"/>
                </a:xfrm>
                <a:custGeom>
                  <a:avLst/>
                  <a:gdLst/>
                  <a:ahLst/>
                  <a:rect l="l" t="t" r="r" b="b"/>
                  <a:pathLst>
                    <a:path w="50" h="83">
                      <a:moveTo>
                        <a:pt x="25" y="0"/>
                      </a:moveTo>
                      <a:lnTo>
                        <a:pt x="35" y="3"/>
                      </a:lnTo>
                      <a:lnTo>
                        <a:pt x="43" y="11"/>
                      </a:lnTo>
                      <a:lnTo>
                        <a:pt x="48" y="25"/>
                      </a:lnTo>
                      <a:lnTo>
                        <a:pt x="50" y="41"/>
                      </a:lnTo>
                      <a:lnTo>
                        <a:pt x="48" y="57"/>
                      </a:lnTo>
                      <a:lnTo>
                        <a:pt x="43" y="70"/>
                      </a:lnTo>
                      <a:lnTo>
                        <a:pt x="35" y="79"/>
                      </a:lnTo>
                      <a:lnTo>
                        <a:pt x="25" y="83"/>
                      </a:lnTo>
                      <a:lnTo>
                        <a:pt x="16" y="79"/>
                      </a:lnTo>
                      <a:lnTo>
                        <a:pt x="8" y="70"/>
                      </a:lnTo>
                      <a:lnTo>
                        <a:pt x="2" y="57"/>
                      </a:lnTo>
                      <a:lnTo>
                        <a:pt x="0" y="41"/>
                      </a:lnTo>
                      <a:lnTo>
                        <a:pt x="2" y="25"/>
                      </a:lnTo>
                      <a:lnTo>
                        <a:pt x="8" y="11"/>
                      </a:lnTo>
                      <a:lnTo>
                        <a:pt x="16" y="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0033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 flipH="1">
                  <a:off x="6130800" y="3318120"/>
                  <a:ext cx="29880" cy="12240"/>
                </a:xfrm>
                <a:custGeom>
                  <a:avLst/>
                  <a:gdLst/>
                  <a:ahLst/>
                  <a:rect l="l" t="t" r="r" b="b"/>
                  <a:pathLst>
                    <a:path w="91" h="38">
                      <a:moveTo>
                        <a:pt x="42" y="3"/>
                      </a:moveTo>
                      <a:lnTo>
                        <a:pt x="51" y="2"/>
                      </a:lnTo>
                      <a:lnTo>
                        <a:pt x="60" y="0"/>
                      </a:lnTo>
                      <a:lnTo>
                        <a:pt x="68" y="0"/>
                      </a:lnTo>
                      <a:lnTo>
                        <a:pt x="75" y="2"/>
                      </a:lnTo>
                      <a:lnTo>
                        <a:pt x="81" y="3"/>
                      </a:lnTo>
                      <a:lnTo>
                        <a:pt x="87" y="5"/>
                      </a:lnTo>
                      <a:lnTo>
                        <a:pt x="89" y="7"/>
                      </a:lnTo>
                      <a:lnTo>
                        <a:pt x="91" y="11"/>
                      </a:lnTo>
                      <a:lnTo>
                        <a:pt x="91" y="14"/>
                      </a:lnTo>
                      <a:lnTo>
                        <a:pt x="89" y="18"/>
                      </a:lnTo>
                      <a:lnTo>
                        <a:pt x="85" y="21"/>
                      </a:lnTo>
                      <a:lnTo>
                        <a:pt x="80" y="25"/>
                      </a:lnTo>
                      <a:lnTo>
                        <a:pt x="74" y="28"/>
                      </a:lnTo>
                      <a:lnTo>
                        <a:pt x="66" y="31"/>
                      </a:lnTo>
                      <a:lnTo>
                        <a:pt x="58" y="34"/>
                      </a:lnTo>
                      <a:lnTo>
                        <a:pt x="49" y="36"/>
                      </a:lnTo>
                      <a:lnTo>
                        <a:pt x="39" y="38"/>
                      </a:lnTo>
                      <a:lnTo>
                        <a:pt x="31" y="38"/>
                      </a:lnTo>
                      <a:lnTo>
                        <a:pt x="23" y="38"/>
                      </a:lnTo>
                      <a:lnTo>
                        <a:pt x="16" y="38"/>
                      </a:lnTo>
                      <a:lnTo>
                        <a:pt x="10" y="37"/>
                      </a:lnTo>
                      <a:lnTo>
                        <a:pt x="5" y="35"/>
                      </a:lnTo>
                      <a:lnTo>
                        <a:pt x="2" y="33"/>
                      </a:lnTo>
                      <a:lnTo>
                        <a:pt x="0" y="29"/>
                      </a:lnTo>
                      <a:lnTo>
                        <a:pt x="0" y="26"/>
                      </a:lnTo>
                      <a:lnTo>
                        <a:pt x="2" y="22"/>
                      </a:lnTo>
                      <a:lnTo>
                        <a:pt x="6" y="18"/>
                      </a:lnTo>
                      <a:lnTo>
                        <a:pt x="12" y="14"/>
                      </a:lnTo>
                      <a:lnTo>
                        <a:pt x="17" y="11"/>
                      </a:lnTo>
                      <a:lnTo>
                        <a:pt x="24" y="7"/>
                      </a:lnTo>
                      <a:lnTo>
                        <a:pt x="32" y="5"/>
                      </a:lnTo>
                      <a:lnTo>
                        <a:pt x="42" y="3"/>
                      </a:lnTo>
                      <a:close/>
                    </a:path>
                  </a:pathLst>
                </a:custGeom>
                <a:solidFill>
                  <a:srgbClr val="0033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 flipH="1">
                  <a:off x="6046200" y="3295800"/>
                  <a:ext cx="29880" cy="10800"/>
                </a:xfrm>
                <a:custGeom>
                  <a:avLst/>
                  <a:gdLst/>
                  <a:ahLst/>
                  <a:rect l="l" t="t" r="r" b="b"/>
                  <a:pathLst>
                    <a:path w="90" h="38">
                      <a:moveTo>
                        <a:pt x="42" y="2"/>
                      </a:moveTo>
                      <a:lnTo>
                        <a:pt x="51" y="1"/>
                      </a:lnTo>
                      <a:lnTo>
                        <a:pt x="59" y="0"/>
                      </a:lnTo>
                      <a:lnTo>
                        <a:pt x="67" y="0"/>
                      </a:lnTo>
                      <a:lnTo>
                        <a:pt x="74" y="1"/>
                      </a:lnTo>
                      <a:lnTo>
                        <a:pt x="80" y="2"/>
                      </a:lnTo>
                      <a:lnTo>
                        <a:pt x="85" y="4"/>
                      </a:lnTo>
                      <a:lnTo>
                        <a:pt x="88" y="7"/>
                      </a:lnTo>
                      <a:lnTo>
                        <a:pt x="90" y="10"/>
                      </a:lnTo>
                      <a:lnTo>
                        <a:pt x="90" y="14"/>
                      </a:lnTo>
                      <a:lnTo>
                        <a:pt x="88" y="17"/>
                      </a:lnTo>
                      <a:lnTo>
                        <a:pt x="84" y="20"/>
                      </a:lnTo>
                      <a:lnTo>
                        <a:pt x="80" y="24"/>
                      </a:lnTo>
                      <a:lnTo>
                        <a:pt x="73" y="27"/>
                      </a:lnTo>
                      <a:lnTo>
                        <a:pt x="66" y="31"/>
                      </a:lnTo>
                      <a:lnTo>
                        <a:pt x="58" y="33"/>
                      </a:lnTo>
                      <a:lnTo>
                        <a:pt x="49" y="35"/>
                      </a:lnTo>
                      <a:lnTo>
                        <a:pt x="39" y="37"/>
                      </a:lnTo>
                      <a:lnTo>
                        <a:pt x="30" y="38"/>
                      </a:lnTo>
                      <a:lnTo>
                        <a:pt x="22" y="38"/>
                      </a:lnTo>
                      <a:lnTo>
                        <a:pt x="15" y="37"/>
                      </a:lnTo>
                      <a:lnTo>
                        <a:pt x="9" y="35"/>
                      </a:lnTo>
                      <a:lnTo>
                        <a:pt x="5" y="33"/>
                      </a:lnTo>
                      <a:lnTo>
                        <a:pt x="1" y="31"/>
                      </a:lnTo>
                      <a:lnTo>
                        <a:pt x="0" y="27"/>
                      </a:lnTo>
                      <a:lnTo>
                        <a:pt x="0" y="24"/>
                      </a:lnTo>
                      <a:lnTo>
                        <a:pt x="3" y="20"/>
                      </a:lnTo>
                      <a:lnTo>
                        <a:pt x="6" y="17"/>
                      </a:lnTo>
                      <a:lnTo>
                        <a:pt x="11" y="12"/>
                      </a:lnTo>
                      <a:lnTo>
                        <a:pt x="16" y="10"/>
                      </a:lnTo>
                      <a:lnTo>
                        <a:pt x="24" y="7"/>
                      </a:lnTo>
                      <a:lnTo>
                        <a:pt x="32" y="4"/>
                      </a:lnTo>
                      <a:lnTo>
                        <a:pt x="42" y="2"/>
                      </a:lnTo>
                      <a:close/>
                    </a:path>
                  </a:pathLst>
                </a:custGeom>
                <a:solidFill>
                  <a:srgbClr val="0033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 flipH="1">
                  <a:off x="5958000" y="3249000"/>
                  <a:ext cx="17640" cy="25560"/>
                </a:xfrm>
                <a:custGeom>
                  <a:avLst/>
                  <a:gdLst/>
                  <a:ahLst/>
                  <a:rect l="l" t="t" r="r" b="b"/>
                  <a:pathLst>
                    <a:path w="51" h="83">
                      <a:moveTo>
                        <a:pt x="26" y="0"/>
                      </a:moveTo>
                      <a:lnTo>
                        <a:pt x="36" y="4"/>
                      </a:lnTo>
                      <a:lnTo>
                        <a:pt x="44" y="12"/>
                      </a:lnTo>
                      <a:lnTo>
                        <a:pt x="49" y="26"/>
                      </a:lnTo>
                      <a:lnTo>
                        <a:pt x="51" y="42"/>
                      </a:lnTo>
                      <a:lnTo>
                        <a:pt x="49" y="58"/>
                      </a:lnTo>
                      <a:lnTo>
                        <a:pt x="44" y="71"/>
                      </a:lnTo>
                      <a:lnTo>
                        <a:pt x="36" y="80"/>
                      </a:lnTo>
                      <a:lnTo>
                        <a:pt x="26" y="83"/>
                      </a:lnTo>
                      <a:lnTo>
                        <a:pt x="17" y="80"/>
                      </a:lnTo>
                      <a:lnTo>
                        <a:pt x="8" y="71"/>
                      </a:lnTo>
                      <a:lnTo>
                        <a:pt x="3" y="58"/>
                      </a:lnTo>
                      <a:lnTo>
                        <a:pt x="0" y="42"/>
                      </a:lnTo>
                      <a:lnTo>
                        <a:pt x="3" y="26"/>
                      </a:lnTo>
                      <a:lnTo>
                        <a:pt x="8" y="12"/>
                      </a:lnTo>
                      <a:lnTo>
                        <a:pt x="17" y="4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0033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 flipH="1">
                  <a:off x="6172560" y="3330720"/>
                  <a:ext cx="29880" cy="10800"/>
                </a:xfrm>
                <a:custGeom>
                  <a:avLst/>
                  <a:gdLst/>
                  <a:ahLst/>
                  <a:rect l="l" t="t" r="r" b="b"/>
                  <a:pathLst>
                    <a:path w="91" h="38">
                      <a:moveTo>
                        <a:pt x="43" y="3"/>
                      </a:moveTo>
                      <a:lnTo>
                        <a:pt x="52" y="0"/>
                      </a:lnTo>
                      <a:lnTo>
                        <a:pt x="60" y="0"/>
                      </a:lnTo>
                      <a:lnTo>
                        <a:pt x="68" y="0"/>
                      </a:lnTo>
                      <a:lnTo>
                        <a:pt x="75" y="0"/>
                      </a:lnTo>
                      <a:lnTo>
                        <a:pt x="81" y="1"/>
                      </a:lnTo>
                      <a:lnTo>
                        <a:pt x="86" y="4"/>
                      </a:lnTo>
                      <a:lnTo>
                        <a:pt x="89" y="6"/>
                      </a:lnTo>
                      <a:lnTo>
                        <a:pt x="91" y="9"/>
                      </a:lnTo>
                      <a:lnTo>
                        <a:pt x="91" y="13"/>
                      </a:lnTo>
                      <a:lnTo>
                        <a:pt x="89" y="16"/>
                      </a:lnTo>
                      <a:lnTo>
                        <a:pt x="85" y="20"/>
                      </a:lnTo>
                      <a:lnTo>
                        <a:pt x="80" y="24"/>
                      </a:lnTo>
                      <a:lnTo>
                        <a:pt x="74" y="28"/>
                      </a:lnTo>
                      <a:lnTo>
                        <a:pt x="66" y="30"/>
                      </a:lnTo>
                      <a:lnTo>
                        <a:pt x="58" y="34"/>
                      </a:lnTo>
                      <a:lnTo>
                        <a:pt x="48" y="36"/>
                      </a:lnTo>
                      <a:lnTo>
                        <a:pt x="39" y="37"/>
                      </a:lnTo>
                      <a:lnTo>
                        <a:pt x="31" y="38"/>
                      </a:lnTo>
                      <a:lnTo>
                        <a:pt x="23" y="38"/>
                      </a:lnTo>
                      <a:lnTo>
                        <a:pt x="16" y="37"/>
                      </a:lnTo>
                      <a:lnTo>
                        <a:pt x="10" y="36"/>
                      </a:lnTo>
                      <a:lnTo>
                        <a:pt x="5" y="34"/>
                      </a:lnTo>
                      <a:lnTo>
                        <a:pt x="2" y="31"/>
                      </a:lnTo>
                      <a:lnTo>
                        <a:pt x="0" y="28"/>
                      </a:lnTo>
                      <a:lnTo>
                        <a:pt x="0" y="24"/>
                      </a:lnTo>
                      <a:lnTo>
                        <a:pt x="2" y="21"/>
                      </a:lnTo>
                      <a:lnTo>
                        <a:pt x="6" y="18"/>
                      </a:lnTo>
                      <a:lnTo>
                        <a:pt x="12" y="13"/>
                      </a:lnTo>
                      <a:lnTo>
                        <a:pt x="17" y="11"/>
                      </a:lnTo>
                      <a:lnTo>
                        <a:pt x="25" y="7"/>
                      </a:lnTo>
                      <a:lnTo>
                        <a:pt x="33" y="5"/>
                      </a:lnTo>
                      <a:lnTo>
                        <a:pt x="43" y="3"/>
                      </a:lnTo>
                      <a:close/>
                    </a:path>
                  </a:pathLst>
                </a:custGeom>
                <a:solidFill>
                  <a:srgbClr val="0033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 flipH="1">
                  <a:off x="6087240" y="3306960"/>
                  <a:ext cx="29880" cy="12240"/>
                </a:xfrm>
                <a:custGeom>
                  <a:avLst/>
                  <a:gdLst/>
                  <a:ahLst/>
                  <a:rect l="l" t="t" r="r" b="b"/>
                  <a:pathLst>
                    <a:path w="90" h="38">
                      <a:moveTo>
                        <a:pt x="42" y="2"/>
                      </a:moveTo>
                      <a:lnTo>
                        <a:pt x="51" y="0"/>
                      </a:lnTo>
                      <a:lnTo>
                        <a:pt x="60" y="0"/>
                      </a:lnTo>
                      <a:lnTo>
                        <a:pt x="67" y="0"/>
                      </a:lnTo>
                      <a:lnTo>
                        <a:pt x="75" y="0"/>
                      </a:lnTo>
                      <a:lnTo>
                        <a:pt x="81" y="1"/>
                      </a:lnTo>
                      <a:lnTo>
                        <a:pt x="85" y="3"/>
                      </a:lnTo>
                      <a:lnTo>
                        <a:pt x="89" y="5"/>
                      </a:lnTo>
                      <a:lnTo>
                        <a:pt x="90" y="9"/>
                      </a:lnTo>
                      <a:lnTo>
                        <a:pt x="90" y="12"/>
                      </a:lnTo>
                      <a:lnTo>
                        <a:pt x="88" y="16"/>
                      </a:lnTo>
                      <a:lnTo>
                        <a:pt x="84" y="19"/>
                      </a:lnTo>
                      <a:lnTo>
                        <a:pt x="80" y="24"/>
                      </a:lnTo>
                      <a:lnTo>
                        <a:pt x="73" y="27"/>
                      </a:lnTo>
                      <a:lnTo>
                        <a:pt x="66" y="29"/>
                      </a:lnTo>
                      <a:lnTo>
                        <a:pt x="58" y="33"/>
                      </a:lnTo>
                      <a:lnTo>
                        <a:pt x="49" y="35"/>
                      </a:lnTo>
                      <a:lnTo>
                        <a:pt x="39" y="36"/>
                      </a:lnTo>
                      <a:lnTo>
                        <a:pt x="30" y="38"/>
                      </a:lnTo>
                      <a:lnTo>
                        <a:pt x="22" y="38"/>
                      </a:lnTo>
                      <a:lnTo>
                        <a:pt x="15" y="36"/>
                      </a:lnTo>
                      <a:lnTo>
                        <a:pt x="9" y="35"/>
                      </a:lnTo>
                      <a:lnTo>
                        <a:pt x="5" y="33"/>
                      </a:lnTo>
                      <a:lnTo>
                        <a:pt x="1" y="31"/>
                      </a:lnTo>
                      <a:lnTo>
                        <a:pt x="0" y="27"/>
                      </a:lnTo>
                      <a:lnTo>
                        <a:pt x="0" y="24"/>
                      </a:lnTo>
                      <a:lnTo>
                        <a:pt x="2" y="20"/>
                      </a:lnTo>
                      <a:lnTo>
                        <a:pt x="6" y="17"/>
                      </a:lnTo>
                      <a:lnTo>
                        <a:pt x="11" y="12"/>
                      </a:lnTo>
                      <a:lnTo>
                        <a:pt x="16" y="10"/>
                      </a:lnTo>
                      <a:lnTo>
                        <a:pt x="24" y="6"/>
                      </a:lnTo>
                      <a:lnTo>
                        <a:pt x="32" y="4"/>
                      </a:lnTo>
                      <a:lnTo>
                        <a:pt x="42" y="2"/>
                      </a:lnTo>
                      <a:close/>
                    </a:path>
                  </a:pathLst>
                </a:custGeom>
                <a:solidFill>
                  <a:srgbClr val="0033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 flipH="1">
                  <a:off x="5937120" y="3243600"/>
                  <a:ext cx="12240" cy="18720"/>
                </a:xfrm>
                <a:custGeom>
                  <a:avLst/>
                  <a:gdLst/>
                  <a:ahLst/>
                  <a:rect l="l" t="t" r="r" b="b"/>
                  <a:pathLst>
                    <a:path w="37" h="60">
                      <a:moveTo>
                        <a:pt x="18" y="0"/>
                      </a:moveTo>
                      <a:lnTo>
                        <a:pt x="25" y="3"/>
                      </a:lnTo>
                      <a:lnTo>
                        <a:pt x="31" y="8"/>
                      </a:lnTo>
                      <a:lnTo>
                        <a:pt x="36" y="19"/>
                      </a:lnTo>
                      <a:lnTo>
                        <a:pt x="37" y="30"/>
                      </a:lnTo>
                      <a:lnTo>
                        <a:pt x="36" y="42"/>
                      </a:lnTo>
                      <a:lnTo>
                        <a:pt x="31" y="51"/>
                      </a:lnTo>
                      <a:lnTo>
                        <a:pt x="25" y="58"/>
                      </a:lnTo>
                      <a:lnTo>
                        <a:pt x="18" y="60"/>
                      </a:lnTo>
                      <a:lnTo>
                        <a:pt x="11" y="58"/>
                      </a:lnTo>
                      <a:lnTo>
                        <a:pt x="6" y="51"/>
                      </a:lnTo>
                      <a:lnTo>
                        <a:pt x="1" y="42"/>
                      </a:lnTo>
                      <a:lnTo>
                        <a:pt x="0" y="30"/>
                      </a:lnTo>
                      <a:lnTo>
                        <a:pt x="1" y="19"/>
                      </a:lnTo>
                      <a:lnTo>
                        <a:pt x="6" y="8"/>
                      </a:lnTo>
                      <a:lnTo>
                        <a:pt x="11" y="3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8c4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 flipH="1">
                  <a:off x="6133320" y="3320640"/>
                  <a:ext cx="21960" cy="7560"/>
                </a:xfrm>
                <a:custGeom>
                  <a:avLst/>
                  <a:gdLst/>
                  <a:ahLst/>
                  <a:rect l="l" t="t" r="r" b="b"/>
                  <a:pathLst>
                    <a:path w="67" h="28">
                      <a:moveTo>
                        <a:pt x="32" y="1"/>
                      </a:moveTo>
                      <a:lnTo>
                        <a:pt x="38" y="0"/>
                      </a:lnTo>
                      <a:lnTo>
                        <a:pt x="44" y="0"/>
                      </a:lnTo>
                      <a:lnTo>
                        <a:pt x="50" y="0"/>
                      </a:lnTo>
                      <a:lnTo>
                        <a:pt x="55" y="0"/>
                      </a:lnTo>
                      <a:lnTo>
                        <a:pt x="59" y="1"/>
                      </a:lnTo>
                      <a:lnTo>
                        <a:pt x="63" y="2"/>
                      </a:lnTo>
                      <a:lnTo>
                        <a:pt x="66" y="5"/>
                      </a:lnTo>
                      <a:lnTo>
                        <a:pt x="67" y="7"/>
                      </a:lnTo>
                      <a:lnTo>
                        <a:pt x="65" y="13"/>
                      </a:lnTo>
                      <a:lnTo>
                        <a:pt x="59" y="17"/>
                      </a:lnTo>
                      <a:lnTo>
                        <a:pt x="49" y="22"/>
                      </a:lnTo>
                      <a:lnTo>
                        <a:pt x="36" y="25"/>
                      </a:lnTo>
                      <a:lnTo>
                        <a:pt x="29" y="26"/>
                      </a:lnTo>
                      <a:lnTo>
                        <a:pt x="23" y="28"/>
                      </a:lnTo>
                      <a:lnTo>
                        <a:pt x="17" y="28"/>
                      </a:lnTo>
                      <a:lnTo>
                        <a:pt x="12" y="26"/>
                      </a:lnTo>
                      <a:lnTo>
                        <a:pt x="7" y="26"/>
                      </a:lnTo>
                      <a:lnTo>
                        <a:pt x="4" y="24"/>
                      </a:lnTo>
                      <a:lnTo>
                        <a:pt x="2" y="23"/>
                      </a:lnTo>
                      <a:lnTo>
                        <a:pt x="0" y="21"/>
                      </a:lnTo>
                      <a:lnTo>
                        <a:pt x="3" y="15"/>
                      </a:lnTo>
                      <a:lnTo>
                        <a:pt x="8" y="9"/>
                      </a:lnTo>
                      <a:lnTo>
                        <a:pt x="19" y="5"/>
                      </a:lnTo>
                      <a:lnTo>
                        <a:pt x="32" y="1"/>
                      </a:lnTo>
                      <a:close/>
                    </a:path>
                  </a:pathLst>
                </a:custGeom>
                <a:solidFill>
                  <a:srgbClr val="8c4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 flipH="1">
                  <a:off x="6048360" y="3298320"/>
                  <a:ext cx="21960" cy="7560"/>
                </a:xfrm>
                <a:custGeom>
                  <a:avLst/>
                  <a:gdLst/>
                  <a:ahLst/>
                  <a:rect l="l" t="t" r="r" b="b"/>
                  <a:pathLst>
                    <a:path w="65" h="28">
                      <a:moveTo>
                        <a:pt x="29" y="1"/>
                      </a:moveTo>
                      <a:lnTo>
                        <a:pt x="36" y="0"/>
                      </a:lnTo>
                      <a:lnTo>
                        <a:pt x="42" y="0"/>
                      </a:lnTo>
                      <a:lnTo>
                        <a:pt x="49" y="0"/>
                      </a:lnTo>
                      <a:lnTo>
                        <a:pt x="54" y="0"/>
                      </a:lnTo>
                      <a:lnTo>
                        <a:pt x="58" y="1"/>
                      </a:lnTo>
                      <a:lnTo>
                        <a:pt x="62" y="3"/>
                      </a:lnTo>
                      <a:lnTo>
                        <a:pt x="64" y="5"/>
                      </a:lnTo>
                      <a:lnTo>
                        <a:pt x="65" y="7"/>
                      </a:lnTo>
                      <a:lnTo>
                        <a:pt x="63" y="13"/>
                      </a:lnTo>
                      <a:lnTo>
                        <a:pt x="57" y="18"/>
                      </a:lnTo>
                      <a:lnTo>
                        <a:pt x="47" y="22"/>
                      </a:lnTo>
                      <a:lnTo>
                        <a:pt x="34" y="26"/>
                      </a:lnTo>
                      <a:lnTo>
                        <a:pt x="27" y="27"/>
                      </a:lnTo>
                      <a:lnTo>
                        <a:pt x="21" y="28"/>
                      </a:lnTo>
                      <a:lnTo>
                        <a:pt x="16" y="28"/>
                      </a:lnTo>
                      <a:lnTo>
                        <a:pt x="11" y="27"/>
                      </a:lnTo>
                      <a:lnTo>
                        <a:pt x="6" y="27"/>
                      </a:lnTo>
                      <a:lnTo>
                        <a:pt x="3" y="24"/>
                      </a:lnTo>
                      <a:lnTo>
                        <a:pt x="1" y="23"/>
                      </a:lnTo>
                      <a:lnTo>
                        <a:pt x="0" y="21"/>
                      </a:lnTo>
                      <a:lnTo>
                        <a:pt x="1" y="15"/>
                      </a:lnTo>
                      <a:lnTo>
                        <a:pt x="6" y="10"/>
                      </a:lnTo>
                      <a:lnTo>
                        <a:pt x="17" y="5"/>
                      </a:lnTo>
                      <a:lnTo>
                        <a:pt x="29" y="1"/>
                      </a:lnTo>
                      <a:close/>
                    </a:path>
                  </a:pathLst>
                </a:custGeom>
                <a:solidFill>
                  <a:srgbClr val="8c4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 flipH="1">
                  <a:off x="5960160" y="3252240"/>
                  <a:ext cx="11880" cy="17640"/>
                </a:xfrm>
                <a:custGeom>
                  <a:avLst/>
                  <a:gdLst/>
                  <a:ahLst/>
                  <a:rect l="l" t="t" r="r" b="b"/>
                  <a:pathLst>
                    <a:path w="36" h="60">
                      <a:moveTo>
                        <a:pt x="18" y="0"/>
                      </a:moveTo>
                      <a:lnTo>
                        <a:pt x="25" y="2"/>
                      </a:lnTo>
                      <a:lnTo>
                        <a:pt x="31" y="9"/>
                      </a:lnTo>
                      <a:lnTo>
                        <a:pt x="35" y="18"/>
                      </a:lnTo>
                      <a:lnTo>
                        <a:pt x="36" y="30"/>
                      </a:lnTo>
                      <a:lnTo>
                        <a:pt x="35" y="41"/>
                      </a:lnTo>
                      <a:lnTo>
                        <a:pt x="31" y="51"/>
                      </a:lnTo>
                      <a:lnTo>
                        <a:pt x="25" y="57"/>
                      </a:lnTo>
                      <a:lnTo>
                        <a:pt x="18" y="60"/>
                      </a:lnTo>
                      <a:lnTo>
                        <a:pt x="11" y="57"/>
                      </a:lnTo>
                      <a:lnTo>
                        <a:pt x="5" y="51"/>
                      </a:lnTo>
                      <a:lnTo>
                        <a:pt x="1" y="41"/>
                      </a:lnTo>
                      <a:lnTo>
                        <a:pt x="0" y="30"/>
                      </a:lnTo>
                      <a:lnTo>
                        <a:pt x="1" y="18"/>
                      </a:lnTo>
                      <a:lnTo>
                        <a:pt x="5" y="9"/>
                      </a:lnTo>
                      <a:lnTo>
                        <a:pt x="11" y="2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8c4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 flipH="1">
                  <a:off x="6175080" y="3331800"/>
                  <a:ext cx="22320" cy="7560"/>
                </a:xfrm>
                <a:custGeom>
                  <a:avLst/>
                  <a:gdLst/>
                  <a:ahLst/>
                  <a:rect l="l" t="t" r="r" b="b"/>
                  <a:pathLst>
                    <a:path w="67" h="26">
                      <a:moveTo>
                        <a:pt x="31" y="1"/>
                      </a:moveTo>
                      <a:lnTo>
                        <a:pt x="38" y="0"/>
                      </a:lnTo>
                      <a:lnTo>
                        <a:pt x="44" y="0"/>
                      </a:lnTo>
                      <a:lnTo>
                        <a:pt x="51" y="0"/>
                      </a:lnTo>
                      <a:lnTo>
                        <a:pt x="56" y="0"/>
                      </a:lnTo>
                      <a:lnTo>
                        <a:pt x="60" y="1"/>
                      </a:lnTo>
                      <a:lnTo>
                        <a:pt x="64" y="2"/>
                      </a:lnTo>
                      <a:lnTo>
                        <a:pt x="66" y="4"/>
                      </a:lnTo>
                      <a:lnTo>
                        <a:pt x="67" y="7"/>
                      </a:lnTo>
                      <a:lnTo>
                        <a:pt x="65" y="13"/>
                      </a:lnTo>
                      <a:lnTo>
                        <a:pt x="59" y="17"/>
                      </a:lnTo>
                      <a:lnTo>
                        <a:pt x="49" y="22"/>
                      </a:lnTo>
                      <a:lnTo>
                        <a:pt x="36" y="25"/>
                      </a:lnTo>
                      <a:lnTo>
                        <a:pt x="29" y="26"/>
                      </a:lnTo>
                      <a:lnTo>
                        <a:pt x="23" y="26"/>
                      </a:lnTo>
                      <a:lnTo>
                        <a:pt x="18" y="26"/>
                      </a:lnTo>
                      <a:lnTo>
                        <a:pt x="12" y="26"/>
                      </a:lnTo>
                      <a:lnTo>
                        <a:pt x="7" y="25"/>
                      </a:lnTo>
                      <a:lnTo>
                        <a:pt x="4" y="24"/>
                      </a:lnTo>
                      <a:lnTo>
                        <a:pt x="1" y="22"/>
                      </a:lnTo>
                      <a:lnTo>
                        <a:pt x="0" y="19"/>
                      </a:lnTo>
                      <a:lnTo>
                        <a:pt x="3" y="14"/>
                      </a:lnTo>
                      <a:lnTo>
                        <a:pt x="8" y="9"/>
                      </a:lnTo>
                      <a:lnTo>
                        <a:pt x="19" y="4"/>
                      </a:lnTo>
                      <a:lnTo>
                        <a:pt x="31" y="1"/>
                      </a:lnTo>
                      <a:close/>
                    </a:path>
                  </a:pathLst>
                </a:custGeom>
                <a:solidFill>
                  <a:srgbClr val="8c4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 flipH="1">
                  <a:off x="6089760" y="3308040"/>
                  <a:ext cx="21960" cy="9000"/>
                </a:xfrm>
                <a:custGeom>
                  <a:avLst/>
                  <a:gdLst/>
                  <a:ahLst/>
                  <a:rect l="l" t="t" r="r" b="b"/>
                  <a:pathLst>
                    <a:path w="66" h="27">
                      <a:moveTo>
                        <a:pt x="30" y="1"/>
                      </a:moveTo>
                      <a:lnTo>
                        <a:pt x="37" y="0"/>
                      </a:lnTo>
                      <a:lnTo>
                        <a:pt x="43" y="0"/>
                      </a:lnTo>
                      <a:lnTo>
                        <a:pt x="50" y="0"/>
                      </a:lnTo>
                      <a:lnTo>
                        <a:pt x="55" y="0"/>
                      </a:lnTo>
                      <a:lnTo>
                        <a:pt x="59" y="1"/>
                      </a:lnTo>
                      <a:lnTo>
                        <a:pt x="63" y="2"/>
                      </a:lnTo>
                      <a:lnTo>
                        <a:pt x="65" y="4"/>
                      </a:lnTo>
                      <a:lnTo>
                        <a:pt x="66" y="6"/>
                      </a:lnTo>
                      <a:lnTo>
                        <a:pt x="64" y="12"/>
                      </a:lnTo>
                      <a:lnTo>
                        <a:pt x="58" y="17"/>
                      </a:lnTo>
                      <a:lnTo>
                        <a:pt x="49" y="22"/>
                      </a:lnTo>
                      <a:lnTo>
                        <a:pt x="36" y="25"/>
                      </a:lnTo>
                      <a:lnTo>
                        <a:pt x="29" y="27"/>
                      </a:lnTo>
                      <a:lnTo>
                        <a:pt x="23" y="27"/>
                      </a:lnTo>
                      <a:lnTo>
                        <a:pt x="17" y="27"/>
                      </a:lnTo>
                      <a:lnTo>
                        <a:pt x="12" y="27"/>
                      </a:lnTo>
                      <a:lnTo>
                        <a:pt x="7" y="25"/>
                      </a:lnTo>
                      <a:lnTo>
                        <a:pt x="4" y="24"/>
                      </a:lnTo>
                      <a:lnTo>
                        <a:pt x="2" y="22"/>
                      </a:lnTo>
                      <a:lnTo>
                        <a:pt x="0" y="20"/>
                      </a:lnTo>
                      <a:lnTo>
                        <a:pt x="2" y="14"/>
                      </a:lnTo>
                      <a:lnTo>
                        <a:pt x="8" y="9"/>
                      </a:lnTo>
                      <a:lnTo>
                        <a:pt x="18" y="5"/>
                      </a:lnTo>
                      <a:lnTo>
                        <a:pt x="30" y="1"/>
                      </a:lnTo>
                      <a:close/>
                    </a:path>
                  </a:pathLst>
                </a:custGeom>
                <a:solidFill>
                  <a:srgbClr val="8c4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 flipH="1">
                  <a:off x="5940000" y="3243600"/>
                  <a:ext cx="9000" cy="14400"/>
                </a:xfrm>
                <a:custGeom>
                  <a:avLst/>
                  <a:gdLst/>
                  <a:ahLst/>
                  <a:rect l="l" t="t" r="r" b="b"/>
                  <a:pathLst>
                    <a:path w="28" h="45">
                      <a:moveTo>
                        <a:pt x="14" y="0"/>
                      </a:moveTo>
                      <a:lnTo>
                        <a:pt x="19" y="3"/>
                      </a:lnTo>
                      <a:lnTo>
                        <a:pt x="24" y="7"/>
                      </a:lnTo>
                      <a:lnTo>
                        <a:pt x="26" y="14"/>
                      </a:lnTo>
                      <a:lnTo>
                        <a:pt x="28" y="23"/>
                      </a:lnTo>
                      <a:lnTo>
                        <a:pt x="26" y="33"/>
                      </a:lnTo>
                      <a:lnTo>
                        <a:pt x="24" y="39"/>
                      </a:lnTo>
                      <a:lnTo>
                        <a:pt x="19" y="44"/>
                      </a:lnTo>
                      <a:lnTo>
                        <a:pt x="14" y="45"/>
                      </a:lnTo>
                      <a:lnTo>
                        <a:pt x="8" y="44"/>
                      </a:lnTo>
                      <a:lnTo>
                        <a:pt x="3" y="39"/>
                      </a:lnTo>
                      <a:lnTo>
                        <a:pt x="1" y="33"/>
                      </a:lnTo>
                      <a:lnTo>
                        <a:pt x="0" y="23"/>
                      </a:lnTo>
                      <a:lnTo>
                        <a:pt x="1" y="14"/>
                      </a:lnTo>
                      <a:lnTo>
                        <a:pt x="3" y="7"/>
                      </a:lnTo>
                      <a:lnTo>
                        <a:pt x="8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b76b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 flipH="1">
                  <a:off x="6139440" y="3320640"/>
                  <a:ext cx="16560" cy="6480"/>
                </a:xfrm>
                <a:custGeom>
                  <a:avLst/>
                  <a:gdLst/>
                  <a:ahLst/>
                  <a:rect l="l" t="t" r="r" b="b"/>
                  <a:pathLst>
                    <a:path w="50" h="21">
                      <a:moveTo>
                        <a:pt x="23" y="1"/>
                      </a:move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48" y="1"/>
                      </a:lnTo>
                      <a:lnTo>
                        <a:pt x="50" y="5"/>
                      </a:lnTo>
                      <a:lnTo>
                        <a:pt x="49" y="10"/>
                      </a:lnTo>
                      <a:lnTo>
                        <a:pt x="44" y="13"/>
                      </a:lnTo>
                      <a:lnTo>
                        <a:pt x="36" y="16"/>
                      </a:lnTo>
                      <a:lnTo>
                        <a:pt x="27" y="20"/>
                      </a:lnTo>
                      <a:lnTo>
                        <a:pt x="17" y="21"/>
                      </a:lnTo>
                      <a:lnTo>
                        <a:pt x="8" y="20"/>
                      </a:lnTo>
                      <a:lnTo>
                        <a:pt x="3" y="19"/>
                      </a:lnTo>
                      <a:lnTo>
                        <a:pt x="0" y="15"/>
                      </a:lnTo>
                      <a:lnTo>
                        <a:pt x="2" y="12"/>
                      </a:lnTo>
                      <a:lnTo>
                        <a:pt x="6" y="7"/>
                      </a:lnTo>
                      <a:lnTo>
                        <a:pt x="14" y="4"/>
                      </a:lnTo>
                      <a:lnTo>
                        <a:pt x="23" y="1"/>
                      </a:lnTo>
                      <a:close/>
                    </a:path>
                  </a:pathLst>
                </a:custGeom>
                <a:solidFill>
                  <a:srgbClr val="b76b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 flipH="1">
                  <a:off x="6055920" y="3298320"/>
                  <a:ext cx="15120" cy="6480"/>
                </a:xfrm>
                <a:custGeom>
                  <a:avLst/>
                  <a:gdLst/>
                  <a:ahLst/>
                  <a:rect l="l" t="t" r="r" b="b"/>
                  <a:pathLst>
                    <a:path w="50" h="20">
                      <a:moveTo>
                        <a:pt x="23" y="1"/>
                      </a:move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48" y="1"/>
                      </a:lnTo>
                      <a:lnTo>
                        <a:pt x="50" y="4"/>
                      </a:lnTo>
                      <a:lnTo>
                        <a:pt x="49" y="9"/>
                      </a:lnTo>
                      <a:lnTo>
                        <a:pt x="44" y="12"/>
                      </a:lnTo>
                      <a:lnTo>
                        <a:pt x="36" y="16"/>
                      </a:lnTo>
                      <a:lnTo>
                        <a:pt x="27" y="19"/>
                      </a:lnTo>
                      <a:lnTo>
                        <a:pt x="16" y="20"/>
                      </a:lnTo>
                      <a:lnTo>
                        <a:pt x="8" y="19"/>
                      </a:lnTo>
                      <a:lnTo>
                        <a:pt x="3" y="18"/>
                      </a:lnTo>
                      <a:lnTo>
                        <a:pt x="0" y="15"/>
                      </a:lnTo>
                      <a:lnTo>
                        <a:pt x="2" y="11"/>
                      </a:lnTo>
                      <a:lnTo>
                        <a:pt x="7" y="7"/>
                      </a:lnTo>
                      <a:lnTo>
                        <a:pt x="14" y="3"/>
                      </a:lnTo>
                      <a:lnTo>
                        <a:pt x="23" y="1"/>
                      </a:lnTo>
                      <a:close/>
                    </a:path>
                  </a:pathLst>
                </a:custGeom>
                <a:solidFill>
                  <a:srgbClr val="b76b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 flipH="1">
                  <a:off x="5964120" y="3252240"/>
                  <a:ext cx="8640" cy="14400"/>
                </a:xfrm>
                <a:custGeom>
                  <a:avLst/>
                  <a:gdLst/>
                  <a:ahLst/>
                  <a:rect l="l" t="t" r="r" b="b"/>
                  <a:pathLst>
                    <a:path w="28" h="46">
                      <a:moveTo>
                        <a:pt x="13" y="0"/>
                      </a:moveTo>
                      <a:lnTo>
                        <a:pt x="19" y="2"/>
                      </a:lnTo>
                      <a:lnTo>
                        <a:pt x="24" y="7"/>
                      </a:lnTo>
                      <a:lnTo>
                        <a:pt x="27" y="14"/>
                      </a:lnTo>
                      <a:lnTo>
                        <a:pt x="28" y="23"/>
                      </a:lnTo>
                      <a:lnTo>
                        <a:pt x="27" y="32"/>
                      </a:lnTo>
                      <a:lnTo>
                        <a:pt x="24" y="39"/>
                      </a:lnTo>
                      <a:lnTo>
                        <a:pt x="19" y="44"/>
                      </a:lnTo>
                      <a:lnTo>
                        <a:pt x="13" y="46"/>
                      </a:lnTo>
                      <a:lnTo>
                        <a:pt x="9" y="44"/>
                      </a:lnTo>
                      <a:lnTo>
                        <a:pt x="4" y="39"/>
                      </a:lnTo>
                      <a:lnTo>
                        <a:pt x="1" y="32"/>
                      </a:lnTo>
                      <a:lnTo>
                        <a:pt x="0" y="23"/>
                      </a:lnTo>
                      <a:lnTo>
                        <a:pt x="1" y="14"/>
                      </a:lnTo>
                      <a:lnTo>
                        <a:pt x="4" y="7"/>
                      </a:lnTo>
                      <a:lnTo>
                        <a:pt x="9" y="2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b76b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 flipH="1">
                  <a:off x="6180120" y="3331800"/>
                  <a:ext cx="16920" cy="6480"/>
                </a:xfrm>
                <a:custGeom>
                  <a:avLst/>
                  <a:gdLst/>
                  <a:ahLst/>
                  <a:rect l="l" t="t" r="r" b="b"/>
                  <a:pathLst>
                    <a:path w="50" h="21">
                      <a:moveTo>
                        <a:pt x="23" y="1"/>
                      </a:move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48" y="2"/>
                      </a:lnTo>
                      <a:lnTo>
                        <a:pt x="50" y="6"/>
                      </a:lnTo>
                      <a:lnTo>
                        <a:pt x="49" y="9"/>
                      </a:lnTo>
                      <a:lnTo>
                        <a:pt x="44" y="14"/>
                      </a:lnTo>
                      <a:lnTo>
                        <a:pt x="36" y="17"/>
                      </a:lnTo>
                      <a:lnTo>
                        <a:pt x="27" y="20"/>
                      </a:lnTo>
                      <a:lnTo>
                        <a:pt x="16" y="21"/>
                      </a:lnTo>
                      <a:lnTo>
                        <a:pt x="8" y="21"/>
                      </a:lnTo>
                      <a:lnTo>
                        <a:pt x="3" y="20"/>
                      </a:lnTo>
                      <a:lnTo>
                        <a:pt x="0" y="16"/>
                      </a:lnTo>
                      <a:lnTo>
                        <a:pt x="1" y="12"/>
                      </a:lnTo>
                      <a:lnTo>
                        <a:pt x="6" y="8"/>
                      </a:lnTo>
                      <a:lnTo>
                        <a:pt x="14" y="5"/>
                      </a:lnTo>
                      <a:lnTo>
                        <a:pt x="23" y="1"/>
                      </a:lnTo>
                      <a:close/>
                    </a:path>
                  </a:pathLst>
                </a:custGeom>
                <a:solidFill>
                  <a:srgbClr val="b76b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 flipH="1">
                  <a:off x="6095880" y="3309480"/>
                  <a:ext cx="16560" cy="6480"/>
                </a:xfrm>
                <a:custGeom>
                  <a:avLst/>
                  <a:gdLst/>
                  <a:ahLst/>
                  <a:rect l="l" t="t" r="r" b="b"/>
                  <a:pathLst>
                    <a:path w="51" h="21">
                      <a:moveTo>
                        <a:pt x="23" y="1"/>
                      </a:move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49" y="3"/>
                      </a:lnTo>
                      <a:lnTo>
                        <a:pt x="51" y="5"/>
                      </a:lnTo>
                      <a:lnTo>
                        <a:pt x="50" y="10"/>
                      </a:lnTo>
                      <a:lnTo>
                        <a:pt x="45" y="14"/>
                      </a:lnTo>
                      <a:lnTo>
                        <a:pt x="37" y="18"/>
                      </a:lnTo>
                      <a:lnTo>
                        <a:pt x="28" y="20"/>
                      </a:lnTo>
                      <a:lnTo>
                        <a:pt x="18" y="21"/>
                      </a:lnTo>
                      <a:lnTo>
                        <a:pt x="9" y="21"/>
                      </a:lnTo>
                      <a:lnTo>
                        <a:pt x="3" y="20"/>
                      </a:lnTo>
                      <a:lnTo>
                        <a:pt x="0" y="16"/>
                      </a:lnTo>
                      <a:lnTo>
                        <a:pt x="1" y="12"/>
                      </a:lnTo>
                      <a:lnTo>
                        <a:pt x="6" y="8"/>
                      </a:lnTo>
                      <a:lnTo>
                        <a:pt x="14" y="5"/>
                      </a:lnTo>
                      <a:lnTo>
                        <a:pt x="23" y="1"/>
                      </a:lnTo>
                      <a:close/>
                    </a:path>
                  </a:pathLst>
                </a:custGeom>
                <a:solidFill>
                  <a:srgbClr val="b76b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 flipH="1">
                  <a:off x="5943240" y="3245760"/>
                  <a:ext cx="3960" cy="7560"/>
                </a:xfrm>
                <a:custGeom>
                  <a:avLst/>
                  <a:gdLst/>
                  <a:ahLst/>
                  <a:rect l="l" t="t" r="r" b="b"/>
                  <a:pathLst>
                    <a:path w="15" h="25">
                      <a:moveTo>
                        <a:pt x="8" y="0"/>
                      </a:moveTo>
                      <a:lnTo>
                        <a:pt x="11" y="1"/>
                      </a:lnTo>
                      <a:lnTo>
                        <a:pt x="13" y="3"/>
                      </a:lnTo>
                      <a:lnTo>
                        <a:pt x="14" y="8"/>
                      </a:lnTo>
                      <a:lnTo>
                        <a:pt x="15" y="13"/>
                      </a:lnTo>
                      <a:lnTo>
                        <a:pt x="14" y="17"/>
                      </a:lnTo>
                      <a:lnTo>
                        <a:pt x="13" y="22"/>
                      </a:lnTo>
                      <a:lnTo>
                        <a:pt x="11" y="24"/>
                      </a:lnTo>
                      <a:lnTo>
                        <a:pt x="8" y="25"/>
                      </a:lnTo>
                      <a:lnTo>
                        <a:pt x="5" y="24"/>
                      </a:lnTo>
                      <a:lnTo>
                        <a:pt x="3" y="22"/>
                      </a:lnTo>
                      <a:lnTo>
                        <a:pt x="2" y="17"/>
                      </a:lnTo>
                      <a:lnTo>
                        <a:pt x="0" y="13"/>
                      </a:lnTo>
                      <a:lnTo>
                        <a:pt x="2" y="8"/>
                      </a:lnTo>
                      <a:lnTo>
                        <a:pt x="3" y="3"/>
                      </a:lnTo>
                      <a:lnTo>
                        <a:pt x="5" y="1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ffc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 flipH="1">
                  <a:off x="6144480" y="3321360"/>
                  <a:ext cx="9000" cy="3240"/>
                </a:xfrm>
                <a:custGeom>
                  <a:avLst/>
                  <a:gdLst/>
                  <a:ahLst/>
                  <a:rect l="l" t="t" r="r" b="b"/>
                  <a:pathLst>
                    <a:path w="28" h="11">
                      <a:moveTo>
                        <a:pt x="13" y="1"/>
                      </a:moveTo>
                      <a:lnTo>
                        <a:pt x="19" y="0"/>
                      </a:lnTo>
                      <a:lnTo>
                        <a:pt x="23" y="0"/>
                      </a:lnTo>
                      <a:lnTo>
                        <a:pt x="27" y="1"/>
                      </a:lnTo>
                      <a:lnTo>
                        <a:pt x="28" y="3"/>
                      </a:lnTo>
                      <a:lnTo>
                        <a:pt x="27" y="6"/>
                      </a:lnTo>
                      <a:lnTo>
                        <a:pt x="24" y="7"/>
                      </a:lnTo>
                      <a:lnTo>
                        <a:pt x="20" y="9"/>
                      </a:lnTo>
                      <a:lnTo>
                        <a:pt x="15" y="10"/>
                      </a:lnTo>
                      <a:lnTo>
                        <a:pt x="9" y="11"/>
                      </a:lnTo>
                      <a:lnTo>
                        <a:pt x="5" y="11"/>
                      </a:lnTo>
                      <a:lnTo>
                        <a:pt x="1" y="10"/>
                      </a:lnTo>
                      <a:lnTo>
                        <a:pt x="0" y="8"/>
                      </a:lnTo>
                      <a:lnTo>
                        <a:pt x="1" y="6"/>
                      </a:lnTo>
                      <a:lnTo>
                        <a:pt x="4" y="4"/>
                      </a:lnTo>
                      <a:lnTo>
                        <a:pt x="8" y="2"/>
                      </a:lnTo>
                      <a:lnTo>
                        <a:pt x="13" y="1"/>
                      </a:lnTo>
                      <a:close/>
                    </a:path>
                  </a:pathLst>
                </a:custGeom>
                <a:solidFill>
                  <a:srgbClr val="ffc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 flipH="1">
                  <a:off x="6060240" y="3299400"/>
                  <a:ext cx="8640" cy="324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13" y="0"/>
                      </a:moveTo>
                      <a:lnTo>
                        <a:pt x="19" y="0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29" y="2"/>
                      </a:lnTo>
                      <a:lnTo>
                        <a:pt x="28" y="5"/>
                      </a:lnTo>
                      <a:lnTo>
                        <a:pt x="25" y="7"/>
                      </a:lnTo>
                      <a:lnTo>
                        <a:pt x="21" y="9"/>
                      </a:lnTo>
                      <a:lnTo>
                        <a:pt x="15" y="10"/>
                      </a:lnTo>
                      <a:lnTo>
                        <a:pt x="10" y="12"/>
                      </a:lnTo>
                      <a:lnTo>
                        <a:pt x="6" y="12"/>
                      </a:lnTo>
                      <a:lnTo>
                        <a:pt x="2" y="10"/>
                      </a:lnTo>
                      <a:lnTo>
                        <a:pt x="0" y="8"/>
                      </a:lnTo>
                      <a:lnTo>
                        <a:pt x="1" y="6"/>
                      </a:lnTo>
                      <a:lnTo>
                        <a:pt x="4" y="4"/>
                      </a:lnTo>
                      <a:lnTo>
                        <a:pt x="8" y="2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c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 flipH="1">
                  <a:off x="5965560" y="3254760"/>
                  <a:ext cx="5400" cy="6480"/>
                </a:xfrm>
                <a:custGeom>
                  <a:avLst/>
                  <a:gdLst/>
                  <a:ahLst/>
                  <a:rect l="l" t="t" r="r" b="b"/>
                  <a:pathLst>
                    <a:path w="16" h="25">
                      <a:moveTo>
                        <a:pt x="8" y="0"/>
                      </a:moveTo>
                      <a:lnTo>
                        <a:pt x="12" y="1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16" y="12"/>
                      </a:lnTo>
                      <a:lnTo>
                        <a:pt x="15" y="17"/>
                      </a:lnTo>
                      <a:lnTo>
                        <a:pt x="14" y="22"/>
                      </a:lnTo>
                      <a:lnTo>
                        <a:pt x="12" y="24"/>
                      </a:lnTo>
                      <a:lnTo>
                        <a:pt x="8" y="25"/>
                      </a:lnTo>
                      <a:lnTo>
                        <a:pt x="5" y="24"/>
                      </a:lnTo>
                      <a:lnTo>
                        <a:pt x="2" y="22"/>
                      </a:lnTo>
                      <a:lnTo>
                        <a:pt x="1" y="17"/>
                      </a:lnTo>
                      <a:lnTo>
                        <a:pt x="0" y="12"/>
                      </a:lnTo>
                      <a:lnTo>
                        <a:pt x="1" y="8"/>
                      </a:lnTo>
                      <a:lnTo>
                        <a:pt x="2" y="3"/>
                      </a:lnTo>
                      <a:lnTo>
                        <a:pt x="5" y="1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ffc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 flipH="1">
                  <a:off x="6185520" y="3332520"/>
                  <a:ext cx="9000" cy="3240"/>
                </a:xfrm>
                <a:custGeom>
                  <a:avLst/>
                  <a:gdLst/>
                  <a:ahLst/>
                  <a:rect l="l" t="t" r="r" b="b"/>
                  <a:pathLst>
                    <a:path w="28" h="10">
                      <a:moveTo>
                        <a:pt x="13" y="0"/>
                      </a:moveTo>
                      <a:lnTo>
                        <a:pt x="18" y="0"/>
                      </a:lnTo>
                      <a:lnTo>
                        <a:pt x="23" y="0"/>
                      </a:lnTo>
                      <a:lnTo>
                        <a:pt x="27" y="1"/>
                      </a:lnTo>
                      <a:lnTo>
                        <a:pt x="28" y="2"/>
                      </a:lnTo>
                      <a:lnTo>
                        <a:pt x="28" y="4"/>
                      </a:lnTo>
                      <a:lnTo>
                        <a:pt x="25" y="7"/>
                      </a:lnTo>
                      <a:lnTo>
                        <a:pt x="21" y="9"/>
                      </a:lnTo>
                      <a:lnTo>
                        <a:pt x="16" y="10"/>
                      </a:lnTo>
                      <a:lnTo>
                        <a:pt x="10" y="10"/>
                      </a:lnTo>
                      <a:lnTo>
                        <a:pt x="6" y="10"/>
                      </a:lnTo>
                      <a:lnTo>
                        <a:pt x="2" y="9"/>
                      </a:lnTo>
                      <a:lnTo>
                        <a:pt x="0" y="8"/>
                      </a:lnTo>
                      <a:lnTo>
                        <a:pt x="1" y="5"/>
                      </a:lnTo>
                      <a:lnTo>
                        <a:pt x="4" y="3"/>
                      </a:lnTo>
                      <a:lnTo>
                        <a:pt x="8" y="1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c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 flipH="1">
                  <a:off x="6100920" y="3310200"/>
                  <a:ext cx="9000" cy="3240"/>
                </a:xfrm>
                <a:custGeom>
                  <a:avLst/>
                  <a:gdLst/>
                  <a:ahLst/>
                  <a:rect l="l" t="t" r="r" b="b"/>
                  <a:pathLst>
                    <a:path w="28" h="10">
                      <a:moveTo>
                        <a:pt x="13" y="0"/>
                      </a:moveTo>
                      <a:lnTo>
                        <a:pt x="17" y="0"/>
                      </a:lnTo>
                      <a:lnTo>
                        <a:pt x="22" y="0"/>
                      </a:lnTo>
                      <a:lnTo>
                        <a:pt x="26" y="1"/>
                      </a:lnTo>
                      <a:lnTo>
                        <a:pt x="28" y="2"/>
                      </a:lnTo>
                      <a:lnTo>
                        <a:pt x="27" y="5"/>
                      </a:lnTo>
                      <a:lnTo>
                        <a:pt x="24" y="7"/>
                      </a:lnTo>
                      <a:lnTo>
                        <a:pt x="20" y="9"/>
                      </a:lnTo>
                      <a:lnTo>
                        <a:pt x="14" y="10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1" y="9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4" y="2"/>
                      </a:lnTo>
                      <a:lnTo>
                        <a:pt x="8" y="1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c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257" name="j0282454" descr=""/>
              <p:cNvPicPr/>
              <p:nvPr/>
            </p:nvPicPr>
            <p:blipFill>
              <a:blip r:embed="rId9"/>
              <a:stretch/>
            </p:blipFill>
            <p:spPr>
              <a:xfrm>
                <a:off x="5761080" y="3416400"/>
                <a:ext cx="779760" cy="223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58" name=""/>
            <p:cNvSpPr/>
            <p:nvPr/>
          </p:nvSpPr>
          <p:spPr>
            <a:xfrm>
              <a:off x="5885280" y="292644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ffffff"/>
                  </a:solidFill>
                  <a:latin typeface="Arial"/>
                </a:rPr>
                <a:t>B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9" name=""/>
            <p:cNvGrpSpPr/>
            <p:nvPr/>
          </p:nvGrpSpPr>
          <p:grpSpPr>
            <a:xfrm>
              <a:off x="5806800" y="3188160"/>
              <a:ext cx="668160" cy="459720"/>
              <a:chOff x="5806800" y="3188160"/>
              <a:chExt cx="668160" cy="459720"/>
            </a:xfrm>
          </p:grpSpPr>
          <p:sp>
            <p:nvSpPr>
              <p:cNvPr id="1121" name=""/>
              <p:cNvSpPr/>
              <p:nvPr/>
            </p:nvSpPr>
            <p:spPr>
              <a:xfrm>
                <a:off x="5806800" y="318816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217920" y="318816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1260" name=""/>
          <p:cNvCxnSpPr>
            <a:stCxn id="1065" idx="1"/>
            <a:endCxn id="1110" idx="0"/>
          </p:cNvCxnSpPr>
          <p:nvPr/>
        </p:nvCxnSpPr>
        <p:spPr>
          <a:xfrm flipV="1" rot="10800000">
            <a:off x="5792040" y="4168440"/>
            <a:ext cx="364320" cy="1443600"/>
          </a:xfrm>
          <a:prstGeom prst="curvedConnector2">
            <a:avLst/>
          </a:prstGeom>
          <a:ln w="28440">
            <a:solidFill>
              <a:srgbClr val="000066"/>
            </a:solidFill>
            <a:prstDash val="sysDot"/>
            <a:miter/>
            <a:tailEnd len="med" type="triangle" w="med"/>
          </a:ln>
        </p:spPr>
      </p:cxnSp>
      <p:grpSp>
        <p:nvGrpSpPr>
          <p:cNvPr id="1261" name=""/>
          <p:cNvGrpSpPr/>
          <p:nvPr/>
        </p:nvGrpSpPr>
        <p:grpSpPr>
          <a:xfrm>
            <a:off x="6017760" y="1600200"/>
            <a:ext cx="1875240" cy="990720"/>
            <a:chOff x="6017760" y="1600200"/>
            <a:chExt cx="1875240" cy="990720"/>
          </a:xfrm>
        </p:grpSpPr>
        <p:grpSp>
          <p:nvGrpSpPr>
            <p:cNvPr id="1262" name=""/>
            <p:cNvGrpSpPr/>
            <p:nvPr/>
          </p:nvGrpSpPr>
          <p:grpSpPr>
            <a:xfrm>
              <a:off x="6017760" y="1641600"/>
              <a:ext cx="1833840" cy="941400"/>
              <a:chOff x="6017760" y="1641600"/>
              <a:chExt cx="1833840" cy="941400"/>
            </a:xfrm>
          </p:grpSpPr>
          <p:sp>
            <p:nvSpPr>
              <p:cNvPr id="1263" name=""/>
              <p:cNvSpPr/>
              <p:nvPr/>
            </p:nvSpPr>
            <p:spPr>
              <a:xfrm>
                <a:off x="7040520" y="1641600"/>
                <a:ext cx="811080" cy="406440"/>
              </a:xfrm>
              <a:prstGeom prst="roundRect">
                <a:avLst>
                  <a:gd name="adj" fmla="val 16667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Arial Unicode MS"/>
                  </a:rPr>
                  <a:t>AC/</a:t>
                </a:r>
                <a:r>
                  <a:rPr b="1" sz="1200" spc="-1" strike="noStrike">
                    <a:solidFill>
                      <a:srgbClr val="000066"/>
                    </a:solidFill>
                    <a:latin typeface="Arial Unicode MS"/>
                  </a:rPr>
                  <a:t>PC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64" name=""/>
              <p:cNvCxnSpPr>
                <a:stCxn id="1263" idx="1"/>
                <a:endCxn id="1114" idx="3"/>
              </p:cNvCxnSpPr>
              <p:nvPr/>
            </p:nvCxnSpPr>
            <p:spPr>
              <a:xfrm flipH="1">
                <a:off x="6017760" y="1844280"/>
                <a:ext cx="1023120" cy="1080"/>
              </a:xfrm>
              <a:prstGeom prst="straightConnector1">
                <a:avLst/>
              </a:prstGeom>
              <a:ln w="9360">
                <a:solidFill>
                  <a:srgbClr val="000066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1265" name=""/>
              <p:cNvSpPr/>
              <p:nvPr/>
            </p:nvSpPr>
            <p:spPr>
              <a:xfrm>
                <a:off x="7040520" y="2178000"/>
                <a:ext cx="811080" cy="405000"/>
              </a:xfrm>
              <a:prstGeom prst="roundRect">
                <a:avLst>
                  <a:gd name="adj" fmla="val 16667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66"/>
                    </a:solidFill>
                    <a:latin typeface="Arial Unicode MS"/>
                  </a:rPr>
                  <a:t>OSPF-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66" name=""/>
              <p:cNvCxnSpPr>
                <a:stCxn id="1265" idx="0"/>
                <a:endCxn id="1263" idx="2"/>
              </p:cNvCxnSpPr>
              <p:nvPr/>
            </p:nvCxnSpPr>
            <p:spPr>
              <a:xfrm flipV="1">
                <a:off x="7446600" y="2047320"/>
                <a:ext cx="1080" cy="130680"/>
              </a:xfrm>
              <a:prstGeom prst="bentConnector2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</p:cxnSp>
        </p:grpSp>
        <p:grpSp>
          <p:nvGrpSpPr>
            <p:cNvPr id="1267" name=""/>
            <p:cNvGrpSpPr/>
            <p:nvPr/>
          </p:nvGrpSpPr>
          <p:grpSpPr>
            <a:xfrm>
              <a:off x="6489720" y="1600200"/>
              <a:ext cx="1403280" cy="990720"/>
              <a:chOff x="6489720" y="1600200"/>
              <a:chExt cx="1403280" cy="990720"/>
            </a:xfrm>
          </p:grpSpPr>
          <p:sp>
            <p:nvSpPr>
              <p:cNvPr id="1268" name=""/>
              <p:cNvSpPr/>
              <p:nvPr/>
            </p:nvSpPr>
            <p:spPr>
              <a:xfrm>
                <a:off x="6489720" y="1844640"/>
                <a:ext cx="533520" cy="0"/>
              </a:xfrm>
              <a:prstGeom prst="line">
                <a:avLst/>
              </a:prstGeom>
              <a:ln w="54000">
                <a:solidFill>
                  <a:srgbClr val="ff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6978600" y="1600200"/>
                <a:ext cx="914400" cy="990720"/>
              </a:xfrm>
              <a:custGeom>
                <a:avLst/>
                <a:gdLst>
                  <a:gd name="textAreaLeft" fmla="*/ 44640 w 914400"/>
                  <a:gd name="textAreaRight" fmla="*/ 869760 w 914400"/>
                  <a:gd name="textAreaTop" fmla="*/ 44640 h 990720"/>
                  <a:gd name="textAreaBottom" fmla="*/ 946080 h 990720"/>
                </a:gdLst>
                <a:ahLst/>
                <a:rect l="textAreaLeft" t="textAreaTop" r="textAreaRight" b="textAreaBottom"/>
                <a:pathLst>
                  <a:path w="21600" h="23402">
                    <a:moveTo>
                      <a:pt x="3600" y="0"/>
                    </a:moveTo>
                    <a:arcTo wR="3600" hR="3600" stAng="16200000" swAng="-5400000"/>
                    <a:lnTo>
                      <a:pt x="0" y="19802"/>
                    </a:lnTo>
                    <a:arcTo wR="3600" hR="3600" stAng="10800000" swAng="-5400000"/>
                    <a:lnTo>
                      <a:pt x="18000" y="2340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507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"/>
          <p:cNvSpPr/>
          <p:nvPr/>
        </p:nvSpPr>
        <p:spPr>
          <a:xfrm>
            <a:off x="3798720" y="901800"/>
            <a:ext cx="1162080" cy="11016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0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BB Adjacent Domains’ SLAs 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(BB-ADS- D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533760" y="2297160"/>
            <a:ext cx="3722760" cy="1952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3714840" y="2725560"/>
            <a:ext cx="1330200" cy="11001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Domain Network Mana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(DN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3" name=""/>
          <p:cNvCxnSpPr>
            <a:stCxn id="1274" idx="0"/>
            <a:endCxn id="1275" idx="2"/>
          </p:cNvCxnSpPr>
          <p:nvPr/>
        </p:nvCxnSpPr>
        <p:spPr>
          <a:xfrm flipV="1" rot="16200000">
            <a:off x="4580640" y="4000320"/>
            <a:ext cx="1425600" cy="10533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76" name=""/>
          <p:cNvCxnSpPr>
            <a:stCxn id="1272" idx="1"/>
            <a:endCxn id="1277" idx="3"/>
          </p:cNvCxnSpPr>
          <p:nvPr/>
        </p:nvCxnSpPr>
        <p:spPr>
          <a:xfrm rot="10800000">
            <a:off x="3188520" y="3274200"/>
            <a:ext cx="526320" cy="2520"/>
          </a:xfrm>
          <a:prstGeom prst="bentConnector3">
            <a:avLst>
              <a:gd name="adj1" fmla="val 4996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78" name=""/>
          <p:cNvCxnSpPr>
            <a:stCxn id="1279" idx="3"/>
            <a:endCxn id="1280" idx="0"/>
          </p:cNvCxnSpPr>
          <p:nvPr/>
        </p:nvCxnSpPr>
        <p:spPr>
          <a:xfrm flipH="1" rot="16200000">
            <a:off x="6168240" y="2226240"/>
            <a:ext cx="448560" cy="2160"/>
          </a:xfrm>
          <a:prstGeom prst="bentConnector3">
            <a:avLst>
              <a:gd name="adj1" fmla="val 4979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81" name=""/>
          <p:cNvCxnSpPr>
            <a:stCxn id="1277" idx="1"/>
            <a:endCxn id="1282" idx="3"/>
          </p:cNvCxnSpPr>
          <p:nvPr/>
        </p:nvCxnSpPr>
        <p:spPr>
          <a:xfrm rot="10800000">
            <a:off x="1359720" y="3274200"/>
            <a:ext cx="9975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7" name=""/>
          <p:cNvSpPr/>
          <p:nvPr/>
        </p:nvSpPr>
        <p:spPr>
          <a:xfrm>
            <a:off x="2357280" y="3038400"/>
            <a:ext cx="831960" cy="4730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696960" y="3038400"/>
            <a:ext cx="663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/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MA-B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5203800" y="5240160"/>
            <a:ext cx="1231920" cy="7876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ter-Domain Communication Module (IDC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5808600" y="901800"/>
            <a:ext cx="1163880" cy="11016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0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B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LSP Policy 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B-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LSP-P- D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3" name=""/>
          <p:cNvCxnSpPr>
            <a:stCxn id="1272" idx="0"/>
            <a:endCxn id="1270" idx="3"/>
          </p:cNvCxnSpPr>
          <p:nvPr/>
        </p:nvCxnSpPr>
        <p:spPr>
          <a:xfrm flipV="1">
            <a:off x="4379400" y="2003400"/>
            <a:ext cx="1080" cy="7225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84" name=""/>
          <p:cNvSpPr/>
          <p:nvPr/>
        </p:nvSpPr>
        <p:spPr>
          <a:xfrm>
            <a:off x="7472520" y="2451240"/>
            <a:ext cx="1029960" cy="78732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0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olicy 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(P-D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5" name=""/>
          <p:cNvCxnSpPr>
            <a:stCxn id="1280" idx="3"/>
            <a:endCxn id="1284" idx="2"/>
          </p:cNvCxnSpPr>
          <p:nvPr/>
        </p:nvCxnSpPr>
        <p:spPr>
          <a:xfrm>
            <a:off x="7056360" y="2846160"/>
            <a:ext cx="41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86" name=""/>
          <p:cNvCxnSpPr>
            <a:stCxn id="1287" idx="1"/>
            <a:endCxn id="1274" idx="3"/>
          </p:cNvCxnSpPr>
          <p:nvPr/>
        </p:nvCxnSpPr>
        <p:spPr>
          <a:xfrm flipH="1">
            <a:off x="6435360" y="5633640"/>
            <a:ext cx="1070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88" name=""/>
          <p:cNvSpPr/>
          <p:nvPr/>
        </p:nvSpPr>
        <p:spPr>
          <a:xfrm>
            <a:off x="1722600" y="3680640"/>
            <a:ext cx="1466640" cy="4302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and Line Interface (CL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9" name=""/>
          <p:cNvCxnSpPr>
            <a:stCxn id="1290" idx="1"/>
            <a:endCxn id="1288" idx="3"/>
          </p:cNvCxnSpPr>
          <p:nvPr/>
        </p:nvCxnSpPr>
        <p:spPr>
          <a:xfrm flipV="1" rot="10800000">
            <a:off x="3188520" y="3590640"/>
            <a:ext cx="523080" cy="305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80" name=""/>
          <p:cNvSpPr/>
          <p:nvPr/>
        </p:nvSpPr>
        <p:spPr>
          <a:xfrm>
            <a:off x="5726160" y="2451240"/>
            <a:ext cx="1330200" cy="7873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olicy Engine (P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7505640" y="5398920"/>
            <a:ext cx="996840" cy="4716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/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neighb. B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3763800" y="5240160"/>
            <a:ext cx="1230480" cy="7876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ts Collection Mo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(BB SC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1722600" y="5081760"/>
            <a:ext cx="1161720" cy="11016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0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BB Installed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P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(BB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P-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D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3" name=""/>
          <p:cNvCxnSpPr>
            <a:stCxn id="1294" idx="3"/>
          </p:cNvCxnSpPr>
          <p:nvPr/>
        </p:nvCxnSpPr>
        <p:spPr>
          <a:xfrm>
            <a:off x="3188880" y="2633760"/>
            <a:ext cx="523080" cy="317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95" name=""/>
          <p:cNvCxnSpPr>
            <a:stCxn id="1294" idx="1"/>
            <a:endCxn id="1296" idx="3"/>
          </p:cNvCxnSpPr>
          <p:nvPr/>
        </p:nvCxnSpPr>
        <p:spPr>
          <a:xfrm flipV="1" rot="10800000">
            <a:off x="1359720" y="2633400"/>
            <a:ext cx="99756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94" name=""/>
          <p:cNvSpPr/>
          <p:nvPr/>
        </p:nvSpPr>
        <p:spPr>
          <a:xfrm>
            <a:off x="2357280" y="2397240"/>
            <a:ext cx="831960" cy="4730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NMP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636480" y="2398680"/>
            <a:ext cx="72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/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BR/C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-B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7" name=""/>
          <p:cNvCxnSpPr>
            <a:stCxn id="1280" idx="1"/>
            <a:endCxn id="1298" idx="3"/>
          </p:cNvCxnSpPr>
          <p:nvPr/>
        </p:nvCxnSpPr>
        <p:spPr>
          <a:xfrm flipV="1" rot="10800000">
            <a:off x="5034960" y="2845440"/>
            <a:ext cx="691200" cy="105480"/>
          </a:xfrm>
          <a:prstGeom prst="bentConnector3">
            <a:avLst>
              <a:gd name="adj1" fmla="val 4986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99" name=""/>
          <p:cNvCxnSpPr>
            <a:stCxn id="1291" idx="0"/>
            <a:endCxn id="1272" idx="2"/>
          </p:cNvCxnSpPr>
          <p:nvPr/>
        </p:nvCxnSpPr>
        <p:spPr>
          <a:xfrm flipV="1">
            <a:off x="4379400" y="3825000"/>
            <a:ext cx="1080" cy="14151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98" name=""/>
          <p:cNvSpPr/>
          <p:nvPr/>
        </p:nvSpPr>
        <p:spPr>
          <a:xfrm>
            <a:off x="4797360" y="292248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4800600" y="356220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3713040" y="356220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1" name=""/>
          <p:cNvCxnSpPr>
            <a:stCxn id="1291" idx="1"/>
            <a:endCxn id="1292" idx="4"/>
          </p:cNvCxnSpPr>
          <p:nvPr/>
        </p:nvCxnSpPr>
        <p:spPr>
          <a:xfrm rot="10800000">
            <a:off x="2883600" y="5631840"/>
            <a:ext cx="88020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02" name=""/>
          <p:cNvCxnSpPr>
            <a:stCxn id="1292" idx="1"/>
            <a:endCxn id="1303" idx="2"/>
          </p:cNvCxnSpPr>
          <p:nvPr/>
        </p:nvCxnSpPr>
        <p:spPr>
          <a:xfrm flipH="1" flipV="1" rot="5400000">
            <a:off x="2508840" y="3608640"/>
            <a:ext cx="1267560" cy="1678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5" name=""/>
          <p:cNvSpPr/>
          <p:nvPr/>
        </p:nvSpPr>
        <p:spPr>
          <a:xfrm>
            <a:off x="4647960" y="358632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3862080" y="358632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4386240" y="358776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703440" y="801720"/>
            <a:ext cx="8102520" cy="548640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7472520" y="3324240"/>
            <a:ext cx="1029960" cy="78732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0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BB Network 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(BB-Net-D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5973840" y="4403880"/>
            <a:ext cx="831600" cy="5061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Zebra OSPF-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daem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5726160" y="3324240"/>
            <a:ext cx="1330200" cy="7873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 &amp;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Path Computation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(PC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9" name=""/>
          <p:cNvCxnSpPr>
            <a:stCxn id="1308" idx="1"/>
            <a:endCxn id="1300" idx="3"/>
          </p:cNvCxnSpPr>
          <p:nvPr/>
        </p:nvCxnSpPr>
        <p:spPr>
          <a:xfrm rot="10800000">
            <a:off x="5038560" y="3590280"/>
            <a:ext cx="687960" cy="127800"/>
          </a:xfrm>
          <a:prstGeom prst="bentConnector3">
            <a:avLst>
              <a:gd name="adj1" fmla="val 4989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10" name=""/>
          <p:cNvCxnSpPr>
            <a:stCxn id="1306" idx="2"/>
            <a:endCxn id="1308" idx="3"/>
          </p:cNvCxnSpPr>
          <p:nvPr/>
        </p:nvCxnSpPr>
        <p:spPr>
          <a:xfrm rot="10800000">
            <a:off x="7055640" y="3717360"/>
            <a:ext cx="41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11" name=""/>
          <p:cNvCxnSpPr>
            <a:stCxn id="1308" idx="2"/>
            <a:endCxn id="1307" idx="0"/>
          </p:cNvCxnSpPr>
          <p:nvPr/>
        </p:nvCxnSpPr>
        <p:spPr>
          <a:xfrm rot="5400000">
            <a:off x="6245280" y="4257000"/>
            <a:ext cx="293040" cy="2160"/>
          </a:xfrm>
          <a:prstGeom prst="bentConnector3">
            <a:avLst>
              <a:gd name="adj1" fmla="val 4969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12" name=""/>
          <p:cNvCxnSpPr>
            <a:stCxn id="1307" idx="3"/>
            <a:endCxn id="1313" idx="1"/>
          </p:cNvCxnSpPr>
          <p:nvPr/>
        </p:nvCxnSpPr>
        <p:spPr>
          <a:xfrm>
            <a:off x="6805080" y="4657320"/>
            <a:ext cx="700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13" name=""/>
          <p:cNvSpPr/>
          <p:nvPr/>
        </p:nvSpPr>
        <p:spPr>
          <a:xfrm>
            <a:off x="7505640" y="4421160"/>
            <a:ext cx="9968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/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BR/CR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-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1001880" y="127080"/>
            <a:ext cx="79516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</a:rPr>
              <a:t>Future work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001880" y="127080"/>
            <a:ext cx="79516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</a:rPr>
              <a:t>Future work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1316" name=""/>
          <p:cNvCxnSpPr>
            <a:stCxn id="1317" idx="1"/>
            <a:endCxn id="1318" idx="3"/>
          </p:cNvCxnSpPr>
          <p:nvPr/>
        </p:nvCxnSpPr>
        <p:spPr>
          <a:xfrm rot="10800000">
            <a:off x="2650320" y="2901240"/>
            <a:ext cx="10072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19" name=""/>
          <p:cNvCxnSpPr>
            <a:stCxn id="1317" idx="2"/>
            <a:endCxn id="1320" idx="0"/>
          </p:cNvCxnSpPr>
          <p:nvPr/>
        </p:nvCxnSpPr>
        <p:spPr>
          <a:xfrm flipV="1" rot="10800000">
            <a:off x="4569840" y="3441240"/>
            <a:ext cx="1080" cy="10278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20" name=""/>
          <p:cNvSpPr/>
          <p:nvPr/>
        </p:nvSpPr>
        <p:spPr>
          <a:xfrm>
            <a:off x="3743280" y="4468680"/>
            <a:ext cx="1652760" cy="10065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opology Loa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6681960" y="2362320"/>
            <a:ext cx="1298520" cy="107784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0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000066"/>
                </a:solidFill>
                <a:latin typeface="Arial"/>
              </a:rPr>
              <a:t>Network D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3657600" y="2362320"/>
            <a:ext cx="1824120" cy="10792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P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998640" y="2398680"/>
            <a:ext cx="1652400" cy="10065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Path Reques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5634000" y="2854440"/>
            <a:ext cx="909720" cy="360360"/>
          </a:xfrm>
          <a:custGeom>
            <a:avLst/>
            <a:gdLst>
              <a:gd name="textAreaLeft" fmla="*/ 142200 w 909720"/>
              <a:gd name="textAreaRight" fmla="*/ 796320 w 9097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3" name=""/>
          <p:cNvGrpSpPr/>
          <p:nvPr/>
        </p:nvGrpSpPr>
        <p:grpSpPr>
          <a:xfrm>
            <a:off x="4358520" y="3807000"/>
            <a:ext cx="1211760" cy="338760"/>
            <a:chOff x="4358520" y="3807000"/>
            <a:chExt cx="1211760" cy="338760"/>
          </a:xfrm>
        </p:grpSpPr>
        <p:sp>
          <p:nvSpPr>
            <p:cNvPr id="1324" name=""/>
            <p:cNvSpPr/>
            <p:nvPr/>
          </p:nvSpPr>
          <p:spPr>
            <a:xfrm>
              <a:off x="4370760" y="380844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815000" y="3807000"/>
              <a:ext cx="75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/F 92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26" name=""/>
            <p:cNvCxnSpPr>
              <a:stCxn id="1325" idx="1"/>
              <a:endCxn id="1324" idx="1"/>
            </p:cNvCxnSpPr>
            <p:nvPr/>
          </p:nvCxnSpPr>
          <p:spPr>
            <a:xfrm flipH="1">
              <a:off x="4358520" y="3947760"/>
              <a:ext cx="423000" cy="25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</p:grpSp>
      <p:sp>
        <p:nvSpPr>
          <p:cNvPr id="1327" name=""/>
          <p:cNvSpPr/>
          <p:nvPr/>
        </p:nvSpPr>
        <p:spPr>
          <a:xfrm>
            <a:off x="5689800" y="3273480"/>
            <a:ext cx="912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ter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P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8" name=""/>
          <p:cNvGrpSpPr/>
          <p:nvPr/>
        </p:nvGrpSpPr>
        <p:grpSpPr>
          <a:xfrm>
            <a:off x="2804760" y="2696760"/>
            <a:ext cx="698760" cy="834840"/>
            <a:chOff x="2804760" y="2696760"/>
            <a:chExt cx="698760" cy="834840"/>
          </a:xfrm>
        </p:grpSpPr>
        <p:sp>
          <p:nvSpPr>
            <p:cNvPr id="1329" name=""/>
            <p:cNvSpPr/>
            <p:nvPr/>
          </p:nvSpPr>
          <p:spPr>
            <a:xfrm>
              <a:off x="3029040" y="277020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804760" y="319428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/F 9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31" name=""/>
            <p:cNvCxnSpPr>
              <a:stCxn id="1330" idx="0"/>
              <a:endCxn id="1329" idx="0"/>
            </p:cNvCxnSpPr>
            <p:nvPr/>
          </p:nvCxnSpPr>
          <p:spPr>
            <a:xfrm flipH="1" flipV="1">
              <a:off x="3148560" y="2696760"/>
              <a:ext cx="2520" cy="4248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</p:grpSp>
      <p:sp>
        <p:nvSpPr>
          <p:cNvPr id="1332" name=""/>
          <p:cNvSpPr/>
          <p:nvPr/>
        </p:nvSpPr>
        <p:spPr>
          <a:xfrm flipH="1">
            <a:off x="5614200" y="2549520"/>
            <a:ext cx="909720" cy="360360"/>
          </a:xfrm>
          <a:custGeom>
            <a:avLst/>
            <a:gdLst>
              <a:gd name="textAreaLeft" fmla="*/ 142200 w 909720"/>
              <a:gd name="textAreaRight" fmla="*/ 796320 w 9097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3370320" y="25527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4232520" y="3476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2594160" y="2554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4233960" y="4156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01880" y="127080"/>
            <a:ext cx="795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GMPLS network model with a centralized PC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276720" y="995400"/>
            <a:ext cx="1958400" cy="1671120"/>
            <a:chOff x="3276720" y="995400"/>
            <a:chExt cx="1958400" cy="167112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4686120" y="2239920"/>
              <a:ext cx="549000" cy="42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 flipH="1">
              <a:off x="3601800" y="995400"/>
              <a:ext cx="1248480" cy="1236240"/>
            </a:xfrm>
            <a:custGeom>
              <a:avLst/>
              <a:gdLst/>
              <a:ahLst/>
              <a:rect l="l" t="t" r="r" b="b"/>
              <a:pathLst>
                <a:path w="1833" h="2049">
                  <a:moveTo>
                    <a:pt x="326" y="190"/>
                  </a:moveTo>
                  <a:lnTo>
                    <a:pt x="409" y="43"/>
                  </a:lnTo>
                  <a:lnTo>
                    <a:pt x="556" y="0"/>
                  </a:lnTo>
                  <a:lnTo>
                    <a:pt x="599" y="3"/>
                  </a:lnTo>
                  <a:lnTo>
                    <a:pt x="640" y="7"/>
                  </a:lnTo>
                  <a:lnTo>
                    <a:pt x="681" y="12"/>
                  </a:lnTo>
                  <a:lnTo>
                    <a:pt x="720" y="15"/>
                  </a:lnTo>
                  <a:lnTo>
                    <a:pt x="758" y="20"/>
                  </a:lnTo>
                  <a:lnTo>
                    <a:pt x="796" y="24"/>
                  </a:lnTo>
                  <a:lnTo>
                    <a:pt x="833" y="28"/>
                  </a:lnTo>
                  <a:lnTo>
                    <a:pt x="868" y="33"/>
                  </a:lnTo>
                  <a:lnTo>
                    <a:pt x="904" y="38"/>
                  </a:lnTo>
                  <a:lnTo>
                    <a:pt x="939" y="43"/>
                  </a:lnTo>
                  <a:lnTo>
                    <a:pt x="973" y="48"/>
                  </a:lnTo>
                  <a:lnTo>
                    <a:pt x="1007" y="54"/>
                  </a:lnTo>
                  <a:lnTo>
                    <a:pt x="1040" y="60"/>
                  </a:lnTo>
                  <a:lnTo>
                    <a:pt x="1073" y="66"/>
                  </a:lnTo>
                  <a:lnTo>
                    <a:pt x="1107" y="73"/>
                  </a:lnTo>
                  <a:lnTo>
                    <a:pt x="1140" y="79"/>
                  </a:lnTo>
                  <a:lnTo>
                    <a:pt x="1173" y="86"/>
                  </a:lnTo>
                  <a:lnTo>
                    <a:pt x="1206" y="93"/>
                  </a:lnTo>
                  <a:lnTo>
                    <a:pt x="1239" y="101"/>
                  </a:lnTo>
                  <a:lnTo>
                    <a:pt x="1273" y="109"/>
                  </a:lnTo>
                  <a:lnTo>
                    <a:pt x="1306" y="117"/>
                  </a:lnTo>
                  <a:lnTo>
                    <a:pt x="1340" y="127"/>
                  </a:lnTo>
                  <a:lnTo>
                    <a:pt x="1374" y="136"/>
                  </a:lnTo>
                  <a:lnTo>
                    <a:pt x="1409" y="145"/>
                  </a:lnTo>
                  <a:lnTo>
                    <a:pt x="1444" y="155"/>
                  </a:lnTo>
                  <a:lnTo>
                    <a:pt x="1480" y="166"/>
                  </a:lnTo>
                  <a:lnTo>
                    <a:pt x="1517" y="176"/>
                  </a:lnTo>
                  <a:lnTo>
                    <a:pt x="1555" y="188"/>
                  </a:lnTo>
                  <a:lnTo>
                    <a:pt x="1593" y="200"/>
                  </a:lnTo>
                  <a:lnTo>
                    <a:pt x="1632" y="212"/>
                  </a:lnTo>
                  <a:lnTo>
                    <a:pt x="1672" y="225"/>
                  </a:lnTo>
                  <a:lnTo>
                    <a:pt x="1714" y="238"/>
                  </a:lnTo>
                  <a:lnTo>
                    <a:pt x="1833" y="793"/>
                  </a:lnTo>
                  <a:lnTo>
                    <a:pt x="1811" y="1396"/>
                  </a:lnTo>
                  <a:lnTo>
                    <a:pt x="1780" y="1448"/>
                  </a:lnTo>
                  <a:lnTo>
                    <a:pt x="1780" y="1533"/>
                  </a:lnTo>
                  <a:lnTo>
                    <a:pt x="1458" y="1711"/>
                  </a:lnTo>
                  <a:lnTo>
                    <a:pt x="1497" y="1763"/>
                  </a:lnTo>
                  <a:lnTo>
                    <a:pt x="1546" y="1817"/>
                  </a:lnTo>
                  <a:lnTo>
                    <a:pt x="1549" y="1890"/>
                  </a:lnTo>
                  <a:lnTo>
                    <a:pt x="1526" y="1920"/>
                  </a:lnTo>
                  <a:lnTo>
                    <a:pt x="1497" y="1946"/>
                  </a:lnTo>
                  <a:lnTo>
                    <a:pt x="1463" y="1968"/>
                  </a:lnTo>
                  <a:lnTo>
                    <a:pt x="1424" y="1986"/>
                  </a:lnTo>
                  <a:lnTo>
                    <a:pt x="1381" y="2001"/>
                  </a:lnTo>
                  <a:lnTo>
                    <a:pt x="1336" y="2014"/>
                  </a:lnTo>
                  <a:lnTo>
                    <a:pt x="1288" y="2023"/>
                  </a:lnTo>
                  <a:lnTo>
                    <a:pt x="1237" y="2031"/>
                  </a:lnTo>
                  <a:lnTo>
                    <a:pt x="1186" y="2037"/>
                  </a:lnTo>
                  <a:lnTo>
                    <a:pt x="1134" y="2041"/>
                  </a:lnTo>
                  <a:lnTo>
                    <a:pt x="1084" y="2044"/>
                  </a:lnTo>
                  <a:lnTo>
                    <a:pt x="1034" y="2045"/>
                  </a:lnTo>
                  <a:lnTo>
                    <a:pt x="986" y="2046"/>
                  </a:lnTo>
                  <a:lnTo>
                    <a:pt x="940" y="2046"/>
                  </a:lnTo>
                  <a:lnTo>
                    <a:pt x="897" y="2048"/>
                  </a:lnTo>
                  <a:lnTo>
                    <a:pt x="858" y="2049"/>
                  </a:lnTo>
                  <a:lnTo>
                    <a:pt x="833" y="2042"/>
                  </a:lnTo>
                  <a:lnTo>
                    <a:pt x="809" y="2035"/>
                  </a:lnTo>
                  <a:lnTo>
                    <a:pt x="787" y="2029"/>
                  </a:lnTo>
                  <a:lnTo>
                    <a:pt x="765" y="2022"/>
                  </a:lnTo>
                  <a:lnTo>
                    <a:pt x="744" y="2015"/>
                  </a:lnTo>
                  <a:lnTo>
                    <a:pt x="723" y="2010"/>
                  </a:lnTo>
                  <a:lnTo>
                    <a:pt x="704" y="2003"/>
                  </a:lnTo>
                  <a:lnTo>
                    <a:pt x="685" y="1995"/>
                  </a:lnTo>
                  <a:lnTo>
                    <a:pt x="666" y="1988"/>
                  </a:lnTo>
                  <a:lnTo>
                    <a:pt x="647" y="1978"/>
                  </a:lnTo>
                  <a:lnTo>
                    <a:pt x="628" y="1970"/>
                  </a:lnTo>
                  <a:lnTo>
                    <a:pt x="608" y="1960"/>
                  </a:lnTo>
                  <a:lnTo>
                    <a:pt x="589" y="1950"/>
                  </a:lnTo>
                  <a:lnTo>
                    <a:pt x="568" y="1938"/>
                  </a:lnTo>
                  <a:lnTo>
                    <a:pt x="547" y="1925"/>
                  </a:lnTo>
                  <a:lnTo>
                    <a:pt x="525" y="1912"/>
                  </a:lnTo>
                  <a:lnTo>
                    <a:pt x="525" y="1816"/>
                  </a:lnTo>
                  <a:lnTo>
                    <a:pt x="587" y="1741"/>
                  </a:lnTo>
                  <a:lnTo>
                    <a:pt x="448" y="1712"/>
                  </a:lnTo>
                  <a:lnTo>
                    <a:pt x="446" y="1677"/>
                  </a:lnTo>
                  <a:lnTo>
                    <a:pt x="94" y="1457"/>
                  </a:lnTo>
                  <a:lnTo>
                    <a:pt x="0" y="1320"/>
                  </a:lnTo>
                  <a:lnTo>
                    <a:pt x="0" y="772"/>
                  </a:lnTo>
                  <a:lnTo>
                    <a:pt x="137" y="655"/>
                  </a:lnTo>
                  <a:lnTo>
                    <a:pt x="329" y="476"/>
                  </a:lnTo>
                  <a:lnTo>
                    <a:pt x="326" y="19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3572280" y="997200"/>
              <a:ext cx="899640" cy="1112760"/>
            </a:xfrm>
            <a:custGeom>
              <a:avLst/>
              <a:gdLst/>
              <a:ahLst/>
              <a:rect l="l" t="t" r="r" b="b"/>
              <a:pathLst>
                <a:path w="1318" h="1846">
                  <a:moveTo>
                    <a:pt x="0" y="0"/>
                  </a:moveTo>
                  <a:lnTo>
                    <a:pt x="26" y="112"/>
                  </a:lnTo>
                  <a:lnTo>
                    <a:pt x="50" y="226"/>
                  </a:lnTo>
                  <a:lnTo>
                    <a:pt x="73" y="343"/>
                  </a:lnTo>
                  <a:lnTo>
                    <a:pt x="94" y="462"/>
                  </a:lnTo>
                  <a:lnTo>
                    <a:pt x="112" y="583"/>
                  </a:lnTo>
                  <a:lnTo>
                    <a:pt x="129" y="704"/>
                  </a:lnTo>
                  <a:lnTo>
                    <a:pt x="144" y="825"/>
                  </a:lnTo>
                  <a:lnTo>
                    <a:pt x="158" y="945"/>
                  </a:lnTo>
                  <a:lnTo>
                    <a:pt x="170" y="1062"/>
                  </a:lnTo>
                  <a:lnTo>
                    <a:pt x="179" y="1178"/>
                  </a:lnTo>
                  <a:lnTo>
                    <a:pt x="187" y="1291"/>
                  </a:lnTo>
                  <a:lnTo>
                    <a:pt x="193" y="1399"/>
                  </a:lnTo>
                  <a:lnTo>
                    <a:pt x="197" y="1504"/>
                  </a:lnTo>
                  <a:lnTo>
                    <a:pt x="200" y="1603"/>
                  </a:lnTo>
                  <a:lnTo>
                    <a:pt x="200" y="1697"/>
                  </a:lnTo>
                  <a:lnTo>
                    <a:pt x="197" y="1783"/>
                  </a:lnTo>
                  <a:lnTo>
                    <a:pt x="354" y="1740"/>
                  </a:lnTo>
                  <a:lnTo>
                    <a:pt x="333" y="1846"/>
                  </a:lnTo>
                  <a:lnTo>
                    <a:pt x="358" y="1846"/>
                  </a:lnTo>
                  <a:lnTo>
                    <a:pt x="385" y="1845"/>
                  </a:lnTo>
                  <a:lnTo>
                    <a:pt x="411" y="1843"/>
                  </a:lnTo>
                  <a:lnTo>
                    <a:pt x="439" y="1841"/>
                  </a:lnTo>
                  <a:lnTo>
                    <a:pt x="467" y="1838"/>
                  </a:lnTo>
                  <a:lnTo>
                    <a:pt x="494" y="1834"/>
                  </a:lnTo>
                  <a:lnTo>
                    <a:pt x="523" y="1830"/>
                  </a:lnTo>
                  <a:lnTo>
                    <a:pt x="552" y="1824"/>
                  </a:lnTo>
                  <a:lnTo>
                    <a:pt x="581" y="1819"/>
                  </a:lnTo>
                  <a:lnTo>
                    <a:pt x="610" y="1813"/>
                  </a:lnTo>
                  <a:lnTo>
                    <a:pt x="640" y="1806"/>
                  </a:lnTo>
                  <a:lnTo>
                    <a:pt x="669" y="1798"/>
                  </a:lnTo>
                  <a:lnTo>
                    <a:pt x="699" y="1790"/>
                  </a:lnTo>
                  <a:lnTo>
                    <a:pt x="729" y="1781"/>
                  </a:lnTo>
                  <a:lnTo>
                    <a:pt x="760" y="1771"/>
                  </a:lnTo>
                  <a:lnTo>
                    <a:pt x="790" y="1761"/>
                  </a:lnTo>
                  <a:lnTo>
                    <a:pt x="822" y="1750"/>
                  </a:lnTo>
                  <a:lnTo>
                    <a:pt x="851" y="1738"/>
                  </a:lnTo>
                  <a:lnTo>
                    <a:pt x="883" y="1725"/>
                  </a:lnTo>
                  <a:lnTo>
                    <a:pt x="913" y="1713"/>
                  </a:lnTo>
                  <a:lnTo>
                    <a:pt x="944" y="1698"/>
                  </a:lnTo>
                  <a:lnTo>
                    <a:pt x="974" y="1684"/>
                  </a:lnTo>
                  <a:lnTo>
                    <a:pt x="1004" y="1668"/>
                  </a:lnTo>
                  <a:lnTo>
                    <a:pt x="1033" y="1653"/>
                  </a:lnTo>
                  <a:lnTo>
                    <a:pt x="1063" y="1636"/>
                  </a:lnTo>
                  <a:lnTo>
                    <a:pt x="1093" y="1618"/>
                  </a:lnTo>
                  <a:lnTo>
                    <a:pt x="1123" y="1600"/>
                  </a:lnTo>
                  <a:lnTo>
                    <a:pt x="1152" y="1580"/>
                  </a:lnTo>
                  <a:lnTo>
                    <a:pt x="1181" y="1561"/>
                  </a:lnTo>
                  <a:lnTo>
                    <a:pt x="1210" y="1541"/>
                  </a:lnTo>
                  <a:lnTo>
                    <a:pt x="1239" y="1519"/>
                  </a:lnTo>
                  <a:lnTo>
                    <a:pt x="1266" y="1497"/>
                  </a:lnTo>
                  <a:lnTo>
                    <a:pt x="1266" y="1402"/>
                  </a:lnTo>
                  <a:lnTo>
                    <a:pt x="1318" y="1349"/>
                  </a:lnTo>
                  <a:lnTo>
                    <a:pt x="1312" y="1181"/>
                  </a:lnTo>
                  <a:lnTo>
                    <a:pt x="1303" y="1015"/>
                  </a:lnTo>
                  <a:lnTo>
                    <a:pt x="1289" y="856"/>
                  </a:lnTo>
                  <a:lnTo>
                    <a:pt x="1272" y="704"/>
                  </a:lnTo>
                  <a:lnTo>
                    <a:pt x="1250" y="562"/>
                  </a:lnTo>
                  <a:lnTo>
                    <a:pt x="1225" y="432"/>
                  </a:lnTo>
                  <a:lnTo>
                    <a:pt x="1195" y="318"/>
                  </a:lnTo>
                  <a:lnTo>
                    <a:pt x="1161" y="220"/>
                  </a:lnTo>
                  <a:lnTo>
                    <a:pt x="1131" y="209"/>
                  </a:lnTo>
                  <a:lnTo>
                    <a:pt x="1101" y="198"/>
                  </a:lnTo>
                  <a:lnTo>
                    <a:pt x="1070" y="187"/>
                  </a:lnTo>
                  <a:lnTo>
                    <a:pt x="1038" y="176"/>
                  </a:lnTo>
                  <a:lnTo>
                    <a:pt x="1006" y="166"/>
                  </a:lnTo>
                  <a:lnTo>
                    <a:pt x="974" y="156"/>
                  </a:lnTo>
                  <a:lnTo>
                    <a:pt x="940" y="145"/>
                  </a:lnTo>
                  <a:lnTo>
                    <a:pt x="906" y="135"/>
                  </a:lnTo>
                  <a:lnTo>
                    <a:pt x="871" y="126"/>
                  </a:lnTo>
                  <a:lnTo>
                    <a:pt x="837" y="117"/>
                  </a:lnTo>
                  <a:lnTo>
                    <a:pt x="801" y="107"/>
                  </a:lnTo>
                  <a:lnTo>
                    <a:pt x="765" y="98"/>
                  </a:lnTo>
                  <a:lnTo>
                    <a:pt x="729" y="89"/>
                  </a:lnTo>
                  <a:lnTo>
                    <a:pt x="693" y="81"/>
                  </a:lnTo>
                  <a:lnTo>
                    <a:pt x="656" y="73"/>
                  </a:lnTo>
                  <a:lnTo>
                    <a:pt x="619" y="65"/>
                  </a:lnTo>
                  <a:lnTo>
                    <a:pt x="581" y="58"/>
                  </a:lnTo>
                  <a:lnTo>
                    <a:pt x="543" y="51"/>
                  </a:lnTo>
                  <a:lnTo>
                    <a:pt x="505" y="44"/>
                  </a:lnTo>
                  <a:lnTo>
                    <a:pt x="467" y="38"/>
                  </a:lnTo>
                  <a:lnTo>
                    <a:pt x="429" y="33"/>
                  </a:lnTo>
                  <a:lnTo>
                    <a:pt x="390" y="27"/>
                  </a:lnTo>
                  <a:lnTo>
                    <a:pt x="350" y="22"/>
                  </a:lnTo>
                  <a:lnTo>
                    <a:pt x="312" y="18"/>
                  </a:lnTo>
                  <a:lnTo>
                    <a:pt x="273" y="14"/>
                  </a:lnTo>
                  <a:lnTo>
                    <a:pt x="234" y="11"/>
                  </a:lnTo>
                  <a:lnTo>
                    <a:pt x="195" y="7"/>
                  </a:lnTo>
                  <a:lnTo>
                    <a:pt x="156" y="5"/>
                  </a:lnTo>
                  <a:lnTo>
                    <a:pt x="117" y="3"/>
                  </a:lnTo>
                  <a:lnTo>
                    <a:pt x="77" y="1"/>
                  </a:lnTo>
                  <a:lnTo>
                    <a:pt x="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3574080" y="1001880"/>
              <a:ext cx="865800" cy="1070280"/>
            </a:xfrm>
            <a:custGeom>
              <a:avLst/>
              <a:gdLst/>
              <a:ahLst/>
              <a:rect l="l" t="t" r="r" b="b"/>
              <a:pathLst>
                <a:path w="1270" h="1775">
                  <a:moveTo>
                    <a:pt x="0" y="0"/>
                  </a:moveTo>
                  <a:lnTo>
                    <a:pt x="25" y="107"/>
                  </a:lnTo>
                  <a:lnTo>
                    <a:pt x="48" y="217"/>
                  </a:lnTo>
                  <a:lnTo>
                    <a:pt x="69" y="330"/>
                  </a:lnTo>
                  <a:lnTo>
                    <a:pt x="89" y="445"/>
                  </a:lnTo>
                  <a:lnTo>
                    <a:pt x="107" y="560"/>
                  </a:lnTo>
                  <a:lnTo>
                    <a:pt x="124" y="676"/>
                  </a:lnTo>
                  <a:lnTo>
                    <a:pt x="137" y="793"/>
                  </a:lnTo>
                  <a:lnTo>
                    <a:pt x="151" y="908"/>
                  </a:lnTo>
                  <a:lnTo>
                    <a:pt x="162" y="1022"/>
                  </a:lnTo>
                  <a:lnTo>
                    <a:pt x="171" y="1132"/>
                  </a:lnTo>
                  <a:lnTo>
                    <a:pt x="178" y="1241"/>
                  </a:lnTo>
                  <a:lnTo>
                    <a:pt x="183" y="1345"/>
                  </a:lnTo>
                  <a:lnTo>
                    <a:pt x="187" y="1446"/>
                  </a:lnTo>
                  <a:lnTo>
                    <a:pt x="189" y="1541"/>
                  </a:lnTo>
                  <a:lnTo>
                    <a:pt x="189" y="1631"/>
                  </a:lnTo>
                  <a:lnTo>
                    <a:pt x="187" y="1714"/>
                  </a:lnTo>
                  <a:lnTo>
                    <a:pt x="205" y="1709"/>
                  </a:lnTo>
                  <a:lnTo>
                    <a:pt x="224" y="1704"/>
                  </a:lnTo>
                  <a:lnTo>
                    <a:pt x="243" y="1699"/>
                  </a:lnTo>
                  <a:lnTo>
                    <a:pt x="262" y="1693"/>
                  </a:lnTo>
                  <a:lnTo>
                    <a:pt x="281" y="1689"/>
                  </a:lnTo>
                  <a:lnTo>
                    <a:pt x="300" y="1684"/>
                  </a:lnTo>
                  <a:lnTo>
                    <a:pt x="319" y="1678"/>
                  </a:lnTo>
                  <a:lnTo>
                    <a:pt x="338" y="1674"/>
                  </a:lnTo>
                  <a:lnTo>
                    <a:pt x="333" y="1699"/>
                  </a:lnTo>
                  <a:lnTo>
                    <a:pt x="327" y="1724"/>
                  </a:lnTo>
                  <a:lnTo>
                    <a:pt x="323" y="1750"/>
                  </a:lnTo>
                  <a:lnTo>
                    <a:pt x="317" y="1775"/>
                  </a:lnTo>
                  <a:lnTo>
                    <a:pt x="341" y="1775"/>
                  </a:lnTo>
                  <a:lnTo>
                    <a:pt x="367" y="1774"/>
                  </a:lnTo>
                  <a:lnTo>
                    <a:pt x="393" y="1773"/>
                  </a:lnTo>
                  <a:lnTo>
                    <a:pt x="420" y="1770"/>
                  </a:lnTo>
                  <a:lnTo>
                    <a:pt x="446" y="1768"/>
                  </a:lnTo>
                  <a:lnTo>
                    <a:pt x="473" y="1765"/>
                  </a:lnTo>
                  <a:lnTo>
                    <a:pt x="500" y="1761"/>
                  </a:lnTo>
                  <a:lnTo>
                    <a:pt x="528" y="1758"/>
                  </a:lnTo>
                  <a:lnTo>
                    <a:pt x="557" y="1753"/>
                  </a:lnTo>
                  <a:lnTo>
                    <a:pt x="585" y="1747"/>
                  </a:lnTo>
                  <a:lnTo>
                    <a:pt x="614" y="1742"/>
                  </a:lnTo>
                  <a:lnTo>
                    <a:pt x="643" y="1735"/>
                  </a:lnTo>
                  <a:lnTo>
                    <a:pt x="672" y="1728"/>
                  </a:lnTo>
                  <a:lnTo>
                    <a:pt x="702" y="1720"/>
                  </a:lnTo>
                  <a:lnTo>
                    <a:pt x="731" y="1712"/>
                  </a:lnTo>
                  <a:lnTo>
                    <a:pt x="761" y="1702"/>
                  </a:lnTo>
                  <a:lnTo>
                    <a:pt x="791" y="1693"/>
                  </a:lnTo>
                  <a:lnTo>
                    <a:pt x="820" y="1683"/>
                  </a:lnTo>
                  <a:lnTo>
                    <a:pt x="849" y="1671"/>
                  </a:lnTo>
                  <a:lnTo>
                    <a:pt x="879" y="1660"/>
                  </a:lnTo>
                  <a:lnTo>
                    <a:pt x="909" y="1647"/>
                  </a:lnTo>
                  <a:lnTo>
                    <a:pt x="938" y="1634"/>
                  </a:lnTo>
                  <a:lnTo>
                    <a:pt x="968" y="1621"/>
                  </a:lnTo>
                  <a:lnTo>
                    <a:pt x="997" y="1606"/>
                  </a:lnTo>
                  <a:lnTo>
                    <a:pt x="1027" y="1591"/>
                  </a:lnTo>
                  <a:lnTo>
                    <a:pt x="1055" y="1575"/>
                  </a:lnTo>
                  <a:lnTo>
                    <a:pt x="1083" y="1557"/>
                  </a:lnTo>
                  <a:lnTo>
                    <a:pt x="1112" y="1540"/>
                  </a:lnTo>
                  <a:lnTo>
                    <a:pt x="1140" y="1520"/>
                  </a:lnTo>
                  <a:lnTo>
                    <a:pt x="1167" y="1502"/>
                  </a:lnTo>
                  <a:lnTo>
                    <a:pt x="1195" y="1481"/>
                  </a:lnTo>
                  <a:lnTo>
                    <a:pt x="1221" y="1461"/>
                  </a:lnTo>
                  <a:lnTo>
                    <a:pt x="1221" y="1435"/>
                  </a:lnTo>
                  <a:lnTo>
                    <a:pt x="1221" y="1410"/>
                  </a:lnTo>
                  <a:lnTo>
                    <a:pt x="1221" y="1385"/>
                  </a:lnTo>
                  <a:lnTo>
                    <a:pt x="1221" y="1359"/>
                  </a:lnTo>
                  <a:lnTo>
                    <a:pt x="1227" y="1352"/>
                  </a:lnTo>
                  <a:lnTo>
                    <a:pt x="1234" y="1344"/>
                  </a:lnTo>
                  <a:lnTo>
                    <a:pt x="1240" y="1337"/>
                  </a:lnTo>
                  <a:lnTo>
                    <a:pt x="1246" y="1329"/>
                  </a:lnTo>
                  <a:lnTo>
                    <a:pt x="1251" y="1321"/>
                  </a:lnTo>
                  <a:lnTo>
                    <a:pt x="1258" y="1314"/>
                  </a:lnTo>
                  <a:lnTo>
                    <a:pt x="1264" y="1306"/>
                  </a:lnTo>
                  <a:lnTo>
                    <a:pt x="1270" y="1299"/>
                  </a:lnTo>
                  <a:lnTo>
                    <a:pt x="1263" y="1137"/>
                  </a:lnTo>
                  <a:lnTo>
                    <a:pt x="1254" y="978"/>
                  </a:lnTo>
                  <a:lnTo>
                    <a:pt x="1240" y="824"/>
                  </a:lnTo>
                  <a:lnTo>
                    <a:pt x="1222" y="679"/>
                  </a:lnTo>
                  <a:lnTo>
                    <a:pt x="1202" y="542"/>
                  </a:lnTo>
                  <a:lnTo>
                    <a:pt x="1178" y="417"/>
                  </a:lnTo>
                  <a:lnTo>
                    <a:pt x="1149" y="308"/>
                  </a:lnTo>
                  <a:lnTo>
                    <a:pt x="1115" y="213"/>
                  </a:lnTo>
                  <a:lnTo>
                    <a:pt x="1087" y="203"/>
                  </a:lnTo>
                  <a:lnTo>
                    <a:pt x="1058" y="192"/>
                  </a:lnTo>
                  <a:lnTo>
                    <a:pt x="1028" y="181"/>
                  </a:lnTo>
                  <a:lnTo>
                    <a:pt x="998" y="171"/>
                  </a:lnTo>
                  <a:lnTo>
                    <a:pt x="967" y="160"/>
                  </a:lnTo>
                  <a:lnTo>
                    <a:pt x="936" y="151"/>
                  </a:lnTo>
                  <a:lnTo>
                    <a:pt x="903" y="141"/>
                  </a:lnTo>
                  <a:lnTo>
                    <a:pt x="870" y="132"/>
                  </a:lnTo>
                  <a:lnTo>
                    <a:pt x="838" y="122"/>
                  </a:lnTo>
                  <a:lnTo>
                    <a:pt x="804" y="113"/>
                  </a:lnTo>
                  <a:lnTo>
                    <a:pt x="770" y="104"/>
                  </a:lnTo>
                  <a:lnTo>
                    <a:pt x="735" y="96"/>
                  </a:lnTo>
                  <a:lnTo>
                    <a:pt x="701" y="87"/>
                  </a:lnTo>
                  <a:lnTo>
                    <a:pt x="665" y="79"/>
                  </a:lnTo>
                  <a:lnTo>
                    <a:pt x="630" y="71"/>
                  </a:lnTo>
                  <a:lnTo>
                    <a:pt x="595" y="64"/>
                  </a:lnTo>
                  <a:lnTo>
                    <a:pt x="558" y="57"/>
                  </a:lnTo>
                  <a:lnTo>
                    <a:pt x="522" y="50"/>
                  </a:lnTo>
                  <a:lnTo>
                    <a:pt x="485" y="43"/>
                  </a:lnTo>
                  <a:lnTo>
                    <a:pt x="448" y="37"/>
                  </a:lnTo>
                  <a:lnTo>
                    <a:pt x="412" y="31"/>
                  </a:lnTo>
                  <a:lnTo>
                    <a:pt x="375" y="27"/>
                  </a:lnTo>
                  <a:lnTo>
                    <a:pt x="337" y="22"/>
                  </a:lnTo>
                  <a:lnTo>
                    <a:pt x="300" y="18"/>
                  </a:lnTo>
                  <a:lnTo>
                    <a:pt x="262" y="13"/>
                  </a:lnTo>
                  <a:lnTo>
                    <a:pt x="225" y="11"/>
                  </a:lnTo>
                  <a:lnTo>
                    <a:pt x="187" y="7"/>
                  </a:lnTo>
                  <a:lnTo>
                    <a:pt x="150" y="5"/>
                  </a:lnTo>
                  <a:lnTo>
                    <a:pt x="112" y="3"/>
                  </a:lnTo>
                  <a:lnTo>
                    <a:pt x="75" y="2"/>
                  </a:lnTo>
                  <a:lnTo>
                    <a:pt x="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7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576600" y="1006920"/>
              <a:ext cx="831600" cy="1027800"/>
            </a:xfrm>
            <a:custGeom>
              <a:avLst/>
              <a:gdLst/>
              <a:ahLst/>
              <a:rect l="l" t="t" r="r" b="b"/>
              <a:pathLst>
                <a:path w="1220" h="1705">
                  <a:moveTo>
                    <a:pt x="0" y="0"/>
                  </a:moveTo>
                  <a:lnTo>
                    <a:pt x="23" y="103"/>
                  </a:lnTo>
                  <a:lnTo>
                    <a:pt x="45" y="209"/>
                  </a:lnTo>
                  <a:lnTo>
                    <a:pt x="65" y="317"/>
                  </a:lnTo>
                  <a:lnTo>
                    <a:pt x="84" y="427"/>
                  </a:lnTo>
                  <a:lnTo>
                    <a:pt x="101" y="538"/>
                  </a:lnTo>
                  <a:lnTo>
                    <a:pt x="117" y="650"/>
                  </a:lnTo>
                  <a:lnTo>
                    <a:pt x="131" y="760"/>
                  </a:lnTo>
                  <a:lnTo>
                    <a:pt x="142" y="871"/>
                  </a:lnTo>
                  <a:lnTo>
                    <a:pt x="152" y="980"/>
                  </a:lnTo>
                  <a:lnTo>
                    <a:pt x="162" y="1088"/>
                  </a:lnTo>
                  <a:lnTo>
                    <a:pt x="169" y="1192"/>
                  </a:lnTo>
                  <a:lnTo>
                    <a:pt x="174" y="1292"/>
                  </a:lnTo>
                  <a:lnTo>
                    <a:pt x="178" y="1389"/>
                  </a:lnTo>
                  <a:lnTo>
                    <a:pt x="179" y="1480"/>
                  </a:lnTo>
                  <a:lnTo>
                    <a:pt x="179" y="1567"/>
                  </a:lnTo>
                  <a:lnTo>
                    <a:pt x="178" y="1646"/>
                  </a:lnTo>
                  <a:lnTo>
                    <a:pt x="195" y="1641"/>
                  </a:lnTo>
                  <a:lnTo>
                    <a:pt x="213" y="1637"/>
                  </a:lnTo>
                  <a:lnTo>
                    <a:pt x="231" y="1631"/>
                  </a:lnTo>
                  <a:lnTo>
                    <a:pt x="249" y="1626"/>
                  </a:lnTo>
                  <a:lnTo>
                    <a:pt x="266" y="1621"/>
                  </a:lnTo>
                  <a:lnTo>
                    <a:pt x="285" y="1616"/>
                  </a:lnTo>
                  <a:lnTo>
                    <a:pt x="303" y="1610"/>
                  </a:lnTo>
                  <a:lnTo>
                    <a:pt x="322" y="1606"/>
                  </a:lnTo>
                  <a:lnTo>
                    <a:pt x="317" y="1631"/>
                  </a:lnTo>
                  <a:lnTo>
                    <a:pt x="311" y="1655"/>
                  </a:lnTo>
                  <a:lnTo>
                    <a:pt x="307" y="1679"/>
                  </a:lnTo>
                  <a:lnTo>
                    <a:pt x="302" y="1705"/>
                  </a:lnTo>
                  <a:lnTo>
                    <a:pt x="326" y="1705"/>
                  </a:lnTo>
                  <a:lnTo>
                    <a:pt x="351" y="1704"/>
                  </a:lnTo>
                  <a:lnTo>
                    <a:pt x="375" y="1702"/>
                  </a:lnTo>
                  <a:lnTo>
                    <a:pt x="400" y="1701"/>
                  </a:lnTo>
                  <a:lnTo>
                    <a:pt x="425" y="1699"/>
                  </a:lnTo>
                  <a:lnTo>
                    <a:pt x="452" y="1697"/>
                  </a:lnTo>
                  <a:lnTo>
                    <a:pt x="478" y="1694"/>
                  </a:lnTo>
                  <a:lnTo>
                    <a:pt x="506" y="1691"/>
                  </a:lnTo>
                  <a:lnTo>
                    <a:pt x="533" y="1687"/>
                  </a:lnTo>
                  <a:lnTo>
                    <a:pt x="560" y="1683"/>
                  </a:lnTo>
                  <a:lnTo>
                    <a:pt x="588" y="1678"/>
                  </a:lnTo>
                  <a:lnTo>
                    <a:pt x="617" y="1673"/>
                  </a:lnTo>
                  <a:lnTo>
                    <a:pt x="644" y="1667"/>
                  </a:lnTo>
                  <a:lnTo>
                    <a:pt x="673" y="1661"/>
                  </a:lnTo>
                  <a:lnTo>
                    <a:pt x="702" y="1653"/>
                  </a:lnTo>
                  <a:lnTo>
                    <a:pt x="731" y="1646"/>
                  </a:lnTo>
                  <a:lnTo>
                    <a:pt x="759" y="1637"/>
                  </a:lnTo>
                  <a:lnTo>
                    <a:pt x="788" y="1629"/>
                  </a:lnTo>
                  <a:lnTo>
                    <a:pt x="817" y="1618"/>
                  </a:lnTo>
                  <a:lnTo>
                    <a:pt x="846" y="1608"/>
                  </a:lnTo>
                  <a:lnTo>
                    <a:pt x="875" y="1598"/>
                  </a:lnTo>
                  <a:lnTo>
                    <a:pt x="903" y="1585"/>
                  </a:lnTo>
                  <a:lnTo>
                    <a:pt x="932" y="1572"/>
                  </a:lnTo>
                  <a:lnTo>
                    <a:pt x="960" y="1560"/>
                  </a:lnTo>
                  <a:lnTo>
                    <a:pt x="989" y="1545"/>
                  </a:lnTo>
                  <a:lnTo>
                    <a:pt x="1016" y="1530"/>
                  </a:lnTo>
                  <a:lnTo>
                    <a:pt x="1044" y="1515"/>
                  </a:lnTo>
                  <a:lnTo>
                    <a:pt x="1070" y="1497"/>
                  </a:lnTo>
                  <a:lnTo>
                    <a:pt x="1098" y="1480"/>
                  </a:lnTo>
                  <a:lnTo>
                    <a:pt x="1125" y="1462"/>
                  </a:lnTo>
                  <a:lnTo>
                    <a:pt x="1151" y="1443"/>
                  </a:lnTo>
                  <a:lnTo>
                    <a:pt x="1176" y="1423"/>
                  </a:lnTo>
                  <a:lnTo>
                    <a:pt x="1176" y="1396"/>
                  </a:lnTo>
                  <a:lnTo>
                    <a:pt x="1176" y="1370"/>
                  </a:lnTo>
                  <a:lnTo>
                    <a:pt x="1176" y="1343"/>
                  </a:lnTo>
                  <a:lnTo>
                    <a:pt x="1176" y="1317"/>
                  </a:lnTo>
                  <a:lnTo>
                    <a:pt x="1182" y="1309"/>
                  </a:lnTo>
                  <a:lnTo>
                    <a:pt x="1187" y="1299"/>
                  </a:lnTo>
                  <a:lnTo>
                    <a:pt x="1193" y="1291"/>
                  </a:lnTo>
                  <a:lnTo>
                    <a:pt x="1198" y="1282"/>
                  </a:lnTo>
                  <a:lnTo>
                    <a:pt x="1203" y="1274"/>
                  </a:lnTo>
                  <a:lnTo>
                    <a:pt x="1209" y="1266"/>
                  </a:lnTo>
                  <a:lnTo>
                    <a:pt x="1214" y="1257"/>
                  </a:lnTo>
                  <a:lnTo>
                    <a:pt x="1220" y="1249"/>
                  </a:lnTo>
                  <a:lnTo>
                    <a:pt x="1213" y="1093"/>
                  </a:lnTo>
                  <a:lnTo>
                    <a:pt x="1204" y="941"/>
                  </a:lnTo>
                  <a:lnTo>
                    <a:pt x="1190" y="794"/>
                  </a:lnTo>
                  <a:lnTo>
                    <a:pt x="1174" y="653"/>
                  </a:lnTo>
                  <a:lnTo>
                    <a:pt x="1153" y="522"/>
                  </a:lnTo>
                  <a:lnTo>
                    <a:pt x="1128" y="402"/>
                  </a:lnTo>
                  <a:lnTo>
                    <a:pt x="1100" y="296"/>
                  </a:lnTo>
                  <a:lnTo>
                    <a:pt x="1068" y="207"/>
                  </a:lnTo>
                  <a:lnTo>
                    <a:pt x="1042" y="196"/>
                  </a:lnTo>
                  <a:lnTo>
                    <a:pt x="1014" y="186"/>
                  </a:lnTo>
                  <a:lnTo>
                    <a:pt x="985" y="175"/>
                  </a:lnTo>
                  <a:lnTo>
                    <a:pt x="956" y="165"/>
                  </a:lnTo>
                  <a:lnTo>
                    <a:pt x="927" y="156"/>
                  </a:lnTo>
                  <a:lnTo>
                    <a:pt x="897" y="146"/>
                  </a:lnTo>
                  <a:lnTo>
                    <a:pt x="865" y="136"/>
                  </a:lnTo>
                  <a:lnTo>
                    <a:pt x="834" y="127"/>
                  </a:lnTo>
                  <a:lnTo>
                    <a:pt x="803" y="118"/>
                  </a:lnTo>
                  <a:lnTo>
                    <a:pt x="771" y="110"/>
                  </a:lnTo>
                  <a:lnTo>
                    <a:pt x="739" y="101"/>
                  </a:lnTo>
                  <a:lnTo>
                    <a:pt x="705" y="93"/>
                  </a:lnTo>
                  <a:lnTo>
                    <a:pt x="672" y="84"/>
                  </a:lnTo>
                  <a:lnTo>
                    <a:pt x="639" y="76"/>
                  </a:lnTo>
                  <a:lnTo>
                    <a:pt x="604" y="68"/>
                  </a:lnTo>
                  <a:lnTo>
                    <a:pt x="571" y="61"/>
                  </a:lnTo>
                  <a:lnTo>
                    <a:pt x="536" y="55"/>
                  </a:lnTo>
                  <a:lnTo>
                    <a:pt x="500" y="48"/>
                  </a:lnTo>
                  <a:lnTo>
                    <a:pt x="466" y="42"/>
                  </a:lnTo>
                  <a:lnTo>
                    <a:pt x="430" y="36"/>
                  </a:lnTo>
                  <a:lnTo>
                    <a:pt x="394" y="30"/>
                  </a:lnTo>
                  <a:lnTo>
                    <a:pt x="359" y="26"/>
                  </a:lnTo>
                  <a:lnTo>
                    <a:pt x="323" y="21"/>
                  </a:lnTo>
                  <a:lnTo>
                    <a:pt x="287" y="17"/>
                  </a:lnTo>
                  <a:lnTo>
                    <a:pt x="252" y="13"/>
                  </a:lnTo>
                  <a:lnTo>
                    <a:pt x="216" y="10"/>
                  </a:lnTo>
                  <a:lnTo>
                    <a:pt x="180" y="7"/>
                  </a:lnTo>
                  <a:lnTo>
                    <a:pt x="143" y="5"/>
                  </a:lnTo>
                  <a:lnTo>
                    <a:pt x="108" y="3"/>
                  </a:lnTo>
                  <a:lnTo>
                    <a:pt x="72" y="2"/>
                  </a:ln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75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3578040" y="1010160"/>
              <a:ext cx="799920" cy="984960"/>
            </a:xfrm>
            <a:custGeom>
              <a:avLst/>
              <a:gdLst/>
              <a:ahLst/>
              <a:rect l="l" t="t" r="r" b="b"/>
              <a:pathLst>
                <a:path w="1171" h="1634">
                  <a:moveTo>
                    <a:pt x="0" y="0"/>
                  </a:moveTo>
                  <a:lnTo>
                    <a:pt x="43" y="200"/>
                  </a:lnTo>
                  <a:lnTo>
                    <a:pt x="80" y="409"/>
                  </a:lnTo>
                  <a:lnTo>
                    <a:pt x="111" y="622"/>
                  </a:lnTo>
                  <a:lnTo>
                    <a:pt x="135" y="836"/>
                  </a:lnTo>
                  <a:lnTo>
                    <a:pt x="153" y="1044"/>
                  </a:lnTo>
                  <a:lnTo>
                    <a:pt x="164" y="1239"/>
                  </a:lnTo>
                  <a:lnTo>
                    <a:pt x="169" y="1420"/>
                  </a:lnTo>
                  <a:lnTo>
                    <a:pt x="166" y="1579"/>
                  </a:lnTo>
                  <a:lnTo>
                    <a:pt x="184" y="1575"/>
                  </a:lnTo>
                  <a:lnTo>
                    <a:pt x="201" y="1570"/>
                  </a:lnTo>
                  <a:lnTo>
                    <a:pt x="218" y="1565"/>
                  </a:lnTo>
                  <a:lnTo>
                    <a:pt x="235" y="1560"/>
                  </a:lnTo>
                  <a:lnTo>
                    <a:pt x="253" y="1555"/>
                  </a:lnTo>
                  <a:lnTo>
                    <a:pt x="270" y="1550"/>
                  </a:lnTo>
                  <a:lnTo>
                    <a:pt x="287" y="1546"/>
                  </a:lnTo>
                  <a:lnTo>
                    <a:pt x="305" y="1541"/>
                  </a:lnTo>
                  <a:lnTo>
                    <a:pt x="301" y="1564"/>
                  </a:lnTo>
                  <a:lnTo>
                    <a:pt x="295" y="1587"/>
                  </a:lnTo>
                  <a:lnTo>
                    <a:pt x="291" y="1611"/>
                  </a:lnTo>
                  <a:lnTo>
                    <a:pt x="286" y="1634"/>
                  </a:lnTo>
                  <a:lnTo>
                    <a:pt x="309" y="1634"/>
                  </a:lnTo>
                  <a:lnTo>
                    <a:pt x="332" y="1633"/>
                  </a:lnTo>
                  <a:lnTo>
                    <a:pt x="356" y="1633"/>
                  </a:lnTo>
                  <a:lnTo>
                    <a:pt x="381" y="1632"/>
                  </a:lnTo>
                  <a:lnTo>
                    <a:pt x="405" y="1631"/>
                  </a:lnTo>
                  <a:lnTo>
                    <a:pt x="430" y="1629"/>
                  </a:lnTo>
                  <a:lnTo>
                    <a:pt x="457" y="1628"/>
                  </a:lnTo>
                  <a:lnTo>
                    <a:pt x="482" y="1625"/>
                  </a:lnTo>
                  <a:lnTo>
                    <a:pt x="508" y="1622"/>
                  </a:lnTo>
                  <a:lnTo>
                    <a:pt x="535" y="1619"/>
                  </a:lnTo>
                  <a:lnTo>
                    <a:pt x="563" y="1615"/>
                  </a:lnTo>
                  <a:lnTo>
                    <a:pt x="590" y="1611"/>
                  </a:lnTo>
                  <a:lnTo>
                    <a:pt x="617" y="1607"/>
                  </a:lnTo>
                  <a:lnTo>
                    <a:pt x="646" y="1601"/>
                  </a:lnTo>
                  <a:lnTo>
                    <a:pt x="673" y="1595"/>
                  </a:lnTo>
                  <a:lnTo>
                    <a:pt x="701" y="1590"/>
                  </a:lnTo>
                  <a:lnTo>
                    <a:pt x="728" y="1583"/>
                  </a:lnTo>
                  <a:lnTo>
                    <a:pt x="756" y="1575"/>
                  </a:lnTo>
                  <a:lnTo>
                    <a:pt x="785" y="1566"/>
                  </a:lnTo>
                  <a:lnTo>
                    <a:pt x="813" y="1557"/>
                  </a:lnTo>
                  <a:lnTo>
                    <a:pt x="840" y="1548"/>
                  </a:lnTo>
                  <a:lnTo>
                    <a:pt x="868" y="1538"/>
                  </a:lnTo>
                  <a:lnTo>
                    <a:pt x="895" y="1526"/>
                  </a:lnTo>
                  <a:lnTo>
                    <a:pt x="923" y="1515"/>
                  </a:lnTo>
                  <a:lnTo>
                    <a:pt x="951" y="1502"/>
                  </a:lnTo>
                  <a:lnTo>
                    <a:pt x="977" y="1488"/>
                  </a:lnTo>
                  <a:lnTo>
                    <a:pt x="1004" y="1473"/>
                  </a:lnTo>
                  <a:lnTo>
                    <a:pt x="1030" y="1458"/>
                  </a:lnTo>
                  <a:lnTo>
                    <a:pt x="1057" y="1442"/>
                  </a:lnTo>
                  <a:lnTo>
                    <a:pt x="1082" y="1425"/>
                  </a:lnTo>
                  <a:lnTo>
                    <a:pt x="1107" y="1406"/>
                  </a:lnTo>
                  <a:lnTo>
                    <a:pt x="1132" y="1387"/>
                  </a:lnTo>
                  <a:lnTo>
                    <a:pt x="1132" y="1359"/>
                  </a:lnTo>
                  <a:lnTo>
                    <a:pt x="1132" y="1330"/>
                  </a:lnTo>
                  <a:lnTo>
                    <a:pt x="1132" y="1303"/>
                  </a:lnTo>
                  <a:lnTo>
                    <a:pt x="1132" y="1275"/>
                  </a:lnTo>
                  <a:lnTo>
                    <a:pt x="1136" y="1266"/>
                  </a:lnTo>
                  <a:lnTo>
                    <a:pt x="1141" y="1257"/>
                  </a:lnTo>
                  <a:lnTo>
                    <a:pt x="1147" y="1246"/>
                  </a:lnTo>
                  <a:lnTo>
                    <a:pt x="1151" y="1237"/>
                  </a:lnTo>
                  <a:lnTo>
                    <a:pt x="1156" y="1228"/>
                  </a:lnTo>
                  <a:lnTo>
                    <a:pt x="1162" y="1219"/>
                  </a:lnTo>
                  <a:lnTo>
                    <a:pt x="1166" y="1209"/>
                  </a:lnTo>
                  <a:lnTo>
                    <a:pt x="1171" y="1200"/>
                  </a:lnTo>
                  <a:lnTo>
                    <a:pt x="1164" y="1051"/>
                  </a:lnTo>
                  <a:lnTo>
                    <a:pt x="1155" y="904"/>
                  </a:lnTo>
                  <a:lnTo>
                    <a:pt x="1142" y="764"/>
                  </a:lnTo>
                  <a:lnTo>
                    <a:pt x="1125" y="629"/>
                  </a:lnTo>
                  <a:lnTo>
                    <a:pt x="1105" y="504"/>
                  </a:lnTo>
                  <a:lnTo>
                    <a:pt x="1081" y="388"/>
                  </a:lnTo>
                  <a:lnTo>
                    <a:pt x="1053" y="287"/>
                  </a:lnTo>
                  <a:lnTo>
                    <a:pt x="1022" y="201"/>
                  </a:lnTo>
                  <a:lnTo>
                    <a:pt x="997" y="190"/>
                  </a:lnTo>
                  <a:lnTo>
                    <a:pt x="970" y="181"/>
                  </a:lnTo>
                  <a:lnTo>
                    <a:pt x="943" y="171"/>
                  </a:lnTo>
                  <a:lnTo>
                    <a:pt x="915" y="162"/>
                  </a:lnTo>
                  <a:lnTo>
                    <a:pt x="887" y="152"/>
                  </a:lnTo>
                  <a:lnTo>
                    <a:pt x="859" y="142"/>
                  </a:lnTo>
                  <a:lnTo>
                    <a:pt x="829" y="133"/>
                  </a:lnTo>
                  <a:lnTo>
                    <a:pt x="800" y="125"/>
                  </a:lnTo>
                  <a:lnTo>
                    <a:pt x="769" y="115"/>
                  </a:lnTo>
                  <a:lnTo>
                    <a:pt x="739" y="106"/>
                  </a:lnTo>
                  <a:lnTo>
                    <a:pt x="708" y="98"/>
                  </a:lnTo>
                  <a:lnTo>
                    <a:pt x="675" y="90"/>
                  </a:lnTo>
                  <a:lnTo>
                    <a:pt x="643" y="82"/>
                  </a:lnTo>
                  <a:lnTo>
                    <a:pt x="611" y="75"/>
                  </a:lnTo>
                  <a:lnTo>
                    <a:pt x="579" y="67"/>
                  </a:lnTo>
                  <a:lnTo>
                    <a:pt x="546" y="60"/>
                  </a:lnTo>
                  <a:lnTo>
                    <a:pt x="513" y="53"/>
                  </a:lnTo>
                  <a:lnTo>
                    <a:pt x="480" y="48"/>
                  </a:lnTo>
                  <a:lnTo>
                    <a:pt x="445" y="41"/>
                  </a:lnTo>
                  <a:lnTo>
                    <a:pt x="412" y="36"/>
                  </a:lnTo>
                  <a:lnTo>
                    <a:pt x="378" y="30"/>
                  </a:lnTo>
                  <a:lnTo>
                    <a:pt x="344" y="26"/>
                  </a:lnTo>
                  <a:lnTo>
                    <a:pt x="309" y="21"/>
                  </a:lnTo>
                  <a:lnTo>
                    <a:pt x="275" y="16"/>
                  </a:lnTo>
                  <a:lnTo>
                    <a:pt x="241" y="13"/>
                  </a:lnTo>
                  <a:lnTo>
                    <a:pt x="207" y="10"/>
                  </a:lnTo>
                  <a:lnTo>
                    <a:pt x="172" y="7"/>
                  </a:lnTo>
                  <a:lnTo>
                    <a:pt x="138" y="5"/>
                  </a:lnTo>
                  <a:lnTo>
                    <a:pt x="103" y="3"/>
                  </a:lnTo>
                  <a:lnTo>
                    <a:pt x="68" y="1"/>
                  </a:lnTo>
                  <a:lnTo>
                    <a:pt x="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7c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583080" y="1014840"/>
              <a:ext cx="762480" cy="943920"/>
            </a:xfrm>
            <a:custGeom>
              <a:avLst/>
              <a:gdLst/>
              <a:ahLst/>
              <a:rect l="l" t="t" r="r" b="b"/>
              <a:pathLst>
                <a:path w="1120" h="1564">
                  <a:moveTo>
                    <a:pt x="0" y="0"/>
                  </a:moveTo>
                  <a:lnTo>
                    <a:pt x="40" y="190"/>
                  </a:lnTo>
                  <a:lnTo>
                    <a:pt x="74" y="391"/>
                  </a:lnTo>
                  <a:lnTo>
                    <a:pt x="103" y="596"/>
                  </a:lnTo>
                  <a:lnTo>
                    <a:pt x="126" y="800"/>
                  </a:lnTo>
                  <a:lnTo>
                    <a:pt x="142" y="999"/>
                  </a:lnTo>
                  <a:lnTo>
                    <a:pt x="154" y="1187"/>
                  </a:lnTo>
                  <a:lnTo>
                    <a:pt x="157" y="1358"/>
                  </a:lnTo>
                  <a:lnTo>
                    <a:pt x="156" y="1510"/>
                  </a:lnTo>
                  <a:lnTo>
                    <a:pt x="172" y="1506"/>
                  </a:lnTo>
                  <a:lnTo>
                    <a:pt x="188" y="1501"/>
                  </a:lnTo>
                  <a:lnTo>
                    <a:pt x="205" y="1497"/>
                  </a:lnTo>
                  <a:lnTo>
                    <a:pt x="221" y="1493"/>
                  </a:lnTo>
                  <a:lnTo>
                    <a:pt x="238" y="1488"/>
                  </a:lnTo>
                  <a:lnTo>
                    <a:pt x="254" y="1484"/>
                  </a:lnTo>
                  <a:lnTo>
                    <a:pt x="270" y="1479"/>
                  </a:lnTo>
                  <a:lnTo>
                    <a:pt x="288" y="1474"/>
                  </a:lnTo>
                  <a:lnTo>
                    <a:pt x="283" y="1496"/>
                  </a:lnTo>
                  <a:lnTo>
                    <a:pt x="278" y="1519"/>
                  </a:lnTo>
                  <a:lnTo>
                    <a:pt x="274" y="1541"/>
                  </a:lnTo>
                  <a:lnTo>
                    <a:pt x="269" y="1564"/>
                  </a:lnTo>
                  <a:lnTo>
                    <a:pt x="291" y="1564"/>
                  </a:lnTo>
                  <a:lnTo>
                    <a:pt x="313" y="1564"/>
                  </a:lnTo>
                  <a:lnTo>
                    <a:pt x="336" y="1563"/>
                  </a:lnTo>
                  <a:lnTo>
                    <a:pt x="359" y="1563"/>
                  </a:lnTo>
                  <a:lnTo>
                    <a:pt x="383" y="1562"/>
                  </a:lnTo>
                  <a:lnTo>
                    <a:pt x="407" y="1561"/>
                  </a:lnTo>
                  <a:lnTo>
                    <a:pt x="433" y="1560"/>
                  </a:lnTo>
                  <a:lnTo>
                    <a:pt x="458" y="1558"/>
                  </a:lnTo>
                  <a:lnTo>
                    <a:pt x="483" y="1556"/>
                  </a:lnTo>
                  <a:lnTo>
                    <a:pt x="510" y="1554"/>
                  </a:lnTo>
                  <a:lnTo>
                    <a:pt x="535" y="1552"/>
                  </a:lnTo>
                  <a:lnTo>
                    <a:pt x="562" y="1549"/>
                  </a:lnTo>
                  <a:lnTo>
                    <a:pt x="589" y="1546"/>
                  </a:lnTo>
                  <a:lnTo>
                    <a:pt x="616" y="1541"/>
                  </a:lnTo>
                  <a:lnTo>
                    <a:pt x="642" y="1537"/>
                  </a:lnTo>
                  <a:lnTo>
                    <a:pt x="670" y="1532"/>
                  </a:lnTo>
                  <a:lnTo>
                    <a:pt x="696" y="1526"/>
                  </a:lnTo>
                  <a:lnTo>
                    <a:pt x="724" y="1520"/>
                  </a:lnTo>
                  <a:lnTo>
                    <a:pt x="751" y="1514"/>
                  </a:lnTo>
                  <a:lnTo>
                    <a:pt x="778" y="1506"/>
                  </a:lnTo>
                  <a:lnTo>
                    <a:pt x="805" y="1497"/>
                  </a:lnTo>
                  <a:lnTo>
                    <a:pt x="832" y="1488"/>
                  </a:lnTo>
                  <a:lnTo>
                    <a:pt x="859" y="1479"/>
                  </a:lnTo>
                  <a:lnTo>
                    <a:pt x="885" y="1468"/>
                  </a:lnTo>
                  <a:lnTo>
                    <a:pt x="912" y="1456"/>
                  </a:lnTo>
                  <a:lnTo>
                    <a:pt x="937" y="1444"/>
                  </a:lnTo>
                  <a:lnTo>
                    <a:pt x="964" y="1431"/>
                  </a:lnTo>
                  <a:lnTo>
                    <a:pt x="989" y="1417"/>
                  </a:lnTo>
                  <a:lnTo>
                    <a:pt x="1013" y="1402"/>
                  </a:lnTo>
                  <a:lnTo>
                    <a:pt x="1039" y="1386"/>
                  </a:lnTo>
                  <a:lnTo>
                    <a:pt x="1063" y="1368"/>
                  </a:lnTo>
                  <a:lnTo>
                    <a:pt x="1086" y="1350"/>
                  </a:lnTo>
                  <a:lnTo>
                    <a:pt x="1086" y="1320"/>
                  </a:lnTo>
                  <a:lnTo>
                    <a:pt x="1086" y="1291"/>
                  </a:lnTo>
                  <a:lnTo>
                    <a:pt x="1086" y="1261"/>
                  </a:lnTo>
                  <a:lnTo>
                    <a:pt x="1086" y="1231"/>
                  </a:lnTo>
                  <a:lnTo>
                    <a:pt x="1090" y="1221"/>
                  </a:lnTo>
                  <a:lnTo>
                    <a:pt x="1095" y="1212"/>
                  </a:lnTo>
                  <a:lnTo>
                    <a:pt x="1098" y="1201"/>
                  </a:lnTo>
                  <a:lnTo>
                    <a:pt x="1103" y="1191"/>
                  </a:lnTo>
                  <a:lnTo>
                    <a:pt x="1108" y="1181"/>
                  </a:lnTo>
                  <a:lnTo>
                    <a:pt x="1112" y="1170"/>
                  </a:lnTo>
                  <a:lnTo>
                    <a:pt x="1116" y="1160"/>
                  </a:lnTo>
                  <a:lnTo>
                    <a:pt x="1120" y="1150"/>
                  </a:lnTo>
                  <a:lnTo>
                    <a:pt x="1113" y="1007"/>
                  </a:lnTo>
                  <a:lnTo>
                    <a:pt x="1104" y="868"/>
                  </a:lnTo>
                  <a:lnTo>
                    <a:pt x="1092" y="732"/>
                  </a:lnTo>
                  <a:lnTo>
                    <a:pt x="1075" y="603"/>
                  </a:lnTo>
                  <a:lnTo>
                    <a:pt x="1056" y="483"/>
                  </a:lnTo>
                  <a:lnTo>
                    <a:pt x="1033" y="374"/>
                  </a:lnTo>
                  <a:lnTo>
                    <a:pt x="1005" y="277"/>
                  </a:lnTo>
                  <a:lnTo>
                    <a:pt x="975" y="194"/>
                  </a:lnTo>
                  <a:lnTo>
                    <a:pt x="951" y="185"/>
                  </a:lnTo>
                  <a:lnTo>
                    <a:pt x="926" y="174"/>
                  </a:lnTo>
                  <a:lnTo>
                    <a:pt x="900" y="165"/>
                  </a:lnTo>
                  <a:lnTo>
                    <a:pt x="874" y="156"/>
                  </a:lnTo>
                  <a:lnTo>
                    <a:pt x="847" y="147"/>
                  </a:lnTo>
                  <a:lnTo>
                    <a:pt x="820" y="137"/>
                  </a:lnTo>
                  <a:lnTo>
                    <a:pt x="792" y="129"/>
                  </a:lnTo>
                  <a:lnTo>
                    <a:pt x="763" y="120"/>
                  </a:lnTo>
                  <a:lnTo>
                    <a:pt x="734" y="112"/>
                  </a:lnTo>
                  <a:lnTo>
                    <a:pt x="705" y="104"/>
                  </a:lnTo>
                  <a:lnTo>
                    <a:pt x="676" y="96"/>
                  </a:lnTo>
                  <a:lnTo>
                    <a:pt x="645" y="88"/>
                  </a:lnTo>
                  <a:lnTo>
                    <a:pt x="615" y="80"/>
                  </a:lnTo>
                  <a:lnTo>
                    <a:pt x="584" y="73"/>
                  </a:lnTo>
                  <a:lnTo>
                    <a:pt x="552" y="66"/>
                  </a:lnTo>
                  <a:lnTo>
                    <a:pt x="521" y="59"/>
                  </a:lnTo>
                  <a:lnTo>
                    <a:pt x="489" y="52"/>
                  </a:lnTo>
                  <a:lnTo>
                    <a:pt x="457" y="46"/>
                  </a:lnTo>
                  <a:lnTo>
                    <a:pt x="426" y="40"/>
                  </a:lnTo>
                  <a:lnTo>
                    <a:pt x="392" y="35"/>
                  </a:lnTo>
                  <a:lnTo>
                    <a:pt x="360" y="29"/>
                  </a:lnTo>
                  <a:lnTo>
                    <a:pt x="328" y="25"/>
                  </a:lnTo>
                  <a:lnTo>
                    <a:pt x="294" y="20"/>
                  </a:lnTo>
                  <a:lnTo>
                    <a:pt x="262" y="17"/>
                  </a:lnTo>
                  <a:lnTo>
                    <a:pt x="229" y="13"/>
                  </a:lnTo>
                  <a:lnTo>
                    <a:pt x="197" y="10"/>
                  </a:lnTo>
                  <a:lnTo>
                    <a:pt x="163" y="7"/>
                  </a:lnTo>
                  <a:lnTo>
                    <a:pt x="131" y="5"/>
                  </a:lnTo>
                  <a:lnTo>
                    <a:pt x="97" y="3"/>
                  </a:lnTo>
                  <a:lnTo>
                    <a:pt x="65" y="2"/>
                  </a:lnTo>
                  <a:lnTo>
                    <a:pt x="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8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3584520" y="1021680"/>
              <a:ext cx="731880" cy="899280"/>
            </a:xfrm>
            <a:custGeom>
              <a:avLst/>
              <a:gdLst/>
              <a:ahLst/>
              <a:rect l="l" t="t" r="r" b="b"/>
              <a:pathLst>
                <a:path w="1074" h="1493">
                  <a:moveTo>
                    <a:pt x="0" y="0"/>
                  </a:moveTo>
                  <a:lnTo>
                    <a:pt x="39" y="182"/>
                  </a:lnTo>
                  <a:lnTo>
                    <a:pt x="73" y="374"/>
                  </a:lnTo>
                  <a:lnTo>
                    <a:pt x="101" y="568"/>
                  </a:lnTo>
                  <a:lnTo>
                    <a:pt x="121" y="764"/>
                  </a:lnTo>
                  <a:lnTo>
                    <a:pt x="136" y="954"/>
                  </a:lnTo>
                  <a:lnTo>
                    <a:pt x="145" y="1134"/>
                  </a:lnTo>
                  <a:lnTo>
                    <a:pt x="149" y="1297"/>
                  </a:lnTo>
                  <a:lnTo>
                    <a:pt x="147" y="1442"/>
                  </a:lnTo>
                  <a:lnTo>
                    <a:pt x="163" y="1438"/>
                  </a:lnTo>
                  <a:lnTo>
                    <a:pt x="179" y="1433"/>
                  </a:lnTo>
                  <a:lnTo>
                    <a:pt x="195" y="1430"/>
                  </a:lnTo>
                  <a:lnTo>
                    <a:pt x="210" y="1425"/>
                  </a:lnTo>
                  <a:lnTo>
                    <a:pt x="226" y="1420"/>
                  </a:lnTo>
                  <a:lnTo>
                    <a:pt x="242" y="1416"/>
                  </a:lnTo>
                  <a:lnTo>
                    <a:pt x="257" y="1412"/>
                  </a:lnTo>
                  <a:lnTo>
                    <a:pt x="273" y="1408"/>
                  </a:lnTo>
                  <a:lnTo>
                    <a:pt x="269" y="1430"/>
                  </a:lnTo>
                  <a:lnTo>
                    <a:pt x="265" y="1450"/>
                  </a:lnTo>
                  <a:lnTo>
                    <a:pt x="261" y="1472"/>
                  </a:lnTo>
                  <a:lnTo>
                    <a:pt x="257" y="1493"/>
                  </a:lnTo>
                  <a:lnTo>
                    <a:pt x="278" y="1493"/>
                  </a:lnTo>
                  <a:lnTo>
                    <a:pt x="300" y="1493"/>
                  </a:lnTo>
                  <a:lnTo>
                    <a:pt x="322" y="1493"/>
                  </a:lnTo>
                  <a:lnTo>
                    <a:pt x="344" y="1493"/>
                  </a:lnTo>
                  <a:lnTo>
                    <a:pt x="367" y="1493"/>
                  </a:lnTo>
                  <a:lnTo>
                    <a:pt x="391" y="1492"/>
                  </a:lnTo>
                  <a:lnTo>
                    <a:pt x="414" y="1492"/>
                  </a:lnTo>
                  <a:lnTo>
                    <a:pt x="438" y="1492"/>
                  </a:lnTo>
                  <a:lnTo>
                    <a:pt x="463" y="1491"/>
                  </a:lnTo>
                  <a:lnTo>
                    <a:pt x="489" y="1489"/>
                  </a:lnTo>
                  <a:lnTo>
                    <a:pt x="514" y="1488"/>
                  </a:lnTo>
                  <a:lnTo>
                    <a:pt x="539" y="1486"/>
                  </a:lnTo>
                  <a:lnTo>
                    <a:pt x="565" y="1484"/>
                  </a:lnTo>
                  <a:lnTo>
                    <a:pt x="591" y="1481"/>
                  </a:lnTo>
                  <a:lnTo>
                    <a:pt x="617" y="1478"/>
                  </a:lnTo>
                  <a:lnTo>
                    <a:pt x="643" y="1474"/>
                  </a:lnTo>
                  <a:lnTo>
                    <a:pt x="670" y="1470"/>
                  </a:lnTo>
                  <a:lnTo>
                    <a:pt x="696" y="1465"/>
                  </a:lnTo>
                  <a:lnTo>
                    <a:pt x="721" y="1460"/>
                  </a:lnTo>
                  <a:lnTo>
                    <a:pt x="748" y="1454"/>
                  </a:lnTo>
                  <a:lnTo>
                    <a:pt x="774" y="1447"/>
                  </a:lnTo>
                  <a:lnTo>
                    <a:pt x="800" y="1440"/>
                  </a:lnTo>
                  <a:lnTo>
                    <a:pt x="826" y="1431"/>
                  </a:lnTo>
                  <a:lnTo>
                    <a:pt x="852" y="1422"/>
                  </a:lnTo>
                  <a:lnTo>
                    <a:pt x="877" y="1412"/>
                  </a:lnTo>
                  <a:lnTo>
                    <a:pt x="902" y="1401"/>
                  </a:lnTo>
                  <a:lnTo>
                    <a:pt x="926" y="1389"/>
                  </a:lnTo>
                  <a:lnTo>
                    <a:pt x="951" y="1375"/>
                  </a:lnTo>
                  <a:lnTo>
                    <a:pt x="975" y="1362"/>
                  </a:lnTo>
                  <a:lnTo>
                    <a:pt x="998" y="1347"/>
                  </a:lnTo>
                  <a:lnTo>
                    <a:pt x="1021" y="1331"/>
                  </a:lnTo>
                  <a:lnTo>
                    <a:pt x="1044" y="1313"/>
                  </a:lnTo>
                  <a:lnTo>
                    <a:pt x="1044" y="1282"/>
                  </a:lnTo>
                  <a:lnTo>
                    <a:pt x="1044" y="1251"/>
                  </a:lnTo>
                  <a:lnTo>
                    <a:pt x="1044" y="1220"/>
                  </a:lnTo>
                  <a:lnTo>
                    <a:pt x="1044" y="1189"/>
                  </a:lnTo>
                  <a:lnTo>
                    <a:pt x="1051" y="1167"/>
                  </a:lnTo>
                  <a:lnTo>
                    <a:pt x="1059" y="1145"/>
                  </a:lnTo>
                  <a:lnTo>
                    <a:pt x="1066" y="1122"/>
                  </a:lnTo>
                  <a:lnTo>
                    <a:pt x="1074" y="1100"/>
                  </a:lnTo>
                  <a:lnTo>
                    <a:pt x="1067" y="963"/>
                  </a:lnTo>
                  <a:lnTo>
                    <a:pt x="1058" y="830"/>
                  </a:lnTo>
                  <a:lnTo>
                    <a:pt x="1045" y="701"/>
                  </a:lnTo>
                  <a:lnTo>
                    <a:pt x="1029" y="577"/>
                  </a:lnTo>
                  <a:lnTo>
                    <a:pt x="1009" y="463"/>
                  </a:lnTo>
                  <a:lnTo>
                    <a:pt x="986" y="359"/>
                  </a:lnTo>
                  <a:lnTo>
                    <a:pt x="961" y="266"/>
                  </a:lnTo>
                  <a:lnTo>
                    <a:pt x="931" y="188"/>
                  </a:lnTo>
                  <a:lnTo>
                    <a:pt x="908" y="179"/>
                  </a:lnTo>
                  <a:lnTo>
                    <a:pt x="884" y="170"/>
                  </a:lnTo>
                  <a:lnTo>
                    <a:pt x="860" y="161"/>
                  </a:lnTo>
                  <a:lnTo>
                    <a:pt x="835" y="151"/>
                  </a:lnTo>
                  <a:lnTo>
                    <a:pt x="810" y="142"/>
                  </a:lnTo>
                  <a:lnTo>
                    <a:pt x="784" y="134"/>
                  </a:lnTo>
                  <a:lnTo>
                    <a:pt x="757" y="125"/>
                  </a:lnTo>
                  <a:lnTo>
                    <a:pt x="731" y="117"/>
                  </a:lnTo>
                  <a:lnTo>
                    <a:pt x="703" y="109"/>
                  </a:lnTo>
                  <a:lnTo>
                    <a:pt x="675" y="101"/>
                  </a:lnTo>
                  <a:lnTo>
                    <a:pt x="647" y="93"/>
                  </a:lnTo>
                  <a:lnTo>
                    <a:pt x="618" y="85"/>
                  </a:lnTo>
                  <a:lnTo>
                    <a:pt x="589" y="78"/>
                  </a:lnTo>
                  <a:lnTo>
                    <a:pt x="559" y="71"/>
                  </a:lnTo>
                  <a:lnTo>
                    <a:pt x="530" y="64"/>
                  </a:lnTo>
                  <a:lnTo>
                    <a:pt x="500" y="57"/>
                  </a:lnTo>
                  <a:lnTo>
                    <a:pt x="469" y="50"/>
                  </a:lnTo>
                  <a:lnTo>
                    <a:pt x="439" y="44"/>
                  </a:lnTo>
                  <a:lnTo>
                    <a:pt x="408" y="38"/>
                  </a:lnTo>
                  <a:lnTo>
                    <a:pt x="377" y="34"/>
                  </a:lnTo>
                  <a:lnTo>
                    <a:pt x="346" y="28"/>
                  </a:lnTo>
                  <a:lnTo>
                    <a:pt x="315" y="23"/>
                  </a:lnTo>
                  <a:lnTo>
                    <a:pt x="284" y="20"/>
                  </a:lnTo>
                  <a:lnTo>
                    <a:pt x="253" y="15"/>
                  </a:lnTo>
                  <a:lnTo>
                    <a:pt x="220" y="12"/>
                  </a:lnTo>
                  <a:lnTo>
                    <a:pt x="189" y="10"/>
                  </a:lnTo>
                  <a:lnTo>
                    <a:pt x="157" y="6"/>
                  </a:lnTo>
                  <a:lnTo>
                    <a:pt x="126" y="4"/>
                  </a:lnTo>
                  <a:lnTo>
                    <a:pt x="95" y="3"/>
                  </a:lnTo>
                  <a:lnTo>
                    <a:pt x="63" y="2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e89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585960" y="1026360"/>
              <a:ext cx="699480" cy="856800"/>
            </a:xfrm>
            <a:custGeom>
              <a:avLst/>
              <a:gdLst/>
              <a:ahLst/>
              <a:rect l="l" t="t" r="r" b="b"/>
              <a:pathLst>
                <a:path w="1024" h="1424">
                  <a:moveTo>
                    <a:pt x="0" y="0"/>
                  </a:moveTo>
                  <a:lnTo>
                    <a:pt x="38" y="172"/>
                  </a:lnTo>
                  <a:lnTo>
                    <a:pt x="70" y="354"/>
                  </a:lnTo>
                  <a:lnTo>
                    <a:pt x="95" y="541"/>
                  </a:lnTo>
                  <a:lnTo>
                    <a:pt x="114" y="726"/>
                  </a:lnTo>
                  <a:lnTo>
                    <a:pt x="128" y="907"/>
                  </a:lnTo>
                  <a:lnTo>
                    <a:pt x="136" y="1079"/>
                  </a:lnTo>
                  <a:lnTo>
                    <a:pt x="139" y="1235"/>
                  </a:lnTo>
                  <a:lnTo>
                    <a:pt x="136" y="1373"/>
                  </a:lnTo>
                  <a:lnTo>
                    <a:pt x="151" y="1369"/>
                  </a:lnTo>
                  <a:lnTo>
                    <a:pt x="166" y="1365"/>
                  </a:lnTo>
                  <a:lnTo>
                    <a:pt x="181" y="1361"/>
                  </a:lnTo>
                  <a:lnTo>
                    <a:pt x="197" y="1356"/>
                  </a:lnTo>
                  <a:lnTo>
                    <a:pt x="212" y="1353"/>
                  </a:lnTo>
                  <a:lnTo>
                    <a:pt x="227" y="1348"/>
                  </a:lnTo>
                  <a:lnTo>
                    <a:pt x="242" y="1345"/>
                  </a:lnTo>
                  <a:lnTo>
                    <a:pt x="257" y="1340"/>
                  </a:lnTo>
                  <a:lnTo>
                    <a:pt x="253" y="1361"/>
                  </a:lnTo>
                  <a:lnTo>
                    <a:pt x="249" y="1380"/>
                  </a:lnTo>
                  <a:lnTo>
                    <a:pt x="245" y="1401"/>
                  </a:lnTo>
                  <a:lnTo>
                    <a:pt x="241" y="1422"/>
                  </a:lnTo>
                  <a:lnTo>
                    <a:pt x="261" y="1422"/>
                  </a:lnTo>
                  <a:lnTo>
                    <a:pt x="281" y="1422"/>
                  </a:lnTo>
                  <a:lnTo>
                    <a:pt x="302" y="1422"/>
                  </a:lnTo>
                  <a:lnTo>
                    <a:pt x="324" y="1423"/>
                  </a:lnTo>
                  <a:lnTo>
                    <a:pt x="346" y="1423"/>
                  </a:lnTo>
                  <a:lnTo>
                    <a:pt x="369" y="1423"/>
                  </a:lnTo>
                  <a:lnTo>
                    <a:pt x="392" y="1424"/>
                  </a:lnTo>
                  <a:lnTo>
                    <a:pt x="415" y="1424"/>
                  </a:lnTo>
                  <a:lnTo>
                    <a:pt x="439" y="1424"/>
                  </a:lnTo>
                  <a:lnTo>
                    <a:pt x="463" y="1424"/>
                  </a:lnTo>
                  <a:lnTo>
                    <a:pt x="488" y="1424"/>
                  </a:lnTo>
                  <a:lnTo>
                    <a:pt x="513" y="1423"/>
                  </a:lnTo>
                  <a:lnTo>
                    <a:pt x="537" y="1422"/>
                  </a:lnTo>
                  <a:lnTo>
                    <a:pt x="563" y="1421"/>
                  </a:lnTo>
                  <a:lnTo>
                    <a:pt x="588" y="1418"/>
                  </a:lnTo>
                  <a:lnTo>
                    <a:pt x="613" y="1416"/>
                  </a:lnTo>
                  <a:lnTo>
                    <a:pt x="639" y="1414"/>
                  </a:lnTo>
                  <a:lnTo>
                    <a:pt x="664" y="1410"/>
                  </a:lnTo>
                  <a:lnTo>
                    <a:pt x="689" y="1406"/>
                  </a:lnTo>
                  <a:lnTo>
                    <a:pt x="715" y="1401"/>
                  </a:lnTo>
                  <a:lnTo>
                    <a:pt x="740" y="1396"/>
                  </a:lnTo>
                  <a:lnTo>
                    <a:pt x="765" y="1389"/>
                  </a:lnTo>
                  <a:lnTo>
                    <a:pt x="789" y="1383"/>
                  </a:lnTo>
                  <a:lnTo>
                    <a:pt x="815" y="1375"/>
                  </a:lnTo>
                  <a:lnTo>
                    <a:pt x="839" y="1366"/>
                  </a:lnTo>
                  <a:lnTo>
                    <a:pt x="863" y="1356"/>
                  </a:lnTo>
                  <a:lnTo>
                    <a:pt x="887" y="1346"/>
                  </a:lnTo>
                  <a:lnTo>
                    <a:pt x="910" y="1334"/>
                  </a:lnTo>
                  <a:lnTo>
                    <a:pt x="933" y="1322"/>
                  </a:lnTo>
                  <a:lnTo>
                    <a:pt x="955" y="1307"/>
                  </a:lnTo>
                  <a:lnTo>
                    <a:pt x="977" y="1292"/>
                  </a:lnTo>
                  <a:lnTo>
                    <a:pt x="999" y="1275"/>
                  </a:lnTo>
                  <a:lnTo>
                    <a:pt x="999" y="1243"/>
                  </a:lnTo>
                  <a:lnTo>
                    <a:pt x="999" y="1210"/>
                  </a:lnTo>
                  <a:lnTo>
                    <a:pt x="999" y="1178"/>
                  </a:lnTo>
                  <a:lnTo>
                    <a:pt x="998" y="1145"/>
                  </a:lnTo>
                  <a:lnTo>
                    <a:pt x="1005" y="1121"/>
                  </a:lnTo>
                  <a:lnTo>
                    <a:pt x="1012" y="1097"/>
                  </a:lnTo>
                  <a:lnTo>
                    <a:pt x="1019" y="1073"/>
                  </a:lnTo>
                  <a:lnTo>
                    <a:pt x="1024" y="1050"/>
                  </a:lnTo>
                  <a:lnTo>
                    <a:pt x="1018" y="920"/>
                  </a:lnTo>
                  <a:lnTo>
                    <a:pt x="1008" y="792"/>
                  </a:lnTo>
                  <a:lnTo>
                    <a:pt x="996" y="669"/>
                  </a:lnTo>
                  <a:lnTo>
                    <a:pt x="981" y="551"/>
                  </a:lnTo>
                  <a:lnTo>
                    <a:pt x="961" y="442"/>
                  </a:lnTo>
                  <a:lnTo>
                    <a:pt x="939" y="343"/>
                  </a:lnTo>
                  <a:lnTo>
                    <a:pt x="914" y="255"/>
                  </a:lnTo>
                  <a:lnTo>
                    <a:pt x="885" y="180"/>
                  </a:lnTo>
                  <a:lnTo>
                    <a:pt x="863" y="171"/>
                  </a:lnTo>
                  <a:lnTo>
                    <a:pt x="841" y="163"/>
                  </a:lnTo>
                  <a:lnTo>
                    <a:pt x="818" y="154"/>
                  </a:lnTo>
                  <a:lnTo>
                    <a:pt x="794" y="145"/>
                  </a:lnTo>
                  <a:lnTo>
                    <a:pt x="770" y="137"/>
                  </a:lnTo>
                  <a:lnTo>
                    <a:pt x="746" y="128"/>
                  </a:lnTo>
                  <a:lnTo>
                    <a:pt x="720" y="120"/>
                  </a:lnTo>
                  <a:lnTo>
                    <a:pt x="695" y="111"/>
                  </a:lnTo>
                  <a:lnTo>
                    <a:pt x="668" y="104"/>
                  </a:lnTo>
                  <a:lnTo>
                    <a:pt x="642" y="96"/>
                  </a:lnTo>
                  <a:lnTo>
                    <a:pt x="616" y="88"/>
                  </a:lnTo>
                  <a:lnTo>
                    <a:pt x="588" y="81"/>
                  </a:lnTo>
                  <a:lnTo>
                    <a:pt x="560" y="74"/>
                  </a:lnTo>
                  <a:lnTo>
                    <a:pt x="533" y="67"/>
                  </a:lnTo>
                  <a:lnTo>
                    <a:pt x="504" y="61"/>
                  </a:lnTo>
                  <a:lnTo>
                    <a:pt x="476" y="54"/>
                  </a:lnTo>
                  <a:lnTo>
                    <a:pt x="446" y="48"/>
                  </a:lnTo>
                  <a:lnTo>
                    <a:pt x="417" y="42"/>
                  </a:lnTo>
                  <a:lnTo>
                    <a:pt x="389" y="36"/>
                  </a:lnTo>
                  <a:lnTo>
                    <a:pt x="359" y="32"/>
                  </a:lnTo>
                  <a:lnTo>
                    <a:pt x="329" y="27"/>
                  </a:lnTo>
                  <a:lnTo>
                    <a:pt x="300" y="23"/>
                  </a:lnTo>
                  <a:lnTo>
                    <a:pt x="270" y="18"/>
                  </a:lnTo>
                  <a:lnTo>
                    <a:pt x="240" y="14"/>
                  </a:lnTo>
                  <a:lnTo>
                    <a:pt x="210" y="11"/>
                  </a:lnTo>
                  <a:lnTo>
                    <a:pt x="180" y="8"/>
                  </a:lnTo>
                  <a:lnTo>
                    <a:pt x="150" y="5"/>
                  </a:lnTo>
                  <a:lnTo>
                    <a:pt x="120" y="3"/>
                  </a:lnTo>
                  <a:lnTo>
                    <a:pt x="90" y="2"/>
                  </a:lnTo>
                  <a:lnTo>
                    <a:pt x="60" y="1"/>
                  </a:lnTo>
                  <a:lnTo>
                    <a:pt x="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c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3587760" y="1028160"/>
              <a:ext cx="665640" cy="822600"/>
            </a:xfrm>
            <a:custGeom>
              <a:avLst/>
              <a:gdLst/>
              <a:ahLst/>
              <a:rect l="l" t="t" r="r" b="b"/>
              <a:pathLst>
                <a:path w="976" h="1362">
                  <a:moveTo>
                    <a:pt x="0" y="0"/>
                  </a:moveTo>
                  <a:lnTo>
                    <a:pt x="36" y="165"/>
                  </a:lnTo>
                  <a:lnTo>
                    <a:pt x="65" y="338"/>
                  </a:lnTo>
                  <a:lnTo>
                    <a:pt x="89" y="515"/>
                  </a:lnTo>
                  <a:lnTo>
                    <a:pt x="106" y="691"/>
                  </a:lnTo>
                  <a:lnTo>
                    <a:pt x="119" y="864"/>
                  </a:lnTo>
                  <a:lnTo>
                    <a:pt x="126" y="1026"/>
                  </a:lnTo>
                  <a:lnTo>
                    <a:pt x="128" y="1176"/>
                  </a:lnTo>
                  <a:lnTo>
                    <a:pt x="126" y="1306"/>
                  </a:lnTo>
                  <a:lnTo>
                    <a:pt x="141" y="1303"/>
                  </a:lnTo>
                  <a:lnTo>
                    <a:pt x="155" y="1298"/>
                  </a:lnTo>
                  <a:lnTo>
                    <a:pt x="170" y="1295"/>
                  </a:lnTo>
                  <a:lnTo>
                    <a:pt x="184" y="1291"/>
                  </a:lnTo>
                  <a:lnTo>
                    <a:pt x="197" y="1287"/>
                  </a:lnTo>
                  <a:lnTo>
                    <a:pt x="211" y="1283"/>
                  </a:lnTo>
                  <a:lnTo>
                    <a:pt x="226" y="1280"/>
                  </a:lnTo>
                  <a:lnTo>
                    <a:pt x="240" y="1276"/>
                  </a:lnTo>
                  <a:lnTo>
                    <a:pt x="237" y="1295"/>
                  </a:lnTo>
                  <a:lnTo>
                    <a:pt x="233" y="1314"/>
                  </a:lnTo>
                  <a:lnTo>
                    <a:pt x="229" y="1333"/>
                  </a:lnTo>
                  <a:lnTo>
                    <a:pt x="225" y="1352"/>
                  </a:lnTo>
                  <a:lnTo>
                    <a:pt x="263" y="1352"/>
                  </a:lnTo>
                  <a:lnTo>
                    <a:pt x="305" y="1355"/>
                  </a:lnTo>
                  <a:lnTo>
                    <a:pt x="347" y="1356"/>
                  </a:lnTo>
                  <a:lnTo>
                    <a:pt x="392" y="1358"/>
                  </a:lnTo>
                  <a:lnTo>
                    <a:pt x="438" y="1360"/>
                  </a:lnTo>
                  <a:lnTo>
                    <a:pt x="487" y="1362"/>
                  </a:lnTo>
                  <a:lnTo>
                    <a:pt x="535" y="1362"/>
                  </a:lnTo>
                  <a:lnTo>
                    <a:pt x="583" y="1360"/>
                  </a:lnTo>
                  <a:lnTo>
                    <a:pt x="633" y="1357"/>
                  </a:lnTo>
                  <a:lnTo>
                    <a:pt x="682" y="1351"/>
                  </a:lnTo>
                  <a:lnTo>
                    <a:pt x="731" y="1342"/>
                  </a:lnTo>
                  <a:lnTo>
                    <a:pt x="778" y="1329"/>
                  </a:lnTo>
                  <a:lnTo>
                    <a:pt x="825" y="1314"/>
                  </a:lnTo>
                  <a:lnTo>
                    <a:pt x="870" y="1294"/>
                  </a:lnTo>
                  <a:lnTo>
                    <a:pt x="913" y="1269"/>
                  </a:lnTo>
                  <a:lnTo>
                    <a:pt x="954" y="1240"/>
                  </a:lnTo>
                  <a:lnTo>
                    <a:pt x="954" y="1206"/>
                  </a:lnTo>
                  <a:lnTo>
                    <a:pt x="954" y="1172"/>
                  </a:lnTo>
                  <a:lnTo>
                    <a:pt x="953" y="1138"/>
                  </a:lnTo>
                  <a:lnTo>
                    <a:pt x="953" y="1105"/>
                  </a:lnTo>
                  <a:lnTo>
                    <a:pt x="959" y="1078"/>
                  </a:lnTo>
                  <a:lnTo>
                    <a:pt x="965" y="1053"/>
                  </a:lnTo>
                  <a:lnTo>
                    <a:pt x="970" y="1026"/>
                  </a:lnTo>
                  <a:lnTo>
                    <a:pt x="976" y="1001"/>
                  </a:lnTo>
                  <a:lnTo>
                    <a:pt x="969" y="877"/>
                  </a:lnTo>
                  <a:lnTo>
                    <a:pt x="959" y="756"/>
                  </a:lnTo>
                  <a:lnTo>
                    <a:pt x="946" y="638"/>
                  </a:lnTo>
                  <a:lnTo>
                    <a:pt x="931" y="528"/>
                  </a:lnTo>
                  <a:lnTo>
                    <a:pt x="913" y="424"/>
                  </a:lnTo>
                  <a:lnTo>
                    <a:pt x="891" y="330"/>
                  </a:lnTo>
                  <a:lnTo>
                    <a:pt x="867" y="246"/>
                  </a:lnTo>
                  <a:lnTo>
                    <a:pt x="839" y="175"/>
                  </a:lnTo>
                  <a:lnTo>
                    <a:pt x="818" y="167"/>
                  </a:lnTo>
                  <a:lnTo>
                    <a:pt x="798" y="158"/>
                  </a:lnTo>
                  <a:lnTo>
                    <a:pt x="776" y="150"/>
                  </a:lnTo>
                  <a:lnTo>
                    <a:pt x="754" y="142"/>
                  </a:lnTo>
                  <a:lnTo>
                    <a:pt x="732" y="134"/>
                  </a:lnTo>
                  <a:lnTo>
                    <a:pt x="708" y="126"/>
                  </a:lnTo>
                  <a:lnTo>
                    <a:pt x="685" y="118"/>
                  </a:lnTo>
                  <a:lnTo>
                    <a:pt x="660" y="110"/>
                  </a:lnTo>
                  <a:lnTo>
                    <a:pt x="635" y="102"/>
                  </a:lnTo>
                  <a:lnTo>
                    <a:pt x="611" y="95"/>
                  </a:lnTo>
                  <a:lnTo>
                    <a:pt x="584" y="87"/>
                  </a:lnTo>
                  <a:lnTo>
                    <a:pt x="559" y="80"/>
                  </a:lnTo>
                  <a:lnTo>
                    <a:pt x="533" y="73"/>
                  </a:lnTo>
                  <a:lnTo>
                    <a:pt x="506" y="66"/>
                  </a:lnTo>
                  <a:lnTo>
                    <a:pt x="480" y="60"/>
                  </a:lnTo>
                  <a:lnTo>
                    <a:pt x="452" y="53"/>
                  </a:lnTo>
                  <a:lnTo>
                    <a:pt x="424" y="48"/>
                  </a:lnTo>
                  <a:lnTo>
                    <a:pt x="397" y="42"/>
                  </a:lnTo>
                  <a:lnTo>
                    <a:pt x="369" y="37"/>
                  </a:lnTo>
                  <a:lnTo>
                    <a:pt x="341" y="32"/>
                  </a:lnTo>
                  <a:lnTo>
                    <a:pt x="313" y="27"/>
                  </a:lnTo>
                  <a:lnTo>
                    <a:pt x="285" y="22"/>
                  </a:lnTo>
                  <a:lnTo>
                    <a:pt x="256" y="19"/>
                  </a:lnTo>
                  <a:lnTo>
                    <a:pt x="227" y="15"/>
                  </a:lnTo>
                  <a:lnTo>
                    <a:pt x="200" y="12"/>
                  </a:lnTo>
                  <a:lnTo>
                    <a:pt x="171" y="8"/>
                  </a:lnTo>
                  <a:lnTo>
                    <a:pt x="142" y="6"/>
                  </a:lnTo>
                  <a:lnTo>
                    <a:pt x="113" y="4"/>
                  </a:lnTo>
                  <a:lnTo>
                    <a:pt x="86" y="3"/>
                  </a:lnTo>
                  <a:lnTo>
                    <a:pt x="57" y="2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9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589200" y="1034640"/>
              <a:ext cx="631800" cy="786240"/>
            </a:xfrm>
            <a:custGeom>
              <a:avLst/>
              <a:gdLst/>
              <a:ahLst/>
              <a:rect l="l" t="t" r="r" b="b"/>
              <a:pathLst>
                <a:path w="926" h="1303">
                  <a:moveTo>
                    <a:pt x="0" y="0"/>
                  </a:moveTo>
                  <a:lnTo>
                    <a:pt x="33" y="156"/>
                  </a:lnTo>
                  <a:lnTo>
                    <a:pt x="59" y="319"/>
                  </a:lnTo>
                  <a:lnTo>
                    <a:pt x="81" y="488"/>
                  </a:lnTo>
                  <a:lnTo>
                    <a:pt x="97" y="656"/>
                  </a:lnTo>
                  <a:lnTo>
                    <a:pt x="109" y="819"/>
                  </a:lnTo>
                  <a:lnTo>
                    <a:pt x="115" y="974"/>
                  </a:lnTo>
                  <a:lnTo>
                    <a:pt x="117" y="1114"/>
                  </a:lnTo>
                  <a:lnTo>
                    <a:pt x="115" y="1238"/>
                  </a:lnTo>
                  <a:lnTo>
                    <a:pt x="129" y="1235"/>
                  </a:lnTo>
                  <a:lnTo>
                    <a:pt x="141" y="1230"/>
                  </a:lnTo>
                  <a:lnTo>
                    <a:pt x="155" y="1227"/>
                  </a:lnTo>
                  <a:lnTo>
                    <a:pt x="169" y="1223"/>
                  </a:lnTo>
                  <a:lnTo>
                    <a:pt x="183" y="1220"/>
                  </a:lnTo>
                  <a:lnTo>
                    <a:pt x="197" y="1217"/>
                  </a:lnTo>
                  <a:lnTo>
                    <a:pt x="209" y="1213"/>
                  </a:lnTo>
                  <a:lnTo>
                    <a:pt x="223" y="1210"/>
                  </a:lnTo>
                  <a:lnTo>
                    <a:pt x="220" y="1228"/>
                  </a:lnTo>
                  <a:lnTo>
                    <a:pt x="216" y="1245"/>
                  </a:lnTo>
                  <a:lnTo>
                    <a:pt x="213" y="1264"/>
                  </a:lnTo>
                  <a:lnTo>
                    <a:pt x="208" y="1282"/>
                  </a:lnTo>
                  <a:lnTo>
                    <a:pt x="245" y="1283"/>
                  </a:lnTo>
                  <a:lnTo>
                    <a:pt x="283" y="1286"/>
                  </a:lnTo>
                  <a:lnTo>
                    <a:pt x="324" y="1288"/>
                  </a:lnTo>
                  <a:lnTo>
                    <a:pt x="368" y="1293"/>
                  </a:lnTo>
                  <a:lnTo>
                    <a:pt x="412" y="1296"/>
                  </a:lnTo>
                  <a:lnTo>
                    <a:pt x="458" y="1299"/>
                  </a:lnTo>
                  <a:lnTo>
                    <a:pt x="505" y="1302"/>
                  </a:lnTo>
                  <a:lnTo>
                    <a:pt x="552" y="1303"/>
                  </a:lnTo>
                  <a:lnTo>
                    <a:pt x="600" y="1303"/>
                  </a:lnTo>
                  <a:lnTo>
                    <a:pt x="647" y="1299"/>
                  </a:lnTo>
                  <a:lnTo>
                    <a:pt x="694" y="1294"/>
                  </a:lnTo>
                  <a:lnTo>
                    <a:pt x="740" y="1285"/>
                  </a:lnTo>
                  <a:lnTo>
                    <a:pt x="784" y="1271"/>
                  </a:lnTo>
                  <a:lnTo>
                    <a:pt x="828" y="1253"/>
                  </a:lnTo>
                  <a:lnTo>
                    <a:pt x="869" y="1230"/>
                  </a:lnTo>
                  <a:lnTo>
                    <a:pt x="908" y="1203"/>
                  </a:lnTo>
                  <a:lnTo>
                    <a:pt x="907" y="1167"/>
                  </a:lnTo>
                  <a:lnTo>
                    <a:pt x="907" y="1132"/>
                  </a:lnTo>
                  <a:lnTo>
                    <a:pt x="907" y="1098"/>
                  </a:lnTo>
                  <a:lnTo>
                    <a:pt x="907" y="1062"/>
                  </a:lnTo>
                  <a:lnTo>
                    <a:pt x="912" y="1035"/>
                  </a:lnTo>
                  <a:lnTo>
                    <a:pt x="916" y="1007"/>
                  </a:lnTo>
                  <a:lnTo>
                    <a:pt x="921" y="979"/>
                  </a:lnTo>
                  <a:lnTo>
                    <a:pt x="926" y="952"/>
                  </a:lnTo>
                  <a:lnTo>
                    <a:pt x="919" y="834"/>
                  </a:lnTo>
                  <a:lnTo>
                    <a:pt x="908" y="718"/>
                  </a:lnTo>
                  <a:lnTo>
                    <a:pt x="896" y="607"/>
                  </a:lnTo>
                  <a:lnTo>
                    <a:pt x="881" y="501"/>
                  </a:lnTo>
                  <a:lnTo>
                    <a:pt x="863" y="404"/>
                  </a:lnTo>
                  <a:lnTo>
                    <a:pt x="843" y="315"/>
                  </a:lnTo>
                  <a:lnTo>
                    <a:pt x="819" y="235"/>
                  </a:lnTo>
                  <a:lnTo>
                    <a:pt x="791" y="169"/>
                  </a:lnTo>
                  <a:lnTo>
                    <a:pt x="772" y="161"/>
                  </a:lnTo>
                  <a:lnTo>
                    <a:pt x="753" y="152"/>
                  </a:lnTo>
                  <a:lnTo>
                    <a:pt x="732" y="144"/>
                  </a:lnTo>
                  <a:lnTo>
                    <a:pt x="711" y="136"/>
                  </a:lnTo>
                  <a:lnTo>
                    <a:pt x="691" y="128"/>
                  </a:lnTo>
                  <a:lnTo>
                    <a:pt x="669" y="120"/>
                  </a:lnTo>
                  <a:lnTo>
                    <a:pt x="646" y="113"/>
                  </a:lnTo>
                  <a:lnTo>
                    <a:pt x="624" y="105"/>
                  </a:lnTo>
                  <a:lnTo>
                    <a:pt x="601" y="98"/>
                  </a:lnTo>
                  <a:lnTo>
                    <a:pt x="577" y="90"/>
                  </a:lnTo>
                  <a:lnTo>
                    <a:pt x="552" y="83"/>
                  </a:lnTo>
                  <a:lnTo>
                    <a:pt x="528" y="76"/>
                  </a:lnTo>
                  <a:lnTo>
                    <a:pt x="503" y="71"/>
                  </a:lnTo>
                  <a:lnTo>
                    <a:pt x="479" y="64"/>
                  </a:lnTo>
                  <a:lnTo>
                    <a:pt x="453" y="58"/>
                  </a:lnTo>
                  <a:lnTo>
                    <a:pt x="427" y="51"/>
                  </a:lnTo>
                  <a:lnTo>
                    <a:pt x="402" y="47"/>
                  </a:lnTo>
                  <a:lnTo>
                    <a:pt x="375" y="41"/>
                  </a:lnTo>
                  <a:lnTo>
                    <a:pt x="349" y="35"/>
                  </a:lnTo>
                  <a:lnTo>
                    <a:pt x="322" y="30"/>
                  </a:lnTo>
                  <a:lnTo>
                    <a:pt x="296" y="26"/>
                  </a:lnTo>
                  <a:lnTo>
                    <a:pt x="269" y="22"/>
                  </a:lnTo>
                  <a:lnTo>
                    <a:pt x="241" y="18"/>
                  </a:lnTo>
                  <a:lnTo>
                    <a:pt x="215" y="14"/>
                  </a:lnTo>
                  <a:lnTo>
                    <a:pt x="187" y="11"/>
                  </a:lnTo>
                  <a:lnTo>
                    <a:pt x="161" y="9"/>
                  </a:lnTo>
                  <a:lnTo>
                    <a:pt x="134" y="6"/>
                  </a:lnTo>
                  <a:lnTo>
                    <a:pt x="107" y="4"/>
                  </a:lnTo>
                  <a:lnTo>
                    <a:pt x="80" y="3"/>
                  </a:lnTo>
                  <a:lnTo>
                    <a:pt x="53" y="2"/>
                  </a:lnTo>
                  <a:lnTo>
                    <a:pt x="2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9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3589200" y="1039680"/>
              <a:ext cx="597960" cy="752040"/>
            </a:xfrm>
            <a:custGeom>
              <a:avLst/>
              <a:gdLst/>
              <a:ahLst/>
              <a:rect l="l" t="t" r="r" b="b"/>
              <a:pathLst>
                <a:path w="875" h="1247">
                  <a:moveTo>
                    <a:pt x="0" y="0"/>
                  </a:moveTo>
                  <a:lnTo>
                    <a:pt x="31" y="146"/>
                  </a:lnTo>
                  <a:lnTo>
                    <a:pt x="55" y="300"/>
                  </a:lnTo>
                  <a:lnTo>
                    <a:pt x="75" y="459"/>
                  </a:lnTo>
                  <a:lnTo>
                    <a:pt x="90" y="618"/>
                  </a:lnTo>
                  <a:lnTo>
                    <a:pt x="99" y="772"/>
                  </a:lnTo>
                  <a:lnTo>
                    <a:pt x="105" y="919"/>
                  </a:lnTo>
                  <a:lnTo>
                    <a:pt x="106" y="1052"/>
                  </a:lnTo>
                  <a:lnTo>
                    <a:pt x="103" y="1168"/>
                  </a:lnTo>
                  <a:lnTo>
                    <a:pt x="116" y="1165"/>
                  </a:lnTo>
                  <a:lnTo>
                    <a:pt x="129" y="1163"/>
                  </a:lnTo>
                  <a:lnTo>
                    <a:pt x="141" y="1159"/>
                  </a:lnTo>
                  <a:lnTo>
                    <a:pt x="154" y="1156"/>
                  </a:lnTo>
                  <a:lnTo>
                    <a:pt x="167" y="1152"/>
                  </a:lnTo>
                  <a:lnTo>
                    <a:pt x="179" y="1149"/>
                  </a:lnTo>
                  <a:lnTo>
                    <a:pt x="192" y="1145"/>
                  </a:lnTo>
                  <a:lnTo>
                    <a:pt x="205" y="1142"/>
                  </a:lnTo>
                  <a:lnTo>
                    <a:pt x="201" y="1159"/>
                  </a:lnTo>
                  <a:lnTo>
                    <a:pt x="199" y="1175"/>
                  </a:lnTo>
                  <a:lnTo>
                    <a:pt x="196" y="1193"/>
                  </a:lnTo>
                  <a:lnTo>
                    <a:pt x="192" y="1210"/>
                  </a:lnTo>
                  <a:lnTo>
                    <a:pt x="227" y="1211"/>
                  </a:lnTo>
                  <a:lnTo>
                    <a:pt x="264" y="1214"/>
                  </a:lnTo>
                  <a:lnTo>
                    <a:pt x="303" y="1219"/>
                  </a:lnTo>
                  <a:lnTo>
                    <a:pt x="344" y="1224"/>
                  </a:lnTo>
                  <a:lnTo>
                    <a:pt x="387" y="1231"/>
                  </a:lnTo>
                  <a:lnTo>
                    <a:pt x="431" y="1236"/>
                  </a:lnTo>
                  <a:lnTo>
                    <a:pt x="476" y="1241"/>
                  </a:lnTo>
                  <a:lnTo>
                    <a:pt x="522" y="1244"/>
                  </a:lnTo>
                  <a:lnTo>
                    <a:pt x="566" y="1247"/>
                  </a:lnTo>
                  <a:lnTo>
                    <a:pt x="613" y="1247"/>
                  </a:lnTo>
                  <a:lnTo>
                    <a:pt x="657" y="1243"/>
                  </a:lnTo>
                  <a:lnTo>
                    <a:pt x="701" y="1236"/>
                  </a:lnTo>
                  <a:lnTo>
                    <a:pt x="745" y="1226"/>
                  </a:lnTo>
                  <a:lnTo>
                    <a:pt x="787" y="1211"/>
                  </a:lnTo>
                  <a:lnTo>
                    <a:pt x="826" y="1191"/>
                  </a:lnTo>
                  <a:lnTo>
                    <a:pt x="863" y="1165"/>
                  </a:lnTo>
                  <a:lnTo>
                    <a:pt x="861" y="1128"/>
                  </a:lnTo>
                  <a:lnTo>
                    <a:pt x="861" y="1091"/>
                  </a:lnTo>
                  <a:lnTo>
                    <a:pt x="861" y="1056"/>
                  </a:lnTo>
                  <a:lnTo>
                    <a:pt x="861" y="1019"/>
                  </a:lnTo>
                  <a:lnTo>
                    <a:pt x="865" y="989"/>
                  </a:lnTo>
                  <a:lnTo>
                    <a:pt x="868" y="959"/>
                  </a:lnTo>
                  <a:lnTo>
                    <a:pt x="872" y="930"/>
                  </a:lnTo>
                  <a:lnTo>
                    <a:pt x="875" y="900"/>
                  </a:lnTo>
                  <a:lnTo>
                    <a:pt x="868" y="788"/>
                  </a:lnTo>
                  <a:lnTo>
                    <a:pt x="858" y="680"/>
                  </a:lnTo>
                  <a:lnTo>
                    <a:pt x="846" y="574"/>
                  </a:lnTo>
                  <a:lnTo>
                    <a:pt x="831" y="475"/>
                  </a:lnTo>
                  <a:lnTo>
                    <a:pt x="814" y="383"/>
                  </a:lnTo>
                  <a:lnTo>
                    <a:pt x="793" y="298"/>
                  </a:lnTo>
                  <a:lnTo>
                    <a:pt x="770" y="224"/>
                  </a:lnTo>
                  <a:lnTo>
                    <a:pt x="744" y="161"/>
                  </a:lnTo>
                  <a:lnTo>
                    <a:pt x="708" y="146"/>
                  </a:lnTo>
                  <a:lnTo>
                    <a:pt x="670" y="130"/>
                  </a:lnTo>
                  <a:lnTo>
                    <a:pt x="630" y="115"/>
                  </a:lnTo>
                  <a:lnTo>
                    <a:pt x="587" y="101"/>
                  </a:lnTo>
                  <a:lnTo>
                    <a:pt x="543" y="87"/>
                  </a:lnTo>
                  <a:lnTo>
                    <a:pt x="497" y="73"/>
                  </a:lnTo>
                  <a:lnTo>
                    <a:pt x="450" y="61"/>
                  </a:lnTo>
                  <a:lnTo>
                    <a:pt x="402" y="49"/>
                  </a:lnTo>
                  <a:lnTo>
                    <a:pt x="353" y="39"/>
                  </a:lnTo>
                  <a:lnTo>
                    <a:pt x="303" y="28"/>
                  </a:lnTo>
                  <a:lnTo>
                    <a:pt x="253" y="20"/>
                  </a:lnTo>
                  <a:lnTo>
                    <a:pt x="201" y="13"/>
                  </a:lnTo>
                  <a:lnTo>
                    <a:pt x="151" y="8"/>
                  </a:lnTo>
                  <a:lnTo>
                    <a:pt x="100" y="3"/>
                  </a:lnTo>
                  <a:lnTo>
                    <a:pt x="49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a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3594240" y="1042920"/>
              <a:ext cx="564120" cy="722160"/>
            </a:xfrm>
            <a:custGeom>
              <a:avLst/>
              <a:gdLst/>
              <a:ahLst/>
              <a:rect l="l" t="t" r="r" b="b"/>
              <a:pathLst>
                <a:path w="827" h="1195">
                  <a:moveTo>
                    <a:pt x="0" y="0"/>
                  </a:moveTo>
                  <a:lnTo>
                    <a:pt x="28" y="137"/>
                  </a:lnTo>
                  <a:lnTo>
                    <a:pt x="53" y="283"/>
                  </a:lnTo>
                  <a:lnTo>
                    <a:pt x="70" y="433"/>
                  </a:lnTo>
                  <a:lnTo>
                    <a:pt x="84" y="581"/>
                  </a:lnTo>
                  <a:lnTo>
                    <a:pt x="92" y="727"/>
                  </a:lnTo>
                  <a:lnTo>
                    <a:pt x="96" y="864"/>
                  </a:lnTo>
                  <a:lnTo>
                    <a:pt x="96" y="991"/>
                  </a:lnTo>
                  <a:lnTo>
                    <a:pt x="94" y="1101"/>
                  </a:lnTo>
                  <a:lnTo>
                    <a:pt x="106" y="1097"/>
                  </a:lnTo>
                  <a:lnTo>
                    <a:pt x="118" y="1095"/>
                  </a:lnTo>
                  <a:lnTo>
                    <a:pt x="130" y="1091"/>
                  </a:lnTo>
                  <a:lnTo>
                    <a:pt x="143" y="1088"/>
                  </a:lnTo>
                  <a:lnTo>
                    <a:pt x="154" y="1084"/>
                  </a:lnTo>
                  <a:lnTo>
                    <a:pt x="166" y="1081"/>
                  </a:lnTo>
                  <a:lnTo>
                    <a:pt x="178" y="1079"/>
                  </a:lnTo>
                  <a:lnTo>
                    <a:pt x="190" y="1075"/>
                  </a:lnTo>
                  <a:lnTo>
                    <a:pt x="186" y="1091"/>
                  </a:lnTo>
                  <a:lnTo>
                    <a:pt x="184" y="1107"/>
                  </a:lnTo>
                  <a:lnTo>
                    <a:pt x="181" y="1124"/>
                  </a:lnTo>
                  <a:lnTo>
                    <a:pt x="177" y="1140"/>
                  </a:lnTo>
                  <a:lnTo>
                    <a:pt x="209" y="1141"/>
                  </a:lnTo>
                  <a:lnTo>
                    <a:pt x="245" y="1144"/>
                  </a:lnTo>
                  <a:lnTo>
                    <a:pt x="282" y="1150"/>
                  </a:lnTo>
                  <a:lnTo>
                    <a:pt x="321" y="1158"/>
                  </a:lnTo>
                  <a:lnTo>
                    <a:pt x="363" y="1165"/>
                  </a:lnTo>
                  <a:lnTo>
                    <a:pt x="405" y="1173"/>
                  </a:lnTo>
                  <a:lnTo>
                    <a:pt x="449" y="1181"/>
                  </a:lnTo>
                  <a:lnTo>
                    <a:pt x="493" y="1187"/>
                  </a:lnTo>
                  <a:lnTo>
                    <a:pt x="536" y="1193"/>
                  </a:lnTo>
                  <a:lnTo>
                    <a:pt x="580" y="1195"/>
                  </a:lnTo>
                  <a:lnTo>
                    <a:pt x="623" y="1195"/>
                  </a:lnTo>
                  <a:lnTo>
                    <a:pt x="665" y="1190"/>
                  </a:lnTo>
                  <a:lnTo>
                    <a:pt x="707" y="1182"/>
                  </a:lnTo>
                  <a:lnTo>
                    <a:pt x="746" y="1170"/>
                  </a:lnTo>
                  <a:lnTo>
                    <a:pt x="784" y="1152"/>
                  </a:lnTo>
                  <a:lnTo>
                    <a:pt x="819" y="1128"/>
                  </a:lnTo>
                  <a:lnTo>
                    <a:pt x="818" y="1090"/>
                  </a:lnTo>
                  <a:lnTo>
                    <a:pt x="818" y="1052"/>
                  </a:lnTo>
                  <a:lnTo>
                    <a:pt x="818" y="1014"/>
                  </a:lnTo>
                  <a:lnTo>
                    <a:pt x="818" y="976"/>
                  </a:lnTo>
                  <a:lnTo>
                    <a:pt x="820" y="944"/>
                  </a:lnTo>
                  <a:lnTo>
                    <a:pt x="822" y="913"/>
                  </a:lnTo>
                  <a:lnTo>
                    <a:pt x="824" y="882"/>
                  </a:lnTo>
                  <a:lnTo>
                    <a:pt x="827" y="851"/>
                  </a:lnTo>
                  <a:lnTo>
                    <a:pt x="819" y="746"/>
                  </a:lnTo>
                  <a:lnTo>
                    <a:pt x="809" y="642"/>
                  </a:lnTo>
                  <a:lnTo>
                    <a:pt x="798" y="543"/>
                  </a:lnTo>
                  <a:lnTo>
                    <a:pt x="783" y="450"/>
                  </a:lnTo>
                  <a:lnTo>
                    <a:pt x="766" y="362"/>
                  </a:lnTo>
                  <a:lnTo>
                    <a:pt x="746" y="284"/>
                  </a:lnTo>
                  <a:lnTo>
                    <a:pt x="724" y="214"/>
                  </a:lnTo>
                  <a:lnTo>
                    <a:pt x="699" y="154"/>
                  </a:lnTo>
                  <a:lnTo>
                    <a:pt x="665" y="139"/>
                  </a:lnTo>
                  <a:lnTo>
                    <a:pt x="630" y="125"/>
                  </a:lnTo>
                  <a:lnTo>
                    <a:pt x="593" y="110"/>
                  </a:lnTo>
                  <a:lnTo>
                    <a:pt x="553" y="96"/>
                  </a:lnTo>
                  <a:lnTo>
                    <a:pt x="511" y="84"/>
                  </a:lnTo>
                  <a:lnTo>
                    <a:pt x="469" y="71"/>
                  </a:lnTo>
                  <a:lnTo>
                    <a:pt x="425" y="58"/>
                  </a:lnTo>
                  <a:lnTo>
                    <a:pt x="379" y="47"/>
                  </a:lnTo>
                  <a:lnTo>
                    <a:pt x="333" y="38"/>
                  </a:lnTo>
                  <a:lnTo>
                    <a:pt x="285" y="27"/>
                  </a:lnTo>
                  <a:lnTo>
                    <a:pt x="238" y="19"/>
                  </a:lnTo>
                  <a:lnTo>
                    <a:pt x="191" y="12"/>
                  </a:lnTo>
                  <a:lnTo>
                    <a:pt x="143" y="8"/>
                  </a:lnTo>
                  <a:lnTo>
                    <a:pt x="94" y="3"/>
                  </a:lnTo>
                  <a:lnTo>
                    <a:pt x="4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3596400" y="1047600"/>
              <a:ext cx="531720" cy="692640"/>
            </a:xfrm>
            <a:custGeom>
              <a:avLst/>
              <a:gdLst/>
              <a:ahLst/>
              <a:rect l="l" t="t" r="r" b="b"/>
              <a:pathLst>
                <a:path w="777" h="1146">
                  <a:moveTo>
                    <a:pt x="0" y="0"/>
                  </a:moveTo>
                  <a:lnTo>
                    <a:pt x="27" y="128"/>
                  </a:lnTo>
                  <a:lnTo>
                    <a:pt x="48" y="266"/>
                  </a:lnTo>
                  <a:lnTo>
                    <a:pt x="64" y="406"/>
                  </a:lnTo>
                  <a:lnTo>
                    <a:pt x="76" y="547"/>
                  </a:lnTo>
                  <a:lnTo>
                    <a:pt x="83" y="684"/>
                  </a:lnTo>
                  <a:lnTo>
                    <a:pt x="86" y="813"/>
                  </a:lnTo>
                  <a:lnTo>
                    <a:pt x="86" y="931"/>
                  </a:lnTo>
                  <a:lnTo>
                    <a:pt x="84" y="1034"/>
                  </a:lnTo>
                  <a:lnTo>
                    <a:pt x="95" y="1030"/>
                  </a:lnTo>
                  <a:lnTo>
                    <a:pt x="107" y="1028"/>
                  </a:lnTo>
                  <a:lnTo>
                    <a:pt x="117" y="1024"/>
                  </a:lnTo>
                  <a:lnTo>
                    <a:pt x="129" y="1021"/>
                  </a:lnTo>
                  <a:lnTo>
                    <a:pt x="140" y="1019"/>
                  </a:lnTo>
                  <a:lnTo>
                    <a:pt x="152" y="1015"/>
                  </a:lnTo>
                  <a:lnTo>
                    <a:pt x="162" y="1013"/>
                  </a:lnTo>
                  <a:lnTo>
                    <a:pt x="174" y="1009"/>
                  </a:lnTo>
                  <a:lnTo>
                    <a:pt x="170" y="1024"/>
                  </a:lnTo>
                  <a:lnTo>
                    <a:pt x="168" y="1039"/>
                  </a:lnTo>
                  <a:lnTo>
                    <a:pt x="164" y="1054"/>
                  </a:lnTo>
                  <a:lnTo>
                    <a:pt x="161" y="1069"/>
                  </a:lnTo>
                  <a:lnTo>
                    <a:pt x="191" y="1070"/>
                  </a:lnTo>
                  <a:lnTo>
                    <a:pt x="224" y="1075"/>
                  </a:lnTo>
                  <a:lnTo>
                    <a:pt x="260" y="1083"/>
                  </a:lnTo>
                  <a:lnTo>
                    <a:pt x="298" y="1091"/>
                  </a:lnTo>
                  <a:lnTo>
                    <a:pt x="337" y="1102"/>
                  </a:lnTo>
                  <a:lnTo>
                    <a:pt x="379" y="1112"/>
                  </a:lnTo>
                  <a:lnTo>
                    <a:pt x="420" y="1122"/>
                  </a:lnTo>
                  <a:lnTo>
                    <a:pt x="462" y="1130"/>
                  </a:lnTo>
                  <a:lnTo>
                    <a:pt x="504" y="1138"/>
                  </a:lnTo>
                  <a:lnTo>
                    <a:pt x="547" y="1144"/>
                  </a:lnTo>
                  <a:lnTo>
                    <a:pt x="588" y="1146"/>
                  </a:lnTo>
                  <a:lnTo>
                    <a:pt x="629" y="1145"/>
                  </a:lnTo>
                  <a:lnTo>
                    <a:pt x="668" y="1141"/>
                  </a:lnTo>
                  <a:lnTo>
                    <a:pt x="705" y="1130"/>
                  </a:lnTo>
                  <a:lnTo>
                    <a:pt x="740" y="1114"/>
                  </a:lnTo>
                  <a:lnTo>
                    <a:pt x="773" y="1092"/>
                  </a:lnTo>
                  <a:lnTo>
                    <a:pt x="773" y="1052"/>
                  </a:lnTo>
                  <a:lnTo>
                    <a:pt x="773" y="1013"/>
                  </a:lnTo>
                  <a:lnTo>
                    <a:pt x="773" y="973"/>
                  </a:lnTo>
                  <a:lnTo>
                    <a:pt x="773" y="933"/>
                  </a:lnTo>
                  <a:lnTo>
                    <a:pt x="774" y="900"/>
                  </a:lnTo>
                  <a:lnTo>
                    <a:pt x="775" y="868"/>
                  </a:lnTo>
                  <a:lnTo>
                    <a:pt x="776" y="834"/>
                  </a:lnTo>
                  <a:lnTo>
                    <a:pt x="777" y="801"/>
                  </a:lnTo>
                  <a:lnTo>
                    <a:pt x="769" y="702"/>
                  </a:lnTo>
                  <a:lnTo>
                    <a:pt x="760" y="605"/>
                  </a:lnTo>
                  <a:lnTo>
                    <a:pt x="748" y="513"/>
                  </a:lnTo>
                  <a:lnTo>
                    <a:pt x="735" y="426"/>
                  </a:lnTo>
                  <a:lnTo>
                    <a:pt x="717" y="344"/>
                  </a:lnTo>
                  <a:lnTo>
                    <a:pt x="699" y="270"/>
                  </a:lnTo>
                  <a:lnTo>
                    <a:pt x="677" y="205"/>
                  </a:lnTo>
                  <a:lnTo>
                    <a:pt x="653" y="149"/>
                  </a:lnTo>
                  <a:lnTo>
                    <a:pt x="622" y="135"/>
                  </a:lnTo>
                  <a:lnTo>
                    <a:pt x="590" y="120"/>
                  </a:lnTo>
                  <a:lnTo>
                    <a:pt x="555" y="107"/>
                  </a:lnTo>
                  <a:lnTo>
                    <a:pt x="518" y="94"/>
                  </a:lnTo>
                  <a:lnTo>
                    <a:pt x="479" y="81"/>
                  </a:lnTo>
                  <a:lnTo>
                    <a:pt x="439" y="69"/>
                  </a:lnTo>
                  <a:lnTo>
                    <a:pt x="397" y="57"/>
                  </a:lnTo>
                  <a:lnTo>
                    <a:pt x="356" y="46"/>
                  </a:lnTo>
                  <a:lnTo>
                    <a:pt x="312" y="36"/>
                  </a:lnTo>
                  <a:lnTo>
                    <a:pt x="268" y="27"/>
                  </a:lnTo>
                  <a:lnTo>
                    <a:pt x="223" y="19"/>
                  </a:lnTo>
                  <a:lnTo>
                    <a:pt x="178" y="12"/>
                  </a:lnTo>
                  <a:lnTo>
                    <a:pt x="133" y="6"/>
                  </a:lnTo>
                  <a:lnTo>
                    <a:pt x="88" y="3"/>
                  </a:lnTo>
                  <a:lnTo>
                    <a:pt x="4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3600360" y="1051200"/>
              <a:ext cx="496080" cy="664920"/>
            </a:xfrm>
            <a:custGeom>
              <a:avLst/>
              <a:gdLst/>
              <a:ahLst/>
              <a:rect l="l" t="t" r="r" b="b"/>
              <a:pathLst>
                <a:path w="728" h="1099">
                  <a:moveTo>
                    <a:pt x="0" y="0"/>
                  </a:moveTo>
                  <a:lnTo>
                    <a:pt x="25" y="119"/>
                  </a:lnTo>
                  <a:lnTo>
                    <a:pt x="45" y="247"/>
                  </a:lnTo>
                  <a:lnTo>
                    <a:pt x="59" y="380"/>
                  </a:lnTo>
                  <a:lnTo>
                    <a:pt x="68" y="511"/>
                  </a:lnTo>
                  <a:lnTo>
                    <a:pt x="74" y="639"/>
                  </a:lnTo>
                  <a:lnTo>
                    <a:pt x="77" y="760"/>
                  </a:lnTo>
                  <a:lnTo>
                    <a:pt x="76" y="870"/>
                  </a:lnTo>
                  <a:lnTo>
                    <a:pt x="74" y="965"/>
                  </a:lnTo>
                  <a:lnTo>
                    <a:pt x="84" y="962"/>
                  </a:lnTo>
                  <a:lnTo>
                    <a:pt x="94" y="959"/>
                  </a:lnTo>
                  <a:lnTo>
                    <a:pt x="105" y="957"/>
                  </a:lnTo>
                  <a:lnTo>
                    <a:pt x="115" y="954"/>
                  </a:lnTo>
                  <a:lnTo>
                    <a:pt x="125" y="952"/>
                  </a:lnTo>
                  <a:lnTo>
                    <a:pt x="136" y="948"/>
                  </a:lnTo>
                  <a:lnTo>
                    <a:pt x="146" y="946"/>
                  </a:lnTo>
                  <a:lnTo>
                    <a:pt x="157" y="943"/>
                  </a:lnTo>
                  <a:lnTo>
                    <a:pt x="154" y="957"/>
                  </a:lnTo>
                  <a:lnTo>
                    <a:pt x="152" y="970"/>
                  </a:lnTo>
                  <a:lnTo>
                    <a:pt x="150" y="984"/>
                  </a:lnTo>
                  <a:lnTo>
                    <a:pt x="146" y="998"/>
                  </a:lnTo>
                  <a:lnTo>
                    <a:pt x="175" y="1000"/>
                  </a:lnTo>
                  <a:lnTo>
                    <a:pt x="206" y="1006"/>
                  </a:lnTo>
                  <a:lnTo>
                    <a:pt x="239" y="1014"/>
                  </a:lnTo>
                  <a:lnTo>
                    <a:pt x="275" y="1024"/>
                  </a:lnTo>
                  <a:lnTo>
                    <a:pt x="313" y="1037"/>
                  </a:lnTo>
                  <a:lnTo>
                    <a:pt x="352" y="1050"/>
                  </a:lnTo>
                  <a:lnTo>
                    <a:pt x="391" y="1061"/>
                  </a:lnTo>
                  <a:lnTo>
                    <a:pt x="432" y="1074"/>
                  </a:lnTo>
                  <a:lnTo>
                    <a:pt x="473" y="1084"/>
                  </a:lnTo>
                  <a:lnTo>
                    <a:pt x="514" y="1092"/>
                  </a:lnTo>
                  <a:lnTo>
                    <a:pt x="553" y="1097"/>
                  </a:lnTo>
                  <a:lnTo>
                    <a:pt x="592" y="1099"/>
                  </a:lnTo>
                  <a:lnTo>
                    <a:pt x="629" y="1096"/>
                  </a:lnTo>
                  <a:lnTo>
                    <a:pt x="664" y="1088"/>
                  </a:lnTo>
                  <a:lnTo>
                    <a:pt x="697" y="1075"/>
                  </a:lnTo>
                  <a:lnTo>
                    <a:pt x="728" y="1054"/>
                  </a:lnTo>
                  <a:lnTo>
                    <a:pt x="728" y="1014"/>
                  </a:lnTo>
                  <a:lnTo>
                    <a:pt x="728" y="973"/>
                  </a:lnTo>
                  <a:lnTo>
                    <a:pt x="728" y="932"/>
                  </a:lnTo>
                  <a:lnTo>
                    <a:pt x="728" y="891"/>
                  </a:lnTo>
                  <a:lnTo>
                    <a:pt x="728" y="856"/>
                  </a:lnTo>
                  <a:lnTo>
                    <a:pt x="728" y="822"/>
                  </a:lnTo>
                  <a:lnTo>
                    <a:pt x="728" y="787"/>
                  </a:lnTo>
                  <a:lnTo>
                    <a:pt x="728" y="754"/>
                  </a:lnTo>
                  <a:lnTo>
                    <a:pt x="721" y="661"/>
                  </a:lnTo>
                  <a:lnTo>
                    <a:pt x="711" y="570"/>
                  </a:lnTo>
                  <a:lnTo>
                    <a:pt x="699" y="482"/>
                  </a:lnTo>
                  <a:lnTo>
                    <a:pt x="685" y="400"/>
                  </a:lnTo>
                  <a:lnTo>
                    <a:pt x="669" y="324"/>
                  </a:lnTo>
                  <a:lnTo>
                    <a:pt x="651" y="255"/>
                  </a:lnTo>
                  <a:lnTo>
                    <a:pt x="630" y="194"/>
                  </a:lnTo>
                  <a:lnTo>
                    <a:pt x="606" y="142"/>
                  </a:lnTo>
                  <a:lnTo>
                    <a:pt x="578" y="129"/>
                  </a:lnTo>
                  <a:lnTo>
                    <a:pt x="548" y="116"/>
                  </a:lnTo>
                  <a:lnTo>
                    <a:pt x="516" y="103"/>
                  </a:lnTo>
                  <a:lnTo>
                    <a:pt x="482" y="89"/>
                  </a:lnTo>
                  <a:lnTo>
                    <a:pt x="447" y="78"/>
                  </a:lnTo>
                  <a:lnTo>
                    <a:pt x="409" y="66"/>
                  </a:lnTo>
                  <a:lnTo>
                    <a:pt x="371" y="55"/>
                  </a:lnTo>
                  <a:lnTo>
                    <a:pt x="332" y="44"/>
                  </a:lnTo>
                  <a:lnTo>
                    <a:pt x="291" y="34"/>
                  </a:lnTo>
                  <a:lnTo>
                    <a:pt x="250" y="26"/>
                  </a:lnTo>
                  <a:lnTo>
                    <a:pt x="208" y="18"/>
                  </a:lnTo>
                  <a:lnTo>
                    <a:pt x="167" y="12"/>
                  </a:lnTo>
                  <a:lnTo>
                    <a:pt x="124" y="6"/>
                  </a:lnTo>
                  <a:lnTo>
                    <a:pt x="83" y="3"/>
                  </a:lnTo>
                  <a:lnTo>
                    <a:pt x="4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3599640" y="1059120"/>
              <a:ext cx="464040" cy="633600"/>
            </a:xfrm>
            <a:custGeom>
              <a:avLst/>
              <a:gdLst/>
              <a:ahLst/>
              <a:rect l="l" t="t" r="r" b="b"/>
              <a:pathLst>
                <a:path w="683" h="1052">
                  <a:moveTo>
                    <a:pt x="0" y="0"/>
                  </a:moveTo>
                  <a:lnTo>
                    <a:pt x="23" y="111"/>
                  </a:lnTo>
                  <a:lnTo>
                    <a:pt x="40" y="230"/>
                  </a:lnTo>
                  <a:lnTo>
                    <a:pt x="53" y="352"/>
                  </a:lnTo>
                  <a:lnTo>
                    <a:pt x="61" y="475"/>
                  </a:lnTo>
                  <a:lnTo>
                    <a:pt x="64" y="594"/>
                  </a:lnTo>
                  <a:lnTo>
                    <a:pt x="67" y="707"/>
                  </a:lnTo>
                  <a:lnTo>
                    <a:pt x="66" y="809"/>
                  </a:lnTo>
                  <a:lnTo>
                    <a:pt x="63" y="897"/>
                  </a:lnTo>
                  <a:lnTo>
                    <a:pt x="72" y="894"/>
                  </a:lnTo>
                  <a:lnTo>
                    <a:pt x="83" y="891"/>
                  </a:lnTo>
                  <a:lnTo>
                    <a:pt x="92" y="889"/>
                  </a:lnTo>
                  <a:lnTo>
                    <a:pt x="102" y="886"/>
                  </a:lnTo>
                  <a:lnTo>
                    <a:pt x="112" y="884"/>
                  </a:lnTo>
                  <a:lnTo>
                    <a:pt x="121" y="881"/>
                  </a:lnTo>
                  <a:lnTo>
                    <a:pt x="131" y="878"/>
                  </a:lnTo>
                  <a:lnTo>
                    <a:pt x="140" y="876"/>
                  </a:lnTo>
                  <a:lnTo>
                    <a:pt x="138" y="889"/>
                  </a:lnTo>
                  <a:lnTo>
                    <a:pt x="136" y="901"/>
                  </a:lnTo>
                  <a:lnTo>
                    <a:pt x="132" y="915"/>
                  </a:lnTo>
                  <a:lnTo>
                    <a:pt x="130" y="928"/>
                  </a:lnTo>
                  <a:lnTo>
                    <a:pt x="157" y="930"/>
                  </a:lnTo>
                  <a:lnTo>
                    <a:pt x="187" y="936"/>
                  </a:lnTo>
                  <a:lnTo>
                    <a:pt x="218" y="945"/>
                  </a:lnTo>
                  <a:lnTo>
                    <a:pt x="252" y="958"/>
                  </a:lnTo>
                  <a:lnTo>
                    <a:pt x="288" y="972"/>
                  </a:lnTo>
                  <a:lnTo>
                    <a:pt x="325" y="987"/>
                  </a:lnTo>
                  <a:lnTo>
                    <a:pt x="364" y="1002"/>
                  </a:lnTo>
                  <a:lnTo>
                    <a:pt x="402" y="1015"/>
                  </a:lnTo>
                  <a:lnTo>
                    <a:pt x="441" y="1029"/>
                  </a:lnTo>
                  <a:lnTo>
                    <a:pt x="480" y="1040"/>
                  </a:lnTo>
                  <a:lnTo>
                    <a:pt x="517" y="1048"/>
                  </a:lnTo>
                  <a:lnTo>
                    <a:pt x="554" y="1052"/>
                  </a:lnTo>
                  <a:lnTo>
                    <a:pt x="590" y="1052"/>
                  </a:lnTo>
                  <a:lnTo>
                    <a:pt x="623" y="1048"/>
                  </a:lnTo>
                  <a:lnTo>
                    <a:pt x="654" y="1036"/>
                  </a:lnTo>
                  <a:lnTo>
                    <a:pt x="683" y="1018"/>
                  </a:lnTo>
                  <a:lnTo>
                    <a:pt x="683" y="975"/>
                  </a:lnTo>
                  <a:lnTo>
                    <a:pt x="683" y="932"/>
                  </a:lnTo>
                  <a:lnTo>
                    <a:pt x="683" y="891"/>
                  </a:lnTo>
                  <a:lnTo>
                    <a:pt x="683" y="848"/>
                  </a:lnTo>
                  <a:lnTo>
                    <a:pt x="682" y="813"/>
                  </a:lnTo>
                  <a:lnTo>
                    <a:pt x="681" y="776"/>
                  </a:lnTo>
                  <a:lnTo>
                    <a:pt x="680" y="740"/>
                  </a:lnTo>
                  <a:lnTo>
                    <a:pt x="678" y="703"/>
                  </a:lnTo>
                  <a:lnTo>
                    <a:pt x="670" y="616"/>
                  </a:lnTo>
                  <a:lnTo>
                    <a:pt x="661" y="532"/>
                  </a:lnTo>
                  <a:lnTo>
                    <a:pt x="650" y="451"/>
                  </a:lnTo>
                  <a:lnTo>
                    <a:pt x="636" y="374"/>
                  </a:lnTo>
                  <a:lnTo>
                    <a:pt x="621" y="304"/>
                  </a:lnTo>
                  <a:lnTo>
                    <a:pt x="602" y="240"/>
                  </a:lnTo>
                  <a:lnTo>
                    <a:pt x="583" y="184"/>
                  </a:lnTo>
                  <a:lnTo>
                    <a:pt x="560" y="136"/>
                  </a:lnTo>
                  <a:lnTo>
                    <a:pt x="534" y="123"/>
                  </a:lnTo>
                  <a:lnTo>
                    <a:pt x="507" y="110"/>
                  </a:lnTo>
                  <a:lnTo>
                    <a:pt x="478" y="99"/>
                  </a:lnTo>
                  <a:lnTo>
                    <a:pt x="447" y="86"/>
                  </a:lnTo>
                  <a:lnTo>
                    <a:pt x="413" y="74"/>
                  </a:lnTo>
                  <a:lnTo>
                    <a:pt x="379" y="63"/>
                  </a:lnTo>
                  <a:lnTo>
                    <a:pt x="343" y="53"/>
                  </a:lnTo>
                  <a:lnTo>
                    <a:pt x="307" y="42"/>
                  </a:lnTo>
                  <a:lnTo>
                    <a:pt x="269" y="33"/>
                  </a:lnTo>
                  <a:lnTo>
                    <a:pt x="231" y="25"/>
                  </a:lnTo>
                  <a:lnTo>
                    <a:pt x="192" y="18"/>
                  </a:lnTo>
                  <a:lnTo>
                    <a:pt x="154" y="11"/>
                  </a:lnTo>
                  <a:lnTo>
                    <a:pt x="115" y="7"/>
                  </a:lnTo>
                  <a:lnTo>
                    <a:pt x="76" y="3"/>
                  </a:lnTo>
                  <a:lnTo>
                    <a:pt x="38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b7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3596400" y="1062720"/>
              <a:ext cx="436680" cy="607320"/>
            </a:xfrm>
            <a:custGeom>
              <a:avLst/>
              <a:gdLst/>
              <a:ahLst/>
              <a:rect l="l" t="t" r="r" b="b"/>
              <a:pathLst>
                <a:path w="638" h="1010">
                  <a:moveTo>
                    <a:pt x="0" y="0"/>
                  </a:moveTo>
                  <a:lnTo>
                    <a:pt x="21" y="102"/>
                  </a:lnTo>
                  <a:lnTo>
                    <a:pt x="36" y="212"/>
                  </a:lnTo>
                  <a:lnTo>
                    <a:pt x="47" y="324"/>
                  </a:lnTo>
                  <a:lnTo>
                    <a:pt x="53" y="438"/>
                  </a:lnTo>
                  <a:lnTo>
                    <a:pt x="56" y="549"/>
                  </a:lnTo>
                  <a:lnTo>
                    <a:pt x="58" y="653"/>
                  </a:lnTo>
                  <a:lnTo>
                    <a:pt x="55" y="747"/>
                  </a:lnTo>
                  <a:lnTo>
                    <a:pt x="53" y="829"/>
                  </a:lnTo>
                  <a:lnTo>
                    <a:pt x="62" y="827"/>
                  </a:lnTo>
                  <a:lnTo>
                    <a:pt x="70" y="824"/>
                  </a:lnTo>
                  <a:lnTo>
                    <a:pt x="79" y="822"/>
                  </a:lnTo>
                  <a:lnTo>
                    <a:pt x="89" y="818"/>
                  </a:lnTo>
                  <a:lnTo>
                    <a:pt x="97" y="816"/>
                  </a:lnTo>
                  <a:lnTo>
                    <a:pt x="106" y="814"/>
                  </a:lnTo>
                  <a:lnTo>
                    <a:pt x="114" y="812"/>
                  </a:lnTo>
                  <a:lnTo>
                    <a:pt x="123" y="809"/>
                  </a:lnTo>
                  <a:lnTo>
                    <a:pt x="121" y="821"/>
                  </a:lnTo>
                  <a:lnTo>
                    <a:pt x="119" y="833"/>
                  </a:lnTo>
                  <a:lnTo>
                    <a:pt x="116" y="845"/>
                  </a:lnTo>
                  <a:lnTo>
                    <a:pt x="114" y="856"/>
                  </a:lnTo>
                  <a:lnTo>
                    <a:pt x="138" y="859"/>
                  </a:lnTo>
                  <a:lnTo>
                    <a:pt x="166" y="866"/>
                  </a:lnTo>
                  <a:lnTo>
                    <a:pt x="196" y="877"/>
                  </a:lnTo>
                  <a:lnTo>
                    <a:pt x="229" y="891"/>
                  </a:lnTo>
                  <a:lnTo>
                    <a:pt x="263" y="907"/>
                  </a:lnTo>
                  <a:lnTo>
                    <a:pt x="298" y="924"/>
                  </a:lnTo>
                  <a:lnTo>
                    <a:pt x="335" y="942"/>
                  </a:lnTo>
                  <a:lnTo>
                    <a:pt x="372" y="959"/>
                  </a:lnTo>
                  <a:lnTo>
                    <a:pt x="409" y="975"/>
                  </a:lnTo>
                  <a:lnTo>
                    <a:pt x="446" y="989"/>
                  </a:lnTo>
                  <a:lnTo>
                    <a:pt x="483" y="999"/>
                  </a:lnTo>
                  <a:lnTo>
                    <a:pt x="517" y="1006"/>
                  </a:lnTo>
                  <a:lnTo>
                    <a:pt x="551" y="1010"/>
                  </a:lnTo>
                  <a:lnTo>
                    <a:pt x="583" y="1006"/>
                  </a:lnTo>
                  <a:lnTo>
                    <a:pt x="612" y="997"/>
                  </a:lnTo>
                  <a:lnTo>
                    <a:pt x="638" y="981"/>
                  </a:lnTo>
                  <a:lnTo>
                    <a:pt x="638" y="937"/>
                  </a:lnTo>
                  <a:lnTo>
                    <a:pt x="638" y="893"/>
                  </a:lnTo>
                  <a:lnTo>
                    <a:pt x="638" y="850"/>
                  </a:lnTo>
                  <a:lnTo>
                    <a:pt x="638" y="806"/>
                  </a:lnTo>
                  <a:lnTo>
                    <a:pt x="636" y="768"/>
                  </a:lnTo>
                  <a:lnTo>
                    <a:pt x="634" y="730"/>
                  </a:lnTo>
                  <a:lnTo>
                    <a:pt x="632" y="692"/>
                  </a:lnTo>
                  <a:lnTo>
                    <a:pt x="630" y="654"/>
                  </a:lnTo>
                  <a:lnTo>
                    <a:pt x="622" y="573"/>
                  </a:lnTo>
                  <a:lnTo>
                    <a:pt x="613" y="495"/>
                  </a:lnTo>
                  <a:lnTo>
                    <a:pt x="601" y="419"/>
                  </a:lnTo>
                  <a:lnTo>
                    <a:pt x="587" y="349"/>
                  </a:lnTo>
                  <a:lnTo>
                    <a:pt x="572" y="284"/>
                  </a:lnTo>
                  <a:lnTo>
                    <a:pt x="555" y="224"/>
                  </a:lnTo>
                  <a:lnTo>
                    <a:pt x="536" y="172"/>
                  </a:lnTo>
                  <a:lnTo>
                    <a:pt x="514" y="129"/>
                  </a:lnTo>
                  <a:lnTo>
                    <a:pt x="491" y="117"/>
                  </a:lnTo>
                  <a:lnTo>
                    <a:pt x="467" y="104"/>
                  </a:lnTo>
                  <a:lnTo>
                    <a:pt x="440" y="93"/>
                  </a:lnTo>
                  <a:lnTo>
                    <a:pt x="411" y="81"/>
                  </a:lnTo>
                  <a:lnTo>
                    <a:pt x="381" y="71"/>
                  </a:lnTo>
                  <a:lnTo>
                    <a:pt x="350" y="60"/>
                  </a:lnTo>
                  <a:lnTo>
                    <a:pt x="317" y="50"/>
                  </a:lnTo>
                  <a:lnTo>
                    <a:pt x="283" y="40"/>
                  </a:lnTo>
                  <a:lnTo>
                    <a:pt x="249" y="32"/>
                  </a:lnTo>
                  <a:lnTo>
                    <a:pt x="213" y="24"/>
                  </a:lnTo>
                  <a:lnTo>
                    <a:pt x="177" y="17"/>
                  </a:lnTo>
                  <a:lnTo>
                    <a:pt x="142" y="11"/>
                  </a:lnTo>
                  <a:lnTo>
                    <a:pt x="106" y="7"/>
                  </a:lnTo>
                  <a:lnTo>
                    <a:pt x="70" y="3"/>
                  </a:lnTo>
                  <a:lnTo>
                    <a:pt x="35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3596400" y="1064160"/>
              <a:ext cx="402840" cy="586440"/>
            </a:xfrm>
            <a:custGeom>
              <a:avLst/>
              <a:gdLst/>
              <a:ahLst/>
              <a:rect l="l" t="t" r="r" b="b"/>
              <a:pathLst>
                <a:path w="593" h="967">
                  <a:moveTo>
                    <a:pt x="0" y="0"/>
                  </a:moveTo>
                  <a:lnTo>
                    <a:pt x="19" y="93"/>
                  </a:lnTo>
                  <a:lnTo>
                    <a:pt x="32" y="194"/>
                  </a:lnTo>
                  <a:lnTo>
                    <a:pt x="42" y="298"/>
                  </a:lnTo>
                  <a:lnTo>
                    <a:pt x="46" y="403"/>
                  </a:lnTo>
                  <a:lnTo>
                    <a:pt x="47" y="504"/>
                  </a:lnTo>
                  <a:lnTo>
                    <a:pt x="47" y="600"/>
                  </a:lnTo>
                  <a:lnTo>
                    <a:pt x="45" y="687"/>
                  </a:lnTo>
                  <a:lnTo>
                    <a:pt x="43" y="761"/>
                  </a:lnTo>
                  <a:lnTo>
                    <a:pt x="51" y="759"/>
                  </a:lnTo>
                  <a:lnTo>
                    <a:pt x="59" y="756"/>
                  </a:lnTo>
                  <a:lnTo>
                    <a:pt x="67" y="754"/>
                  </a:lnTo>
                  <a:lnTo>
                    <a:pt x="75" y="752"/>
                  </a:lnTo>
                  <a:lnTo>
                    <a:pt x="83" y="750"/>
                  </a:lnTo>
                  <a:lnTo>
                    <a:pt x="91" y="748"/>
                  </a:lnTo>
                  <a:lnTo>
                    <a:pt x="99" y="746"/>
                  </a:lnTo>
                  <a:lnTo>
                    <a:pt x="107" y="744"/>
                  </a:lnTo>
                  <a:lnTo>
                    <a:pt x="105" y="755"/>
                  </a:lnTo>
                  <a:lnTo>
                    <a:pt x="103" y="765"/>
                  </a:lnTo>
                  <a:lnTo>
                    <a:pt x="100" y="776"/>
                  </a:lnTo>
                  <a:lnTo>
                    <a:pt x="98" y="787"/>
                  </a:lnTo>
                  <a:lnTo>
                    <a:pt x="121" y="790"/>
                  </a:lnTo>
                  <a:lnTo>
                    <a:pt x="146" y="798"/>
                  </a:lnTo>
                  <a:lnTo>
                    <a:pt x="175" y="810"/>
                  </a:lnTo>
                  <a:lnTo>
                    <a:pt x="205" y="825"/>
                  </a:lnTo>
                  <a:lnTo>
                    <a:pt x="239" y="843"/>
                  </a:lnTo>
                  <a:lnTo>
                    <a:pt x="272" y="862"/>
                  </a:lnTo>
                  <a:lnTo>
                    <a:pt x="306" y="883"/>
                  </a:lnTo>
                  <a:lnTo>
                    <a:pt x="342" y="902"/>
                  </a:lnTo>
                  <a:lnTo>
                    <a:pt x="378" y="921"/>
                  </a:lnTo>
                  <a:lnTo>
                    <a:pt x="412" y="938"/>
                  </a:lnTo>
                  <a:lnTo>
                    <a:pt x="447" y="952"/>
                  </a:lnTo>
                  <a:lnTo>
                    <a:pt x="480" y="961"/>
                  </a:lnTo>
                  <a:lnTo>
                    <a:pt x="513" y="967"/>
                  </a:lnTo>
                  <a:lnTo>
                    <a:pt x="541" y="966"/>
                  </a:lnTo>
                  <a:lnTo>
                    <a:pt x="569" y="959"/>
                  </a:lnTo>
                  <a:lnTo>
                    <a:pt x="593" y="945"/>
                  </a:lnTo>
                  <a:lnTo>
                    <a:pt x="593" y="899"/>
                  </a:lnTo>
                  <a:lnTo>
                    <a:pt x="593" y="854"/>
                  </a:lnTo>
                  <a:lnTo>
                    <a:pt x="593" y="809"/>
                  </a:lnTo>
                  <a:lnTo>
                    <a:pt x="593" y="764"/>
                  </a:lnTo>
                  <a:lnTo>
                    <a:pt x="590" y="725"/>
                  </a:lnTo>
                  <a:lnTo>
                    <a:pt x="586" y="685"/>
                  </a:lnTo>
                  <a:lnTo>
                    <a:pt x="583" y="646"/>
                  </a:lnTo>
                  <a:lnTo>
                    <a:pt x="581" y="605"/>
                  </a:lnTo>
                  <a:lnTo>
                    <a:pt x="573" y="530"/>
                  </a:lnTo>
                  <a:lnTo>
                    <a:pt x="562" y="458"/>
                  </a:lnTo>
                  <a:lnTo>
                    <a:pt x="551" y="389"/>
                  </a:lnTo>
                  <a:lnTo>
                    <a:pt x="538" y="324"/>
                  </a:lnTo>
                  <a:lnTo>
                    <a:pt x="523" y="264"/>
                  </a:lnTo>
                  <a:lnTo>
                    <a:pt x="507" y="210"/>
                  </a:lnTo>
                  <a:lnTo>
                    <a:pt x="487" y="163"/>
                  </a:lnTo>
                  <a:lnTo>
                    <a:pt x="467" y="123"/>
                  </a:lnTo>
                  <a:lnTo>
                    <a:pt x="447" y="111"/>
                  </a:lnTo>
                  <a:lnTo>
                    <a:pt x="425" y="101"/>
                  </a:lnTo>
                  <a:lnTo>
                    <a:pt x="401" y="89"/>
                  </a:lnTo>
                  <a:lnTo>
                    <a:pt x="376" y="79"/>
                  </a:lnTo>
                  <a:lnTo>
                    <a:pt x="348" y="69"/>
                  </a:lnTo>
                  <a:lnTo>
                    <a:pt x="320" y="58"/>
                  </a:lnTo>
                  <a:lnTo>
                    <a:pt x="290" y="48"/>
                  </a:lnTo>
                  <a:lnTo>
                    <a:pt x="259" y="39"/>
                  </a:lnTo>
                  <a:lnTo>
                    <a:pt x="228" y="31"/>
                  </a:lnTo>
                  <a:lnTo>
                    <a:pt x="196" y="23"/>
                  </a:lnTo>
                  <a:lnTo>
                    <a:pt x="162" y="17"/>
                  </a:lnTo>
                  <a:lnTo>
                    <a:pt x="130" y="11"/>
                  </a:lnTo>
                  <a:lnTo>
                    <a:pt x="97" y="7"/>
                  </a:lnTo>
                  <a:lnTo>
                    <a:pt x="65" y="3"/>
                  </a:lnTo>
                  <a:lnTo>
                    <a:pt x="3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9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3594960" y="1072440"/>
              <a:ext cx="374400" cy="556560"/>
            </a:xfrm>
            <a:custGeom>
              <a:avLst/>
              <a:gdLst/>
              <a:ahLst/>
              <a:rect l="l" t="t" r="r" b="b"/>
              <a:pathLst>
                <a:path w="548" h="926">
                  <a:moveTo>
                    <a:pt x="0" y="0"/>
                  </a:moveTo>
                  <a:lnTo>
                    <a:pt x="17" y="85"/>
                  </a:lnTo>
                  <a:lnTo>
                    <a:pt x="28" y="176"/>
                  </a:lnTo>
                  <a:lnTo>
                    <a:pt x="35" y="271"/>
                  </a:lnTo>
                  <a:lnTo>
                    <a:pt x="38" y="367"/>
                  </a:lnTo>
                  <a:lnTo>
                    <a:pt x="38" y="460"/>
                  </a:lnTo>
                  <a:lnTo>
                    <a:pt x="37" y="548"/>
                  </a:lnTo>
                  <a:lnTo>
                    <a:pt x="35" y="627"/>
                  </a:lnTo>
                  <a:lnTo>
                    <a:pt x="32" y="695"/>
                  </a:lnTo>
                  <a:lnTo>
                    <a:pt x="90" y="679"/>
                  </a:lnTo>
                  <a:lnTo>
                    <a:pt x="83" y="718"/>
                  </a:lnTo>
                  <a:lnTo>
                    <a:pt x="104" y="722"/>
                  </a:lnTo>
                  <a:lnTo>
                    <a:pt x="127" y="730"/>
                  </a:lnTo>
                  <a:lnTo>
                    <a:pt x="153" y="744"/>
                  </a:lnTo>
                  <a:lnTo>
                    <a:pt x="182" y="760"/>
                  </a:lnTo>
                  <a:lnTo>
                    <a:pt x="213" y="780"/>
                  </a:lnTo>
                  <a:lnTo>
                    <a:pt x="245" y="801"/>
                  </a:lnTo>
                  <a:lnTo>
                    <a:pt x="279" y="824"/>
                  </a:lnTo>
                  <a:lnTo>
                    <a:pt x="312" y="846"/>
                  </a:lnTo>
                  <a:lnTo>
                    <a:pt x="346" y="867"/>
                  </a:lnTo>
                  <a:lnTo>
                    <a:pt x="379" y="886"/>
                  </a:lnTo>
                  <a:lnTo>
                    <a:pt x="413" y="903"/>
                  </a:lnTo>
                  <a:lnTo>
                    <a:pt x="444" y="915"/>
                  </a:lnTo>
                  <a:lnTo>
                    <a:pt x="474" y="923"/>
                  </a:lnTo>
                  <a:lnTo>
                    <a:pt x="501" y="926"/>
                  </a:lnTo>
                  <a:lnTo>
                    <a:pt x="527" y="921"/>
                  </a:lnTo>
                  <a:lnTo>
                    <a:pt x="548" y="908"/>
                  </a:lnTo>
                  <a:lnTo>
                    <a:pt x="547" y="724"/>
                  </a:lnTo>
                  <a:lnTo>
                    <a:pt x="531" y="555"/>
                  </a:lnTo>
                  <a:lnTo>
                    <a:pt x="523" y="487"/>
                  </a:lnTo>
                  <a:lnTo>
                    <a:pt x="513" y="420"/>
                  </a:lnTo>
                  <a:lnTo>
                    <a:pt x="502" y="358"/>
                  </a:lnTo>
                  <a:lnTo>
                    <a:pt x="490" y="299"/>
                  </a:lnTo>
                  <a:lnTo>
                    <a:pt x="475" y="244"/>
                  </a:lnTo>
                  <a:lnTo>
                    <a:pt x="459" y="195"/>
                  </a:lnTo>
                  <a:lnTo>
                    <a:pt x="440" y="153"/>
                  </a:lnTo>
                  <a:lnTo>
                    <a:pt x="421" y="116"/>
                  </a:lnTo>
                  <a:lnTo>
                    <a:pt x="403" y="106"/>
                  </a:lnTo>
                  <a:lnTo>
                    <a:pt x="385" y="95"/>
                  </a:lnTo>
                  <a:lnTo>
                    <a:pt x="363" y="85"/>
                  </a:lnTo>
                  <a:lnTo>
                    <a:pt x="341" y="75"/>
                  </a:lnTo>
                  <a:lnTo>
                    <a:pt x="316" y="65"/>
                  </a:lnTo>
                  <a:lnTo>
                    <a:pt x="290" y="55"/>
                  </a:lnTo>
                  <a:lnTo>
                    <a:pt x="264" y="46"/>
                  </a:lnTo>
                  <a:lnTo>
                    <a:pt x="235" y="38"/>
                  </a:lnTo>
                  <a:lnTo>
                    <a:pt x="206" y="30"/>
                  </a:lnTo>
                  <a:lnTo>
                    <a:pt x="178" y="23"/>
                  </a:lnTo>
                  <a:lnTo>
                    <a:pt x="148" y="16"/>
                  </a:lnTo>
                  <a:lnTo>
                    <a:pt x="118" y="10"/>
                  </a:lnTo>
                  <a:lnTo>
                    <a:pt x="88" y="5"/>
                  </a:lnTo>
                  <a:lnTo>
                    <a:pt x="58" y="2"/>
                  </a:lnTo>
                  <a:lnTo>
                    <a:pt x="29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3615480" y="1115280"/>
              <a:ext cx="701280" cy="796320"/>
            </a:xfrm>
            <a:custGeom>
              <a:avLst/>
              <a:gdLst/>
              <a:ahLst/>
              <a:rect l="l" t="t" r="r" b="b"/>
              <a:pathLst>
                <a:path w="1028" h="1320">
                  <a:moveTo>
                    <a:pt x="0" y="0"/>
                  </a:moveTo>
                  <a:lnTo>
                    <a:pt x="25" y="0"/>
                  </a:lnTo>
                  <a:lnTo>
                    <a:pt x="49" y="2"/>
                  </a:lnTo>
                  <a:lnTo>
                    <a:pt x="73" y="3"/>
                  </a:lnTo>
                  <a:lnTo>
                    <a:pt x="97" y="3"/>
                  </a:lnTo>
                  <a:lnTo>
                    <a:pt x="122" y="4"/>
                  </a:lnTo>
                  <a:lnTo>
                    <a:pt x="147" y="5"/>
                  </a:lnTo>
                  <a:lnTo>
                    <a:pt x="172" y="7"/>
                  </a:lnTo>
                  <a:lnTo>
                    <a:pt x="197" y="8"/>
                  </a:lnTo>
                  <a:lnTo>
                    <a:pt x="223" y="11"/>
                  </a:lnTo>
                  <a:lnTo>
                    <a:pt x="248" y="12"/>
                  </a:lnTo>
                  <a:lnTo>
                    <a:pt x="274" y="14"/>
                  </a:lnTo>
                  <a:lnTo>
                    <a:pt x="300" y="16"/>
                  </a:lnTo>
                  <a:lnTo>
                    <a:pt x="326" y="19"/>
                  </a:lnTo>
                  <a:lnTo>
                    <a:pt x="353" y="21"/>
                  </a:lnTo>
                  <a:lnTo>
                    <a:pt x="380" y="25"/>
                  </a:lnTo>
                  <a:lnTo>
                    <a:pt x="408" y="27"/>
                  </a:lnTo>
                  <a:lnTo>
                    <a:pt x="436" y="30"/>
                  </a:lnTo>
                  <a:lnTo>
                    <a:pt x="463" y="34"/>
                  </a:lnTo>
                  <a:lnTo>
                    <a:pt x="492" y="37"/>
                  </a:lnTo>
                  <a:lnTo>
                    <a:pt x="521" y="42"/>
                  </a:lnTo>
                  <a:lnTo>
                    <a:pt x="550" y="45"/>
                  </a:lnTo>
                  <a:lnTo>
                    <a:pt x="580" y="50"/>
                  </a:lnTo>
                  <a:lnTo>
                    <a:pt x="610" y="54"/>
                  </a:lnTo>
                  <a:lnTo>
                    <a:pt x="640" y="59"/>
                  </a:lnTo>
                  <a:lnTo>
                    <a:pt x="671" y="65"/>
                  </a:lnTo>
                  <a:lnTo>
                    <a:pt x="703" y="69"/>
                  </a:lnTo>
                  <a:lnTo>
                    <a:pt x="734" y="75"/>
                  </a:lnTo>
                  <a:lnTo>
                    <a:pt x="766" y="81"/>
                  </a:lnTo>
                  <a:lnTo>
                    <a:pt x="800" y="87"/>
                  </a:lnTo>
                  <a:lnTo>
                    <a:pt x="833" y="93"/>
                  </a:lnTo>
                  <a:lnTo>
                    <a:pt x="868" y="99"/>
                  </a:lnTo>
                  <a:lnTo>
                    <a:pt x="902" y="106"/>
                  </a:lnTo>
                  <a:lnTo>
                    <a:pt x="928" y="230"/>
                  </a:lnTo>
                  <a:lnTo>
                    <a:pt x="952" y="350"/>
                  </a:lnTo>
                  <a:lnTo>
                    <a:pt x="973" y="469"/>
                  </a:lnTo>
                  <a:lnTo>
                    <a:pt x="991" y="588"/>
                  </a:lnTo>
                  <a:lnTo>
                    <a:pt x="1007" y="707"/>
                  </a:lnTo>
                  <a:lnTo>
                    <a:pt x="1019" y="828"/>
                  </a:lnTo>
                  <a:lnTo>
                    <a:pt x="1025" y="952"/>
                  </a:lnTo>
                  <a:lnTo>
                    <a:pt x="1028" y="1077"/>
                  </a:lnTo>
                  <a:lnTo>
                    <a:pt x="1000" y="1085"/>
                  </a:lnTo>
                  <a:lnTo>
                    <a:pt x="971" y="1094"/>
                  </a:lnTo>
                  <a:lnTo>
                    <a:pt x="944" y="1102"/>
                  </a:lnTo>
                  <a:lnTo>
                    <a:pt x="916" y="1110"/>
                  </a:lnTo>
                  <a:lnTo>
                    <a:pt x="887" y="1119"/>
                  </a:lnTo>
                  <a:lnTo>
                    <a:pt x="860" y="1125"/>
                  </a:lnTo>
                  <a:lnTo>
                    <a:pt x="832" y="1134"/>
                  </a:lnTo>
                  <a:lnTo>
                    <a:pt x="804" y="1142"/>
                  </a:lnTo>
                  <a:lnTo>
                    <a:pt x="776" y="1149"/>
                  </a:lnTo>
                  <a:lnTo>
                    <a:pt x="748" y="1157"/>
                  </a:lnTo>
                  <a:lnTo>
                    <a:pt x="720" y="1163"/>
                  </a:lnTo>
                  <a:lnTo>
                    <a:pt x="693" y="1170"/>
                  </a:lnTo>
                  <a:lnTo>
                    <a:pt x="665" y="1178"/>
                  </a:lnTo>
                  <a:lnTo>
                    <a:pt x="636" y="1185"/>
                  </a:lnTo>
                  <a:lnTo>
                    <a:pt x="609" y="1192"/>
                  </a:lnTo>
                  <a:lnTo>
                    <a:pt x="581" y="1199"/>
                  </a:lnTo>
                  <a:lnTo>
                    <a:pt x="553" y="1206"/>
                  </a:lnTo>
                  <a:lnTo>
                    <a:pt x="526" y="1214"/>
                  </a:lnTo>
                  <a:lnTo>
                    <a:pt x="497" y="1221"/>
                  </a:lnTo>
                  <a:lnTo>
                    <a:pt x="469" y="1228"/>
                  </a:lnTo>
                  <a:lnTo>
                    <a:pt x="441" y="1235"/>
                  </a:lnTo>
                  <a:lnTo>
                    <a:pt x="414" y="1243"/>
                  </a:lnTo>
                  <a:lnTo>
                    <a:pt x="386" y="1250"/>
                  </a:lnTo>
                  <a:lnTo>
                    <a:pt x="357" y="1257"/>
                  </a:lnTo>
                  <a:lnTo>
                    <a:pt x="330" y="1265"/>
                  </a:lnTo>
                  <a:lnTo>
                    <a:pt x="302" y="1272"/>
                  </a:lnTo>
                  <a:lnTo>
                    <a:pt x="274" y="1280"/>
                  </a:lnTo>
                  <a:lnTo>
                    <a:pt x="246" y="1288"/>
                  </a:lnTo>
                  <a:lnTo>
                    <a:pt x="218" y="1296"/>
                  </a:lnTo>
                  <a:lnTo>
                    <a:pt x="190" y="1304"/>
                  </a:lnTo>
                  <a:lnTo>
                    <a:pt x="162" y="1312"/>
                  </a:lnTo>
                  <a:lnTo>
                    <a:pt x="134" y="1320"/>
                  </a:lnTo>
                  <a:lnTo>
                    <a:pt x="144" y="1284"/>
                  </a:lnTo>
                  <a:lnTo>
                    <a:pt x="149" y="1228"/>
                  </a:lnTo>
                  <a:lnTo>
                    <a:pt x="148" y="1154"/>
                  </a:lnTo>
                  <a:lnTo>
                    <a:pt x="144" y="1068"/>
                  </a:lnTo>
                  <a:lnTo>
                    <a:pt x="136" y="970"/>
                  </a:lnTo>
                  <a:lnTo>
                    <a:pt x="126" y="863"/>
                  </a:lnTo>
                  <a:lnTo>
                    <a:pt x="113" y="752"/>
                  </a:lnTo>
                  <a:lnTo>
                    <a:pt x="98" y="638"/>
                  </a:lnTo>
                  <a:lnTo>
                    <a:pt x="83" y="525"/>
                  </a:lnTo>
                  <a:lnTo>
                    <a:pt x="67" y="416"/>
                  </a:lnTo>
                  <a:lnTo>
                    <a:pt x="52" y="312"/>
                  </a:lnTo>
                  <a:lnTo>
                    <a:pt x="37" y="219"/>
                  </a:lnTo>
                  <a:lnTo>
                    <a:pt x="25" y="139"/>
                  </a:lnTo>
                  <a:lnTo>
                    <a:pt x="13" y="73"/>
                  </a:lnTo>
                  <a:lnTo>
                    <a:pt x="5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3643560" y="1143000"/>
              <a:ext cx="665640" cy="743760"/>
            </a:xfrm>
            <a:custGeom>
              <a:avLst/>
              <a:gdLst/>
              <a:ahLst/>
              <a:rect l="l" t="t" r="r" b="b"/>
              <a:pathLst>
                <a:path w="974" h="1234">
                  <a:moveTo>
                    <a:pt x="0" y="0"/>
                  </a:moveTo>
                  <a:lnTo>
                    <a:pt x="27" y="0"/>
                  </a:lnTo>
                  <a:lnTo>
                    <a:pt x="56" y="0"/>
                  </a:lnTo>
                  <a:lnTo>
                    <a:pt x="84" y="1"/>
                  </a:lnTo>
                  <a:lnTo>
                    <a:pt x="113" y="2"/>
                  </a:lnTo>
                  <a:lnTo>
                    <a:pt x="141" y="2"/>
                  </a:lnTo>
                  <a:lnTo>
                    <a:pt x="170" y="5"/>
                  </a:lnTo>
                  <a:lnTo>
                    <a:pt x="199" y="6"/>
                  </a:lnTo>
                  <a:lnTo>
                    <a:pt x="228" y="7"/>
                  </a:lnTo>
                  <a:lnTo>
                    <a:pt x="257" y="9"/>
                  </a:lnTo>
                  <a:lnTo>
                    <a:pt x="284" y="11"/>
                  </a:lnTo>
                  <a:lnTo>
                    <a:pt x="313" y="14"/>
                  </a:lnTo>
                  <a:lnTo>
                    <a:pt x="342" y="16"/>
                  </a:lnTo>
                  <a:lnTo>
                    <a:pt x="371" y="18"/>
                  </a:lnTo>
                  <a:lnTo>
                    <a:pt x="399" y="21"/>
                  </a:lnTo>
                  <a:lnTo>
                    <a:pt x="427" y="24"/>
                  </a:lnTo>
                  <a:lnTo>
                    <a:pt x="456" y="26"/>
                  </a:lnTo>
                  <a:lnTo>
                    <a:pt x="483" y="30"/>
                  </a:lnTo>
                  <a:lnTo>
                    <a:pt x="511" y="33"/>
                  </a:lnTo>
                  <a:lnTo>
                    <a:pt x="538" y="37"/>
                  </a:lnTo>
                  <a:lnTo>
                    <a:pt x="565" y="41"/>
                  </a:lnTo>
                  <a:lnTo>
                    <a:pt x="592" y="45"/>
                  </a:lnTo>
                  <a:lnTo>
                    <a:pt x="618" y="48"/>
                  </a:lnTo>
                  <a:lnTo>
                    <a:pt x="645" y="53"/>
                  </a:lnTo>
                  <a:lnTo>
                    <a:pt x="670" y="58"/>
                  </a:lnTo>
                  <a:lnTo>
                    <a:pt x="695" y="62"/>
                  </a:lnTo>
                  <a:lnTo>
                    <a:pt x="721" y="67"/>
                  </a:lnTo>
                  <a:lnTo>
                    <a:pt x="745" y="71"/>
                  </a:lnTo>
                  <a:lnTo>
                    <a:pt x="769" y="76"/>
                  </a:lnTo>
                  <a:lnTo>
                    <a:pt x="792" y="81"/>
                  </a:lnTo>
                  <a:lnTo>
                    <a:pt x="815" y="85"/>
                  </a:lnTo>
                  <a:lnTo>
                    <a:pt x="837" y="91"/>
                  </a:lnTo>
                  <a:lnTo>
                    <a:pt x="859" y="96"/>
                  </a:lnTo>
                  <a:lnTo>
                    <a:pt x="884" y="215"/>
                  </a:lnTo>
                  <a:lnTo>
                    <a:pt x="906" y="328"/>
                  </a:lnTo>
                  <a:lnTo>
                    <a:pt x="925" y="438"/>
                  </a:lnTo>
                  <a:lnTo>
                    <a:pt x="941" y="546"/>
                  </a:lnTo>
                  <a:lnTo>
                    <a:pt x="953" y="654"/>
                  </a:lnTo>
                  <a:lnTo>
                    <a:pt x="963" y="765"/>
                  </a:lnTo>
                  <a:lnTo>
                    <a:pt x="970" y="882"/>
                  </a:lnTo>
                  <a:lnTo>
                    <a:pt x="974" y="1005"/>
                  </a:lnTo>
                  <a:lnTo>
                    <a:pt x="125" y="1234"/>
                  </a:lnTo>
                  <a:lnTo>
                    <a:pt x="123" y="1079"/>
                  </a:lnTo>
                  <a:lnTo>
                    <a:pt x="115" y="925"/>
                  </a:lnTo>
                  <a:lnTo>
                    <a:pt x="101" y="770"/>
                  </a:lnTo>
                  <a:lnTo>
                    <a:pt x="85" y="616"/>
                  </a:lnTo>
                  <a:lnTo>
                    <a:pt x="64" y="463"/>
                  </a:lnTo>
                  <a:lnTo>
                    <a:pt x="43" y="309"/>
                  </a:lnTo>
                  <a:lnTo>
                    <a:pt x="22" y="1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3601800" y="1758960"/>
              <a:ext cx="619920" cy="165600"/>
            </a:xfrm>
            <a:custGeom>
              <a:avLst/>
              <a:gdLst/>
              <a:ahLst/>
              <a:rect l="l" t="t" r="r" b="b"/>
              <a:pathLst>
                <a:path w="909" h="276">
                  <a:moveTo>
                    <a:pt x="0" y="246"/>
                  </a:moveTo>
                  <a:lnTo>
                    <a:pt x="909" y="0"/>
                  </a:lnTo>
                  <a:lnTo>
                    <a:pt x="901" y="17"/>
                  </a:lnTo>
                  <a:lnTo>
                    <a:pt x="0" y="276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3796920" y="2034720"/>
              <a:ext cx="474480" cy="167040"/>
            </a:xfrm>
            <a:custGeom>
              <a:avLst/>
              <a:gdLst/>
              <a:ahLst/>
              <a:rect l="l" t="t" r="r" b="b"/>
              <a:pathLst>
                <a:path w="695" h="277">
                  <a:moveTo>
                    <a:pt x="618" y="0"/>
                  </a:moveTo>
                  <a:lnTo>
                    <a:pt x="595" y="13"/>
                  </a:lnTo>
                  <a:lnTo>
                    <a:pt x="569" y="26"/>
                  </a:lnTo>
                  <a:lnTo>
                    <a:pt x="542" y="39"/>
                  </a:lnTo>
                  <a:lnTo>
                    <a:pt x="515" y="50"/>
                  </a:lnTo>
                  <a:lnTo>
                    <a:pt x="485" y="62"/>
                  </a:lnTo>
                  <a:lnTo>
                    <a:pt x="454" y="72"/>
                  </a:lnTo>
                  <a:lnTo>
                    <a:pt x="422" y="81"/>
                  </a:lnTo>
                  <a:lnTo>
                    <a:pt x="390" y="91"/>
                  </a:lnTo>
                  <a:lnTo>
                    <a:pt x="358" y="100"/>
                  </a:lnTo>
                  <a:lnTo>
                    <a:pt x="325" y="108"/>
                  </a:lnTo>
                  <a:lnTo>
                    <a:pt x="291" y="115"/>
                  </a:lnTo>
                  <a:lnTo>
                    <a:pt x="258" y="122"/>
                  </a:lnTo>
                  <a:lnTo>
                    <a:pt x="225" y="129"/>
                  </a:lnTo>
                  <a:lnTo>
                    <a:pt x="192" y="134"/>
                  </a:lnTo>
                  <a:lnTo>
                    <a:pt x="160" y="139"/>
                  </a:lnTo>
                  <a:lnTo>
                    <a:pt x="129" y="144"/>
                  </a:lnTo>
                  <a:lnTo>
                    <a:pt x="109" y="160"/>
                  </a:lnTo>
                  <a:lnTo>
                    <a:pt x="92" y="174"/>
                  </a:lnTo>
                  <a:lnTo>
                    <a:pt x="75" y="186"/>
                  </a:lnTo>
                  <a:lnTo>
                    <a:pt x="60" y="198"/>
                  </a:lnTo>
                  <a:lnTo>
                    <a:pt x="45" y="212"/>
                  </a:lnTo>
                  <a:lnTo>
                    <a:pt x="30" y="225"/>
                  </a:lnTo>
                  <a:lnTo>
                    <a:pt x="15" y="243"/>
                  </a:lnTo>
                  <a:lnTo>
                    <a:pt x="0" y="263"/>
                  </a:lnTo>
                  <a:lnTo>
                    <a:pt x="43" y="269"/>
                  </a:lnTo>
                  <a:lnTo>
                    <a:pt x="85" y="274"/>
                  </a:lnTo>
                  <a:lnTo>
                    <a:pt x="124" y="276"/>
                  </a:lnTo>
                  <a:lnTo>
                    <a:pt x="163" y="277"/>
                  </a:lnTo>
                  <a:lnTo>
                    <a:pt x="200" y="277"/>
                  </a:lnTo>
                  <a:lnTo>
                    <a:pt x="237" y="276"/>
                  </a:lnTo>
                  <a:lnTo>
                    <a:pt x="272" y="274"/>
                  </a:lnTo>
                  <a:lnTo>
                    <a:pt x="306" y="270"/>
                  </a:lnTo>
                  <a:lnTo>
                    <a:pt x="339" y="266"/>
                  </a:lnTo>
                  <a:lnTo>
                    <a:pt x="372" y="261"/>
                  </a:lnTo>
                  <a:lnTo>
                    <a:pt x="405" y="255"/>
                  </a:lnTo>
                  <a:lnTo>
                    <a:pt x="436" y="248"/>
                  </a:lnTo>
                  <a:lnTo>
                    <a:pt x="468" y="243"/>
                  </a:lnTo>
                  <a:lnTo>
                    <a:pt x="501" y="236"/>
                  </a:lnTo>
                  <a:lnTo>
                    <a:pt x="533" y="228"/>
                  </a:lnTo>
                  <a:lnTo>
                    <a:pt x="565" y="221"/>
                  </a:lnTo>
                  <a:lnTo>
                    <a:pt x="670" y="147"/>
                  </a:lnTo>
                  <a:lnTo>
                    <a:pt x="695" y="79"/>
                  </a:lnTo>
                  <a:lnTo>
                    <a:pt x="686" y="69"/>
                  </a:lnTo>
                  <a:lnTo>
                    <a:pt x="677" y="58"/>
                  </a:lnTo>
                  <a:lnTo>
                    <a:pt x="667" y="49"/>
                  </a:lnTo>
                  <a:lnTo>
                    <a:pt x="657" y="39"/>
                  </a:lnTo>
                  <a:lnTo>
                    <a:pt x="647" y="30"/>
                  </a:lnTo>
                  <a:lnTo>
                    <a:pt x="637" y="20"/>
                  </a:lnTo>
                  <a:lnTo>
                    <a:pt x="627" y="10"/>
                  </a:lnTo>
                  <a:lnTo>
                    <a:pt x="618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3797640" y="2082240"/>
              <a:ext cx="559080" cy="153000"/>
            </a:xfrm>
            <a:custGeom>
              <a:avLst/>
              <a:gdLst/>
              <a:ahLst/>
              <a:rect l="l" t="t" r="r" b="b"/>
              <a:pathLst>
                <a:path w="819" h="254">
                  <a:moveTo>
                    <a:pt x="626" y="151"/>
                  </a:moveTo>
                  <a:lnTo>
                    <a:pt x="643" y="143"/>
                  </a:lnTo>
                  <a:lnTo>
                    <a:pt x="660" y="135"/>
                  </a:lnTo>
                  <a:lnTo>
                    <a:pt x="675" y="127"/>
                  </a:lnTo>
                  <a:lnTo>
                    <a:pt x="690" y="119"/>
                  </a:lnTo>
                  <a:lnTo>
                    <a:pt x="704" y="110"/>
                  </a:lnTo>
                  <a:lnTo>
                    <a:pt x="717" y="104"/>
                  </a:lnTo>
                  <a:lnTo>
                    <a:pt x="729" y="96"/>
                  </a:lnTo>
                  <a:lnTo>
                    <a:pt x="741" y="87"/>
                  </a:lnTo>
                  <a:lnTo>
                    <a:pt x="752" y="78"/>
                  </a:lnTo>
                  <a:lnTo>
                    <a:pt x="763" y="69"/>
                  </a:lnTo>
                  <a:lnTo>
                    <a:pt x="773" y="60"/>
                  </a:lnTo>
                  <a:lnTo>
                    <a:pt x="782" y="49"/>
                  </a:lnTo>
                  <a:lnTo>
                    <a:pt x="792" y="39"/>
                  </a:lnTo>
                  <a:lnTo>
                    <a:pt x="801" y="26"/>
                  </a:lnTo>
                  <a:lnTo>
                    <a:pt x="810" y="14"/>
                  </a:lnTo>
                  <a:lnTo>
                    <a:pt x="819" y="0"/>
                  </a:lnTo>
                  <a:lnTo>
                    <a:pt x="819" y="98"/>
                  </a:lnTo>
                  <a:lnTo>
                    <a:pt x="807" y="113"/>
                  </a:lnTo>
                  <a:lnTo>
                    <a:pt x="793" y="127"/>
                  </a:lnTo>
                  <a:lnTo>
                    <a:pt x="780" y="140"/>
                  </a:lnTo>
                  <a:lnTo>
                    <a:pt x="766" y="152"/>
                  </a:lnTo>
                  <a:lnTo>
                    <a:pt x="751" y="162"/>
                  </a:lnTo>
                  <a:lnTo>
                    <a:pt x="737" y="172"/>
                  </a:lnTo>
                  <a:lnTo>
                    <a:pt x="723" y="181"/>
                  </a:lnTo>
                  <a:lnTo>
                    <a:pt x="706" y="189"/>
                  </a:lnTo>
                  <a:lnTo>
                    <a:pt x="690" y="197"/>
                  </a:lnTo>
                  <a:lnTo>
                    <a:pt x="674" y="203"/>
                  </a:lnTo>
                  <a:lnTo>
                    <a:pt x="657" y="210"/>
                  </a:lnTo>
                  <a:lnTo>
                    <a:pt x="640" y="215"/>
                  </a:lnTo>
                  <a:lnTo>
                    <a:pt x="621" y="221"/>
                  </a:lnTo>
                  <a:lnTo>
                    <a:pt x="603" y="226"/>
                  </a:lnTo>
                  <a:lnTo>
                    <a:pt x="583" y="231"/>
                  </a:lnTo>
                  <a:lnTo>
                    <a:pt x="564" y="236"/>
                  </a:lnTo>
                  <a:lnTo>
                    <a:pt x="532" y="241"/>
                  </a:lnTo>
                  <a:lnTo>
                    <a:pt x="500" y="244"/>
                  </a:lnTo>
                  <a:lnTo>
                    <a:pt x="467" y="248"/>
                  </a:lnTo>
                  <a:lnTo>
                    <a:pt x="433" y="251"/>
                  </a:lnTo>
                  <a:lnTo>
                    <a:pt x="399" y="253"/>
                  </a:lnTo>
                  <a:lnTo>
                    <a:pt x="364" y="254"/>
                  </a:lnTo>
                  <a:lnTo>
                    <a:pt x="330" y="254"/>
                  </a:lnTo>
                  <a:lnTo>
                    <a:pt x="294" y="254"/>
                  </a:lnTo>
                  <a:lnTo>
                    <a:pt x="257" y="252"/>
                  </a:lnTo>
                  <a:lnTo>
                    <a:pt x="221" y="250"/>
                  </a:lnTo>
                  <a:lnTo>
                    <a:pt x="185" y="246"/>
                  </a:lnTo>
                  <a:lnTo>
                    <a:pt x="148" y="241"/>
                  </a:lnTo>
                  <a:lnTo>
                    <a:pt x="111" y="235"/>
                  </a:lnTo>
                  <a:lnTo>
                    <a:pt x="74" y="227"/>
                  </a:lnTo>
                  <a:lnTo>
                    <a:pt x="37" y="218"/>
                  </a:lnTo>
                  <a:lnTo>
                    <a:pt x="0" y="207"/>
                  </a:lnTo>
                  <a:lnTo>
                    <a:pt x="7" y="158"/>
                  </a:lnTo>
                  <a:lnTo>
                    <a:pt x="50" y="165"/>
                  </a:lnTo>
                  <a:lnTo>
                    <a:pt x="91" y="170"/>
                  </a:lnTo>
                  <a:lnTo>
                    <a:pt x="130" y="175"/>
                  </a:lnTo>
                  <a:lnTo>
                    <a:pt x="170" y="178"/>
                  </a:lnTo>
                  <a:lnTo>
                    <a:pt x="208" y="181"/>
                  </a:lnTo>
                  <a:lnTo>
                    <a:pt x="244" y="183"/>
                  </a:lnTo>
                  <a:lnTo>
                    <a:pt x="281" y="183"/>
                  </a:lnTo>
                  <a:lnTo>
                    <a:pt x="317" y="183"/>
                  </a:lnTo>
                  <a:lnTo>
                    <a:pt x="354" y="182"/>
                  </a:lnTo>
                  <a:lnTo>
                    <a:pt x="391" y="180"/>
                  </a:lnTo>
                  <a:lnTo>
                    <a:pt x="428" y="176"/>
                  </a:lnTo>
                  <a:lnTo>
                    <a:pt x="464" y="173"/>
                  </a:lnTo>
                  <a:lnTo>
                    <a:pt x="504" y="168"/>
                  </a:lnTo>
                  <a:lnTo>
                    <a:pt x="543" y="163"/>
                  </a:lnTo>
                  <a:lnTo>
                    <a:pt x="583" y="158"/>
                  </a:lnTo>
                  <a:lnTo>
                    <a:pt x="626" y="15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3813120" y="2107080"/>
              <a:ext cx="257400" cy="127800"/>
            </a:xfrm>
            <a:custGeom>
              <a:avLst/>
              <a:gdLst/>
              <a:ahLst/>
              <a:rect l="l" t="t" r="r" b="b"/>
              <a:pathLst>
                <a:path w="379" h="211">
                  <a:moveTo>
                    <a:pt x="323" y="53"/>
                  </a:moveTo>
                  <a:lnTo>
                    <a:pt x="376" y="0"/>
                  </a:lnTo>
                  <a:lnTo>
                    <a:pt x="379" y="70"/>
                  </a:lnTo>
                  <a:lnTo>
                    <a:pt x="336" y="114"/>
                  </a:lnTo>
                  <a:lnTo>
                    <a:pt x="315" y="125"/>
                  </a:lnTo>
                  <a:lnTo>
                    <a:pt x="295" y="135"/>
                  </a:lnTo>
                  <a:lnTo>
                    <a:pt x="276" y="144"/>
                  </a:lnTo>
                  <a:lnTo>
                    <a:pt x="255" y="152"/>
                  </a:lnTo>
                  <a:lnTo>
                    <a:pt x="235" y="160"/>
                  </a:lnTo>
                  <a:lnTo>
                    <a:pt x="216" y="166"/>
                  </a:lnTo>
                  <a:lnTo>
                    <a:pt x="195" y="171"/>
                  </a:lnTo>
                  <a:lnTo>
                    <a:pt x="175" y="177"/>
                  </a:lnTo>
                  <a:lnTo>
                    <a:pt x="155" y="182"/>
                  </a:lnTo>
                  <a:lnTo>
                    <a:pt x="134" y="186"/>
                  </a:lnTo>
                  <a:lnTo>
                    <a:pt x="113" y="191"/>
                  </a:lnTo>
                  <a:lnTo>
                    <a:pt x="93" y="194"/>
                  </a:lnTo>
                  <a:lnTo>
                    <a:pt x="71" y="199"/>
                  </a:lnTo>
                  <a:lnTo>
                    <a:pt x="50" y="203"/>
                  </a:lnTo>
                  <a:lnTo>
                    <a:pt x="27" y="207"/>
                  </a:lnTo>
                  <a:lnTo>
                    <a:pt x="5" y="211"/>
                  </a:lnTo>
                  <a:lnTo>
                    <a:pt x="0" y="132"/>
                  </a:lnTo>
                  <a:lnTo>
                    <a:pt x="17" y="128"/>
                  </a:lnTo>
                  <a:lnTo>
                    <a:pt x="34" y="124"/>
                  </a:lnTo>
                  <a:lnTo>
                    <a:pt x="52" y="121"/>
                  </a:lnTo>
                  <a:lnTo>
                    <a:pt x="71" y="118"/>
                  </a:lnTo>
                  <a:lnTo>
                    <a:pt x="90" y="115"/>
                  </a:lnTo>
                  <a:lnTo>
                    <a:pt x="110" y="112"/>
                  </a:lnTo>
                  <a:lnTo>
                    <a:pt x="131" y="108"/>
                  </a:lnTo>
                  <a:lnTo>
                    <a:pt x="151" y="105"/>
                  </a:lnTo>
                  <a:lnTo>
                    <a:pt x="172" y="101"/>
                  </a:lnTo>
                  <a:lnTo>
                    <a:pt x="193" y="97"/>
                  </a:lnTo>
                  <a:lnTo>
                    <a:pt x="215" y="91"/>
                  </a:lnTo>
                  <a:lnTo>
                    <a:pt x="237" y="85"/>
                  </a:lnTo>
                  <a:lnTo>
                    <a:pt x="258" y="78"/>
                  </a:lnTo>
                  <a:lnTo>
                    <a:pt x="280" y="71"/>
                  </a:lnTo>
                  <a:lnTo>
                    <a:pt x="301" y="62"/>
                  </a:lnTo>
                  <a:lnTo>
                    <a:pt x="323" y="5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3840120" y="2131560"/>
              <a:ext cx="194760" cy="98280"/>
            </a:xfrm>
            <a:custGeom>
              <a:avLst/>
              <a:gdLst/>
              <a:ahLst/>
              <a:rect l="l" t="t" r="r" b="b"/>
              <a:pathLst>
                <a:path w="287" h="165">
                  <a:moveTo>
                    <a:pt x="5" y="103"/>
                  </a:moveTo>
                  <a:lnTo>
                    <a:pt x="21" y="101"/>
                  </a:lnTo>
                  <a:lnTo>
                    <a:pt x="37" y="98"/>
                  </a:lnTo>
                  <a:lnTo>
                    <a:pt x="53" y="96"/>
                  </a:lnTo>
                  <a:lnTo>
                    <a:pt x="71" y="93"/>
                  </a:lnTo>
                  <a:lnTo>
                    <a:pt x="88" y="88"/>
                  </a:lnTo>
                  <a:lnTo>
                    <a:pt x="105" y="83"/>
                  </a:lnTo>
                  <a:lnTo>
                    <a:pt x="122" y="78"/>
                  </a:lnTo>
                  <a:lnTo>
                    <a:pt x="141" y="72"/>
                  </a:lnTo>
                  <a:lnTo>
                    <a:pt x="158" y="65"/>
                  </a:lnTo>
                  <a:lnTo>
                    <a:pt x="177" y="58"/>
                  </a:lnTo>
                  <a:lnTo>
                    <a:pt x="195" y="50"/>
                  </a:lnTo>
                  <a:lnTo>
                    <a:pt x="213" y="41"/>
                  </a:lnTo>
                  <a:lnTo>
                    <a:pt x="232" y="31"/>
                  </a:lnTo>
                  <a:lnTo>
                    <a:pt x="250" y="22"/>
                  </a:lnTo>
                  <a:lnTo>
                    <a:pt x="269" y="12"/>
                  </a:lnTo>
                  <a:lnTo>
                    <a:pt x="287" y="0"/>
                  </a:lnTo>
                  <a:lnTo>
                    <a:pt x="287" y="75"/>
                  </a:lnTo>
                  <a:lnTo>
                    <a:pt x="269" y="86"/>
                  </a:lnTo>
                  <a:lnTo>
                    <a:pt x="250" y="95"/>
                  </a:lnTo>
                  <a:lnTo>
                    <a:pt x="232" y="104"/>
                  </a:lnTo>
                  <a:lnTo>
                    <a:pt x="215" y="112"/>
                  </a:lnTo>
                  <a:lnTo>
                    <a:pt x="196" y="121"/>
                  </a:lnTo>
                  <a:lnTo>
                    <a:pt x="178" y="128"/>
                  </a:lnTo>
                  <a:lnTo>
                    <a:pt x="161" y="135"/>
                  </a:lnTo>
                  <a:lnTo>
                    <a:pt x="142" y="142"/>
                  </a:lnTo>
                  <a:lnTo>
                    <a:pt x="124" y="148"/>
                  </a:lnTo>
                  <a:lnTo>
                    <a:pt x="106" y="152"/>
                  </a:lnTo>
                  <a:lnTo>
                    <a:pt x="89" y="157"/>
                  </a:lnTo>
                  <a:lnTo>
                    <a:pt x="71" y="160"/>
                  </a:lnTo>
                  <a:lnTo>
                    <a:pt x="53" y="163"/>
                  </a:lnTo>
                  <a:lnTo>
                    <a:pt x="35" y="164"/>
                  </a:lnTo>
                  <a:lnTo>
                    <a:pt x="18" y="165"/>
                  </a:lnTo>
                  <a:lnTo>
                    <a:pt x="0" y="165"/>
                  </a:lnTo>
                  <a:lnTo>
                    <a:pt x="5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3844440" y="2134800"/>
              <a:ext cx="184320" cy="90000"/>
            </a:xfrm>
            <a:custGeom>
              <a:avLst/>
              <a:gdLst/>
              <a:ahLst/>
              <a:rect l="l" t="t" r="r" b="b"/>
              <a:pathLst>
                <a:path w="269" h="158">
                  <a:moveTo>
                    <a:pt x="3" y="96"/>
                  </a:moveTo>
                  <a:lnTo>
                    <a:pt x="18" y="93"/>
                  </a:lnTo>
                  <a:lnTo>
                    <a:pt x="33" y="91"/>
                  </a:lnTo>
                  <a:lnTo>
                    <a:pt x="48" y="89"/>
                  </a:lnTo>
                  <a:lnTo>
                    <a:pt x="64" y="85"/>
                  </a:lnTo>
                  <a:lnTo>
                    <a:pt x="80" y="82"/>
                  </a:lnTo>
                  <a:lnTo>
                    <a:pt x="96" y="77"/>
                  </a:lnTo>
                  <a:lnTo>
                    <a:pt x="114" y="72"/>
                  </a:lnTo>
                  <a:lnTo>
                    <a:pt x="130" y="67"/>
                  </a:lnTo>
                  <a:lnTo>
                    <a:pt x="147" y="60"/>
                  </a:lnTo>
                  <a:lnTo>
                    <a:pt x="164" y="53"/>
                  </a:lnTo>
                  <a:lnTo>
                    <a:pt x="182" y="46"/>
                  </a:lnTo>
                  <a:lnTo>
                    <a:pt x="199" y="38"/>
                  </a:lnTo>
                  <a:lnTo>
                    <a:pt x="216" y="30"/>
                  </a:lnTo>
                  <a:lnTo>
                    <a:pt x="235" y="21"/>
                  </a:lnTo>
                  <a:lnTo>
                    <a:pt x="252" y="11"/>
                  </a:lnTo>
                  <a:lnTo>
                    <a:pt x="269" y="0"/>
                  </a:lnTo>
                  <a:lnTo>
                    <a:pt x="269" y="19"/>
                  </a:lnTo>
                  <a:lnTo>
                    <a:pt x="269" y="37"/>
                  </a:lnTo>
                  <a:lnTo>
                    <a:pt x="269" y="55"/>
                  </a:lnTo>
                  <a:lnTo>
                    <a:pt x="269" y="74"/>
                  </a:lnTo>
                  <a:lnTo>
                    <a:pt x="252" y="83"/>
                  </a:lnTo>
                  <a:lnTo>
                    <a:pt x="233" y="92"/>
                  </a:lnTo>
                  <a:lnTo>
                    <a:pt x="216" y="100"/>
                  </a:lnTo>
                  <a:lnTo>
                    <a:pt x="199" y="108"/>
                  </a:lnTo>
                  <a:lnTo>
                    <a:pt x="182" y="116"/>
                  </a:lnTo>
                  <a:lnTo>
                    <a:pt x="165" y="123"/>
                  </a:lnTo>
                  <a:lnTo>
                    <a:pt x="148" y="130"/>
                  </a:lnTo>
                  <a:lnTo>
                    <a:pt x="131" y="136"/>
                  </a:lnTo>
                  <a:lnTo>
                    <a:pt x="115" y="141"/>
                  </a:lnTo>
                  <a:lnTo>
                    <a:pt x="98" y="145"/>
                  </a:lnTo>
                  <a:lnTo>
                    <a:pt x="81" y="150"/>
                  </a:lnTo>
                  <a:lnTo>
                    <a:pt x="65" y="153"/>
                  </a:lnTo>
                  <a:lnTo>
                    <a:pt x="48" y="156"/>
                  </a:lnTo>
                  <a:lnTo>
                    <a:pt x="32" y="157"/>
                  </a:lnTo>
                  <a:lnTo>
                    <a:pt x="16" y="158"/>
                  </a:lnTo>
                  <a:lnTo>
                    <a:pt x="0" y="158"/>
                  </a:lnTo>
                  <a:lnTo>
                    <a:pt x="1" y="142"/>
                  </a:lnTo>
                  <a:lnTo>
                    <a:pt x="2" y="127"/>
                  </a:lnTo>
                  <a:lnTo>
                    <a:pt x="2" y="111"/>
                  </a:lnTo>
                  <a:lnTo>
                    <a:pt x="3" y="96"/>
                  </a:lnTo>
                  <a:close/>
                </a:path>
              </a:pathLst>
            </a:custGeom>
            <a:solidFill>
              <a:srgbClr val="bc7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854520" y="2136600"/>
              <a:ext cx="170640" cy="88560"/>
            </a:xfrm>
            <a:custGeom>
              <a:avLst/>
              <a:gdLst/>
              <a:ahLst/>
              <a:rect l="l" t="t" r="r" b="b"/>
              <a:pathLst>
                <a:path w="251" h="151">
                  <a:moveTo>
                    <a:pt x="2" y="90"/>
                  </a:moveTo>
                  <a:lnTo>
                    <a:pt x="16" y="87"/>
                  </a:lnTo>
                  <a:lnTo>
                    <a:pt x="30" y="86"/>
                  </a:lnTo>
                  <a:lnTo>
                    <a:pt x="45" y="83"/>
                  </a:lnTo>
                  <a:lnTo>
                    <a:pt x="60" y="79"/>
                  </a:lnTo>
                  <a:lnTo>
                    <a:pt x="75" y="76"/>
                  </a:lnTo>
                  <a:lnTo>
                    <a:pt x="90" y="72"/>
                  </a:lnTo>
                  <a:lnTo>
                    <a:pt x="106" y="68"/>
                  </a:lnTo>
                  <a:lnTo>
                    <a:pt x="122" y="62"/>
                  </a:lnTo>
                  <a:lnTo>
                    <a:pt x="137" y="56"/>
                  </a:lnTo>
                  <a:lnTo>
                    <a:pt x="153" y="49"/>
                  </a:lnTo>
                  <a:lnTo>
                    <a:pt x="170" y="44"/>
                  </a:lnTo>
                  <a:lnTo>
                    <a:pt x="186" y="36"/>
                  </a:lnTo>
                  <a:lnTo>
                    <a:pt x="202" y="28"/>
                  </a:lnTo>
                  <a:lnTo>
                    <a:pt x="219" y="19"/>
                  </a:lnTo>
                  <a:lnTo>
                    <a:pt x="235" y="10"/>
                  </a:lnTo>
                  <a:lnTo>
                    <a:pt x="251" y="0"/>
                  </a:lnTo>
                  <a:lnTo>
                    <a:pt x="251" y="18"/>
                  </a:lnTo>
                  <a:lnTo>
                    <a:pt x="251" y="37"/>
                  </a:lnTo>
                  <a:lnTo>
                    <a:pt x="251" y="55"/>
                  </a:lnTo>
                  <a:lnTo>
                    <a:pt x="251" y="74"/>
                  </a:lnTo>
                  <a:lnTo>
                    <a:pt x="235" y="83"/>
                  </a:lnTo>
                  <a:lnTo>
                    <a:pt x="219" y="91"/>
                  </a:lnTo>
                  <a:lnTo>
                    <a:pt x="202" y="99"/>
                  </a:lnTo>
                  <a:lnTo>
                    <a:pt x="186" y="106"/>
                  </a:lnTo>
                  <a:lnTo>
                    <a:pt x="170" y="113"/>
                  </a:lnTo>
                  <a:lnTo>
                    <a:pt x="154" y="120"/>
                  </a:lnTo>
                  <a:lnTo>
                    <a:pt x="138" y="125"/>
                  </a:lnTo>
                  <a:lnTo>
                    <a:pt x="123" y="131"/>
                  </a:lnTo>
                  <a:lnTo>
                    <a:pt x="107" y="136"/>
                  </a:lnTo>
                  <a:lnTo>
                    <a:pt x="92" y="139"/>
                  </a:lnTo>
                  <a:lnTo>
                    <a:pt x="76" y="144"/>
                  </a:lnTo>
                  <a:lnTo>
                    <a:pt x="61" y="146"/>
                  </a:lnTo>
                  <a:lnTo>
                    <a:pt x="46" y="148"/>
                  </a:lnTo>
                  <a:lnTo>
                    <a:pt x="30" y="150"/>
                  </a:lnTo>
                  <a:lnTo>
                    <a:pt x="15" y="151"/>
                  </a:lnTo>
                  <a:lnTo>
                    <a:pt x="0" y="151"/>
                  </a:lnTo>
                  <a:lnTo>
                    <a:pt x="1" y="136"/>
                  </a:lnTo>
                  <a:lnTo>
                    <a:pt x="1" y="120"/>
                  </a:lnTo>
                  <a:lnTo>
                    <a:pt x="2" y="105"/>
                  </a:lnTo>
                  <a:lnTo>
                    <a:pt x="2" y="90"/>
                  </a:lnTo>
                  <a:close/>
                </a:path>
              </a:pathLst>
            </a:custGeom>
            <a:solidFill>
              <a:srgbClr val="c47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858840" y="2138040"/>
              <a:ext cx="157320" cy="87120"/>
            </a:xfrm>
            <a:custGeom>
              <a:avLst/>
              <a:gdLst/>
              <a:ahLst/>
              <a:rect l="l" t="t" r="r" b="b"/>
              <a:pathLst>
                <a:path w="234" h="144">
                  <a:moveTo>
                    <a:pt x="2" y="83"/>
                  </a:moveTo>
                  <a:lnTo>
                    <a:pt x="15" y="81"/>
                  </a:lnTo>
                  <a:lnTo>
                    <a:pt x="27" y="79"/>
                  </a:lnTo>
                  <a:lnTo>
                    <a:pt x="41" y="77"/>
                  </a:lnTo>
                  <a:lnTo>
                    <a:pt x="55" y="73"/>
                  </a:lnTo>
                  <a:lnTo>
                    <a:pt x="69" y="71"/>
                  </a:lnTo>
                  <a:lnTo>
                    <a:pt x="83" y="66"/>
                  </a:lnTo>
                  <a:lnTo>
                    <a:pt x="98" y="62"/>
                  </a:lnTo>
                  <a:lnTo>
                    <a:pt x="113" y="57"/>
                  </a:lnTo>
                  <a:lnTo>
                    <a:pt x="128" y="53"/>
                  </a:lnTo>
                  <a:lnTo>
                    <a:pt x="143" y="47"/>
                  </a:lnTo>
                  <a:lnTo>
                    <a:pt x="158" y="40"/>
                  </a:lnTo>
                  <a:lnTo>
                    <a:pt x="174" y="33"/>
                  </a:lnTo>
                  <a:lnTo>
                    <a:pt x="189" y="25"/>
                  </a:lnTo>
                  <a:lnTo>
                    <a:pt x="204" y="17"/>
                  </a:lnTo>
                  <a:lnTo>
                    <a:pt x="219" y="9"/>
                  </a:lnTo>
                  <a:lnTo>
                    <a:pt x="234" y="0"/>
                  </a:lnTo>
                  <a:lnTo>
                    <a:pt x="234" y="18"/>
                  </a:lnTo>
                  <a:lnTo>
                    <a:pt x="234" y="37"/>
                  </a:lnTo>
                  <a:lnTo>
                    <a:pt x="234" y="55"/>
                  </a:lnTo>
                  <a:lnTo>
                    <a:pt x="234" y="73"/>
                  </a:lnTo>
                  <a:lnTo>
                    <a:pt x="219" y="81"/>
                  </a:lnTo>
                  <a:lnTo>
                    <a:pt x="204" y="88"/>
                  </a:lnTo>
                  <a:lnTo>
                    <a:pt x="189" y="95"/>
                  </a:lnTo>
                  <a:lnTo>
                    <a:pt x="174" y="102"/>
                  </a:lnTo>
                  <a:lnTo>
                    <a:pt x="159" y="109"/>
                  </a:lnTo>
                  <a:lnTo>
                    <a:pt x="144" y="115"/>
                  </a:lnTo>
                  <a:lnTo>
                    <a:pt x="129" y="119"/>
                  </a:lnTo>
                  <a:lnTo>
                    <a:pt x="115" y="125"/>
                  </a:lnTo>
                  <a:lnTo>
                    <a:pt x="100" y="130"/>
                  </a:lnTo>
                  <a:lnTo>
                    <a:pt x="86" y="133"/>
                  </a:lnTo>
                  <a:lnTo>
                    <a:pt x="71" y="137"/>
                  </a:lnTo>
                  <a:lnTo>
                    <a:pt x="57" y="139"/>
                  </a:lnTo>
                  <a:lnTo>
                    <a:pt x="42" y="141"/>
                  </a:lnTo>
                  <a:lnTo>
                    <a:pt x="29" y="142"/>
                  </a:lnTo>
                  <a:lnTo>
                    <a:pt x="14" y="144"/>
                  </a:lnTo>
                  <a:lnTo>
                    <a:pt x="0" y="144"/>
                  </a:lnTo>
                  <a:lnTo>
                    <a:pt x="1" y="129"/>
                  </a:lnTo>
                  <a:lnTo>
                    <a:pt x="1" y="114"/>
                  </a:lnTo>
                  <a:lnTo>
                    <a:pt x="1" y="98"/>
                  </a:lnTo>
                  <a:lnTo>
                    <a:pt x="2" y="83"/>
                  </a:lnTo>
                  <a:close/>
                </a:path>
              </a:pathLst>
            </a:custGeom>
            <a:solidFill>
              <a:srgbClr val="c98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3863520" y="2143080"/>
              <a:ext cx="149400" cy="81720"/>
            </a:xfrm>
            <a:custGeom>
              <a:avLst/>
              <a:gdLst/>
              <a:ahLst/>
              <a:rect l="l" t="t" r="r" b="b"/>
              <a:pathLst>
                <a:path w="214" h="139">
                  <a:moveTo>
                    <a:pt x="1" y="76"/>
                  </a:moveTo>
                  <a:lnTo>
                    <a:pt x="13" y="75"/>
                  </a:lnTo>
                  <a:lnTo>
                    <a:pt x="24" y="73"/>
                  </a:lnTo>
                  <a:lnTo>
                    <a:pt x="37" y="71"/>
                  </a:lnTo>
                  <a:lnTo>
                    <a:pt x="49" y="68"/>
                  </a:lnTo>
                  <a:lnTo>
                    <a:pt x="62" y="65"/>
                  </a:lnTo>
                  <a:lnTo>
                    <a:pt x="76" y="61"/>
                  </a:lnTo>
                  <a:lnTo>
                    <a:pt x="90" y="58"/>
                  </a:lnTo>
                  <a:lnTo>
                    <a:pt x="104" y="53"/>
                  </a:lnTo>
                  <a:lnTo>
                    <a:pt x="117" y="49"/>
                  </a:lnTo>
                  <a:lnTo>
                    <a:pt x="131" y="43"/>
                  </a:lnTo>
                  <a:lnTo>
                    <a:pt x="145" y="37"/>
                  </a:lnTo>
                  <a:lnTo>
                    <a:pt x="159" y="32"/>
                  </a:lnTo>
                  <a:lnTo>
                    <a:pt x="173" y="25"/>
                  </a:lnTo>
                  <a:lnTo>
                    <a:pt x="187" y="17"/>
                  </a:lnTo>
                  <a:lnTo>
                    <a:pt x="200" y="8"/>
                  </a:lnTo>
                  <a:lnTo>
                    <a:pt x="214" y="0"/>
                  </a:lnTo>
                  <a:lnTo>
                    <a:pt x="214" y="19"/>
                  </a:lnTo>
                  <a:lnTo>
                    <a:pt x="214" y="36"/>
                  </a:lnTo>
                  <a:lnTo>
                    <a:pt x="214" y="55"/>
                  </a:lnTo>
                  <a:lnTo>
                    <a:pt x="214" y="73"/>
                  </a:lnTo>
                  <a:lnTo>
                    <a:pt x="200" y="80"/>
                  </a:lnTo>
                  <a:lnTo>
                    <a:pt x="187" y="87"/>
                  </a:lnTo>
                  <a:lnTo>
                    <a:pt x="172" y="94"/>
                  </a:lnTo>
                  <a:lnTo>
                    <a:pt x="159" y="99"/>
                  </a:lnTo>
                  <a:lnTo>
                    <a:pt x="145" y="105"/>
                  </a:lnTo>
                  <a:lnTo>
                    <a:pt x="131" y="111"/>
                  </a:lnTo>
                  <a:lnTo>
                    <a:pt x="117" y="116"/>
                  </a:lnTo>
                  <a:lnTo>
                    <a:pt x="105" y="120"/>
                  </a:lnTo>
                  <a:lnTo>
                    <a:pt x="91" y="125"/>
                  </a:lnTo>
                  <a:lnTo>
                    <a:pt x="78" y="128"/>
                  </a:lnTo>
                  <a:lnTo>
                    <a:pt x="64" y="132"/>
                  </a:lnTo>
                  <a:lnTo>
                    <a:pt x="52" y="134"/>
                  </a:lnTo>
                  <a:lnTo>
                    <a:pt x="39" y="136"/>
                  </a:lnTo>
                  <a:lnTo>
                    <a:pt x="26" y="137"/>
                  </a:lnTo>
                  <a:lnTo>
                    <a:pt x="13" y="139"/>
                  </a:lnTo>
                  <a:lnTo>
                    <a:pt x="0" y="139"/>
                  </a:lnTo>
                  <a:lnTo>
                    <a:pt x="0" y="122"/>
                  </a:lnTo>
                  <a:lnTo>
                    <a:pt x="0" y="108"/>
                  </a:lnTo>
                  <a:lnTo>
                    <a:pt x="0" y="91"/>
                  </a:lnTo>
                  <a:lnTo>
                    <a:pt x="1" y="76"/>
                  </a:lnTo>
                  <a:close/>
                </a:path>
              </a:pathLst>
            </a:custGeom>
            <a:solidFill>
              <a:srgbClr val="ce8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3873240" y="2148120"/>
              <a:ext cx="131760" cy="77040"/>
            </a:xfrm>
            <a:custGeom>
              <a:avLst/>
              <a:gdLst/>
              <a:ahLst/>
              <a:rect l="l" t="t" r="r" b="b"/>
              <a:pathLst>
                <a:path w="197" h="132">
                  <a:moveTo>
                    <a:pt x="0" y="70"/>
                  </a:moveTo>
                  <a:lnTo>
                    <a:pt x="10" y="69"/>
                  </a:lnTo>
                  <a:lnTo>
                    <a:pt x="22" y="68"/>
                  </a:lnTo>
                  <a:lnTo>
                    <a:pt x="32" y="66"/>
                  </a:lnTo>
                  <a:lnTo>
                    <a:pt x="45" y="63"/>
                  </a:lnTo>
                  <a:lnTo>
                    <a:pt x="56" y="60"/>
                  </a:lnTo>
                  <a:lnTo>
                    <a:pt x="69" y="58"/>
                  </a:lnTo>
                  <a:lnTo>
                    <a:pt x="82" y="54"/>
                  </a:lnTo>
                  <a:lnTo>
                    <a:pt x="94" y="50"/>
                  </a:lnTo>
                  <a:lnTo>
                    <a:pt x="107" y="45"/>
                  </a:lnTo>
                  <a:lnTo>
                    <a:pt x="120" y="40"/>
                  </a:lnTo>
                  <a:lnTo>
                    <a:pt x="134" y="35"/>
                  </a:lnTo>
                  <a:lnTo>
                    <a:pt x="146" y="29"/>
                  </a:lnTo>
                  <a:lnTo>
                    <a:pt x="159" y="23"/>
                  </a:lnTo>
                  <a:lnTo>
                    <a:pt x="172" y="16"/>
                  </a:lnTo>
                  <a:lnTo>
                    <a:pt x="184" y="8"/>
                  </a:lnTo>
                  <a:lnTo>
                    <a:pt x="197" y="0"/>
                  </a:lnTo>
                  <a:lnTo>
                    <a:pt x="197" y="18"/>
                  </a:lnTo>
                  <a:lnTo>
                    <a:pt x="197" y="37"/>
                  </a:lnTo>
                  <a:lnTo>
                    <a:pt x="197" y="55"/>
                  </a:lnTo>
                  <a:lnTo>
                    <a:pt x="197" y="74"/>
                  </a:lnTo>
                  <a:lnTo>
                    <a:pt x="184" y="81"/>
                  </a:lnTo>
                  <a:lnTo>
                    <a:pt x="170" y="86"/>
                  </a:lnTo>
                  <a:lnTo>
                    <a:pt x="158" y="92"/>
                  </a:lnTo>
                  <a:lnTo>
                    <a:pt x="145" y="98"/>
                  </a:lnTo>
                  <a:lnTo>
                    <a:pt x="132" y="103"/>
                  </a:lnTo>
                  <a:lnTo>
                    <a:pt x="121" y="107"/>
                  </a:lnTo>
                  <a:lnTo>
                    <a:pt x="108" y="112"/>
                  </a:lnTo>
                  <a:lnTo>
                    <a:pt x="96" y="116"/>
                  </a:lnTo>
                  <a:lnTo>
                    <a:pt x="84" y="120"/>
                  </a:lnTo>
                  <a:lnTo>
                    <a:pt x="71" y="123"/>
                  </a:lnTo>
                  <a:lnTo>
                    <a:pt x="60" y="126"/>
                  </a:lnTo>
                  <a:lnTo>
                    <a:pt x="47" y="128"/>
                  </a:lnTo>
                  <a:lnTo>
                    <a:pt x="36" y="130"/>
                  </a:lnTo>
                  <a:lnTo>
                    <a:pt x="24" y="131"/>
                  </a:lnTo>
                  <a:lnTo>
                    <a:pt x="12" y="132"/>
                  </a:lnTo>
                  <a:lnTo>
                    <a:pt x="0" y="132"/>
                  </a:lnTo>
                  <a:lnTo>
                    <a:pt x="0" y="116"/>
                  </a:lnTo>
                  <a:lnTo>
                    <a:pt x="0" y="101"/>
                  </a:lnTo>
                  <a:lnTo>
                    <a:pt x="0" y="85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d693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3878280" y="2149560"/>
              <a:ext cx="121680" cy="73800"/>
            </a:xfrm>
            <a:custGeom>
              <a:avLst/>
              <a:gdLst/>
              <a:ahLst/>
              <a:rect l="l" t="t" r="r" b="b"/>
              <a:pathLst>
                <a:path w="181" h="126">
                  <a:moveTo>
                    <a:pt x="0" y="64"/>
                  </a:moveTo>
                  <a:lnTo>
                    <a:pt x="20" y="62"/>
                  </a:lnTo>
                  <a:lnTo>
                    <a:pt x="40" y="57"/>
                  </a:lnTo>
                  <a:lnTo>
                    <a:pt x="62" y="53"/>
                  </a:lnTo>
                  <a:lnTo>
                    <a:pt x="86" y="46"/>
                  </a:lnTo>
                  <a:lnTo>
                    <a:pt x="111" y="38"/>
                  </a:lnTo>
                  <a:lnTo>
                    <a:pt x="134" y="27"/>
                  </a:lnTo>
                  <a:lnTo>
                    <a:pt x="158" y="15"/>
                  </a:lnTo>
                  <a:lnTo>
                    <a:pt x="181" y="0"/>
                  </a:lnTo>
                  <a:lnTo>
                    <a:pt x="181" y="18"/>
                  </a:lnTo>
                  <a:lnTo>
                    <a:pt x="181" y="36"/>
                  </a:lnTo>
                  <a:lnTo>
                    <a:pt x="181" y="55"/>
                  </a:lnTo>
                  <a:lnTo>
                    <a:pt x="181" y="73"/>
                  </a:lnTo>
                  <a:lnTo>
                    <a:pt x="157" y="85"/>
                  </a:lnTo>
                  <a:lnTo>
                    <a:pt x="133" y="95"/>
                  </a:lnTo>
                  <a:lnTo>
                    <a:pt x="110" y="104"/>
                  </a:lnTo>
                  <a:lnTo>
                    <a:pt x="88" y="111"/>
                  </a:lnTo>
                  <a:lnTo>
                    <a:pt x="66" y="117"/>
                  </a:lnTo>
                  <a:lnTo>
                    <a:pt x="44" y="122"/>
                  </a:lnTo>
                  <a:lnTo>
                    <a:pt x="22" y="125"/>
                  </a:lnTo>
                  <a:lnTo>
                    <a:pt x="0" y="126"/>
                  </a:lnTo>
                  <a:lnTo>
                    <a:pt x="0" y="110"/>
                  </a:lnTo>
                  <a:lnTo>
                    <a:pt x="0" y="95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b9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3884760" y="2152800"/>
              <a:ext cx="110160" cy="70560"/>
            </a:xfrm>
            <a:custGeom>
              <a:avLst/>
              <a:gdLst/>
              <a:ahLst/>
              <a:rect l="l" t="t" r="r" b="b"/>
              <a:pathLst>
                <a:path w="163" h="118">
                  <a:moveTo>
                    <a:pt x="0" y="56"/>
                  </a:moveTo>
                  <a:lnTo>
                    <a:pt x="17" y="54"/>
                  </a:lnTo>
                  <a:lnTo>
                    <a:pt x="36" y="50"/>
                  </a:lnTo>
                  <a:lnTo>
                    <a:pt x="57" y="46"/>
                  </a:lnTo>
                  <a:lnTo>
                    <a:pt x="77" y="40"/>
                  </a:lnTo>
                  <a:lnTo>
                    <a:pt x="99" y="33"/>
                  </a:lnTo>
                  <a:lnTo>
                    <a:pt x="121" y="24"/>
                  </a:lnTo>
                  <a:lnTo>
                    <a:pt x="142" y="12"/>
                  </a:lnTo>
                  <a:lnTo>
                    <a:pt x="163" y="0"/>
                  </a:lnTo>
                  <a:lnTo>
                    <a:pt x="163" y="18"/>
                  </a:lnTo>
                  <a:lnTo>
                    <a:pt x="163" y="35"/>
                  </a:lnTo>
                  <a:lnTo>
                    <a:pt x="163" y="54"/>
                  </a:lnTo>
                  <a:lnTo>
                    <a:pt x="163" y="72"/>
                  </a:lnTo>
                  <a:lnTo>
                    <a:pt x="141" y="82"/>
                  </a:lnTo>
                  <a:lnTo>
                    <a:pt x="120" y="92"/>
                  </a:lnTo>
                  <a:lnTo>
                    <a:pt x="99" y="99"/>
                  </a:lnTo>
                  <a:lnTo>
                    <a:pt x="78" y="105"/>
                  </a:lnTo>
                  <a:lnTo>
                    <a:pt x="59" y="110"/>
                  </a:lnTo>
                  <a:lnTo>
                    <a:pt x="39" y="115"/>
                  </a:lnTo>
                  <a:lnTo>
                    <a:pt x="20" y="117"/>
                  </a:lnTo>
                  <a:lnTo>
                    <a:pt x="0" y="118"/>
                  </a:lnTo>
                  <a:lnTo>
                    <a:pt x="0" y="102"/>
                  </a:lnTo>
                  <a:lnTo>
                    <a:pt x="0" y="87"/>
                  </a:lnTo>
                  <a:lnTo>
                    <a:pt x="0" y="71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e0a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3890880" y="2156040"/>
              <a:ext cx="99720" cy="67320"/>
            </a:xfrm>
            <a:custGeom>
              <a:avLst/>
              <a:gdLst/>
              <a:ahLst/>
              <a:rect l="l" t="t" r="r" b="b"/>
              <a:pathLst>
                <a:path w="145" h="112">
                  <a:moveTo>
                    <a:pt x="0" y="51"/>
                  </a:moveTo>
                  <a:lnTo>
                    <a:pt x="15" y="49"/>
                  </a:lnTo>
                  <a:lnTo>
                    <a:pt x="31" y="46"/>
                  </a:lnTo>
                  <a:lnTo>
                    <a:pt x="50" y="42"/>
                  </a:lnTo>
                  <a:lnTo>
                    <a:pt x="69" y="36"/>
                  </a:lnTo>
                  <a:lnTo>
                    <a:pt x="89" y="30"/>
                  </a:lnTo>
                  <a:lnTo>
                    <a:pt x="108" y="22"/>
                  </a:lnTo>
                  <a:lnTo>
                    <a:pt x="127" y="12"/>
                  </a:lnTo>
                  <a:lnTo>
                    <a:pt x="145" y="0"/>
                  </a:lnTo>
                  <a:lnTo>
                    <a:pt x="145" y="19"/>
                  </a:lnTo>
                  <a:lnTo>
                    <a:pt x="145" y="36"/>
                  </a:lnTo>
                  <a:lnTo>
                    <a:pt x="145" y="53"/>
                  </a:lnTo>
                  <a:lnTo>
                    <a:pt x="145" y="72"/>
                  </a:lnTo>
                  <a:lnTo>
                    <a:pt x="126" y="81"/>
                  </a:lnTo>
                  <a:lnTo>
                    <a:pt x="106" y="88"/>
                  </a:lnTo>
                  <a:lnTo>
                    <a:pt x="88" y="95"/>
                  </a:lnTo>
                  <a:lnTo>
                    <a:pt x="70" y="100"/>
                  </a:lnTo>
                  <a:lnTo>
                    <a:pt x="53" y="105"/>
                  </a:lnTo>
                  <a:lnTo>
                    <a:pt x="36" y="109"/>
                  </a:lnTo>
                  <a:lnTo>
                    <a:pt x="19" y="111"/>
                  </a:lnTo>
                  <a:lnTo>
                    <a:pt x="1" y="112"/>
                  </a:lnTo>
                  <a:lnTo>
                    <a:pt x="0" y="97"/>
                  </a:lnTo>
                  <a:lnTo>
                    <a:pt x="0" y="81"/>
                  </a:lnTo>
                  <a:lnTo>
                    <a:pt x="0" y="6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e8a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3895920" y="2159640"/>
              <a:ext cx="89640" cy="61920"/>
            </a:xfrm>
            <a:custGeom>
              <a:avLst/>
              <a:gdLst/>
              <a:ahLst/>
              <a:rect l="l" t="t" r="r" b="b"/>
              <a:pathLst>
                <a:path w="129" h="105">
                  <a:moveTo>
                    <a:pt x="0" y="44"/>
                  </a:moveTo>
                  <a:lnTo>
                    <a:pt x="13" y="42"/>
                  </a:lnTo>
                  <a:lnTo>
                    <a:pt x="28" y="39"/>
                  </a:lnTo>
                  <a:lnTo>
                    <a:pt x="44" y="36"/>
                  </a:lnTo>
                  <a:lnTo>
                    <a:pt x="61" y="31"/>
                  </a:lnTo>
                  <a:lnTo>
                    <a:pt x="78" y="25"/>
                  </a:lnTo>
                  <a:lnTo>
                    <a:pt x="97" y="18"/>
                  </a:lnTo>
                  <a:lnTo>
                    <a:pt x="113" y="10"/>
                  </a:lnTo>
                  <a:lnTo>
                    <a:pt x="129" y="0"/>
                  </a:lnTo>
                  <a:lnTo>
                    <a:pt x="129" y="17"/>
                  </a:lnTo>
                  <a:lnTo>
                    <a:pt x="129" y="36"/>
                  </a:lnTo>
                  <a:lnTo>
                    <a:pt x="129" y="53"/>
                  </a:lnTo>
                  <a:lnTo>
                    <a:pt x="129" y="71"/>
                  </a:lnTo>
                  <a:lnTo>
                    <a:pt x="112" y="78"/>
                  </a:lnTo>
                  <a:lnTo>
                    <a:pt x="95" y="85"/>
                  </a:lnTo>
                  <a:lnTo>
                    <a:pt x="78" y="91"/>
                  </a:lnTo>
                  <a:lnTo>
                    <a:pt x="62" y="94"/>
                  </a:lnTo>
                  <a:lnTo>
                    <a:pt x="47" y="99"/>
                  </a:lnTo>
                  <a:lnTo>
                    <a:pt x="32" y="101"/>
                  </a:lnTo>
                  <a:lnTo>
                    <a:pt x="17" y="104"/>
                  </a:lnTo>
                  <a:lnTo>
                    <a:pt x="2" y="105"/>
                  </a:lnTo>
                  <a:lnTo>
                    <a:pt x="1" y="90"/>
                  </a:lnTo>
                  <a:lnTo>
                    <a:pt x="1" y="74"/>
                  </a:lnTo>
                  <a:lnTo>
                    <a:pt x="1" y="59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ed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901680" y="2164320"/>
              <a:ext cx="77760" cy="57240"/>
            </a:xfrm>
            <a:custGeom>
              <a:avLst/>
              <a:gdLst/>
              <a:ahLst/>
              <a:rect l="l" t="t" r="r" b="b"/>
              <a:pathLst>
                <a:path w="112" h="99">
                  <a:moveTo>
                    <a:pt x="0" y="38"/>
                  </a:moveTo>
                  <a:lnTo>
                    <a:pt x="11" y="37"/>
                  </a:lnTo>
                  <a:lnTo>
                    <a:pt x="23" y="34"/>
                  </a:lnTo>
                  <a:lnTo>
                    <a:pt x="38" y="32"/>
                  </a:lnTo>
                  <a:lnTo>
                    <a:pt x="53" y="27"/>
                  </a:lnTo>
                  <a:lnTo>
                    <a:pt x="68" y="23"/>
                  </a:lnTo>
                  <a:lnTo>
                    <a:pt x="84" y="17"/>
                  </a:lnTo>
                  <a:lnTo>
                    <a:pt x="98" y="9"/>
                  </a:lnTo>
                  <a:lnTo>
                    <a:pt x="112" y="0"/>
                  </a:lnTo>
                  <a:lnTo>
                    <a:pt x="112" y="18"/>
                  </a:lnTo>
                  <a:lnTo>
                    <a:pt x="112" y="35"/>
                  </a:lnTo>
                  <a:lnTo>
                    <a:pt x="112" y="54"/>
                  </a:lnTo>
                  <a:lnTo>
                    <a:pt x="112" y="71"/>
                  </a:lnTo>
                  <a:lnTo>
                    <a:pt x="96" y="78"/>
                  </a:lnTo>
                  <a:lnTo>
                    <a:pt x="81" y="83"/>
                  </a:lnTo>
                  <a:lnTo>
                    <a:pt x="67" y="87"/>
                  </a:lnTo>
                  <a:lnTo>
                    <a:pt x="54" y="91"/>
                  </a:lnTo>
                  <a:lnTo>
                    <a:pt x="40" y="93"/>
                  </a:lnTo>
                  <a:lnTo>
                    <a:pt x="28" y="95"/>
                  </a:lnTo>
                  <a:lnTo>
                    <a:pt x="15" y="98"/>
                  </a:lnTo>
                  <a:lnTo>
                    <a:pt x="2" y="99"/>
                  </a:lnTo>
                  <a:lnTo>
                    <a:pt x="1" y="84"/>
                  </a:lnTo>
                  <a:lnTo>
                    <a:pt x="1" y="69"/>
                  </a:lnTo>
                  <a:lnTo>
                    <a:pt x="1" y="53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2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3909600" y="2165760"/>
              <a:ext cx="65880" cy="55800"/>
            </a:xfrm>
            <a:custGeom>
              <a:avLst/>
              <a:gdLst/>
              <a:ahLst/>
              <a:rect l="l" t="t" r="r" b="b"/>
              <a:pathLst>
                <a:path w="95" h="94">
                  <a:moveTo>
                    <a:pt x="0" y="32"/>
                  </a:moveTo>
                  <a:lnTo>
                    <a:pt x="8" y="30"/>
                  </a:lnTo>
                  <a:lnTo>
                    <a:pt x="19" y="29"/>
                  </a:lnTo>
                  <a:lnTo>
                    <a:pt x="31" y="27"/>
                  </a:lnTo>
                  <a:lnTo>
                    <a:pt x="44" y="25"/>
                  </a:lnTo>
                  <a:lnTo>
                    <a:pt x="58" y="20"/>
                  </a:lnTo>
                  <a:lnTo>
                    <a:pt x="71" y="15"/>
                  </a:lnTo>
                  <a:lnTo>
                    <a:pt x="83" y="8"/>
                  </a:lnTo>
                  <a:lnTo>
                    <a:pt x="95" y="0"/>
                  </a:lnTo>
                  <a:lnTo>
                    <a:pt x="95" y="19"/>
                  </a:lnTo>
                  <a:lnTo>
                    <a:pt x="95" y="36"/>
                  </a:lnTo>
                  <a:lnTo>
                    <a:pt x="95" y="53"/>
                  </a:lnTo>
                  <a:lnTo>
                    <a:pt x="95" y="72"/>
                  </a:lnTo>
                  <a:lnTo>
                    <a:pt x="81" y="76"/>
                  </a:lnTo>
                  <a:lnTo>
                    <a:pt x="68" y="80"/>
                  </a:lnTo>
                  <a:lnTo>
                    <a:pt x="57" y="83"/>
                  </a:lnTo>
                  <a:lnTo>
                    <a:pt x="46" y="86"/>
                  </a:lnTo>
                  <a:lnTo>
                    <a:pt x="35" y="88"/>
                  </a:lnTo>
                  <a:lnTo>
                    <a:pt x="24" y="90"/>
                  </a:lnTo>
                  <a:lnTo>
                    <a:pt x="14" y="93"/>
                  </a:lnTo>
                  <a:lnTo>
                    <a:pt x="4" y="94"/>
                  </a:lnTo>
                  <a:lnTo>
                    <a:pt x="3" y="78"/>
                  </a:lnTo>
                  <a:lnTo>
                    <a:pt x="3" y="63"/>
                  </a:lnTo>
                  <a:lnTo>
                    <a:pt x="1" y="46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9c1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3917160" y="2169360"/>
              <a:ext cx="52560" cy="52200"/>
            </a:xfrm>
            <a:custGeom>
              <a:avLst/>
              <a:gdLst/>
              <a:ahLst/>
              <a:rect l="l" t="t" r="r" b="b"/>
              <a:pathLst>
                <a:path w="78" h="87">
                  <a:moveTo>
                    <a:pt x="0" y="24"/>
                  </a:moveTo>
                  <a:lnTo>
                    <a:pt x="7" y="23"/>
                  </a:lnTo>
                  <a:lnTo>
                    <a:pt x="15" y="22"/>
                  </a:lnTo>
                  <a:lnTo>
                    <a:pt x="25" y="21"/>
                  </a:lnTo>
                  <a:lnTo>
                    <a:pt x="36" y="19"/>
                  </a:lnTo>
                  <a:lnTo>
                    <a:pt x="47" y="16"/>
                  </a:lnTo>
                  <a:lnTo>
                    <a:pt x="59" y="13"/>
                  </a:lnTo>
                  <a:lnTo>
                    <a:pt x="69" y="7"/>
                  </a:lnTo>
                  <a:lnTo>
                    <a:pt x="78" y="0"/>
                  </a:lnTo>
                  <a:lnTo>
                    <a:pt x="78" y="70"/>
                  </a:lnTo>
                  <a:lnTo>
                    <a:pt x="67" y="74"/>
                  </a:lnTo>
                  <a:lnTo>
                    <a:pt x="57" y="77"/>
                  </a:lnTo>
                  <a:lnTo>
                    <a:pt x="46" y="80"/>
                  </a:lnTo>
                  <a:lnTo>
                    <a:pt x="38" y="81"/>
                  </a:lnTo>
                  <a:lnTo>
                    <a:pt x="29" y="82"/>
                  </a:lnTo>
                  <a:lnTo>
                    <a:pt x="21" y="84"/>
                  </a:lnTo>
                  <a:lnTo>
                    <a:pt x="13" y="85"/>
                  </a:lnTo>
                  <a:lnTo>
                    <a:pt x="5" y="87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3831840" y="2055960"/>
              <a:ext cx="286200" cy="134280"/>
            </a:xfrm>
            <a:custGeom>
              <a:avLst/>
              <a:gdLst/>
              <a:ahLst/>
              <a:rect l="l" t="t" r="r" b="b"/>
              <a:pathLst>
                <a:path w="415" h="227">
                  <a:moveTo>
                    <a:pt x="322" y="0"/>
                  </a:moveTo>
                  <a:lnTo>
                    <a:pt x="362" y="54"/>
                  </a:lnTo>
                  <a:lnTo>
                    <a:pt x="415" y="107"/>
                  </a:lnTo>
                  <a:lnTo>
                    <a:pt x="390" y="123"/>
                  </a:lnTo>
                  <a:lnTo>
                    <a:pt x="364" y="138"/>
                  </a:lnTo>
                  <a:lnTo>
                    <a:pt x="336" y="151"/>
                  </a:lnTo>
                  <a:lnTo>
                    <a:pt x="308" y="162"/>
                  </a:lnTo>
                  <a:lnTo>
                    <a:pt x="280" y="173"/>
                  </a:lnTo>
                  <a:lnTo>
                    <a:pt x="251" y="182"/>
                  </a:lnTo>
                  <a:lnTo>
                    <a:pt x="223" y="190"/>
                  </a:lnTo>
                  <a:lnTo>
                    <a:pt x="194" y="198"/>
                  </a:lnTo>
                  <a:lnTo>
                    <a:pt x="167" y="204"/>
                  </a:lnTo>
                  <a:lnTo>
                    <a:pt x="139" y="210"/>
                  </a:lnTo>
                  <a:lnTo>
                    <a:pt x="112" y="213"/>
                  </a:lnTo>
                  <a:lnTo>
                    <a:pt x="87" y="218"/>
                  </a:lnTo>
                  <a:lnTo>
                    <a:pt x="63" y="220"/>
                  </a:lnTo>
                  <a:lnTo>
                    <a:pt x="40" y="223"/>
                  </a:lnTo>
                  <a:lnTo>
                    <a:pt x="19" y="226"/>
                  </a:lnTo>
                  <a:lnTo>
                    <a:pt x="0" y="227"/>
                  </a:lnTo>
                  <a:lnTo>
                    <a:pt x="27" y="90"/>
                  </a:lnTo>
                  <a:lnTo>
                    <a:pt x="45" y="88"/>
                  </a:lnTo>
                  <a:lnTo>
                    <a:pt x="64" y="84"/>
                  </a:lnTo>
                  <a:lnTo>
                    <a:pt x="84" y="79"/>
                  </a:lnTo>
                  <a:lnTo>
                    <a:pt x="104" y="75"/>
                  </a:lnTo>
                  <a:lnTo>
                    <a:pt x="126" y="69"/>
                  </a:lnTo>
                  <a:lnTo>
                    <a:pt x="148" y="63"/>
                  </a:lnTo>
                  <a:lnTo>
                    <a:pt x="170" y="58"/>
                  </a:lnTo>
                  <a:lnTo>
                    <a:pt x="191" y="51"/>
                  </a:lnTo>
                  <a:lnTo>
                    <a:pt x="213" y="44"/>
                  </a:lnTo>
                  <a:lnTo>
                    <a:pt x="232" y="37"/>
                  </a:lnTo>
                  <a:lnTo>
                    <a:pt x="252" y="30"/>
                  </a:lnTo>
                  <a:lnTo>
                    <a:pt x="269" y="23"/>
                  </a:lnTo>
                  <a:lnTo>
                    <a:pt x="285" y="17"/>
                  </a:lnTo>
                  <a:lnTo>
                    <a:pt x="300" y="10"/>
                  </a:lnTo>
                  <a:lnTo>
                    <a:pt x="313" y="5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3838320" y="2055960"/>
              <a:ext cx="267480" cy="132840"/>
            </a:xfrm>
            <a:custGeom>
              <a:avLst/>
              <a:gdLst/>
              <a:ahLst/>
              <a:rect l="l" t="t" r="r" b="b"/>
              <a:pathLst>
                <a:path w="393" h="223">
                  <a:moveTo>
                    <a:pt x="299" y="0"/>
                  </a:moveTo>
                  <a:lnTo>
                    <a:pt x="304" y="7"/>
                  </a:lnTo>
                  <a:lnTo>
                    <a:pt x="310" y="13"/>
                  </a:lnTo>
                  <a:lnTo>
                    <a:pt x="314" y="20"/>
                  </a:lnTo>
                  <a:lnTo>
                    <a:pt x="320" y="27"/>
                  </a:lnTo>
                  <a:lnTo>
                    <a:pt x="325" y="34"/>
                  </a:lnTo>
                  <a:lnTo>
                    <a:pt x="329" y="41"/>
                  </a:lnTo>
                  <a:lnTo>
                    <a:pt x="335" y="48"/>
                  </a:lnTo>
                  <a:lnTo>
                    <a:pt x="340" y="55"/>
                  </a:lnTo>
                  <a:lnTo>
                    <a:pt x="346" y="61"/>
                  </a:lnTo>
                  <a:lnTo>
                    <a:pt x="352" y="67"/>
                  </a:lnTo>
                  <a:lnTo>
                    <a:pt x="359" y="74"/>
                  </a:lnTo>
                  <a:lnTo>
                    <a:pt x="366" y="81"/>
                  </a:lnTo>
                  <a:lnTo>
                    <a:pt x="373" y="88"/>
                  </a:lnTo>
                  <a:lnTo>
                    <a:pt x="380" y="95"/>
                  </a:lnTo>
                  <a:lnTo>
                    <a:pt x="386" y="102"/>
                  </a:lnTo>
                  <a:lnTo>
                    <a:pt x="393" y="109"/>
                  </a:lnTo>
                  <a:lnTo>
                    <a:pt x="368" y="124"/>
                  </a:lnTo>
                  <a:lnTo>
                    <a:pt x="343" y="138"/>
                  </a:lnTo>
                  <a:lnTo>
                    <a:pt x="318" y="150"/>
                  </a:lnTo>
                  <a:lnTo>
                    <a:pt x="291" y="162"/>
                  </a:lnTo>
                  <a:lnTo>
                    <a:pt x="265" y="171"/>
                  </a:lnTo>
                  <a:lnTo>
                    <a:pt x="237" y="180"/>
                  </a:lnTo>
                  <a:lnTo>
                    <a:pt x="211" y="188"/>
                  </a:lnTo>
                  <a:lnTo>
                    <a:pt x="184" y="195"/>
                  </a:lnTo>
                  <a:lnTo>
                    <a:pt x="158" y="201"/>
                  </a:lnTo>
                  <a:lnTo>
                    <a:pt x="132" y="205"/>
                  </a:lnTo>
                  <a:lnTo>
                    <a:pt x="107" y="210"/>
                  </a:lnTo>
                  <a:lnTo>
                    <a:pt x="83" y="214"/>
                  </a:lnTo>
                  <a:lnTo>
                    <a:pt x="60" y="217"/>
                  </a:lnTo>
                  <a:lnTo>
                    <a:pt x="39" y="219"/>
                  </a:lnTo>
                  <a:lnTo>
                    <a:pt x="18" y="222"/>
                  </a:lnTo>
                  <a:lnTo>
                    <a:pt x="0" y="223"/>
                  </a:lnTo>
                  <a:lnTo>
                    <a:pt x="7" y="188"/>
                  </a:lnTo>
                  <a:lnTo>
                    <a:pt x="14" y="154"/>
                  </a:lnTo>
                  <a:lnTo>
                    <a:pt x="19" y="119"/>
                  </a:lnTo>
                  <a:lnTo>
                    <a:pt x="26" y="83"/>
                  </a:lnTo>
                  <a:lnTo>
                    <a:pt x="42" y="81"/>
                  </a:lnTo>
                  <a:lnTo>
                    <a:pt x="60" y="78"/>
                  </a:lnTo>
                  <a:lnTo>
                    <a:pt x="79" y="74"/>
                  </a:lnTo>
                  <a:lnTo>
                    <a:pt x="98" y="70"/>
                  </a:lnTo>
                  <a:lnTo>
                    <a:pt x="118" y="64"/>
                  </a:lnTo>
                  <a:lnTo>
                    <a:pt x="138" y="59"/>
                  </a:lnTo>
                  <a:lnTo>
                    <a:pt x="159" y="53"/>
                  </a:lnTo>
                  <a:lnTo>
                    <a:pt x="178" y="47"/>
                  </a:lnTo>
                  <a:lnTo>
                    <a:pt x="198" y="41"/>
                  </a:lnTo>
                  <a:lnTo>
                    <a:pt x="216" y="35"/>
                  </a:lnTo>
                  <a:lnTo>
                    <a:pt x="235" y="28"/>
                  </a:lnTo>
                  <a:lnTo>
                    <a:pt x="251" y="22"/>
                  </a:lnTo>
                  <a:lnTo>
                    <a:pt x="266" y="17"/>
                  </a:lnTo>
                  <a:lnTo>
                    <a:pt x="278" y="11"/>
                  </a:lnTo>
                  <a:lnTo>
                    <a:pt x="290" y="5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841920" y="2057400"/>
              <a:ext cx="252360" cy="131400"/>
            </a:xfrm>
            <a:custGeom>
              <a:avLst/>
              <a:gdLst/>
              <a:ahLst/>
              <a:rect l="l" t="t" r="r" b="b"/>
              <a:pathLst>
                <a:path w="370" h="219">
                  <a:moveTo>
                    <a:pt x="276" y="0"/>
                  </a:moveTo>
                  <a:lnTo>
                    <a:pt x="281" y="7"/>
                  </a:lnTo>
                  <a:lnTo>
                    <a:pt x="286" y="14"/>
                  </a:lnTo>
                  <a:lnTo>
                    <a:pt x="291" y="20"/>
                  </a:lnTo>
                  <a:lnTo>
                    <a:pt x="296" y="27"/>
                  </a:lnTo>
                  <a:lnTo>
                    <a:pt x="301" y="34"/>
                  </a:lnTo>
                  <a:lnTo>
                    <a:pt x="306" y="41"/>
                  </a:lnTo>
                  <a:lnTo>
                    <a:pt x="311" y="47"/>
                  </a:lnTo>
                  <a:lnTo>
                    <a:pt x="316" y="54"/>
                  </a:lnTo>
                  <a:lnTo>
                    <a:pt x="323" y="61"/>
                  </a:lnTo>
                  <a:lnTo>
                    <a:pt x="329" y="69"/>
                  </a:lnTo>
                  <a:lnTo>
                    <a:pt x="336" y="76"/>
                  </a:lnTo>
                  <a:lnTo>
                    <a:pt x="343" y="83"/>
                  </a:lnTo>
                  <a:lnTo>
                    <a:pt x="349" y="90"/>
                  </a:lnTo>
                  <a:lnTo>
                    <a:pt x="356" y="96"/>
                  </a:lnTo>
                  <a:lnTo>
                    <a:pt x="363" y="103"/>
                  </a:lnTo>
                  <a:lnTo>
                    <a:pt x="370" y="110"/>
                  </a:lnTo>
                  <a:lnTo>
                    <a:pt x="347" y="124"/>
                  </a:lnTo>
                  <a:lnTo>
                    <a:pt x="323" y="138"/>
                  </a:lnTo>
                  <a:lnTo>
                    <a:pt x="298" y="149"/>
                  </a:lnTo>
                  <a:lnTo>
                    <a:pt x="274" y="160"/>
                  </a:lnTo>
                  <a:lnTo>
                    <a:pt x="249" y="169"/>
                  </a:lnTo>
                  <a:lnTo>
                    <a:pt x="223" y="177"/>
                  </a:lnTo>
                  <a:lnTo>
                    <a:pt x="198" y="185"/>
                  </a:lnTo>
                  <a:lnTo>
                    <a:pt x="173" y="192"/>
                  </a:lnTo>
                  <a:lnTo>
                    <a:pt x="149" y="198"/>
                  </a:lnTo>
                  <a:lnTo>
                    <a:pt x="124" y="202"/>
                  </a:lnTo>
                  <a:lnTo>
                    <a:pt x="100" y="206"/>
                  </a:lnTo>
                  <a:lnTo>
                    <a:pt x="78" y="209"/>
                  </a:lnTo>
                  <a:lnTo>
                    <a:pt x="56" y="213"/>
                  </a:lnTo>
                  <a:lnTo>
                    <a:pt x="36" y="215"/>
                  </a:lnTo>
                  <a:lnTo>
                    <a:pt x="17" y="217"/>
                  </a:lnTo>
                  <a:lnTo>
                    <a:pt x="0" y="219"/>
                  </a:lnTo>
                  <a:lnTo>
                    <a:pt x="6" y="183"/>
                  </a:lnTo>
                  <a:lnTo>
                    <a:pt x="13" y="147"/>
                  </a:lnTo>
                  <a:lnTo>
                    <a:pt x="18" y="113"/>
                  </a:lnTo>
                  <a:lnTo>
                    <a:pt x="24" y="77"/>
                  </a:lnTo>
                  <a:lnTo>
                    <a:pt x="39" y="75"/>
                  </a:lnTo>
                  <a:lnTo>
                    <a:pt x="55" y="71"/>
                  </a:lnTo>
                  <a:lnTo>
                    <a:pt x="73" y="68"/>
                  </a:lnTo>
                  <a:lnTo>
                    <a:pt x="90" y="63"/>
                  </a:lnTo>
                  <a:lnTo>
                    <a:pt x="108" y="58"/>
                  </a:lnTo>
                  <a:lnTo>
                    <a:pt x="127" y="54"/>
                  </a:lnTo>
                  <a:lnTo>
                    <a:pt x="146" y="49"/>
                  </a:lnTo>
                  <a:lnTo>
                    <a:pt x="165" y="44"/>
                  </a:lnTo>
                  <a:lnTo>
                    <a:pt x="182" y="38"/>
                  </a:lnTo>
                  <a:lnTo>
                    <a:pt x="199" y="32"/>
                  </a:lnTo>
                  <a:lnTo>
                    <a:pt x="215" y="26"/>
                  </a:lnTo>
                  <a:lnTo>
                    <a:pt x="232" y="20"/>
                  </a:lnTo>
                  <a:lnTo>
                    <a:pt x="245" y="15"/>
                  </a:lnTo>
                  <a:lnTo>
                    <a:pt x="258" y="10"/>
                  </a:lnTo>
                  <a:lnTo>
                    <a:pt x="268" y="4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3844440" y="2059560"/>
              <a:ext cx="238320" cy="129240"/>
            </a:xfrm>
            <a:custGeom>
              <a:avLst/>
              <a:gdLst/>
              <a:ahLst/>
              <a:rect l="l" t="t" r="r" b="b"/>
              <a:pathLst>
                <a:path w="349" h="214">
                  <a:moveTo>
                    <a:pt x="254" y="0"/>
                  </a:moveTo>
                  <a:lnTo>
                    <a:pt x="258" y="7"/>
                  </a:lnTo>
                  <a:lnTo>
                    <a:pt x="263" y="14"/>
                  </a:lnTo>
                  <a:lnTo>
                    <a:pt x="269" y="21"/>
                  </a:lnTo>
                  <a:lnTo>
                    <a:pt x="273" y="28"/>
                  </a:lnTo>
                  <a:lnTo>
                    <a:pt x="278" y="35"/>
                  </a:lnTo>
                  <a:lnTo>
                    <a:pt x="283" y="42"/>
                  </a:lnTo>
                  <a:lnTo>
                    <a:pt x="288" y="47"/>
                  </a:lnTo>
                  <a:lnTo>
                    <a:pt x="293" y="54"/>
                  </a:lnTo>
                  <a:lnTo>
                    <a:pt x="300" y="61"/>
                  </a:lnTo>
                  <a:lnTo>
                    <a:pt x="307" y="69"/>
                  </a:lnTo>
                  <a:lnTo>
                    <a:pt x="313" y="76"/>
                  </a:lnTo>
                  <a:lnTo>
                    <a:pt x="320" y="83"/>
                  </a:lnTo>
                  <a:lnTo>
                    <a:pt x="327" y="91"/>
                  </a:lnTo>
                  <a:lnTo>
                    <a:pt x="334" y="98"/>
                  </a:lnTo>
                  <a:lnTo>
                    <a:pt x="342" y="105"/>
                  </a:lnTo>
                  <a:lnTo>
                    <a:pt x="349" y="112"/>
                  </a:lnTo>
                  <a:lnTo>
                    <a:pt x="327" y="126"/>
                  </a:lnTo>
                  <a:lnTo>
                    <a:pt x="304" y="137"/>
                  </a:lnTo>
                  <a:lnTo>
                    <a:pt x="281" y="149"/>
                  </a:lnTo>
                  <a:lnTo>
                    <a:pt x="257" y="159"/>
                  </a:lnTo>
                  <a:lnTo>
                    <a:pt x="234" y="167"/>
                  </a:lnTo>
                  <a:lnTo>
                    <a:pt x="210" y="175"/>
                  </a:lnTo>
                  <a:lnTo>
                    <a:pt x="186" y="183"/>
                  </a:lnTo>
                  <a:lnTo>
                    <a:pt x="163" y="189"/>
                  </a:lnTo>
                  <a:lnTo>
                    <a:pt x="138" y="195"/>
                  </a:lnTo>
                  <a:lnTo>
                    <a:pt x="116" y="199"/>
                  </a:lnTo>
                  <a:lnTo>
                    <a:pt x="95" y="203"/>
                  </a:lnTo>
                  <a:lnTo>
                    <a:pt x="73" y="206"/>
                  </a:lnTo>
                  <a:lnTo>
                    <a:pt x="53" y="209"/>
                  </a:lnTo>
                  <a:lnTo>
                    <a:pt x="34" y="211"/>
                  </a:lnTo>
                  <a:lnTo>
                    <a:pt x="16" y="213"/>
                  </a:lnTo>
                  <a:lnTo>
                    <a:pt x="0" y="214"/>
                  </a:lnTo>
                  <a:lnTo>
                    <a:pt x="6" y="179"/>
                  </a:lnTo>
                  <a:lnTo>
                    <a:pt x="12" y="143"/>
                  </a:lnTo>
                  <a:lnTo>
                    <a:pt x="17" y="106"/>
                  </a:lnTo>
                  <a:lnTo>
                    <a:pt x="23" y="70"/>
                  </a:lnTo>
                  <a:lnTo>
                    <a:pt x="37" y="68"/>
                  </a:lnTo>
                  <a:lnTo>
                    <a:pt x="52" y="65"/>
                  </a:lnTo>
                  <a:lnTo>
                    <a:pt x="67" y="61"/>
                  </a:lnTo>
                  <a:lnTo>
                    <a:pt x="84" y="58"/>
                  </a:lnTo>
                  <a:lnTo>
                    <a:pt x="100" y="53"/>
                  </a:lnTo>
                  <a:lnTo>
                    <a:pt x="118" y="50"/>
                  </a:lnTo>
                  <a:lnTo>
                    <a:pt x="135" y="45"/>
                  </a:lnTo>
                  <a:lnTo>
                    <a:pt x="151" y="41"/>
                  </a:lnTo>
                  <a:lnTo>
                    <a:pt x="167" y="35"/>
                  </a:lnTo>
                  <a:lnTo>
                    <a:pt x="183" y="30"/>
                  </a:lnTo>
                  <a:lnTo>
                    <a:pt x="198" y="26"/>
                  </a:lnTo>
                  <a:lnTo>
                    <a:pt x="212" y="20"/>
                  </a:lnTo>
                  <a:lnTo>
                    <a:pt x="225" y="15"/>
                  </a:lnTo>
                  <a:lnTo>
                    <a:pt x="236" y="9"/>
                  </a:lnTo>
                  <a:lnTo>
                    <a:pt x="245" y="5"/>
                  </a:lnTo>
                  <a:lnTo>
                    <a:pt x="254" y="0"/>
                  </a:lnTo>
                  <a:close/>
                </a:path>
              </a:pathLst>
            </a:custGeom>
            <a:solidFill>
              <a:srgbClr val="9e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850200" y="2061000"/>
              <a:ext cx="219960" cy="127800"/>
            </a:xfrm>
            <a:custGeom>
              <a:avLst/>
              <a:gdLst/>
              <a:ahLst/>
              <a:rect l="l" t="t" r="r" b="b"/>
              <a:pathLst>
                <a:path w="325" h="210">
                  <a:moveTo>
                    <a:pt x="230" y="0"/>
                  </a:moveTo>
                  <a:lnTo>
                    <a:pt x="234" y="6"/>
                  </a:lnTo>
                  <a:lnTo>
                    <a:pt x="240" y="13"/>
                  </a:lnTo>
                  <a:lnTo>
                    <a:pt x="245" y="20"/>
                  </a:lnTo>
                  <a:lnTo>
                    <a:pt x="250" y="27"/>
                  </a:lnTo>
                  <a:lnTo>
                    <a:pt x="255" y="34"/>
                  </a:lnTo>
                  <a:lnTo>
                    <a:pt x="260" y="41"/>
                  </a:lnTo>
                  <a:lnTo>
                    <a:pt x="265" y="48"/>
                  </a:lnTo>
                  <a:lnTo>
                    <a:pt x="270" y="55"/>
                  </a:lnTo>
                  <a:lnTo>
                    <a:pt x="277" y="62"/>
                  </a:lnTo>
                  <a:lnTo>
                    <a:pt x="284" y="70"/>
                  </a:lnTo>
                  <a:lnTo>
                    <a:pt x="291" y="77"/>
                  </a:lnTo>
                  <a:lnTo>
                    <a:pt x="298" y="84"/>
                  </a:lnTo>
                  <a:lnTo>
                    <a:pt x="305" y="92"/>
                  </a:lnTo>
                  <a:lnTo>
                    <a:pt x="311" y="99"/>
                  </a:lnTo>
                  <a:lnTo>
                    <a:pt x="318" y="107"/>
                  </a:lnTo>
                  <a:lnTo>
                    <a:pt x="325" y="114"/>
                  </a:lnTo>
                  <a:lnTo>
                    <a:pt x="305" y="126"/>
                  </a:lnTo>
                  <a:lnTo>
                    <a:pt x="284" y="138"/>
                  </a:lnTo>
                  <a:lnTo>
                    <a:pt x="262" y="148"/>
                  </a:lnTo>
                  <a:lnTo>
                    <a:pt x="240" y="157"/>
                  </a:lnTo>
                  <a:lnTo>
                    <a:pt x="217" y="167"/>
                  </a:lnTo>
                  <a:lnTo>
                    <a:pt x="195" y="173"/>
                  </a:lnTo>
                  <a:lnTo>
                    <a:pt x="173" y="180"/>
                  </a:lnTo>
                  <a:lnTo>
                    <a:pt x="151" y="186"/>
                  </a:lnTo>
                  <a:lnTo>
                    <a:pt x="129" y="191"/>
                  </a:lnTo>
                  <a:lnTo>
                    <a:pt x="108" y="195"/>
                  </a:lnTo>
                  <a:lnTo>
                    <a:pt x="87" y="200"/>
                  </a:lnTo>
                  <a:lnTo>
                    <a:pt x="67" y="202"/>
                  </a:lnTo>
                  <a:lnTo>
                    <a:pt x="49" y="206"/>
                  </a:lnTo>
                  <a:lnTo>
                    <a:pt x="32" y="207"/>
                  </a:lnTo>
                  <a:lnTo>
                    <a:pt x="15" y="209"/>
                  </a:lnTo>
                  <a:lnTo>
                    <a:pt x="0" y="210"/>
                  </a:lnTo>
                  <a:lnTo>
                    <a:pt x="6" y="173"/>
                  </a:lnTo>
                  <a:lnTo>
                    <a:pt x="11" y="138"/>
                  </a:lnTo>
                  <a:lnTo>
                    <a:pt x="17" y="101"/>
                  </a:lnTo>
                  <a:lnTo>
                    <a:pt x="21" y="65"/>
                  </a:lnTo>
                  <a:lnTo>
                    <a:pt x="34" y="63"/>
                  </a:lnTo>
                  <a:lnTo>
                    <a:pt x="48" y="59"/>
                  </a:lnTo>
                  <a:lnTo>
                    <a:pt x="61" y="56"/>
                  </a:lnTo>
                  <a:lnTo>
                    <a:pt x="76" y="52"/>
                  </a:lnTo>
                  <a:lnTo>
                    <a:pt x="91" y="49"/>
                  </a:lnTo>
                  <a:lnTo>
                    <a:pt x="106" y="44"/>
                  </a:lnTo>
                  <a:lnTo>
                    <a:pt x="123" y="41"/>
                  </a:lnTo>
                  <a:lnTo>
                    <a:pt x="137" y="36"/>
                  </a:lnTo>
                  <a:lnTo>
                    <a:pt x="152" y="32"/>
                  </a:lnTo>
                  <a:lnTo>
                    <a:pt x="166" y="28"/>
                  </a:lnTo>
                  <a:lnTo>
                    <a:pt x="180" y="24"/>
                  </a:lnTo>
                  <a:lnTo>
                    <a:pt x="193" y="18"/>
                  </a:lnTo>
                  <a:lnTo>
                    <a:pt x="204" y="13"/>
                  </a:lnTo>
                  <a:lnTo>
                    <a:pt x="214" y="9"/>
                  </a:lnTo>
                  <a:lnTo>
                    <a:pt x="223" y="4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a3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3855240" y="2065680"/>
              <a:ext cx="204840" cy="121680"/>
            </a:xfrm>
            <a:custGeom>
              <a:avLst/>
              <a:gdLst/>
              <a:ahLst/>
              <a:rect l="l" t="t" r="r" b="b"/>
              <a:pathLst>
                <a:path w="301" h="206">
                  <a:moveTo>
                    <a:pt x="206" y="0"/>
                  </a:moveTo>
                  <a:lnTo>
                    <a:pt x="210" y="7"/>
                  </a:lnTo>
                  <a:lnTo>
                    <a:pt x="216" y="14"/>
                  </a:lnTo>
                  <a:lnTo>
                    <a:pt x="221" y="21"/>
                  </a:lnTo>
                  <a:lnTo>
                    <a:pt x="226" y="28"/>
                  </a:lnTo>
                  <a:lnTo>
                    <a:pt x="231" y="35"/>
                  </a:lnTo>
                  <a:lnTo>
                    <a:pt x="236" y="41"/>
                  </a:lnTo>
                  <a:lnTo>
                    <a:pt x="241" y="48"/>
                  </a:lnTo>
                  <a:lnTo>
                    <a:pt x="246" y="55"/>
                  </a:lnTo>
                  <a:lnTo>
                    <a:pt x="253" y="63"/>
                  </a:lnTo>
                  <a:lnTo>
                    <a:pt x="260" y="70"/>
                  </a:lnTo>
                  <a:lnTo>
                    <a:pt x="267" y="78"/>
                  </a:lnTo>
                  <a:lnTo>
                    <a:pt x="274" y="85"/>
                  </a:lnTo>
                  <a:lnTo>
                    <a:pt x="281" y="93"/>
                  </a:lnTo>
                  <a:lnTo>
                    <a:pt x="288" y="101"/>
                  </a:lnTo>
                  <a:lnTo>
                    <a:pt x="294" y="108"/>
                  </a:lnTo>
                  <a:lnTo>
                    <a:pt x="301" y="116"/>
                  </a:lnTo>
                  <a:lnTo>
                    <a:pt x="282" y="128"/>
                  </a:lnTo>
                  <a:lnTo>
                    <a:pt x="262" y="138"/>
                  </a:lnTo>
                  <a:lnTo>
                    <a:pt x="243" y="149"/>
                  </a:lnTo>
                  <a:lnTo>
                    <a:pt x="222" y="157"/>
                  </a:lnTo>
                  <a:lnTo>
                    <a:pt x="201" y="165"/>
                  </a:lnTo>
                  <a:lnTo>
                    <a:pt x="180" y="172"/>
                  </a:lnTo>
                  <a:lnTo>
                    <a:pt x="160" y="178"/>
                  </a:lnTo>
                  <a:lnTo>
                    <a:pt x="139" y="183"/>
                  </a:lnTo>
                  <a:lnTo>
                    <a:pt x="118" y="189"/>
                  </a:lnTo>
                  <a:lnTo>
                    <a:pt x="99" y="192"/>
                  </a:lnTo>
                  <a:lnTo>
                    <a:pt x="80" y="196"/>
                  </a:lnTo>
                  <a:lnTo>
                    <a:pt x="62" y="199"/>
                  </a:lnTo>
                  <a:lnTo>
                    <a:pt x="44" y="202"/>
                  </a:lnTo>
                  <a:lnTo>
                    <a:pt x="28" y="204"/>
                  </a:lnTo>
                  <a:lnTo>
                    <a:pt x="13" y="205"/>
                  </a:lnTo>
                  <a:lnTo>
                    <a:pt x="0" y="206"/>
                  </a:lnTo>
                  <a:lnTo>
                    <a:pt x="4" y="169"/>
                  </a:lnTo>
                  <a:lnTo>
                    <a:pt x="10" y="132"/>
                  </a:lnTo>
                  <a:lnTo>
                    <a:pt x="15" y="96"/>
                  </a:lnTo>
                  <a:lnTo>
                    <a:pt x="19" y="59"/>
                  </a:lnTo>
                  <a:lnTo>
                    <a:pt x="31" y="56"/>
                  </a:lnTo>
                  <a:lnTo>
                    <a:pt x="43" y="53"/>
                  </a:lnTo>
                  <a:lnTo>
                    <a:pt x="56" y="49"/>
                  </a:lnTo>
                  <a:lnTo>
                    <a:pt x="69" y="47"/>
                  </a:lnTo>
                  <a:lnTo>
                    <a:pt x="82" y="44"/>
                  </a:lnTo>
                  <a:lnTo>
                    <a:pt x="96" y="40"/>
                  </a:lnTo>
                  <a:lnTo>
                    <a:pt x="110" y="37"/>
                  </a:lnTo>
                  <a:lnTo>
                    <a:pt x="124" y="33"/>
                  </a:lnTo>
                  <a:lnTo>
                    <a:pt x="137" y="30"/>
                  </a:lnTo>
                  <a:lnTo>
                    <a:pt x="149" y="25"/>
                  </a:lnTo>
                  <a:lnTo>
                    <a:pt x="162" y="22"/>
                  </a:lnTo>
                  <a:lnTo>
                    <a:pt x="172" y="17"/>
                  </a:lnTo>
                  <a:lnTo>
                    <a:pt x="183" y="14"/>
                  </a:lnTo>
                  <a:lnTo>
                    <a:pt x="192" y="9"/>
                  </a:lnTo>
                  <a:lnTo>
                    <a:pt x="200" y="5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3858840" y="2067480"/>
              <a:ext cx="189720" cy="119880"/>
            </a:xfrm>
            <a:custGeom>
              <a:avLst/>
              <a:gdLst/>
              <a:ahLst/>
              <a:rect l="l" t="t" r="r" b="b"/>
              <a:pathLst>
                <a:path w="279" h="202">
                  <a:moveTo>
                    <a:pt x="183" y="0"/>
                  </a:moveTo>
                  <a:lnTo>
                    <a:pt x="188" y="7"/>
                  </a:lnTo>
                  <a:lnTo>
                    <a:pt x="192" y="14"/>
                  </a:lnTo>
                  <a:lnTo>
                    <a:pt x="198" y="21"/>
                  </a:lnTo>
                  <a:lnTo>
                    <a:pt x="203" y="28"/>
                  </a:lnTo>
                  <a:lnTo>
                    <a:pt x="207" y="35"/>
                  </a:lnTo>
                  <a:lnTo>
                    <a:pt x="213" y="42"/>
                  </a:lnTo>
                  <a:lnTo>
                    <a:pt x="218" y="49"/>
                  </a:lnTo>
                  <a:lnTo>
                    <a:pt x="222" y="56"/>
                  </a:lnTo>
                  <a:lnTo>
                    <a:pt x="229" y="64"/>
                  </a:lnTo>
                  <a:lnTo>
                    <a:pt x="236" y="71"/>
                  </a:lnTo>
                  <a:lnTo>
                    <a:pt x="243" y="79"/>
                  </a:lnTo>
                  <a:lnTo>
                    <a:pt x="251" y="87"/>
                  </a:lnTo>
                  <a:lnTo>
                    <a:pt x="258" y="95"/>
                  </a:lnTo>
                  <a:lnTo>
                    <a:pt x="265" y="102"/>
                  </a:lnTo>
                  <a:lnTo>
                    <a:pt x="272" y="110"/>
                  </a:lnTo>
                  <a:lnTo>
                    <a:pt x="279" y="118"/>
                  </a:lnTo>
                  <a:lnTo>
                    <a:pt x="261" y="128"/>
                  </a:lnTo>
                  <a:lnTo>
                    <a:pt x="243" y="139"/>
                  </a:lnTo>
                  <a:lnTo>
                    <a:pt x="223" y="148"/>
                  </a:lnTo>
                  <a:lnTo>
                    <a:pt x="205" y="156"/>
                  </a:lnTo>
                  <a:lnTo>
                    <a:pt x="185" y="163"/>
                  </a:lnTo>
                  <a:lnTo>
                    <a:pt x="166" y="170"/>
                  </a:lnTo>
                  <a:lnTo>
                    <a:pt x="146" y="175"/>
                  </a:lnTo>
                  <a:lnTo>
                    <a:pt x="128" y="180"/>
                  </a:lnTo>
                  <a:lnTo>
                    <a:pt x="109" y="185"/>
                  </a:lnTo>
                  <a:lnTo>
                    <a:pt x="91" y="189"/>
                  </a:lnTo>
                  <a:lnTo>
                    <a:pt x="74" y="193"/>
                  </a:lnTo>
                  <a:lnTo>
                    <a:pt x="56" y="195"/>
                  </a:lnTo>
                  <a:lnTo>
                    <a:pt x="40" y="197"/>
                  </a:lnTo>
                  <a:lnTo>
                    <a:pt x="26" y="200"/>
                  </a:lnTo>
                  <a:lnTo>
                    <a:pt x="12" y="201"/>
                  </a:lnTo>
                  <a:lnTo>
                    <a:pt x="0" y="202"/>
                  </a:lnTo>
                  <a:lnTo>
                    <a:pt x="4" y="165"/>
                  </a:lnTo>
                  <a:lnTo>
                    <a:pt x="9" y="127"/>
                  </a:lnTo>
                  <a:lnTo>
                    <a:pt x="12" y="89"/>
                  </a:lnTo>
                  <a:lnTo>
                    <a:pt x="17" y="52"/>
                  </a:lnTo>
                  <a:lnTo>
                    <a:pt x="38" y="46"/>
                  </a:lnTo>
                  <a:lnTo>
                    <a:pt x="62" y="41"/>
                  </a:lnTo>
                  <a:lnTo>
                    <a:pt x="86" y="35"/>
                  </a:lnTo>
                  <a:lnTo>
                    <a:pt x="110" y="29"/>
                  </a:lnTo>
                  <a:lnTo>
                    <a:pt x="132" y="23"/>
                  </a:lnTo>
                  <a:lnTo>
                    <a:pt x="153" y="17"/>
                  </a:lnTo>
                  <a:lnTo>
                    <a:pt x="170" y="8"/>
                  </a:lnTo>
                  <a:lnTo>
                    <a:pt x="183" y="0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3862800" y="2067480"/>
              <a:ext cx="174240" cy="119880"/>
            </a:xfrm>
            <a:custGeom>
              <a:avLst/>
              <a:gdLst/>
              <a:ahLst/>
              <a:rect l="l" t="t" r="r" b="b"/>
              <a:pathLst>
                <a:path w="257" h="198">
                  <a:moveTo>
                    <a:pt x="160" y="0"/>
                  </a:moveTo>
                  <a:lnTo>
                    <a:pt x="165" y="7"/>
                  </a:lnTo>
                  <a:lnTo>
                    <a:pt x="169" y="14"/>
                  </a:lnTo>
                  <a:lnTo>
                    <a:pt x="175" y="20"/>
                  </a:lnTo>
                  <a:lnTo>
                    <a:pt x="180" y="27"/>
                  </a:lnTo>
                  <a:lnTo>
                    <a:pt x="184" y="35"/>
                  </a:lnTo>
                  <a:lnTo>
                    <a:pt x="190" y="42"/>
                  </a:lnTo>
                  <a:lnTo>
                    <a:pt x="195" y="49"/>
                  </a:lnTo>
                  <a:lnTo>
                    <a:pt x="199" y="56"/>
                  </a:lnTo>
                  <a:lnTo>
                    <a:pt x="206" y="64"/>
                  </a:lnTo>
                  <a:lnTo>
                    <a:pt x="214" y="72"/>
                  </a:lnTo>
                  <a:lnTo>
                    <a:pt x="221" y="79"/>
                  </a:lnTo>
                  <a:lnTo>
                    <a:pt x="228" y="87"/>
                  </a:lnTo>
                  <a:lnTo>
                    <a:pt x="235" y="95"/>
                  </a:lnTo>
                  <a:lnTo>
                    <a:pt x="242" y="103"/>
                  </a:lnTo>
                  <a:lnTo>
                    <a:pt x="250" y="111"/>
                  </a:lnTo>
                  <a:lnTo>
                    <a:pt x="257" y="120"/>
                  </a:lnTo>
                  <a:lnTo>
                    <a:pt x="241" y="130"/>
                  </a:lnTo>
                  <a:lnTo>
                    <a:pt x="223" y="139"/>
                  </a:lnTo>
                  <a:lnTo>
                    <a:pt x="205" y="147"/>
                  </a:lnTo>
                  <a:lnTo>
                    <a:pt x="188" y="154"/>
                  </a:lnTo>
                  <a:lnTo>
                    <a:pt x="169" y="161"/>
                  </a:lnTo>
                  <a:lnTo>
                    <a:pt x="152" y="168"/>
                  </a:lnTo>
                  <a:lnTo>
                    <a:pt x="135" y="174"/>
                  </a:lnTo>
                  <a:lnTo>
                    <a:pt x="116" y="178"/>
                  </a:lnTo>
                  <a:lnTo>
                    <a:pt x="100" y="183"/>
                  </a:lnTo>
                  <a:lnTo>
                    <a:pt x="83" y="186"/>
                  </a:lnTo>
                  <a:lnTo>
                    <a:pt x="67" y="190"/>
                  </a:lnTo>
                  <a:lnTo>
                    <a:pt x="52" y="192"/>
                  </a:lnTo>
                  <a:lnTo>
                    <a:pt x="37" y="194"/>
                  </a:lnTo>
                  <a:lnTo>
                    <a:pt x="24" y="196"/>
                  </a:lnTo>
                  <a:lnTo>
                    <a:pt x="11" y="197"/>
                  </a:lnTo>
                  <a:lnTo>
                    <a:pt x="0" y="198"/>
                  </a:lnTo>
                  <a:lnTo>
                    <a:pt x="5" y="160"/>
                  </a:lnTo>
                  <a:lnTo>
                    <a:pt x="8" y="122"/>
                  </a:lnTo>
                  <a:lnTo>
                    <a:pt x="13" y="84"/>
                  </a:lnTo>
                  <a:lnTo>
                    <a:pt x="16" y="46"/>
                  </a:lnTo>
                  <a:lnTo>
                    <a:pt x="34" y="40"/>
                  </a:lnTo>
                  <a:lnTo>
                    <a:pt x="55" y="35"/>
                  </a:lnTo>
                  <a:lnTo>
                    <a:pt x="77" y="31"/>
                  </a:lnTo>
                  <a:lnTo>
                    <a:pt x="98" y="26"/>
                  </a:lnTo>
                  <a:lnTo>
                    <a:pt x="117" y="22"/>
                  </a:lnTo>
                  <a:lnTo>
                    <a:pt x="135" y="16"/>
                  </a:lnTo>
                  <a:lnTo>
                    <a:pt x="150" y="8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3865680" y="2068920"/>
              <a:ext cx="160920" cy="116280"/>
            </a:xfrm>
            <a:custGeom>
              <a:avLst/>
              <a:gdLst/>
              <a:ahLst/>
              <a:rect l="l" t="t" r="r" b="b"/>
              <a:pathLst>
                <a:path w="234" h="194">
                  <a:moveTo>
                    <a:pt x="136" y="0"/>
                  </a:moveTo>
                  <a:lnTo>
                    <a:pt x="141" y="7"/>
                  </a:lnTo>
                  <a:lnTo>
                    <a:pt x="147" y="14"/>
                  </a:lnTo>
                  <a:lnTo>
                    <a:pt x="151" y="21"/>
                  </a:lnTo>
                  <a:lnTo>
                    <a:pt x="157" y="28"/>
                  </a:lnTo>
                  <a:lnTo>
                    <a:pt x="161" y="35"/>
                  </a:lnTo>
                  <a:lnTo>
                    <a:pt x="166" y="42"/>
                  </a:lnTo>
                  <a:lnTo>
                    <a:pt x="172" y="50"/>
                  </a:lnTo>
                  <a:lnTo>
                    <a:pt x="176" y="57"/>
                  </a:lnTo>
                  <a:lnTo>
                    <a:pt x="183" y="65"/>
                  </a:lnTo>
                  <a:lnTo>
                    <a:pt x="190" y="73"/>
                  </a:lnTo>
                  <a:lnTo>
                    <a:pt x="197" y="81"/>
                  </a:lnTo>
                  <a:lnTo>
                    <a:pt x="205" y="89"/>
                  </a:lnTo>
                  <a:lnTo>
                    <a:pt x="212" y="97"/>
                  </a:lnTo>
                  <a:lnTo>
                    <a:pt x="219" y="105"/>
                  </a:lnTo>
                  <a:lnTo>
                    <a:pt x="227" y="113"/>
                  </a:lnTo>
                  <a:lnTo>
                    <a:pt x="234" y="121"/>
                  </a:lnTo>
                  <a:lnTo>
                    <a:pt x="219" y="130"/>
                  </a:lnTo>
                  <a:lnTo>
                    <a:pt x="203" y="138"/>
                  </a:lnTo>
                  <a:lnTo>
                    <a:pt x="187" y="146"/>
                  </a:lnTo>
                  <a:lnTo>
                    <a:pt x="171" y="153"/>
                  </a:lnTo>
                  <a:lnTo>
                    <a:pt x="155" y="160"/>
                  </a:lnTo>
                  <a:lnTo>
                    <a:pt x="137" y="166"/>
                  </a:lnTo>
                  <a:lnTo>
                    <a:pt x="121" y="171"/>
                  </a:lnTo>
                  <a:lnTo>
                    <a:pt x="105" y="175"/>
                  </a:lnTo>
                  <a:lnTo>
                    <a:pt x="90" y="180"/>
                  </a:lnTo>
                  <a:lnTo>
                    <a:pt x="75" y="183"/>
                  </a:lnTo>
                  <a:lnTo>
                    <a:pt x="60" y="186"/>
                  </a:lnTo>
                  <a:lnTo>
                    <a:pt x="46" y="188"/>
                  </a:lnTo>
                  <a:lnTo>
                    <a:pt x="34" y="190"/>
                  </a:lnTo>
                  <a:lnTo>
                    <a:pt x="21" y="193"/>
                  </a:lnTo>
                  <a:lnTo>
                    <a:pt x="11" y="193"/>
                  </a:lnTo>
                  <a:lnTo>
                    <a:pt x="0" y="194"/>
                  </a:lnTo>
                  <a:lnTo>
                    <a:pt x="4" y="155"/>
                  </a:lnTo>
                  <a:lnTo>
                    <a:pt x="7" y="117"/>
                  </a:lnTo>
                  <a:lnTo>
                    <a:pt x="11" y="78"/>
                  </a:lnTo>
                  <a:lnTo>
                    <a:pt x="14" y="39"/>
                  </a:lnTo>
                  <a:lnTo>
                    <a:pt x="30" y="34"/>
                  </a:lnTo>
                  <a:lnTo>
                    <a:pt x="47" y="29"/>
                  </a:lnTo>
                  <a:lnTo>
                    <a:pt x="66" y="26"/>
                  </a:lnTo>
                  <a:lnTo>
                    <a:pt x="83" y="22"/>
                  </a:lnTo>
                  <a:lnTo>
                    <a:pt x="99" y="19"/>
                  </a:lnTo>
                  <a:lnTo>
                    <a:pt x="114" y="14"/>
                  </a:lnTo>
                  <a:lnTo>
                    <a:pt x="127" y="8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ba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3873240" y="2071080"/>
              <a:ext cx="141840" cy="114480"/>
            </a:xfrm>
            <a:custGeom>
              <a:avLst/>
              <a:gdLst/>
              <a:ahLst/>
              <a:rect l="l" t="t" r="r" b="b"/>
              <a:pathLst>
                <a:path w="212" h="191">
                  <a:moveTo>
                    <a:pt x="113" y="0"/>
                  </a:moveTo>
                  <a:lnTo>
                    <a:pt x="118" y="7"/>
                  </a:lnTo>
                  <a:lnTo>
                    <a:pt x="124" y="15"/>
                  </a:lnTo>
                  <a:lnTo>
                    <a:pt x="128" y="22"/>
                  </a:lnTo>
                  <a:lnTo>
                    <a:pt x="134" y="29"/>
                  </a:lnTo>
                  <a:lnTo>
                    <a:pt x="139" y="36"/>
                  </a:lnTo>
                  <a:lnTo>
                    <a:pt x="143" y="43"/>
                  </a:lnTo>
                  <a:lnTo>
                    <a:pt x="149" y="51"/>
                  </a:lnTo>
                  <a:lnTo>
                    <a:pt x="154" y="58"/>
                  </a:lnTo>
                  <a:lnTo>
                    <a:pt x="160" y="66"/>
                  </a:lnTo>
                  <a:lnTo>
                    <a:pt x="169" y="74"/>
                  </a:lnTo>
                  <a:lnTo>
                    <a:pt x="175" y="82"/>
                  </a:lnTo>
                  <a:lnTo>
                    <a:pt x="183" y="90"/>
                  </a:lnTo>
                  <a:lnTo>
                    <a:pt x="190" y="100"/>
                  </a:lnTo>
                  <a:lnTo>
                    <a:pt x="197" y="108"/>
                  </a:lnTo>
                  <a:lnTo>
                    <a:pt x="205" y="116"/>
                  </a:lnTo>
                  <a:lnTo>
                    <a:pt x="212" y="124"/>
                  </a:lnTo>
                  <a:lnTo>
                    <a:pt x="198" y="132"/>
                  </a:lnTo>
                  <a:lnTo>
                    <a:pt x="183" y="140"/>
                  </a:lnTo>
                  <a:lnTo>
                    <a:pt x="169" y="147"/>
                  </a:lnTo>
                  <a:lnTo>
                    <a:pt x="154" y="154"/>
                  </a:lnTo>
                  <a:lnTo>
                    <a:pt x="139" y="159"/>
                  </a:lnTo>
                  <a:lnTo>
                    <a:pt x="124" y="164"/>
                  </a:lnTo>
                  <a:lnTo>
                    <a:pt x="109" y="170"/>
                  </a:lnTo>
                  <a:lnTo>
                    <a:pt x="95" y="173"/>
                  </a:lnTo>
                  <a:lnTo>
                    <a:pt x="81" y="177"/>
                  </a:lnTo>
                  <a:lnTo>
                    <a:pt x="67" y="180"/>
                  </a:lnTo>
                  <a:lnTo>
                    <a:pt x="53" y="184"/>
                  </a:lnTo>
                  <a:lnTo>
                    <a:pt x="42" y="186"/>
                  </a:lnTo>
                  <a:lnTo>
                    <a:pt x="30" y="187"/>
                  </a:lnTo>
                  <a:lnTo>
                    <a:pt x="19" y="189"/>
                  </a:lnTo>
                  <a:lnTo>
                    <a:pt x="10" y="189"/>
                  </a:lnTo>
                  <a:lnTo>
                    <a:pt x="0" y="191"/>
                  </a:lnTo>
                  <a:lnTo>
                    <a:pt x="4" y="151"/>
                  </a:lnTo>
                  <a:lnTo>
                    <a:pt x="7" y="112"/>
                  </a:lnTo>
                  <a:lnTo>
                    <a:pt x="11" y="73"/>
                  </a:lnTo>
                  <a:lnTo>
                    <a:pt x="13" y="34"/>
                  </a:lnTo>
                  <a:lnTo>
                    <a:pt x="27" y="28"/>
                  </a:lnTo>
                  <a:lnTo>
                    <a:pt x="41" y="25"/>
                  </a:lnTo>
                  <a:lnTo>
                    <a:pt x="56" y="22"/>
                  </a:lnTo>
                  <a:lnTo>
                    <a:pt x="71" y="20"/>
                  </a:lnTo>
                  <a:lnTo>
                    <a:pt x="83" y="18"/>
                  </a:lnTo>
                  <a:lnTo>
                    <a:pt x="96" y="14"/>
                  </a:lnTo>
                  <a:lnTo>
                    <a:pt x="105" y="9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bf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3875760" y="2072520"/>
              <a:ext cx="127080" cy="113040"/>
            </a:xfrm>
            <a:custGeom>
              <a:avLst/>
              <a:gdLst/>
              <a:ahLst/>
              <a:rect l="l" t="t" r="r" b="b"/>
              <a:pathLst>
                <a:path w="187" h="185">
                  <a:moveTo>
                    <a:pt x="89" y="0"/>
                  </a:moveTo>
                  <a:lnTo>
                    <a:pt x="94" y="7"/>
                  </a:lnTo>
                  <a:lnTo>
                    <a:pt x="99" y="14"/>
                  </a:lnTo>
                  <a:lnTo>
                    <a:pt x="104" y="21"/>
                  </a:lnTo>
                  <a:lnTo>
                    <a:pt x="109" y="29"/>
                  </a:lnTo>
                  <a:lnTo>
                    <a:pt x="114" y="36"/>
                  </a:lnTo>
                  <a:lnTo>
                    <a:pt x="119" y="43"/>
                  </a:lnTo>
                  <a:lnTo>
                    <a:pt x="124" y="51"/>
                  </a:lnTo>
                  <a:lnTo>
                    <a:pt x="129" y="58"/>
                  </a:lnTo>
                  <a:lnTo>
                    <a:pt x="136" y="66"/>
                  </a:lnTo>
                  <a:lnTo>
                    <a:pt x="144" y="74"/>
                  </a:lnTo>
                  <a:lnTo>
                    <a:pt x="151" y="83"/>
                  </a:lnTo>
                  <a:lnTo>
                    <a:pt x="159" y="91"/>
                  </a:lnTo>
                  <a:lnTo>
                    <a:pt x="165" y="99"/>
                  </a:lnTo>
                  <a:lnTo>
                    <a:pt x="172" y="108"/>
                  </a:lnTo>
                  <a:lnTo>
                    <a:pt x="180" y="116"/>
                  </a:lnTo>
                  <a:lnTo>
                    <a:pt x="187" y="124"/>
                  </a:lnTo>
                  <a:lnTo>
                    <a:pt x="175" y="132"/>
                  </a:lnTo>
                  <a:lnTo>
                    <a:pt x="162" y="139"/>
                  </a:lnTo>
                  <a:lnTo>
                    <a:pt x="148" y="145"/>
                  </a:lnTo>
                  <a:lnTo>
                    <a:pt x="136" y="151"/>
                  </a:lnTo>
                  <a:lnTo>
                    <a:pt x="122" y="157"/>
                  </a:lnTo>
                  <a:lnTo>
                    <a:pt x="108" y="161"/>
                  </a:lnTo>
                  <a:lnTo>
                    <a:pt x="95" y="166"/>
                  </a:lnTo>
                  <a:lnTo>
                    <a:pt x="83" y="170"/>
                  </a:lnTo>
                  <a:lnTo>
                    <a:pt x="70" y="174"/>
                  </a:lnTo>
                  <a:lnTo>
                    <a:pt x="57" y="176"/>
                  </a:lnTo>
                  <a:lnTo>
                    <a:pt x="46" y="180"/>
                  </a:lnTo>
                  <a:lnTo>
                    <a:pt x="35" y="181"/>
                  </a:lnTo>
                  <a:lnTo>
                    <a:pt x="25" y="183"/>
                  </a:lnTo>
                  <a:lnTo>
                    <a:pt x="16" y="184"/>
                  </a:lnTo>
                  <a:lnTo>
                    <a:pt x="7" y="185"/>
                  </a:lnTo>
                  <a:lnTo>
                    <a:pt x="0" y="185"/>
                  </a:lnTo>
                  <a:lnTo>
                    <a:pt x="2" y="145"/>
                  </a:lnTo>
                  <a:lnTo>
                    <a:pt x="5" y="106"/>
                  </a:lnTo>
                  <a:lnTo>
                    <a:pt x="8" y="66"/>
                  </a:lnTo>
                  <a:lnTo>
                    <a:pt x="10" y="26"/>
                  </a:lnTo>
                  <a:lnTo>
                    <a:pt x="22" y="21"/>
                  </a:lnTo>
                  <a:lnTo>
                    <a:pt x="33" y="17"/>
                  </a:lnTo>
                  <a:lnTo>
                    <a:pt x="45" y="16"/>
                  </a:lnTo>
                  <a:lnTo>
                    <a:pt x="56" y="15"/>
                  </a:lnTo>
                  <a:lnTo>
                    <a:pt x="66" y="14"/>
                  </a:lnTo>
                  <a:lnTo>
                    <a:pt x="76" y="11"/>
                  </a:lnTo>
                  <a:lnTo>
                    <a:pt x="84" y="8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3878280" y="2073960"/>
              <a:ext cx="115200" cy="111600"/>
            </a:xfrm>
            <a:custGeom>
              <a:avLst/>
              <a:gdLst/>
              <a:ahLst/>
              <a:rect l="l" t="t" r="r" b="b"/>
              <a:pathLst>
                <a:path w="166" h="182">
                  <a:moveTo>
                    <a:pt x="67" y="0"/>
                  </a:moveTo>
                  <a:lnTo>
                    <a:pt x="71" y="7"/>
                  </a:lnTo>
                  <a:lnTo>
                    <a:pt x="76" y="15"/>
                  </a:lnTo>
                  <a:lnTo>
                    <a:pt x="82" y="22"/>
                  </a:lnTo>
                  <a:lnTo>
                    <a:pt x="86" y="29"/>
                  </a:lnTo>
                  <a:lnTo>
                    <a:pt x="91" y="37"/>
                  </a:lnTo>
                  <a:lnTo>
                    <a:pt x="97" y="44"/>
                  </a:lnTo>
                  <a:lnTo>
                    <a:pt x="101" y="52"/>
                  </a:lnTo>
                  <a:lnTo>
                    <a:pt x="106" y="59"/>
                  </a:lnTo>
                  <a:lnTo>
                    <a:pt x="114" y="67"/>
                  </a:lnTo>
                  <a:lnTo>
                    <a:pt x="121" y="75"/>
                  </a:lnTo>
                  <a:lnTo>
                    <a:pt x="129" y="84"/>
                  </a:lnTo>
                  <a:lnTo>
                    <a:pt x="136" y="92"/>
                  </a:lnTo>
                  <a:lnTo>
                    <a:pt x="144" y="102"/>
                  </a:lnTo>
                  <a:lnTo>
                    <a:pt x="151" y="110"/>
                  </a:lnTo>
                  <a:lnTo>
                    <a:pt x="159" y="119"/>
                  </a:lnTo>
                  <a:lnTo>
                    <a:pt x="166" y="127"/>
                  </a:lnTo>
                  <a:lnTo>
                    <a:pt x="143" y="140"/>
                  </a:lnTo>
                  <a:lnTo>
                    <a:pt x="118" y="151"/>
                  </a:lnTo>
                  <a:lnTo>
                    <a:pt x="95" y="160"/>
                  </a:lnTo>
                  <a:lnTo>
                    <a:pt x="72" y="168"/>
                  </a:lnTo>
                  <a:lnTo>
                    <a:pt x="50" y="174"/>
                  </a:lnTo>
                  <a:lnTo>
                    <a:pt x="31" y="179"/>
                  </a:lnTo>
                  <a:lnTo>
                    <a:pt x="14" y="181"/>
                  </a:lnTo>
                  <a:lnTo>
                    <a:pt x="0" y="182"/>
                  </a:lnTo>
                  <a:lnTo>
                    <a:pt x="2" y="142"/>
                  </a:lnTo>
                  <a:lnTo>
                    <a:pt x="4" y="102"/>
                  </a:lnTo>
                  <a:lnTo>
                    <a:pt x="7" y="61"/>
                  </a:lnTo>
                  <a:lnTo>
                    <a:pt x="9" y="21"/>
                  </a:lnTo>
                  <a:lnTo>
                    <a:pt x="18" y="15"/>
                  </a:lnTo>
                  <a:lnTo>
                    <a:pt x="26" y="13"/>
                  </a:lnTo>
                  <a:lnTo>
                    <a:pt x="34" y="13"/>
                  </a:lnTo>
                  <a:lnTo>
                    <a:pt x="42" y="13"/>
                  </a:lnTo>
                  <a:lnTo>
                    <a:pt x="49" y="13"/>
                  </a:lnTo>
                  <a:lnTo>
                    <a:pt x="56" y="12"/>
                  </a:lnTo>
                  <a:lnTo>
                    <a:pt x="62" y="7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c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882600" y="2073960"/>
              <a:ext cx="96120" cy="108000"/>
            </a:xfrm>
            <a:custGeom>
              <a:avLst/>
              <a:gdLst/>
              <a:ahLst/>
              <a:rect l="l" t="t" r="r" b="b"/>
              <a:pathLst>
                <a:path w="143" h="177">
                  <a:moveTo>
                    <a:pt x="43" y="0"/>
                  </a:moveTo>
                  <a:lnTo>
                    <a:pt x="83" y="57"/>
                  </a:lnTo>
                  <a:lnTo>
                    <a:pt x="143" y="128"/>
                  </a:lnTo>
                  <a:lnTo>
                    <a:pt x="122" y="139"/>
                  </a:lnTo>
                  <a:lnTo>
                    <a:pt x="101" y="149"/>
                  </a:lnTo>
                  <a:lnTo>
                    <a:pt x="81" y="157"/>
                  </a:lnTo>
                  <a:lnTo>
                    <a:pt x="61" y="164"/>
                  </a:lnTo>
                  <a:lnTo>
                    <a:pt x="43" y="170"/>
                  </a:lnTo>
                  <a:lnTo>
                    <a:pt x="25" y="174"/>
                  </a:lnTo>
                  <a:lnTo>
                    <a:pt x="12" y="176"/>
                  </a:lnTo>
                  <a:lnTo>
                    <a:pt x="0" y="177"/>
                  </a:lnTo>
                  <a:lnTo>
                    <a:pt x="8" y="14"/>
                  </a:lnTo>
                  <a:lnTo>
                    <a:pt x="14" y="8"/>
                  </a:lnTo>
                  <a:lnTo>
                    <a:pt x="20" y="7"/>
                  </a:lnTo>
                  <a:lnTo>
                    <a:pt x="24" y="7"/>
                  </a:lnTo>
                  <a:lnTo>
                    <a:pt x="29" y="8"/>
                  </a:lnTo>
                  <a:lnTo>
                    <a:pt x="33" y="10"/>
                  </a:lnTo>
                  <a:lnTo>
                    <a:pt x="37" y="10"/>
                  </a:lnTo>
                  <a:lnTo>
                    <a:pt x="40" y="7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4143240" y="2105280"/>
              <a:ext cx="245160" cy="87120"/>
            </a:xfrm>
            <a:custGeom>
              <a:avLst/>
              <a:gdLst/>
              <a:ahLst/>
              <a:rect l="l" t="t" r="r" b="b"/>
              <a:pathLst>
                <a:path w="360" h="144">
                  <a:moveTo>
                    <a:pt x="360" y="16"/>
                  </a:moveTo>
                  <a:lnTo>
                    <a:pt x="274" y="144"/>
                  </a:lnTo>
                  <a:lnTo>
                    <a:pt x="262" y="144"/>
                  </a:lnTo>
                  <a:lnTo>
                    <a:pt x="248" y="144"/>
                  </a:lnTo>
                  <a:lnTo>
                    <a:pt x="234" y="144"/>
                  </a:lnTo>
                  <a:lnTo>
                    <a:pt x="220" y="143"/>
                  </a:lnTo>
                  <a:lnTo>
                    <a:pt x="206" y="143"/>
                  </a:lnTo>
                  <a:lnTo>
                    <a:pt x="191" y="142"/>
                  </a:lnTo>
                  <a:lnTo>
                    <a:pt x="175" y="141"/>
                  </a:lnTo>
                  <a:lnTo>
                    <a:pt x="159" y="139"/>
                  </a:lnTo>
                  <a:lnTo>
                    <a:pt x="143" y="136"/>
                  </a:lnTo>
                  <a:lnTo>
                    <a:pt x="125" y="133"/>
                  </a:lnTo>
                  <a:lnTo>
                    <a:pt x="106" y="128"/>
                  </a:lnTo>
                  <a:lnTo>
                    <a:pt x="88" y="122"/>
                  </a:lnTo>
                  <a:lnTo>
                    <a:pt x="67" y="116"/>
                  </a:lnTo>
                  <a:lnTo>
                    <a:pt x="46" y="107"/>
                  </a:lnTo>
                  <a:lnTo>
                    <a:pt x="23" y="97"/>
                  </a:lnTo>
                  <a:lnTo>
                    <a:pt x="0" y="86"/>
                  </a:lnTo>
                  <a:lnTo>
                    <a:pt x="130" y="0"/>
                  </a:lnTo>
                  <a:lnTo>
                    <a:pt x="142" y="4"/>
                  </a:lnTo>
                  <a:lnTo>
                    <a:pt x="155" y="7"/>
                  </a:lnTo>
                  <a:lnTo>
                    <a:pt x="166" y="10"/>
                  </a:lnTo>
                  <a:lnTo>
                    <a:pt x="179" y="12"/>
                  </a:lnTo>
                  <a:lnTo>
                    <a:pt x="193" y="13"/>
                  </a:lnTo>
                  <a:lnTo>
                    <a:pt x="205" y="14"/>
                  </a:lnTo>
                  <a:lnTo>
                    <a:pt x="219" y="15"/>
                  </a:lnTo>
                  <a:lnTo>
                    <a:pt x="233" y="16"/>
                  </a:lnTo>
                  <a:lnTo>
                    <a:pt x="247" y="16"/>
                  </a:lnTo>
                  <a:lnTo>
                    <a:pt x="262" y="16"/>
                  </a:lnTo>
                  <a:lnTo>
                    <a:pt x="277" y="16"/>
                  </a:lnTo>
                  <a:lnTo>
                    <a:pt x="293" y="16"/>
                  </a:lnTo>
                  <a:lnTo>
                    <a:pt x="309" y="16"/>
                  </a:lnTo>
                  <a:lnTo>
                    <a:pt x="325" y="16"/>
                  </a:lnTo>
                  <a:lnTo>
                    <a:pt x="342" y="16"/>
                  </a:lnTo>
                  <a:lnTo>
                    <a:pt x="360" y="1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4152600" y="2105280"/>
              <a:ext cx="236880" cy="87120"/>
            </a:xfrm>
            <a:custGeom>
              <a:avLst/>
              <a:gdLst/>
              <a:ahLst/>
              <a:rect l="l" t="t" r="r" b="b"/>
              <a:pathLst>
                <a:path w="345" h="144">
                  <a:moveTo>
                    <a:pt x="345" y="18"/>
                  </a:moveTo>
                  <a:lnTo>
                    <a:pt x="333" y="35"/>
                  </a:lnTo>
                  <a:lnTo>
                    <a:pt x="323" y="50"/>
                  </a:lnTo>
                  <a:lnTo>
                    <a:pt x="311" y="66"/>
                  </a:lnTo>
                  <a:lnTo>
                    <a:pt x="301" y="81"/>
                  </a:lnTo>
                  <a:lnTo>
                    <a:pt x="289" y="97"/>
                  </a:lnTo>
                  <a:lnTo>
                    <a:pt x="279" y="113"/>
                  </a:lnTo>
                  <a:lnTo>
                    <a:pt x="267" y="128"/>
                  </a:lnTo>
                  <a:lnTo>
                    <a:pt x="257" y="144"/>
                  </a:lnTo>
                  <a:lnTo>
                    <a:pt x="244" y="144"/>
                  </a:lnTo>
                  <a:lnTo>
                    <a:pt x="233" y="144"/>
                  </a:lnTo>
                  <a:lnTo>
                    <a:pt x="220" y="143"/>
                  </a:lnTo>
                  <a:lnTo>
                    <a:pt x="206" y="143"/>
                  </a:lnTo>
                  <a:lnTo>
                    <a:pt x="194" y="143"/>
                  </a:lnTo>
                  <a:lnTo>
                    <a:pt x="180" y="142"/>
                  </a:lnTo>
                  <a:lnTo>
                    <a:pt x="165" y="141"/>
                  </a:lnTo>
                  <a:lnTo>
                    <a:pt x="150" y="138"/>
                  </a:lnTo>
                  <a:lnTo>
                    <a:pt x="134" y="136"/>
                  </a:lnTo>
                  <a:lnTo>
                    <a:pt x="118" y="133"/>
                  </a:lnTo>
                  <a:lnTo>
                    <a:pt x="100" y="128"/>
                  </a:lnTo>
                  <a:lnTo>
                    <a:pt x="82" y="123"/>
                  </a:lnTo>
                  <a:lnTo>
                    <a:pt x="64" y="116"/>
                  </a:lnTo>
                  <a:lnTo>
                    <a:pt x="43" y="108"/>
                  </a:lnTo>
                  <a:lnTo>
                    <a:pt x="22" y="99"/>
                  </a:lnTo>
                  <a:lnTo>
                    <a:pt x="0" y="88"/>
                  </a:lnTo>
                  <a:lnTo>
                    <a:pt x="16" y="77"/>
                  </a:lnTo>
                  <a:lnTo>
                    <a:pt x="32" y="66"/>
                  </a:lnTo>
                  <a:lnTo>
                    <a:pt x="49" y="55"/>
                  </a:lnTo>
                  <a:lnTo>
                    <a:pt x="64" y="44"/>
                  </a:lnTo>
                  <a:lnTo>
                    <a:pt x="80" y="32"/>
                  </a:lnTo>
                  <a:lnTo>
                    <a:pt x="96" y="22"/>
                  </a:lnTo>
                  <a:lnTo>
                    <a:pt x="111" y="10"/>
                  </a:lnTo>
                  <a:lnTo>
                    <a:pt x="127" y="0"/>
                  </a:lnTo>
                  <a:lnTo>
                    <a:pt x="138" y="4"/>
                  </a:lnTo>
                  <a:lnTo>
                    <a:pt x="150" y="7"/>
                  </a:lnTo>
                  <a:lnTo>
                    <a:pt x="161" y="9"/>
                  </a:lnTo>
                  <a:lnTo>
                    <a:pt x="173" y="12"/>
                  </a:lnTo>
                  <a:lnTo>
                    <a:pt x="186" y="13"/>
                  </a:lnTo>
                  <a:lnTo>
                    <a:pt x="198" y="15"/>
                  </a:lnTo>
                  <a:lnTo>
                    <a:pt x="212" y="16"/>
                  </a:lnTo>
                  <a:lnTo>
                    <a:pt x="225" y="16"/>
                  </a:lnTo>
                  <a:lnTo>
                    <a:pt x="239" y="17"/>
                  </a:lnTo>
                  <a:lnTo>
                    <a:pt x="252" y="17"/>
                  </a:lnTo>
                  <a:lnTo>
                    <a:pt x="267" y="18"/>
                  </a:lnTo>
                  <a:lnTo>
                    <a:pt x="282" y="18"/>
                  </a:lnTo>
                  <a:lnTo>
                    <a:pt x="297" y="18"/>
                  </a:lnTo>
                  <a:lnTo>
                    <a:pt x="312" y="18"/>
                  </a:lnTo>
                  <a:lnTo>
                    <a:pt x="328" y="18"/>
                  </a:lnTo>
                  <a:lnTo>
                    <a:pt x="345" y="18"/>
                  </a:lnTo>
                  <a:close/>
                </a:path>
              </a:pathLst>
            </a:custGeom>
            <a:solidFill>
              <a:srgbClr val="7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4163760" y="2103840"/>
              <a:ext cx="225000" cy="84960"/>
            </a:xfrm>
            <a:custGeom>
              <a:avLst/>
              <a:gdLst/>
              <a:ahLst/>
              <a:rect l="l" t="t" r="r" b="b"/>
              <a:pathLst>
                <a:path w="330" h="143">
                  <a:moveTo>
                    <a:pt x="330" y="19"/>
                  </a:moveTo>
                  <a:lnTo>
                    <a:pt x="318" y="34"/>
                  </a:lnTo>
                  <a:lnTo>
                    <a:pt x="308" y="49"/>
                  </a:lnTo>
                  <a:lnTo>
                    <a:pt x="296" y="66"/>
                  </a:lnTo>
                  <a:lnTo>
                    <a:pt x="285" y="81"/>
                  </a:lnTo>
                  <a:lnTo>
                    <a:pt x="273" y="97"/>
                  </a:lnTo>
                  <a:lnTo>
                    <a:pt x="263" y="112"/>
                  </a:lnTo>
                  <a:lnTo>
                    <a:pt x="251" y="128"/>
                  </a:lnTo>
                  <a:lnTo>
                    <a:pt x="240" y="143"/>
                  </a:lnTo>
                  <a:lnTo>
                    <a:pt x="228" y="143"/>
                  </a:lnTo>
                  <a:lnTo>
                    <a:pt x="217" y="142"/>
                  </a:lnTo>
                  <a:lnTo>
                    <a:pt x="205" y="142"/>
                  </a:lnTo>
                  <a:lnTo>
                    <a:pt x="193" y="142"/>
                  </a:lnTo>
                  <a:lnTo>
                    <a:pt x="180" y="140"/>
                  </a:lnTo>
                  <a:lnTo>
                    <a:pt x="167" y="140"/>
                  </a:lnTo>
                  <a:lnTo>
                    <a:pt x="153" y="139"/>
                  </a:lnTo>
                  <a:lnTo>
                    <a:pt x="140" y="137"/>
                  </a:lnTo>
                  <a:lnTo>
                    <a:pt x="126" y="135"/>
                  </a:lnTo>
                  <a:lnTo>
                    <a:pt x="110" y="131"/>
                  </a:lnTo>
                  <a:lnTo>
                    <a:pt x="93" y="127"/>
                  </a:lnTo>
                  <a:lnTo>
                    <a:pt x="77" y="122"/>
                  </a:lnTo>
                  <a:lnTo>
                    <a:pt x="59" y="115"/>
                  </a:lnTo>
                  <a:lnTo>
                    <a:pt x="41" y="108"/>
                  </a:lnTo>
                  <a:lnTo>
                    <a:pt x="21" y="99"/>
                  </a:lnTo>
                  <a:lnTo>
                    <a:pt x="0" y="89"/>
                  </a:lnTo>
                  <a:lnTo>
                    <a:pt x="15" y="77"/>
                  </a:lnTo>
                  <a:lnTo>
                    <a:pt x="31" y="67"/>
                  </a:lnTo>
                  <a:lnTo>
                    <a:pt x="46" y="55"/>
                  </a:lnTo>
                  <a:lnTo>
                    <a:pt x="62" y="44"/>
                  </a:lnTo>
                  <a:lnTo>
                    <a:pt x="77" y="33"/>
                  </a:lnTo>
                  <a:lnTo>
                    <a:pt x="92" y="22"/>
                  </a:lnTo>
                  <a:lnTo>
                    <a:pt x="108" y="11"/>
                  </a:lnTo>
                  <a:lnTo>
                    <a:pt x="123" y="0"/>
                  </a:lnTo>
                  <a:lnTo>
                    <a:pt x="134" y="3"/>
                  </a:lnTo>
                  <a:lnTo>
                    <a:pt x="144" y="6"/>
                  </a:lnTo>
                  <a:lnTo>
                    <a:pt x="156" y="9"/>
                  </a:lnTo>
                  <a:lnTo>
                    <a:pt x="167" y="10"/>
                  </a:lnTo>
                  <a:lnTo>
                    <a:pt x="179" y="13"/>
                  </a:lnTo>
                  <a:lnTo>
                    <a:pt x="191" y="14"/>
                  </a:lnTo>
                  <a:lnTo>
                    <a:pt x="204" y="16"/>
                  </a:lnTo>
                  <a:lnTo>
                    <a:pt x="217" y="16"/>
                  </a:lnTo>
                  <a:lnTo>
                    <a:pt x="229" y="17"/>
                  </a:lnTo>
                  <a:lnTo>
                    <a:pt x="243" y="18"/>
                  </a:lnTo>
                  <a:lnTo>
                    <a:pt x="257" y="18"/>
                  </a:lnTo>
                  <a:lnTo>
                    <a:pt x="271" y="19"/>
                  </a:lnTo>
                  <a:lnTo>
                    <a:pt x="286" y="19"/>
                  </a:lnTo>
                  <a:lnTo>
                    <a:pt x="300" y="19"/>
                  </a:lnTo>
                  <a:lnTo>
                    <a:pt x="315" y="19"/>
                  </a:lnTo>
                  <a:lnTo>
                    <a:pt x="330" y="19"/>
                  </a:lnTo>
                  <a:close/>
                </a:path>
              </a:pathLst>
            </a:custGeom>
            <a:solidFill>
              <a:srgbClr val="6b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4173840" y="2103840"/>
              <a:ext cx="214920" cy="84960"/>
            </a:xfrm>
            <a:custGeom>
              <a:avLst/>
              <a:gdLst/>
              <a:ahLst/>
              <a:rect l="l" t="t" r="r" b="b"/>
              <a:pathLst>
                <a:path w="314" h="142">
                  <a:moveTo>
                    <a:pt x="314" y="21"/>
                  </a:moveTo>
                  <a:lnTo>
                    <a:pt x="302" y="36"/>
                  </a:lnTo>
                  <a:lnTo>
                    <a:pt x="290" y="51"/>
                  </a:lnTo>
                  <a:lnTo>
                    <a:pt x="280" y="66"/>
                  </a:lnTo>
                  <a:lnTo>
                    <a:pt x="269" y="81"/>
                  </a:lnTo>
                  <a:lnTo>
                    <a:pt x="257" y="98"/>
                  </a:lnTo>
                  <a:lnTo>
                    <a:pt x="246" y="112"/>
                  </a:lnTo>
                  <a:lnTo>
                    <a:pt x="234" y="127"/>
                  </a:lnTo>
                  <a:lnTo>
                    <a:pt x="223" y="142"/>
                  </a:lnTo>
                  <a:lnTo>
                    <a:pt x="212" y="142"/>
                  </a:lnTo>
                  <a:lnTo>
                    <a:pt x="202" y="141"/>
                  </a:lnTo>
                  <a:lnTo>
                    <a:pt x="190" y="141"/>
                  </a:lnTo>
                  <a:lnTo>
                    <a:pt x="180" y="141"/>
                  </a:lnTo>
                  <a:lnTo>
                    <a:pt x="167" y="140"/>
                  </a:lnTo>
                  <a:lnTo>
                    <a:pt x="156" y="140"/>
                  </a:lnTo>
                  <a:lnTo>
                    <a:pt x="143" y="138"/>
                  </a:lnTo>
                  <a:lnTo>
                    <a:pt x="130" y="137"/>
                  </a:lnTo>
                  <a:lnTo>
                    <a:pt x="117" y="134"/>
                  </a:lnTo>
                  <a:lnTo>
                    <a:pt x="103" y="131"/>
                  </a:lnTo>
                  <a:lnTo>
                    <a:pt x="88" y="126"/>
                  </a:lnTo>
                  <a:lnTo>
                    <a:pt x="72" y="122"/>
                  </a:lnTo>
                  <a:lnTo>
                    <a:pt x="55" y="116"/>
                  </a:lnTo>
                  <a:lnTo>
                    <a:pt x="38" y="109"/>
                  </a:lnTo>
                  <a:lnTo>
                    <a:pt x="20" y="100"/>
                  </a:lnTo>
                  <a:lnTo>
                    <a:pt x="0" y="91"/>
                  </a:lnTo>
                  <a:lnTo>
                    <a:pt x="15" y="79"/>
                  </a:lnTo>
                  <a:lnTo>
                    <a:pt x="30" y="68"/>
                  </a:lnTo>
                  <a:lnTo>
                    <a:pt x="45" y="57"/>
                  </a:lnTo>
                  <a:lnTo>
                    <a:pt x="60" y="46"/>
                  </a:lnTo>
                  <a:lnTo>
                    <a:pt x="75" y="34"/>
                  </a:lnTo>
                  <a:lnTo>
                    <a:pt x="90" y="23"/>
                  </a:lnTo>
                  <a:lnTo>
                    <a:pt x="105" y="11"/>
                  </a:lnTo>
                  <a:lnTo>
                    <a:pt x="120" y="0"/>
                  </a:lnTo>
                  <a:lnTo>
                    <a:pt x="129" y="3"/>
                  </a:lnTo>
                  <a:lnTo>
                    <a:pt x="140" y="5"/>
                  </a:lnTo>
                  <a:lnTo>
                    <a:pt x="150" y="8"/>
                  </a:lnTo>
                  <a:lnTo>
                    <a:pt x="161" y="10"/>
                  </a:lnTo>
                  <a:lnTo>
                    <a:pt x="172" y="12"/>
                  </a:lnTo>
                  <a:lnTo>
                    <a:pt x="183" y="15"/>
                  </a:lnTo>
                  <a:lnTo>
                    <a:pt x="196" y="16"/>
                  </a:lnTo>
                  <a:lnTo>
                    <a:pt x="209" y="17"/>
                  </a:lnTo>
                  <a:lnTo>
                    <a:pt x="220" y="18"/>
                  </a:lnTo>
                  <a:lnTo>
                    <a:pt x="233" y="19"/>
                  </a:lnTo>
                  <a:lnTo>
                    <a:pt x="247" y="20"/>
                  </a:lnTo>
                  <a:lnTo>
                    <a:pt x="259" y="20"/>
                  </a:lnTo>
                  <a:lnTo>
                    <a:pt x="273" y="21"/>
                  </a:lnTo>
                  <a:lnTo>
                    <a:pt x="286" y="21"/>
                  </a:lnTo>
                  <a:lnTo>
                    <a:pt x="300" y="21"/>
                  </a:lnTo>
                  <a:lnTo>
                    <a:pt x="314" y="21"/>
                  </a:lnTo>
                  <a:close/>
                </a:path>
              </a:pathLst>
            </a:custGeom>
            <a:solidFill>
              <a:srgbClr val="5b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4185000" y="2101680"/>
              <a:ext cx="204480" cy="85320"/>
            </a:xfrm>
            <a:custGeom>
              <a:avLst/>
              <a:gdLst/>
              <a:ahLst/>
              <a:rect l="l" t="t" r="r" b="b"/>
              <a:pathLst>
                <a:path w="299" h="142">
                  <a:moveTo>
                    <a:pt x="299" y="23"/>
                  </a:moveTo>
                  <a:lnTo>
                    <a:pt x="287" y="38"/>
                  </a:lnTo>
                  <a:lnTo>
                    <a:pt x="275" y="53"/>
                  </a:lnTo>
                  <a:lnTo>
                    <a:pt x="264" y="67"/>
                  </a:lnTo>
                  <a:lnTo>
                    <a:pt x="252" y="82"/>
                  </a:lnTo>
                  <a:lnTo>
                    <a:pt x="240" y="97"/>
                  </a:lnTo>
                  <a:lnTo>
                    <a:pt x="228" y="112"/>
                  </a:lnTo>
                  <a:lnTo>
                    <a:pt x="217" y="127"/>
                  </a:lnTo>
                  <a:lnTo>
                    <a:pt x="205" y="142"/>
                  </a:lnTo>
                  <a:lnTo>
                    <a:pt x="196" y="142"/>
                  </a:lnTo>
                  <a:lnTo>
                    <a:pt x="186" y="141"/>
                  </a:lnTo>
                  <a:lnTo>
                    <a:pt x="176" y="141"/>
                  </a:lnTo>
                  <a:lnTo>
                    <a:pt x="166" y="141"/>
                  </a:lnTo>
                  <a:lnTo>
                    <a:pt x="156" y="140"/>
                  </a:lnTo>
                  <a:lnTo>
                    <a:pt x="144" y="139"/>
                  </a:lnTo>
                  <a:lnTo>
                    <a:pt x="133" y="138"/>
                  </a:lnTo>
                  <a:lnTo>
                    <a:pt x="121" y="135"/>
                  </a:lnTo>
                  <a:lnTo>
                    <a:pt x="108" y="133"/>
                  </a:lnTo>
                  <a:lnTo>
                    <a:pt x="96" y="129"/>
                  </a:lnTo>
                  <a:lnTo>
                    <a:pt x="82" y="126"/>
                  </a:lnTo>
                  <a:lnTo>
                    <a:pt x="67" y="121"/>
                  </a:lnTo>
                  <a:lnTo>
                    <a:pt x="52" y="116"/>
                  </a:lnTo>
                  <a:lnTo>
                    <a:pt x="36" y="109"/>
                  </a:lnTo>
                  <a:lnTo>
                    <a:pt x="19" y="102"/>
                  </a:lnTo>
                  <a:lnTo>
                    <a:pt x="0" y="93"/>
                  </a:lnTo>
                  <a:lnTo>
                    <a:pt x="15" y="81"/>
                  </a:lnTo>
                  <a:lnTo>
                    <a:pt x="29" y="70"/>
                  </a:lnTo>
                  <a:lnTo>
                    <a:pt x="44" y="58"/>
                  </a:lnTo>
                  <a:lnTo>
                    <a:pt x="59" y="47"/>
                  </a:lnTo>
                  <a:lnTo>
                    <a:pt x="73" y="35"/>
                  </a:lnTo>
                  <a:lnTo>
                    <a:pt x="88" y="23"/>
                  </a:lnTo>
                  <a:lnTo>
                    <a:pt x="102" y="12"/>
                  </a:lnTo>
                  <a:lnTo>
                    <a:pt x="117" y="0"/>
                  </a:lnTo>
                  <a:lnTo>
                    <a:pt x="135" y="6"/>
                  </a:lnTo>
                  <a:lnTo>
                    <a:pt x="155" y="11"/>
                  </a:lnTo>
                  <a:lnTo>
                    <a:pt x="176" y="14"/>
                  </a:lnTo>
                  <a:lnTo>
                    <a:pt x="199" y="18"/>
                  </a:lnTo>
                  <a:lnTo>
                    <a:pt x="224" y="20"/>
                  </a:lnTo>
                  <a:lnTo>
                    <a:pt x="249" y="22"/>
                  </a:lnTo>
                  <a:lnTo>
                    <a:pt x="273" y="23"/>
                  </a:lnTo>
                  <a:lnTo>
                    <a:pt x="299" y="23"/>
                  </a:lnTo>
                  <a:close/>
                </a:path>
              </a:pathLst>
            </a:custGeom>
            <a:solidFill>
              <a:srgbClr val="4c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4196160" y="2101680"/>
              <a:ext cx="192600" cy="83520"/>
            </a:xfrm>
            <a:custGeom>
              <a:avLst/>
              <a:gdLst/>
              <a:ahLst/>
              <a:rect l="l" t="t" r="r" b="b"/>
              <a:pathLst>
                <a:path w="284" h="140">
                  <a:moveTo>
                    <a:pt x="284" y="24"/>
                  </a:moveTo>
                  <a:lnTo>
                    <a:pt x="272" y="38"/>
                  </a:lnTo>
                  <a:lnTo>
                    <a:pt x="261" y="53"/>
                  </a:lnTo>
                  <a:lnTo>
                    <a:pt x="248" y="67"/>
                  </a:lnTo>
                  <a:lnTo>
                    <a:pt x="236" y="82"/>
                  </a:lnTo>
                  <a:lnTo>
                    <a:pt x="224" y="97"/>
                  </a:lnTo>
                  <a:lnTo>
                    <a:pt x="212" y="111"/>
                  </a:lnTo>
                  <a:lnTo>
                    <a:pt x="199" y="126"/>
                  </a:lnTo>
                  <a:lnTo>
                    <a:pt x="188" y="140"/>
                  </a:lnTo>
                  <a:lnTo>
                    <a:pt x="179" y="140"/>
                  </a:lnTo>
                  <a:lnTo>
                    <a:pt x="171" y="139"/>
                  </a:lnTo>
                  <a:lnTo>
                    <a:pt x="161" y="139"/>
                  </a:lnTo>
                  <a:lnTo>
                    <a:pt x="152" y="139"/>
                  </a:lnTo>
                  <a:lnTo>
                    <a:pt x="142" y="137"/>
                  </a:lnTo>
                  <a:lnTo>
                    <a:pt x="133" y="136"/>
                  </a:lnTo>
                  <a:lnTo>
                    <a:pt x="122" y="135"/>
                  </a:lnTo>
                  <a:lnTo>
                    <a:pt x="111" y="134"/>
                  </a:lnTo>
                  <a:lnTo>
                    <a:pt x="99" y="132"/>
                  </a:lnTo>
                  <a:lnTo>
                    <a:pt x="88" y="128"/>
                  </a:lnTo>
                  <a:lnTo>
                    <a:pt x="75" y="125"/>
                  </a:lnTo>
                  <a:lnTo>
                    <a:pt x="61" y="120"/>
                  </a:lnTo>
                  <a:lnTo>
                    <a:pt x="47" y="115"/>
                  </a:lnTo>
                  <a:lnTo>
                    <a:pt x="32" y="109"/>
                  </a:lnTo>
                  <a:lnTo>
                    <a:pt x="16" y="102"/>
                  </a:lnTo>
                  <a:lnTo>
                    <a:pt x="0" y="94"/>
                  </a:lnTo>
                  <a:lnTo>
                    <a:pt x="14" y="82"/>
                  </a:lnTo>
                  <a:lnTo>
                    <a:pt x="29" y="71"/>
                  </a:lnTo>
                  <a:lnTo>
                    <a:pt x="43" y="59"/>
                  </a:lnTo>
                  <a:lnTo>
                    <a:pt x="57" y="46"/>
                  </a:lnTo>
                  <a:lnTo>
                    <a:pt x="72" y="35"/>
                  </a:lnTo>
                  <a:lnTo>
                    <a:pt x="85" y="23"/>
                  </a:lnTo>
                  <a:lnTo>
                    <a:pt x="99" y="12"/>
                  </a:lnTo>
                  <a:lnTo>
                    <a:pt x="113" y="0"/>
                  </a:lnTo>
                  <a:lnTo>
                    <a:pt x="129" y="5"/>
                  </a:lnTo>
                  <a:lnTo>
                    <a:pt x="149" y="10"/>
                  </a:lnTo>
                  <a:lnTo>
                    <a:pt x="170" y="13"/>
                  </a:lnTo>
                  <a:lnTo>
                    <a:pt x="191" y="18"/>
                  </a:lnTo>
                  <a:lnTo>
                    <a:pt x="214" y="20"/>
                  </a:lnTo>
                  <a:lnTo>
                    <a:pt x="237" y="22"/>
                  </a:lnTo>
                  <a:lnTo>
                    <a:pt x="261" y="24"/>
                  </a:lnTo>
                  <a:lnTo>
                    <a:pt x="284" y="24"/>
                  </a:lnTo>
                  <a:close/>
                </a:path>
              </a:pathLst>
            </a:custGeom>
            <a:solidFill>
              <a:srgbClr val="3d3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4205160" y="2101680"/>
              <a:ext cx="184320" cy="83520"/>
            </a:xfrm>
            <a:custGeom>
              <a:avLst/>
              <a:gdLst/>
              <a:ahLst/>
              <a:rect l="l" t="t" r="r" b="b"/>
              <a:pathLst>
                <a:path w="270" h="139">
                  <a:moveTo>
                    <a:pt x="270" y="26"/>
                  </a:moveTo>
                  <a:lnTo>
                    <a:pt x="257" y="40"/>
                  </a:lnTo>
                  <a:lnTo>
                    <a:pt x="244" y="54"/>
                  </a:lnTo>
                  <a:lnTo>
                    <a:pt x="233" y="68"/>
                  </a:lnTo>
                  <a:lnTo>
                    <a:pt x="220" y="83"/>
                  </a:lnTo>
                  <a:lnTo>
                    <a:pt x="208" y="97"/>
                  </a:lnTo>
                  <a:lnTo>
                    <a:pt x="196" y="111"/>
                  </a:lnTo>
                  <a:lnTo>
                    <a:pt x="183" y="126"/>
                  </a:lnTo>
                  <a:lnTo>
                    <a:pt x="171" y="139"/>
                  </a:lnTo>
                  <a:lnTo>
                    <a:pt x="155" y="138"/>
                  </a:lnTo>
                  <a:lnTo>
                    <a:pt x="138" y="137"/>
                  </a:lnTo>
                  <a:lnTo>
                    <a:pt x="120" y="136"/>
                  </a:lnTo>
                  <a:lnTo>
                    <a:pt x="102" y="132"/>
                  </a:lnTo>
                  <a:lnTo>
                    <a:pt x="80" y="128"/>
                  </a:lnTo>
                  <a:lnTo>
                    <a:pt x="57" y="120"/>
                  </a:lnTo>
                  <a:lnTo>
                    <a:pt x="30" y="109"/>
                  </a:lnTo>
                  <a:lnTo>
                    <a:pt x="0" y="96"/>
                  </a:lnTo>
                  <a:lnTo>
                    <a:pt x="14" y="84"/>
                  </a:lnTo>
                  <a:lnTo>
                    <a:pt x="28" y="71"/>
                  </a:lnTo>
                  <a:lnTo>
                    <a:pt x="42" y="60"/>
                  </a:lnTo>
                  <a:lnTo>
                    <a:pt x="55" y="47"/>
                  </a:lnTo>
                  <a:lnTo>
                    <a:pt x="69" y="36"/>
                  </a:lnTo>
                  <a:lnTo>
                    <a:pt x="83" y="24"/>
                  </a:lnTo>
                  <a:lnTo>
                    <a:pt x="96" y="12"/>
                  </a:lnTo>
                  <a:lnTo>
                    <a:pt x="110" y="0"/>
                  </a:lnTo>
                  <a:lnTo>
                    <a:pt x="125" y="5"/>
                  </a:lnTo>
                  <a:lnTo>
                    <a:pt x="143" y="9"/>
                  </a:lnTo>
                  <a:lnTo>
                    <a:pt x="163" y="14"/>
                  </a:lnTo>
                  <a:lnTo>
                    <a:pt x="183" y="18"/>
                  </a:lnTo>
                  <a:lnTo>
                    <a:pt x="205" y="22"/>
                  </a:lnTo>
                  <a:lnTo>
                    <a:pt x="227" y="24"/>
                  </a:lnTo>
                  <a:lnTo>
                    <a:pt x="249" y="25"/>
                  </a:lnTo>
                  <a:lnTo>
                    <a:pt x="270" y="26"/>
                  </a:lnTo>
                  <a:close/>
                </a:path>
              </a:pathLst>
            </a:custGeom>
            <a:solidFill>
              <a:srgbClr val="2b3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4216320" y="2100240"/>
              <a:ext cx="172440" cy="81720"/>
            </a:xfrm>
            <a:custGeom>
              <a:avLst/>
              <a:gdLst/>
              <a:ahLst/>
              <a:rect l="l" t="t" r="r" b="b"/>
              <a:pathLst>
                <a:path w="254" h="138">
                  <a:moveTo>
                    <a:pt x="254" y="27"/>
                  </a:moveTo>
                  <a:lnTo>
                    <a:pt x="241" y="41"/>
                  </a:lnTo>
                  <a:lnTo>
                    <a:pt x="228" y="55"/>
                  </a:lnTo>
                  <a:lnTo>
                    <a:pt x="216" y="69"/>
                  </a:lnTo>
                  <a:lnTo>
                    <a:pt x="204" y="83"/>
                  </a:lnTo>
                  <a:lnTo>
                    <a:pt x="191" y="97"/>
                  </a:lnTo>
                  <a:lnTo>
                    <a:pt x="179" y="110"/>
                  </a:lnTo>
                  <a:lnTo>
                    <a:pt x="166" y="124"/>
                  </a:lnTo>
                  <a:lnTo>
                    <a:pt x="153" y="138"/>
                  </a:lnTo>
                  <a:lnTo>
                    <a:pt x="140" y="137"/>
                  </a:lnTo>
                  <a:lnTo>
                    <a:pt x="125" y="136"/>
                  </a:lnTo>
                  <a:lnTo>
                    <a:pt x="108" y="135"/>
                  </a:lnTo>
                  <a:lnTo>
                    <a:pt x="91" y="131"/>
                  </a:lnTo>
                  <a:lnTo>
                    <a:pt x="72" y="127"/>
                  </a:lnTo>
                  <a:lnTo>
                    <a:pt x="51" y="120"/>
                  </a:lnTo>
                  <a:lnTo>
                    <a:pt x="27" y="109"/>
                  </a:lnTo>
                  <a:lnTo>
                    <a:pt x="0" y="97"/>
                  </a:lnTo>
                  <a:lnTo>
                    <a:pt x="14" y="84"/>
                  </a:lnTo>
                  <a:lnTo>
                    <a:pt x="27" y="72"/>
                  </a:lnTo>
                  <a:lnTo>
                    <a:pt x="41" y="60"/>
                  </a:lnTo>
                  <a:lnTo>
                    <a:pt x="53" y="48"/>
                  </a:lnTo>
                  <a:lnTo>
                    <a:pt x="67" y="36"/>
                  </a:lnTo>
                  <a:lnTo>
                    <a:pt x="80" y="24"/>
                  </a:lnTo>
                  <a:lnTo>
                    <a:pt x="92" y="11"/>
                  </a:lnTo>
                  <a:lnTo>
                    <a:pt x="105" y="0"/>
                  </a:lnTo>
                  <a:lnTo>
                    <a:pt x="119" y="4"/>
                  </a:lnTo>
                  <a:lnTo>
                    <a:pt x="136" y="9"/>
                  </a:lnTo>
                  <a:lnTo>
                    <a:pt x="155" y="14"/>
                  </a:lnTo>
                  <a:lnTo>
                    <a:pt x="175" y="17"/>
                  </a:lnTo>
                  <a:lnTo>
                    <a:pt x="196" y="22"/>
                  </a:lnTo>
                  <a:lnTo>
                    <a:pt x="216" y="25"/>
                  </a:lnTo>
                  <a:lnTo>
                    <a:pt x="235" y="26"/>
                  </a:lnTo>
                  <a:lnTo>
                    <a:pt x="254" y="27"/>
                  </a:lnTo>
                  <a:close/>
                </a:path>
              </a:pathLst>
            </a:custGeom>
            <a:solidFill>
              <a:srgbClr val="1c3a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4224960" y="2100240"/>
              <a:ext cx="163800" cy="81720"/>
            </a:xfrm>
            <a:custGeom>
              <a:avLst/>
              <a:gdLst/>
              <a:ahLst/>
              <a:rect l="l" t="t" r="r" b="b"/>
              <a:pathLst>
                <a:path w="239" h="138">
                  <a:moveTo>
                    <a:pt x="239" y="29"/>
                  </a:moveTo>
                  <a:lnTo>
                    <a:pt x="226" y="43"/>
                  </a:lnTo>
                  <a:lnTo>
                    <a:pt x="213" y="56"/>
                  </a:lnTo>
                  <a:lnTo>
                    <a:pt x="201" y="70"/>
                  </a:lnTo>
                  <a:lnTo>
                    <a:pt x="188" y="84"/>
                  </a:lnTo>
                  <a:lnTo>
                    <a:pt x="174" y="97"/>
                  </a:lnTo>
                  <a:lnTo>
                    <a:pt x="161" y="111"/>
                  </a:lnTo>
                  <a:lnTo>
                    <a:pt x="149" y="124"/>
                  </a:lnTo>
                  <a:lnTo>
                    <a:pt x="136" y="138"/>
                  </a:lnTo>
                  <a:lnTo>
                    <a:pt x="123" y="137"/>
                  </a:lnTo>
                  <a:lnTo>
                    <a:pt x="111" y="135"/>
                  </a:lnTo>
                  <a:lnTo>
                    <a:pt x="97" y="133"/>
                  </a:lnTo>
                  <a:lnTo>
                    <a:pt x="82" y="130"/>
                  </a:lnTo>
                  <a:lnTo>
                    <a:pt x="66" y="125"/>
                  </a:lnTo>
                  <a:lnTo>
                    <a:pt x="47" y="119"/>
                  </a:lnTo>
                  <a:lnTo>
                    <a:pt x="26" y="110"/>
                  </a:lnTo>
                  <a:lnTo>
                    <a:pt x="0" y="99"/>
                  </a:lnTo>
                  <a:lnTo>
                    <a:pt x="13" y="86"/>
                  </a:lnTo>
                  <a:lnTo>
                    <a:pt x="26" y="73"/>
                  </a:lnTo>
                  <a:lnTo>
                    <a:pt x="39" y="62"/>
                  </a:lnTo>
                  <a:lnTo>
                    <a:pt x="52" y="49"/>
                  </a:lnTo>
                  <a:lnTo>
                    <a:pt x="65" y="36"/>
                  </a:lnTo>
                  <a:lnTo>
                    <a:pt x="77" y="25"/>
                  </a:lnTo>
                  <a:lnTo>
                    <a:pt x="89" y="12"/>
                  </a:lnTo>
                  <a:lnTo>
                    <a:pt x="102" y="0"/>
                  </a:lnTo>
                  <a:lnTo>
                    <a:pt x="114" y="3"/>
                  </a:lnTo>
                  <a:lnTo>
                    <a:pt x="130" y="8"/>
                  </a:lnTo>
                  <a:lnTo>
                    <a:pt x="148" y="13"/>
                  </a:lnTo>
                  <a:lnTo>
                    <a:pt x="167" y="18"/>
                  </a:lnTo>
                  <a:lnTo>
                    <a:pt x="186" y="23"/>
                  </a:lnTo>
                  <a:lnTo>
                    <a:pt x="205" y="26"/>
                  </a:lnTo>
                  <a:lnTo>
                    <a:pt x="223" y="28"/>
                  </a:lnTo>
                  <a:lnTo>
                    <a:pt x="239" y="29"/>
                  </a:lnTo>
                  <a:close/>
                </a:path>
              </a:pathLst>
            </a:custGeom>
            <a:solidFill>
              <a:srgbClr val="0c3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4234680" y="2098800"/>
              <a:ext cx="153720" cy="81720"/>
            </a:xfrm>
            <a:custGeom>
              <a:avLst/>
              <a:gdLst/>
              <a:ahLst/>
              <a:rect l="l" t="t" r="r" b="b"/>
              <a:pathLst>
                <a:path w="224" h="137">
                  <a:moveTo>
                    <a:pt x="224" y="31"/>
                  </a:moveTo>
                  <a:lnTo>
                    <a:pt x="211" y="44"/>
                  </a:lnTo>
                  <a:lnTo>
                    <a:pt x="197" y="58"/>
                  </a:lnTo>
                  <a:lnTo>
                    <a:pt x="184" y="71"/>
                  </a:lnTo>
                  <a:lnTo>
                    <a:pt x="172" y="84"/>
                  </a:lnTo>
                  <a:lnTo>
                    <a:pt x="158" y="97"/>
                  </a:lnTo>
                  <a:lnTo>
                    <a:pt x="145" y="111"/>
                  </a:lnTo>
                  <a:lnTo>
                    <a:pt x="132" y="124"/>
                  </a:lnTo>
                  <a:lnTo>
                    <a:pt x="119" y="137"/>
                  </a:lnTo>
                  <a:lnTo>
                    <a:pt x="108" y="136"/>
                  </a:lnTo>
                  <a:lnTo>
                    <a:pt x="97" y="134"/>
                  </a:lnTo>
                  <a:lnTo>
                    <a:pt x="85" y="132"/>
                  </a:lnTo>
                  <a:lnTo>
                    <a:pt x="73" y="128"/>
                  </a:lnTo>
                  <a:lnTo>
                    <a:pt x="58" y="124"/>
                  </a:lnTo>
                  <a:lnTo>
                    <a:pt x="42" y="118"/>
                  </a:lnTo>
                  <a:lnTo>
                    <a:pt x="22" y="111"/>
                  </a:lnTo>
                  <a:lnTo>
                    <a:pt x="0" y="101"/>
                  </a:lnTo>
                  <a:lnTo>
                    <a:pt x="13" y="88"/>
                  </a:lnTo>
                  <a:lnTo>
                    <a:pt x="26" y="75"/>
                  </a:lnTo>
                  <a:lnTo>
                    <a:pt x="38" y="63"/>
                  </a:lnTo>
                  <a:lnTo>
                    <a:pt x="50" y="50"/>
                  </a:lnTo>
                  <a:lnTo>
                    <a:pt x="62" y="38"/>
                  </a:lnTo>
                  <a:lnTo>
                    <a:pt x="74" y="26"/>
                  </a:lnTo>
                  <a:lnTo>
                    <a:pt x="87" y="13"/>
                  </a:lnTo>
                  <a:lnTo>
                    <a:pt x="98" y="0"/>
                  </a:lnTo>
                  <a:lnTo>
                    <a:pt x="110" y="4"/>
                  </a:lnTo>
                  <a:lnTo>
                    <a:pt x="123" y="8"/>
                  </a:lnTo>
                  <a:lnTo>
                    <a:pt x="141" y="14"/>
                  </a:lnTo>
                  <a:lnTo>
                    <a:pt x="158" y="19"/>
                  </a:lnTo>
                  <a:lnTo>
                    <a:pt x="176" y="23"/>
                  </a:lnTo>
                  <a:lnTo>
                    <a:pt x="195" y="28"/>
                  </a:lnTo>
                  <a:lnTo>
                    <a:pt x="210" y="30"/>
                  </a:lnTo>
                  <a:lnTo>
                    <a:pt x="224" y="31"/>
                  </a:lnTo>
                  <a:close/>
                </a:path>
              </a:pathLst>
            </a:custGeom>
            <a:solidFill>
              <a:srgbClr val="00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4247280" y="2098800"/>
              <a:ext cx="141840" cy="80280"/>
            </a:xfrm>
            <a:custGeom>
              <a:avLst/>
              <a:gdLst/>
              <a:ahLst/>
              <a:rect l="l" t="t" r="r" b="b"/>
              <a:pathLst>
                <a:path w="209" h="136">
                  <a:moveTo>
                    <a:pt x="209" y="32"/>
                  </a:moveTo>
                  <a:lnTo>
                    <a:pt x="195" y="45"/>
                  </a:lnTo>
                  <a:lnTo>
                    <a:pt x="182" y="58"/>
                  </a:lnTo>
                  <a:lnTo>
                    <a:pt x="168" y="72"/>
                  </a:lnTo>
                  <a:lnTo>
                    <a:pt x="156" y="84"/>
                  </a:lnTo>
                  <a:lnTo>
                    <a:pt x="142" y="97"/>
                  </a:lnTo>
                  <a:lnTo>
                    <a:pt x="128" y="110"/>
                  </a:lnTo>
                  <a:lnTo>
                    <a:pt x="115" y="123"/>
                  </a:lnTo>
                  <a:lnTo>
                    <a:pt x="102" y="136"/>
                  </a:lnTo>
                  <a:lnTo>
                    <a:pt x="92" y="135"/>
                  </a:lnTo>
                  <a:lnTo>
                    <a:pt x="83" y="133"/>
                  </a:lnTo>
                  <a:lnTo>
                    <a:pt x="74" y="130"/>
                  </a:lnTo>
                  <a:lnTo>
                    <a:pt x="64" y="127"/>
                  </a:lnTo>
                  <a:lnTo>
                    <a:pt x="51" y="123"/>
                  </a:lnTo>
                  <a:lnTo>
                    <a:pt x="36" y="118"/>
                  </a:lnTo>
                  <a:lnTo>
                    <a:pt x="20" y="111"/>
                  </a:lnTo>
                  <a:lnTo>
                    <a:pt x="0" y="102"/>
                  </a:lnTo>
                  <a:lnTo>
                    <a:pt x="12" y="89"/>
                  </a:lnTo>
                  <a:lnTo>
                    <a:pt x="24" y="76"/>
                  </a:lnTo>
                  <a:lnTo>
                    <a:pt x="36" y="64"/>
                  </a:lnTo>
                  <a:lnTo>
                    <a:pt x="49" y="51"/>
                  </a:lnTo>
                  <a:lnTo>
                    <a:pt x="60" y="38"/>
                  </a:lnTo>
                  <a:lnTo>
                    <a:pt x="72" y="26"/>
                  </a:lnTo>
                  <a:lnTo>
                    <a:pt x="83" y="13"/>
                  </a:lnTo>
                  <a:lnTo>
                    <a:pt x="95" y="0"/>
                  </a:lnTo>
                  <a:lnTo>
                    <a:pt x="105" y="4"/>
                  </a:lnTo>
                  <a:lnTo>
                    <a:pt x="118" y="7"/>
                  </a:lnTo>
                  <a:lnTo>
                    <a:pt x="134" y="13"/>
                  </a:lnTo>
                  <a:lnTo>
                    <a:pt x="150" y="19"/>
                  </a:lnTo>
                  <a:lnTo>
                    <a:pt x="167" y="23"/>
                  </a:lnTo>
                  <a:lnTo>
                    <a:pt x="183" y="28"/>
                  </a:lnTo>
                  <a:lnTo>
                    <a:pt x="197" y="31"/>
                  </a:lnTo>
                  <a:lnTo>
                    <a:pt x="209" y="32"/>
                  </a:lnTo>
                  <a:close/>
                </a:path>
              </a:pathLst>
            </a:custGeom>
            <a:solidFill>
              <a:srgbClr val="0035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4257720" y="2093760"/>
              <a:ext cx="131760" cy="82080"/>
            </a:xfrm>
            <a:custGeom>
              <a:avLst/>
              <a:gdLst/>
              <a:ahLst/>
              <a:rect l="l" t="t" r="r" b="b"/>
              <a:pathLst>
                <a:path w="194" h="136">
                  <a:moveTo>
                    <a:pt x="194" y="34"/>
                  </a:moveTo>
                  <a:lnTo>
                    <a:pt x="180" y="47"/>
                  </a:lnTo>
                  <a:lnTo>
                    <a:pt x="166" y="60"/>
                  </a:lnTo>
                  <a:lnTo>
                    <a:pt x="152" y="73"/>
                  </a:lnTo>
                  <a:lnTo>
                    <a:pt x="140" y="85"/>
                  </a:lnTo>
                  <a:lnTo>
                    <a:pt x="126" y="98"/>
                  </a:lnTo>
                  <a:lnTo>
                    <a:pt x="112" y="111"/>
                  </a:lnTo>
                  <a:lnTo>
                    <a:pt x="98" y="123"/>
                  </a:lnTo>
                  <a:lnTo>
                    <a:pt x="84" y="136"/>
                  </a:lnTo>
                  <a:lnTo>
                    <a:pt x="77" y="135"/>
                  </a:lnTo>
                  <a:lnTo>
                    <a:pt x="70" y="132"/>
                  </a:lnTo>
                  <a:lnTo>
                    <a:pt x="62" y="130"/>
                  </a:lnTo>
                  <a:lnTo>
                    <a:pt x="54" y="127"/>
                  </a:lnTo>
                  <a:lnTo>
                    <a:pt x="44" y="122"/>
                  </a:lnTo>
                  <a:lnTo>
                    <a:pt x="31" y="117"/>
                  </a:lnTo>
                  <a:lnTo>
                    <a:pt x="17" y="112"/>
                  </a:lnTo>
                  <a:lnTo>
                    <a:pt x="0" y="104"/>
                  </a:lnTo>
                  <a:lnTo>
                    <a:pt x="12" y="91"/>
                  </a:lnTo>
                  <a:lnTo>
                    <a:pt x="23" y="77"/>
                  </a:lnTo>
                  <a:lnTo>
                    <a:pt x="35" y="64"/>
                  </a:lnTo>
                  <a:lnTo>
                    <a:pt x="46" y="52"/>
                  </a:lnTo>
                  <a:lnTo>
                    <a:pt x="58" y="39"/>
                  </a:lnTo>
                  <a:lnTo>
                    <a:pt x="69" y="25"/>
                  </a:lnTo>
                  <a:lnTo>
                    <a:pt x="81" y="13"/>
                  </a:lnTo>
                  <a:lnTo>
                    <a:pt x="91" y="0"/>
                  </a:lnTo>
                  <a:lnTo>
                    <a:pt x="99" y="2"/>
                  </a:lnTo>
                  <a:lnTo>
                    <a:pt x="112" y="7"/>
                  </a:lnTo>
                  <a:lnTo>
                    <a:pt x="126" y="13"/>
                  </a:lnTo>
                  <a:lnTo>
                    <a:pt x="142" y="18"/>
                  </a:lnTo>
                  <a:lnTo>
                    <a:pt x="158" y="25"/>
                  </a:lnTo>
                  <a:lnTo>
                    <a:pt x="173" y="30"/>
                  </a:lnTo>
                  <a:lnTo>
                    <a:pt x="184" y="33"/>
                  </a:lnTo>
                  <a:lnTo>
                    <a:pt x="194" y="34"/>
                  </a:lnTo>
                  <a:close/>
                </a:path>
              </a:pathLst>
            </a:custGeom>
            <a:solidFill>
              <a:srgbClr val="003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4267800" y="2093760"/>
              <a:ext cx="121680" cy="82080"/>
            </a:xfrm>
            <a:custGeom>
              <a:avLst/>
              <a:gdLst/>
              <a:ahLst/>
              <a:rect l="l" t="t" r="r" b="b"/>
              <a:pathLst>
                <a:path w="179" h="133">
                  <a:moveTo>
                    <a:pt x="179" y="35"/>
                  </a:moveTo>
                  <a:lnTo>
                    <a:pt x="69" y="133"/>
                  </a:lnTo>
                  <a:lnTo>
                    <a:pt x="64" y="132"/>
                  </a:lnTo>
                  <a:lnTo>
                    <a:pt x="58" y="130"/>
                  </a:lnTo>
                  <a:lnTo>
                    <a:pt x="52" y="128"/>
                  </a:lnTo>
                  <a:lnTo>
                    <a:pt x="45" y="125"/>
                  </a:lnTo>
                  <a:lnTo>
                    <a:pt x="36" y="121"/>
                  </a:lnTo>
                  <a:lnTo>
                    <a:pt x="27" y="116"/>
                  </a:lnTo>
                  <a:lnTo>
                    <a:pt x="14" y="112"/>
                  </a:lnTo>
                  <a:lnTo>
                    <a:pt x="0" y="105"/>
                  </a:lnTo>
                  <a:lnTo>
                    <a:pt x="88" y="0"/>
                  </a:lnTo>
                  <a:lnTo>
                    <a:pt x="95" y="2"/>
                  </a:lnTo>
                  <a:lnTo>
                    <a:pt x="105" y="7"/>
                  </a:lnTo>
                  <a:lnTo>
                    <a:pt x="119" y="12"/>
                  </a:lnTo>
                  <a:lnTo>
                    <a:pt x="134" y="18"/>
                  </a:lnTo>
                  <a:lnTo>
                    <a:pt x="149" y="25"/>
                  </a:lnTo>
                  <a:lnTo>
                    <a:pt x="163" y="30"/>
                  </a:lnTo>
                  <a:lnTo>
                    <a:pt x="173" y="34"/>
                  </a:lnTo>
                  <a:lnTo>
                    <a:pt x="179" y="35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4455000" y="1046160"/>
              <a:ext cx="149400" cy="1004760"/>
            </a:xfrm>
            <a:custGeom>
              <a:avLst/>
              <a:gdLst/>
              <a:ahLst/>
              <a:rect l="l" t="t" r="r" b="b"/>
              <a:pathLst>
                <a:path w="215" h="1665">
                  <a:moveTo>
                    <a:pt x="0" y="71"/>
                  </a:moveTo>
                  <a:lnTo>
                    <a:pt x="27" y="219"/>
                  </a:lnTo>
                  <a:lnTo>
                    <a:pt x="53" y="383"/>
                  </a:lnTo>
                  <a:lnTo>
                    <a:pt x="77" y="565"/>
                  </a:lnTo>
                  <a:lnTo>
                    <a:pt x="100" y="761"/>
                  </a:lnTo>
                  <a:lnTo>
                    <a:pt x="120" y="968"/>
                  </a:lnTo>
                  <a:lnTo>
                    <a:pt x="137" y="1186"/>
                  </a:lnTo>
                  <a:lnTo>
                    <a:pt x="151" y="1409"/>
                  </a:lnTo>
                  <a:lnTo>
                    <a:pt x="161" y="1639"/>
                  </a:lnTo>
                  <a:lnTo>
                    <a:pt x="215" y="1665"/>
                  </a:lnTo>
                  <a:lnTo>
                    <a:pt x="214" y="1558"/>
                  </a:lnTo>
                  <a:lnTo>
                    <a:pt x="211" y="1452"/>
                  </a:lnTo>
                  <a:lnTo>
                    <a:pt x="206" y="1347"/>
                  </a:lnTo>
                  <a:lnTo>
                    <a:pt x="199" y="1242"/>
                  </a:lnTo>
                  <a:lnTo>
                    <a:pt x="191" y="1139"/>
                  </a:lnTo>
                  <a:lnTo>
                    <a:pt x="181" y="1035"/>
                  </a:lnTo>
                  <a:lnTo>
                    <a:pt x="169" y="932"/>
                  </a:lnTo>
                  <a:lnTo>
                    <a:pt x="156" y="829"/>
                  </a:lnTo>
                  <a:lnTo>
                    <a:pt x="143" y="727"/>
                  </a:lnTo>
                  <a:lnTo>
                    <a:pt x="128" y="623"/>
                  </a:lnTo>
                  <a:lnTo>
                    <a:pt x="111" y="520"/>
                  </a:lnTo>
                  <a:lnTo>
                    <a:pt x="94" y="417"/>
                  </a:lnTo>
                  <a:lnTo>
                    <a:pt x="77" y="313"/>
                  </a:lnTo>
                  <a:lnTo>
                    <a:pt x="58" y="210"/>
                  </a:lnTo>
                  <a:lnTo>
                    <a:pt x="40" y="105"/>
                  </a:lnTo>
                  <a:lnTo>
                    <a:pt x="22" y="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4338720" y="995400"/>
              <a:ext cx="159120" cy="1073520"/>
            </a:xfrm>
            <a:custGeom>
              <a:avLst/>
              <a:gdLst/>
              <a:ahLst/>
              <a:rect l="l" t="t" r="r" b="b"/>
              <a:pathLst>
                <a:path w="237" h="1780">
                  <a:moveTo>
                    <a:pt x="0" y="13"/>
                  </a:moveTo>
                  <a:lnTo>
                    <a:pt x="25" y="126"/>
                  </a:lnTo>
                  <a:lnTo>
                    <a:pt x="47" y="236"/>
                  </a:lnTo>
                  <a:lnTo>
                    <a:pt x="69" y="345"/>
                  </a:lnTo>
                  <a:lnTo>
                    <a:pt x="88" y="455"/>
                  </a:lnTo>
                  <a:lnTo>
                    <a:pt x="106" y="562"/>
                  </a:lnTo>
                  <a:lnTo>
                    <a:pt x="122" y="669"/>
                  </a:lnTo>
                  <a:lnTo>
                    <a:pt x="137" y="775"/>
                  </a:lnTo>
                  <a:lnTo>
                    <a:pt x="149" y="882"/>
                  </a:lnTo>
                  <a:lnTo>
                    <a:pt x="161" y="988"/>
                  </a:lnTo>
                  <a:lnTo>
                    <a:pt x="171" y="1094"/>
                  </a:lnTo>
                  <a:lnTo>
                    <a:pt x="180" y="1201"/>
                  </a:lnTo>
                  <a:lnTo>
                    <a:pt x="187" y="1309"/>
                  </a:lnTo>
                  <a:lnTo>
                    <a:pt x="194" y="1418"/>
                  </a:lnTo>
                  <a:lnTo>
                    <a:pt x="199" y="1527"/>
                  </a:lnTo>
                  <a:lnTo>
                    <a:pt x="202" y="1638"/>
                  </a:lnTo>
                  <a:lnTo>
                    <a:pt x="206" y="1749"/>
                  </a:lnTo>
                  <a:lnTo>
                    <a:pt x="237" y="1780"/>
                  </a:lnTo>
                  <a:lnTo>
                    <a:pt x="236" y="1670"/>
                  </a:lnTo>
                  <a:lnTo>
                    <a:pt x="232" y="1560"/>
                  </a:lnTo>
                  <a:lnTo>
                    <a:pt x="228" y="1450"/>
                  </a:lnTo>
                  <a:lnTo>
                    <a:pt x="221" y="1339"/>
                  </a:lnTo>
                  <a:lnTo>
                    <a:pt x="213" y="1229"/>
                  </a:lnTo>
                  <a:lnTo>
                    <a:pt x="204" y="1117"/>
                  </a:lnTo>
                  <a:lnTo>
                    <a:pt x="193" y="1006"/>
                  </a:lnTo>
                  <a:lnTo>
                    <a:pt x="180" y="895"/>
                  </a:lnTo>
                  <a:lnTo>
                    <a:pt x="167" y="784"/>
                  </a:lnTo>
                  <a:lnTo>
                    <a:pt x="152" y="673"/>
                  </a:lnTo>
                  <a:lnTo>
                    <a:pt x="136" y="561"/>
                  </a:lnTo>
                  <a:lnTo>
                    <a:pt x="117" y="449"/>
                  </a:lnTo>
                  <a:lnTo>
                    <a:pt x="98" y="337"/>
                  </a:lnTo>
                  <a:lnTo>
                    <a:pt x="77" y="225"/>
                  </a:lnTo>
                  <a:lnTo>
                    <a:pt x="55" y="113"/>
                  </a:lnTo>
                  <a:lnTo>
                    <a:pt x="32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345200" y="997200"/>
              <a:ext cx="160920" cy="1070280"/>
            </a:xfrm>
            <a:custGeom>
              <a:avLst/>
              <a:gdLst/>
              <a:ahLst/>
              <a:rect l="l" t="t" r="r" b="b"/>
              <a:pathLst>
                <a:path w="235" h="1774">
                  <a:moveTo>
                    <a:pt x="0" y="13"/>
                  </a:moveTo>
                  <a:lnTo>
                    <a:pt x="24" y="126"/>
                  </a:lnTo>
                  <a:lnTo>
                    <a:pt x="47" y="237"/>
                  </a:lnTo>
                  <a:lnTo>
                    <a:pt x="68" y="346"/>
                  </a:lnTo>
                  <a:lnTo>
                    <a:pt x="86" y="454"/>
                  </a:lnTo>
                  <a:lnTo>
                    <a:pt x="104" y="561"/>
                  </a:lnTo>
                  <a:lnTo>
                    <a:pt x="121" y="668"/>
                  </a:lnTo>
                  <a:lnTo>
                    <a:pt x="134" y="774"/>
                  </a:lnTo>
                  <a:lnTo>
                    <a:pt x="147" y="880"/>
                  </a:lnTo>
                  <a:lnTo>
                    <a:pt x="159" y="986"/>
                  </a:lnTo>
                  <a:lnTo>
                    <a:pt x="169" y="1092"/>
                  </a:lnTo>
                  <a:lnTo>
                    <a:pt x="178" y="1199"/>
                  </a:lnTo>
                  <a:lnTo>
                    <a:pt x="186" y="1306"/>
                  </a:lnTo>
                  <a:lnTo>
                    <a:pt x="192" y="1415"/>
                  </a:lnTo>
                  <a:lnTo>
                    <a:pt x="198" y="1524"/>
                  </a:lnTo>
                  <a:lnTo>
                    <a:pt x="201" y="1635"/>
                  </a:lnTo>
                  <a:lnTo>
                    <a:pt x="205" y="1746"/>
                  </a:lnTo>
                  <a:lnTo>
                    <a:pt x="212" y="1753"/>
                  </a:lnTo>
                  <a:lnTo>
                    <a:pt x="220" y="1760"/>
                  </a:lnTo>
                  <a:lnTo>
                    <a:pt x="226" y="1767"/>
                  </a:lnTo>
                  <a:lnTo>
                    <a:pt x="235" y="1774"/>
                  </a:lnTo>
                  <a:lnTo>
                    <a:pt x="232" y="1663"/>
                  </a:lnTo>
                  <a:lnTo>
                    <a:pt x="229" y="1554"/>
                  </a:lnTo>
                  <a:lnTo>
                    <a:pt x="224" y="1443"/>
                  </a:lnTo>
                  <a:lnTo>
                    <a:pt x="217" y="1333"/>
                  </a:lnTo>
                  <a:lnTo>
                    <a:pt x="209" y="1223"/>
                  </a:lnTo>
                  <a:lnTo>
                    <a:pt x="200" y="1113"/>
                  </a:lnTo>
                  <a:lnTo>
                    <a:pt x="190" y="1002"/>
                  </a:lnTo>
                  <a:lnTo>
                    <a:pt x="178" y="892"/>
                  </a:lnTo>
                  <a:lnTo>
                    <a:pt x="164" y="781"/>
                  </a:lnTo>
                  <a:lnTo>
                    <a:pt x="149" y="671"/>
                  </a:lnTo>
                  <a:lnTo>
                    <a:pt x="133" y="559"/>
                  </a:lnTo>
                  <a:lnTo>
                    <a:pt x="115" y="448"/>
                  </a:lnTo>
                  <a:lnTo>
                    <a:pt x="96" y="337"/>
                  </a:lnTo>
                  <a:lnTo>
                    <a:pt x="76" y="225"/>
                  </a:lnTo>
                  <a:lnTo>
                    <a:pt x="54" y="113"/>
                  </a:lnTo>
                  <a:lnTo>
                    <a:pt x="31" y="0"/>
                  </a:lnTo>
                  <a:lnTo>
                    <a:pt x="23" y="3"/>
                  </a:lnTo>
                  <a:lnTo>
                    <a:pt x="16" y="6"/>
                  </a:lnTo>
                  <a:lnTo>
                    <a:pt x="8" y="1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3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4352400" y="998640"/>
              <a:ext cx="157680" cy="1068840"/>
            </a:xfrm>
            <a:custGeom>
              <a:avLst/>
              <a:gdLst/>
              <a:ahLst/>
              <a:rect l="l" t="t" r="r" b="b"/>
              <a:pathLst>
                <a:path w="231" h="1766">
                  <a:moveTo>
                    <a:pt x="0" y="11"/>
                  </a:moveTo>
                  <a:lnTo>
                    <a:pt x="24" y="123"/>
                  </a:lnTo>
                  <a:lnTo>
                    <a:pt x="46" y="235"/>
                  </a:lnTo>
                  <a:lnTo>
                    <a:pt x="66" y="343"/>
                  </a:lnTo>
                  <a:lnTo>
                    <a:pt x="86" y="451"/>
                  </a:lnTo>
                  <a:lnTo>
                    <a:pt x="103" y="558"/>
                  </a:lnTo>
                  <a:lnTo>
                    <a:pt x="119" y="666"/>
                  </a:lnTo>
                  <a:lnTo>
                    <a:pt x="133" y="771"/>
                  </a:lnTo>
                  <a:lnTo>
                    <a:pt x="146" y="877"/>
                  </a:lnTo>
                  <a:lnTo>
                    <a:pt x="157" y="983"/>
                  </a:lnTo>
                  <a:lnTo>
                    <a:pt x="168" y="1089"/>
                  </a:lnTo>
                  <a:lnTo>
                    <a:pt x="176" y="1195"/>
                  </a:lnTo>
                  <a:lnTo>
                    <a:pt x="184" y="1302"/>
                  </a:lnTo>
                  <a:lnTo>
                    <a:pt x="190" y="1411"/>
                  </a:lnTo>
                  <a:lnTo>
                    <a:pt x="195" y="1520"/>
                  </a:lnTo>
                  <a:lnTo>
                    <a:pt x="199" y="1631"/>
                  </a:lnTo>
                  <a:lnTo>
                    <a:pt x="202" y="1742"/>
                  </a:lnTo>
                  <a:lnTo>
                    <a:pt x="209" y="1748"/>
                  </a:lnTo>
                  <a:lnTo>
                    <a:pt x="217" y="1754"/>
                  </a:lnTo>
                  <a:lnTo>
                    <a:pt x="224" y="1761"/>
                  </a:lnTo>
                  <a:lnTo>
                    <a:pt x="231" y="1766"/>
                  </a:lnTo>
                  <a:lnTo>
                    <a:pt x="229" y="1656"/>
                  </a:lnTo>
                  <a:lnTo>
                    <a:pt x="225" y="1546"/>
                  </a:lnTo>
                  <a:lnTo>
                    <a:pt x="221" y="1437"/>
                  </a:lnTo>
                  <a:lnTo>
                    <a:pt x="214" y="1327"/>
                  </a:lnTo>
                  <a:lnTo>
                    <a:pt x="206" y="1217"/>
                  </a:lnTo>
                  <a:lnTo>
                    <a:pt x="196" y="1108"/>
                  </a:lnTo>
                  <a:lnTo>
                    <a:pt x="186" y="997"/>
                  </a:lnTo>
                  <a:lnTo>
                    <a:pt x="175" y="888"/>
                  </a:lnTo>
                  <a:lnTo>
                    <a:pt x="161" y="777"/>
                  </a:lnTo>
                  <a:lnTo>
                    <a:pt x="147" y="667"/>
                  </a:lnTo>
                  <a:lnTo>
                    <a:pt x="131" y="556"/>
                  </a:lnTo>
                  <a:lnTo>
                    <a:pt x="114" y="446"/>
                  </a:lnTo>
                  <a:lnTo>
                    <a:pt x="95" y="335"/>
                  </a:lnTo>
                  <a:lnTo>
                    <a:pt x="74" y="223"/>
                  </a:lnTo>
                  <a:lnTo>
                    <a:pt x="54" y="112"/>
                  </a:lnTo>
                  <a:lnTo>
                    <a:pt x="31" y="0"/>
                  </a:lnTo>
                  <a:lnTo>
                    <a:pt x="23" y="2"/>
                  </a:lnTo>
                  <a:lnTo>
                    <a:pt x="16" y="6"/>
                  </a:lnTo>
                  <a:lnTo>
                    <a:pt x="8" y="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35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4361040" y="1001880"/>
              <a:ext cx="155520" cy="1063440"/>
            </a:xfrm>
            <a:custGeom>
              <a:avLst/>
              <a:gdLst/>
              <a:ahLst/>
              <a:rect l="l" t="t" r="r" b="b"/>
              <a:pathLst>
                <a:path w="230" h="1761">
                  <a:moveTo>
                    <a:pt x="0" y="13"/>
                  </a:moveTo>
                  <a:lnTo>
                    <a:pt x="25" y="125"/>
                  </a:lnTo>
                  <a:lnTo>
                    <a:pt x="47" y="235"/>
                  </a:lnTo>
                  <a:lnTo>
                    <a:pt x="66" y="343"/>
                  </a:lnTo>
                  <a:lnTo>
                    <a:pt x="86" y="452"/>
                  </a:lnTo>
                  <a:lnTo>
                    <a:pt x="102" y="559"/>
                  </a:lnTo>
                  <a:lnTo>
                    <a:pt x="118" y="665"/>
                  </a:lnTo>
                  <a:lnTo>
                    <a:pt x="132" y="771"/>
                  </a:lnTo>
                  <a:lnTo>
                    <a:pt x="144" y="877"/>
                  </a:lnTo>
                  <a:lnTo>
                    <a:pt x="156" y="981"/>
                  </a:lnTo>
                  <a:lnTo>
                    <a:pt x="166" y="1087"/>
                  </a:lnTo>
                  <a:lnTo>
                    <a:pt x="174" y="1193"/>
                  </a:lnTo>
                  <a:lnTo>
                    <a:pt x="182" y="1300"/>
                  </a:lnTo>
                  <a:lnTo>
                    <a:pt x="188" y="1409"/>
                  </a:lnTo>
                  <a:lnTo>
                    <a:pt x="194" y="1518"/>
                  </a:lnTo>
                  <a:lnTo>
                    <a:pt x="197" y="1629"/>
                  </a:lnTo>
                  <a:lnTo>
                    <a:pt x="201" y="1740"/>
                  </a:lnTo>
                  <a:lnTo>
                    <a:pt x="208" y="1745"/>
                  </a:lnTo>
                  <a:lnTo>
                    <a:pt x="216" y="1751"/>
                  </a:lnTo>
                  <a:lnTo>
                    <a:pt x="223" y="1755"/>
                  </a:lnTo>
                  <a:lnTo>
                    <a:pt x="230" y="1761"/>
                  </a:lnTo>
                  <a:lnTo>
                    <a:pt x="227" y="1650"/>
                  </a:lnTo>
                  <a:lnTo>
                    <a:pt x="223" y="1541"/>
                  </a:lnTo>
                  <a:lnTo>
                    <a:pt x="218" y="1432"/>
                  </a:lnTo>
                  <a:lnTo>
                    <a:pt x="211" y="1322"/>
                  </a:lnTo>
                  <a:lnTo>
                    <a:pt x="203" y="1213"/>
                  </a:lnTo>
                  <a:lnTo>
                    <a:pt x="195" y="1103"/>
                  </a:lnTo>
                  <a:lnTo>
                    <a:pt x="184" y="994"/>
                  </a:lnTo>
                  <a:lnTo>
                    <a:pt x="172" y="885"/>
                  </a:lnTo>
                  <a:lnTo>
                    <a:pt x="159" y="775"/>
                  </a:lnTo>
                  <a:lnTo>
                    <a:pt x="144" y="666"/>
                  </a:lnTo>
                  <a:lnTo>
                    <a:pt x="129" y="555"/>
                  </a:lnTo>
                  <a:lnTo>
                    <a:pt x="112" y="446"/>
                  </a:lnTo>
                  <a:lnTo>
                    <a:pt x="94" y="334"/>
                  </a:lnTo>
                  <a:lnTo>
                    <a:pt x="74" y="224"/>
                  </a:lnTo>
                  <a:lnTo>
                    <a:pt x="52" y="112"/>
                  </a:lnTo>
                  <a:lnTo>
                    <a:pt x="30" y="0"/>
                  </a:lnTo>
                  <a:lnTo>
                    <a:pt x="23" y="4"/>
                  </a:lnTo>
                  <a:lnTo>
                    <a:pt x="15" y="6"/>
                  </a:lnTo>
                  <a:lnTo>
                    <a:pt x="9" y="9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4369680" y="1001880"/>
              <a:ext cx="151920" cy="1058760"/>
            </a:xfrm>
            <a:custGeom>
              <a:avLst/>
              <a:gdLst/>
              <a:ahLst/>
              <a:rect l="l" t="t" r="r" b="b"/>
              <a:pathLst>
                <a:path w="227" h="1754">
                  <a:moveTo>
                    <a:pt x="0" y="11"/>
                  </a:moveTo>
                  <a:lnTo>
                    <a:pt x="25" y="123"/>
                  </a:lnTo>
                  <a:lnTo>
                    <a:pt x="46" y="233"/>
                  </a:lnTo>
                  <a:lnTo>
                    <a:pt x="66" y="342"/>
                  </a:lnTo>
                  <a:lnTo>
                    <a:pt x="84" y="450"/>
                  </a:lnTo>
                  <a:lnTo>
                    <a:pt x="102" y="556"/>
                  </a:lnTo>
                  <a:lnTo>
                    <a:pt x="117" y="662"/>
                  </a:lnTo>
                  <a:lnTo>
                    <a:pt x="131" y="768"/>
                  </a:lnTo>
                  <a:lnTo>
                    <a:pt x="143" y="874"/>
                  </a:lnTo>
                  <a:lnTo>
                    <a:pt x="155" y="979"/>
                  </a:lnTo>
                  <a:lnTo>
                    <a:pt x="164" y="1084"/>
                  </a:lnTo>
                  <a:lnTo>
                    <a:pt x="173" y="1190"/>
                  </a:lnTo>
                  <a:lnTo>
                    <a:pt x="180" y="1297"/>
                  </a:lnTo>
                  <a:lnTo>
                    <a:pt x="186" y="1405"/>
                  </a:lnTo>
                  <a:lnTo>
                    <a:pt x="192" y="1514"/>
                  </a:lnTo>
                  <a:lnTo>
                    <a:pt x="195" y="1625"/>
                  </a:lnTo>
                  <a:lnTo>
                    <a:pt x="199" y="1736"/>
                  </a:lnTo>
                  <a:lnTo>
                    <a:pt x="205" y="1741"/>
                  </a:lnTo>
                  <a:lnTo>
                    <a:pt x="212" y="1744"/>
                  </a:lnTo>
                  <a:lnTo>
                    <a:pt x="219" y="1749"/>
                  </a:lnTo>
                  <a:lnTo>
                    <a:pt x="227" y="1754"/>
                  </a:lnTo>
                  <a:lnTo>
                    <a:pt x="225" y="1644"/>
                  </a:lnTo>
                  <a:lnTo>
                    <a:pt x="220" y="1534"/>
                  </a:lnTo>
                  <a:lnTo>
                    <a:pt x="216" y="1425"/>
                  </a:lnTo>
                  <a:lnTo>
                    <a:pt x="209" y="1316"/>
                  </a:lnTo>
                  <a:lnTo>
                    <a:pt x="201" y="1207"/>
                  </a:lnTo>
                  <a:lnTo>
                    <a:pt x="192" y="1098"/>
                  </a:lnTo>
                  <a:lnTo>
                    <a:pt x="181" y="989"/>
                  </a:lnTo>
                  <a:lnTo>
                    <a:pt x="170" y="881"/>
                  </a:lnTo>
                  <a:lnTo>
                    <a:pt x="157" y="771"/>
                  </a:lnTo>
                  <a:lnTo>
                    <a:pt x="143" y="662"/>
                  </a:lnTo>
                  <a:lnTo>
                    <a:pt x="127" y="552"/>
                  </a:lnTo>
                  <a:lnTo>
                    <a:pt x="111" y="443"/>
                  </a:lnTo>
                  <a:lnTo>
                    <a:pt x="93" y="334"/>
                  </a:lnTo>
                  <a:lnTo>
                    <a:pt x="73" y="223"/>
                  </a:lnTo>
                  <a:lnTo>
                    <a:pt x="52" y="111"/>
                  </a:lnTo>
                  <a:lnTo>
                    <a:pt x="30" y="0"/>
                  </a:lnTo>
                  <a:lnTo>
                    <a:pt x="23" y="3"/>
                  </a:lnTo>
                  <a:lnTo>
                    <a:pt x="15" y="5"/>
                  </a:lnTo>
                  <a:lnTo>
                    <a:pt x="8" y="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c3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4374000" y="1005120"/>
              <a:ext cx="153720" cy="1054080"/>
            </a:xfrm>
            <a:custGeom>
              <a:avLst/>
              <a:gdLst/>
              <a:ahLst/>
              <a:rect l="l" t="t" r="r" b="b"/>
              <a:pathLst>
                <a:path w="224" h="1748">
                  <a:moveTo>
                    <a:pt x="0" y="10"/>
                  </a:moveTo>
                  <a:lnTo>
                    <a:pt x="23" y="122"/>
                  </a:lnTo>
                  <a:lnTo>
                    <a:pt x="45" y="232"/>
                  </a:lnTo>
                  <a:lnTo>
                    <a:pt x="65" y="341"/>
                  </a:lnTo>
                  <a:lnTo>
                    <a:pt x="83" y="448"/>
                  </a:lnTo>
                  <a:lnTo>
                    <a:pt x="99" y="554"/>
                  </a:lnTo>
                  <a:lnTo>
                    <a:pt x="116" y="660"/>
                  </a:lnTo>
                  <a:lnTo>
                    <a:pt x="129" y="766"/>
                  </a:lnTo>
                  <a:lnTo>
                    <a:pt x="142" y="871"/>
                  </a:lnTo>
                  <a:lnTo>
                    <a:pt x="152" y="977"/>
                  </a:lnTo>
                  <a:lnTo>
                    <a:pt x="163" y="1081"/>
                  </a:lnTo>
                  <a:lnTo>
                    <a:pt x="171" y="1187"/>
                  </a:lnTo>
                  <a:lnTo>
                    <a:pt x="178" y="1294"/>
                  </a:lnTo>
                  <a:lnTo>
                    <a:pt x="185" y="1402"/>
                  </a:lnTo>
                  <a:lnTo>
                    <a:pt x="189" y="1511"/>
                  </a:lnTo>
                  <a:lnTo>
                    <a:pt x="193" y="1622"/>
                  </a:lnTo>
                  <a:lnTo>
                    <a:pt x="196" y="1733"/>
                  </a:lnTo>
                  <a:lnTo>
                    <a:pt x="203" y="1737"/>
                  </a:lnTo>
                  <a:lnTo>
                    <a:pt x="210" y="1740"/>
                  </a:lnTo>
                  <a:lnTo>
                    <a:pt x="217" y="1745"/>
                  </a:lnTo>
                  <a:lnTo>
                    <a:pt x="224" y="1748"/>
                  </a:lnTo>
                  <a:lnTo>
                    <a:pt x="220" y="1639"/>
                  </a:lnTo>
                  <a:lnTo>
                    <a:pt x="217" y="1529"/>
                  </a:lnTo>
                  <a:lnTo>
                    <a:pt x="211" y="1420"/>
                  </a:lnTo>
                  <a:lnTo>
                    <a:pt x="205" y="1311"/>
                  </a:lnTo>
                  <a:lnTo>
                    <a:pt x="197" y="1202"/>
                  </a:lnTo>
                  <a:lnTo>
                    <a:pt x="188" y="1094"/>
                  </a:lnTo>
                  <a:lnTo>
                    <a:pt x="178" y="986"/>
                  </a:lnTo>
                  <a:lnTo>
                    <a:pt x="167" y="878"/>
                  </a:lnTo>
                  <a:lnTo>
                    <a:pt x="155" y="769"/>
                  </a:lnTo>
                  <a:lnTo>
                    <a:pt x="141" y="660"/>
                  </a:lnTo>
                  <a:lnTo>
                    <a:pt x="125" y="552"/>
                  </a:lnTo>
                  <a:lnTo>
                    <a:pt x="109" y="442"/>
                  </a:lnTo>
                  <a:lnTo>
                    <a:pt x="91" y="333"/>
                  </a:lnTo>
                  <a:lnTo>
                    <a:pt x="72" y="222"/>
                  </a:lnTo>
                  <a:lnTo>
                    <a:pt x="52" y="112"/>
                  </a:lnTo>
                  <a:lnTo>
                    <a:pt x="30" y="0"/>
                  </a:lnTo>
                  <a:lnTo>
                    <a:pt x="22" y="2"/>
                  </a:lnTo>
                  <a:lnTo>
                    <a:pt x="15" y="5"/>
                  </a:lnTo>
                  <a:lnTo>
                    <a:pt x="7" y="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c3a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4383000" y="1006920"/>
              <a:ext cx="149040" cy="1050480"/>
            </a:xfrm>
            <a:custGeom>
              <a:avLst/>
              <a:gdLst/>
              <a:ahLst/>
              <a:rect l="l" t="t" r="r" b="b"/>
              <a:pathLst>
                <a:path w="221" h="1741">
                  <a:moveTo>
                    <a:pt x="0" y="10"/>
                  </a:moveTo>
                  <a:lnTo>
                    <a:pt x="23" y="122"/>
                  </a:lnTo>
                  <a:lnTo>
                    <a:pt x="44" y="231"/>
                  </a:lnTo>
                  <a:lnTo>
                    <a:pt x="64" y="339"/>
                  </a:lnTo>
                  <a:lnTo>
                    <a:pt x="82" y="446"/>
                  </a:lnTo>
                  <a:lnTo>
                    <a:pt x="99" y="552"/>
                  </a:lnTo>
                  <a:lnTo>
                    <a:pt x="114" y="658"/>
                  </a:lnTo>
                  <a:lnTo>
                    <a:pt x="128" y="763"/>
                  </a:lnTo>
                  <a:lnTo>
                    <a:pt x="140" y="868"/>
                  </a:lnTo>
                  <a:lnTo>
                    <a:pt x="151" y="974"/>
                  </a:lnTo>
                  <a:lnTo>
                    <a:pt x="160" y="1079"/>
                  </a:lnTo>
                  <a:lnTo>
                    <a:pt x="170" y="1185"/>
                  </a:lnTo>
                  <a:lnTo>
                    <a:pt x="176" y="1290"/>
                  </a:lnTo>
                  <a:lnTo>
                    <a:pt x="182" y="1399"/>
                  </a:lnTo>
                  <a:lnTo>
                    <a:pt x="188" y="1507"/>
                  </a:lnTo>
                  <a:lnTo>
                    <a:pt x="191" y="1618"/>
                  </a:lnTo>
                  <a:lnTo>
                    <a:pt x="195" y="1729"/>
                  </a:lnTo>
                  <a:lnTo>
                    <a:pt x="201" y="1733"/>
                  </a:lnTo>
                  <a:lnTo>
                    <a:pt x="208" y="1735"/>
                  </a:lnTo>
                  <a:lnTo>
                    <a:pt x="215" y="1738"/>
                  </a:lnTo>
                  <a:lnTo>
                    <a:pt x="221" y="1741"/>
                  </a:lnTo>
                  <a:lnTo>
                    <a:pt x="218" y="1631"/>
                  </a:lnTo>
                  <a:lnTo>
                    <a:pt x="213" y="1522"/>
                  </a:lnTo>
                  <a:lnTo>
                    <a:pt x="209" y="1413"/>
                  </a:lnTo>
                  <a:lnTo>
                    <a:pt x="202" y="1304"/>
                  </a:lnTo>
                  <a:lnTo>
                    <a:pt x="194" y="1196"/>
                  </a:lnTo>
                  <a:lnTo>
                    <a:pt x="186" y="1089"/>
                  </a:lnTo>
                  <a:lnTo>
                    <a:pt x="175" y="981"/>
                  </a:lnTo>
                  <a:lnTo>
                    <a:pt x="164" y="874"/>
                  </a:lnTo>
                  <a:lnTo>
                    <a:pt x="152" y="765"/>
                  </a:lnTo>
                  <a:lnTo>
                    <a:pt x="138" y="657"/>
                  </a:lnTo>
                  <a:lnTo>
                    <a:pt x="124" y="549"/>
                  </a:lnTo>
                  <a:lnTo>
                    <a:pt x="107" y="441"/>
                  </a:lnTo>
                  <a:lnTo>
                    <a:pt x="90" y="331"/>
                  </a:lnTo>
                  <a:lnTo>
                    <a:pt x="71" y="221"/>
                  </a:lnTo>
                  <a:lnTo>
                    <a:pt x="51" y="111"/>
                  </a:lnTo>
                  <a:lnTo>
                    <a:pt x="29" y="0"/>
                  </a:lnTo>
                  <a:lnTo>
                    <a:pt x="22" y="2"/>
                  </a:lnTo>
                  <a:lnTo>
                    <a:pt x="15" y="4"/>
                  </a:lnTo>
                  <a:lnTo>
                    <a:pt x="7" y="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2b3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4388760" y="1010160"/>
              <a:ext cx="147240" cy="1045800"/>
            </a:xfrm>
            <a:custGeom>
              <a:avLst/>
              <a:gdLst/>
              <a:ahLst/>
              <a:rect l="l" t="t" r="r" b="b"/>
              <a:pathLst>
                <a:path w="219" h="1734">
                  <a:moveTo>
                    <a:pt x="0" y="9"/>
                  </a:moveTo>
                  <a:lnTo>
                    <a:pt x="23" y="121"/>
                  </a:lnTo>
                  <a:lnTo>
                    <a:pt x="44" y="230"/>
                  </a:lnTo>
                  <a:lnTo>
                    <a:pt x="62" y="339"/>
                  </a:lnTo>
                  <a:lnTo>
                    <a:pt x="81" y="446"/>
                  </a:lnTo>
                  <a:lnTo>
                    <a:pt x="97" y="552"/>
                  </a:lnTo>
                  <a:lnTo>
                    <a:pt x="112" y="656"/>
                  </a:lnTo>
                  <a:lnTo>
                    <a:pt x="126" y="761"/>
                  </a:lnTo>
                  <a:lnTo>
                    <a:pt x="138" y="866"/>
                  </a:lnTo>
                  <a:lnTo>
                    <a:pt x="149" y="971"/>
                  </a:lnTo>
                  <a:lnTo>
                    <a:pt x="158" y="1077"/>
                  </a:lnTo>
                  <a:lnTo>
                    <a:pt x="167" y="1182"/>
                  </a:lnTo>
                  <a:lnTo>
                    <a:pt x="174" y="1289"/>
                  </a:lnTo>
                  <a:lnTo>
                    <a:pt x="180" y="1396"/>
                  </a:lnTo>
                  <a:lnTo>
                    <a:pt x="186" y="1504"/>
                  </a:lnTo>
                  <a:lnTo>
                    <a:pt x="189" y="1615"/>
                  </a:lnTo>
                  <a:lnTo>
                    <a:pt x="193" y="1726"/>
                  </a:lnTo>
                  <a:lnTo>
                    <a:pt x="198" y="1729"/>
                  </a:lnTo>
                  <a:lnTo>
                    <a:pt x="205" y="1731"/>
                  </a:lnTo>
                  <a:lnTo>
                    <a:pt x="212" y="1732"/>
                  </a:lnTo>
                  <a:lnTo>
                    <a:pt x="219" y="1734"/>
                  </a:lnTo>
                  <a:lnTo>
                    <a:pt x="216" y="1625"/>
                  </a:lnTo>
                  <a:lnTo>
                    <a:pt x="211" y="1516"/>
                  </a:lnTo>
                  <a:lnTo>
                    <a:pt x="205" y="1407"/>
                  </a:lnTo>
                  <a:lnTo>
                    <a:pt x="198" y="1299"/>
                  </a:lnTo>
                  <a:lnTo>
                    <a:pt x="191" y="1192"/>
                  </a:lnTo>
                  <a:lnTo>
                    <a:pt x="182" y="1085"/>
                  </a:lnTo>
                  <a:lnTo>
                    <a:pt x="172" y="978"/>
                  </a:lnTo>
                  <a:lnTo>
                    <a:pt x="161" y="871"/>
                  </a:lnTo>
                  <a:lnTo>
                    <a:pt x="149" y="764"/>
                  </a:lnTo>
                  <a:lnTo>
                    <a:pt x="135" y="655"/>
                  </a:lnTo>
                  <a:lnTo>
                    <a:pt x="121" y="548"/>
                  </a:lnTo>
                  <a:lnTo>
                    <a:pt x="105" y="440"/>
                  </a:lnTo>
                  <a:lnTo>
                    <a:pt x="88" y="331"/>
                  </a:lnTo>
                  <a:lnTo>
                    <a:pt x="69" y="221"/>
                  </a:lnTo>
                  <a:lnTo>
                    <a:pt x="50" y="112"/>
                  </a:lnTo>
                  <a:lnTo>
                    <a:pt x="29" y="0"/>
                  </a:lnTo>
                  <a:lnTo>
                    <a:pt x="21" y="2"/>
                  </a:lnTo>
                  <a:lnTo>
                    <a:pt x="14" y="5"/>
                  </a:lnTo>
                  <a:lnTo>
                    <a:pt x="7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3d3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395960" y="1010160"/>
              <a:ext cx="147240" cy="1042560"/>
            </a:xfrm>
            <a:custGeom>
              <a:avLst/>
              <a:gdLst/>
              <a:ahLst/>
              <a:rect l="l" t="t" r="r" b="b"/>
              <a:pathLst>
                <a:path w="216" h="1728">
                  <a:moveTo>
                    <a:pt x="0" y="10"/>
                  </a:moveTo>
                  <a:lnTo>
                    <a:pt x="22" y="120"/>
                  </a:lnTo>
                  <a:lnTo>
                    <a:pt x="43" y="230"/>
                  </a:lnTo>
                  <a:lnTo>
                    <a:pt x="62" y="338"/>
                  </a:lnTo>
                  <a:lnTo>
                    <a:pt x="80" y="444"/>
                  </a:lnTo>
                  <a:lnTo>
                    <a:pt x="96" y="550"/>
                  </a:lnTo>
                  <a:lnTo>
                    <a:pt x="111" y="656"/>
                  </a:lnTo>
                  <a:lnTo>
                    <a:pt x="123" y="759"/>
                  </a:lnTo>
                  <a:lnTo>
                    <a:pt x="136" y="864"/>
                  </a:lnTo>
                  <a:lnTo>
                    <a:pt x="146" y="969"/>
                  </a:lnTo>
                  <a:lnTo>
                    <a:pt x="156" y="1074"/>
                  </a:lnTo>
                  <a:lnTo>
                    <a:pt x="165" y="1179"/>
                  </a:lnTo>
                  <a:lnTo>
                    <a:pt x="172" y="1286"/>
                  </a:lnTo>
                  <a:lnTo>
                    <a:pt x="178" y="1393"/>
                  </a:lnTo>
                  <a:lnTo>
                    <a:pt x="183" y="1501"/>
                  </a:lnTo>
                  <a:lnTo>
                    <a:pt x="187" y="1612"/>
                  </a:lnTo>
                  <a:lnTo>
                    <a:pt x="190" y="1723"/>
                  </a:lnTo>
                  <a:lnTo>
                    <a:pt x="196" y="1724"/>
                  </a:lnTo>
                  <a:lnTo>
                    <a:pt x="203" y="1726"/>
                  </a:lnTo>
                  <a:lnTo>
                    <a:pt x="210" y="1727"/>
                  </a:lnTo>
                  <a:lnTo>
                    <a:pt x="216" y="1728"/>
                  </a:lnTo>
                  <a:lnTo>
                    <a:pt x="212" y="1618"/>
                  </a:lnTo>
                  <a:lnTo>
                    <a:pt x="207" y="1509"/>
                  </a:lnTo>
                  <a:lnTo>
                    <a:pt x="202" y="1401"/>
                  </a:lnTo>
                  <a:lnTo>
                    <a:pt x="195" y="1294"/>
                  </a:lnTo>
                  <a:lnTo>
                    <a:pt x="187" y="1187"/>
                  </a:lnTo>
                  <a:lnTo>
                    <a:pt x="179" y="1080"/>
                  </a:lnTo>
                  <a:lnTo>
                    <a:pt x="168" y="974"/>
                  </a:lnTo>
                  <a:lnTo>
                    <a:pt x="158" y="866"/>
                  </a:lnTo>
                  <a:lnTo>
                    <a:pt x="146" y="761"/>
                  </a:lnTo>
                  <a:lnTo>
                    <a:pt x="133" y="653"/>
                  </a:lnTo>
                  <a:lnTo>
                    <a:pt x="119" y="546"/>
                  </a:lnTo>
                  <a:lnTo>
                    <a:pt x="103" y="438"/>
                  </a:lnTo>
                  <a:lnTo>
                    <a:pt x="87" y="330"/>
                  </a:lnTo>
                  <a:lnTo>
                    <a:pt x="68" y="222"/>
                  </a:lnTo>
                  <a:lnTo>
                    <a:pt x="49" y="111"/>
                  </a:lnTo>
                  <a:lnTo>
                    <a:pt x="28" y="0"/>
                  </a:lnTo>
                  <a:lnTo>
                    <a:pt x="21" y="3"/>
                  </a:lnTo>
                  <a:lnTo>
                    <a:pt x="14" y="5"/>
                  </a:lnTo>
                  <a:lnTo>
                    <a:pt x="7" y="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4c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4404240" y="1013400"/>
              <a:ext cx="142200" cy="1037520"/>
            </a:xfrm>
            <a:custGeom>
              <a:avLst/>
              <a:gdLst/>
              <a:ahLst/>
              <a:rect l="l" t="t" r="r" b="b"/>
              <a:pathLst>
                <a:path w="213" h="1720">
                  <a:moveTo>
                    <a:pt x="0" y="8"/>
                  </a:moveTo>
                  <a:lnTo>
                    <a:pt x="22" y="119"/>
                  </a:lnTo>
                  <a:lnTo>
                    <a:pt x="43" y="228"/>
                  </a:lnTo>
                  <a:lnTo>
                    <a:pt x="61" y="336"/>
                  </a:lnTo>
                  <a:lnTo>
                    <a:pt x="80" y="442"/>
                  </a:lnTo>
                  <a:lnTo>
                    <a:pt x="95" y="548"/>
                  </a:lnTo>
                  <a:lnTo>
                    <a:pt x="109" y="653"/>
                  </a:lnTo>
                  <a:lnTo>
                    <a:pt x="122" y="758"/>
                  </a:lnTo>
                  <a:lnTo>
                    <a:pt x="135" y="861"/>
                  </a:lnTo>
                  <a:lnTo>
                    <a:pt x="145" y="966"/>
                  </a:lnTo>
                  <a:lnTo>
                    <a:pt x="154" y="1071"/>
                  </a:lnTo>
                  <a:lnTo>
                    <a:pt x="162" y="1176"/>
                  </a:lnTo>
                  <a:lnTo>
                    <a:pt x="169" y="1282"/>
                  </a:lnTo>
                  <a:lnTo>
                    <a:pt x="176" y="1389"/>
                  </a:lnTo>
                  <a:lnTo>
                    <a:pt x="181" y="1497"/>
                  </a:lnTo>
                  <a:lnTo>
                    <a:pt x="184" y="1608"/>
                  </a:lnTo>
                  <a:lnTo>
                    <a:pt x="188" y="1719"/>
                  </a:lnTo>
                  <a:lnTo>
                    <a:pt x="194" y="1720"/>
                  </a:lnTo>
                  <a:lnTo>
                    <a:pt x="200" y="1720"/>
                  </a:lnTo>
                  <a:lnTo>
                    <a:pt x="207" y="1720"/>
                  </a:lnTo>
                  <a:lnTo>
                    <a:pt x="213" y="1720"/>
                  </a:lnTo>
                  <a:lnTo>
                    <a:pt x="210" y="1611"/>
                  </a:lnTo>
                  <a:lnTo>
                    <a:pt x="204" y="1503"/>
                  </a:lnTo>
                  <a:lnTo>
                    <a:pt x="199" y="1395"/>
                  </a:lnTo>
                  <a:lnTo>
                    <a:pt x="192" y="1287"/>
                  </a:lnTo>
                  <a:lnTo>
                    <a:pt x="184" y="1180"/>
                  </a:lnTo>
                  <a:lnTo>
                    <a:pt x="176" y="1074"/>
                  </a:lnTo>
                  <a:lnTo>
                    <a:pt x="166" y="968"/>
                  </a:lnTo>
                  <a:lnTo>
                    <a:pt x="156" y="862"/>
                  </a:lnTo>
                  <a:lnTo>
                    <a:pt x="144" y="757"/>
                  </a:lnTo>
                  <a:lnTo>
                    <a:pt x="130" y="651"/>
                  </a:lnTo>
                  <a:lnTo>
                    <a:pt x="116" y="543"/>
                  </a:lnTo>
                  <a:lnTo>
                    <a:pt x="101" y="436"/>
                  </a:lnTo>
                  <a:lnTo>
                    <a:pt x="85" y="328"/>
                  </a:lnTo>
                  <a:lnTo>
                    <a:pt x="67" y="220"/>
                  </a:lnTo>
                  <a:lnTo>
                    <a:pt x="48" y="110"/>
                  </a:lnTo>
                  <a:lnTo>
                    <a:pt x="28" y="0"/>
                  </a:lnTo>
                  <a:lnTo>
                    <a:pt x="21" y="2"/>
                  </a:lnTo>
                  <a:lnTo>
                    <a:pt x="14" y="3"/>
                  </a:lnTo>
                  <a:lnTo>
                    <a:pt x="7" y="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b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409280" y="1014840"/>
              <a:ext cx="145800" cy="1036080"/>
            </a:xfrm>
            <a:custGeom>
              <a:avLst/>
              <a:gdLst/>
              <a:ahLst/>
              <a:rect l="l" t="t" r="r" b="b"/>
              <a:pathLst>
                <a:path w="211" h="1716">
                  <a:moveTo>
                    <a:pt x="0" y="7"/>
                  </a:moveTo>
                  <a:lnTo>
                    <a:pt x="22" y="118"/>
                  </a:lnTo>
                  <a:lnTo>
                    <a:pt x="41" y="227"/>
                  </a:lnTo>
                  <a:lnTo>
                    <a:pt x="60" y="334"/>
                  </a:lnTo>
                  <a:lnTo>
                    <a:pt x="77" y="441"/>
                  </a:lnTo>
                  <a:lnTo>
                    <a:pt x="93" y="546"/>
                  </a:lnTo>
                  <a:lnTo>
                    <a:pt x="107" y="651"/>
                  </a:lnTo>
                  <a:lnTo>
                    <a:pt x="121" y="756"/>
                  </a:lnTo>
                  <a:lnTo>
                    <a:pt x="132" y="859"/>
                  </a:lnTo>
                  <a:lnTo>
                    <a:pt x="143" y="964"/>
                  </a:lnTo>
                  <a:lnTo>
                    <a:pt x="152" y="1068"/>
                  </a:lnTo>
                  <a:lnTo>
                    <a:pt x="161" y="1173"/>
                  </a:lnTo>
                  <a:lnTo>
                    <a:pt x="168" y="1279"/>
                  </a:lnTo>
                  <a:lnTo>
                    <a:pt x="174" y="1386"/>
                  </a:lnTo>
                  <a:lnTo>
                    <a:pt x="179" y="1494"/>
                  </a:lnTo>
                  <a:lnTo>
                    <a:pt x="183" y="1605"/>
                  </a:lnTo>
                  <a:lnTo>
                    <a:pt x="185" y="1716"/>
                  </a:lnTo>
                  <a:lnTo>
                    <a:pt x="192" y="1716"/>
                  </a:lnTo>
                  <a:lnTo>
                    <a:pt x="198" y="1715"/>
                  </a:lnTo>
                  <a:lnTo>
                    <a:pt x="205" y="1715"/>
                  </a:lnTo>
                  <a:lnTo>
                    <a:pt x="211" y="1714"/>
                  </a:lnTo>
                  <a:lnTo>
                    <a:pt x="202" y="1496"/>
                  </a:lnTo>
                  <a:lnTo>
                    <a:pt x="189" y="1282"/>
                  </a:lnTo>
                  <a:lnTo>
                    <a:pt x="172" y="1070"/>
                  </a:lnTo>
                  <a:lnTo>
                    <a:pt x="152" y="858"/>
                  </a:lnTo>
                  <a:lnTo>
                    <a:pt x="128" y="648"/>
                  </a:lnTo>
                  <a:lnTo>
                    <a:pt x="99" y="436"/>
                  </a:lnTo>
                  <a:lnTo>
                    <a:pt x="66" y="220"/>
                  </a:lnTo>
                  <a:lnTo>
                    <a:pt x="28" y="0"/>
                  </a:lnTo>
                  <a:lnTo>
                    <a:pt x="21" y="2"/>
                  </a:lnTo>
                  <a:lnTo>
                    <a:pt x="14" y="4"/>
                  </a:lnTo>
                  <a:lnTo>
                    <a:pt x="7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b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4420440" y="1016640"/>
              <a:ext cx="141840" cy="1034280"/>
            </a:xfrm>
            <a:custGeom>
              <a:avLst/>
              <a:gdLst/>
              <a:ahLst/>
              <a:rect l="l" t="t" r="r" b="b"/>
              <a:pathLst>
                <a:path w="207" h="1712">
                  <a:moveTo>
                    <a:pt x="0" y="7"/>
                  </a:moveTo>
                  <a:lnTo>
                    <a:pt x="21" y="117"/>
                  </a:lnTo>
                  <a:lnTo>
                    <a:pt x="41" y="226"/>
                  </a:lnTo>
                  <a:lnTo>
                    <a:pt x="60" y="333"/>
                  </a:lnTo>
                  <a:lnTo>
                    <a:pt x="76" y="440"/>
                  </a:lnTo>
                  <a:lnTo>
                    <a:pt x="92" y="545"/>
                  </a:lnTo>
                  <a:lnTo>
                    <a:pt x="106" y="648"/>
                  </a:lnTo>
                  <a:lnTo>
                    <a:pt x="120" y="753"/>
                  </a:lnTo>
                  <a:lnTo>
                    <a:pt x="131" y="857"/>
                  </a:lnTo>
                  <a:lnTo>
                    <a:pt x="142" y="960"/>
                  </a:lnTo>
                  <a:lnTo>
                    <a:pt x="151" y="1065"/>
                  </a:lnTo>
                  <a:lnTo>
                    <a:pt x="159" y="1170"/>
                  </a:lnTo>
                  <a:lnTo>
                    <a:pt x="166" y="1276"/>
                  </a:lnTo>
                  <a:lnTo>
                    <a:pt x="173" y="1382"/>
                  </a:lnTo>
                  <a:lnTo>
                    <a:pt x="177" y="1490"/>
                  </a:lnTo>
                  <a:lnTo>
                    <a:pt x="181" y="1601"/>
                  </a:lnTo>
                  <a:lnTo>
                    <a:pt x="184" y="1712"/>
                  </a:lnTo>
                  <a:lnTo>
                    <a:pt x="190" y="1711"/>
                  </a:lnTo>
                  <a:lnTo>
                    <a:pt x="196" y="1710"/>
                  </a:lnTo>
                  <a:lnTo>
                    <a:pt x="202" y="1708"/>
                  </a:lnTo>
                  <a:lnTo>
                    <a:pt x="207" y="1706"/>
                  </a:lnTo>
                  <a:lnTo>
                    <a:pt x="197" y="1489"/>
                  </a:lnTo>
                  <a:lnTo>
                    <a:pt x="184" y="1275"/>
                  </a:lnTo>
                  <a:lnTo>
                    <a:pt x="168" y="1064"/>
                  </a:lnTo>
                  <a:lnTo>
                    <a:pt x="149" y="854"/>
                  </a:lnTo>
                  <a:lnTo>
                    <a:pt x="125" y="645"/>
                  </a:lnTo>
                  <a:lnTo>
                    <a:pt x="97" y="433"/>
                  </a:lnTo>
                  <a:lnTo>
                    <a:pt x="64" y="219"/>
                  </a:lnTo>
                  <a:lnTo>
                    <a:pt x="26" y="0"/>
                  </a:lnTo>
                  <a:lnTo>
                    <a:pt x="20" y="1"/>
                  </a:lnTo>
                  <a:lnTo>
                    <a:pt x="13" y="3"/>
                  </a:lnTo>
                  <a:lnTo>
                    <a:pt x="6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7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4426920" y="1018440"/>
              <a:ext cx="138960" cy="1032840"/>
            </a:xfrm>
            <a:custGeom>
              <a:avLst/>
              <a:gdLst/>
              <a:ahLst/>
              <a:rect l="l" t="t" r="r" b="b"/>
              <a:pathLst>
                <a:path w="205" h="1709">
                  <a:moveTo>
                    <a:pt x="0" y="6"/>
                  </a:moveTo>
                  <a:lnTo>
                    <a:pt x="40" y="225"/>
                  </a:lnTo>
                  <a:lnTo>
                    <a:pt x="75" y="438"/>
                  </a:lnTo>
                  <a:lnTo>
                    <a:pt x="105" y="647"/>
                  </a:lnTo>
                  <a:lnTo>
                    <a:pt x="129" y="855"/>
                  </a:lnTo>
                  <a:lnTo>
                    <a:pt x="148" y="1062"/>
                  </a:lnTo>
                  <a:lnTo>
                    <a:pt x="163" y="1273"/>
                  </a:lnTo>
                  <a:lnTo>
                    <a:pt x="175" y="1487"/>
                  </a:lnTo>
                  <a:lnTo>
                    <a:pt x="182" y="1709"/>
                  </a:lnTo>
                  <a:lnTo>
                    <a:pt x="205" y="1700"/>
                  </a:lnTo>
                  <a:lnTo>
                    <a:pt x="195" y="1482"/>
                  </a:lnTo>
                  <a:lnTo>
                    <a:pt x="182" y="1269"/>
                  </a:lnTo>
                  <a:lnTo>
                    <a:pt x="166" y="1060"/>
                  </a:lnTo>
                  <a:lnTo>
                    <a:pt x="146" y="851"/>
                  </a:lnTo>
                  <a:lnTo>
                    <a:pt x="123" y="643"/>
                  </a:lnTo>
                  <a:lnTo>
                    <a:pt x="95" y="432"/>
                  </a:lnTo>
                  <a:lnTo>
                    <a:pt x="63" y="219"/>
                  </a:lnTo>
                  <a:lnTo>
                    <a:pt x="2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4462560" y="1049760"/>
              <a:ext cx="145440" cy="999720"/>
            </a:xfrm>
            <a:custGeom>
              <a:avLst/>
              <a:gdLst/>
              <a:ahLst/>
              <a:rect l="l" t="t" r="r" b="b"/>
              <a:pathLst>
                <a:path w="212" h="1651">
                  <a:moveTo>
                    <a:pt x="0" y="67"/>
                  </a:moveTo>
                  <a:lnTo>
                    <a:pt x="28" y="217"/>
                  </a:lnTo>
                  <a:lnTo>
                    <a:pt x="53" y="382"/>
                  </a:lnTo>
                  <a:lnTo>
                    <a:pt x="78" y="563"/>
                  </a:lnTo>
                  <a:lnTo>
                    <a:pt x="100" y="757"/>
                  </a:lnTo>
                  <a:lnTo>
                    <a:pt x="120" y="962"/>
                  </a:lnTo>
                  <a:lnTo>
                    <a:pt x="137" y="1176"/>
                  </a:lnTo>
                  <a:lnTo>
                    <a:pt x="151" y="1398"/>
                  </a:lnTo>
                  <a:lnTo>
                    <a:pt x="161" y="1626"/>
                  </a:lnTo>
                  <a:lnTo>
                    <a:pt x="167" y="1630"/>
                  </a:lnTo>
                  <a:lnTo>
                    <a:pt x="174" y="1633"/>
                  </a:lnTo>
                  <a:lnTo>
                    <a:pt x="180" y="1637"/>
                  </a:lnTo>
                  <a:lnTo>
                    <a:pt x="187" y="1639"/>
                  </a:lnTo>
                  <a:lnTo>
                    <a:pt x="192" y="1642"/>
                  </a:lnTo>
                  <a:lnTo>
                    <a:pt x="199" y="1646"/>
                  </a:lnTo>
                  <a:lnTo>
                    <a:pt x="205" y="1648"/>
                  </a:lnTo>
                  <a:lnTo>
                    <a:pt x="212" y="1651"/>
                  </a:lnTo>
                  <a:lnTo>
                    <a:pt x="211" y="1546"/>
                  </a:lnTo>
                  <a:lnTo>
                    <a:pt x="207" y="1440"/>
                  </a:lnTo>
                  <a:lnTo>
                    <a:pt x="202" y="1336"/>
                  </a:lnTo>
                  <a:lnTo>
                    <a:pt x="196" y="1232"/>
                  </a:lnTo>
                  <a:lnTo>
                    <a:pt x="187" y="1129"/>
                  </a:lnTo>
                  <a:lnTo>
                    <a:pt x="177" y="1026"/>
                  </a:lnTo>
                  <a:lnTo>
                    <a:pt x="166" y="924"/>
                  </a:lnTo>
                  <a:lnTo>
                    <a:pt x="154" y="822"/>
                  </a:lnTo>
                  <a:lnTo>
                    <a:pt x="141" y="721"/>
                  </a:lnTo>
                  <a:lnTo>
                    <a:pt x="126" y="619"/>
                  </a:lnTo>
                  <a:lnTo>
                    <a:pt x="111" y="517"/>
                  </a:lnTo>
                  <a:lnTo>
                    <a:pt x="94" y="415"/>
                  </a:lnTo>
                  <a:lnTo>
                    <a:pt x="77" y="312"/>
                  </a:lnTo>
                  <a:lnTo>
                    <a:pt x="60" y="209"/>
                  </a:lnTo>
                  <a:lnTo>
                    <a:pt x="43" y="105"/>
                  </a:lnTo>
                  <a:lnTo>
                    <a:pt x="24" y="0"/>
                  </a:lnTo>
                  <a:lnTo>
                    <a:pt x="18" y="16"/>
                  </a:lnTo>
                  <a:lnTo>
                    <a:pt x="13" y="34"/>
                  </a:lnTo>
                  <a:lnTo>
                    <a:pt x="6" y="51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3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471200" y="1055880"/>
              <a:ext cx="140400" cy="988560"/>
            </a:xfrm>
            <a:custGeom>
              <a:avLst/>
              <a:gdLst/>
              <a:ahLst/>
              <a:rect l="l" t="t" r="r" b="b"/>
              <a:pathLst>
                <a:path w="208" h="1639">
                  <a:moveTo>
                    <a:pt x="0" y="64"/>
                  </a:moveTo>
                  <a:lnTo>
                    <a:pt x="28" y="216"/>
                  </a:lnTo>
                  <a:lnTo>
                    <a:pt x="53" y="381"/>
                  </a:lnTo>
                  <a:lnTo>
                    <a:pt x="78" y="561"/>
                  </a:lnTo>
                  <a:lnTo>
                    <a:pt x="99" y="753"/>
                  </a:lnTo>
                  <a:lnTo>
                    <a:pt x="119" y="955"/>
                  </a:lnTo>
                  <a:lnTo>
                    <a:pt x="136" y="1168"/>
                  </a:lnTo>
                  <a:lnTo>
                    <a:pt x="149" y="1388"/>
                  </a:lnTo>
                  <a:lnTo>
                    <a:pt x="159" y="1616"/>
                  </a:lnTo>
                  <a:lnTo>
                    <a:pt x="165" y="1619"/>
                  </a:lnTo>
                  <a:lnTo>
                    <a:pt x="172" y="1622"/>
                  </a:lnTo>
                  <a:lnTo>
                    <a:pt x="178" y="1625"/>
                  </a:lnTo>
                  <a:lnTo>
                    <a:pt x="184" y="1627"/>
                  </a:lnTo>
                  <a:lnTo>
                    <a:pt x="189" y="1631"/>
                  </a:lnTo>
                  <a:lnTo>
                    <a:pt x="196" y="1633"/>
                  </a:lnTo>
                  <a:lnTo>
                    <a:pt x="202" y="1637"/>
                  </a:lnTo>
                  <a:lnTo>
                    <a:pt x="208" y="1639"/>
                  </a:lnTo>
                  <a:lnTo>
                    <a:pt x="203" y="1428"/>
                  </a:lnTo>
                  <a:lnTo>
                    <a:pt x="192" y="1221"/>
                  </a:lnTo>
                  <a:lnTo>
                    <a:pt x="173" y="1018"/>
                  </a:lnTo>
                  <a:lnTo>
                    <a:pt x="151" y="817"/>
                  </a:lnTo>
                  <a:lnTo>
                    <a:pt x="124" y="615"/>
                  </a:lnTo>
                  <a:lnTo>
                    <a:pt x="93" y="414"/>
                  </a:lnTo>
                  <a:lnTo>
                    <a:pt x="60" y="209"/>
                  </a:lnTo>
                  <a:lnTo>
                    <a:pt x="25" y="0"/>
                  </a:lnTo>
                  <a:lnTo>
                    <a:pt x="19" y="16"/>
                  </a:lnTo>
                  <a:lnTo>
                    <a:pt x="13" y="32"/>
                  </a:lnTo>
                  <a:lnTo>
                    <a:pt x="6" y="47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35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4476240" y="1061280"/>
              <a:ext cx="137520" cy="979920"/>
            </a:xfrm>
            <a:custGeom>
              <a:avLst/>
              <a:gdLst/>
              <a:ahLst/>
              <a:rect l="l" t="t" r="r" b="b"/>
              <a:pathLst>
                <a:path w="201" h="1626">
                  <a:moveTo>
                    <a:pt x="0" y="59"/>
                  </a:moveTo>
                  <a:lnTo>
                    <a:pt x="26" y="213"/>
                  </a:lnTo>
                  <a:lnTo>
                    <a:pt x="53" y="380"/>
                  </a:lnTo>
                  <a:lnTo>
                    <a:pt x="76" y="559"/>
                  </a:lnTo>
                  <a:lnTo>
                    <a:pt x="98" y="748"/>
                  </a:lnTo>
                  <a:lnTo>
                    <a:pt x="116" y="948"/>
                  </a:lnTo>
                  <a:lnTo>
                    <a:pt x="132" y="1158"/>
                  </a:lnTo>
                  <a:lnTo>
                    <a:pt x="146" y="1377"/>
                  </a:lnTo>
                  <a:lnTo>
                    <a:pt x="155" y="1603"/>
                  </a:lnTo>
                  <a:lnTo>
                    <a:pt x="161" y="1607"/>
                  </a:lnTo>
                  <a:lnTo>
                    <a:pt x="167" y="1609"/>
                  </a:lnTo>
                  <a:lnTo>
                    <a:pt x="173" y="1613"/>
                  </a:lnTo>
                  <a:lnTo>
                    <a:pt x="178" y="1615"/>
                  </a:lnTo>
                  <a:lnTo>
                    <a:pt x="184" y="1617"/>
                  </a:lnTo>
                  <a:lnTo>
                    <a:pt x="190" y="1621"/>
                  </a:lnTo>
                  <a:lnTo>
                    <a:pt x="196" y="1623"/>
                  </a:lnTo>
                  <a:lnTo>
                    <a:pt x="201" y="1626"/>
                  </a:lnTo>
                  <a:lnTo>
                    <a:pt x="196" y="1416"/>
                  </a:lnTo>
                  <a:lnTo>
                    <a:pt x="184" y="1211"/>
                  </a:lnTo>
                  <a:lnTo>
                    <a:pt x="167" y="1009"/>
                  </a:lnTo>
                  <a:lnTo>
                    <a:pt x="145" y="810"/>
                  </a:lnTo>
                  <a:lnTo>
                    <a:pt x="119" y="611"/>
                  </a:lnTo>
                  <a:lnTo>
                    <a:pt x="90" y="410"/>
                  </a:lnTo>
                  <a:lnTo>
                    <a:pt x="58" y="208"/>
                  </a:lnTo>
                  <a:lnTo>
                    <a:pt x="23" y="0"/>
                  </a:lnTo>
                  <a:lnTo>
                    <a:pt x="17" y="15"/>
                  </a:lnTo>
                  <a:lnTo>
                    <a:pt x="11" y="29"/>
                  </a:lnTo>
                  <a:lnTo>
                    <a:pt x="6" y="44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479480" y="1064160"/>
              <a:ext cx="135360" cy="975240"/>
            </a:xfrm>
            <a:custGeom>
              <a:avLst/>
              <a:gdLst/>
              <a:ahLst/>
              <a:rect l="l" t="t" r="r" b="b"/>
              <a:pathLst>
                <a:path w="198" h="1614">
                  <a:moveTo>
                    <a:pt x="0" y="57"/>
                  </a:moveTo>
                  <a:lnTo>
                    <a:pt x="28" y="214"/>
                  </a:lnTo>
                  <a:lnTo>
                    <a:pt x="53" y="380"/>
                  </a:lnTo>
                  <a:lnTo>
                    <a:pt x="77" y="558"/>
                  </a:lnTo>
                  <a:lnTo>
                    <a:pt x="98" y="746"/>
                  </a:lnTo>
                  <a:lnTo>
                    <a:pt x="118" y="942"/>
                  </a:lnTo>
                  <a:lnTo>
                    <a:pt x="133" y="1150"/>
                  </a:lnTo>
                  <a:lnTo>
                    <a:pt x="145" y="1366"/>
                  </a:lnTo>
                  <a:lnTo>
                    <a:pt x="155" y="1593"/>
                  </a:lnTo>
                  <a:lnTo>
                    <a:pt x="160" y="1595"/>
                  </a:lnTo>
                  <a:lnTo>
                    <a:pt x="166" y="1598"/>
                  </a:lnTo>
                  <a:lnTo>
                    <a:pt x="171" y="1601"/>
                  </a:lnTo>
                  <a:lnTo>
                    <a:pt x="176" y="1603"/>
                  </a:lnTo>
                  <a:lnTo>
                    <a:pt x="182" y="1606"/>
                  </a:lnTo>
                  <a:lnTo>
                    <a:pt x="187" y="1608"/>
                  </a:lnTo>
                  <a:lnTo>
                    <a:pt x="193" y="1612"/>
                  </a:lnTo>
                  <a:lnTo>
                    <a:pt x="198" y="1614"/>
                  </a:lnTo>
                  <a:lnTo>
                    <a:pt x="193" y="1403"/>
                  </a:lnTo>
                  <a:lnTo>
                    <a:pt x="181" y="1199"/>
                  </a:lnTo>
                  <a:lnTo>
                    <a:pt x="164" y="1000"/>
                  </a:lnTo>
                  <a:lnTo>
                    <a:pt x="143" y="803"/>
                  </a:lnTo>
                  <a:lnTo>
                    <a:pt x="118" y="607"/>
                  </a:lnTo>
                  <a:lnTo>
                    <a:pt x="89" y="409"/>
                  </a:lnTo>
                  <a:lnTo>
                    <a:pt x="58" y="208"/>
                  </a:lnTo>
                  <a:lnTo>
                    <a:pt x="24" y="0"/>
                  </a:lnTo>
                  <a:lnTo>
                    <a:pt x="19" y="14"/>
                  </a:lnTo>
                  <a:lnTo>
                    <a:pt x="13" y="28"/>
                  </a:lnTo>
                  <a:lnTo>
                    <a:pt x="6" y="42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c3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489200" y="1072440"/>
              <a:ext cx="132120" cy="965160"/>
            </a:xfrm>
            <a:custGeom>
              <a:avLst/>
              <a:gdLst/>
              <a:ahLst/>
              <a:rect l="l" t="t" r="r" b="b"/>
              <a:pathLst>
                <a:path w="192" h="1600">
                  <a:moveTo>
                    <a:pt x="0" y="52"/>
                  </a:moveTo>
                  <a:lnTo>
                    <a:pt x="27" y="211"/>
                  </a:lnTo>
                  <a:lnTo>
                    <a:pt x="53" y="378"/>
                  </a:lnTo>
                  <a:lnTo>
                    <a:pt x="77" y="555"/>
                  </a:lnTo>
                  <a:lnTo>
                    <a:pt x="97" y="740"/>
                  </a:lnTo>
                  <a:lnTo>
                    <a:pt x="116" y="936"/>
                  </a:lnTo>
                  <a:lnTo>
                    <a:pt x="132" y="1141"/>
                  </a:lnTo>
                  <a:lnTo>
                    <a:pt x="144" y="1355"/>
                  </a:lnTo>
                  <a:lnTo>
                    <a:pt x="153" y="1581"/>
                  </a:lnTo>
                  <a:lnTo>
                    <a:pt x="157" y="1583"/>
                  </a:lnTo>
                  <a:lnTo>
                    <a:pt x="162" y="1585"/>
                  </a:lnTo>
                  <a:lnTo>
                    <a:pt x="168" y="1588"/>
                  </a:lnTo>
                  <a:lnTo>
                    <a:pt x="172" y="1590"/>
                  </a:lnTo>
                  <a:lnTo>
                    <a:pt x="177" y="1593"/>
                  </a:lnTo>
                  <a:lnTo>
                    <a:pt x="183" y="1596"/>
                  </a:lnTo>
                  <a:lnTo>
                    <a:pt x="187" y="1598"/>
                  </a:lnTo>
                  <a:lnTo>
                    <a:pt x="192" y="1600"/>
                  </a:lnTo>
                  <a:lnTo>
                    <a:pt x="186" y="1391"/>
                  </a:lnTo>
                  <a:lnTo>
                    <a:pt x="175" y="1188"/>
                  </a:lnTo>
                  <a:lnTo>
                    <a:pt x="159" y="991"/>
                  </a:lnTo>
                  <a:lnTo>
                    <a:pt x="138" y="796"/>
                  </a:lnTo>
                  <a:lnTo>
                    <a:pt x="114" y="602"/>
                  </a:lnTo>
                  <a:lnTo>
                    <a:pt x="86" y="406"/>
                  </a:lnTo>
                  <a:lnTo>
                    <a:pt x="56" y="206"/>
                  </a:lnTo>
                  <a:lnTo>
                    <a:pt x="24" y="0"/>
                  </a:lnTo>
                  <a:lnTo>
                    <a:pt x="18" y="12"/>
                  </a:lnTo>
                  <a:lnTo>
                    <a:pt x="12" y="26"/>
                  </a:lnTo>
                  <a:lnTo>
                    <a:pt x="6" y="4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1c3a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494240" y="1075680"/>
              <a:ext cx="128520" cy="959040"/>
            </a:xfrm>
            <a:custGeom>
              <a:avLst/>
              <a:gdLst/>
              <a:ahLst/>
              <a:rect l="l" t="t" r="r" b="b"/>
              <a:pathLst>
                <a:path w="188" h="1587">
                  <a:moveTo>
                    <a:pt x="0" y="48"/>
                  </a:moveTo>
                  <a:lnTo>
                    <a:pt x="28" y="209"/>
                  </a:lnTo>
                  <a:lnTo>
                    <a:pt x="53" y="377"/>
                  </a:lnTo>
                  <a:lnTo>
                    <a:pt x="77" y="552"/>
                  </a:lnTo>
                  <a:lnTo>
                    <a:pt x="98" y="736"/>
                  </a:lnTo>
                  <a:lnTo>
                    <a:pt x="116" y="929"/>
                  </a:lnTo>
                  <a:lnTo>
                    <a:pt x="130" y="1131"/>
                  </a:lnTo>
                  <a:lnTo>
                    <a:pt x="142" y="1345"/>
                  </a:lnTo>
                  <a:lnTo>
                    <a:pt x="150" y="1569"/>
                  </a:lnTo>
                  <a:lnTo>
                    <a:pt x="154" y="1572"/>
                  </a:lnTo>
                  <a:lnTo>
                    <a:pt x="159" y="1574"/>
                  </a:lnTo>
                  <a:lnTo>
                    <a:pt x="164" y="1576"/>
                  </a:lnTo>
                  <a:lnTo>
                    <a:pt x="169" y="1577"/>
                  </a:lnTo>
                  <a:lnTo>
                    <a:pt x="174" y="1580"/>
                  </a:lnTo>
                  <a:lnTo>
                    <a:pt x="178" y="1582"/>
                  </a:lnTo>
                  <a:lnTo>
                    <a:pt x="183" y="1584"/>
                  </a:lnTo>
                  <a:lnTo>
                    <a:pt x="188" y="1587"/>
                  </a:lnTo>
                  <a:lnTo>
                    <a:pt x="182" y="1377"/>
                  </a:lnTo>
                  <a:lnTo>
                    <a:pt x="170" y="1177"/>
                  </a:lnTo>
                  <a:lnTo>
                    <a:pt x="154" y="981"/>
                  </a:lnTo>
                  <a:lnTo>
                    <a:pt x="135" y="790"/>
                  </a:lnTo>
                  <a:lnTo>
                    <a:pt x="112" y="597"/>
                  </a:lnTo>
                  <a:lnTo>
                    <a:pt x="85" y="404"/>
                  </a:lnTo>
                  <a:lnTo>
                    <a:pt x="55" y="206"/>
                  </a:lnTo>
                  <a:lnTo>
                    <a:pt x="24" y="0"/>
                  </a:lnTo>
                  <a:lnTo>
                    <a:pt x="18" y="11"/>
                  </a:lnTo>
                  <a:lnTo>
                    <a:pt x="13" y="24"/>
                  </a:lnTo>
                  <a:lnTo>
                    <a:pt x="6" y="35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2b3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501080" y="1080360"/>
              <a:ext cx="124920" cy="948960"/>
            </a:xfrm>
            <a:custGeom>
              <a:avLst/>
              <a:gdLst/>
              <a:ahLst/>
              <a:rect l="l" t="t" r="r" b="b"/>
              <a:pathLst>
                <a:path w="184" h="1574">
                  <a:moveTo>
                    <a:pt x="0" y="46"/>
                  </a:moveTo>
                  <a:lnTo>
                    <a:pt x="28" y="209"/>
                  </a:lnTo>
                  <a:lnTo>
                    <a:pt x="54" y="378"/>
                  </a:lnTo>
                  <a:lnTo>
                    <a:pt x="77" y="551"/>
                  </a:lnTo>
                  <a:lnTo>
                    <a:pt x="98" y="732"/>
                  </a:lnTo>
                  <a:lnTo>
                    <a:pt x="115" y="923"/>
                  </a:lnTo>
                  <a:lnTo>
                    <a:pt x="130" y="1123"/>
                  </a:lnTo>
                  <a:lnTo>
                    <a:pt x="142" y="1334"/>
                  </a:lnTo>
                  <a:lnTo>
                    <a:pt x="150" y="1558"/>
                  </a:lnTo>
                  <a:lnTo>
                    <a:pt x="155" y="1560"/>
                  </a:lnTo>
                  <a:lnTo>
                    <a:pt x="159" y="1562"/>
                  </a:lnTo>
                  <a:lnTo>
                    <a:pt x="163" y="1564"/>
                  </a:lnTo>
                  <a:lnTo>
                    <a:pt x="167" y="1566"/>
                  </a:lnTo>
                  <a:lnTo>
                    <a:pt x="172" y="1568"/>
                  </a:lnTo>
                  <a:lnTo>
                    <a:pt x="176" y="1569"/>
                  </a:lnTo>
                  <a:lnTo>
                    <a:pt x="180" y="1572"/>
                  </a:lnTo>
                  <a:lnTo>
                    <a:pt x="184" y="1574"/>
                  </a:lnTo>
                  <a:lnTo>
                    <a:pt x="178" y="1366"/>
                  </a:lnTo>
                  <a:lnTo>
                    <a:pt x="166" y="1166"/>
                  </a:lnTo>
                  <a:lnTo>
                    <a:pt x="151" y="973"/>
                  </a:lnTo>
                  <a:lnTo>
                    <a:pt x="133" y="783"/>
                  </a:lnTo>
                  <a:lnTo>
                    <a:pt x="110" y="594"/>
                  </a:lnTo>
                  <a:lnTo>
                    <a:pt x="84" y="402"/>
                  </a:lnTo>
                  <a:lnTo>
                    <a:pt x="55" y="205"/>
                  </a:lnTo>
                  <a:lnTo>
                    <a:pt x="26" y="0"/>
                  </a:lnTo>
                  <a:lnTo>
                    <a:pt x="20" y="11"/>
                  </a:lnTo>
                  <a:lnTo>
                    <a:pt x="13" y="23"/>
                  </a:lnTo>
                  <a:lnTo>
                    <a:pt x="7" y="34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d3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4508280" y="1085760"/>
              <a:ext cx="120240" cy="942120"/>
            </a:xfrm>
            <a:custGeom>
              <a:avLst/>
              <a:gdLst/>
              <a:ahLst/>
              <a:rect l="l" t="t" r="r" b="b"/>
              <a:pathLst>
                <a:path w="178" h="1561">
                  <a:moveTo>
                    <a:pt x="0" y="42"/>
                  </a:moveTo>
                  <a:lnTo>
                    <a:pt x="27" y="208"/>
                  </a:lnTo>
                  <a:lnTo>
                    <a:pt x="53" y="376"/>
                  </a:lnTo>
                  <a:lnTo>
                    <a:pt x="76" y="549"/>
                  </a:lnTo>
                  <a:lnTo>
                    <a:pt x="95" y="729"/>
                  </a:lnTo>
                  <a:lnTo>
                    <a:pt x="114" y="917"/>
                  </a:lnTo>
                  <a:lnTo>
                    <a:pt x="128" y="1115"/>
                  </a:lnTo>
                  <a:lnTo>
                    <a:pt x="139" y="1324"/>
                  </a:lnTo>
                  <a:lnTo>
                    <a:pt x="146" y="1548"/>
                  </a:lnTo>
                  <a:lnTo>
                    <a:pt x="154" y="1551"/>
                  </a:lnTo>
                  <a:lnTo>
                    <a:pt x="162" y="1554"/>
                  </a:lnTo>
                  <a:lnTo>
                    <a:pt x="170" y="1558"/>
                  </a:lnTo>
                  <a:lnTo>
                    <a:pt x="178" y="1561"/>
                  </a:lnTo>
                  <a:lnTo>
                    <a:pt x="171" y="1353"/>
                  </a:lnTo>
                  <a:lnTo>
                    <a:pt x="161" y="1155"/>
                  </a:lnTo>
                  <a:lnTo>
                    <a:pt x="146" y="965"/>
                  </a:lnTo>
                  <a:lnTo>
                    <a:pt x="128" y="777"/>
                  </a:lnTo>
                  <a:lnTo>
                    <a:pt x="106" y="591"/>
                  </a:lnTo>
                  <a:lnTo>
                    <a:pt x="82" y="401"/>
                  </a:lnTo>
                  <a:lnTo>
                    <a:pt x="54" y="205"/>
                  </a:lnTo>
                  <a:lnTo>
                    <a:pt x="25" y="0"/>
                  </a:lnTo>
                  <a:lnTo>
                    <a:pt x="18" y="10"/>
                  </a:lnTo>
                  <a:lnTo>
                    <a:pt x="12" y="21"/>
                  </a:lnTo>
                  <a:lnTo>
                    <a:pt x="5" y="3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4c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513320" y="1091880"/>
              <a:ext cx="120240" cy="934200"/>
            </a:xfrm>
            <a:custGeom>
              <a:avLst/>
              <a:gdLst/>
              <a:ahLst/>
              <a:rect l="l" t="t" r="r" b="b"/>
              <a:pathLst>
                <a:path w="175" h="1548">
                  <a:moveTo>
                    <a:pt x="0" y="38"/>
                  </a:moveTo>
                  <a:lnTo>
                    <a:pt x="28" y="206"/>
                  </a:lnTo>
                  <a:lnTo>
                    <a:pt x="53" y="375"/>
                  </a:lnTo>
                  <a:lnTo>
                    <a:pt x="76" y="547"/>
                  </a:lnTo>
                  <a:lnTo>
                    <a:pt x="97" y="724"/>
                  </a:lnTo>
                  <a:lnTo>
                    <a:pt x="114" y="910"/>
                  </a:lnTo>
                  <a:lnTo>
                    <a:pt x="128" y="1106"/>
                  </a:lnTo>
                  <a:lnTo>
                    <a:pt x="138" y="1313"/>
                  </a:lnTo>
                  <a:lnTo>
                    <a:pt x="145" y="1535"/>
                  </a:lnTo>
                  <a:lnTo>
                    <a:pt x="153" y="1539"/>
                  </a:lnTo>
                  <a:lnTo>
                    <a:pt x="160" y="1542"/>
                  </a:lnTo>
                  <a:lnTo>
                    <a:pt x="167" y="1545"/>
                  </a:lnTo>
                  <a:lnTo>
                    <a:pt x="175" y="1548"/>
                  </a:lnTo>
                  <a:lnTo>
                    <a:pt x="168" y="1341"/>
                  </a:lnTo>
                  <a:lnTo>
                    <a:pt x="157" y="1145"/>
                  </a:lnTo>
                  <a:lnTo>
                    <a:pt x="142" y="956"/>
                  </a:lnTo>
                  <a:lnTo>
                    <a:pt x="124" y="770"/>
                  </a:lnTo>
                  <a:lnTo>
                    <a:pt x="104" y="586"/>
                  </a:lnTo>
                  <a:lnTo>
                    <a:pt x="81" y="399"/>
                  </a:lnTo>
                  <a:lnTo>
                    <a:pt x="55" y="204"/>
                  </a:lnTo>
                  <a:lnTo>
                    <a:pt x="26" y="0"/>
                  </a:lnTo>
                  <a:lnTo>
                    <a:pt x="20" y="9"/>
                  </a:lnTo>
                  <a:lnTo>
                    <a:pt x="14" y="18"/>
                  </a:lnTo>
                  <a:lnTo>
                    <a:pt x="7" y="29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5b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521240" y="1095480"/>
              <a:ext cx="113400" cy="929160"/>
            </a:xfrm>
            <a:custGeom>
              <a:avLst/>
              <a:gdLst/>
              <a:ahLst/>
              <a:rect l="l" t="t" r="r" b="b"/>
              <a:pathLst>
                <a:path w="171" h="1535">
                  <a:moveTo>
                    <a:pt x="0" y="35"/>
                  </a:moveTo>
                  <a:lnTo>
                    <a:pt x="28" y="205"/>
                  </a:lnTo>
                  <a:lnTo>
                    <a:pt x="53" y="374"/>
                  </a:lnTo>
                  <a:lnTo>
                    <a:pt x="76" y="546"/>
                  </a:lnTo>
                  <a:lnTo>
                    <a:pt x="96" y="721"/>
                  </a:lnTo>
                  <a:lnTo>
                    <a:pt x="113" y="904"/>
                  </a:lnTo>
                  <a:lnTo>
                    <a:pt x="126" y="1096"/>
                  </a:lnTo>
                  <a:lnTo>
                    <a:pt x="136" y="1303"/>
                  </a:lnTo>
                  <a:lnTo>
                    <a:pt x="143" y="1525"/>
                  </a:lnTo>
                  <a:lnTo>
                    <a:pt x="150" y="1527"/>
                  </a:lnTo>
                  <a:lnTo>
                    <a:pt x="157" y="1529"/>
                  </a:lnTo>
                  <a:lnTo>
                    <a:pt x="164" y="1533"/>
                  </a:lnTo>
                  <a:lnTo>
                    <a:pt x="171" y="1535"/>
                  </a:lnTo>
                  <a:lnTo>
                    <a:pt x="163" y="1329"/>
                  </a:lnTo>
                  <a:lnTo>
                    <a:pt x="152" y="1133"/>
                  </a:lnTo>
                  <a:lnTo>
                    <a:pt x="139" y="947"/>
                  </a:lnTo>
                  <a:lnTo>
                    <a:pt x="121" y="764"/>
                  </a:lnTo>
                  <a:lnTo>
                    <a:pt x="102" y="582"/>
                  </a:lnTo>
                  <a:lnTo>
                    <a:pt x="79" y="396"/>
                  </a:lnTo>
                  <a:lnTo>
                    <a:pt x="54" y="204"/>
                  </a:lnTo>
                  <a:lnTo>
                    <a:pt x="27" y="0"/>
                  </a:lnTo>
                  <a:lnTo>
                    <a:pt x="20" y="8"/>
                  </a:lnTo>
                  <a:lnTo>
                    <a:pt x="14" y="17"/>
                  </a:lnTo>
                  <a:lnTo>
                    <a:pt x="7" y="2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6b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524480" y="1100160"/>
              <a:ext cx="113400" cy="919440"/>
            </a:xfrm>
            <a:custGeom>
              <a:avLst/>
              <a:gdLst/>
              <a:ahLst/>
              <a:rect l="l" t="t" r="r" b="b"/>
              <a:pathLst>
                <a:path w="166" h="1524">
                  <a:moveTo>
                    <a:pt x="0" y="32"/>
                  </a:moveTo>
                  <a:lnTo>
                    <a:pt x="27" y="205"/>
                  </a:lnTo>
                  <a:lnTo>
                    <a:pt x="53" y="376"/>
                  </a:lnTo>
                  <a:lnTo>
                    <a:pt x="75" y="545"/>
                  </a:lnTo>
                  <a:lnTo>
                    <a:pt x="94" y="718"/>
                  </a:lnTo>
                  <a:lnTo>
                    <a:pt x="111" y="898"/>
                  </a:lnTo>
                  <a:lnTo>
                    <a:pt x="124" y="1088"/>
                  </a:lnTo>
                  <a:lnTo>
                    <a:pt x="135" y="1292"/>
                  </a:lnTo>
                  <a:lnTo>
                    <a:pt x="140" y="1513"/>
                  </a:lnTo>
                  <a:lnTo>
                    <a:pt x="147" y="1516"/>
                  </a:lnTo>
                  <a:lnTo>
                    <a:pt x="154" y="1518"/>
                  </a:lnTo>
                  <a:lnTo>
                    <a:pt x="160" y="1521"/>
                  </a:lnTo>
                  <a:lnTo>
                    <a:pt x="166" y="1524"/>
                  </a:lnTo>
                  <a:lnTo>
                    <a:pt x="158" y="1318"/>
                  </a:lnTo>
                  <a:lnTo>
                    <a:pt x="146" y="1124"/>
                  </a:lnTo>
                  <a:lnTo>
                    <a:pt x="133" y="939"/>
                  </a:lnTo>
                  <a:lnTo>
                    <a:pt x="117" y="758"/>
                  </a:lnTo>
                  <a:lnTo>
                    <a:pt x="98" y="578"/>
                  </a:lnTo>
                  <a:lnTo>
                    <a:pt x="77" y="395"/>
                  </a:lnTo>
                  <a:lnTo>
                    <a:pt x="53" y="204"/>
                  </a:lnTo>
                  <a:lnTo>
                    <a:pt x="26" y="0"/>
                  </a:lnTo>
                  <a:lnTo>
                    <a:pt x="19" y="8"/>
                  </a:lnTo>
                  <a:lnTo>
                    <a:pt x="12" y="16"/>
                  </a:lnTo>
                  <a:lnTo>
                    <a:pt x="6" y="2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7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532040" y="1107000"/>
              <a:ext cx="111600" cy="910800"/>
            </a:xfrm>
            <a:custGeom>
              <a:avLst/>
              <a:gdLst/>
              <a:ahLst/>
              <a:rect l="l" t="t" r="r" b="b"/>
              <a:pathLst>
                <a:path w="161" h="1510">
                  <a:moveTo>
                    <a:pt x="0" y="28"/>
                  </a:moveTo>
                  <a:lnTo>
                    <a:pt x="28" y="203"/>
                  </a:lnTo>
                  <a:lnTo>
                    <a:pt x="53" y="374"/>
                  </a:lnTo>
                  <a:lnTo>
                    <a:pt x="75" y="542"/>
                  </a:lnTo>
                  <a:lnTo>
                    <a:pt x="95" y="713"/>
                  </a:lnTo>
                  <a:lnTo>
                    <a:pt x="111" y="891"/>
                  </a:lnTo>
                  <a:lnTo>
                    <a:pt x="123" y="1079"/>
                  </a:lnTo>
                  <a:lnTo>
                    <a:pt x="134" y="1281"/>
                  </a:lnTo>
                  <a:lnTo>
                    <a:pt x="140" y="1502"/>
                  </a:lnTo>
                  <a:lnTo>
                    <a:pt x="161" y="1510"/>
                  </a:lnTo>
                  <a:lnTo>
                    <a:pt x="153" y="1304"/>
                  </a:lnTo>
                  <a:lnTo>
                    <a:pt x="142" y="1112"/>
                  </a:lnTo>
                  <a:lnTo>
                    <a:pt x="129" y="930"/>
                  </a:lnTo>
                  <a:lnTo>
                    <a:pt x="113" y="751"/>
                  </a:lnTo>
                  <a:lnTo>
                    <a:pt x="96" y="574"/>
                  </a:lnTo>
                  <a:lnTo>
                    <a:pt x="75" y="393"/>
                  </a:lnTo>
                  <a:lnTo>
                    <a:pt x="52" y="203"/>
                  </a:lnTo>
                  <a:lnTo>
                    <a:pt x="2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3629160" y="1850760"/>
              <a:ext cx="31680" cy="52200"/>
            </a:xfrm>
            <a:custGeom>
              <a:avLst/>
              <a:gdLst/>
              <a:ahLst/>
              <a:rect l="l" t="t" r="r" b="b"/>
              <a:pathLst>
                <a:path w="50" h="83">
                  <a:moveTo>
                    <a:pt x="25" y="0"/>
                  </a:moveTo>
                  <a:lnTo>
                    <a:pt x="35" y="3"/>
                  </a:lnTo>
                  <a:lnTo>
                    <a:pt x="43" y="11"/>
                  </a:lnTo>
                  <a:lnTo>
                    <a:pt x="48" y="25"/>
                  </a:lnTo>
                  <a:lnTo>
                    <a:pt x="50" y="41"/>
                  </a:lnTo>
                  <a:lnTo>
                    <a:pt x="48" y="57"/>
                  </a:lnTo>
                  <a:lnTo>
                    <a:pt x="43" y="70"/>
                  </a:lnTo>
                  <a:lnTo>
                    <a:pt x="35" y="79"/>
                  </a:lnTo>
                  <a:lnTo>
                    <a:pt x="25" y="83"/>
                  </a:lnTo>
                  <a:lnTo>
                    <a:pt x="16" y="79"/>
                  </a:lnTo>
                  <a:lnTo>
                    <a:pt x="8" y="70"/>
                  </a:lnTo>
                  <a:lnTo>
                    <a:pt x="2" y="57"/>
                  </a:lnTo>
                  <a:lnTo>
                    <a:pt x="0" y="41"/>
                  </a:lnTo>
                  <a:lnTo>
                    <a:pt x="2" y="25"/>
                  </a:lnTo>
                  <a:lnTo>
                    <a:pt x="8" y="11"/>
                  </a:lnTo>
                  <a:lnTo>
                    <a:pt x="16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4022280" y="2005200"/>
              <a:ext cx="60480" cy="23040"/>
            </a:xfrm>
            <a:custGeom>
              <a:avLst/>
              <a:gdLst/>
              <a:ahLst/>
              <a:rect l="l" t="t" r="r" b="b"/>
              <a:pathLst>
                <a:path w="91" h="38">
                  <a:moveTo>
                    <a:pt x="42" y="3"/>
                  </a:moveTo>
                  <a:lnTo>
                    <a:pt x="51" y="2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5" y="2"/>
                  </a:lnTo>
                  <a:lnTo>
                    <a:pt x="81" y="3"/>
                  </a:lnTo>
                  <a:lnTo>
                    <a:pt x="87" y="5"/>
                  </a:lnTo>
                  <a:lnTo>
                    <a:pt x="89" y="7"/>
                  </a:lnTo>
                  <a:lnTo>
                    <a:pt x="91" y="11"/>
                  </a:lnTo>
                  <a:lnTo>
                    <a:pt x="91" y="14"/>
                  </a:lnTo>
                  <a:lnTo>
                    <a:pt x="89" y="18"/>
                  </a:lnTo>
                  <a:lnTo>
                    <a:pt x="85" y="21"/>
                  </a:lnTo>
                  <a:lnTo>
                    <a:pt x="80" y="25"/>
                  </a:lnTo>
                  <a:lnTo>
                    <a:pt x="74" y="28"/>
                  </a:lnTo>
                  <a:lnTo>
                    <a:pt x="66" y="31"/>
                  </a:lnTo>
                  <a:lnTo>
                    <a:pt x="58" y="34"/>
                  </a:lnTo>
                  <a:lnTo>
                    <a:pt x="49" y="36"/>
                  </a:lnTo>
                  <a:lnTo>
                    <a:pt x="39" y="38"/>
                  </a:lnTo>
                  <a:lnTo>
                    <a:pt x="31" y="38"/>
                  </a:lnTo>
                  <a:lnTo>
                    <a:pt x="23" y="38"/>
                  </a:lnTo>
                  <a:lnTo>
                    <a:pt x="16" y="38"/>
                  </a:lnTo>
                  <a:lnTo>
                    <a:pt x="10" y="37"/>
                  </a:lnTo>
                  <a:lnTo>
                    <a:pt x="5" y="35"/>
                  </a:lnTo>
                  <a:lnTo>
                    <a:pt x="2" y="33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2" y="22"/>
                  </a:lnTo>
                  <a:lnTo>
                    <a:pt x="6" y="18"/>
                  </a:lnTo>
                  <a:lnTo>
                    <a:pt x="12" y="14"/>
                  </a:lnTo>
                  <a:lnTo>
                    <a:pt x="17" y="11"/>
                  </a:lnTo>
                  <a:lnTo>
                    <a:pt x="24" y="7"/>
                  </a:lnTo>
                  <a:lnTo>
                    <a:pt x="32" y="5"/>
                  </a:lnTo>
                  <a:lnTo>
                    <a:pt x="42" y="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3850200" y="1960560"/>
              <a:ext cx="60840" cy="23040"/>
            </a:xfrm>
            <a:custGeom>
              <a:avLst/>
              <a:gdLst/>
              <a:ahLst/>
              <a:rect l="l" t="t" r="r" b="b"/>
              <a:pathLst>
                <a:path w="90" h="38">
                  <a:moveTo>
                    <a:pt x="42" y="2"/>
                  </a:moveTo>
                  <a:lnTo>
                    <a:pt x="51" y="1"/>
                  </a:lnTo>
                  <a:lnTo>
                    <a:pt x="59" y="0"/>
                  </a:lnTo>
                  <a:lnTo>
                    <a:pt x="67" y="0"/>
                  </a:lnTo>
                  <a:lnTo>
                    <a:pt x="74" y="1"/>
                  </a:lnTo>
                  <a:lnTo>
                    <a:pt x="80" y="2"/>
                  </a:lnTo>
                  <a:lnTo>
                    <a:pt x="85" y="4"/>
                  </a:lnTo>
                  <a:lnTo>
                    <a:pt x="88" y="7"/>
                  </a:lnTo>
                  <a:lnTo>
                    <a:pt x="90" y="10"/>
                  </a:lnTo>
                  <a:lnTo>
                    <a:pt x="90" y="14"/>
                  </a:lnTo>
                  <a:lnTo>
                    <a:pt x="88" y="17"/>
                  </a:lnTo>
                  <a:lnTo>
                    <a:pt x="84" y="20"/>
                  </a:lnTo>
                  <a:lnTo>
                    <a:pt x="80" y="24"/>
                  </a:lnTo>
                  <a:lnTo>
                    <a:pt x="73" y="27"/>
                  </a:lnTo>
                  <a:lnTo>
                    <a:pt x="66" y="31"/>
                  </a:lnTo>
                  <a:lnTo>
                    <a:pt x="58" y="33"/>
                  </a:lnTo>
                  <a:lnTo>
                    <a:pt x="49" y="35"/>
                  </a:lnTo>
                  <a:lnTo>
                    <a:pt x="39" y="37"/>
                  </a:lnTo>
                  <a:lnTo>
                    <a:pt x="30" y="38"/>
                  </a:lnTo>
                  <a:lnTo>
                    <a:pt x="22" y="38"/>
                  </a:lnTo>
                  <a:lnTo>
                    <a:pt x="15" y="37"/>
                  </a:lnTo>
                  <a:lnTo>
                    <a:pt x="9" y="35"/>
                  </a:lnTo>
                  <a:lnTo>
                    <a:pt x="5" y="33"/>
                  </a:lnTo>
                  <a:lnTo>
                    <a:pt x="1" y="31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3" y="20"/>
                  </a:lnTo>
                  <a:lnTo>
                    <a:pt x="6" y="17"/>
                  </a:lnTo>
                  <a:lnTo>
                    <a:pt x="11" y="12"/>
                  </a:lnTo>
                  <a:lnTo>
                    <a:pt x="16" y="10"/>
                  </a:lnTo>
                  <a:lnTo>
                    <a:pt x="24" y="7"/>
                  </a:lnTo>
                  <a:lnTo>
                    <a:pt x="32" y="4"/>
                  </a:lnTo>
                  <a:lnTo>
                    <a:pt x="42" y="2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3672360" y="1870560"/>
              <a:ext cx="37080" cy="48960"/>
            </a:xfrm>
            <a:custGeom>
              <a:avLst/>
              <a:gdLst/>
              <a:ahLst/>
              <a:rect l="l" t="t" r="r" b="b"/>
              <a:pathLst>
                <a:path w="51" h="83">
                  <a:moveTo>
                    <a:pt x="26" y="0"/>
                  </a:moveTo>
                  <a:lnTo>
                    <a:pt x="36" y="4"/>
                  </a:lnTo>
                  <a:lnTo>
                    <a:pt x="44" y="12"/>
                  </a:lnTo>
                  <a:lnTo>
                    <a:pt x="49" y="26"/>
                  </a:lnTo>
                  <a:lnTo>
                    <a:pt x="51" y="42"/>
                  </a:lnTo>
                  <a:lnTo>
                    <a:pt x="49" y="58"/>
                  </a:lnTo>
                  <a:lnTo>
                    <a:pt x="44" y="71"/>
                  </a:lnTo>
                  <a:lnTo>
                    <a:pt x="36" y="80"/>
                  </a:lnTo>
                  <a:lnTo>
                    <a:pt x="26" y="83"/>
                  </a:lnTo>
                  <a:lnTo>
                    <a:pt x="17" y="80"/>
                  </a:lnTo>
                  <a:lnTo>
                    <a:pt x="8" y="71"/>
                  </a:lnTo>
                  <a:lnTo>
                    <a:pt x="3" y="58"/>
                  </a:lnTo>
                  <a:lnTo>
                    <a:pt x="0" y="42"/>
                  </a:lnTo>
                  <a:lnTo>
                    <a:pt x="3" y="26"/>
                  </a:lnTo>
                  <a:lnTo>
                    <a:pt x="8" y="12"/>
                  </a:lnTo>
                  <a:lnTo>
                    <a:pt x="17" y="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4105440" y="2028240"/>
              <a:ext cx="60480" cy="23040"/>
            </a:xfrm>
            <a:custGeom>
              <a:avLst/>
              <a:gdLst/>
              <a:ahLst/>
              <a:rect l="l" t="t" r="r" b="b"/>
              <a:pathLst>
                <a:path w="91" h="38">
                  <a:moveTo>
                    <a:pt x="43" y="3"/>
                  </a:moveTo>
                  <a:lnTo>
                    <a:pt x="52" y="0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5" y="0"/>
                  </a:lnTo>
                  <a:lnTo>
                    <a:pt x="81" y="1"/>
                  </a:lnTo>
                  <a:lnTo>
                    <a:pt x="86" y="4"/>
                  </a:lnTo>
                  <a:lnTo>
                    <a:pt x="89" y="6"/>
                  </a:lnTo>
                  <a:lnTo>
                    <a:pt x="91" y="9"/>
                  </a:lnTo>
                  <a:lnTo>
                    <a:pt x="91" y="13"/>
                  </a:lnTo>
                  <a:lnTo>
                    <a:pt x="89" y="16"/>
                  </a:lnTo>
                  <a:lnTo>
                    <a:pt x="85" y="20"/>
                  </a:lnTo>
                  <a:lnTo>
                    <a:pt x="80" y="24"/>
                  </a:lnTo>
                  <a:lnTo>
                    <a:pt x="74" y="28"/>
                  </a:lnTo>
                  <a:lnTo>
                    <a:pt x="66" y="30"/>
                  </a:lnTo>
                  <a:lnTo>
                    <a:pt x="58" y="34"/>
                  </a:lnTo>
                  <a:lnTo>
                    <a:pt x="48" y="36"/>
                  </a:lnTo>
                  <a:lnTo>
                    <a:pt x="39" y="37"/>
                  </a:lnTo>
                  <a:lnTo>
                    <a:pt x="31" y="38"/>
                  </a:lnTo>
                  <a:lnTo>
                    <a:pt x="23" y="38"/>
                  </a:lnTo>
                  <a:lnTo>
                    <a:pt x="16" y="37"/>
                  </a:lnTo>
                  <a:lnTo>
                    <a:pt x="10" y="36"/>
                  </a:lnTo>
                  <a:lnTo>
                    <a:pt x="5" y="34"/>
                  </a:lnTo>
                  <a:lnTo>
                    <a:pt x="2" y="31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2" y="21"/>
                  </a:lnTo>
                  <a:lnTo>
                    <a:pt x="6" y="18"/>
                  </a:lnTo>
                  <a:lnTo>
                    <a:pt x="12" y="13"/>
                  </a:lnTo>
                  <a:lnTo>
                    <a:pt x="17" y="11"/>
                  </a:lnTo>
                  <a:lnTo>
                    <a:pt x="25" y="7"/>
                  </a:lnTo>
                  <a:lnTo>
                    <a:pt x="33" y="5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3933360" y="1983960"/>
              <a:ext cx="60840" cy="23040"/>
            </a:xfrm>
            <a:custGeom>
              <a:avLst/>
              <a:gdLst/>
              <a:ahLst/>
              <a:rect l="l" t="t" r="r" b="b"/>
              <a:pathLst>
                <a:path w="90" h="38">
                  <a:moveTo>
                    <a:pt x="42" y="2"/>
                  </a:moveTo>
                  <a:lnTo>
                    <a:pt x="51" y="0"/>
                  </a:lnTo>
                  <a:lnTo>
                    <a:pt x="60" y="0"/>
                  </a:lnTo>
                  <a:lnTo>
                    <a:pt x="67" y="0"/>
                  </a:lnTo>
                  <a:lnTo>
                    <a:pt x="75" y="0"/>
                  </a:lnTo>
                  <a:lnTo>
                    <a:pt x="81" y="1"/>
                  </a:lnTo>
                  <a:lnTo>
                    <a:pt x="85" y="3"/>
                  </a:lnTo>
                  <a:lnTo>
                    <a:pt x="89" y="5"/>
                  </a:lnTo>
                  <a:lnTo>
                    <a:pt x="90" y="9"/>
                  </a:lnTo>
                  <a:lnTo>
                    <a:pt x="90" y="12"/>
                  </a:lnTo>
                  <a:lnTo>
                    <a:pt x="88" y="16"/>
                  </a:lnTo>
                  <a:lnTo>
                    <a:pt x="84" y="19"/>
                  </a:lnTo>
                  <a:lnTo>
                    <a:pt x="80" y="24"/>
                  </a:lnTo>
                  <a:lnTo>
                    <a:pt x="73" y="27"/>
                  </a:lnTo>
                  <a:lnTo>
                    <a:pt x="66" y="29"/>
                  </a:lnTo>
                  <a:lnTo>
                    <a:pt x="58" y="33"/>
                  </a:lnTo>
                  <a:lnTo>
                    <a:pt x="49" y="35"/>
                  </a:lnTo>
                  <a:lnTo>
                    <a:pt x="39" y="36"/>
                  </a:lnTo>
                  <a:lnTo>
                    <a:pt x="30" y="38"/>
                  </a:lnTo>
                  <a:lnTo>
                    <a:pt x="22" y="38"/>
                  </a:lnTo>
                  <a:lnTo>
                    <a:pt x="15" y="36"/>
                  </a:lnTo>
                  <a:lnTo>
                    <a:pt x="9" y="35"/>
                  </a:lnTo>
                  <a:lnTo>
                    <a:pt x="5" y="33"/>
                  </a:lnTo>
                  <a:lnTo>
                    <a:pt x="1" y="31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2" y="20"/>
                  </a:lnTo>
                  <a:lnTo>
                    <a:pt x="6" y="17"/>
                  </a:lnTo>
                  <a:lnTo>
                    <a:pt x="11" y="12"/>
                  </a:lnTo>
                  <a:lnTo>
                    <a:pt x="16" y="10"/>
                  </a:lnTo>
                  <a:lnTo>
                    <a:pt x="24" y="6"/>
                  </a:lnTo>
                  <a:lnTo>
                    <a:pt x="32" y="4"/>
                  </a:lnTo>
                  <a:lnTo>
                    <a:pt x="42" y="2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3630960" y="1857240"/>
              <a:ext cx="25200" cy="37800"/>
            </a:xfrm>
            <a:custGeom>
              <a:avLst/>
              <a:gdLst/>
              <a:ahLst/>
              <a:rect l="l" t="t" r="r" b="b"/>
              <a:pathLst>
                <a:path w="37" h="60">
                  <a:moveTo>
                    <a:pt x="18" y="0"/>
                  </a:moveTo>
                  <a:lnTo>
                    <a:pt x="25" y="3"/>
                  </a:lnTo>
                  <a:lnTo>
                    <a:pt x="31" y="8"/>
                  </a:lnTo>
                  <a:lnTo>
                    <a:pt x="36" y="19"/>
                  </a:lnTo>
                  <a:lnTo>
                    <a:pt x="37" y="30"/>
                  </a:lnTo>
                  <a:lnTo>
                    <a:pt x="36" y="42"/>
                  </a:lnTo>
                  <a:lnTo>
                    <a:pt x="31" y="51"/>
                  </a:lnTo>
                  <a:lnTo>
                    <a:pt x="25" y="58"/>
                  </a:lnTo>
                  <a:lnTo>
                    <a:pt x="18" y="60"/>
                  </a:lnTo>
                  <a:lnTo>
                    <a:pt x="11" y="58"/>
                  </a:lnTo>
                  <a:lnTo>
                    <a:pt x="6" y="51"/>
                  </a:lnTo>
                  <a:lnTo>
                    <a:pt x="1" y="42"/>
                  </a:lnTo>
                  <a:lnTo>
                    <a:pt x="0" y="30"/>
                  </a:lnTo>
                  <a:lnTo>
                    <a:pt x="1" y="19"/>
                  </a:lnTo>
                  <a:lnTo>
                    <a:pt x="6" y="8"/>
                  </a:lnTo>
                  <a:lnTo>
                    <a:pt x="11" y="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026600" y="2008440"/>
              <a:ext cx="43560" cy="16200"/>
            </a:xfrm>
            <a:custGeom>
              <a:avLst/>
              <a:gdLst/>
              <a:ahLst/>
              <a:rect l="l" t="t" r="r" b="b"/>
              <a:pathLst>
                <a:path w="67" h="28">
                  <a:moveTo>
                    <a:pt x="32" y="1"/>
                  </a:moveTo>
                  <a:lnTo>
                    <a:pt x="38" y="0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59" y="1"/>
                  </a:lnTo>
                  <a:lnTo>
                    <a:pt x="63" y="2"/>
                  </a:lnTo>
                  <a:lnTo>
                    <a:pt x="66" y="5"/>
                  </a:lnTo>
                  <a:lnTo>
                    <a:pt x="67" y="7"/>
                  </a:lnTo>
                  <a:lnTo>
                    <a:pt x="65" y="13"/>
                  </a:lnTo>
                  <a:lnTo>
                    <a:pt x="59" y="17"/>
                  </a:lnTo>
                  <a:lnTo>
                    <a:pt x="49" y="22"/>
                  </a:lnTo>
                  <a:lnTo>
                    <a:pt x="36" y="25"/>
                  </a:lnTo>
                  <a:lnTo>
                    <a:pt x="29" y="26"/>
                  </a:lnTo>
                  <a:lnTo>
                    <a:pt x="23" y="28"/>
                  </a:lnTo>
                  <a:lnTo>
                    <a:pt x="17" y="28"/>
                  </a:lnTo>
                  <a:lnTo>
                    <a:pt x="12" y="26"/>
                  </a:lnTo>
                  <a:lnTo>
                    <a:pt x="7" y="26"/>
                  </a:lnTo>
                  <a:lnTo>
                    <a:pt x="4" y="24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3" y="15"/>
                  </a:lnTo>
                  <a:lnTo>
                    <a:pt x="8" y="9"/>
                  </a:lnTo>
                  <a:lnTo>
                    <a:pt x="19" y="5"/>
                  </a:lnTo>
                  <a:lnTo>
                    <a:pt x="32" y="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3855960" y="1964160"/>
              <a:ext cx="43920" cy="16200"/>
            </a:xfrm>
            <a:custGeom>
              <a:avLst/>
              <a:gdLst/>
              <a:ahLst/>
              <a:rect l="l" t="t" r="r" b="b"/>
              <a:pathLst>
                <a:path w="65" h="28">
                  <a:moveTo>
                    <a:pt x="29" y="1"/>
                  </a:moveTo>
                  <a:lnTo>
                    <a:pt x="36" y="0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54" y="0"/>
                  </a:lnTo>
                  <a:lnTo>
                    <a:pt x="58" y="1"/>
                  </a:lnTo>
                  <a:lnTo>
                    <a:pt x="62" y="3"/>
                  </a:lnTo>
                  <a:lnTo>
                    <a:pt x="64" y="5"/>
                  </a:lnTo>
                  <a:lnTo>
                    <a:pt x="65" y="7"/>
                  </a:lnTo>
                  <a:lnTo>
                    <a:pt x="63" y="13"/>
                  </a:lnTo>
                  <a:lnTo>
                    <a:pt x="57" y="18"/>
                  </a:lnTo>
                  <a:lnTo>
                    <a:pt x="47" y="22"/>
                  </a:lnTo>
                  <a:lnTo>
                    <a:pt x="34" y="26"/>
                  </a:lnTo>
                  <a:lnTo>
                    <a:pt x="27" y="27"/>
                  </a:lnTo>
                  <a:lnTo>
                    <a:pt x="21" y="28"/>
                  </a:lnTo>
                  <a:lnTo>
                    <a:pt x="16" y="28"/>
                  </a:lnTo>
                  <a:lnTo>
                    <a:pt x="11" y="27"/>
                  </a:lnTo>
                  <a:lnTo>
                    <a:pt x="6" y="27"/>
                  </a:lnTo>
                  <a:lnTo>
                    <a:pt x="3" y="24"/>
                  </a:lnTo>
                  <a:lnTo>
                    <a:pt x="1" y="23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6" y="10"/>
                  </a:lnTo>
                  <a:lnTo>
                    <a:pt x="17" y="5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3677400" y="1875600"/>
              <a:ext cx="25560" cy="34200"/>
            </a:xfrm>
            <a:custGeom>
              <a:avLst/>
              <a:gdLst/>
              <a:ahLst/>
              <a:rect l="l" t="t" r="r" b="b"/>
              <a:pathLst>
                <a:path w="36" h="60">
                  <a:moveTo>
                    <a:pt x="18" y="0"/>
                  </a:moveTo>
                  <a:lnTo>
                    <a:pt x="25" y="2"/>
                  </a:lnTo>
                  <a:lnTo>
                    <a:pt x="31" y="9"/>
                  </a:lnTo>
                  <a:lnTo>
                    <a:pt x="35" y="18"/>
                  </a:lnTo>
                  <a:lnTo>
                    <a:pt x="36" y="30"/>
                  </a:lnTo>
                  <a:lnTo>
                    <a:pt x="35" y="41"/>
                  </a:lnTo>
                  <a:lnTo>
                    <a:pt x="31" y="51"/>
                  </a:lnTo>
                  <a:lnTo>
                    <a:pt x="25" y="57"/>
                  </a:lnTo>
                  <a:lnTo>
                    <a:pt x="18" y="60"/>
                  </a:lnTo>
                  <a:lnTo>
                    <a:pt x="11" y="57"/>
                  </a:lnTo>
                  <a:lnTo>
                    <a:pt x="5" y="51"/>
                  </a:lnTo>
                  <a:lnTo>
                    <a:pt x="1" y="41"/>
                  </a:lnTo>
                  <a:lnTo>
                    <a:pt x="0" y="30"/>
                  </a:lnTo>
                  <a:lnTo>
                    <a:pt x="1" y="18"/>
                  </a:lnTo>
                  <a:lnTo>
                    <a:pt x="5" y="9"/>
                  </a:lnTo>
                  <a:lnTo>
                    <a:pt x="11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4110120" y="2029680"/>
              <a:ext cx="43920" cy="16200"/>
            </a:xfrm>
            <a:custGeom>
              <a:avLst/>
              <a:gdLst/>
              <a:ahLst/>
              <a:rect l="l" t="t" r="r" b="b"/>
              <a:pathLst>
                <a:path w="67" h="26">
                  <a:moveTo>
                    <a:pt x="31" y="1"/>
                  </a:moveTo>
                  <a:lnTo>
                    <a:pt x="38" y="0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0" y="1"/>
                  </a:lnTo>
                  <a:lnTo>
                    <a:pt x="64" y="2"/>
                  </a:lnTo>
                  <a:lnTo>
                    <a:pt x="66" y="4"/>
                  </a:lnTo>
                  <a:lnTo>
                    <a:pt x="67" y="7"/>
                  </a:lnTo>
                  <a:lnTo>
                    <a:pt x="65" y="13"/>
                  </a:lnTo>
                  <a:lnTo>
                    <a:pt x="59" y="17"/>
                  </a:lnTo>
                  <a:lnTo>
                    <a:pt x="49" y="22"/>
                  </a:lnTo>
                  <a:lnTo>
                    <a:pt x="36" y="25"/>
                  </a:lnTo>
                  <a:lnTo>
                    <a:pt x="29" y="26"/>
                  </a:lnTo>
                  <a:lnTo>
                    <a:pt x="23" y="26"/>
                  </a:lnTo>
                  <a:lnTo>
                    <a:pt x="18" y="26"/>
                  </a:lnTo>
                  <a:lnTo>
                    <a:pt x="12" y="26"/>
                  </a:lnTo>
                  <a:lnTo>
                    <a:pt x="7" y="25"/>
                  </a:lnTo>
                  <a:lnTo>
                    <a:pt x="4" y="24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3" y="14"/>
                  </a:lnTo>
                  <a:lnTo>
                    <a:pt x="8" y="9"/>
                  </a:lnTo>
                  <a:lnTo>
                    <a:pt x="19" y="4"/>
                  </a:lnTo>
                  <a:lnTo>
                    <a:pt x="31" y="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3940200" y="1985400"/>
              <a:ext cx="42120" cy="18000"/>
            </a:xfrm>
            <a:custGeom>
              <a:avLst/>
              <a:gdLst/>
              <a:ahLst/>
              <a:rect l="l" t="t" r="r" b="b"/>
              <a:pathLst>
                <a:path w="66" h="27">
                  <a:moveTo>
                    <a:pt x="30" y="1"/>
                  </a:moveTo>
                  <a:lnTo>
                    <a:pt x="37" y="0"/>
                  </a:lnTo>
                  <a:lnTo>
                    <a:pt x="43" y="0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59" y="1"/>
                  </a:lnTo>
                  <a:lnTo>
                    <a:pt x="63" y="2"/>
                  </a:lnTo>
                  <a:lnTo>
                    <a:pt x="65" y="4"/>
                  </a:lnTo>
                  <a:lnTo>
                    <a:pt x="66" y="6"/>
                  </a:lnTo>
                  <a:lnTo>
                    <a:pt x="64" y="12"/>
                  </a:lnTo>
                  <a:lnTo>
                    <a:pt x="58" y="17"/>
                  </a:lnTo>
                  <a:lnTo>
                    <a:pt x="49" y="22"/>
                  </a:lnTo>
                  <a:lnTo>
                    <a:pt x="36" y="25"/>
                  </a:lnTo>
                  <a:lnTo>
                    <a:pt x="29" y="27"/>
                  </a:lnTo>
                  <a:lnTo>
                    <a:pt x="23" y="27"/>
                  </a:lnTo>
                  <a:lnTo>
                    <a:pt x="17" y="27"/>
                  </a:lnTo>
                  <a:lnTo>
                    <a:pt x="12" y="27"/>
                  </a:lnTo>
                  <a:lnTo>
                    <a:pt x="7" y="25"/>
                  </a:lnTo>
                  <a:lnTo>
                    <a:pt x="4" y="24"/>
                  </a:lnTo>
                  <a:lnTo>
                    <a:pt x="2" y="22"/>
                  </a:lnTo>
                  <a:lnTo>
                    <a:pt x="0" y="20"/>
                  </a:lnTo>
                  <a:lnTo>
                    <a:pt x="2" y="14"/>
                  </a:lnTo>
                  <a:lnTo>
                    <a:pt x="8" y="9"/>
                  </a:lnTo>
                  <a:lnTo>
                    <a:pt x="18" y="5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3637080" y="1857240"/>
              <a:ext cx="18360" cy="29520"/>
            </a:xfrm>
            <a:custGeom>
              <a:avLst/>
              <a:gdLst/>
              <a:ahLst/>
              <a:rect l="l" t="t" r="r" b="b"/>
              <a:pathLst>
                <a:path w="28" h="45">
                  <a:moveTo>
                    <a:pt x="14" y="0"/>
                  </a:moveTo>
                  <a:lnTo>
                    <a:pt x="19" y="3"/>
                  </a:lnTo>
                  <a:lnTo>
                    <a:pt x="24" y="7"/>
                  </a:lnTo>
                  <a:lnTo>
                    <a:pt x="26" y="14"/>
                  </a:lnTo>
                  <a:lnTo>
                    <a:pt x="28" y="23"/>
                  </a:lnTo>
                  <a:lnTo>
                    <a:pt x="26" y="33"/>
                  </a:lnTo>
                  <a:lnTo>
                    <a:pt x="24" y="39"/>
                  </a:lnTo>
                  <a:lnTo>
                    <a:pt x="19" y="44"/>
                  </a:lnTo>
                  <a:lnTo>
                    <a:pt x="14" y="45"/>
                  </a:lnTo>
                  <a:lnTo>
                    <a:pt x="8" y="44"/>
                  </a:lnTo>
                  <a:lnTo>
                    <a:pt x="3" y="39"/>
                  </a:lnTo>
                  <a:lnTo>
                    <a:pt x="1" y="33"/>
                  </a:lnTo>
                  <a:lnTo>
                    <a:pt x="0" y="23"/>
                  </a:lnTo>
                  <a:lnTo>
                    <a:pt x="1" y="14"/>
                  </a:lnTo>
                  <a:lnTo>
                    <a:pt x="3" y="7"/>
                  </a:lnTo>
                  <a:lnTo>
                    <a:pt x="8" y="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036680" y="2008440"/>
              <a:ext cx="33480" cy="1476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23" y="1"/>
                  </a:moveTo>
                  <a:lnTo>
                    <a:pt x="34" y="0"/>
                  </a:lnTo>
                  <a:lnTo>
                    <a:pt x="42" y="0"/>
                  </a:lnTo>
                  <a:lnTo>
                    <a:pt x="48" y="1"/>
                  </a:lnTo>
                  <a:lnTo>
                    <a:pt x="50" y="5"/>
                  </a:lnTo>
                  <a:lnTo>
                    <a:pt x="49" y="10"/>
                  </a:lnTo>
                  <a:lnTo>
                    <a:pt x="44" y="13"/>
                  </a:lnTo>
                  <a:lnTo>
                    <a:pt x="36" y="16"/>
                  </a:lnTo>
                  <a:lnTo>
                    <a:pt x="27" y="20"/>
                  </a:lnTo>
                  <a:lnTo>
                    <a:pt x="17" y="21"/>
                  </a:lnTo>
                  <a:lnTo>
                    <a:pt x="8" y="20"/>
                  </a:lnTo>
                  <a:lnTo>
                    <a:pt x="3" y="19"/>
                  </a:lnTo>
                  <a:lnTo>
                    <a:pt x="0" y="15"/>
                  </a:lnTo>
                  <a:lnTo>
                    <a:pt x="2" y="12"/>
                  </a:lnTo>
                  <a:lnTo>
                    <a:pt x="6" y="7"/>
                  </a:lnTo>
                  <a:lnTo>
                    <a:pt x="14" y="4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3867120" y="1964160"/>
              <a:ext cx="32040" cy="14760"/>
            </a:xfrm>
            <a:custGeom>
              <a:avLst/>
              <a:gdLst/>
              <a:ahLst/>
              <a:rect l="l" t="t" r="r" b="b"/>
              <a:pathLst>
                <a:path w="50" h="20">
                  <a:moveTo>
                    <a:pt x="23" y="1"/>
                  </a:moveTo>
                  <a:lnTo>
                    <a:pt x="34" y="0"/>
                  </a:lnTo>
                  <a:lnTo>
                    <a:pt x="42" y="0"/>
                  </a:lnTo>
                  <a:lnTo>
                    <a:pt x="48" y="1"/>
                  </a:lnTo>
                  <a:lnTo>
                    <a:pt x="50" y="4"/>
                  </a:lnTo>
                  <a:lnTo>
                    <a:pt x="49" y="9"/>
                  </a:lnTo>
                  <a:lnTo>
                    <a:pt x="44" y="12"/>
                  </a:lnTo>
                  <a:lnTo>
                    <a:pt x="36" y="16"/>
                  </a:lnTo>
                  <a:lnTo>
                    <a:pt x="27" y="19"/>
                  </a:lnTo>
                  <a:lnTo>
                    <a:pt x="16" y="20"/>
                  </a:lnTo>
                  <a:lnTo>
                    <a:pt x="8" y="19"/>
                  </a:lnTo>
                  <a:lnTo>
                    <a:pt x="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7" y="7"/>
                  </a:lnTo>
                  <a:lnTo>
                    <a:pt x="14" y="3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3686400" y="1875600"/>
              <a:ext cx="17280" cy="29160"/>
            </a:xfrm>
            <a:custGeom>
              <a:avLst/>
              <a:gdLst/>
              <a:ahLst/>
              <a:rect l="l" t="t" r="r" b="b"/>
              <a:pathLst>
                <a:path w="28" h="46">
                  <a:moveTo>
                    <a:pt x="13" y="0"/>
                  </a:moveTo>
                  <a:lnTo>
                    <a:pt x="19" y="2"/>
                  </a:lnTo>
                  <a:lnTo>
                    <a:pt x="24" y="7"/>
                  </a:lnTo>
                  <a:lnTo>
                    <a:pt x="27" y="14"/>
                  </a:lnTo>
                  <a:lnTo>
                    <a:pt x="28" y="23"/>
                  </a:lnTo>
                  <a:lnTo>
                    <a:pt x="27" y="32"/>
                  </a:lnTo>
                  <a:lnTo>
                    <a:pt x="24" y="39"/>
                  </a:lnTo>
                  <a:lnTo>
                    <a:pt x="19" y="44"/>
                  </a:lnTo>
                  <a:lnTo>
                    <a:pt x="13" y="46"/>
                  </a:lnTo>
                  <a:lnTo>
                    <a:pt x="9" y="44"/>
                  </a:lnTo>
                  <a:lnTo>
                    <a:pt x="4" y="39"/>
                  </a:lnTo>
                  <a:lnTo>
                    <a:pt x="1" y="32"/>
                  </a:lnTo>
                  <a:lnTo>
                    <a:pt x="0" y="23"/>
                  </a:lnTo>
                  <a:lnTo>
                    <a:pt x="1" y="14"/>
                  </a:lnTo>
                  <a:lnTo>
                    <a:pt x="4" y="7"/>
                  </a:lnTo>
                  <a:lnTo>
                    <a:pt x="9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120200" y="2029680"/>
              <a:ext cx="33840" cy="1476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23" y="1"/>
                  </a:moveTo>
                  <a:lnTo>
                    <a:pt x="34" y="0"/>
                  </a:lnTo>
                  <a:lnTo>
                    <a:pt x="42" y="0"/>
                  </a:lnTo>
                  <a:lnTo>
                    <a:pt x="48" y="2"/>
                  </a:lnTo>
                  <a:lnTo>
                    <a:pt x="50" y="6"/>
                  </a:lnTo>
                  <a:lnTo>
                    <a:pt x="49" y="9"/>
                  </a:lnTo>
                  <a:lnTo>
                    <a:pt x="44" y="14"/>
                  </a:lnTo>
                  <a:lnTo>
                    <a:pt x="36" y="17"/>
                  </a:lnTo>
                  <a:lnTo>
                    <a:pt x="27" y="20"/>
                  </a:lnTo>
                  <a:lnTo>
                    <a:pt x="16" y="21"/>
                  </a:lnTo>
                  <a:lnTo>
                    <a:pt x="8" y="21"/>
                  </a:lnTo>
                  <a:lnTo>
                    <a:pt x="3" y="20"/>
                  </a:lnTo>
                  <a:lnTo>
                    <a:pt x="0" y="16"/>
                  </a:lnTo>
                  <a:lnTo>
                    <a:pt x="1" y="12"/>
                  </a:lnTo>
                  <a:lnTo>
                    <a:pt x="6" y="8"/>
                  </a:lnTo>
                  <a:lnTo>
                    <a:pt x="14" y="5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3948480" y="1987200"/>
              <a:ext cx="33480" cy="14400"/>
            </a:xfrm>
            <a:custGeom>
              <a:avLst/>
              <a:gdLst/>
              <a:ahLst/>
              <a:rect l="l" t="t" r="r" b="b"/>
              <a:pathLst>
                <a:path w="51" h="21">
                  <a:moveTo>
                    <a:pt x="23" y="1"/>
                  </a:moveTo>
                  <a:lnTo>
                    <a:pt x="34" y="0"/>
                  </a:lnTo>
                  <a:lnTo>
                    <a:pt x="42" y="0"/>
                  </a:lnTo>
                  <a:lnTo>
                    <a:pt x="49" y="3"/>
                  </a:lnTo>
                  <a:lnTo>
                    <a:pt x="51" y="5"/>
                  </a:lnTo>
                  <a:lnTo>
                    <a:pt x="50" y="10"/>
                  </a:lnTo>
                  <a:lnTo>
                    <a:pt x="45" y="14"/>
                  </a:lnTo>
                  <a:lnTo>
                    <a:pt x="37" y="18"/>
                  </a:lnTo>
                  <a:lnTo>
                    <a:pt x="28" y="20"/>
                  </a:lnTo>
                  <a:lnTo>
                    <a:pt x="18" y="21"/>
                  </a:lnTo>
                  <a:lnTo>
                    <a:pt x="9" y="21"/>
                  </a:lnTo>
                  <a:lnTo>
                    <a:pt x="3" y="20"/>
                  </a:lnTo>
                  <a:lnTo>
                    <a:pt x="0" y="16"/>
                  </a:lnTo>
                  <a:lnTo>
                    <a:pt x="1" y="12"/>
                  </a:lnTo>
                  <a:lnTo>
                    <a:pt x="6" y="8"/>
                  </a:lnTo>
                  <a:lnTo>
                    <a:pt x="14" y="5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644280" y="1862280"/>
              <a:ext cx="10080" cy="1440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8" y="0"/>
                  </a:moveTo>
                  <a:lnTo>
                    <a:pt x="11" y="1"/>
                  </a:lnTo>
                  <a:lnTo>
                    <a:pt x="13" y="3"/>
                  </a:lnTo>
                  <a:lnTo>
                    <a:pt x="14" y="8"/>
                  </a:lnTo>
                  <a:lnTo>
                    <a:pt x="15" y="13"/>
                  </a:lnTo>
                  <a:lnTo>
                    <a:pt x="14" y="17"/>
                  </a:lnTo>
                  <a:lnTo>
                    <a:pt x="13" y="22"/>
                  </a:lnTo>
                  <a:lnTo>
                    <a:pt x="11" y="24"/>
                  </a:lnTo>
                  <a:lnTo>
                    <a:pt x="8" y="25"/>
                  </a:lnTo>
                  <a:lnTo>
                    <a:pt x="5" y="24"/>
                  </a:lnTo>
                  <a:lnTo>
                    <a:pt x="3" y="22"/>
                  </a:lnTo>
                  <a:lnTo>
                    <a:pt x="2" y="17"/>
                  </a:lnTo>
                  <a:lnTo>
                    <a:pt x="0" y="13"/>
                  </a:lnTo>
                  <a:lnTo>
                    <a:pt x="2" y="8"/>
                  </a:lnTo>
                  <a:lnTo>
                    <a:pt x="3" y="3"/>
                  </a:lnTo>
                  <a:lnTo>
                    <a:pt x="5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049280" y="2011680"/>
              <a:ext cx="18720" cy="6120"/>
            </a:xfrm>
            <a:custGeom>
              <a:avLst/>
              <a:gdLst/>
              <a:ahLst/>
              <a:rect l="l" t="t" r="r" b="b"/>
              <a:pathLst>
                <a:path w="28" h="11">
                  <a:moveTo>
                    <a:pt x="13" y="1"/>
                  </a:moveTo>
                  <a:lnTo>
                    <a:pt x="19" y="0"/>
                  </a:lnTo>
                  <a:lnTo>
                    <a:pt x="23" y="0"/>
                  </a:lnTo>
                  <a:lnTo>
                    <a:pt x="27" y="1"/>
                  </a:lnTo>
                  <a:lnTo>
                    <a:pt x="28" y="3"/>
                  </a:lnTo>
                  <a:lnTo>
                    <a:pt x="27" y="6"/>
                  </a:lnTo>
                  <a:lnTo>
                    <a:pt x="24" y="7"/>
                  </a:lnTo>
                  <a:lnTo>
                    <a:pt x="20" y="9"/>
                  </a:lnTo>
                  <a:lnTo>
                    <a:pt x="15" y="10"/>
                  </a:lnTo>
                  <a:lnTo>
                    <a:pt x="9" y="11"/>
                  </a:lnTo>
                  <a:lnTo>
                    <a:pt x="5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6"/>
                  </a:lnTo>
                  <a:lnTo>
                    <a:pt x="4" y="4"/>
                  </a:lnTo>
                  <a:lnTo>
                    <a:pt x="8" y="2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3877560" y="1968840"/>
              <a:ext cx="18360" cy="4680"/>
            </a:xfrm>
            <a:custGeom>
              <a:avLst/>
              <a:gdLst/>
              <a:ahLst/>
              <a:rect l="l" t="t" r="r" b="b"/>
              <a:pathLst>
                <a:path w="29" h="12">
                  <a:moveTo>
                    <a:pt x="13" y="0"/>
                  </a:moveTo>
                  <a:lnTo>
                    <a:pt x="19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29" y="2"/>
                  </a:lnTo>
                  <a:lnTo>
                    <a:pt x="28" y="5"/>
                  </a:lnTo>
                  <a:lnTo>
                    <a:pt x="25" y="7"/>
                  </a:lnTo>
                  <a:lnTo>
                    <a:pt x="21" y="9"/>
                  </a:lnTo>
                  <a:lnTo>
                    <a:pt x="15" y="10"/>
                  </a:lnTo>
                  <a:lnTo>
                    <a:pt x="10" y="12"/>
                  </a:lnTo>
                  <a:lnTo>
                    <a:pt x="6" y="12"/>
                  </a:lnTo>
                  <a:lnTo>
                    <a:pt x="2" y="10"/>
                  </a:lnTo>
                  <a:lnTo>
                    <a:pt x="0" y="8"/>
                  </a:lnTo>
                  <a:lnTo>
                    <a:pt x="1" y="6"/>
                  </a:lnTo>
                  <a:lnTo>
                    <a:pt x="4" y="4"/>
                  </a:lnTo>
                  <a:lnTo>
                    <a:pt x="8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689280" y="1878840"/>
              <a:ext cx="11880" cy="1440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8" y="0"/>
                  </a:moveTo>
                  <a:lnTo>
                    <a:pt x="12" y="1"/>
                  </a:lnTo>
                  <a:lnTo>
                    <a:pt x="14" y="3"/>
                  </a:lnTo>
                  <a:lnTo>
                    <a:pt x="15" y="8"/>
                  </a:lnTo>
                  <a:lnTo>
                    <a:pt x="16" y="12"/>
                  </a:lnTo>
                  <a:lnTo>
                    <a:pt x="15" y="17"/>
                  </a:lnTo>
                  <a:lnTo>
                    <a:pt x="14" y="22"/>
                  </a:lnTo>
                  <a:lnTo>
                    <a:pt x="12" y="24"/>
                  </a:lnTo>
                  <a:lnTo>
                    <a:pt x="8" y="25"/>
                  </a:lnTo>
                  <a:lnTo>
                    <a:pt x="5" y="24"/>
                  </a:lnTo>
                  <a:lnTo>
                    <a:pt x="2" y="22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1" y="8"/>
                  </a:lnTo>
                  <a:lnTo>
                    <a:pt x="2" y="3"/>
                  </a:lnTo>
                  <a:lnTo>
                    <a:pt x="5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4132080" y="2034720"/>
              <a:ext cx="18720" cy="468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13" y="0"/>
                  </a:moveTo>
                  <a:lnTo>
                    <a:pt x="18" y="0"/>
                  </a:lnTo>
                  <a:lnTo>
                    <a:pt x="23" y="0"/>
                  </a:lnTo>
                  <a:lnTo>
                    <a:pt x="27" y="1"/>
                  </a:lnTo>
                  <a:lnTo>
                    <a:pt x="28" y="2"/>
                  </a:lnTo>
                  <a:lnTo>
                    <a:pt x="28" y="4"/>
                  </a:lnTo>
                  <a:lnTo>
                    <a:pt x="25" y="7"/>
                  </a:lnTo>
                  <a:lnTo>
                    <a:pt x="21" y="9"/>
                  </a:lnTo>
                  <a:lnTo>
                    <a:pt x="16" y="10"/>
                  </a:lnTo>
                  <a:lnTo>
                    <a:pt x="10" y="10"/>
                  </a:lnTo>
                  <a:lnTo>
                    <a:pt x="6" y="10"/>
                  </a:lnTo>
                  <a:lnTo>
                    <a:pt x="2" y="9"/>
                  </a:lnTo>
                  <a:lnTo>
                    <a:pt x="0" y="8"/>
                  </a:lnTo>
                  <a:lnTo>
                    <a:pt x="1" y="5"/>
                  </a:lnTo>
                  <a:lnTo>
                    <a:pt x="4" y="3"/>
                  </a:lnTo>
                  <a:lnTo>
                    <a:pt x="8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3960360" y="1990080"/>
              <a:ext cx="18360" cy="504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13" y="0"/>
                  </a:moveTo>
                  <a:lnTo>
                    <a:pt x="17" y="0"/>
                  </a:lnTo>
                  <a:lnTo>
                    <a:pt x="22" y="0"/>
                  </a:lnTo>
                  <a:lnTo>
                    <a:pt x="26" y="1"/>
                  </a:lnTo>
                  <a:lnTo>
                    <a:pt x="28" y="2"/>
                  </a:lnTo>
                  <a:lnTo>
                    <a:pt x="27" y="5"/>
                  </a:lnTo>
                  <a:lnTo>
                    <a:pt x="24" y="7"/>
                  </a:lnTo>
                  <a:lnTo>
                    <a:pt x="20" y="9"/>
                  </a:lnTo>
                  <a:lnTo>
                    <a:pt x="14" y="10"/>
                  </a:lnTo>
                  <a:lnTo>
                    <a:pt x="9" y="10"/>
                  </a:lnTo>
                  <a:lnTo>
                    <a:pt x="5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4" y="2"/>
                  </a:lnTo>
                  <a:lnTo>
                    <a:pt x="8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" descr=""/>
            <p:cNvPicPr/>
            <p:nvPr/>
          </p:nvPicPr>
          <p:blipFill>
            <a:blip r:embed="rId2"/>
            <a:stretch/>
          </p:blipFill>
          <p:spPr>
            <a:xfrm>
              <a:off x="3276720" y="2198880"/>
              <a:ext cx="156888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3654720" y="1279800"/>
              <a:ext cx="672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Arial"/>
                </a:rPr>
                <a:t>N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2351160" y="42418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71840" y="41990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5400000">
            <a:off x="2533680" y="2869920"/>
            <a:ext cx="2790720" cy="3273120"/>
          </a:xfrm>
          <a:custGeom>
            <a:avLst/>
            <a:gdLst/>
            <a:ahLst/>
            <a:rect l="l" t="t" r="r" b="b"/>
            <a:pathLst>
              <a:path w="1800" h="1202">
                <a:moveTo>
                  <a:pt x="106" y="470"/>
                </a:moveTo>
                <a:lnTo>
                  <a:pt x="106" y="470"/>
                </a:lnTo>
                <a:lnTo>
                  <a:pt x="116" y="434"/>
                </a:lnTo>
                <a:lnTo>
                  <a:pt x="126" y="402"/>
                </a:lnTo>
                <a:lnTo>
                  <a:pt x="138" y="374"/>
                </a:lnTo>
                <a:lnTo>
                  <a:pt x="154" y="348"/>
                </a:lnTo>
                <a:lnTo>
                  <a:pt x="170" y="328"/>
                </a:lnTo>
                <a:lnTo>
                  <a:pt x="186" y="310"/>
                </a:lnTo>
                <a:lnTo>
                  <a:pt x="204" y="296"/>
                </a:lnTo>
                <a:lnTo>
                  <a:pt x="224" y="286"/>
                </a:lnTo>
                <a:lnTo>
                  <a:pt x="244" y="278"/>
                </a:lnTo>
                <a:lnTo>
                  <a:pt x="262" y="272"/>
                </a:lnTo>
                <a:lnTo>
                  <a:pt x="282" y="270"/>
                </a:lnTo>
                <a:lnTo>
                  <a:pt x="302" y="270"/>
                </a:lnTo>
                <a:lnTo>
                  <a:pt x="320" y="272"/>
                </a:lnTo>
                <a:lnTo>
                  <a:pt x="338" y="278"/>
                </a:lnTo>
                <a:lnTo>
                  <a:pt x="354" y="284"/>
                </a:lnTo>
                <a:lnTo>
                  <a:pt x="370" y="292"/>
                </a:lnTo>
                <a:lnTo>
                  <a:pt x="370" y="292"/>
                </a:lnTo>
                <a:lnTo>
                  <a:pt x="380" y="276"/>
                </a:lnTo>
                <a:lnTo>
                  <a:pt x="394" y="258"/>
                </a:lnTo>
                <a:lnTo>
                  <a:pt x="412" y="240"/>
                </a:lnTo>
                <a:lnTo>
                  <a:pt x="432" y="220"/>
                </a:lnTo>
                <a:lnTo>
                  <a:pt x="458" y="200"/>
                </a:lnTo>
                <a:lnTo>
                  <a:pt x="484" y="182"/>
                </a:lnTo>
                <a:lnTo>
                  <a:pt x="514" y="166"/>
                </a:lnTo>
                <a:lnTo>
                  <a:pt x="544" y="152"/>
                </a:lnTo>
                <a:lnTo>
                  <a:pt x="574" y="142"/>
                </a:lnTo>
                <a:lnTo>
                  <a:pt x="606" y="136"/>
                </a:lnTo>
                <a:lnTo>
                  <a:pt x="622" y="134"/>
                </a:lnTo>
                <a:lnTo>
                  <a:pt x="638" y="132"/>
                </a:lnTo>
                <a:lnTo>
                  <a:pt x="652" y="134"/>
                </a:lnTo>
                <a:lnTo>
                  <a:pt x="668" y="136"/>
                </a:lnTo>
                <a:lnTo>
                  <a:pt x="682" y="140"/>
                </a:lnTo>
                <a:lnTo>
                  <a:pt x="698" y="144"/>
                </a:lnTo>
                <a:lnTo>
                  <a:pt x="712" y="152"/>
                </a:lnTo>
                <a:lnTo>
                  <a:pt x="724" y="160"/>
                </a:lnTo>
                <a:lnTo>
                  <a:pt x="738" y="170"/>
                </a:lnTo>
                <a:lnTo>
                  <a:pt x="750" y="182"/>
                </a:lnTo>
                <a:lnTo>
                  <a:pt x="760" y="196"/>
                </a:lnTo>
                <a:lnTo>
                  <a:pt x="772" y="214"/>
                </a:lnTo>
                <a:lnTo>
                  <a:pt x="772" y="214"/>
                </a:lnTo>
                <a:lnTo>
                  <a:pt x="778" y="200"/>
                </a:lnTo>
                <a:lnTo>
                  <a:pt x="790" y="188"/>
                </a:lnTo>
                <a:lnTo>
                  <a:pt x="802" y="176"/>
                </a:lnTo>
                <a:lnTo>
                  <a:pt x="818" y="168"/>
                </a:lnTo>
                <a:lnTo>
                  <a:pt x="836" y="164"/>
                </a:lnTo>
                <a:lnTo>
                  <a:pt x="852" y="162"/>
                </a:lnTo>
                <a:lnTo>
                  <a:pt x="860" y="164"/>
                </a:lnTo>
                <a:lnTo>
                  <a:pt x="868" y="166"/>
                </a:lnTo>
                <a:lnTo>
                  <a:pt x="876" y="170"/>
                </a:lnTo>
                <a:lnTo>
                  <a:pt x="884" y="174"/>
                </a:lnTo>
                <a:lnTo>
                  <a:pt x="884" y="174"/>
                </a:lnTo>
                <a:lnTo>
                  <a:pt x="890" y="152"/>
                </a:lnTo>
                <a:lnTo>
                  <a:pt x="900" y="132"/>
                </a:lnTo>
                <a:lnTo>
                  <a:pt x="910" y="112"/>
                </a:lnTo>
                <a:lnTo>
                  <a:pt x="924" y="94"/>
                </a:lnTo>
                <a:lnTo>
                  <a:pt x="938" y="78"/>
                </a:lnTo>
                <a:lnTo>
                  <a:pt x="956" y="64"/>
                </a:lnTo>
                <a:lnTo>
                  <a:pt x="972" y="50"/>
                </a:lnTo>
                <a:lnTo>
                  <a:pt x="992" y="40"/>
                </a:lnTo>
                <a:lnTo>
                  <a:pt x="1010" y="30"/>
                </a:lnTo>
                <a:lnTo>
                  <a:pt x="1032" y="20"/>
                </a:lnTo>
                <a:lnTo>
                  <a:pt x="1052" y="14"/>
                </a:lnTo>
                <a:lnTo>
                  <a:pt x="1074" y="8"/>
                </a:lnTo>
                <a:lnTo>
                  <a:pt x="1096" y="4"/>
                </a:lnTo>
                <a:lnTo>
                  <a:pt x="1116" y="2"/>
                </a:lnTo>
                <a:lnTo>
                  <a:pt x="1138" y="0"/>
                </a:lnTo>
                <a:lnTo>
                  <a:pt x="1160" y="0"/>
                </a:lnTo>
                <a:lnTo>
                  <a:pt x="1180" y="2"/>
                </a:lnTo>
                <a:lnTo>
                  <a:pt x="1200" y="6"/>
                </a:lnTo>
                <a:lnTo>
                  <a:pt x="1220" y="10"/>
                </a:lnTo>
                <a:lnTo>
                  <a:pt x="1238" y="16"/>
                </a:lnTo>
                <a:lnTo>
                  <a:pt x="1256" y="24"/>
                </a:lnTo>
                <a:lnTo>
                  <a:pt x="1270" y="32"/>
                </a:lnTo>
                <a:lnTo>
                  <a:pt x="1284" y="42"/>
                </a:lnTo>
                <a:lnTo>
                  <a:pt x="1298" y="54"/>
                </a:lnTo>
                <a:lnTo>
                  <a:pt x="1308" y="66"/>
                </a:lnTo>
                <a:lnTo>
                  <a:pt x="1316" y="80"/>
                </a:lnTo>
                <a:lnTo>
                  <a:pt x="1322" y="96"/>
                </a:lnTo>
                <a:lnTo>
                  <a:pt x="1326" y="114"/>
                </a:lnTo>
                <a:lnTo>
                  <a:pt x="1326" y="132"/>
                </a:lnTo>
                <a:lnTo>
                  <a:pt x="1324" y="150"/>
                </a:lnTo>
                <a:lnTo>
                  <a:pt x="1318" y="172"/>
                </a:lnTo>
                <a:lnTo>
                  <a:pt x="1310" y="194"/>
                </a:lnTo>
                <a:lnTo>
                  <a:pt x="1310" y="194"/>
                </a:lnTo>
                <a:lnTo>
                  <a:pt x="1322" y="186"/>
                </a:lnTo>
                <a:lnTo>
                  <a:pt x="1332" y="180"/>
                </a:lnTo>
                <a:lnTo>
                  <a:pt x="1342" y="174"/>
                </a:lnTo>
                <a:lnTo>
                  <a:pt x="1354" y="172"/>
                </a:lnTo>
                <a:lnTo>
                  <a:pt x="1364" y="170"/>
                </a:lnTo>
                <a:lnTo>
                  <a:pt x="1374" y="168"/>
                </a:lnTo>
                <a:lnTo>
                  <a:pt x="1386" y="170"/>
                </a:lnTo>
                <a:lnTo>
                  <a:pt x="1394" y="170"/>
                </a:lnTo>
                <a:lnTo>
                  <a:pt x="1404" y="174"/>
                </a:lnTo>
                <a:lnTo>
                  <a:pt x="1412" y="178"/>
                </a:lnTo>
                <a:lnTo>
                  <a:pt x="1420" y="186"/>
                </a:lnTo>
                <a:lnTo>
                  <a:pt x="1428" y="192"/>
                </a:lnTo>
                <a:lnTo>
                  <a:pt x="1434" y="202"/>
                </a:lnTo>
                <a:lnTo>
                  <a:pt x="1440" y="212"/>
                </a:lnTo>
                <a:lnTo>
                  <a:pt x="1444" y="224"/>
                </a:lnTo>
                <a:lnTo>
                  <a:pt x="1446" y="236"/>
                </a:lnTo>
                <a:lnTo>
                  <a:pt x="1446" y="236"/>
                </a:lnTo>
                <a:lnTo>
                  <a:pt x="1462" y="234"/>
                </a:lnTo>
                <a:lnTo>
                  <a:pt x="1476" y="232"/>
                </a:lnTo>
                <a:lnTo>
                  <a:pt x="1488" y="232"/>
                </a:lnTo>
                <a:lnTo>
                  <a:pt x="1502" y="232"/>
                </a:lnTo>
                <a:lnTo>
                  <a:pt x="1514" y="234"/>
                </a:lnTo>
                <a:lnTo>
                  <a:pt x="1528" y="238"/>
                </a:lnTo>
                <a:lnTo>
                  <a:pt x="1550" y="248"/>
                </a:lnTo>
                <a:lnTo>
                  <a:pt x="1572" y="262"/>
                </a:lnTo>
                <a:lnTo>
                  <a:pt x="1592" y="280"/>
                </a:lnTo>
                <a:lnTo>
                  <a:pt x="1610" y="300"/>
                </a:lnTo>
                <a:lnTo>
                  <a:pt x="1624" y="322"/>
                </a:lnTo>
                <a:lnTo>
                  <a:pt x="1636" y="348"/>
                </a:lnTo>
                <a:lnTo>
                  <a:pt x="1646" y="374"/>
                </a:lnTo>
                <a:lnTo>
                  <a:pt x="1652" y="402"/>
                </a:lnTo>
                <a:lnTo>
                  <a:pt x="1656" y="430"/>
                </a:lnTo>
                <a:lnTo>
                  <a:pt x="1658" y="456"/>
                </a:lnTo>
                <a:lnTo>
                  <a:pt x="1654" y="484"/>
                </a:lnTo>
                <a:lnTo>
                  <a:pt x="1648" y="510"/>
                </a:lnTo>
                <a:lnTo>
                  <a:pt x="1638" y="534"/>
                </a:lnTo>
                <a:lnTo>
                  <a:pt x="1638" y="534"/>
                </a:lnTo>
                <a:lnTo>
                  <a:pt x="1656" y="526"/>
                </a:lnTo>
                <a:lnTo>
                  <a:pt x="1674" y="524"/>
                </a:lnTo>
                <a:lnTo>
                  <a:pt x="1692" y="524"/>
                </a:lnTo>
                <a:lnTo>
                  <a:pt x="1708" y="528"/>
                </a:lnTo>
                <a:lnTo>
                  <a:pt x="1724" y="536"/>
                </a:lnTo>
                <a:lnTo>
                  <a:pt x="1738" y="546"/>
                </a:lnTo>
                <a:lnTo>
                  <a:pt x="1750" y="558"/>
                </a:lnTo>
                <a:lnTo>
                  <a:pt x="1762" y="572"/>
                </a:lnTo>
                <a:lnTo>
                  <a:pt x="1774" y="588"/>
                </a:lnTo>
                <a:lnTo>
                  <a:pt x="1782" y="604"/>
                </a:lnTo>
                <a:lnTo>
                  <a:pt x="1790" y="622"/>
                </a:lnTo>
                <a:lnTo>
                  <a:pt x="1794" y="640"/>
                </a:lnTo>
                <a:lnTo>
                  <a:pt x="1798" y="660"/>
                </a:lnTo>
                <a:lnTo>
                  <a:pt x="1800" y="678"/>
                </a:lnTo>
                <a:lnTo>
                  <a:pt x="1800" y="696"/>
                </a:lnTo>
                <a:lnTo>
                  <a:pt x="1796" y="714"/>
                </a:lnTo>
                <a:lnTo>
                  <a:pt x="1796" y="714"/>
                </a:lnTo>
                <a:lnTo>
                  <a:pt x="1790" y="738"/>
                </a:lnTo>
                <a:lnTo>
                  <a:pt x="1782" y="760"/>
                </a:lnTo>
                <a:lnTo>
                  <a:pt x="1774" y="782"/>
                </a:lnTo>
                <a:lnTo>
                  <a:pt x="1764" y="802"/>
                </a:lnTo>
                <a:lnTo>
                  <a:pt x="1754" y="820"/>
                </a:lnTo>
                <a:lnTo>
                  <a:pt x="1744" y="838"/>
                </a:lnTo>
                <a:lnTo>
                  <a:pt x="1732" y="854"/>
                </a:lnTo>
                <a:lnTo>
                  <a:pt x="1720" y="868"/>
                </a:lnTo>
                <a:lnTo>
                  <a:pt x="1694" y="894"/>
                </a:lnTo>
                <a:lnTo>
                  <a:pt x="1666" y="916"/>
                </a:lnTo>
                <a:lnTo>
                  <a:pt x="1638" y="934"/>
                </a:lnTo>
                <a:lnTo>
                  <a:pt x="1608" y="948"/>
                </a:lnTo>
                <a:lnTo>
                  <a:pt x="1580" y="958"/>
                </a:lnTo>
                <a:lnTo>
                  <a:pt x="1552" y="966"/>
                </a:lnTo>
                <a:lnTo>
                  <a:pt x="1524" y="970"/>
                </a:lnTo>
                <a:lnTo>
                  <a:pt x="1498" y="972"/>
                </a:lnTo>
                <a:lnTo>
                  <a:pt x="1474" y="972"/>
                </a:lnTo>
                <a:lnTo>
                  <a:pt x="1454" y="970"/>
                </a:lnTo>
                <a:lnTo>
                  <a:pt x="1436" y="966"/>
                </a:lnTo>
                <a:lnTo>
                  <a:pt x="1422" y="960"/>
                </a:lnTo>
                <a:lnTo>
                  <a:pt x="1422" y="960"/>
                </a:lnTo>
                <a:lnTo>
                  <a:pt x="1420" y="972"/>
                </a:lnTo>
                <a:lnTo>
                  <a:pt x="1418" y="986"/>
                </a:lnTo>
                <a:lnTo>
                  <a:pt x="1412" y="998"/>
                </a:lnTo>
                <a:lnTo>
                  <a:pt x="1404" y="1012"/>
                </a:lnTo>
                <a:lnTo>
                  <a:pt x="1384" y="1040"/>
                </a:lnTo>
                <a:lnTo>
                  <a:pt x="1360" y="1068"/>
                </a:lnTo>
                <a:lnTo>
                  <a:pt x="1336" y="1094"/>
                </a:lnTo>
                <a:lnTo>
                  <a:pt x="1310" y="1116"/>
                </a:lnTo>
                <a:lnTo>
                  <a:pt x="1286" y="1134"/>
                </a:lnTo>
                <a:lnTo>
                  <a:pt x="1268" y="1146"/>
                </a:lnTo>
                <a:lnTo>
                  <a:pt x="1268" y="1146"/>
                </a:lnTo>
                <a:lnTo>
                  <a:pt x="1242" y="1158"/>
                </a:lnTo>
                <a:lnTo>
                  <a:pt x="1216" y="1170"/>
                </a:lnTo>
                <a:lnTo>
                  <a:pt x="1188" y="1180"/>
                </a:lnTo>
                <a:lnTo>
                  <a:pt x="1160" y="1188"/>
                </a:lnTo>
                <a:lnTo>
                  <a:pt x="1132" y="1194"/>
                </a:lnTo>
                <a:lnTo>
                  <a:pt x="1102" y="1200"/>
                </a:lnTo>
                <a:lnTo>
                  <a:pt x="1074" y="1202"/>
                </a:lnTo>
                <a:lnTo>
                  <a:pt x="1044" y="1202"/>
                </a:lnTo>
                <a:lnTo>
                  <a:pt x="1016" y="1198"/>
                </a:lnTo>
                <a:lnTo>
                  <a:pt x="990" y="1192"/>
                </a:lnTo>
                <a:lnTo>
                  <a:pt x="964" y="1184"/>
                </a:lnTo>
                <a:lnTo>
                  <a:pt x="938" y="1172"/>
                </a:lnTo>
                <a:lnTo>
                  <a:pt x="916" y="1156"/>
                </a:lnTo>
                <a:lnTo>
                  <a:pt x="894" y="1136"/>
                </a:lnTo>
                <a:lnTo>
                  <a:pt x="876" y="1112"/>
                </a:lnTo>
                <a:lnTo>
                  <a:pt x="858" y="1084"/>
                </a:lnTo>
                <a:lnTo>
                  <a:pt x="858" y="1084"/>
                </a:lnTo>
                <a:lnTo>
                  <a:pt x="848" y="1100"/>
                </a:lnTo>
                <a:lnTo>
                  <a:pt x="832" y="1112"/>
                </a:lnTo>
                <a:lnTo>
                  <a:pt x="816" y="1124"/>
                </a:lnTo>
                <a:lnTo>
                  <a:pt x="796" y="1134"/>
                </a:lnTo>
                <a:lnTo>
                  <a:pt x="774" y="1142"/>
                </a:lnTo>
                <a:lnTo>
                  <a:pt x="750" y="1148"/>
                </a:lnTo>
                <a:lnTo>
                  <a:pt x="728" y="1152"/>
                </a:lnTo>
                <a:lnTo>
                  <a:pt x="704" y="1154"/>
                </a:lnTo>
                <a:lnTo>
                  <a:pt x="682" y="1152"/>
                </a:lnTo>
                <a:lnTo>
                  <a:pt x="660" y="1148"/>
                </a:lnTo>
                <a:lnTo>
                  <a:pt x="640" y="1142"/>
                </a:lnTo>
                <a:lnTo>
                  <a:pt x="622" y="1132"/>
                </a:lnTo>
                <a:lnTo>
                  <a:pt x="608" y="1120"/>
                </a:lnTo>
                <a:lnTo>
                  <a:pt x="602" y="1112"/>
                </a:lnTo>
                <a:lnTo>
                  <a:pt x="596" y="1104"/>
                </a:lnTo>
                <a:lnTo>
                  <a:pt x="592" y="1094"/>
                </a:lnTo>
                <a:lnTo>
                  <a:pt x="590" y="1084"/>
                </a:lnTo>
                <a:lnTo>
                  <a:pt x="588" y="1072"/>
                </a:lnTo>
                <a:lnTo>
                  <a:pt x="586" y="1060"/>
                </a:lnTo>
                <a:lnTo>
                  <a:pt x="586" y="1060"/>
                </a:lnTo>
                <a:lnTo>
                  <a:pt x="562" y="1062"/>
                </a:lnTo>
                <a:lnTo>
                  <a:pt x="538" y="1064"/>
                </a:lnTo>
                <a:lnTo>
                  <a:pt x="516" y="1064"/>
                </a:lnTo>
                <a:lnTo>
                  <a:pt x="494" y="1062"/>
                </a:lnTo>
                <a:lnTo>
                  <a:pt x="474" y="1060"/>
                </a:lnTo>
                <a:lnTo>
                  <a:pt x="454" y="1056"/>
                </a:lnTo>
                <a:lnTo>
                  <a:pt x="436" y="1050"/>
                </a:lnTo>
                <a:lnTo>
                  <a:pt x="418" y="1044"/>
                </a:lnTo>
                <a:lnTo>
                  <a:pt x="402" y="1036"/>
                </a:lnTo>
                <a:lnTo>
                  <a:pt x="386" y="1028"/>
                </a:lnTo>
                <a:lnTo>
                  <a:pt x="356" y="1008"/>
                </a:lnTo>
                <a:lnTo>
                  <a:pt x="332" y="986"/>
                </a:lnTo>
                <a:lnTo>
                  <a:pt x="310" y="962"/>
                </a:lnTo>
                <a:lnTo>
                  <a:pt x="292" y="936"/>
                </a:lnTo>
                <a:lnTo>
                  <a:pt x="276" y="912"/>
                </a:lnTo>
                <a:lnTo>
                  <a:pt x="264" y="886"/>
                </a:lnTo>
                <a:lnTo>
                  <a:pt x="256" y="862"/>
                </a:lnTo>
                <a:lnTo>
                  <a:pt x="252" y="840"/>
                </a:lnTo>
                <a:lnTo>
                  <a:pt x="248" y="822"/>
                </a:lnTo>
                <a:lnTo>
                  <a:pt x="250" y="806"/>
                </a:lnTo>
                <a:lnTo>
                  <a:pt x="252" y="794"/>
                </a:lnTo>
                <a:lnTo>
                  <a:pt x="252" y="794"/>
                </a:lnTo>
                <a:lnTo>
                  <a:pt x="230" y="800"/>
                </a:lnTo>
                <a:lnTo>
                  <a:pt x="206" y="802"/>
                </a:lnTo>
                <a:lnTo>
                  <a:pt x="186" y="802"/>
                </a:lnTo>
                <a:lnTo>
                  <a:pt x="164" y="800"/>
                </a:lnTo>
                <a:lnTo>
                  <a:pt x="146" y="794"/>
                </a:lnTo>
                <a:lnTo>
                  <a:pt x="128" y="788"/>
                </a:lnTo>
                <a:lnTo>
                  <a:pt x="110" y="778"/>
                </a:lnTo>
                <a:lnTo>
                  <a:pt x="94" y="768"/>
                </a:lnTo>
                <a:lnTo>
                  <a:pt x="78" y="756"/>
                </a:lnTo>
                <a:lnTo>
                  <a:pt x="66" y="742"/>
                </a:lnTo>
                <a:lnTo>
                  <a:pt x="52" y="726"/>
                </a:lnTo>
                <a:lnTo>
                  <a:pt x="42" y="710"/>
                </a:lnTo>
                <a:lnTo>
                  <a:pt x="32" y="692"/>
                </a:lnTo>
                <a:lnTo>
                  <a:pt x="22" y="674"/>
                </a:lnTo>
                <a:lnTo>
                  <a:pt x="16" y="656"/>
                </a:lnTo>
                <a:lnTo>
                  <a:pt x="10" y="636"/>
                </a:lnTo>
                <a:lnTo>
                  <a:pt x="4" y="616"/>
                </a:lnTo>
                <a:lnTo>
                  <a:pt x="2" y="596"/>
                </a:lnTo>
                <a:lnTo>
                  <a:pt x="0" y="578"/>
                </a:lnTo>
                <a:lnTo>
                  <a:pt x="0" y="558"/>
                </a:lnTo>
                <a:lnTo>
                  <a:pt x="2" y="538"/>
                </a:lnTo>
                <a:lnTo>
                  <a:pt x="4" y="520"/>
                </a:lnTo>
                <a:lnTo>
                  <a:pt x="10" y="502"/>
                </a:lnTo>
                <a:lnTo>
                  <a:pt x="16" y="484"/>
                </a:lnTo>
                <a:lnTo>
                  <a:pt x="24" y="468"/>
                </a:lnTo>
                <a:lnTo>
                  <a:pt x="34" y="452"/>
                </a:lnTo>
                <a:lnTo>
                  <a:pt x="44" y="438"/>
                </a:lnTo>
                <a:lnTo>
                  <a:pt x="58" y="426"/>
                </a:lnTo>
                <a:lnTo>
                  <a:pt x="72" y="416"/>
                </a:lnTo>
                <a:lnTo>
                  <a:pt x="90" y="406"/>
                </a:lnTo>
                <a:lnTo>
                  <a:pt x="108" y="400"/>
                </a:lnTo>
                <a:lnTo>
                  <a:pt x="128" y="396"/>
                </a:lnTo>
                <a:lnTo>
                  <a:pt x="106" y="470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77960" y="42451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3"/>
            <a:endCxn id="186" idx="1"/>
          </p:cNvCxnSpPr>
          <p:nvPr/>
        </p:nvCxnSpPr>
        <p:spPr>
          <a:xfrm flipV="1">
            <a:off x="1936800" y="4466880"/>
            <a:ext cx="411840" cy="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87" name=""/>
          <p:cNvCxnSpPr>
            <a:stCxn id="188" idx="0"/>
            <a:endCxn id="189" idx="0"/>
          </p:cNvCxnSpPr>
          <p:nvPr/>
        </p:nvCxnSpPr>
        <p:spPr>
          <a:xfrm>
            <a:off x="2506320" y="4473720"/>
            <a:ext cx="136080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90" name=""/>
          <p:cNvCxnSpPr>
            <a:stCxn id="186" idx="2"/>
            <a:endCxn id="191" idx="0"/>
          </p:cNvCxnSpPr>
          <p:nvPr/>
        </p:nvCxnSpPr>
        <p:spPr>
          <a:xfrm>
            <a:off x="2488680" y="4610160"/>
            <a:ext cx="839160" cy="991440"/>
          </a:xfrm>
          <a:prstGeom prst="straightConnector1">
            <a:avLst/>
          </a:prstGeom>
          <a:ln w="57240">
            <a:solidFill>
              <a:srgbClr val="ff0000"/>
            </a:solidFill>
            <a:prstDash val="sysDot"/>
            <a:miter/>
          </a:ln>
        </p:spPr>
      </p:cxnSp>
      <p:cxnSp>
        <p:nvCxnSpPr>
          <p:cNvPr id="192" name=""/>
          <p:cNvCxnSpPr>
            <a:stCxn id="193" idx="0"/>
            <a:endCxn id="194" idx="0"/>
          </p:cNvCxnSpPr>
          <p:nvPr/>
        </p:nvCxnSpPr>
        <p:spPr>
          <a:xfrm>
            <a:off x="3885840" y="3376440"/>
            <a:ext cx="1483560" cy="1099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1" idx="1"/>
            <a:endCxn id="196" idx="0"/>
          </p:cNvCxnSpPr>
          <p:nvPr/>
        </p:nvCxnSpPr>
        <p:spPr>
          <a:xfrm>
            <a:off x="3327480" y="5600520"/>
            <a:ext cx="1070640" cy="1080"/>
          </a:xfrm>
          <a:prstGeom prst="straightConnector1">
            <a:avLst/>
          </a:prstGeom>
          <a:ln w="57240">
            <a:solidFill>
              <a:srgbClr val="ff0000"/>
            </a:solidFill>
            <a:prstDash val="sysDot"/>
            <a:miter/>
          </a:ln>
        </p:spPr>
      </p:cxnSp>
      <p:cxnSp>
        <p:nvCxnSpPr>
          <p:cNvPr id="197" name=""/>
          <p:cNvCxnSpPr>
            <a:stCxn id="188" idx="1"/>
            <a:endCxn id="193" idx="1"/>
          </p:cNvCxnSpPr>
          <p:nvPr/>
        </p:nvCxnSpPr>
        <p:spPr>
          <a:xfrm flipV="1">
            <a:off x="2615760" y="3349440"/>
            <a:ext cx="1283400" cy="1040400"/>
          </a:xfrm>
          <a:prstGeom prst="straightConnector1">
            <a:avLst/>
          </a:prstGeom>
          <a:ln w="57240">
            <a:solidFill>
              <a:srgbClr val="ff0000"/>
            </a:solidFill>
            <a:miter/>
          </a:ln>
        </p:spPr>
      </p:cxnSp>
      <p:cxnSp>
        <p:nvCxnSpPr>
          <p:cNvPr id="198" name=""/>
          <p:cNvCxnSpPr>
            <a:stCxn id="199" idx="2"/>
            <a:endCxn id="189" idx="1"/>
          </p:cNvCxnSpPr>
          <p:nvPr/>
        </p:nvCxnSpPr>
        <p:spPr>
          <a:xfrm flipH="1">
            <a:off x="3892320" y="3513240"/>
            <a:ext cx="2160" cy="962640"/>
          </a:xfrm>
          <a:prstGeom prst="straightConnector1">
            <a:avLst/>
          </a:prstGeom>
          <a:ln w="57240">
            <a:solidFill>
              <a:srgbClr val="ff0000"/>
            </a:solidFill>
            <a:miter/>
          </a:ln>
        </p:spPr>
      </p:cxnSp>
      <p:cxnSp>
        <p:nvCxnSpPr>
          <p:cNvPr id="200" name=""/>
          <p:cNvCxnSpPr>
            <a:stCxn id="196" idx="1"/>
            <a:endCxn id="194" idx="1"/>
          </p:cNvCxnSpPr>
          <p:nvPr/>
        </p:nvCxnSpPr>
        <p:spPr>
          <a:xfrm flipV="1">
            <a:off x="4422240" y="4474440"/>
            <a:ext cx="947160" cy="1126440"/>
          </a:xfrm>
          <a:prstGeom prst="straightConnector1">
            <a:avLst/>
          </a:prstGeom>
          <a:ln w="57240">
            <a:solidFill>
              <a:srgbClr val="ff0000"/>
            </a:solidFill>
            <a:prstDash val="sysDot"/>
            <a:miter/>
          </a:ln>
        </p:spPr>
      </p:cxnSp>
      <p:cxnSp>
        <p:nvCxnSpPr>
          <p:cNvPr id="201" name=""/>
          <p:cNvCxnSpPr>
            <a:stCxn id="196" idx="2"/>
            <a:endCxn id="189" idx="2"/>
          </p:cNvCxnSpPr>
          <p:nvPr/>
        </p:nvCxnSpPr>
        <p:spPr>
          <a:xfrm flipH="1" flipV="1">
            <a:off x="3909240" y="4570200"/>
            <a:ext cx="500760" cy="10036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2" name=""/>
          <p:cNvCxnSpPr>
            <a:stCxn id="189" idx="3"/>
            <a:endCxn id="191" idx="2"/>
          </p:cNvCxnSpPr>
          <p:nvPr/>
        </p:nvCxnSpPr>
        <p:spPr>
          <a:xfrm flipH="1">
            <a:off x="3314160" y="4549320"/>
            <a:ext cx="516600" cy="1024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03" name=""/>
          <p:cNvSpPr/>
          <p:nvPr/>
        </p:nvSpPr>
        <p:spPr>
          <a:xfrm>
            <a:off x="2415960" y="53625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203" idx="3"/>
            <a:endCxn id="205" idx="1"/>
          </p:cNvCxnSpPr>
          <p:nvPr/>
        </p:nvCxnSpPr>
        <p:spPr>
          <a:xfrm>
            <a:off x="2674800" y="5590800"/>
            <a:ext cx="494640" cy="3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06" name=""/>
          <p:cNvSpPr/>
          <p:nvPr/>
        </p:nvSpPr>
        <p:spPr>
          <a:xfrm>
            <a:off x="5757840" y="42418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"/>
          <p:cNvCxnSpPr>
            <a:stCxn id="206" idx="3"/>
            <a:endCxn id="194" idx="2"/>
          </p:cNvCxnSpPr>
          <p:nvPr/>
        </p:nvCxnSpPr>
        <p:spPr>
          <a:xfrm flipH="1">
            <a:off x="5393520" y="4470120"/>
            <a:ext cx="62316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4427640" y="31449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208" idx="3"/>
            <a:endCxn id="193" idx="2"/>
          </p:cNvCxnSpPr>
          <p:nvPr/>
        </p:nvCxnSpPr>
        <p:spPr>
          <a:xfrm flipH="1">
            <a:off x="3911400" y="3373560"/>
            <a:ext cx="775440" cy="3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10" name=""/>
          <p:cNvSpPr/>
          <p:nvPr/>
        </p:nvSpPr>
        <p:spPr>
          <a:xfrm>
            <a:off x="4714920" y="53784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210" idx="3"/>
            <a:endCxn id="196" idx="3"/>
          </p:cNvCxnSpPr>
          <p:nvPr/>
        </p:nvCxnSpPr>
        <p:spPr>
          <a:xfrm flipH="1" flipV="1">
            <a:off x="4396680" y="5600160"/>
            <a:ext cx="577080" cy="68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grpSp>
        <p:nvGrpSpPr>
          <p:cNvPr id="212" name=""/>
          <p:cNvGrpSpPr/>
          <p:nvPr/>
        </p:nvGrpSpPr>
        <p:grpSpPr>
          <a:xfrm>
            <a:off x="2346480" y="4287960"/>
            <a:ext cx="318960" cy="323640"/>
            <a:chOff x="2346480" y="4287960"/>
            <a:chExt cx="318960" cy="323640"/>
          </a:xfrm>
        </p:grpSpPr>
        <p:sp>
          <p:nvSpPr>
            <p:cNvPr id="213" name=""/>
            <p:cNvSpPr/>
            <p:nvPr/>
          </p:nvSpPr>
          <p:spPr>
            <a:xfrm>
              <a:off x="2346480" y="4322520"/>
              <a:ext cx="282960" cy="289080"/>
            </a:xfrm>
            <a:prstGeom prst="rect">
              <a:avLst/>
            </a:prstGeom>
            <a:solidFill>
              <a:srgbClr val="0096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347200" y="4323600"/>
              <a:ext cx="280800" cy="286920"/>
            </a:xfrm>
            <a:prstGeom prst="rect">
              <a:avLst/>
            </a:prstGeom>
            <a:solidFill>
              <a:srgbClr val="0085fe"/>
            </a:solidFill>
            <a:ln w="792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346480" y="4287960"/>
              <a:ext cx="318960" cy="34560"/>
            </a:xfrm>
            <a:custGeom>
              <a:avLst/>
              <a:gdLst/>
              <a:ahLst/>
              <a:rect l="l" t="t" r="r" b="b"/>
              <a:pathLst>
                <a:path w="619" h="61">
                  <a:moveTo>
                    <a:pt x="0" y="61"/>
                  </a:moveTo>
                  <a:lnTo>
                    <a:pt x="70" y="0"/>
                  </a:lnTo>
                  <a:lnTo>
                    <a:pt x="619" y="0"/>
                  </a:lnTo>
                  <a:lnTo>
                    <a:pt x="549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b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346480" y="4287960"/>
              <a:ext cx="318960" cy="34560"/>
            </a:xfrm>
            <a:custGeom>
              <a:avLst/>
              <a:gdLst/>
              <a:ahLst/>
              <a:rect l="l" t="t" r="r" b="b"/>
              <a:pathLst>
                <a:path w="619" h="61">
                  <a:moveTo>
                    <a:pt x="0" y="61"/>
                  </a:moveTo>
                  <a:lnTo>
                    <a:pt x="70" y="0"/>
                  </a:lnTo>
                  <a:lnTo>
                    <a:pt x="619" y="0"/>
                  </a:lnTo>
                  <a:lnTo>
                    <a:pt x="549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85fe"/>
            </a:solidFill>
            <a:ln w="792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29440" y="4287960"/>
              <a:ext cx="36000" cy="321480"/>
            </a:xfrm>
            <a:custGeom>
              <a:avLst/>
              <a:gdLst/>
              <a:ahLst/>
              <a:rect l="l" t="t" r="r" b="b"/>
              <a:pathLst>
                <a:path w="70" h="567">
                  <a:moveTo>
                    <a:pt x="0" y="61"/>
                  </a:moveTo>
                  <a:lnTo>
                    <a:pt x="70" y="0"/>
                  </a:lnTo>
                  <a:lnTo>
                    <a:pt x="70" y="506"/>
                  </a:lnTo>
                  <a:lnTo>
                    <a:pt x="0" y="56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5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629440" y="4287960"/>
              <a:ext cx="36000" cy="321480"/>
            </a:xfrm>
            <a:custGeom>
              <a:avLst/>
              <a:gdLst/>
              <a:ahLst/>
              <a:rect l="l" t="t" r="r" b="b"/>
              <a:pathLst>
                <a:path w="70" h="567">
                  <a:moveTo>
                    <a:pt x="0" y="61"/>
                  </a:moveTo>
                  <a:lnTo>
                    <a:pt x="70" y="0"/>
                  </a:lnTo>
                  <a:lnTo>
                    <a:pt x="70" y="506"/>
                  </a:lnTo>
                  <a:lnTo>
                    <a:pt x="0" y="56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808080"/>
            </a:solidFill>
            <a:ln w="792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2367000" y="4349160"/>
              <a:ext cx="249480" cy="246600"/>
              <a:chOff x="2367000" y="4349160"/>
              <a:chExt cx="249480" cy="246600"/>
            </a:xfrm>
          </p:grpSpPr>
          <p:sp>
            <p:nvSpPr>
              <p:cNvPr id="219" name=""/>
              <p:cNvSpPr/>
              <p:nvPr/>
            </p:nvSpPr>
            <p:spPr>
              <a:xfrm>
                <a:off x="2367000" y="4349160"/>
                <a:ext cx="246960" cy="244440"/>
              </a:xfrm>
              <a:custGeom>
                <a:avLst/>
                <a:gdLst/>
                <a:ahLst/>
                <a:rect l="l" t="t" r="r" b="b"/>
                <a:pathLst>
                  <a:path w="479" h="431">
                    <a:moveTo>
                      <a:pt x="70" y="0"/>
                    </a:moveTo>
                    <a:lnTo>
                      <a:pt x="70" y="51"/>
                    </a:lnTo>
                    <a:lnTo>
                      <a:pt x="180" y="51"/>
                    </a:lnTo>
                    <a:lnTo>
                      <a:pt x="240" y="168"/>
                    </a:lnTo>
                    <a:lnTo>
                      <a:pt x="299" y="51"/>
                    </a:lnTo>
                    <a:lnTo>
                      <a:pt x="409" y="51"/>
                    </a:lnTo>
                    <a:lnTo>
                      <a:pt x="409" y="0"/>
                    </a:lnTo>
                    <a:lnTo>
                      <a:pt x="479" y="65"/>
                    </a:lnTo>
                    <a:lnTo>
                      <a:pt x="409" y="131"/>
                    </a:lnTo>
                    <a:lnTo>
                      <a:pt x="409" y="84"/>
                    </a:lnTo>
                    <a:lnTo>
                      <a:pt x="329" y="84"/>
                    </a:lnTo>
                    <a:lnTo>
                      <a:pt x="265" y="215"/>
                    </a:lnTo>
                    <a:lnTo>
                      <a:pt x="329" y="346"/>
                    </a:lnTo>
                    <a:lnTo>
                      <a:pt x="409" y="346"/>
                    </a:lnTo>
                    <a:lnTo>
                      <a:pt x="409" y="299"/>
                    </a:lnTo>
                    <a:lnTo>
                      <a:pt x="479" y="365"/>
                    </a:lnTo>
                    <a:lnTo>
                      <a:pt x="409" y="431"/>
                    </a:lnTo>
                    <a:lnTo>
                      <a:pt x="409" y="384"/>
                    </a:lnTo>
                    <a:lnTo>
                      <a:pt x="299" y="384"/>
                    </a:lnTo>
                    <a:lnTo>
                      <a:pt x="240" y="262"/>
                    </a:lnTo>
                    <a:lnTo>
                      <a:pt x="180" y="384"/>
                    </a:lnTo>
                    <a:lnTo>
                      <a:pt x="70" y="384"/>
                    </a:lnTo>
                    <a:lnTo>
                      <a:pt x="70" y="431"/>
                    </a:lnTo>
                    <a:lnTo>
                      <a:pt x="0" y="365"/>
                    </a:lnTo>
                    <a:lnTo>
                      <a:pt x="70" y="299"/>
                    </a:lnTo>
                    <a:lnTo>
                      <a:pt x="70" y="346"/>
                    </a:lnTo>
                    <a:lnTo>
                      <a:pt x="145" y="346"/>
                    </a:lnTo>
                    <a:lnTo>
                      <a:pt x="215" y="215"/>
                    </a:lnTo>
                    <a:lnTo>
                      <a:pt x="145" y="84"/>
                    </a:lnTo>
                    <a:lnTo>
                      <a:pt x="70" y="84"/>
                    </a:lnTo>
                    <a:lnTo>
                      <a:pt x="70" y="131"/>
                    </a:lnTo>
                    <a:lnTo>
                      <a:pt x="0" y="65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367000" y="4349160"/>
                <a:ext cx="246960" cy="244440"/>
              </a:xfrm>
              <a:custGeom>
                <a:avLst/>
                <a:gdLst/>
                <a:ahLst/>
                <a:rect l="l" t="t" r="r" b="b"/>
                <a:pathLst>
                  <a:path w="479" h="431">
                    <a:moveTo>
                      <a:pt x="70" y="0"/>
                    </a:moveTo>
                    <a:lnTo>
                      <a:pt x="70" y="51"/>
                    </a:lnTo>
                    <a:lnTo>
                      <a:pt x="180" y="51"/>
                    </a:lnTo>
                    <a:lnTo>
                      <a:pt x="240" y="168"/>
                    </a:lnTo>
                    <a:lnTo>
                      <a:pt x="299" y="51"/>
                    </a:lnTo>
                    <a:lnTo>
                      <a:pt x="409" y="51"/>
                    </a:lnTo>
                    <a:lnTo>
                      <a:pt x="409" y="0"/>
                    </a:lnTo>
                    <a:lnTo>
                      <a:pt x="479" y="65"/>
                    </a:lnTo>
                    <a:lnTo>
                      <a:pt x="409" y="131"/>
                    </a:lnTo>
                    <a:lnTo>
                      <a:pt x="409" y="84"/>
                    </a:lnTo>
                    <a:lnTo>
                      <a:pt x="329" y="84"/>
                    </a:lnTo>
                    <a:lnTo>
                      <a:pt x="265" y="215"/>
                    </a:lnTo>
                    <a:lnTo>
                      <a:pt x="329" y="346"/>
                    </a:lnTo>
                    <a:lnTo>
                      <a:pt x="409" y="346"/>
                    </a:lnTo>
                    <a:lnTo>
                      <a:pt x="409" y="299"/>
                    </a:lnTo>
                    <a:lnTo>
                      <a:pt x="479" y="365"/>
                    </a:lnTo>
                    <a:lnTo>
                      <a:pt x="409" y="431"/>
                    </a:lnTo>
                    <a:lnTo>
                      <a:pt x="409" y="384"/>
                    </a:lnTo>
                    <a:lnTo>
                      <a:pt x="299" y="384"/>
                    </a:lnTo>
                    <a:lnTo>
                      <a:pt x="240" y="262"/>
                    </a:lnTo>
                    <a:lnTo>
                      <a:pt x="180" y="384"/>
                    </a:lnTo>
                    <a:lnTo>
                      <a:pt x="70" y="384"/>
                    </a:lnTo>
                    <a:lnTo>
                      <a:pt x="70" y="431"/>
                    </a:lnTo>
                    <a:lnTo>
                      <a:pt x="0" y="365"/>
                    </a:lnTo>
                    <a:lnTo>
                      <a:pt x="70" y="299"/>
                    </a:lnTo>
                    <a:lnTo>
                      <a:pt x="70" y="346"/>
                    </a:lnTo>
                    <a:lnTo>
                      <a:pt x="145" y="346"/>
                    </a:lnTo>
                    <a:lnTo>
                      <a:pt x="215" y="215"/>
                    </a:lnTo>
                    <a:lnTo>
                      <a:pt x="145" y="84"/>
                    </a:lnTo>
                    <a:lnTo>
                      <a:pt x="70" y="84"/>
                    </a:lnTo>
                    <a:lnTo>
                      <a:pt x="70" y="131"/>
                    </a:lnTo>
                    <a:lnTo>
                      <a:pt x="0" y="65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369520" y="4351320"/>
                <a:ext cx="246960" cy="244440"/>
              </a:xfrm>
              <a:custGeom>
                <a:avLst/>
                <a:gdLst/>
                <a:ahLst/>
                <a:rect l="l" t="t" r="r" b="b"/>
                <a:pathLst>
                  <a:path w="479" h="431">
                    <a:moveTo>
                      <a:pt x="70" y="0"/>
                    </a:moveTo>
                    <a:lnTo>
                      <a:pt x="70" y="52"/>
                    </a:lnTo>
                    <a:lnTo>
                      <a:pt x="180" y="52"/>
                    </a:lnTo>
                    <a:lnTo>
                      <a:pt x="240" y="169"/>
                    </a:lnTo>
                    <a:lnTo>
                      <a:pt x="299" y="52"/>
                    </a:lnTo>
                    <a:lnTo>
                      <a:pt x="409" y="52"/>
                    </a:lnTo>
                    <a:lnTo>
                      <a:pt x="409" y="0"/>
                    </a:lnTo>
                    <a:lnTo>
                      <a:pt x="479" y="66"/>
                    </a:lnTo>
                    <a:lnTo>
                      <a:pt x="409" y="132"/>
                    </a:lnTo>
                    <a:lnTo>
                      <a:pt x="409" y="85"/>
                    </a:lnTo>
                    <a:lnTo>
                      <a:pt x="329" y="85"/>
                    </a:lnTo>
                    <a:lnTo>
                      <a:pt x="265" y="216"/>
                    </a:lnTo>
                    <a:lnTo>
                      <a:pt x="329" y="347"/>
                    </a:lnTo>
                    <a:lnTo>
                      <a:pt x="409" y="347"/>
                    </a:lnTo>
                    <a:lnTo>
                      <a:pt x="409" y="300"/>
                    </a:lnTo>
                    <a:lnTo>
                      <a:pt x="479" y="366"/>
                    </a:lnTo>
                    <a:lnTo>
                      <a:pt x="409" y="431"/>
                    </a:lnTo>
                    <a:lnTo>
                      <a:pt x="409" y="384"/>
                    </a:lnTo>
                    <a:lnTo>
                      <a:pt x="299" y="384"/>
                    </a:lnTo>
                    <a:lnTo>
                      <a:pt x="240" y="263"/>
                    </a:lnTo>
                    <a:lnTo>
                      <a:pt x="180" y="384"/>
                    </a:lnTo>
                    <a:lnTo>
                      <a:pt x="70" y="384"/>
                    </a:lnTo>
                    <a:lnTo>
                      <a:pt x="70" y="431"/>
                    </a:lnTo>
                    <a:lnTo>
                      <a:pt x="0" y="366"/>
                    </a:lnTo>
                    <a:lnTo>
                      <a:pt x="70" y="300"/>
                    </a:lnTo>
                    <a:lnTo>
                      <a:pt x="70" y="347"/>
                    </a:lnTo>
                    <a:lnTo>
                      <a:pt x="145" y="347"/>
                    </a:lnTo>
                    <a:lnTo>
                      <a:pt x="215" y="216"/>
                    </a:lnTo>
                    <a:lnTo>
                      <a:pt x="145" y="85"/>
                    </a:lnTo>
                    <a:lnTo>
                      <a:pt x="70" y="85"/>
                    </a:lnTo>
                    <a:lnTo>
                      <a:pt x="70" y="132"/>
                    </a:lnTo>
                    <a:lnTo>
                      <a:pt x="0" y="66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369520" y="4351320"/>
                <a:ext cx="246960" cy="244440"/>
              </a:xfrm>
              <a:custGeom>
                <a:avLst/>
                <a:gdLst/>
                <a:ahLst/>
                <a:rect l="l" t="t" r="r" b="b"/>
                <a:pathLst>
                  <a:path w="479" h="431">
                    <a:moveTo>
                      <a:pt x="70" y="0"/>
                    </a:moveTo>
                    <a:lnTo>
                      <a:pt x="70" y="52"/>
                    </a:lnTo>
                    <a:lnTo>
                      <a:pt x="180" y="52"/>
                    </a:lnTo>
                    <a:lnTo>
                      <a:pt x="240" y="169"/>
                    </a:lnTo>
                    <a:lnTo>
                      <a:pt x="299" y="52"/>
                    </a:lnTo>
                    <a:lnTo>
                      <a:pt x="409" y="52"/>
                    </a:lnTo>
                    <a:lnTo>
                      <a:pt x="409" y="0"/>
                    </a:lnTo>
                    <a:lnTo>
                      <a:pt x="479" y="66"/>
                    </a:lnTo>
                    <a:lnTo>
                      <a:pt x="409" y="132"/>
                    </a:lnTo>
                    <a:lnTo>
                      <a:pt x="409" y="85"/>
                    </a:lnTo>
                    <a:lnTo>
                      <a:pt x="329" y="85"/>
                    </a:lnTo>
                    <a:lnTo>
                      <a:pt x="265" y="216"/>
                    </a:lnTo>
                    <a:lnTo>
                      <a:pt x="329" y="347"/>
                    </a:lnTo>
                    <a:lnTo>
                      <a:pt x="409" y="347"/>
                    </a:lnTo>
                    <a:lnTo>
                      <a:pt x="409" y="300"/>
                    </a:lnTo>
                    <a:lnTo>
                      <a:pt x="479" y="366"/>
                    </a:lnTo>
                    <a:lnTo>
                      <a:pt x="409" y="431"/>
                    </a:lnTo>
                    <a:lnTo>
                      <a:pt x="409" y="384"/>
                    </a:lnTo>
                    <a:lnTo>
                      <a:pt x="299" y="384"/>
                    </a:lnTo>
                    <a:lnTo>
                      <a:pt x="240" y="263"/>
                    </a:lnTo>
                    <a:lnTo>
                      <a:pt x="180" y="384"/>
                    </a:lnTo>
                    <a:lnTo>
                      <a:pt x="70" y="384"/>
                    </a:lnTo>
                    <a:lnTo>
                      <a:pt x="70" y="431"/>
                    </a:lnTo>
                    <a:lnTo>
                      <a:pt x="0" y="366"/>
                    </a:lnTo>
                    <a:lnTo>
                      <a:pt x="70" y="300"/>
                    </a:lnTo>
                    <a:lnTo>
                      <a:pt x="70" y="347"/>
                    </a:lnTo>
                    <a:lnTo>
                      <a:pt x="145" y="347"/>
                    </a:lnTo>
                    <a:lnTo>
                      <a:pt x="215" y="216"/>
                    </a:lnTo>
                    <a:lnTo>
                      <a:pt x="145" y="85"/>
                    </a:lnTo>
                    <a:lnTo>
                      <a:pt x="70" y="85"/>
                    </a:lnTo>
                    <a:lnTo>
                      <a:pt x="70" y="132"/>
                    </a:lnTo>
                    <a:lnTo>
                      <a:pt x="0" y="66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2" name=""/>
          <p:cNvGrpSpPr/>
          <p:nvPr/>
        </p:nvGrpSpPr>
        <p:grpSpPr>
          <a:xfrm>
            <a:off x="3166920" y="5415120"/>
            <a:ext cx="319320" cy="323640"/>
            <a:chOff x="3166920" y="5415120"/>
            <a:chExt cx="319320" cy="323640"/>
          </a:xfrm>
        </p:grpSpPr>
        <p:sp>
          <p:nvSpPr>
            <p:cNvPr id="223" name=""/>
            <p:cNvSpPr/>
            <p:nvPr/>
          </p:nvSpPr>
          <p:spPr>
            <a:xfrm>
              <a:off x="3166920" y="5449680"/>
              <a:ext cx="283320" cy="289080"/>
            </a:xfrm>
            <a:prstGeom prst="rect">
              <a:avLst/>
            </a:prstGeom>
            <a:solidFill>
              <a:srgbClr val="0096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167640" y="5450760"/>
              <a:ext cx="281160" cy="286920"/>
            </a:xfrm>
            <a:prstGeom prst="rect">
              <a:avLst/>
            </a:prstGeom>
            <a:solidFill>
              <a:srgbClr val="0085fe"/>
            </a:solidFill>
            <a:ln w="792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66920" y="5415120"/>
              <a:ext cx="319320" cy="34560"/>
            </a:xfrm>
            <a:custGeom>
              <a:avLst/>
              <a:gdLst/>
              <a:ahLst/>
              <a:rect l="l" t="t" r="r" b="b"/>
              <a:pathLst>
                <a:path w="619" h="61">
                  <a:moveTo>
                    <a:pt x="0" y="61"/>
                  </a:moveTo>
                  <a:lnTo>
                    <a:pt x="70" y="0"/>
                  </a:lnTo>
                  <a:lnTo>
                    <a:pt x="619" y="0"/>
                  </a:lnTo>
                  <a:lnTo>
                    <a:pt x="549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b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66920" y="5415120"/>
              <a:ext cx="319320" cy="34560"/>
            </a:xfrm>
            <a:custGeom>
              <a:avLst/>
              <a:gdLst/>
              <a:ahLst/>
              <a:rect l="l" t="t" r="r" b="b"/>
              <a:pathLst>
                <a:path w="619" h="61">
                  <a:moveTo>
                    <a:pt x="0" y="61"/>
                  </a:moveTo>
                  <a:lnTo>
                    <a:pt x="70" y="0"/>
                  </a:lnTo>
                  <a:lnTo>
                    <a:pt x="619" y="0"/>
                  </a:lnTo>
                  <a:lnTo>
                    <a:pt x="549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85fe"/>
            </a:solidFill>
            <a:ln w="792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450240" y="5415120"/>
              <a:ext cx="36000" cy="321480"/>
            </a:xfrm>
            <a:custGeom>
              <a:avLst/>
              <a:gdLst/>
              <a:ahLst/>
              <a:rect l="l" t="t" r="r" b="b"/>
              <a:pathLst>
                <a:path w="70" h="567">
                  <a:moveTo>
                    <a:pt x="0" y="61"/>
                  </a:moveTo>
                  <a:lnTo>
                    <a:pt x="70" y="0"/>
                  </a:lnTo>
                  <a:lnTo>
                    <a:pt x="70" y="506"/>
                  </a:lnTo>
                  <a:lnTo>
                    <a:pt x="0" y="56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5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450240" y="5415120"/>
              <a:ext cx="36000" cy="321480"/>
            </a:xfrm>
            <a:custGeom>
              <a:avLst/>
              <a:gdLst/>
              <a:ahLst/>
              <a:rect l="l" t="t" r="r" b="b"/>
              <a:pathLst>
                <a:path w="70" h="567">
                  <a:moveTo>
                    <a:pt x="0" y="61"/>
                  </a:moveTo>
                  <a:lnTo>
                    <a:pt x="70" y="0"/>
                  </a:lnTo>
                  <a:lnTo>
                    <a:pt x="70" y="506"/>
                  </a:lnTo>
                  <a:lnTo>
                    <a:pt x="0" y="56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808080"/>
            </a:solidFill>
            <a:ln w="792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3187440" y="5476320"/>
              <a:ext cx="249840" cy="246600"/>
              <a:chOff x="3187440" y="5476320"/>
              <a:chExt cx="249840" cy="246600"/>
            </a:xfrm>
          </p:grpSpPr>
          <p:sp>
            <p:nvSpPr>
              <p:cNvPr id="229" name=""/>
              <p:cNvSpPr/>
              <p:nvPr/>
            </p:nvSpPr>
            <p:spPr>
              <a:xfrm>
                <a:off x="3187440" y="5476320"/>
                <a:ext cx="247320" cy="244440"/>
              </a:xfrm>
              <a:custGeom>
                <a:avLst/>
                <a:gdLst/>
                <a:ahLst/>
                <a:rect l="l" t="t" r="r" b="b"/>
                <a:pathLst>
                  <a:path w="479" h="431">
                    <a:moveTo>
                      <a:pt x="70" y="0"/>
                    </a:moveTo>
                    <a:lnTo>
                      <a:pt x="70" y="51"/>
                    </a:lnTo>
                    <a:lnTo>
                      <a:pt x="180" y="51"/>
                    </a:lnTo>
                    <a:lnTo>
                      <a:pt x="240" y="168"/>
                    </a:lnTo>
                    <a:lnTo>
                      <a:pt x="299" y="51"/>
                    </a:lnTo>
                    <a:lnTo>
                      <a:pt x="409" y="51"/>
                    </a:lnTo>
                    <a:lnTo>
                      <a:pt x="409" y="0"/>
                    </a:lnTo>
                    <a:lnTo>
                      <a:pt x="479" y="65"/>
                    </a:lnTo>
                    <a:lnTo>
                      <a:pt x="409" y="131"/>
                    </a:lnTo>
                    <a:lnTo>
                      <a:pt x="409" y="84"/>
                    </a:lnTo>
                    <a:lnTo>
                      <a:pt x="329" y="84"/>
                    </a:lnTo>
                    <a:lnTo>
                      <a:pt x="265" y="215"/>
                    </a:lnTo>
                    <a:lnTo>
                      <a:pt x="329" y="346"/>
                    </a:lnTo>
                    <a:lnTo>
                      <a:pt x="409" y="346"/>
                    </a:lnTo>
                    <a:lnTo>
                      <a:pt x="409" y="299"/>
                    </a:lnTo>
                    <a:lnTo>
                      <a:pt x="479" y="365"/>
                    </a:lnTo>
                    <a:lnTo>
                      <a:pt x="409" y="431"/>
                    </a:lnTo>
                    <a:lnTo>
                      <a:pt x="409" y="384"/>
                    </a:lnTo>
                    <a:lnTo>
                      <a:pt x="299" y="384"/>
                    </a:lnTo>
                    <a:lnTo>
                      <a:pt x="240" y="262"/>
                    </a:lnTo>
                    <a:lnTo>
                      <a:pt x="180" y="384"/>
                    </a:lnTo>
                    <a:lnTo>
                      <a:pt x="70" y="384"/>
                    </a:lnTo>
                    <a:lnTo>
                      <a:pt x="70" y="431"/>
                    </a:lnTo>
                    <a:lnTo>
                      <a:pt x="0" y="365"/>
                    </a:lnTo>
                    <a:lnTo>
                      <a:pt x="70" y="299"/>
                    </a:lnTo>
                    <a:lnTo>
                      <a:pt x="70" y="346"/>
                    </a:lnTo>
                    <a:lnTo>
                      <a:pt x="145" y="346"/>
                    </a:lnTo>
                    <a:lnTo>
                      <a:pt x="215" y="215"/>
                    </a:lnTo>
                    <a:lnTo>
                      <a:pt x="145" y="84"/>
                    </a:lnTo>
                    <a:lnTo>
                      <a:pt x="70" y="84"/>
                    </a:lnTo>
                    <a:lnTo>
                      <a:pt x="70" y="131"/>
                    </a:lnTo>
                    <a:lnTo>
                      <a:pt x="0" y="65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187440" y="5476320"/>
                <a:ext cx="247320" cy="244440"/>
              </a:xfrm>
              <a:custGeom>
                <a:avLst/>
                <a:gdLst/>
                <a:ahLst/>
                <a:rect l="l" t="t" r="r" b="b"/>
                <a:pathLst>
                  <a:path w="479" h="431">
                    <a:moveTo>
                      <a:pt x="70" y="0"/>
                    </a:moveTo>
                    <a:lnTo>
                      <a:pt x="70" y="51"/>
                    </a:lnTo>
                    <a:lnTo>
                      <a:pt x="180" y="51"/>
                    </a:lnTo>
                    <a:lnTo>
                      <a:pt x="240" y="168"/>
                    </a:lnTo>
                    <a:lnTo>
                      <a:pt x="299" y="51"/>
                    </a:lnTo>
                    <a:lnTo>
                      <a:pt x="409" y="51"/>
                    </a:lnTo>
                    <a:lnTo>
                      <a:pt x="409" y="0"/>
                    </a:lnTo>
                    <a:lnTo>
                      <a:pt x="479" y="65"/>
                    </a:lnTo>
                    <a:lnTo>
                      <a:pt x="409" y="131"/>
                    </a:lnTo>
                    <a:lnTo>
                      <a:pt x="409" y="84"/>
                    </a:lnTo>
                    <a:lnTo>
                      <a:pt x="329" y="84"/>
                    </a:lnTo>
                    <a:lnTo>
                      <a:pt x="265" y="215"/>
                    </a:lnTo>
                    <a:lnTo>
                      <a:pt x="329" y="346"/>
                    </a:lnTo>
                    <a:lnTo>
                      <a:pt x="409" y="346"/>
                    </a:lnTo>
                    <a:lnTo>
                      <a:pt x="409" y="299"/>
                    </a:lnTo>
                    <a:lnTo>
                      <a:pt x="479" y="365"/>
                    </a:lnTo>
                    <a:lnTo>
                      <a:pt x="409" y="431"/>
                    </a:lnTo>
                    <a:lnTo>
                      <a:pt x="409" y="384"/>
                    </a:lnTo>
                    <a:lnTo>
                      <a:pt x="299" y="384"/>
                    </a:lnTo>
                    <a:lnTo>
                      <a:pt x="240" y="262"/>
                    </a:lnTo>
                    <a:lnTo>
                      <a:pt x="180" y="384"/>
                    </a:lnTo>
                    <a:lnTo>
                      <a:pt x="70" y="384"/>
                    </a:lnTo>
                    <a:lnTo>
                      <a:pt x="70" y="431"/>
                    </a:lnTo>
                    <a:lnTo>
                      <a:pt x="0" y="365"/>
                    </a:lnTo>
                    <a:lnTo>
                      <a:pt x="70" y="299"/>
                    </a:lnTo>
                    <a:lnTo>
                      <a:pt x="70" y="346"/>
                    </a:lnTo>
                    <a:lnTo>
                      <a:pt x="145" y="346"/>
                    </a:lnTo>
                    <a:lnTo>
                      <a:pt x="215" y="215"/>
                    </a:lnTo>
                    <a:lnTo>
                      <a:pt x="145" y="84"/>
                    </a:lnTo>
                    <a:lnTo>
                      <a:pt x="70" y="84"/>
                    </a:lnTo>
                    <a:lnTo>
                      <a:pt x="70" y="131"/>
                    </a:lnTo>
                    <a:lnTo>
                      <a:pt x="0" y="65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189960" y="5478480"/>
                <a:ext cx="247320" cy="244440"/>
              </a:xfrm>
              <a:custGeom>
                <a:avLst/>
                <a:gdLst/>
                <a:ahLst/>
                <a:rect l="l" t="t" r="r" b="b"/>
                <a:pathLst>
                  <a:path w="479" h="431">
                    <a:moveTo>
                      <a:pt x="70" y="0"/>
                    </a:moveTo>
                    <a:lnTo>
                      <a:pt x="70" y="52"/>
                    </a:lnTo>
                    <a:lnTo>
                      <a:pt x="180" y="52"/>
                    </a:lnTo>
                    <a:lnTo>
                      <a:pt x="240" y="169"/>
                    </a:lnTo>
                    <a:lnTo>
                      <a:pt x="299" y="52"/>
                    </a:lnTo>
                    <a:lnTo>
                      <a:pt x="409" y="52"/>
                    </a:lnTo>
                    <a:lnTo>
                      <a:pt x="409" y="0"/>
                    </a:lnTo>
                    <a:lnTo>
                      <a:pt x="479" y="66"/>
                    </a:lnTo>
                    <a:lnTo>
                      <a:pt x="409" y="132"/>
                    </a:lnTo>
                    <a:lnTo>
                      <a:pt x="409" y="85"/>
                    </a:lnTo>
                    <a:lnTo>
                      <a:pt x="329" y="85"/>
                    </a:lnTo>
                    <a:lnTo>
                      <a:pt x="265" y="216"/>
                    </a:lnTo>
                    <a:lnTo>
                      <a:pt x="329" y="347"/>
                    </a:lnTo>
                    <a:lnTo>
                      <a:pt x="409" y="347"/>
                    </a:lnTo>
                    <a:lnTo>
                      <a:pt x="409" y="300"/>
                    </a:lnTo>
                    <a:lnTo>
                      <a:pt x="479" y="366"/>
                    </a:lnTo>
                    <a:lnTo>
                      <a:pt x="409" y="431"/>
                    </a:lnTo>
                    <a:lnTo>
                      <a:pt x="409" y="384"/>
                    </a:lnTo>
                    <a:lnTo>
                      <a:pt x="299" y="384"/>
                    </a:lnTo>
                    <a:lnTo>
                      <a:pt x="240" y="263"/>
                    </a:lnTo>
                    <a:lnTo>
                      <a:pt x="180" y="384"/>
                    </a:lnTo>
                    <a:lnTo>
                      <a:pt x="70" y="384"/>
                    </a:lnTo>
                    <a:lnTo>
                      <a:pt x="70" y="431"/>
                    </a:lnTo>
                    <a:lnTo>
                      <a:pt x="0" y="366"/>
                    </a:lnTo>
                    <a:lnTo>
                      <a:pt x="70" y="300"/>
                    </a:lnTo>
                    <a:lnTo>
                      <a:pt x="70" y="347"/>
                    </a:lnTo>
                    <a:lnTo>
                      <a:pt x="145" y="347"/>
                    </a:lnTo>
                    <a:lnTo>
                      <a:pt x="215" y="216"/>
                    </a:lnTo>
                    <a:lnTo>
                      <a:pt x="145" y="85"/>
                    </a:lnTo>
                    <a:lnTo>
                      <a:pt x="70" y="85"/>
                    </a:lnTo>
                    <a:lnTo>
                      <a:pt x="70" y="132"/>
                    </a:lnTo>
                    <a:lnTo>
                      <a:pt x="0" y="66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189960" y="5478480"/>
                <a:ext cx="247320" cy="244440"/>
              </a:xfrm>
              <a:custGeom>
                <a:avLst/>
                <a:gdLst/>
                <a:ahLst/>
                <a:rect l="l" t="t" r="r" b="b"/>
                <a:pathLst>
                  <a:path w="479" h="431">
                    <a:moveTo>
                      <a:pt x="70" y="0"/>
                    </a:moveTo>
                    <a:lnTo>
                      <a:pt x="70" y="52"/>
                    </a:lnTo>
                    <a:lnTo>
                      <a:pt x="180" y="52"/>
                    </a:lnTo>
                    <a:lnTo>
                      <a:pt x="240" y="169"/>
                    </a:lnTo>
                    <a:lnTo>
                      <a:pt x="299" y="52"/>
                    </a:lnTo>
                    <a:lnTo>
                      <a:pt x="409" y="52"/>
                    </a:lnTo>
                    <a:lnTo>
                      <a:pt x="409" y="0"/>
                    </a:lnTo>
                    <a:lnTo>
                      <a:pt x="479" y="66"/>
                    </a:lnTo>
                    <a:lnTo>
                      <a:pt x="409" y="132"/>
                    </a:lnTo>
                    <a:lnTo>
                      <a:pt x="409" y="85"/>
                    </a:lnTo>
                    <a:lnTo>
                      <a:pt x="329" y="85"/>
                    </a:lnTo>
                    <a:lnTo>
                      <a:pt x="265" y="216"/>
                    </a:lnTo>
                    <a:lnTo>
                      <a:pt x="329" y="347"/>
                    </a:lnTo>
                    <a:lnTo>
                      <a:pt x="409" y="347"/>
                    </a:lnTo>
                    <a:lnTo>
                      <a:pt x="409" y="300"/>
                    </a:lnTo>
                    <a:lnTo>
                      <a:pt x="479" y="366"/>
                    </a:lnTo>
                    <a:lnTo>
                      <a:pt x="409" y="431"/>
                    </a:lnTo>
                    <a:lnTo>
                      <a:pt x="409" y="384"/>
                    </a:lnTo>
                    <a:lnTo>
                      <a:pt x="299" y="384"/>
                    </a:lnTo>
                    <a:lnTo>
                      <a:pt x="240" y="263"/>
                    </a:lnTo>
                    <a:lnTo>
                      <a:pt x="180" y="384"/>
                    </a:lnTo>
                    <a:lnTo>
                      <a:pt x="70" y="384"/>
                    </a:lnTo>
                    <a:lnTo>
                      <a:pt x="70" y="431"/>
                    </a:lnTo>
                    <a:lnTo>
                      <a:pt x="0" y="366"/>
                    </a:lnTo>
                    <a:lnTo>
                      <a:pt x="70" y="300"/>
                    </a:lnTo>
                    <a:lnTo>
                      <a:pt x="70" y="347"/>
                    </a:lnTo>
                    <a:lnTo>
                      <a:pt x="145" y="347"/>
                    </a:lnTo>
                    <a:lnTo>
                      <a:pt x="215" y="216"/>
                    </a:lnTo>
                    <a:lnTo>
                      <a:pt x="145" y="85"/>
                    </a:lnTo>
                    <a:lnTo>
                      <a:pt x="70" y="85"/>
                    </a:lnTo>
                    <a:lnTo>
                      <a:pt x="70" y="132"/>
                    </a:lnTo>
                    <a:lnTo>
                      <a:pt x="0" y="66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4262400" y="5415120"/>
            <a:ext cx="318960" cy="323640"/>
            <a:chOff x="4262400" y="5415120"/>
            <a:chExt cx="318960" cy="323640"/>
          </a:xfrm>
        </p:grpSpPr>
        <p:sp>
          <p:nvSpPr>
            <p:cNvPr id="233" name=""/>
            <p:cNvSpPr/>
            <p:nvPr/>
          </p:nvSpPr>
          <p:spPr>
            <a:xfrm>
              <a:off x="4262400" y="5449680"/>
              <a:ext cx="282960" cy="289080"/>
            </a:xfrm>
            <a:prstGeom prst="rect">
              <a:avLst/>
            </a:prstGeom>
            <a:solidFill>
              <a:srgbClr val="0096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63120" y="5450760"/>
              <a:ext cx="280800" cy="286920"/>
            </a:xfrm>
            <a:prstGeom prst="rect">
              <a:avLst/>
            </a:prstGeom>
            <a:solidFill>
              <a:srgbClr val="0085fe"/>
            </a:solidFill>
            <a:ln w="792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262400" y="5415120"/>
              <a:ext cx="318960" cy="34560"/>
            </a:xfrm>
            <a:custGeom>
              <a:avLst/>
              <a:gdLst/>
              <a:ahLst/>
              <a:rect l="l" t="t" r="r" b="b"/>
              <a:pathLst>
                <a:path w="619" h="61">
                  <a:moveTo>
                    <a:pt x="0" y="61"/>
                  </a:moveTo>
                  <a:lnTo>
                    <a:pt x="70" y="0"/>
                  </a:lnTo>
                  <a:lnTo>
                    <a:pt x="619" y="0"/>
                  </a:lnTo>
                  <a:lnTo>
                    <a:pt x="549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b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62400" y="5415120"/>
              <a:ext cx="318960" cy="34560"/>
            </a:xfrm>
            <a:custGeom>
              <a:avLst/>
              <a:gdLst/>
              <a:ahLst/>
              <a:rect l="l" t="t" r="r" b="b"/>
              <a:pathLst>
                <a:path w="619" h="61">
                  <a:moveTo>
                    <a:pt x="0" y="61"/>
                  </a:moveTo>
                  <a:lnTo>
                    <a:pt x="70" y="0"/>
                  </a:lnTo>
                  <a:lnTo>
                    <a:pt x="619" y="0"/>
                  </a:lnTo>
                  <a:lnTo>
                    <a:pt x="549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85fe"/>
            </a:solidFill>
            <a:ln w="792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545360" y="5415120"/>
              <a:ext cx="36000" cy="321480"/>
            </a:xfrm>
            <a:custGeom>
              <a:avLst/>
              <a:gdLst/>
              <a:ahLst/>
              <a:rect l="l" t="t" r="r" b="b"/>
              <a:pathLst>
                <a:path w="70" h="567">
                  <a:moveTo>
                    <a:pt x="0" y="61"/>
                  </a:moveTo>
                  <a:lnTo>
                    <a:pt x="70" y="0"/>
                  </a:lnTo>
                  <a:lnTo>
                    <a:pt x="70" y="506"/>
                  </a:lnTo>
                  <a:lnTo>
                    <a:pt x="0" y="56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5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5360" y="5415120"/>
              <a:ext cx="36000" cy="321480"/>
            </a:xfrm>
            <a:custGeom>
              <a:avLst/>
              <a:gdLst/>
              <a:ahLst/>
              <a:rect l="l" t="t" r="r" b="b"/>
              <a:pathLst>
                <a:path w="70" h="567">
                  <a:moveTo>
                    <a:pt x="0" y="61"/>
                  </a:moveTo>
                  <a:lnTo>
                    <a:pt x="70" y="0"/>
                  </a:lnTo>
                  <a:lnTo>
                    <a:pt x="70" y="506"/>
                  </a:lnTo>
                  <a:lnTo>
                    <a:pt x="0" y="56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808080"/>
            </a:solidFill>
            <a:ln w="792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4282920" y="5476320"/>
              <a:ext cx="249480" cy="246600"/>
              <a:chOff x="4282920" y="5476320"/>
              <a:chExt cx="249480" cy="246600"/>
            </a:xfrm>
          </p:grpSpPr>
          <p:sp>
            <p:nvSpPr>
              <p:cNvPr id="240" name=""/>
              <p:cNvSpPr/>
              <p:nvPr/>
            </p:nvSpPr>
            <p:spPr>
              <a:xfrm>
                <a:off x="4282920" y="5476320"/>
                <a:ext cx="246960" cy="244440"/>
              </a:xfrm>
              <a:custGeom>
                <a:avLst/>
                <a:gdLst/>
                <a:ahLst/>
                <a:rect l="l" t="t" r="r" b="b"/>
                <a:pathLst>
                  <a:path w="479" h="431">
                    <a:moveTo>
                      <a:pt x="70" y="0"/>
                    </a:moveTo>
                    <a:lnTo>
                      <a:pt x="70" y="51"/>
                    </a:lnTo>
                    <a:lnTo>
                      <a:pt x="180" y="51"/>
                    </a:lnTo>
                    <a:lnTo>
                      <a:pt x="240" y="168"/>
                    </a:lnTo>
                    <a:lnTo>
                      <a:pt x="299" y="51"/>
                    </a:lnTo>
                    <a:lnTo>
                      <a:pt x="409" y="51"/>
                    </a:lnTo>
                    <a:lnTo>
                      <a:pt x="409" y="0"/>
                    </a:lnTo>
                    <a:lnTo>
                      <a:pt x="479" y="65"/>
                    </a:lnTo>
                    <a:lnTo>
                      <a:pt x="409" y="131"/>
                    </a:lnTo>
                    <a:lnTo>
                      <a:pt x="409" y="84"/>
                    </a:lnTo>
                    <a:lnTo>
                      <a:pt x="329" y="84"/>
                    </a:lnTo>
                    <a:lnTo>
                      <a:pt x="265" y="215"/>
                    </a:lnTo>
                    <a:lnTo>
                      <a:pt x="329" y="346"/>
                    </a:lnTo>
                    <a:lnTo>
                      <a:pt x="409" y="346"/>
                    </a:lnTo>
                    <a:lnTo>
                      <a:pt x="409" y="299"/>
                    </a:lnTo>
                    <a:lnTo>
                      <a:pt x="479" y="365"/>
                    </a:lnTo>
                    <a:lnTo>
                      <a:pt x="409" y="431"/>
                    </a:lnTo>
                    <a:lnTo>
                      <a:pt x="409" y="384"/>
                    </a:lnTo>
                    <a:lnTo>
                      <a:pt x="299" y="384"/>
                    </a:lnTo>
                    <a:lnTo>
                      <a:pt x="240" y="262"/>
                    </a:lnTo>
                    <a:lnTo>
                      <a:pt x="180" y="384"/>
                    </a:lnTo>
                    <a:lnTo>
                      <a:pt x="70" y="384"/>
                    </a:lnTo>
                    <a:lnTo>
                      <a:pt x="70" y="431"/>
                    </a:lnTo>
                    <a:lnTo>
                      <a:pt x="0" y="365"/>
                    </a:lnTo>
                    <a:lnTo>
                      <a:pt x="70" y="299"/>
                    </a:lnTo>
                    <a:lnTo>
                      <a:pt x="70" y="346"/>
                    </a:lnTo>
                    <a:lnTo>
                      <a:pt x="145" y="346"/>
                    </a:lnTo>
                    <a:lnTo>
                      <a:pt x="215" y="215"/>
                    </a:lnTo>
                    <a:lnTo>
                      <a:pt x="145" y="84"/>
                    </a:lnTo>
                    <a:lnTo>
                      <a:pt x="70" y="84"/>
                    </a:lnTo>
                    <a:lnTo>
                      <a:pt x="70" y="131"/>
                    </a:lnTo>
                    <a:lnTo>
                      <a:pt x="0" y="65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282920" y="5476320"/>
                <a:ext cx="246960" cy="244440"/>
              </a:xfrm>
              <a:custGeom>
                <a:avLst/>
                <a:gdLst/>
                <a:ahLst/>
                <a:rect l="l" t="t" r="r" b="b"/>
                <a:pathLst>
                  <a:path w="479" h="431">
                    <a:moveTo>
                      <a:pt x="70" y="0"/>
                    </a:moveTo>
                    <a:lnTo>
                      <a:pt x="70" y="51"/>
                    </a:lnTo>
                    <a:lnTo>
                      <a:pt x="180" y="51"/>
                    </a:lnTo>
                    <a:lnTo>
                      <a:pt x="240" y="168"/>
                    </a:lnTo>
                    <a:lnTo>
                      <a:pt x="299" y="51"/>
                    </a:lnTo>
                    <a:lnTo>
                      <a:pt x="409" y="51"/>
                    </a:lnTo>
                    <a:lnTo>
                      <a:pt x="409" y="0"/>
                    </a:lnTo>
                    <a:lnTo>
                      <a:pt x="479" y="65"/>
                    </a:lnTo>
                    <a:lnTo>
                      <a:pt x="409" y="131"/>
                    </a:lnTo>
                    <a:lnTo>
                      <a:pt x="409" y="84"/>
                    </a:lnTo>
                    <a:lnTo>
                      <a:pt x="329" y="84"/>
                    </a:lnTo>
                    <a:lnTo>
                      <a:pt x="265" y="215"/>
                    </a:lnTo>
                    <a:lnTo>
                      <a:pt x="329" y="346"/>
                    </a:lnTo>
                    <a:lnTo>
                      <a:pt x="409" y="346"/>
                    </a:lnTo>
                    <a:lnTo>
                      <a:pt x="409" y="299"/>
                    </a:lnTo>
                    <a:lnTo>
                      <a:pt x="479" y="365"/>
                    </a:lnTo>
                    <a:lnTo>
                      <a:pt x="409" y="431"/>
                    </a:lnTo>
                    <a:lnTo>
                      <a:pt x="409" y="384"/>
                    </a:lnTo>
                    <a:lnTo>
                      <a:pt x="299" y="384"/>
                    </a:lnTo>
                    <a:lnTo>
                      <a:pt x="240" y="262"/>
                    </a:lnTo>
                    <a:lnTo>
                      <a:pt x="180" y="384"/>
                    </a:lnTo>
                    <a:lnTo>
                      <a:pt x="70" y="384"/>
                    </a:lnTo>
                    <a:lnTo>
                      <a:pt x="70" y="431"/>
                    </a:lnTo>
                    <a:lnTo>
                      <a:pt x="0" y="365"/>
                    </a:lnTo>
                    <a:lnTo>
                      <a:pt x="70" y="299"/>
                    </a:lnTo>
                    <a:lnTo>
                      <a:pt x="70" y="346"/>
                    </a:lnTo>
                    <a:lnTo>
                      <a:pt x="145" y="346"/>
                    </a:lnTo>
                    <a:lnTo>
                      <a:pt x="215" y="215"/>
                    </a:lnTo>
                    <a:lnTo>
                      <a:pt x="145" y="84"/>
                    </a:lnTo>
                    <a:lnTo>
                      <a:pt x="70" y="84"/>
                    </a:lnTo>
                    <a:lnTo>
                      <a:pt x="70" y="131"/>
                    </a:lnTo>
                    <a:lnTo>
                      <a:pt x="0" y="65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285440" y="5478480"/>
                <a:ext cx="246960" cy="244440"/>
              </a:xfrm>
              <a:custGeom>
                <a:avLst/>
                <a:gdLst/>
                <a:ahLst/>
                <a:rect l="l" t="t" r="r" b="b"/>
                <a:pathLst>
                  <a:path w="479" h="431">
                    <a:moveTo>
                      <a:pt x="70" y="0"/>
                    </a:moveTo>
                    <a:lnTo>
                      <a:pt x="70" y="52"/>
                    </a:lnTo>
                    <a:lnTo>
                      <a:pt x="180" y="52"/>
                    </a:lnTo>
                    <a:lnTo>
                      <a:pt x="240" y="169"/>
                    </a:lnTo>
                    <a:lnTo>
                      <a:pt x="299" y="52"/>
                    </a:lnTo>
                    <a:lnTo>
                      <a:pt x="409" y="52"/>
                    </a:lnTo>
                    <a:lnTo>
                      <a:pt x="409" y="0"/>
                    </a:lnTo>
                    <a:lnTo>
                      <a:pt x="479" y="66"/>
                    </a:lnTo>
                    <a:lnTo>
                      <a:pt x="409" y="132"/>
                    </a:lnTo>
                    <a:lnTo>
                      <a:pt x="409" y="85"/>
                    </a:lnTo>
                    <a:lnTo>
                      <a:pt x="329" y="85"/>
                    </a:lnTo>
                    <a:lnTo>
                      <a:pt x="265" y="216"/>
                    </a:lnTo>
                    <a:lnTo>
                      <a:pt x="329" y="347"/>
                    </a:lnTo>
                    <a:lnTo>
                      <a:pt x="409" y="347"/>
                    </a:lnTo>
                    <a:lnTo>
                      <a:pt x="409" y="300"/>
                    </a:lnTo>
                    <a:lnTo>
                      <a:pt x="479" y="366"/>
                    </a:lnTo>
                    <a:lnTo>
                      <a:pt x="409" y="431"/>
                    </a:lnTo>
                    <a:lnTo>
                      <a:pt x="409" y="384"/>
                    </a:lnTo>
                    <a:lnTo>
                      <a:pt x="299" y="384"/>
                    </a:lnTo>
                    <a:lnTo>
                      <a:pt x="240" y="263"/>
                    </a:lnTo>
                    <a:lnTo>
                      <a:pt x="180" y="384"/>
                    </a:lnTo>
                    <a:lnTo>
                      <a:pt x="70" y="384"/>
                    </a:lnTo>
                    <a:lnTo>
                      <a:pt x="70" y="431"/>
                    </a:lnTo>
                    <a:lnTo>
                      <a:pt x="0" y="366"/>
                    </a:lnTo>
                    <a:lnTo>
                      <a:pt x="70" y="300"/>
                    </a:lnTo>
                    <a:lnTo>
                      <a:pt x="70" y="347"/>
                    </a:lnTo>
                    <a:lnTo>
                      <a:pt x="145" y="347"/>
                    </a:lnTo>
                    <a:lnTo>
                      <a:pt x="215" y="216"/>
                    </a:lnTo>
                    <a:lnTo>
                      <a:pt x="145" y="85"/>
                    </a:lnTo>
                    <a:lnTo>
                      <a:pt x="70" y="85"/>
                    </a:lnTo>
                    <a:lnTo>
                      <a:pt x="70" y="132"/>
                    </a:lnTo>
                    <a:lnTo>
                      <a:pt x="0" y="66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285440" y="5478480"/>
                <a:ext cx="246960" cy="244440"/>
              </a:xfrm>
              <a:custGeom>
                <a:avLst/>
                <a:gdLst/>
                <a:ahLst/>
                <a:rect l="l" t="t" r="r" b="b"/>
                <a:pathLst>
                  <a:path w="479" h="431">
                    <a:moveTo>
                      <a:pt x="70" y="0"/>
                    </a:moveTo>
                    <a:lnTo>
                      <a:pt x="70" y="52"/>
                    </a:lnTo>
                    <a:lnTo>
                      <a:pt x="180" y="52"/>
                    </a:lnTo>
                    <a:lnTo>
                      <a:pt x="240" y="169"/>
                    </a:lnTo>
                    <a:lnTo>
                      <a:pt x="299" y="52"/>
                    </a:lnTo>
                    <a:lnTo>
                      <a:pt x="409" y="52"/>
                    </a:lnTo>
                    <a:lnTo>
                      <a:pt x="409" y="0"/>
                    </a:lnTo>
                    <a:lnTo>
                      <a:pt x="479" y="66"/>
                    </a:lnTo>
                    <a:lnTo>
                      <a:pt x="409" y="132"/>
                    </a:lnTo>
                    <a:lnTo>
                      <a:pt x="409" y="85"/>
                    </a:lnTo>
                    <a:lnTo>
                      <a:pt x="329" y="85"/>
                    </a:lnTo>
                    <a:lnTo>
                      <a:pt x="265" y="216"/>
                    </a:lnTo>
                    <a:lnTo>
                      <a:pt x="329" y="347"/>
                    </a:lnTo>
                    <a:lnTo>
                      <a:pt x="409" y="347"/>
                    </a:lnTo>
                    <a:lnTo>
                      <a:pt x="409" y="300"/>
                    </a:lnTo>
                    <a:lnTo>
                      <a:pt x="479" y="366"/>
                    </a:lnTo>
                    <a:lnTo>
                      <a:pt x="409" y="431"/>
                    </a:lnTo>
                    <a:lnTo>
                      <a:pt x="409" y="384"/>
                    </a:lnTo>
                    <a:lnTo>
                      <a:pt x="299" y="384"/>
                    </a:lnTo>
                    <a:lnTo>
                      <a:pt x="240" y="263"/>
                    </a:lnTo>
                    <a:lnTo>
                      <a:pt x="180" y="384"/>
                    </a:lnTo>
                    <a:lnTo>
                      <a:pt x="70" y="384"/>
                    </a:lnTo>
                    <a:lnTo>
                      <a:pt x="70" y="431"/>
                    </a:lnTo>
                    <a:lnTo>
                      <a:pt x="0" y="366"/>
                    </a:lnTo>
                    <a:lnTo>
                      <a:pt x="70" y="300"/>
                    </a:lnTo>
                    <a:lnTo>
                      <a:pt x="70" y="347"/>
                    </a:lnTo>
                    <a:lnTo>
                      <a:pt x="145" y="347"/>
                    </a:lnTo>
                    <a:lnTo>
                      <a:pt x="215" y="216"/>
                    </a:lnTo>
                    <a:lnTo>
                      <a:pt x="145" y="85"/>
                    </a:lnTo>
                    <a:lnTo>
                      <a:pt x="70" y="85"/>
                    </a:lnTo>
                    <a:lnTo>
                      <a:pt x="70" y="132"/>
                    </a:lnTo>
                    <a:lnTo>
                      <a:pt x="0" y="66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3" name=""/>
          <p:cNvGrpSpPr/>
          <p:nvPr/>
        </p:nvGrpSpPr>
        <p:grpSpPr>
          <a:xfrm>
            <a:off x="3751200" y="3191040"/>
            <a:ext cx="319320" cy="323640"/>
            <a:chOff x="3751200" y="3191040"/>
            <a:chExt cx="319320" cy="323640"/>
          </a:xfrm>
        </p:grpSpPr>
        <p:sp>
          <p:nvSpPr>
            <p:cNvPr id="244" name=""/>
            <p:cNvSpPr/>
            <p:nvPr/>
          </p:nvSpPr>
          <p:spPr>
            <a:xfrm>
              <a:off x="3751200" y="3225600"/>
              <a:ext cx="283320" cy="289080"/>
            </a:xfrm>
            <a:prstGeom prst="rect">
              <a:avLst/>
            </a:prstGeom>
            <a:solidFill>
              <a:srgbClr val="0096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751920" y="3226680"/>
              <a:ext cx="281160" cy="286920"/>
            </a:xfrm>
            <a:prstGeom prst="rect">
              <a:avLst/>
            </a:prstGeom>
            <a:solidFill>
              <a:srgbClr val="0085fe"/>
            </a:solidFill>
            <a:ln w="792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751200" y="3191040"/>
              <a:ext cx="319320" cy="34560"/>
            </a:xfrm>
            <a:custGeom>
              <a:avLst/>
              <a:gdLst/>
              <a:ahLst/>
              <a:rect l="l" t="t" r="r" b="b"/>
              <a:pathLst>
                <a:path w="619" h="61">
                  <a:moveTo>
                    <a:pt x="0" y="61"/>
                  </a:moveTo>
                  <a:lnTo>
                    <a:pt x="70" y="0"/>
                  </a:lnTo>
                  <a:lnTo>
                    <a:pt x="619" y="0"/>
                  </a:lnTo>
                  <a:lnTo>
                    <a:pt x="549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b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751200" y="3191040"/>
              <a:ext cx="319320" cy="34560"/>
            </a:xfrm>
            <a:custGeom>
              <a:avLst/>
              <a:gdLst/>
              <a:ahLst/>
              <a:rect l="l" t="t" r="r" b="b"/>
              <a:pathLst>
                <a:path w="619" h="61">
                  <a:moveTo>
                    <a:pt x="0" y="61"/>
                  </a:moveTo>
                  <a:lnTo>
                    <a:pt x="70" y="0"/>
                  </a:lnTo>
                  <a:lnTo>
                    <a:pt x="619" y="0"/>
                  </a:lnTo>
                  <a:lnTo>
                    <a:pt x="549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85fe"/>
            </a:solidFill>
            <a:ln w="792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34520" y="3191040"/>
              <a:ext cx="36000" cy="321480"/>
            </a:xfrm>
            <a:custGeom>
              <a:avLst/>
              <a:gdLst/>
              <a:ahLst/>
              <a:rect l="l" t="t" r="r" b="b"/>
              <a:pathLst>
                <a:path w="70" h="567">
                  <a:moveTo>
                    <a:pt x="0" y="61"/>
                  </a:moveTo>
                  <a:lnTo>
                    <a:pt x="70" y="0"/>
                  </a:lnTo>
                  <a:lnTo>
                    <a:pt x="70" y="506"/>
                  </a:lnTo>
                  <a:lnTo>
                    <a:pt x="0" y="56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5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034520" y="3191040"/>
              <a:ext cx="36000" cy="321480"/>
            </a:xfrm>
            <a:custGeom>
              <a:avLst/>
              <a:gdLst/>
              <a:ahLst/>
              <a:rect l="l" t="t" r="r" b="b"/>
              <a:pathLst>
                <a:path w="70" h="567">
                  <a:moveTo>
                    <a:pt x="0" y="61"/>
                  </a:moveTo>
                  <a:lnTo>
                    <a:pt x="70" y="0"/>
                  </a:lnTo>
                  <a:lnTo>
                    <a:pt x="70" y="506"/>
                  </a:lnTo>
                  <a:lnTo>
                    <a:pt x="0" y="56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808080"/>
            </a:solidFill>
            <a:ln w="792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3771720" y="3252240"/>
              <a:ext cx="249840" cy="246600"/>
              <a:chOff x="3771720" y="3252240"/>
              <a:chExt cx="249840" cy="246600"/>
            </a:xfrm>
          </p:grpSpPr>
          <p:sp>
            <p:nvSpPr>
              <p:cNvPr id="250" name=""/>
              <p:cNvSpPr/>
              <p:nvPr/>
            </p:nvSpPr>
            <p:spPr>
              <a:xfrm>
                <a:off x="3771720" y="3252240"/>
                <a:ext cx="247320" cy="244440"/>
              </a:xfrm>
              <a:custGeom>
                <a:avLst/>
                <a:gdLst/>
                <a:ahLst/>
                <a:rect l="l" t="t" r="r" b="b"/>
                <a:pathLst>
                  <a:path w="479" h="431">
                    <a:moveTo>
                      <a:pt x="70" y="0"/>
                    </a:moveTo>
                    <a:lnTo>
                      <a:pt x="70" y="51"/>
                    </a:lnTo>
                    <a:lnTo>
                      <a:pt x="180" y="51"/>
                    </a:lnTo>
                    <a:lnTo>
                      <a:pt x="240" y="168"/>
                    </a:lnTo>
                    <a:lnTo>
                      <a:pt x="299" y="51"/>
                    </a:lnTo>
                    <a:lnTo>
                      <a:pt x="409" y="51"/>
                    </a:lnTo>
                    <a:lnTo>
                      <a:pt x="409" y="0"/>
                    </a:lnTo>
                    <a:lnTo>
                      <a:pt x="479" y="65"/>
                    </a:lnTo>
                    <a:lnTo>
                      <a:pt x="409" y="131"/>
                    </a:lnTo>
                    <a:lnTo>
                      <a:pt x="409" y="84"/>
                    </a:lnTo>
                    <a:lnTo>
                      <a:pt x="329" y="84"/>
                    </a:lnTo>
                    <a:lnTo>
                      <a:pt x="265" y="215"/>
                    </a:lnTo>
                    <a:lnTo>
                      <a:pt x="329" y="346"/>
                    </a:lnTo>
                    <a:lnTo>
                      <a:pt x="409" y="346"/>
                    </a:lnTo>
                    <a:lnTo>
                      <a:pt x="409" y="299"/>
                    </a:lnTo>
                    <a:lnTo>
                      <a:pt x="479" y="365"/>
                    </a:lnTo>
                    <a:lnTo>
                      <a:pt x="409" y="431"/>
                    </a:lnTo>
                    <a:lnTo>
                      <a:pt x="409" y="384"/>
                    </a:lnTo>
                    <a:lnTo>
                      <a:pt x="299" y="384"/>
                    </a:lnTo>
                    <a:lnTo>
                      <a:pt x="240" y="262"/>
                    </a:lnTo>
                    <a:lnTo>
                      <a:pt x="180" y="384"/>
                    </a:lnTo>
                    <a:lnTo>
                      <a:pt x="70" y="384"/>
                    </a:lnTo>
                    <a:lnTo>
                      <a:pt x="70" y="431"/>
                    </a:lnTo>
                    <a:lnTo>
                      <a:pt x="0" y="365"/>
                    </a:lnTo>
                    <a:lnTo>
                      <a:pt x="70" y="299"/>
                    </a:lnTo>
                    <a:lnTo>
                      <a:pt x="70" y="346"/>
                    </a:lnTo>
                    <a:lnTo>
                      <a:pt x="145" y="346"/>
                    </a:lnTo>
                    <a:lnTo>
                      <a:pt x="215" y="215"/>
                    </a:lnTo>
                    <a:lnTo>
                      <a:pt x="145" y="84"/>
                    </a:lnTo>
                    <a:lnTo>
                      <a:pt x="70" y="84"/>
                    </a:lnTo>
                    <a:lnTo>
                      <a:pt x="70" y="131"/>
                    </a:lnTo>
                    <a:lnTo>
                      <a:pt x="0" y="65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771720" y="3252240"/>
                <a:ext cx="247320" cy="244440"/>
              </a:xfrm>
              <a:custGeom>
                <a:avLst/>
                <a:gdLst/>
                <a:ahLst/>
                <a:rect l="l" t="t" r="r" b="b"/>
                <a:pathLst>
                  <a:path w="479" h="431">
                    <a:moveTo>
                      <a:pt x="70" y="0"/>
                    </a:moveTo>
                    <a:lnTo>
                      <a:pt x="70" y="51"/>
                    </a:lnTo>
                    <a:lnTo>
                      <a:pt x="180" y="51"/>
                    </a:lnTo>
                    <a:lnTo>
                      <a:pt x="240" y="168"/>
                    </a:lnTo>
                    <a:lnTo>
                      <a:pt x="299" y="51"/>
                    </a:lnTo>
                    <a:lnTo>
                      <a:pt x="409" y="51"/>
                    </a:lnTo>
                    <a:lnTo>
                      <a:pt x="409" y="0"/>
                    </a:lnTo>
                    <a:lnTo>
                      <a:pt x="479" y="65"/>
                    </a:lnTo>
                    <a:lnTo>
                      <a:pt x="409" y="131"/>
                    </a:lnTo>
                    <a:lnTo>
                      <a:pt x="409" y="84"/>
                    </a:lnTo>
                    <a:lnTo>
                      <a:pt x="329" y="84"/>
                    </a:lnTo>
                    <a:lnTo>
                      <a:pt x="265" y="215"/>
                    </a:lnTo>
                    <a:lnTo>
                      <a:pt x="329" y="346"/>
                    </a:lnTo>
                    <a:lnTo>
                      <a:pt x="409" y="346"/>
                    </a:lnTo>
                    <a:lnTo>
                      <a:pt x="409" y="299"/>
                    </a:lnTo>
                    <a:lnTo>
                      <a:pt x="479" y="365"/>
                    </a:lnTo>
                    <a:lnTo>
                      <a:pt x="409" y="431"/>
                    </a:lnTo>
                    <a:lnTo>
                      <a:pt x="409" y="384"/>
                    </a:lnTo>
                    <a:lnTo>
                      <a:pt x="299" y="384"/>
                    </a:lnTo>
                    <a:lnTo>
                      <a:pt x="240" y="262"/>
                    </a:lnTo>
                    <a:lnTo>
                      <a:pt x="180" y="384"/>
                    </a:lnTo>
                    <a:lnTo>
                      <a:pt x="70" y="384"/>
                    </a:lnTo>
                    <a:lnTo>
                      <a:pt x="70" y="431"/>
                    </a:lnTo>
                    <a:lnTo>
                      <a:pt x="0" y="365"/>
                    </a:lnTo>
                    <a:lnTo>
                      <a:pt x="70" y="299"/>
                    </a:lnTo>
                    <a:lnTo>
                      <a:pt x="70" y="346"/>
                    </a:lnTo>
                    <a:lnTo>
                      <a:pt x="145" y="346"/>
                    </a:lnTo>
                    <a:lnTo>
                      <a:pt x="215" y="215"/>
                    </a:lnTo>
                    <a:lnTo>
                      <a:pt x="145" y="84"/>
                    </a:lnTo>
                    <a:lnTo>
                      <a:pt x="70" y="84"/>
                    </a:lnTo>
                    <a:lnTo>
                      <a:pt x="70" y="131"/>
                    </a:lnTo>
                    <a:lnTo>
                      <a:pt x="0" y="65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774240" y="3254400"/>
                <a:ext cx="247320" cy="244440"/>
              </a:xfrm>
              <a:custGeom>
                <a:avLst/>
                <a:gdLst/>
                <a:ahLst/>
                <a:rect l="l" t="t" r="r" b="b"/>
                <a:pathLst>
                  <a:path w="479" h="431">
                    <a:moveTo>
                      <a:pt x="70" y="0"/>
                    </a:moveTo>
                    <a:lnTo>
                      <a:pt x="70" y="52"/>
                    </a:lnTo>
                    <a:lnTo>
                      <a:pt x="180" y="52"/>
                    </a:lnTo>
                    <a:lnTo>
                      <a:pt x="240" y="169"/>
                    </a:lnTo>
                    <a:lnTo>
                      <a:pt x="299" y="52"/>
                    </a:lnTo>
                    <a:lnTo>
                      <a:pt x="409" y="52"/>
                    </a:lnTo>
                    <a:lnTo>
                      <a:pt x="409" y="0"/>
                    </a:lnTo>
                    <a:lnTo>
                      <a:pt x="479" y="66"/>
                    </a:lnTo>
                    <a:lnTo>
                      <a:pt x="409" y="132"/>
                    </a:lnTo>
                    <a:lnTo>
                      <a:pt x="409" y="85"/>
                    </a:lnTo>
                    <a:lnTo>
                      <a:pt x="329" y="85"/>
                    </a:lnTo>
                    <a:lnTo>
                      <a:pt x="265" y="216"/>
                    </a:lnTo>
                    <a:lnTo>
                      <a:pt x="329" y="347"/>
                    </a:lnTo>
                    <a:lnTo>
                      <a:pt x="409" y="347"/>
                    </a:lnTo>
                    <a:lnTo>
                      <a:pt x="409" y="300"/>
                    </a:lnTo>
                    <a:lnTo>
                      <a:pt x="479" y="366"/>
                    </a:lnTo>
                    <a:lnTo>
                      <a:pt x="409" y="431"/>
                    </a:lnTo>
                    <a:lnTo>
                      <a:pt x="409" y="384"/>
                    </a:lnTo>
                    <a:lnTo>
                      <a:pt x="299" y="384"/>
                    </a:lnTo>
                    <a:lnTo>
                      <a:pt x="240" y="263"/>
                    </a:lnTo>
                    <a:lnTo>
                      <a:pt x="180" y="384"/>
                    </a:lnTo>
                    <a:lnTo>
                      <a:pt x="70" y="384"/>
                    </a:lnTo>
                    <a:lnTo>
                      <a:pt x="70" y="431"/>
                    </a:lnTo>
                    <a:lnTo>
                      <a:pt x="0" y="366"/>
                    </a:lnTo>
                    <a:lnTo>
                      <a:pt x="70" y="300"/>
                    </a:lnTo>
                    <a:lnTo>
                      <a:pt x="70" y="347"/>
                    </a:lnTo>
                    <a:lnTo>
                      <a:pt x="145" y="347"/>
                    </a:lnTo>
                    <a:lnTo>
                      <a:pt x="215" y="216"/>
                    </a:lnTo>
                    <a:lnTo>
                      <a:pt x="145" y="85"/>
                    </a:lnTo>
                    <a:lnTo>
                      <a:pt x="70" y="85"/>
                    </a:lnTo>
                    <a:lnTo>
                      <a:pt x="70" y="132"/>
                    </a:lnTo>
                    <a:lnTo>
                      <a:pt x="0" y="66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774240" y="3254400"/>
                <a:ext cx="247320" cy="244440"/>
              </a:xfrm>
              <a:custGeom>
                <a:avLst/>
                <a:gdLst/>
                <a:ahLst/>
                <a:rect l="l" t="t" r="r" b="b"/>
                <a:pathLst>
                  <a:path w="479" h="431">
                    <a:moveTo>
                      <a:pt x="70" y="0"/>
                    </a:moveTo>
                    <a:lnTo>
                      <a:pt x="70" y="52"/>
                    </a:lnTo>
                    <a:lnTo>
                      <a:pt x="180" y="52"/>
                    </a:lnTo>
                    <a:lnTo>
                      <a:pt x="240" y="169"/>
                    </a:lnTo>
                    <a:lnTo>
                      <a:pt x="299" y="52"/>
                    </a:lnTo>
                    <a:lnTo>
                      <a:pt x="409" y="52"/>
                    </a:lnTo>
                    <a:lnTo>
                      <a:pt x="409" y="0"/>
                    </a:lnTo>
                    <a:lnTo>
                      <a:pt x="479" y="66"/>
                    </a:lnTo>
                    <a:lnTo>
                      <a:pt x="409" y="132"/>
                    </a:lnTo>
                    <a:lnTo>
                      <a:pt x="409" y="85"/>
                    </a:lnTo>
                    <a:lnTo>
                      <a:pt x="329" y="85"/>
                    </a:lnTo>
                    <a:lnTo>
                      <a:pt x="265" y="216"/>
                    </a:lnTo>
                    <a:lnTo>
                      <a:pt x="329" y="347"/>
                    </a:lnTo>
                    <a:lnTo>
                      <a:pt x="409" y="347"/>
                    </a:lnTo>
                    <a:lnTo>
                      <a:pt x="409" y="300"/>
                    </a:lnTo>
                    <a:lnTo>
                      <a:pt x="479" y="366"/>
                    </a:lnTo>
                    <a:lnTo>
                      <a:pt x="409" y="431"/>
                    </a:lnTo>
                    <a:lnTo>
                      <a:pt x="409" y="384"/>
                    </a:lnTo>
                    <a:lnTo>
                      <a:pt x="299" y="384"/>
                    </a:lnTo>
                    <a:lnTo>
                      <a:pt x="240" y="263"/>
                    </a:lnTo>
                    <a:lnTo>
                      <a:pt x="180" y="384"/>
                    </a:lnTo>
                    <a:lnTo>
                      <a:pt x="70" y="384"/>
                    </a:lnTo>
                    <a:lnTo>
                      <a:pt x="70" y="431"/>
                    </a:lnTo>
                    <a:lnTo>
                      <a:pt x="0" y="366"/>
                    </a:lnTo>
                    <a:lnTo>
                      <a:pt x="70" y="300"/>
                    </a:lnTo>
                    <a:lnTo>
                      <a:pt x="70" y="347"/>
                    </a:lnTo>
                    <a:lnTo>
                      <a:pt x="145" y="347"/>
                    </a:lnTo>
                    <a:lnTo>
                      <a:pt x="215" y="216"/>
                    </a:lnTo>
                    <a:lnTo>
                      <a:pt x="145" y="85"/>
                    </a:lnTo>
                    <a:lnTo>
                      <a:pt x="70" y="85"/>
                    </a:lnTo>
                    <a:lnTo>
                      <a:pt x="70" y="132"/>
                    </a:lnTo>
                    <a:lnTo>
                      <a:pt x="0" y="66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253" name=""/>
          <p:cNvCxnSpPr>
            <a:stCxn id="194" idx="3"/>
            <a:endCxn id="189" idx="4"/>
          </p:cNvCxnSpPr>
          <p:nvPr/>
        </p:nvCxnSpPr>
        <p:spPr>
          <a:xfrm flipH="1">
            <a:off x="3879360" y="4501800"/>
            <a:ext cx="150264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</a:ln>
        </p:spPr>
      </p:cxnSp>
      <p:grpSp>
        <p:nvGrpSpPr>
          <p:cNvPr id="254" name=""/>
          <p:cNvGrpSpPr/>
          <p:nvPr/>
        </p:nvGrpSpPr>
        <p:grpSpPr>
          <a:xfrm>
            <a:off x="3732120" y="4289400"/>
            <a:ext cx="319320" cy="324000"/>
            <a:chOff x="3732120" y="4289400"/>
            <a:chExt cx="319320" cy="324000"/>
          </a:xfrm>
        </p:grpSpPr>
        <p:sp>
          <p:nvSpPr>
            <p:cNvPr id="255" name=""/>
            <p:cNvSpPr/>
            <p:nvPr/>
          </p:nvSpPr>
          <p:spPr>
            <a:xfrm>
              <a:off x="3732120" y="4323960"/>
              <a:ext cx="283320" cy="289440"/>
            </a:xfrm>
            <a:prstGeom prst="rect">
              <a:avLst/>
            </a:prstGeom>
            <a:solidFill>
              <a:srgbClr val="0096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32840" y="4325040"/>
              <a:ext cx="281160" cy="286920"/>
            </a:xfrm>
            <a:prstGeom prst="rect">
              <a:avLst/>
            </a:prstGeom>
            <a:solidFill>
              <a:srgbClr val="0085fe"/>
            </a:solidFill>
            <a:ln w="792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32120" y="4289400"/>
              <a:ext cx="319320" cy="34560"/>
            </a:xfrm>
            <a:custGeom>
              <a:avLst/>
              <a:gdLst/>
              <a:ahLst/>
              <a:rect l="l" t="t" r="r" b="b"/>
              <a:pathLst>
                <a:path w="619" h="61">
                  <a:moveTo>
                    <a:pt x="0" y="61"/>
                  </a:moveTo>
                  <a:lnTo>
                    <a:pt x="70" y="0"/>
                  </a:lnTo>
                  <a:lnTo>
                    <a:pt x="619" y="0"/>
                  </a:lnTo>
                  <a:lnTo>
                    <a:pt x="549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b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732120" y="4289400"/>
              <a:ext cx="319320" cy="34560"/>
            </a:xfrm>
            <a:custGeom>
              <a:avLst/>
              <a:gdLst/>
              <a:ahLst/>
              <a:rect l="l" t="t" r="r" b="b"/>
              <a:pathLst>
                <a:path w="619" h="61">
                  <a:moveTo>
                    <a:pt x="0" y="61"/>
                  </a:moveTo>
                  <a:lnTo>
                    <a:pt x="70" y="0"/>
                  </a:lnTo>
                  <a:lnTo>
                    <a:pt x="619" y="0"/>
                  </a:lnTo>
                  <a:lnTo>
                    <a:pt x="549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85fe"/>
            </a:solidFill>
            <a:ln w="792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15440" y="4289400"/>
              <a:ext cx="36000" cy="321840"/>
            </a:xfrm>
            <a:custGeom>
              <a:avLst/>
              <a:gdLst/>
              <a:ahLst/>
              <a:rect l="l" t="t" r="r" b="b"/>
              <a:pathLst>
                <a:path w="70" h="567">
                  <a:moveTo>
                    <a:pt x="0" y="61"/>
                  </a:moveTo>
                  <a:lnTo>
                    <a:pt x="70" y="0"/>
                  </a:lnTo>
                  <a:lnTo>
                    <a:pt x="70" y="506"/>
                  </a:lnTo>
                  <a:lnTo>
                    <a:pt x="0" y="56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5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015440" y="4289400"/>
              <a:ext cx="36000" cy="321840"/>
            </a:xfrm>
            <a:custGeom>
              <a:avLst/>
              <a:gdLst/>
              <a:ahLst/>
              <a:rect l="l" t="t" r="r" b="b"/>
              <a:pathLst>
                <a:path w="70" h="567">
                  <a:moveTo>
                    <a:pt x="0" y="61"/>
                  </a:moveTo>
                  <a:lnTo>
                    <a:pt x="70" y="0"/>
                  </a:lnTo>
                  <a:lnTo>
                    <a:pt x="70" y="506"/>
                  </a:lnTo>
                  <a:lnTo>
                    <a:pt x="0" y="56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808080"/>
            </a:solidFill>
            <a:ln w="792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3752640" y="4350600"/>
              <a:ext cx="249840" cy="246960"/>
              <a:chOff x="3752640" y="4350600"/>
              <a:chExt cx="249840" cy="246960"/>
            </a:xfrm>
          </p:grpSpPr>
          <p:sp>
            <p:nvSpPr>
              <p:cNvPr id="262" name=""/>
              <p:cNvSpPr/>
              <p:nvPr/>
            </p:nvSpPr>
            <p:spPr>
              <a:xfrm>
                <a:off x="3752640" y="4350600"/>
                <a:ext cx="247320" cy="244800"/>
              </a:xfrm>
              <a:custGeom>
                <a:avLst/>
                <a:gdLst/>
                <a:ahLst/>
                <a:rect l="l" t="t" r="r" b="b"/>
                <a:pathLst>
                  <a:path w="479" h="431">
                    <a:moveTo>
                      <a:pt x="70" y="0"/>
                    </a:moveTo>
                    <a:lnTo>
                      <a:pt x="70" y="51"/>
                    </a:lnTo>
                    <a:lnTo>
                      <a:pt x="180" y="51"/>
                    </a:lnTo>
                    <a:lnTo>
                      <a:pt x="240" y="168"/>
                    </a:lnTo>
                    <a:lnTo>
                      <a:pt x="299" y="51"/>
                    </a:lnTo>
                    <a:lnTo>
                      <a:pt x="409" y="51"/>
                    </a:lnTo>
                    <a:lnTo>
                      <a:pt x="409" y="0"/>
                    </a:lnTo>
                    <a:lnTo>
                      <a:pt x="479" y="65"/>
                    </a:lnTo>
                    <a:lnTo>
                      <a:pt x="409" y="131"/>
                    </a:lnTo>
                    <a:lnTo>
                      <a:pt x="409" y="84"/>
                    </a:lnTo>
                    <a:lnTo>
                      <a:pt x="329" y="84"/>
                    </a:lnTo>
                    <a:lnTo>
                      <a:pt x="265" y="215"/>
                    </a:lnTo>
                    <a:lnTo>
                      <a:pt x="329" y="346"/>
                    </a:lnTo>
                    <a:lnTo>
                      <a:pt x="409" y="346"/>
                    </a:lnTo>
                    <a:lnTo>
                      <a:pt x="409" y="299"/>
                    </a:lnTo>
                    <a:lnTo>
                      <a:pt x="479" y="365"/>
                    </a:lnTo>
                    <a:lnTo>
                      <a:pt x="409" y="431"/>
                    </a:lnTo>
                    <a:lnTo>
                      <a:pt x="409" y="384"/>
                    </a:lnTo>
                    <a:lnTo>
                      <a:pt x="299" y="384"/>
                    </a:lnTo>
                    <a:lnTo>
                      <a:pt x="240" y="262"/>
                    </a:lnTo>
                    <a:lnTo>
                      <a:pt x="180" y="384"/>
                    </a:lnTo>
                    <a:lnTo>
                      <a:pt x="70" y="384"/>
                    </a:lnTo>
                    <a:lnTo>
                      <a:pt x="70" y="431"/>
                    </a:lnTo>
                    <a:lnTo>
                      <a:pt x="0" y="365"/>
                    </a:lnTo>
                    <a:lnTo>
                      <a:pt x="70" y="299"/>
                    </a:lnTo>
                    <a:lnTo>
                      <a:pt x="70" y="346"/>
                    </a:lnTo>
                    <a:lnTo>
                      <a:pt x="145" y="346"/>
                    </a:lnTo>
                    <a:lnTo>
                      <a:pt x="215" y="215"/>
                    </a:lnTo>
                    <a:lnTo>
                      <a:pt x="145" y="84"/>
                    </a:lnTo>
                    <a:lnTo>
                      <a:pt x="70" y="84"/>
                    </a:lnTo>
                    <a:lnTo>
                      <a:pt x="70" y="131"/>
                    </a:lnTo>
                    <a:lnTo>
                      <a:pt x="0" y="65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752640" y="4350600"/>
                <a:ext cx="247320" cy="244800"/>
              </a:xfrm>
              <a:custGeom>
                <a:avLst/>
                <a:gdLst/>
                <a:ahLst/>
                <a:rect l="l" t="t" r="r" b="b"/>
                <a:pathLst>
                  <a:path w="479" h="431">
                    <a:moveTo>
                      <a:pt x="70" y="0"/>
                    </a:moveTo>
                    <a:lnTo>
                      <a:pt x="70" y="51"/>
                    </a:lnTo>
                    <a:lnTo>
                      <a:pt x="180" y="51"/>
                    </a:lnTo>
                    <a:lnTo>
                      <a:pt x="240" y="168"/>
                    </a:lnTo>
                    <a:lnTo>
                      <a:pt x="299" y="51"/>
                    </a:lnTo>
                    <a:lnTo>
                      <a:pt x="409" y="51"/>
                    </a:lnTo>
                    <a:lnTo>
                      <a:pt x="409" y="0"/>
                    </a:lnTo>
                    <a:lnTo>
                      <a:pt x="479" y="65"/>
                    </a:lnTo>
                    <a:lnTo>
                      <a:pt x="409" y="131"/>
                    </a:lnTo>
                    <a:lnTo>
                      <a:pt x="409" y="84"/>
                    </a:lnTo>
                    <a:lnTo>
                      <a:pt x="329" y="84"/>
                    </a:lnTo>
                    <a:lnTo>
                      <a:pt x="265" y="215"/>
                    </a:lnTo>
                    <a:lnTo>
                      <a:pt x="329" y="346"/>
                    </a:lnTo>
                    <a:lnTo>
                      <a:pt x="409" y="346"/>
                    </a:lnTo>
                    <a:lnTo>
                      <a:pt x="409" y="299"/>
                    </a:lnTo>
                    <a:lnTo>
                      <a:pt x="479" y="365"/>
                    </a:lnTo>
                    <a:lnTo>
                      <a:pt x="409" y="431"/>
                    </a:lnTo>
                    <a:lnTo>
                      <a:pt x="409" y="384"/>
                    </a:lnTo>
                    <a:lnTo>
                      <a:pt x="299" y="384"/>
                    </a:lnTo>
                    <a:lnTo>
                      <a:pt x="240" y="262"/>
                    </a:lnTo>
                    <a:lnTo>
                      <a:pt x="180" y="384"/>
                    </a:lnTo>
                    <a:lnTo>
                      <a:pt x="70" y="384"/>
                    </a:lnTo>
                    <a:lnTo>
                      <a:pt x="70" y="431"/>
                    </a:lnTo>
                    <a:lnTo>
                      <a:pt x="0" y="365"/>
                    </a:lnTo>
                    <a:lnTo>
                      <a:pt x="70" y="299"/>
                    </a:lnTo>
                    <a:lnTo>
                      <a:pt x="70" y="346"/>
                    </a:lnTo>
                    <a:lnTo>
                      <a:pt x="145" y="346"/>
                    </a:lnTo>
                    <a:lnTo>
                      <a:pt x="215" y="215"/>
                    </a:lnTo>
                    <a:lnTo>
                      <a:pt x="145" y="84"/>
                    </a:lnTo>
                    <a:lnTo>
                      <a:pt x="70" y="84"/>
                    </a:lnTo>
                    <a:lnTo>
                      <a:pt x="70" y="131"/>
                    </a:lnTo>
                    <a:lnTo>
                      <a:pt x="0" y="65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755160" y="4352760"/>
                <a:ext cx="247320" cy="244800"/>
              </a:xfrm>
              <a:custGeom>
                <a:avLst/>
                <a:gdLst/>
                <a:ahLst/>
                <a:rect l="l" t="t" r="r" b="b"/>
                <a:pathLst>
                  <a:path w="479" h="431">
                    <a:moveTo>
                      <a:pt x="70" y="0"/>
                    </a:moveTo>
                    <a:lnTo>
                      <a:pt x="70" y="52"/>
                    </a:lnTo>
                    <a:lnTo>
                      <a:pt x="180" y="52"/>
                    </a:lnTo>
                    <a:lnTo>
                      <a:pt x="240" y="169"/>
                    </a:lnTo>
                    <a:lnTo>
                      <a:pt x="299" y="52"/>
                    </a:lnTo>
                    <a:lnTo>
                      <a:pt x="409" y="52"/>
                    </a:lnTo>
                    <a:lnTo>
                      <a:pt x="409" y="0"/>
                    </a:lnTo>
                    <a:lnTo>
                      <a:pt x="479" y="66"/>
                    </a:lnTo>
                    <a:lnTo>
                      <a:pt x="409" y="132"/>
                    </a:lnTo>
                    <a:lnTo>
                      <a:pt x="409" y="85"/>
                    </a:lnTo>
                    <a:lnTo>
                      <a:pt x="329" y="85"/>
                    </a:lnTo>
                    <a:lnTo>
                      <a:pt x="265" y="216"/>
                    </a:lnTo>
                    <a:lnTo>
                      <a:pt x="329" y="347"/>
                    </a:lnTo>
                    <a:lnTo>
                      <a:pt x="409" y="347"/>
                    </a:lnTo>
                    <a:lnTo>
                      <a:pt x="409" y="300"/>
                    </a:lnTo>
                    <a:lnTo>
                      <a:pt x="479" y="366"/>
                    </a:lnTo>
                    <a:lnTo>
                      <a:pt x="409" y="431"/>
                    </a:lnTo>
                    <a:lnTo>
                      <a:pt x="409" y="384"/>
                    </a:lnTo>
                    <a:lnTo>
                      <a:pt x="299" y="384"/>
                    </a:lnTo>
                    <a:lnTo>
                      <a:pt x="240" y="263"/>
                    </a:lnTo>
                    <a:lnTo>
                      <a:pt x="180" y="384"/>
                    </a:lnTo>
                    <a:lnTo>
                      <a:pt x="70" y="384"/>
                    </a:lnTo>
                    <a:lnTo>
                      <a:pt x="70" y="431"/>
                    </a:lnTo>
                    <a:lnTo>
                      <a:pt x="0" y="366"/>
                    </a:lnTo>
                    <a:lnTo>
                      <a:pt x="70" y="300"/>
                    </a:lnTo>
                    <a:lnTo>
                      <a:pt x="70" y="347"/>
                    </a:lnTo>
                    <a:lnTo>
                      <a:pt x="145" y="347"/>
                    </a:lnTo>
                    <a:lnTo>
                      <a:pt x="215" y="216"/>
                    </a:lnTo>
                    <a:lnTo>
                      <a:pt x="145" y="85"/>
                    </a:lnTo>
                    <a:lnTo>
                      <a:pt x="70" y="85"/>
                    </a:lnTo>
                    <a:lnTo>
                      <a:pt x="70" y="132"/>
                    </a:lnTo>
                    <a:lnTo>
                      <a:pt x="0" y="66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755160" y="4352760"/>
                <a:ext cx="247320" cy="244800"/>
              </a:xfrm>
              <a:custGeom>
                <a:avLst/>
                <a:gdLst/>
                <a:ahLst/>
                <a:rect l="l" t="t" r="r" b="b"/>
                <a:pathLst>
                  <a:path w="479" h="431">
                    <a:moveTo>
                      <a:pt x="70" y="0"/>
                    </a:moveTo>
                    <a:lnTo>
                      <a:pt x="70" y="52"/>
                    </a:lnTo>
                    <a:lnTo>
                      <a:pt x="180" y="52"/>
                    </a:lnTo>
                    <a:lnTo>
                      <a:pt x="240" y="169"/>
                    </a:lnTo>
                    <a:lnTo>
                      <a:pt x="299" y="52"/>
                    </a:lnTo>
                    <a:lnTo>
                      <a:pt x="409" y="52"/>
                    </a:lnTo>
                    <a:lnTo>
                      <a:pt x="409" y="0"/>
                    </a:lnTo>
                    <a:lnTo>
                      <a:pt x="479" y="66"/>
                    </a:lnTo>
                    <a:lnTo>
                      <a:pt x="409" y="132"/>
                    </a:lnTo>
                    <a:lnTo>
                      <a:pt x="409" y="85"/>
                    </a:lnTo>
                    <a:lnTo>
                      <a:pt x="329" y="85"/>
                    </a:lnTo>
                    <a:lnTo>
                      <a:pt x="265" y="216"/>
                    </a:lnTo>
                    <a:lnTo>
                      <a:pt x="329" y="347"/>
                    </a:lnTo>
                    <a:lnTo>
                      <a:pt x="409" y="347"/>
                    </a:lnTo>
                    <a:lnTo>
                      <a:pt x="409" y="300"/>
                    </a:lnTo>
                    <a:lnTo>
                      <a:pt x="479" y="366"/>
                    </a:lnTo>
                    <a:lnTo>
                      <a:pt x="409" y="431"/>
                    </a:lnTo>
                    <a:lnTo>
                      <a:pt x="409" y="384"/>
                    </a:lnTo>
                    <a:lnTo>
                      <a:pt x="299" y="384"/>
                    </a:lnTo>
                    <a:lnTo>
                      <a:pt x="240" y="263"/>
                    </a:lnTo>
                    <a:lnTo>
                      <a:pt x="180" y="384"/>
                    </a:lnTo>
                    <a:lnTo>
                      <a:pt x="70" y="384"/>
                    </a:lnTo>
                    <a:lnTo>
                      <a:pt x="70" y="431"/>
                    </a:lnTo>
                    <a:lnTo>
                      <a:pt x="0" y="366"/>
                    </a:lnTo>
                    <a:lnTo>
                      <a:pt x="70" y="300"/>
                    </a:lnTo>
                    <a:lnTo>
                      <a:pt x="70" y="347"/>
                    </a:lnTo>
                    <a:lnTo>
                      <a:pt x="145" y="347"/>
                    </a:lnTo>
                    <a:lnTo>
                      <a:pt x="215" y="216"/>
                    </a:lnTo>
                    <a:lnTo>
                      <a:pt x="145" y="85"/>
                    </a:lnTo>
                    <a:lnTo>
                      <a:pt x="70" y="85"/>
                    </a:lnTo>
                    <a:lnTo>
                      <a:pt x="70" y="132"/>
                    </a:lnTo>
                    <a:lnTo>
                      <a:pt x="0" y="66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5" name=""/>
          <p:cNvGrpSpPr/>
          <p:nvPr/>
        </p:nvGrpSpPr>
        <p:grpSpPr>
          <a:xfrm>
            <a:off x="5234040" y="4289400"/>
            <a:ext cx="318960" cy="324000"/>
            <a:chOff x="5234040" y="4289400"/>
            <a:chExt cx="318960" cy="324000"/>
          </a:xfrm>
        </p:grpSpPr>
        <p:sp>
          <p:nvSpPr>
            <p:cNvPr id="266" name=""/>
            <p:cNvSpPr/>
            <p:nvPr/>
          </p:nvSpPr>
          <p:spPr>
            <a:xfrm>
              <a:off x="5234040" y="4323960"/>
              <a:ext cx="282960" cy="289440"/>
            </a:xfrm>
            <a:prstGeom prst="rect">
              <a:avLst/>
            </a:prstGeom>
            <a:solidFill>
              <a:srgbClr val="0096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234760" y="4325040"/>
              <a:ext cx="280800" cy="286920"/>
            </a:xfrm>
            <a:prstGeom prst="rect">
              <a:avLst/>
            </a:prstGeom>
            <a:solidFill>
              <a:srgbClr val="0085fe"/>
            </a:solidFill>
            <a:ln w="792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234040" y="4289400"/>
              <a:ext cx="318960" cy="34560"/>
            </a:xfrm>
            <a:custGeom>
              <a:avLst/>
              <a:gdLst/>
              <a:ahLst/>
              <a:rect l="l" t="t" r="r" b="b"/>
              <a:pathLst>
                <a:path w="619" h="61">
                  <a:moveTo>
                    <a:pt x="0" y="61"/>
                  </a:moveTo>
                  <a:lnTo>
                    <a:pt x="70" y="0"/>
                  </a:lnTo>
                  <a:lnTo>
                    <a:pt x="619" y="0"/>
                  </a:lnTo>
                  <a:lnTo>
                    <a:pt x="549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b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34040" y="4289400"/>
              <a:ext cx="318960" cy="34560"/>
            </a:xfrm>
            <a:custGeom>
              <a:avLst/>
              <a:gdLst/>
              <a:ahLst/>
              <a:rect l="l" t="t" r="r" b="b"/>
              <a:pathLst>
                <a:path w="619" h="61">
                  <a:moveTo>
                    <a:pt x="0" y="61"/>
                  </a:moveTo>
                  <a:lnTo>
                    <a:pt x="70" y="0"/>
                  </a:lnTo>
                  <a:lnTo>
                    <a:pt x="619" y="0"/>
                  </a:lnTo>
                  <a:lnTo>
                    <a:pt x="549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85fe"/>
            </a:solidFill>
            <a:ln w="792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17000" y="4289400"/>
              <a:ext cx="36000" cy="321840"/>
            </a:xfrm>
            <a:custGeom>
              <a:avLst/>
              <a:gdLst/>
              <a:ahLst/>
              <a:rect l="l" t="t" r="r" b="b"/>
              <a:pathLst>
                <a:path w="70" h="567">
                  <a:moveTo>
                    <a:pt x="0" y="61"/>
                  </a:moveTo>
                  <a:lnTo>
                    <a:pt x="70" y="0"/>
                  </a:lnTo>
                  <a:lnTo>
                    <a:pt x="70" y="506"/>
                  </a:lnTo>
                  <a:lnTo>
                    <a:pt x="0" y="56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5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517000" y="4289400"/>
              <a:ext cx="36000" cy="321840"/>
            </a:xfrm>
            <a:custGeom>
              <a:avLst/>
              <a:gdLst/>
              <a:ahLst/>
              <a:rect l="l" t="t" r="r" b="b"/>
              <a:pathLst>
                <a:path w="70" h="567">
                  <a:moveTo>
                    <a:pt x="0" y="61"/>
                  </a:moveTo>
                  <a:lnTo>
                    <a:pt x="70" y="0"/>
                  </a:lnTo>
                  <a:lnTo>
                    <a:pt x="70" y="506"/>
                  </a:lnTo>
                  <a:lnTo>
                    <a:pt x="0" y="56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808080"/>
            </a:solidFill>
            <a:ln w="7920">
              <a:solidFill>
                <a:srgbClr val="aae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254560" y="4350600"/>
              <a:ext cx="249480" cy="246960"/>
              <a:chOff x="5254560" y="4350600"/>
              <a:chExt cx="249480" cy="246960"/>
            </a:xfrm>
          </p:grpSpPr>
          <p:sp>
            <p:nvSpPr>
              <p:cNvPr id="273" name=""/>
              <p:cNvSpPr/>
              <p:nvPr/>
            </p:nvSpPr>
            <p:spPr>
              <a:xfrm>
                <a:off x="5254560" y="4350600"/>
                <a:ext cx="246960" cy="244800"/>
              </a:xfrm>
              <a:custGeom>
                <a:avLst/>
                <a:gdLst/>
                <a:ahLst/>
                <a:rect l="l" t="t" r="r" b="b"/>
                <a:pathLst>
                  <a:path w="479" h="431">
                    <a:moveTo>
                      <a:pt x="70" y="0"/>
                    </a:moveTo>
                    <a:lnTo>
                      <a:pt x="70" y="51"/>
                    </a:lnTo>
                    <a:lnTo>
                      <a:pt x="180" y="51"/>
                    </a:lnTo>
                    <a:lnTo>
                      <a:pt x="240" y="168"/>
                    </a:lnTo>
                    <a:lnTo>
                      <a:pt x="299" y="51"/>
                    </a:lnTo>
                    <a:lnTo>
                      <a:pt x="409" y="51"/>
                    </a:lnTo>
                    <a:lnTo>
                      <a:pt x="409" y="0"/>
                    </a:lnTo>
                    <a:lnTo>
                      <a:pt x="479" y="65"/>
                    </a:lnTo>
                    <a:lnTo>
                      <a:pt x="409" y="131"/>
                    </a:lnTo>
                    <a:lnTo>
                      <a:pt x="409" y="84"/>
                    </a:lnTo>
                    <a:lnTo>
                      <a:pt x="329" y="84"/>
                    </a:lnTo>
                    <a:lnTo>
                      <a:pt x="265" y="215"/>
                    </a:lnTo>
                    <a:lnTo>
                      <a:pt x="329" y="346"/>
                    </a:lnTo>
                    <a:lnTo>
                      <a:pt x="409" y="346"/>
                    </a:lnTo>
                    <a:lnTo>
                      <a:pt x="409" y="299"/>
                    </a:lnTo>
                    <a:lnTo>
                      <a:pt x="479" y="365"/>
                    </a:lnTo>
                    <a:lnTo>
                      <a:pt x="409" y="431"/>
                    </a:lnTo>
                    <a:lnTo>
                      <a:pt x="409" y="384"/>
                    </a:lnTo>
                    <a:lnTo>
                      <a:pt x="299" y="384"/>
                    </a:lnTo>
                    <a:lnTo>
                      <a:pt x="240" y="262"/>
                    </a:lnTo>
                    <a:lnTo>
                      <a:pt x="180" y="384"/>
                    </a:lnTo>
                    <a:lnTo>
                      <a:pt x="70" y="384"/>
                    </a:lnTo>
                    <a:lnTo>
                      <a:pt x="70" y="431"/>
                    </a:lnTo>
                    <a:lnTo>
                      <a:pt x="0" y="365"/>
                    </a:lnTo>
                    <a:lnTo>
                      <a:pt x="70" y="299"/>
                    </a:lnTo>
                    <a:lnTo>
                      <a:pt x="70" y="346"/>
                    </a:lnTo>
                    <a:lnTo>
                      <a:pt x="145" y="346"/>
                    </a:lnTo>
                    <a:lnTo>
                      <a:pt x="215" y="215"/>
                    </a:lnTo>
                    <a:lnTo>
                      <a:pt x="145" y="84"/>
                    </a:lnTo>
                    <a:lnTo>
                      <a:pt x="70" y="84"/>
                    </a:lnTo>
                    <a:lnTo>
                      <a:pt x="70" y="131"/>
                    </a:lnTo>
                    <a:lnTo>
                      <a:pt x="0" y="65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254560" y="4350600"/>
                <a:ext cx="246960" cy="244800"/>
              </a:xfrm>
              <a:custGeom>
                <a:avLst/>
                <a:gdLst/>
                <a:ahLst/>
                <a:rect l="l" t="t" r="r" b="b"/>
                <a:pathLst>
                  <a:path w="479" h="431">
                    <a:moveTo>
                      <a:pt x="70" y="0"/>
                    </a:moveTo>
                    <a:lnTo>
                      <a:pt x="70" y="51"/>
                    </a:lnTo>
                    <a:lnTo>
                      <a:pt x="180" y="51"/>
                    </a:lnTo>
                    <a:lnTo>
                      <a:pt x="240" y="168"/>
                    </a:lnTo>
                    <a:lnTo>
                      <a:pt x="299" y="51"/>
                    </a:lnTo>
                    <a:lnTo>
                      <a:pt x="409" y="51"/>
                    </a:lnTo>
                    <a:lnTo>
                      <a:pt x="409" y="0"/>
                    </a:lnTo>
                    <a:lnTo>
                      <a:pt x="479" y="65"/>
                    </a:lnTo>
                    <a:lnTo>
                      <a:pt x="409" y="131"/>
                    </a:lnTo>
                    <a:lnTo>
                      <a:pt x="409" y="84"/>
                    </a:lnTo>
                    <a:lnTo>
                      <a:pt x="329" y="84"/>
                    </a:lnTo>
                    <a:lnTo>
                      <a:pt x="265" y="215"/>
                    </a:lnTo>
                    <a:lnTo>
                      <a:pt x="329" y="346"/>
                    </a:lnTo>
                    <a:lnTo>
                      <a:pt x="409" y="346"/>
                    </a:lnTo>
                    <a:lnTo>
                      <a:pt x="409" y="299"/>
                    </a:lnTo>
                    <a:lnTo>
                      <a:pt x="479" y="365"/>
                    </a:lnTo>
                    <a:lnTo>
                      <a:pt x="409" y="431"/>
                    </a:lnTo>
                    <a:lnTo>
                      <a:pt x="409" y="384"/>
                    </a:lnTo>
                    <a:lnTo>
                      <a:pt x="299" y="384"/>
                    </a:lnTo>
                    <a:lnTo>
                      <a:pt x="240" y="262"/>
                    </a:lnTo>
                    <a:lnTo>
                      <a:pt x="180" y="384"/>
                    </a:lnTo>
                    <a:lnTo>
                      <a:pt x="70" y="384"/>
                    </a:lnTo>
                    <a:lnTo>
                      <a:pt x="70" y="431"/>
                    </a:lnTo>
                    <a:lnTo>
                      <a:pt x="0" y="365"/>
                    </a:lnTo>
                    <a:lnTo>
                      <a:pt x="70" y="299"/>
                    </a:lnTo>
                    <a:lnTo>
                      <a:pt x="70" y="346"/>
                    </a:lnTo>
                    <a:lnTo>
                      <a:pt x="145" y="346"/>
                    </a:lnTo>
                    <a:lnTo>
                      <a:pt x="215" y="215"/>
                    </a:lnTo>
                    <a:lnTo>
                      <a:pt x="145" y="84"/>
                    </a:lnTo>
                    <a:lnTo>
                      <a:pt x="70" y="84"/>
                    </a:lnTo>
                    <a:lnTo>
                      <a:pt x="70" y="131"/>
                    </a:lnTo>
                    <a:lnTo>
                      <a:pt x="0" y="65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257080" y="4352760"/>
                <a:ext cx="246960" cy="244800"/>
              </a:xfrm>
              <a:custGeom>
                <a:avLst/>
                <a:gdLst/>
                <a:ahLst/>
                <a:rect l="l" t="t" r="r" b="b"/>
                <a:pathLst>
                  <a:path w="479" h="431">
                    <a:moveTo>
                      <a:pt x="70" y="0"/>
                    </a:moveTo>
                    <a:lnTo>
                      <a:pt x="70" y="52"/>
                    </a:lnTo>
                    <a:lnTo>
                      <a:pt x="180" y="52"/>
                    </a:lnTo>
                    <a:lnTo>
                      <a:pt x="240" y="169"/>
                    </a:lnTo>
                    <a:lnTo>
                      <a:pt x="299" y="52"/>
                    </a:lnTo>
                    <a:lnTo>
                      <a:pt x="409" y="52"/>
                    </a:lnTo>
                    <a:lnTo>
                      <a:pt x="409" y="0"/>
                    </a:lnTo>
                    <a:lnTo>
                      <a:pt x="479" y="66"/>
                    </a:lnTo>
                    <a:lnTo>
                      <a:pt x="409" y="132"/>
                    </a:lnTo>
                    <a:lnTo>
                      <a:pt x="409" y="85"/>
                    </a:lnTo>
                    <a:lnTo>
                      <a:pt x="329" y="85"/>
                    </a:lnTo>
                    <a:lnTo>
                      <a:pt x="265" y="216"/>
                    </a:lnTo>
                    <a:lnTo>
                      <a:pt x="329" y="347"/>
                    </a:lnTo>
                    <a:lnTo>
                      <a:pt x="409" y="347"/>
                    </a:lnTo>
                    <a:lnTo>
                      <a:pt x="409" y="300"/>
                    </a:lnTo>
                    <a:lnTo>
                      <a:pt x="479" y="366"/>
                    </a:lnTo>
                    <a:lnTo>
                      <a:pt x="409" y="431"/>
                    </a:lnTo>
                    <a:lnTo>
                      <a:pt x="409" y="384"/>
                    </a:lnTo>
                    <a:lnTo>
                      <a:pt x="299" y="384"/>
                    </a:lnTo>
                    <a:lnTo>
                      <a:pt x="240" y="263"/>
                    </a:lnTo>
                    <a:lnTo>
                      <a:pt x="180" y="384"/>
                    </a:lnTo>
                    <a:lnTo>
                      <a:pt x="70" y="384"/>
                    </a:lnTo>
                    <a:lnTo>
                      <a:pt x="70" y="431"/>
                    </a:lnTo>
                    <a:lnTo>
                      <a:pt x="0" y="366"/>
                    </a:lnTo>
                    <a:lnTo>
                      <a:pt x="70" y="300"/>
                    </a:lnTo>
                    <a:lnTo>
                      <a:pt x="70" y="347"/>
                    </a:lnTo>
                    <a:lnTo>
                      <a:pt x="145" y="347"/>
                    </a:lnTo>
                    <a:lnTo>
                      <a:pt x="215" y="216"/>
                    </a:lnTo>
                    <a:lnTo>
                      <a:pt x="145" y="85"/>
                    </a:lnTo>
                    <a:lnTo>
                      <a:pt x="70" y="85"/>
                    </a:lnTo>
                    <a:lnTo>
                      <a:pt x="70" y="132"/>
                    </a:lnTo>
                    <a:lnTo>
                      <a:pt x="0" y="66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257080" y="4352760"/>
                <a:ext cx="246960" cy="244800"/>
              </a:xfrm>
              <a:custGeom>
                <a:avLst/>
                <a:gdLst/>
                <a:ahLst/>
                <a:rect l="l" t="t" r="r" b="b"/>
                <a:pathLst>
                  <a:path w="479" h="431">
                    <a:moveTo>
                      <a:pt x="70" y="0"/>
                    </a:moveTo>
                    <a:lnTo>
                      <a:pt x="70" y="52"/>
                    </a:lnTo>
                    <a:lnTo>
                      <a:pt x="180" y="52"/>
                    </a:lnTo>
                    <a:lnTo>
                      <a:pt x="240" y="169"/>
                    </a:lnTo>
                    <a:lnTo>
                      <a:pt x="299" y="52"/>
                    </a:lnTo>
                    <a:lnTo>
                      <a:pt x="409" y="52"/>
                    </a:lnTo>
                    <a:lnTo>
                      <a:pt x="409" y="0"/>
                    </a:lnTo>
                    <a:lnTo>
                      <a:pt x="479" y="66"/>
                    </a:lnTo>
                    <a:lnTo>
                      <a:pt x="409" y="132"/>
                    </a:lnTo>
                    <a:lnTo>
                      <a:pt x="409" y="85"/>
                    </a:lnTo>
                    <a:lnTo>
                      <a:pt x="329" y="85"/>
                    </a:lnTo>
                    <a:lnTo>
                      <a:pt x="265" y="216"/>
                    </a:lnTo>
                    <a:lnTo>
                      <a:pt x="329" y="347"/>
                    </a:lnTo>
                    <a:lnTo>
                      <a:pt x="409" y="347"/>
                    </a:lnTo>
                    <a:lnTo>
                      <a:pt x="409" y="300"/>
                    </a:lnTo>
                    <a:lnTo>
                      <a:pt x="479" y="366"/>
                    </a:lnTo>
                    <a:lnTo>
                      <a:pt x="409" y="431"/>
                    </a:lnTo>
                    <a:lnTo>
                      <a:pt x="409" y="384"/>
                    </a:lnTo>
                    <a:lnTo>
                      <a:pt x="299" y="384"/>
                    </a:lnTo>
                    <a:lnTo>
                      <a:pt x="240" y="263"/>
                    </a:lnTo>
                    <a:lnTo>
                      <a:pt x="180" y="384"/>
                    </a:lnTo>
                    <a:lnTo>
                      <a:pt x="70" y="384"/>
                    </a:lnTo>
                    <a:lnTo>
                      <a:pt x="70" y="431"/>
                    </a:lnTo>
                    <a:lnTo>
                      <a:pt x="0" y="366"/>
                    </a:lnTo>
                    <a:lnTo>
                      <a:pt x="70" y="300"/>
                    </a:lnTo>
                    <a:lnTo>
                      <a:pt x="70" y="347"/>
                    </a:lnTo>
                    <a:lnTo>
                      <a:pt x="145" y="347"/>
                    </a:lnTo>
                    <a:lnTo>
                      <a:pt x="215" y="216"/>
                    </a:lnTo>
                    <a:lnTo>
                      <a:pt x="145" y="85"/>
                    </a:lnTo>
                    <a:lnTo>
                      <a:pt x="70" y="85"/>
                    </a:lnTo>
                    <a:lnTo>
                      <a:pt x="70" y="132"/>
                    </a:lnTo>
                    <a:lnTo>
                      <a:pt x="0" y="66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6" name=""/>
          <p:cNvSpPr/>
          <p:nvPr/>
        </p:nvSpPr>
        <p:spPr>
          <a:xfrm>
            <a:off x="2962440" y="5715000"/>
            <a:ext cx="72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MP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5888160" y="838080"/>
            <a:ext cx="2493720" cy="1744920"/>
            <a:chOff x="5888160" y="838080"/>
            <a:chExt cx="2493720" cy="1744920"/>
          </a:xfrm>
        </p:grpSpPr>
        <p:sp>
          <p:nvSpPr>
            <p:cNvPr id="278" name=""/>
            <p:cNvSpPr/>
            <p:nvPr/>
          </p:nvSpPr>
          <p:spPr>
            <a:xfrm>
              <a:off x="5888160" y="838080"/>
              <a:ext cx="2493720" cy="1744920"/>
            </a:xfrm>
            <a:prstGeom prst="cloudCallout">
              <a:avLst>
                <a:gd name="adj1" fmla="val -86537"/>
                <a:gd name="adj2" fmla="val -268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862320" y="981000"/>
              <a:ext cx="1256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 Topolog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997600" y="15652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1" name=""/>
            <p:cNvCxnSpPr>
              <a:stCxn id="280" idx="3"/>
              <a:endCxn id="282" idx="2"/>
            </p:cNvCxnSpPr>
            <p:nvPr/>
          </p:nvCxnSpPr>
          <p:spPr>
            <a:xfrm>
              <a:off x="6256440" y="1793880"/>
              <a:ext cx="148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3" name=""/>
            <p:cNvCxnSpPr>
              <a:stCxn id="282" idx="6"/>
              <a:endCxn id="284" idx="2"/>
            </p:cNvCxnSpPr>
            <p:nvPr/>
          </p:nvCxnSpPr>
          <p:spPr>
            <a:xfrm>
              <a:off x="6529320" y="1794960"/>
              <a:ext cx="580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5" name=""/>
            <p:cNvCxnSpPr>
              <a:stCxn id="282" idx="5"/>
              <a:endCxn id="286" idx="1"/>
            </p:cNvCxnSpPr>
            <p:nvPr/>
          </p:nvCxnSpPr>
          <p:spPr>
            <a:xfrm>
              <a:off x="6509880" y="1837800"/>
              <a:ext cx="313560" cy="321480"/>
            </a:xfrm>
            <a:prstGeom prst="straightConnector1">
              <a:avLst/>
            </a:prstGeom>
            <a:ln w="28440">
              <a:solidFill>
                <a:srgbClr val="0000ff"/>
              </a:solidFill>
              <a:prstDash val="sysDot"/>
              <a:miter/>
            </a:ln>
          </p:spPr>
        </p:cxnSp>
        <p:cxnSp>
          <p:nvCxnSpPr>
            <p:cNvPr id="287" name=""/>
            <p:cNvCxnSpPr>
              <a:stCxn id="288" idx="5"/>
              <a:endCxn id="289" idx="1"/>
            </p:cNvCxnSpPr>
            <p:nvPr/>
          </p:nvCxnSpPr>
          <p:spPr>
            <a:xfrm>
              <a:off x="7224480" y="1411200"/>
              <a:ext cx="446760" cy="34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0" name=""/>
            <p:cNvCxnSpPr>
              <a:stCxn id="286" idx="6"/>
              <a:endCxn id="291" idx="2"/>
            </p:cNvCxnSpPr>
            <p:nvPr/>
          </p:nvCxnSpPr>
          <p:spPr>
            <a:xfrm>
              <a:off x="6928920" y="2203200"/>
              <a:ext cx="484920" cy="1080"/>
            </a:xfrm>
            <a:prstGeom prst="straightConnector1">
              <a:avLst/>
            </a:prstGeom>
            <a:ln w="28440">
              <a:solidFill>
                <a:srgbClr val="0000ff"/>
              </a:solidFill>
              <a:prstDash val="sysDot"/>
              <a:miter/>
            </a:ln>
          </p:spPr>
        </p:cxnSp>
        <p:cxnSp>
          <p:nvCxnSpPr>
            <p:cNvPr id="292" name=""/>
            <p:cNvCxnSpPr>
              <a:stCxn id="282" idx="7"/>
              <a:endCxn id="288" idx="3"/>
            </p:cNvCxnSpPr>
            <p:nvPr/>
          </p:nvCxnSpPr>
          <p:spPr>
            <a:xfrm flipV="1">
              <a:off x="6510240" y="1411200"/>
              <a:ext cx="627840" cy="340200"/>
            </a:xfrm>
            <a:prstGeom prst="straightConnector1">
              <a:avLst/>
            </a:prstGeom>
            <a:ln w="28440">
              <a:solidFill>
                <a:srgbClr val="0000ff"/>
              </a:solidFill>
              <a:miter/>
            </a:ln>
          </p:spPr>
        </p:cxnSp>
        <p:cxnSp>
          <p:nvCxnSpPr>
            <p:cNvPr id="293" name=""/>
            <p:cNvCxnSpPr>
              <a:stCxn id="288" idx="4"/>
              <a:endCxn id="284" idx="0"/>
            </p:cNvCxnSpPr>
            <p:nvPr/>
          </p:nvCxnSpPr>
          <p:spPr>
            <a:xfrm flipH="1">
              <a:off x="7171560" y="1430280"/>
              <a:ext cx="10440" cy="302400"/>
            </a:xfrm>
            <a:prstGeom prst="straightConnector1">
              <a:avLst/>
            </a:prstGeom>
            <a:ln w="28440">
              <a:solidFill>
                <a:srgbClr val="0000ff"/>
              </a:solidFill>
              <a:miter/>
            </a:ln>
          </p:spPr>
        </p:cxnSp>
        <p:cxnSp>
          <p:nvCxnSpPr>
            <p:cNvPr id="294" name=""/>
            <p:cNvCxnSpPr>
              <a:stCxn id="291" idx="7"/>
              <a:endCxn id="289" idx="3"/>
            </p:cNvCxnSpPr>
            <p:nvPr/>
          </p:nvCxnSpPr>
          <p:spPr>
            <a:xfrm flipV="1">
              <a:off x="7519680" y="1837440"/>
              <a:ext cx="151560" cy="321480"/>
            </a:xfrm>
            <a:prstGeom prst="straightConnector1">
              <a:avLst/>
            </a:prstGeom>
            <a:ln w="28440">
              <a:solidFill>
                <a:srgbClr val="0000ff"/>
              </a:solidFill>
              <a:prstDash val="sysDot"/>
              <a:miter/>
            </a:ln>
          </p:spPr>
        </p:cxnSp>
        <p:cxnSp>
          <p:nvCxnSpPr>
            <p:cNvPr id="295" name=""/>
            <p:cNvCxnSpPr>
              <a:stCxn id="291" idx="1"/>
              <a:endCxn id="284" idx="5"/>
            </p:cNvCxnSpPr>
            <p:nvPr/>
          </p:nvCxnSpPr>
          <p:spPr>
            <a:xfrm flipH="1" flipV="1">
              <a:off x="7214760" y="1837440"/>
              <a:ext cx="218160" cy="321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6" name=""/>
            <p:cNvCxnSpPr>
              <a:stCxn id="284" idx="3"/>
              <a:endCxn id="286" idx="7"/>
            </p:cNvCxnSpPr>
            <p:nvPr/>
          </p:nvCxnSpPr>
          <p:spPr>
            <a:xfrm flipH="1">
              <a:off x="6910200" y="1837800"/>
              <a:ext cx="218160" cy="321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97" name=""/>
            <p:cNvSpPr/>
            <p:nvPr/>
          </p:nvSpPr>
          <p:spPr>
            <a:xfrm>
              <a:off x="6330960" y="197496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8" name=""/>
            <p:cNvCxnSpPr>
              <a:stCxn id="297" idx="3"/>
              <a:endCxn id="286" idx="2"/>
            </p:cNvCxnSpPr>
            <p:nvPr/>
          </p:nvCxnSpPr>
          <p:spPr>
            <a:xfrm>
              <a:off x="6589440" y="2203200"/>
              <a:ext cx="214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99" name=""/>
            <p:cNvSpPr/>
            <p:nvPr/>
          </p:nvSpPr>
          <p:spPr>
            <a:xfrm>
              <a:off x="7653240" y="15652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0" name=""/>
            <p:cNvCxnSpPr>
              <a:stCxn id="299" idx="3"/>
              <a:endCxn id="289" idx="6"/>
            </p:cNvCxnSpPr>
            <p:nvPr/>
          </p:nvCxnSpPr>
          <p:spPr>
            <a:xfrm flipH="1">
              <a:off x="7776360" y="1793880"/>
              <a:ext cx="1357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01" name=""/>
            <p:cNvSpPr/>
            <p:nvPr/>
          </p:nvSpPr>
          <p:spPr>
            <a:xfrm>
              <a:off x="6632640" y="113364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2" name=""/>
            <p:cNvCxnSpPr>
              <a:stCxn id="301" idx="3"/>
              <a:endCxn id="288" idx="2"/>
            </p:cNvCxnSpPr>
            <p:nvPr/>
          </p:nvCxnSpPr>
          <p:spPr>
            <a:xfrm>
              <a:off x="6891480" y="1361880"/>
              <a:ext cx="227520" cy="6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03" name=""/>
            <p:cNvSpPr/>
            <p:nvPr/>
          </p:nvSpPr>
          <p:spPr>
            <a:xfrm>
              <a:off x="7410240" y="197496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4" name=""/>
            <p:cNvCxnSpPr>
              <a:stCxn id="303" idx="3"/>
              <a:endCxn id="291" idx="6"/>
            </p:cNvCxnSpPr>
            <p:nvPr/>
          </p:nvCxnSpPr>
          <p:spPr>
            <a:xfrm flipH="1">
              <a:off x="7538400" y="2203200"/>
              <a:ext cx="1306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05" name=""/>
            <p:cNvCxnSpPr>
              <a:stCxn id="289" idx="2"/>
              <a:endCxn id="284" idx="6"/>
            </p:cNvCxnSpPr>
            <p:nvPr/>
          </p:nvCxnSpPr>
          <p:spPr>
            <a:xfrm flipH="1">
              <a:off x="7233840" y="1794960"/>
              <a:ext cx="418320" cy="1080"/>
            </a:xfrm>
            <a:prstGeom prst="straightConnector1">
              <a:avLst/>
            </a:prstGeom>
            <a:ln w="28440">
              <a:solidFill>
                <a:srgbClr val="0000ff"/>
              </a:solidFill>
              <a:miter/>
            </a:ln>
          </p:spPr>
        </p:cxnSp>
        <p:sp>
          <p:nvSpPr>
            <p:cNvPr id="288" name=""/>
            <p:cNvSpPr/>
            <p:nvPr/>
          </p:nvSpPr>
          <p:spPr>
            <a:xfrm>
              <a:off x="7118280" y="1305000"/>
              <a:ext cx="125640" cy="125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404040" y="1731960"/>
              <a:ext cx="125280" cy="125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108920" y="1731960"/>
              <a:ext cx="125280" cy="125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651800" y="1731960"/>
              <a:ext cx="125280" cy="125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413480" y="2139840"/>
              <a:ext cx="125640" cy="125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804000" y="2139840"/>
              <a:ext cx="125280" cy="125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4032360" y="5715000"/>
            <a:ext cx="72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MP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794240" y="3998880"/>
            <a:ext cx="72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MP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031000" y="3886200"/>
            <a:ext cx="72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MP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862440" y="2751120"/>
            <a:ext cx="72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MP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2606760" y="3381120"/>
            <a:ext cx="900000" cy="679320"/>
          </a:xfrm>
          <a:prstGeom prst="line">
            <a:avLst/>
          </a:prstGeom>
          <a:ln w="9360">
            <a:solidFill>
              <a:srgbClr val="996633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76640" y="3611520"/>
            <a:ext cx="0" cy="677880"/>
          </a:xfrm>
          <a:prstGeom prst="line">
            <a:avLst/>
          </a:prstGeom>
          <a:ln w="9360">
            <a:solidFill>
              <a:srgbClr val="9966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4329000" y="4387320"/>
            <a:ext cx="749520" cy="1800"/>
          </a:xfrm>
          <a:prstGeom prst="line">
            <a:avLst/>
          </a:prstGeom>
          <a:ln w="9360">
            <a:solidFill>
              <a:srgbClr val="9966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697120" y="4638600"/>
            <a:ext cx="485640" cy="595440"/>
          </a:xfrm>
          <a:prstGeom prst="line">
            <a:avLst/>
          </a:prstGeom>
          <a:ln w="9360">
            <a:solidFill>
              <a:srgbClr val="9966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3603600" y="5465880"/>
            <a:ext cx="527040" cy="1440"/>
          </a:xfrm>
          <a:prstGeom prst="line">
            <a:avLst/>
          </a:prstGeom>
          <a:ln w="9360">
            <a:solidFill>
              <a:srgbClr val="9966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4475160" y="4592520"/>
            <a:ext cx="622440" cy="749520"/>
          </a:xfrm>
          <a:prstGeom prst="line">
            <a:avLst/>
          </a:prstGeom>
          <a:ln w="9360">
            <a:solidFill>
              <a:srgbClr val="9966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2730600" y="3433320"/>
            <a:ext cx="885600" cy="693720"/>
          </a:xfrm>
          <a:prstGeom prst="line">
            <a:avLst/>
          </a:prstGeom>
          <a:ln w="9360">
            <a:solidFill>
              <a:srgbClr val="9966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7" name=""/>
          <p:cNvCxnSpPr>
            <a:stCxn id="179" idx="1"/>
            <a:endCxn id="181" idx="0"/>
          </p:cNvCxnSpPr>
          <p:nvPr/>
        </p:nvCxnSpPr>
        <p:spPr>
          <a:xfrm flipV="1" rot="10800000">
            <a:off x="2478960" y="2416680"/>
            <a:ext cx="797760" cy="1824840"/>
          </a:xfrm>
          <a:prstGeom prst="curvedConnector2">
            <a:avLst/>
          </a:prstGeom>
          <a:ln w="9360">
            <a:solidFill>
              <a:srgbClr val="000000"/>
            </a:solidFill>
            <a:prstDash val="lgDashDot"/>
            <a:miter/>
            <a:headEnd len="med" type="triangle" w="med"/>
            <a:tailEnd len="med" type="triangle" w="med"/>
          </a:ln>
        </p:spPr>
      </p:cxnSp>
      <p:sp>
        <p:nvSpPr>
          <p:cNvPr id="318" name=""/>
          <p:cNvSpPr/>
          <p:nvPr/>
        </p:nvSpPr>
        <p:spPr>
          <a:xfrm>
            <a:off x="2749680" y="4562640"/>
            <a:ext cx="485640" cy="595080"/>
          </a:xfrm>
          <a:prstGeom prst="line">
            <a:avLst/>
          </a:prstGeom>
          <a:ln w="9360">
            <a:solidFill>
              <a:srgbClr val="996633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584520" y="5361120"/>
            <a:ext cx="527040" cy="1440"/>
          </a:xfrm>
          <a:prstGeom prst="line">
            <a:avLst/>
          </a:prstGeom>
          <a:ln w="9360">
            <a:solidFill>
              <a:srgbClr val="996633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356000" y="4587480"/>
            <a:ext cx="622440" cy="749160"/>
          </a:xfrm>
          <a:prstGeom prst="line">
            <a:avLst/>
          </a:prstGeom>
          <a:ln w="9360">
            <a:solidFill>
              <a:srgbClr val="996633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4281480" y="4282560"/>
            <a:ext cx="776160" cy="1800"/>
          </a:xfrm>
          <a:prstGeom prst="line">
            <a:avLst/>
          </a:prstGeom>
          <a:ln w="9360">
            <a:solidFill>
              <a:srgbClr val="996633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172040" y="3621240"/>
            <a:ext cx="0" cy="677880"/>
          </a:xfrm>
          <a:prstGeom prst="line">
            <a:avLst/>
          </a:prstGeom>
          <a:ln w="9360">
            <a:solidFill>
              <a:srgbClr val="996633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5699160" y="4905360"/>
            <a:ext cx="2971800" cy="1523880"/>
            <a:chOff x="5699160" y="4905360"/>
            <a:chExt cx="2971800" cy="1523880"/>
          </a:xfrm>
        </p:grpSpPr>
        <p:sp>
          <p:nvSpPr>
            <p:cNvPr id="324" name=""/>
            <p:cNvSpPr/>
            <p:nvPr/>
          </p:nvSpPr>
          <p:spPr>
            <a:xfrm>
              <a:off x="5699160" y="4905360"/>
              <a:ext cx="2971800" cy="15238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NM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Network 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NE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Network El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Worker route compu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Backup route compu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Worker LS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Backup LS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Manager-to-NE com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GMPLS Signaling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811840" y="5792760"/>
              <a:ext cx="60336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811840" y="6303960"/>
              <a:ext cx="603360" cy="1440"/>
            </a:xfrm>
            <a:prstGeom prst="line">
              <a:avLst/>
            </a:prstGeom>
            <a:ln w="9360">
              <a:solidFill>
                <a:srgbClr val="996633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811840" y="6132240"/>
              <a:ext cx="60336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811840" y="5964120"/>
              <a:ext cx="603360" cy="0"/>
            </a:xfrm>
            <a:prstGeom prst="line">
              <a:avLst/>
            </a:prstGeom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811840" y="5452920"/>
              <a:ext cx="60336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811840" y="5622840"/>
              <a:ext cx="603360" cy="144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762120" y="1072440"/>
            <a:ext cx="2361960" cy="788760"/>
          </a:xfrm>
          <a:prstGeom prst="wedgeRoundRectCallout">
            <a:avLst>
              <a:gd name="adj1" fmla="val 66046"/>
              <a:gd name="adj2" fmla="val -1236"/>
              <a:gd name="adj3" fmla="val 16667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Times New Roman"/>
              </a:rPr>
              <a:t>The architectural</a:t>
            </a:r>
            <a:r>
              <a:rPr b="0" lang="it-IT" sz="12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Times New Roman"/>
              </a:rPr>
              <a:t>choice is for the implementation of the PCS module inside a centralized network manager (N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52280" y="2057400"/>
            <a:ext cx="2295720" cy="1213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Times New Roman"/>
              </a:rPr>
              <a:t>PCS acts as a path computation server receiving from the NE the topology information and the computation requests across a single</a:t>
            </a:r>
            <a:r>
              <a:rPr b="0" lang="it-IT" sz="1200" spc="-1" strike="noStrike">
                <a:solidFill>
                  <a:srgbClr val="000066"/>
                </a:solidFill>
                <a:latin typeface="Arial"/>
                <a:ea typeface="Times New Roman"/>
              </a:rPr>
              <a:t>/</a:t>
            </a: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Times New Roman"/>
              </a:rPr>
              <a:t>multi-area/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04920" y="4876200"/>
            <a:ext cx="1523880" cy="985680"/>
          </a:xfrm>
          <a:prstGeom prst="wedgeRoundRectCallout">
            <a:avLst>
              <a:gd name="adj1" fmla="val 53208"/>
              <a:gd name="adj2" fmla="val -78000"/>
              <a:gd name="adj3" fmla="val 16667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Times New Roman"/>
              </a:rPr>
              <a:t>The LSPs are communicated to the ingress NE, triggering a standard signalling sess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638680" y="2771640"/>
            <a:ext cx="3548160" cy="424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This solution promises to be the most effective for a full and flexible handling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of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019920" y="3276720"/>
            <a:ext cx="3154320" cy="212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6920" indent="-19692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19920" y="3908520"/>
            <a:ext cx="3154320" cy="849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6920" indent="-19692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particularly when these requirements need to be extended to a multi-area (or multi-domain) scenari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033960" y="3592440"/>
            <a:ext cx="3125880" cy="212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6920" indent="-19692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survivability into the network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01880" y="127080"/>
            <a:ext cx="795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</a:rPr>
              <a:t>Requirements for a GMPLS PCS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7520" y="5398920"/>
            <a:ext cx="8674200" cy="8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standard SPF algorithms are not suited, they cumulate only the link metr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 modified SPF algorithm (CSPF) is needed, because the routes should be the shortest among those which satisfy the required set of constrai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17520" y="4770360"/>
            <a:ext cx="86742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A GMPLS path calculator is expected to return LSPs which try to match some constraints derived from the TE inform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17520" y="3247920"/>
            <a:ext cx="86742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For routing purposes, to transform the traditional links in TE-links, a set of properties is assigned to each link</a:t>
            </a:r>
            <a:r>
              <a:rPr b="0" lang="it-IT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17520" y="2327400"/>
            <a:ext cx="8674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PCS for standard IP networks are generally based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17520" y="965160"/>
            <a:ext cx="867420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Traffic Engineering is fundamen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to </a:t>
            </a:r>
            <a:r>
              <a:rPr b="0" i="1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optimize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network perform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for </a:t>
            </a:r>
            <a:r>
              <a:rPr b="0" i="1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load balancing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in the transport network, in order to avoid the </a:t>
            </a:r>
            <a:r>
              <a:rPr b="0" i="1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overloading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(up to saturation) of some network resources and the </a:t>
            </a:r>
            <a:r>
              <a:rPr b="0" i="1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sub-utilization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of others (TE Resource Orient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886200" y="3881520"/>
            <a:ext cx="38862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SRLG lis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inherent protection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17520" y="3876840"/>
            <a:ext cx="372096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TE metric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vailable/used bandwidth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resource colour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760" y="2622600"/>
            <a:ext cx="86738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distributed, fast and simple routing algorithms (e.g. of the SPF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this algorithms walk along a graph derived from the real netw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01880" y="127080"/>
            <a:ext cx="795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</a:rPr>
              <a:t>Connection survivability 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35080" y="1008000"/>
            <a:ext cx="867384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It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depends on the recovery strategy implemented in the netwo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New recovery strategies are enabled by the GMPLS control pla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213000" y="227016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695600" y="3351240"/>
            <a:ext cx="158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ATH-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904000" y="3382920"/>
            <a:ext cx="158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PAN-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685800" y="4311720"/>
            <a:ext cx="5937120" cy="673560"/>
            <a:chOff x="685800" y="4311720"/>
            <a:chExt cx="5937120" cy="673560"/>
          </a:xfrm>
        </p:grpSpPr>
        <p:sp>
          <p:nvSpPr>
            <p:cNvPr id="353" name=""/>
            <p:cNvSpPr/>
            <p:nvPr/>
          </p:nvSpPr>
          <p:spPr>
            <a:xfrm>
              <a:off x="685800" y="4311720"/>
              <a:ext cx="14414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PROTE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+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:N (1:N, 1:1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81480" y="4343400"/>
              <a:ext cx="14414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PROTE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+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:N (1:N, 1:1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1405080" y="3683160"/>
            <a:ext cx="6154560" cy="679320"/>
            <a:chOff x="1405080" y="3683160"/>
            <a:chExt cx="6154560" cy="679320"/>
          </a:xfrm>
        </p:grpSpPr>
        <p:grpSp>
          <p:nvGrpSpPr>
            <p:cNvPr id="356" name=""/>
            <p:cNvGrpSpPr/>
            <p:nvPr/>
          </p:nvGrpSpPr>
          <p:grpSpPr>
            <a:xfrm>
              <a:off x="5759280" y="3714840"/>
              <a:ext cx="1800360" cy="647640"/>
              <a:chOff x="5759280" y="3714840"/>
              <a:chExt cx="1800360" cy="647640"/>
            </a:xfrm>
          </p:grpSpPr>
          <p:sp>
            <p:nvSpPr>
              <p:cNvPr id="357" name=""/>
              <p:cNvSpPr/>
              <p:nvPr/>
            </p:nvSpPr>
            <p:spPr>
              <a:xfrm>
                <a:off x="5759280" y="4146480"/>
                <a:ext cx="18003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25440" y="3714840"/>
                <a:ext cx="0" cy="4316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759280" y="4146480"/>
                <a:ext cx="0" cy="2160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559640" y="4146480"/>
                <a:ext cx="0" cy="2160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1405080" y="3683160"/>
              <a:ext cx="1946160" cy="647280"/>
              <a:chOff x="1405080" y="3683160"/>
              <a:chExt cx="1946160" cy="647280"/>
            </a:xfrm>
          </p:grpSpPr>
          <p:sp>
            <p:nvSpPr>
              <p:cNvPr id="362" name=""/>
              <p:cNvSpPr/>
              <p:nvPr/>
            </p:nvSpPr>
            <p:spPr>
              <a:xfrm>
                <a:off x="1405080" y="4114800"/>
                <a:ext cx="19429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342880" y="3683160"/>
                <a:ext cx="0" cy="4316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351240" y="4114800"/>
                <a:ext cx="0" cy="2156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406520" y="4114800"/>
                <a:ext cx="0" cy="2156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6" name=""/>
          <p:cNvGrpSpPr/>
          <p:nvPr/>
        </p:nvGrpSpPr>
        <p:grpSpPr>
          <a:xfrm>
            <a:off x="2361960" y="2654280"/>
            <a:ext cx="4260960" cy="720720"/>
            <a:chOff x="2361960" y="2654280"/>
            <a:chExt cx="4260960" cy="720720"/>
          </a:xfrm>
        </p:grpSpPr>
        <p:sp>
          <p:nvSpPr>
            <p:cNvPr id="367" name=""/>
            <p:cNvSpPr/>
            <p:nvPr/>
          </p:nvSpPr>
          <p:spPr>
            <a:xfrm>
              <a:off x="4446720" y="2654280"/>
              <a:ext cx="0" cy="504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62320" y="3168720"/>
              <a:ext cx="0" cy="1839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622920" y="3159000"/>
              <a:ext cx="0" cy="216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0" name=""/>
            <p:cNvCxnSpPr>
              <a:stCxn id="368" idx="0"/>
              <a:endCxn id="369" idx="0"/>
            </p:cNvCxnSpPr>
            <p:nvPr/>
          </p:nvCxnSpPr>
          <p:spPr>
            <a:xfrm flipV="1">
              <a:off x="2361960" y="3147120"/>
              <a:ext cx="4261320" cy="1044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</p:grpSp>
      <p:grpSp>
        <p:nvGrpSpPr>
          <p:cNvPr id="371" name=""/>
          <p:cNvGrpSpPr/>
          <p:nvPr/>
        </p:nvGrpSpPr>
        <p:grpSpPr>
          <a:xfrm>
            <a:off x="2416320" y="4311720"/>
            <a:ext cx="6575400" cy="673560"/>
            <a:chOff x="2416320" y="4311720"/>
            <a:chExt cx="6575400" cy="673560"/>
          </a:xfrm>
        </p:grpSpPr>
        <p:sp>
          <p:nvSpPr>
            <p:cNvPr id="372" name=""/>
            <p:cNvSpPr/>
            <p:nvPr/>
          </p:nvSpPr>
          <p:spPr>
            <a:xfrm>
              <a:off x="6858000" y="4343400"/>
              <a:ext cx="21337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RESTO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e-computation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re-panne Fast Restor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416320" y="4311720"/>
              <a:ext cx="22860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RESTO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e-computation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re-planned Fast Restor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533520" y="1956960"/>
            <a:ext cx="1981080" cy="985680"/>
          </a:xfrm>
          <a:prstGeom prst="wedgeRoundRectCallout">
            <a:avLst>
              <a:gd name="adj1" fmla="val -92"/>
              <a:gd name="adj2" fmla="val 88333"/>
              <a:gd name="adj3" fmla="val 16667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Arial"/>
                <a:ea typeface="Times New Roman"/>
              </a:rPr>
              <a:t>a</a:t>
            </a: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Times New Roman"/>
              </a:rPr>
              <a:t> failure notification is propagated till the end nodes of the affected LSP and there solved</a:t>
            </a:r>
            <a:r>
              <a:rPr b="0" lang="it-IT" sz="1200" spc="-1" strike="noStrike">
                <a:solidFill>
                  <a:srgbClr val="000066"/>
                </a:solidFill>
                <a:latin typeface="Arial"/>
                <a:ea typeface="Times New Roman"/>
              </a:rPr>
              <a:t>        (a.k.a end-to-e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086600" y="1955880"/>
            <a:ext cx="1752480" cy="985680"/>
          </a:xfrm>
          <a:prstGeom prst="wedgeRoundRectCallout">
            <a:avLst>
              <a:gd name="adj1" fmla="val -44930"/>
              <a:gd name="adj2" fmla="val 88773"/>
              <a:gd name="adj3" fmla="val 16667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Times New Roman"/>
              </a:rPr>
              <a:t>a failure is notified and solved at intermediate nodes, next to the failed resource </a:t>
            </a:r>
            <a:r>
              <a:rPr b="0" lang="it-IT" sz="1200" spc="-1" strike="noStrike">
                <a:solidFill>
                  <a:srgbClr val="000066"/>
                </a:solidFill>
                <a:latin typeface="Arial"/>
                <a:ea typeface="Times New Roman"/>
              </a:rPr>
              <a:t>    </a:t>
            </a: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Times New Roman"/>
              </a:rPr>
              <a:t>(a.k.a. local repai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066680" y="5491440"/>
            <a:ext cx="2057400" cy="591120"/>
          </a:xfrm>
          <a:prstGeom prst="wedgeRoundRectCallout">
            <a:avLst>
              <a:gd name="adj1" fmla="val -36810"/>
              <a:gd name="adj2" fmla="val -122305"/>
              <a:gd name="adj3" fmla="val 16667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Times New Roman"/>
              </a:rPr>
              <a:t>perform pre-calculation and pre-allocation of a backup LSP or set of sp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038480" y="5414400"/>
            <a:ext cx="2438640" cy="985680"/>
          </a:xfrm>
          <a:prstGeom prst="wedgeRoundRectCallout">
            <a:avLst>
              <a:gd name="adj1" fmla="val -53245"/>
              <a:gd name="adj2" fmla="val -83296"/>
              <a:gd name="adj3" fmla="val 16667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Times New Roman"/>
              </a:rPr>
              <a:t>a new LSP is </a:t>
            </a:r>
            <a:r>
              <a:rPr b="0" i="1" lang="en-GB" sz="1200" spc="-1" strike="noStrike">
                <a:solidFill>
                  <a:srgbClr val="000066"/>
                </a:solidFill>
                <a:latin typeface="Arial"/>
                <a:ea typeface="Times New Roman"/>
              </a:rPr>
              <a:t>dynamically allocated</a:t>
            </a: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Times New Roman"/>
              </a:rPr>
              <a:t> only at time of failure (On-the-fly) or it is </a:t>
            </a:r>
            <a:r>
              <a:rPr b="0" i="1" lang="en-GB" sz="1200" spc="-1" strike="noStrike">
                <a:solidFill>
                  <a:srgbClr val="000066"/>
                </a:solidFill>
                <a:latin typeface="Arial"/>
                <a:ea typeface="Times New Roman"/>
              </a:rPr>
              <a:t>pre-computed</a:t>
            </a: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Times New Roman"/>
              </a:rPr>
              <a:t> and only </a:t>
            </a:r>
            <a:r>
              <a:rPr b="0" i="1" lang="en-GB" sz="1200" spc="-1" strike="noStrike">
                <a:solidFill>
                  <a:srgbClr val="000066"/>
                </a:solidFill>
                <a:latin typeface="Arial"/>
                <a:ea typeface="Times New Roman"/>
              </a:rPr>
              <a:t>booked</a:t>
            </a: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Times New Roman"/>
              </a:rPr>
              <a:t> for a future restoration (Fast Resto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3048120" y="3352680"/>
            <a:ext cx="2590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estoration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0880" y="1165320"/>
            <a:ext cx="1447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pan level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162160" y="12952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gradFill rotWithShape="0">
            <a:gsLst>
              <a:gs pos="0">
                <a:srgbClr val="91d5ff">
                  <a:alpha val="50196"/>
                </a:srgbClr>
              </a:gs>
              <a:gs pos="50000">
                <a:srgbClr val="ccffff"/>
              </a:gs>
              <a:gs pos="100000">
                <a:srgbClr val="91d5ff">
                  <a:alpha val="50196"/>
                </a:srgbClr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276720" y="130176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sub-optim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56320" y="11430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waste of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resources</a:t>
            </a:r>
            <a:r>
              <a:rPr b="0" lang="it-IT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in th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257800" y="12952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gradFill rotWithShape="0">
            <a:gsLst>
              <a:gs pos="0">
                <a:srgbClr val="91d5ff">
                  <a:alpha val="50196"/>
                </a:srgbClr>
              </a:gs>
              <a:gs pos="50000">
                <a:srgbClr val="ccffff"/>
              </a:gs>
              <a:gs pos="100000">
                <a:srgbClr val="91d5ff">
                  <a:alpha val="50196"/>
                </a:srgbClr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2160" y="23302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gradFill rotWithShape="0">
            <a:gsLst>
              <a:gs pos="0">
                <a:srgbClr val="91d5ff">
                  <a:alpha val="50196"/>
                </a:srgbClr>
              </a:gs>
              <a:gs pos="50000">
                <a:srgbClr val="ccffff"/>
              </a:gs>
              <a:gs pos="100000">
                <a:srgbClr val="91d5ff">
                  <a:alpha val="50196"/>
                </a:srgbClr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467160" y="23385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optim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08600" y="21319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more efficient</a:t>
            </a:r>
            <a:r>
              <a:rPr b="0" lang="it-IT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,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   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best end-to-end backup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257800" y="23302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gradFill rotWithShape="0">
            <a:gsLst>
              <a:gs pos="0">
                <a:srgbClr val="91d5ff">
                  <a:alpha val="50196"/>
                </a:srgbClr>
              </a:gs>
              <a:gs pos="50000">
                <a:srgbClr val="ccffff"/>
              </a:gs>
              <a:gs pos="100000">
                <a:srgbClr val="91d5ff">
                  <a:alpha val="50196"/>
                </a:srgbClr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80880" y="2200320"/>
            <a:ext cx="1447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path level</a:t>
            </a:r>
            <a:r>
              <a:rPr b="0" lang="it-IT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69800" y="4559400"/>
            <a:ext cx="829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in case of a fault, a higher blocking probability for the restoring traffic might be experim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69800" y="3983040"/>
            <a:ext cx="867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fits better the dynamical assignment/release of the network resour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990720" y="5410080"/>
            <a:ext cx="80643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failure handling by control plane mechanisms instead of hardware ones (e.g. detection, notification and mitigati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01880" y="127080"/>
            <a:ext cx="79516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</a:rPr>
              <a:t>Connection survivability 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01880" y="127080"/>
            <a:ext cx="795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</a:rPr>
              <a:t>Disjointness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41200" y="852480"/>
            <a:ext cx="867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A common requirement for all the recovery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41200" y="1857240"/>
            <a:ext cx="8674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In the GMPLS architecture different levels of disjointness for LSPs are defin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362320" y="231444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related to the 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logical layer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of the transport network</a:t>
            </a:r>
            <a:r>
              <a:rPr b="0" lang="it-IT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(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TE-topology</a:t>
            </a:r>
            <a:r>
              <a:rPr b="0" lang="it-IT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)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590920" y="2695680"/>
            <a:ext cx="5867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related to the 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physical layer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, as SRLGs may be used to locate conduits, fibres or general risks for physical resources.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04920" y="48402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66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Bhandari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04920" y="3276720"/>
            <a:ext cx="44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66"/>
                </a:solidFill>
                <a:latin typeface="Arial"/>
              </a:rPr>
              <a:t>Two-Step-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09480" y="2162160"/>
            <a:ext cx="1295640" cy="9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Nod</a:t>
            </a:r>
            <a:r>
              <a:rPr b="0" lang="it-IT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SR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981080" y="2057400"/>
            <a:ext cx="22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  <a:ea typeface="Arial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917720" y="2940120"/>
            <a:ext cx="533520" cy="0"/>
          </a:xfrm>
          <a:prstGeom prst="line">
            <a:avLst/>
          </a:prstGeom>
          <a:ln w="63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41200" y="1217520"/>
            <a:ext cx="867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This is needed to </a:t>
            </a:r>
            <a:r>
              <a:rPr b="0" i="1" lang="en-GB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minimize the blocking probability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 of the dynamical recovery action in case of faul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09480" y="3652920"/>
            <a:ext cx="784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Bef>
                <a:spcPts val="1125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easy to be implemente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1125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limited complexity both of the SPF and of the network transform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1125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lower guarantee to find the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completely</a:t>
            </a: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 disjoint pair of pat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5216400"/>
            <a:ext cx="8229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higher complexity due to a modified SPF running on a negative graphs and to an interlacing procedu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able to calculate the optimum pair of disjoint paths with lowest c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01880" y="127080"/>
            <a:ext cx="795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</a:rPr>
              <a:t>TSA algorith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651040" y="1958400"/>
            <a:ext cx="5272200" cy="337320"/>
          </a:xfrm>
          <a:prstGeom prst="flowChartProcess">
            <a:avLst/>
          </a:prstGeom>
          <a:gradFill rotWithShape="0">
            <a:gsLst>
              <a:gs pos="0">
                <a:srgbClr val="a8d3fe"/>
              </a:gs>
              <a:gs pos="100000">
                <a:srgbClr val="99ccff"/>
              </a:gs>
            </a:gsLst>
            <a:lin ang="13500000"/>
          </a:gra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un Dijkstra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tween source and destination vert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58640" y="2454120"/>
            <a:ext cx="1675080" cy="580680"/>
          </a:xfrm>
          <a:prstGeom prst="flowChartInputOutput">
            <a:avLst/>
          </a:prstGeom>
          <a:gradFill rotWithShape="0">
            <a:gsLst>
              <a:gs pos="0">
                <a:srgbClr val="dbdb00"/>
              </a:gs>
              <a:gs pos="100000">
                <a:srgbClr val="ffff00"/>
              </a:gs>
            </a:gsLst>
            <a:lin ang="13500000"/>
          </a:gra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twork Grap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651040" y="2797920"/>
            <a:ext cx="5272200" cy="824040"/>
          </a:xfrm>
          <a:prstGeom prst="flowChartProcess">
            <a:avLst/>
          </a:prstGeom>
          <a:gradFill rotWithShape="0">
            <a:gsLst>
              <a:gs pos="0">
                <a:srgbClr val="a8d3fe"/>
              </a:gs>
              <a:gs pos="100000">
                <a:srgbClr val="99ccff"/>
              </a:gs>
            </a:gsLst>
            <a:lin ang="13500000"/>
          </a:gra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h link incident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n any node of th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irs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shortest path (except for the endpoint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des) is transformed adding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tra cos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0" name=""/>
          <p:cNvCxnSpPr>
            <a:stCxn id="407" idx="2"/>
            <a:endCxn id="409" idx="0"/>
          </p:cNvCxnSpPr>
          <p:nvPr/>
        </p:nvCxnSpPr>
        <p:spPr>
          <a:xfrm>
            <a:off x="5287680" y="2320920"/>
            <a:ext cx="1080" cy="45144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411" name=""/>
          <p:cNvCxnSpPr>
            <a:stCxn id="409" idx="2"/>
            <a:endCxn id="412" idx="0"/>
          </p:cNvCxnSpPr>
          <p:nvPr/>
        </p:nvCxnSpPr>
        <p:spPr>
          <a:xfrm>
            <a:off x="5288040" y="3647880"/>
            <a:ext cx="2160" cy="44964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413" name=""/>
          <p:cNvSpPr/>
          <p:nvPr/>
        </p:nvSpPr>
        <p:spPr>
          <a:xfrm>
            <a:off x="4643280" y="4942800"/>
            <a:ext cx="1289160" cy="1234800"/>
          </a:xfrm>
          <a:prstGeom prst="flowChartMultidocument">
            <a:avLst/>
          </a:prstGeom>
          <a:gradFill rotWithShape="0">
            <a:gsLst>
              <a:gs pos="0">
                <a:srgbClr val="a8d3fe"/>
              </a:gs>
              <a:gs pos="100000">
                <a:srgbClr val="99ccff"/>
              </a:gs>
            </a:gsLst>
            <a:lin ang="13500000"/>
          </a:gra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 vertex disjoint pa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4" name=""/>
          <p:cNvCxnSpPr>
            <a:stCxn id="412" idx="2"/>
            <a:endCxn id="413" idx="0"/>
          </p:cNvCxnSpPr>
          <p:nvPr/>
        </p:nvCxnSpPr>
        <p:spPr>
          <a:xfrm flipH="1">
            <a:off x="5287680" y="4484160"/>
            <a:ext cx="2160" cy="45180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412" name=""/>
          <p:cNvSpPr/>
          <p:nvPr/>
        </p:nvSpPr>
        <p:spPr>
          <a:xfrm>
            <a:off x="2652840" y="4122360"/>
            <a:ext cx="5271840" cy="337320"/>
          </a:xfrm>
          <a:prstGeom prst="flowChartProcess">
            <a:avLst/>
          </a:prstGeom>
          <a:gradFill rotWithShape="0">
            <a:gsLst>
              <a:gs pos="0">
                <a:srgbClr val="a8d3fe"/>
              </a:gs>
              <a:gs pos="100000">
                <a:srgbClr val="99ccff"/>
              </a:gs>
            </a:gsLst>
            <a:lin ang="13500000"/>
          </a:gra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un Dijkstra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tween source and destination vert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72080" y="957600"/>
            <a:ext cx="1233360" cy="521640"/>
          </a:xfrm>
          <a:prstGeom prst="flowChartTerminator">
            <a:avLst/>
          </a:prstGeom>
          <a:gradFill rotWithShape="0">
            <a:gsLst>
              <a:gs pos="0">
                <a:srgbClr val="a8d3fe"/>
              </a:gs>
              <a:gs pos="100000">
                <a:srgbClr val="99ccff"/>
              </a:gs>
            </a:gsLst>
            <a:lin ang="13500000"/>
          </a:gra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1463400" y="1484280"/>
            <a:ext cx="3826080" cy="944640"/>
            <a:chOff x="1463400" y="1484280"/>
            <a:chExt cx="3826080" cy="944640"/>
          </a:xfrm>
        </p:grpSpPr>
        <p:cxnSp>
          <p:nvCxnSpPr>
            <p:cNvPr id="417" name=""/>
            <p:cNvCxnSpPr>
              <a:stCxn id="408" idx="0"/>
              <a:endCxn id="407" idx="1"/>
            </p:cNvCxnSpPr>
            <p:nvPr/>
          </p:nvCxnSpPr>
          <p:spPr>
            <a:xfrm flipH="1" flipV="1" rot="5400000">
              <a:off x="1899720" y="1690200"/>
              <a:ext cx="302400" cy="1175400"/>
            </a:xfrm>
            <a:prstGeom prst="bentConnector2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418" name=""/>
            <p:cNvCxnSpPr>
              <a:stCxn id="415" idx="2"/>
              <a:endCxn id="407" idx="0"/>
            </p:cNvCxnSpPr>
            <p:nvPr/>
          </p:nvCxnSpPr>
          <p:spPr>
            <a:xfrm flipH="1">
              <a:off x="5287680" y="1484280"/>
              <a:ext cx="2160" cy="4500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8T17:42:20Z</dcterms:created>
  <dc:creator>Giodi Giorgi</dc:creator>
  <dc:description/>
  <dc:language>en-US</dc:language>
  <cp:lastModifiedBy>Giodi Giorgi</cp:lastModifiedBy>
  <dcterms:modified xsi:type="dcterms:W3CDTF">2003-11-18T13:07:22Z</dcterms:modified>
  <cp:revision>67</cp:revision>
  <dc:subject/>
  <dc:title>Diapositiva 1</dc:title>
</cp:coreProperties>
</file>