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1C9-754F-40E3-BB0D-8BC46CF1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ACB-BA3D-4C66-9A2C-4CC7EC63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540-C609-402D-AE92-AF574D13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71B-CFDA-42B5-8287-2E84D3DE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60F6-8802-4434-A98B-4611A165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4367-3BCB-4589-B4FB-883BEAD2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3634-7C21-4EB5-91AB-20850725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D84E-0E89-482F-A986-E6896B79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9DFF-F925-4E15-94D8-DF2C22C7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1574-549C-403D-851B-C1439D77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1B2C-6838-468E-8C20-596604BB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27A-C6F0-43B8-8931-96E542FB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08DA-0CB6-40AA-9B4B-7D101F55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F66F-6800-4495-8FA0-250101AF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8B01-86D7-48B1-BCE9-3F150469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554E-8CE6-446C-9196-3F67798B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794B-C168-4F42-87AD-F50E59E1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615-F3DC-4C24-A9DF-D051CA88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34A-2C6C-4EB6-ACF0-D3BC863B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B70-C13D-42BB-B603-74AE62C3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1FB-0E3D-44C5-B3DD-80172BF0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3CA-4BB0-4B54-A564-287DCA3D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069-5EEC-43A1-B0CB-4D74A568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C7B-13E1-4251-9F9F-7030CF8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03C3-BD52-4A31-9079-7A14247DAA40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E079-E4E1-411E-88A1-3FD23E963D55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76240" y="3001680"/>
            <a:ext cx="739152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Times New Roman"/>
              </a:rPr>
              <a:t>Uno strumento per la stima delle prestazioni dal modello RT-UML di un sistema software basato sui componenti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76720" y="4572000"/>
            <a:ext cx="259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rko Canet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Istituto di Scienza e Tecnologie dell’Inform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Consiglio Nazionale delle Ricerc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4038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ff"/>
                </a:solidFill>
                <a:latin typeface="Times New Roman"/>
              </a:rPr>
              <a:t>Lavoro in collaborazione con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Ing. Antonia Bertol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Dott.ssa Raffaela Mirand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satel" descr=""/>
          <p:cNvPicPr/>
          <p:nvPr/>
        </p:nvPicPr>
        <p:blipFill>
          <a:blip r:embed="rId1"/>
          <a:stretch/>
        </p:blipFill>
        <p:spPr>
          <a:xfrm>
            <a:off x="3838680" y="1765440"/>
            <a:ext cx="147636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2987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33ccff"/>
                </a:solidFill>
                <a:latin typeface="Times New Roman"/>
              </a:rPr>
              <a:t>U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equence Dia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eployment Dia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oscenze e tecnologie di bas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47920" y="3311640"/>
            <a:ext cx="914760" cy="762120"/>
            <a:chOff x="1447920" y="3311640"/>
            <a:chExt cx="914760" cy="762120"/>
          </a:xfrm>
        </p:grpSpPr>
        <p:cxnSp>
          <p:nvCxnSpPr>
            <p:cNvPr id="231" name=""/>
            <p:cNvCxnSpPr/>
            <p:nvPr/>
          </p:nvCxnSpPr>
          <p:spPr>
            <a:xfrm>
              <a:off x="1905120" y="3311640"/>
              <a:ext cx="2160" cy="762480"/>
            </a:xfrm>
            <a:prstGeom prst="straightConnector1">
              <a:avLst/>
            </a:prstGeom>
            <a:ln w="63360">
              <a:solidFill>
                <a:srgbClr val="ffffff"/>
              </a:solidFill>
              <a:miter/>
            </a:ln>
          </p:spPr>
        </p:cxnSp>
        <p:cxnSp>
          <p:nvCxnSpPr>
            <p:cNvPr id="232" name=""/>
            <p:cNvCxnSpPr/>
            <p:nvPr/>
          </p:nvCxnSpPr>
          <p:spPr>
            <a:xfrm>
              <a:off x="1447920" y="3692160"/>
              <a:ext cx="915120" cy="1080"/>
            </a:xfrm>
            <a:prstGeom prst="straightConnector1">
              <a:avLst/>
            </a:prstGeom>
            <a:ln w="63360">
              <a:solidFill>
                <a:srgbClr val="ffffff"/>
              </a:solidFill>
              <a:miter/>
            </a:ln>
          </p:spPr>
        </p:cxnSp>
      </p:grpSp>
      <p:sp>
        <p:nvSpPr>
          <p:cNvPr id="233" name=""/>
          <p:cNvSpPr/>
          <p:nvPr/>
        </p:nvSpPr>
        <p:spPr>
          <a:xfrm>
            <a:off x="2666880" y="3483000"/>
            <a:ext cx="2362320" cy="4190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104760 h 419040"/>
              <a:gd name="textAreaBottom" fmla="*/ 314280 h 419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191120" y="5334120"/>
            <a:ext cx="4952880" cy="1371600"/>
            <a:chOff x="4191120" y="5334120"/>
            <a:chExt cx="4952880" cy="1371600"/>
          </a:xfrm>
        </p:grpSpPr>
        <p:sp>
          <p:nvSpPr>
            <p:cNvPr id="235" name=""/>
            <p:cNvSpPr/>
            <p:nvPr/>
          </p:nvSpPr>
          <p:spPr>
            <a:xfrm>
              <a:off x="4191120" y="5410080"/>
              <a:ext cx="152280" cy="12956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43400" y="5334120"/>
              <a:ext cx="48006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andard OMG che estende di fatto il potere espressivo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ll’UML, arricchendolo con caratteristiche che fanno in modo che si possano descrivere nei modelli ,anche informazioni riguardanti schedulabilità, tempi di risposta e completamento, aspetti real-time dei sistemi</a:t>
              </a: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24080" y="1066680"/>
            <a:ext cx="5867640" cy="1295640"/>
            <a:chOff x="3124080" y="1066680"/>
            <a:chExt cx="5867640" cy="1295640"/>
          </a:xfrm>
        </p:grpSpPr>
        <p:sp>
          <p:nvSpPr>
            <p:cNvPr id="238" name=""/>
            <p:cNvSpPr/>
            <p:nvPr/>
          </p:nvSpPr>
          <p:spPr>
            <a:xfrm>
              <a:off x="3124080" y="1066680"/>
              <a:ext cx="152640" cy="12956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1143000"/>
              <a:ext cx="5791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SD per conoscere il comportamento del software e le note RT-UM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DD per conoscere architettura, topologia, serventi e note RT-UM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0" y="5877000"/>
            <a:ext cx="4067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33ccff"/>
                </a:solidFill>
                <a:latin typeface="Times New Roman"/>
              </a:rPr>
              <a:t>RT-UML </a:t>
            </a:r>
            <a:r>
              <a:rPr b="1" i="1" lang="it-IT" sz="2200" spc="-1" strike="noStrike">
                <a:solidFill>
                  <a:srgbClr val="33ccff"/>
                </a:solidFill>
                <a:latin typeface="Times New Roman"/>
              </a:rPr>
              <a:t>(Real - Time -- UM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083480" y="2286000"/>
            <a:ext cx="4624560" cy="2973600"/>
            <a:chOff x="4083480" y="2286000"/>
            <a:chExt cx="4624560" cy="2973600"/>
          </a:xfrm>
        </p:grpSpPr>
        <p:sp>
          <p:nvSpPr>
            <p:cNvPr id="242" name=""/>
            <p:cNvSpPr/>
            <p:nvPr/>
          </p:nvSpPr>
          <p:spPr>
            <a:xfrm>
              <a:off x="7121520" y="3156120"/>
              <a:ext cx="681120" cy="46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3080" y="3162240"/>
              <a:ext cx="760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3360" y="3989520"/>
              <a:ext cx="46188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02360" y="3997440"/>
              <a:ext cx="73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ot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2971800"/>
              <a:ext cx="712800" cy="65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34400" y="3981600"/>
              <a:ext cx="696960" cy="37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23400" y="3193920"/>
              <a:ext cx="42840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80040" y="4224240"/>
              <a:ext cx="225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1280" y="4241880"/>
              <a:ext cx="290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325000" y="3657240"/>
              <a:ext cx="1440" cy="32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7802280" y="3379320"/>
              <a:ext cx="3236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61200" y="3197160"/>
              <a:ext cx="43488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897600" y="3335400"/>
              <a:ext cx="2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3657600"/>
              <a:ext cx="0" cy="19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38960" y="400068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99280" y="3254400"/>
              <a:ext cx="623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04320" y="322416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76440" y="3962520"/>
              <a:ext cx="83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5200" y="2514600"/>
              <a:ext cx="96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imes New Roman"/>
                </a:rPr>
                <a:t>UML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imes New Roman"/>
                </a:rPr>
                <a:t>to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38880" y="3989520"/>
              <a:ext cx="45072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56440" y="4064040"/>
              <a:ext cx="85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EG  in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EG-ridott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46920" y="4800600"/>
              <a:ext cx="113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6352200" y="3562560"/>
              <a:ext cx="390600" cy="2100240"/>
            </a:xfrm>
            <a:custGeom>
              <a:avLst/>
              <a:gdLst>
                <a:gd name="textAreaLeft" fmla="*/ 249480 w 390600"/>
                <a:gd name="textAreaRight" fmla="*/ 390960 w 390600"/>
                <a:gd name="textAreaTop" fmla="*/ 54720 h 2100240"/>
                <a:gd name="textAreaBottom" fmla="*/ 2045520 h 210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30680" y="3989520"/>
              <a:ext cx="45108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43560" y="4038480"/>
              <a:ext cx="654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 in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94360" y="4224240"/>
              <a:ext cx="19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6760" y="3379320"/>
              <a:ext cx="225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83480" y="228600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Verdana"/>
                </a:rPr>
                <a:t>annotazioni RT-U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omm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l contesto d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oscenze e tecnologie 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s e tecnologie di suppo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T-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Il Tool realiz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Comportamento e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clusioni e sviluppi fut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124080" y="121896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ccff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722840" y="3365640"/>
            <a:ext cx="4402080" cy="2689200"/>
            <a:chOff x="4722840" y="3365640"/>
            <a:chExt cx="4402080" cy="2689200"/>
          </a:xfrm>
        </p:grpSpPr>
        <p:sp>
          <p:nvSpPr>
            <p:cNvPr id="275" name=""/>
            <p:cNvSpPr/>
            <p:nvPr/>
          </p:nvSpPr>
          <p:spPr>
            <a:xfrm flipV="1">
              <a:off x="6924600" y="3365640"/>
              <a:ext cx="180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24600" y="3365640"/>
              <a:ext cx="180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72320" y="4189320"/>
              <a:ext cx="1522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24600" y="4189320"/>
              <a:ext cx="150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72320" y="5457960"/>
              <a:ext cx="152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24600" y="5457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924600" y="4143240"/>
              <a:ext cx="180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24600" y="4143240"/>
              <a:ext cx="180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43480" y="362412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78960" y="3892680"/>
              <a:ext cx="1183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95280" y="3624120"/>
              <a:ext cx="118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Reduc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19000" y="3892680"/>
              <a:ext cx="192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 Ridott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74800" y="4938840"/>
              <a:ext cx="86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Make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04440" y="5205240"/>
              <a:ext cx="133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a 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88960" y="5464080"/>
              <a:ext cx="1369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su un file .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07880" y="493884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InputRAQ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04240" y="5205240"/>
              <a:ext cx="20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Scrive l'input per RAQ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90080" y="5464080"/>
              <a:ext cx="146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riscrivendo la Q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39120" y="572436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in formato .tx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98440" y="2013120"/>
            <a:ext cx="6755040" cy="1352520"/>
            <a:chOff x="1198440" y="2013120"/>
            <a:chExt cx="6755040" cy="1352520"/>
          </a:xfrm>
        </p:grpSpPr>
        <p:sp>
          <p:nvSpPr>
            <p:cNvPr id="303" name=""/>
            <p:cNvSpPr/>
            <p:nvPr/>
          </p:nvSpPr>
          <p:spPr>
            <a:xfrm flipV="1"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47920" y="3027240"/>
              <a:ext cx="1324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2000" y="3027240"/>
              <a:ext cx="1332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1656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30600" y="302724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2032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02680" y="302724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File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40080" y="2084400"/>
              <a:ext cx="77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9080" y="3365640"/>
            <a:ext cx="4402080" cy="2689200"/>
            <a:chOff x="19080" y="3365640"/>
            <a:chExt cx="4402080" cy="2689200"/>
          </a:xfrm>
        </p:grpSpPr>
        <p:sp>
          <p:nvSpPr>
            <p:cNvPr id="319" name=""/>
            <p:cNvSpPr/>
            <p:nvPr/>
          </p:nvSpPr>
          <p:spPr>
            <a:xfrm flipV="1">
              <a:off x="2219400" y="3365640"/>
              <a:ext cx="144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19400" y="3365640"/>
              <a:ext cx="144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68560" y="5457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219400" y="4143240"/>
              <a:ext cx="144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19400" y="4143240"/>
              <a:ext cx="144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1240" y="362412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040" y="389268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omponen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080" y="4151160"/>
              <a:ext cx="1553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pilota del codic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56280" y="3624120"/>
              <a:ext cx="19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StruttureDati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1960" y="3892680"/>
              <a:ext cx="188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informaz.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56320" y="4151160"/>
              <a:ext cx="1023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dal file 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480" y="493884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aptureAnnot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7120" y="5205240"/>
              <a:ext cx="1418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no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57400" y="4341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20840" y="4341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124080" y="121896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ccff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080" y="2013120"/>
            <a:ext cx="9105840" cy="4041720"/>
            <a:chOff x="19080" y="2013120"/>
            <a:chExt cx="9105840" cy="4041720"/>
          </a:xfrm>
        </p:grpSpPr>
        <p:sp>
          <p:nvSpPr>
            <p:cNvPr id="343" name=""/>
            <p:cNvSpPr/>
            <p:nvPr/>
          </p:nvSpPr>
          <p:spPr>
            <a:xfrm flipV="1"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47920" y="3027240"/>
              <a:ext cx="1324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2000" y="3027240"/>
              <a:ext cx="1332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219400" y="3365640"/>
              <a:ext cx="1440" cy="77760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19400" y="3365640"/>
              <a:ext cx="1440" cy="77760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68560" y="5457960"/>
              <a:ext cx="15084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219400" y="4143240"/>
              <a:ext cx="1440" cy="131472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19400" y="4143240"/>
              <a:ext cx="1440" cy="131472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1240" y="362412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6040" y="389268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omponen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9080" y="4151160"/>
              <a:ext cx="1553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pilota del codic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56280" y="3624120"/>
              <a:ext cx="19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StruttureDati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51960" y="3892680"/>
              <a:ext cx="188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informaz.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56320" y="4151160"/>
              <a:ext cx="1023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dal file 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80" y="493884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aptureAnnot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7120" y="5205240"/>
              <a:ext cx="1418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no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1656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30600" y="302724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924600" y="3365640"/>
              <a:ext cx="180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24600" y="3365640"/>
              <a:ext cx="180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772320" y="4189320"/>
              <a:ext cx="1522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4600" y="4189320"/>
              <a:ext cx="150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72320" y="5457960"/>
              <a:ext cx="152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24600" y="5457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924600" y="4143240"/>
              <a:ext cx="180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4600" y="4143240"/>
              <a:ext cx="180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43480" y="362412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78960" y="3892680"/>
              <a:ext cx="1183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95280" y="3624120"/>
              <a:ext cx="118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Reduc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19000" y="3892680"/>
              <a:ext cx="192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 Ridott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74800" y="4938840"/>
              <a:ext cx="86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Make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04440" y="5205240"/>
              <a:ext cx="133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a 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88960" y="5464080"/>
              <a:ext cx="1369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su un file .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07880" y="493884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IuputRAQ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04240" y="5205240"/>
              <a:ext cx="20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Scrive l'input per RAQ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0080" y="5464080"/>
              <a:ext cx="146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riscrivendo la Q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39120" y="572436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in formato .tx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2032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02680" y="302724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File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40080" y="2084400"/>
              <a:ext cx="77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57400" y="4341960"/>
              <a:ext cx="15084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20840" y="4341960"/>
              <a:ext cx="15084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Prendere in input il modello UML annot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ff"/>
                </a:solidFill>
                <a:latin typeface="Times New Roman"/>
              </a:rPr>
              <a:t>     </a:t>
            </a: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catturando tutte le informazioni necessa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32004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SING dei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.XMI e .PGML generati da ARGO in fase di salvataggio del modello U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29080" y="4191120"/>
            <a:ext cx="3886200" cy="152388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075" y="4554"/>
                </a:lnTo>
                <a:lnTo>
                  <a:pt x="11144" y="4554"/>
                </a:lnTo>
                <a:lnTo>
                  <a:pt x="11144" y="10456"/>
                </a:lnTo>
                <a:lnTo>
                  <a:pt x="17046" y="10456"/>
                </a:lnTo>
                <a:lnTo>
                  <a:pt x="17046" y="6525"/>
                </a:lnTo>
                <a:lnTo>
                  <a:pt x="21600" y="10800"/>
                </a:lnTo>
                <a:lnTo>
                  <a:pt x="17046" y="15075"/>
                </a:lnTo>
                <a:lnTo>
                  <a:pt x="17046" y="11144"/>
                </a:lnTo>
                <a:lnTo>
                  <a:pt x="4554" y="11144"/>
                </a:lnTo>
                <a:lnTo>
                  <a:pt x="4554" y="15075"/>
                </a:lnTo>
                <a:lnTo>
                  <a:pt x="0" y="10800"/>
                </a:lnTo>
                <a:lnTo>
                  <a:pt x="4554" y="6525"/>
                </a:lnTo>
                <a:lnTo>
                  <a:pt x="4554" y="10456"/>
                </a:lnTo>
                <a:lnTo>
                  <a:pt x="10456" y="10456"/>
                </a:lnTo>
                <a:lnTo>
                  <a:pt x="10456" y="4554"/>
                </a:lnTo>
                <a:lnTo>
                  <a:pt x="6525" y="4554"/>
                </a:lnTo>
                <a:close/>
              </a:path>
            </a:pathLst>
          </a:custGeom>
          <a:solidFill>
            <a:srgbClr val="33ccff">
              <a:alpha val="50000"/>
            </a:srgbClr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38560" y="2209680"/>
            <a:ext cx="2666880" cy="914400"/>
          </a:xfrm>
          <a:custGeom>
            <a:avLst/>
            <a:gdLst>
              <a:gd name="textAreaLeft" fmla="*/ 0 w 2666880"/>
              <a:gd name="textAreaRight" fmla="*/ 2666880 w 26668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Times New Roman"/>
              </a:rPr>
              <a:t>Effettuato tra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19560" y="5445000"/>
            <a:ext cx="247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9999"/>
                </a:solidFill>
                <a:latin typeface="Times New Roman"/>
              </a:rPr>
              <a:t>OTTENEND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90440" y="4343400"/>
            <a:ext cx="8763120" cy="1681920"/>
            <a:chOff x="190440" y="4343400"/>
            <a:chExt cx="8763120" cy="1681920"/>
          </a:xfrm>
        </p:grpSpPr>
        <p:sp>
          <p:nvSpPr>
            <p:cNvPr id="413" name=""/>
            <p:cNvSpPr/>
            <p:nvPr/>
          </p:nvSpPr>
          <p:spPr>
            <a:xfrm>
              <a:off x="190440" y="4343400"/>
              <a:ext cx="2362320" cy="168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Salvataggio dei dati relativi a tutti 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Sequence Diagram e al Deployment Diagr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67560" y="4647960"/>
              <a:ext cx="2286000" cy="13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Salvataggio di tutte le note associate 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messaggi nei SD e ai serventi nel D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124080" y="121896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ccff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9080" y="2013120"/>
            <a:ext cx="9105840" cy="4041720"/>
            <a:chOff x="19080" y="2013120"/>
            <a:chExt cx="9105840" cy="4041720"/>
          </a:xfrm>
        </p:grpSpPr>
        <p:sp>
          <p:nvSpPr>
            <p:cNvPr id="418" name=""/>
            <p:cNvSpPr/>
            <p:nvPr/>
          </p:nvSpPr>
          <p:spPr>
            <a:xfrm flipV="1"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47920" y="3027240"/>
              <a:ext cx="1324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72000" y="3027240"/>
              <a:ext cx="1332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219400" y="3365640"/>
              <a:ext cx="144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19400" y="3365640"/>
              <a:ext cx="144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68560" y="5457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219400" y="4143240"/>
              <a:ext cx="144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19400" y="4143240"/>
              <a:ext cx="144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1240" y="362412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040" y="389268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omponen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9080" y="4151160"/>
              <a:ext cx="1553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pilota del codic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56280" y="3624120"/>
              <a:ext cx="19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StruttureDati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51960" y="3892680"/>
              <a:ext cx="188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informaz.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56320" y="4151160"/>
              <a:ext cx="1023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dal file 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0" y="493884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aptureAnnot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7120" y="5205240"/>
              <a:ext cx="1418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no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1656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30600" y="302724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924600" y="3365640"/>
              <a:ext cx="1800" cy="77760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24600" y="3365640"/>
              <a:ext cx="1800" cy="77760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72320" y="4265640"/>
              <a:ext cx="15228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24600" y="4265640"/>
              <a:ext cx="15084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72320" y="5457960"/>
              <a:ext cx="15228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24600" y="5457960"/>
              <a:ext cx="15084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924600" y="4143240"/>
              <a:ext cx="1800" cy="131472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24600" y="4143240"/>
              <a:ext cx="1800" cy="131472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43480" y="362412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78960" y="3892680"/>
              <a:ext cx="1183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95280" y="3624120"/>
              <a:ext cx="118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Reduc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19000" y="3892680"/>
              <a:ext cx="192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 Ridott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74800" y="4938840"/>
              <a:ext cx="86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Make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04440" y="5205240"/>
              <a:ext cx="133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a 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88960" y="5464080"/>
              <a:ext cx="1369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su un file .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07880" y="493884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IuputRAQ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04240" y="5205240"/>
              <a:ext cx="20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Scrive l'input per RAQ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90080" y="5464080"/>
              <a:ext cx="146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riscrivendo la Q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39120" y="572436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in formato .tx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2032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02680" y="302724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File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0080" y="2084400"/>
              <a:ext cx="77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66760" y="4267080"/>
              <a:ext cx="150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20840" y="4267080"/>
              <a:ext cx="150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54864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Trasformare quindi il modello UML in 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     </a:t>
            </a: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EG secondo determinate reg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380880" y="2793960"/>
            <a:ext cx="3429000" cy="25401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572000" y="342900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6480000" y="2666880"/>
            <a:ext cx="17496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486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487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88120" y="1103400"/>
              <a:ext cx="650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EG  in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EG-ridott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77120" y="1042920"/>
              <a:ext cx="73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UML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12480" y="118116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33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15280" y="13334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3962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Trasformare quindi il modello UML in 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     </a:t>
            </a: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EG secondo determinate reg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038480" y="289548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1600200"/>
            <a:ext cx="3352680" cy="3506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e il modello UML è composto da più di un SD, questi vanno trasformati singolarmente e poi inseriti in un unico EG come se fossero in mutua esclusi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54560" cy="35053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00360" y="1066680"/>
            <a:ext cx="194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ccff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2057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Descrivere gli EG con una notazione sintattica facilmente memorizzabile e trasferib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5400000">
            <a:off x="4000320" y="339084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71760" y="4419720"/>
            <a:ext cx="24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3300"/>
                </a:solidFill>
                <a:latin typeface="Times New Roman"/>
              </a:rPr>
              <a:t>XML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3000" y="365760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52578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3300"/>
                </a:solidFill>
                <a:latin typeface="Times New Roman"/>
              </a:rPr>
              <a:t>Vettore domand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33360" y="1781280"/>
            <a:ext cx="3867120" cy="3203640"/>
            <a:chOff x="333360" y="1781280"/>
            <a:chExt cx="3867120" cy="3203640"/>
          </a:xfrm>
        </p:grpSpPr>
        <p:sp>
          <p:nvSpPr>
            <p:cNvPr id="532" name=""/>
            <p:cNvSpPr/>
            <p:nvPr/>
          </p:nvSpPr>
          <p:spPr>
            <a:xfrm>
              <a:off x="2266920" y="2152800"/>
              <a:ext cx="1440" cy="333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6920" y="3095640"/>
              <a:ext cx="1440" cy="16812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5748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7672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57480" y="3263760"/>
              <a:ext cx="100944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66920" y="3263760"/>
              <a:ext cx="100980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57480" y="404028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772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589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7720" y="4206960"/>
              <a:ext cx="5097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5748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7480" y="443232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36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0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59080" y="443232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634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7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58680" y="348768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6336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2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76720" y="404028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687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78200" y="42069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68760" y="4206960"/>
              <a:ext cx="5079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672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75360" y="443232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390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1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71480" y="4432320"/>
              <a:ext cx="6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2936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0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6120" y="34876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8260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1,4,2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968480" y="25448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2800" y="278460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4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24240" y="182880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xecution Grap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581280" y="3200040"/>
            <a:ext cx="3962520" cy="1524240"/>
            <a:chOff x="3581280" y="3200040"/>
            <a:chExt cx="3962520" cy="1524240"/>
          </a:xfrm>
        </p:grpSpPr>
        <p:sp>
          <p:nvSpPr>
            <p:cNvPr id="580" name=""/>
            <p:cNvSpPr/>
            <p:nvPr/>
          </p:nvSpPr>
          <p:spPr>
            <a:xfrm flipV="1">
              <a:off x="3962520" y="4419720"/>
              <a:ext cx="2133360" cy="304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581280" y="3200040"/>
              <a:ext cx="2667240" cy="1523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733920" y="3505320"/>
              <a:ext cx="3809880" cy="1218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181480" y="2209680"/>
            <a:ext cx="3962520" cy="3276720"/>
            <a:chOff x="5181480" y="2209680"/>
            <a:chExt cx="3962520" cy="3276720"/>
          </a:xfrm>
        </p:grpSpPr>
        <p:sp>
          <p:nvSpPr>
            <p:cNvPr id="584" name=""/>
            <p:cNvSpPr/>
            <p:nvPr/>
          </p:nvSpPr>
          <p:spPr>
            <a:xfrm>
              <a:off x="5181480" y="2209680"/>
              <a:ext cx="3962520" cy="3276720"/>
            </a:xfrm>
            <a:prstGeom prst="cloudCallout">
              <a:avLst>
                <a:gd name="adj1" fmla="val -71953"/>
                <a:gd name="adj2" fmla="val 29263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24480" y="271476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5880" y="393372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0120" y="263844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72200" y="289548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3600" y="408636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67480" y="282096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309564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05720" y="36291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6600" y="38862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Deployment Diagr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595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53200" y="100980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i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55360" y="11732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52480" y="1300320"/>
              <a:ext cx="59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ff3300"/>
                  </a:solidFill>
                  <a:latin typeface="Times New Roman"/>
                </a:rPr>
                <a:t>ridott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omm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l contesto d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oscenze e tecnologie 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s e tecnologie di suppo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T-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Tool realiz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mportamento e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clusioni e sviluppi fut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52578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quindi l’EG generato in un EG-ridotto per semplificare la generazione dell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24000" y="3809880"/>
            <a:ext cx="3867120" cy="457200"/>
            <a:chOff x="324000" y="3809880"/>
            <a:chExt cx="3867120" cy="457200"/>
          </a:xfrm>
        </p:grpSpPr>
        <p:sp>
          <p:nvSpPr>
            <p:cNvPr id="629" name=""/>
            <p:cNvSpPr/>
            <p:nvPr/>
          </p:nvSpPr>
          <p:spPr>
            <a:xfrm>
              <a:off x="324000" y="380988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62320" y="380988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3733920" y="3809880"/>
              <a:ext cx="457200" cy="45720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676520" y="3809880"/>
              <a:ext cx="457200" cy="45720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3360" y="1781280"/>
            <a:ext cx="3867120" cy="3203640"/>
            <a:chOff x="333360" y="1781280"/>
            <a:chExt cx="3867120" cy="3203640"/>
          </a:xfrm>
        </p:grpSpPr>
        <p:sp>
          <p:nvSpPr>
            <p:cNvPr id="634" name=""/>
            <p:cNvSpPr/>
            <p:nvPr/>
          </p:nvSpPr>
          <p:spPr>
            <a:xfrm>
              <a:off x="2266920" y="2152800"/>
              <a:ext cx="1440" cy="333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66920" y="3095640"/>
              <a:ext cx="1440" cy="16812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5748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74920" y="32637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57480" y="3263760"/>
              <a:ext cx="100944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66920" y="3263760"/>
              <a:ext cx="100980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57480" y="404028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72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589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7720" y="4206960"/>
              <a:ext cx="5097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5748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7480" y="443232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36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0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9080" y="443232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634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7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58680" y="348768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6336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2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74920" y="404028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687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78200" y="42069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68760" y="4206960"/>
              <a:ext cx="5079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7672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75360" y="443232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71480" y="4432320"/>
              <a:ext cx="6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76120" y="34876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8260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1,4,2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968480" y="25448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72800" y="278460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4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24240" y="182880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xecution Grap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390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1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2936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0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682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53200" y="100980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i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55360" y="11732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52480" y="1300320"/>
              <a:ext cx="59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ff3300"/>
                  </a:solidFill>
                  <a:latin typeface="Times New Roman"/>
                </a:rPr>
                <a:t>ridott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52578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quindi l’EG generato in un EG-ridotto per semplificare la generazione dell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1066680" y="2819520"/>
            <a:ext cx="2409840" cy="457200"/>
            <a:chOff x="1066680" y="2819520"/>
            <a:chExt cx="2409840" cy="457200"/>
          </a:xfrm>
        </p:grpSpPr>
        <p:sp>
          <p:nvSpPr>
            <p:cNvPr id="716" name=""/>
            <p:cNvSpPr/>
            <p:nvPr/>
          </p:nvSpPr>
          <p:spPr>
            <a:xfrm>
              <a:off x="1066680" y="281952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019320" y="2819520"/>
              <a:ext cx="457200" cy="45720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843120" y="1781280"/>
            <a:ext cx="2855880" cy="2259000"/>
            <a:chOff x="843120" y="1781280"/>
            <a:chExt cx="2855880" cy="2259000"/>
          </a:xfrm>
        </p:grpSpPr>
        <p:sp>
          <p:nvSpPr>
            <p:cNvPr id="719" name=""/>
            <p:cNvSpPr/>
            <p:nvPr/>
          </p:nvSpPr>
          <p:spPr>
            <a:xfrm>
              <a:off x="2266920" y="2152800"/>
              <a:ext cx="1440" cy="333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66920" y="3095640"/>
              <a:ext cx="1440" cy="16812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5748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7672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257480" y="3263760"/>
              <a:ext cx="100944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66920" y="3263760"/>
              <a:ext cx="100980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58680" y="348768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67240" y="375444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6,9,1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76120" y="34876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3580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1,5,4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68480" y="25448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72800" y="278460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4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24240" y="182880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xecution Grap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741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53200" y="100980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i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55360" y="11732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52480" y="1300320"/>
              <a:ext cx="59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ff3300"/>
                  </a:solidFill>
                  <a:latin typeface="Times New Roman"/>
                </a:rPr>
                <a:t>ridott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9480" y="52578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quindi l’EG generato in un EG-ridotto per semplificare la generazione dell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1328760" y="1781280"/>
            <a:ext cx="1876320" cy="1314360"/>
            <a:chOff x="1328760" y="1781280"/>
            <a:chExt cx="1876320" cy="1314360"/>
          </a:xfrm>
        </p:grpSpPr>
        <p:sp>
          <p:nvSpPr>
            <p:cNvPr id="775" name=""/>
            <p:cNvSpPr/>
            <p:nvPr/>
          </p:nvSpPr>
          <p:spPr>
            <a:xfrm>
              <a:off x="2266920" y="2152800"/>
              <a:ext cx="1440" cy="333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68480" y="25448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54000" y="2809800"/>
              <a:ext cx="83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10,18,15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24240" y="182880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xecution Grap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784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53200" y="100980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i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55360" y="11732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52480" y="1300320"/>
              <a:ext cx="59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ff3300"/>
                  </a:solidFill>
                  <a:latin typeface="Times New Roman"/>
                </a:rPr>
                <a:t>ridott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0" y="304812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515280" y="2552760"/>
            <a:ext cx="2457360" cy="1987560"/>
            <a:chOff x="6515280" y="2552760"/>
            <a:chExt cx="2457360" cy="1987560"/>
          </a:xfrm>
        </p:grpSpPr>
        <p:sp>
          <p:nvSpPr>
            <p:cNvPr id="818" name=""/>
            <p:cNvSpPr/>
            <p:nvPr/>
          </p:nvSpPr>
          <p:spPr>
            <a:xfrm>
              <a:off x="7743960" y="3036960"/>
              <a:ext cx="1440" cy="438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0040" y="3475080"/>
              <a:ext cx="2257200" cy="1065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351560" y="3551400"/>
              <a:ext cx="889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60800" y="408312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98040" y="3873600"/>
              <a:ext cx="272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81280" y="4130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9880" y="418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70720" y="3902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636320" y="3873600"/>
              <a:ext cx="272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819560" y="4130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957800" y="418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155440" y="3873600"/>
              <a:ext cx="386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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448120" y="4130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586720" y="418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694360" y="408312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20040" y="3475080"/>
              <a:ext cx="2257200" cy="1065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15280" y="2552760"/>
              <a:ext cx="2457360" cy="484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89440" y="2581200"/>
              <a:ext cx="2294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900" spc="-1" strike="noStrike">
                  <a:solidFill>
                    <a:srgbClr val="ff3300"/>
                  </a:solidFill>
                  <a:latin typeface="Arial"/>
                </a:rPr>
                <a:t>EG RIDOTTO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515280" y="2552760"/>
              <a:ext cx="2457360" cy="48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143000" y="5105520"/>
            <a:ext cx="8458200" cy="1632960"/>
            <a:chOff x="1143000" y="5105520"/>
            <a:chExt cx="8458200" cy="1632960"/>
          </a:xfrm>
        </p:grpSpPr>
        <p:sp>
          <p:nvSpPr>
            <p:cNvPr id="838" name=""/>
            <p:cNvSpPr/>
            <p:nvPr/>
          </p:nvSpPr>
          <p:spPr>
            <a:xfrm>
              <a:off x="1143000" y="5105520"/>
              <a:ext cx="2971800" cy="16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33cc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it-IT" sz="2400" spc="-1" strike="noStrike">
                  <a:solidFill>
                    <a:srgbClr val="ff9900"/>
                  </a:solidFill>
                  <a:latin typeface="Times New Roman"/>
                </a:rPr>
                <a:t>Parsing dell’E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33cc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00"/>
                  </a:solidFill>
                  <a:latin typeface="Times New Roman"/>
                </a:rPr>
                <a:t>  </a:t>
              </a:r>
              <a:r>
                <a:rPr b="0" lang="it-IT" sz="2400" spc="-1" strike="noStrike">
                  <a:solidFill>
                    <a:srgbClr val="ff9900"/>
                  </a:solidFill>
                  <a:latin typeface="Times New Roman"/>
                </a:rPr>
                <a:t>Taglio dei ram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33cc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00"/>
                  </a:solidFill>
                  <a:latin typeface="Times New Roman"/>
                </a:rPr>
                <a:t>  </a:t>
              </a:r>
              <a:r>
                <a:rPr b="0" lang="it-IT" sz="2400" spc="-1" strike="noStrike">
                  <a:solidFill>
                    <a:srgbClr val="ff9900"/>
                  </a:solidFill>
                  <a:latin typeface="Times New Roman"/>
                </a:rPr>
                <a:t>Modifica dei valori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48320" y="5486400"/>
              <a:ext cx="990360" cy="914400"/>
            </a:xfrm>
            <a:prstGeom prst="rightArrow">
              <a:avLst>
                <a:gd name="adj1" fmla="val 25343"/>
                <a:gd name="adj2" fmla="val 34367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19920" y="5486400"/>
              <a:ext cx="358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9900"/>
                  </a:solidFill>
                  <a:latin typeface="Times New Roman"/>
                </a:rPr>
                <a:t>Serializzazione in un nuovo file .XM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328760" y="1781280"/>
            <a:ext cx="1876320" cy="371520"/>
            <a:chOff x="1328760" y="1781280"/>
            <a:chExt cx="1876320" cy="371520"/>
          </a:xfrm>
        </p:grpSpPr>
        <p:sp>
          <p:nvSpPr>
            <p:cNvPr id="842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32360" y="1828800"/>
              <a:ext cx="183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3300"/>
                  </a:solidFill>
                  <a:latin typeface="Arial"/>
                </a:rPr>
                <a:t>Execution Grap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33360" y="2152800"/>
            <a:ext cx="3867120" cy="2832120"/>
            <a:chOff x="333360" y="2152800"/>
            <a:chExt cx="3867120" cy="2832120"/>
          </a:xfrm>
        </p:grpSpPr>
        <p:sp>
          <p:nvSpPr>
            <p:cNvPr id="846" name=""/>
            <p:cNvSpPr/>
            <p:nvPr/>
          </p:nvSpPr>
          <p:spPr>
            <a:xfrm>
              <a:off x="2266920" y="2152800"/>
              <a:ext cx="1440" cy="333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66920" y="3095640"/>
              <a:ext cx="1440" cy="16812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5748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74920" y="32637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57480" y="3263760"/>
              <a:ext cx="100944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66920" y="3263760"/>
              <a:ext cx="100980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57480" y="404028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772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89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7720" y="4206960"/>
              <a:ext cx="5097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5748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47480" y="443232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536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0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459080" y="443232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4634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7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958680" y="348768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96336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2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404028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687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778200" y="42069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68760" y="4206960"/>
              <a:ext cx="5079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7672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75360" y="443232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390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1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71480" y="4432320"/>
              <a:ext cx="6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76120" y="34876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8260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1,4,2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68480" y="25448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72800" y="278460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4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2936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0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891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53200" y="100980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i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55360" y="11732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52480" y="1300320"/>
              <a:ext cx="59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ff3300"/>
                  </a:solidFill>
                  <a:latin typeface="Times New Roman"/>
                </a:rPr>
                <a:t>ridott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6400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l’EG-Ridotto in un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579600" y="1295280"/>
            <a:ext cx="2879640" cy="1351080"/>
            <a:chOff x="579600" y="1295280"/>
            <a:chExt cx="2879640" cy="1351080"/>
          </a:xfrm>
        </p:grpSpPr>
        <p:sp>
          <p:nvSpPr>
            <p:cNvPr id="925" name=""/>
            <p:cNvSpPr/>
            <p:nvPr/>
          </p:nvSpPr>
          <p:spPr>
            <a:xfrm>
              <a:off x="2023920" y="1647720"/>
              <a:ext cx="0" cy="2286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13200" y="187020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993600" y="1870200"/>
              <a:ext cx="100980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03400" y="1870200"/>
              <a:ext cx="100980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79600" y="2036880"/>
              <a:ext cx="8348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4760" y="20937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D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3240" y="233352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X,Y,Z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9600" y="2036880"/>
              <a:ext cx="8348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98840" y="203688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92160" y="20937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D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76160" y="2333520"/>
              <a:ext cx="883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X’,Y’,Z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98840" y="203688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66680" y="1295280"/>
              <a:ext cx="187668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17320" y="1343160"/>
              <a:ext cx="127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G-RIDOT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6680" y="1295280"/>
              <a:ext cx="187668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88920" y="18813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762120" y="2514600"/>
            <a:ext cx="1904760" cy="2133720"/>
            <a:chOff x="762120" y="2514600"/>
            <a:chExt cx="1904760" cy="2133720"/>
          </a:xfrm>
        </p:grpSpPr>
        <p:sp>
          <p:nvSpPr>
            <p:cNvPr id="942" name=""/>
            <p:cNvSpPr/>
            <p:nvPr/>
          </p:nvSpPr>
          <p:spPr>
            <a:xfrm>
              <a:off x="762120" y="2590920"/>
              <a:ext cx="38088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90720" y="2590920"/>
              <a:ext cx="4572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219320" y="2514600"/>
              <a:ext cx="144756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914400" y="3400560"/>
            <a:ext cx="3200400" cy="2233080"/>
            <a:chOff x="914400" y="3400560"/>
            <a:chExt cx="3200400" cy="2233080"/>
          </a:xfrm>
        </p:grpSpPr>
        <p:sp>
          <p:nvSpPr>
            <p:cNvPr id="946" name=""/>
            <p:cNvSpPr/>
            <p:nvPr/>
          </p:nvSpPr>
          <p:spPr>
            <a:xfrm>
              <a:off x="1295280" y="347652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66680" y="469584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90920" y="340056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143000" y="3657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14400" y="484812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38280" y="358308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09680" y="385776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76520" y="43909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57400" y="449568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Deployment Diagr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943600" y="0"/>
            <a:ext cx="3200400" cy="2184480"/>
            <a:chOff x="5943600" y="0"/>
            <a:chExt cx="3200400" cy="2184480"/>
          </a:xfrm>
        </p:grpSpPr>
        <p:sp>
          <p:nvSpPr>
            <p:cNvPr id="956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21720" y="1135080"/>
              <a:ext cx="56016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729920" y="1057320"/>
              <a:ext cx="77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EG-rid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in Q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7736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381880" y="1371600"/>
              <a:ext cx="22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50392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2920" y="1057320"/>
              <a:ext cx="73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 in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idot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077240" y="181620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16200000">
              <a:off x="7326000" y="726480"/>
              <a:ext cx="335160" cy="19288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50040 h 1928880"/>
                <a:gd name="textAreaBottom" fmla="*/ 187884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480" y="6400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l’EG-Ridotto in un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867280" y="2344680"/>
            <a:ext cx="1067040" cy="937800"/>
            <a:chOff x="5867280" y="2344680"/>
            <a:chExt cx="1067040" cy="937800"/>
          </a:xfrm>
        </p:grpSpPr>
        <p:sp>
          <p:nvSpPr>
            <p:cNvPr id="990" name=""/>
            <p:cNvSpPr/>
            <p:nvPr/>
          </p:nvSpPr>
          <p:spPr>
            <a:xfrm>
              <a:off x="6019920" y="234468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67280" y="249696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579600" y="1295280"/>
            <a:ext cx="4983120" cy="4338360"/>
            <a:chOff x="579600" y="1295280"/>
            <a:chExt cx="4983120" cy="4338360"/>
          </a:xfrm>
        </p:grpSpPr>
        <p:sp>
          <p:nvSpPr>
            <p:cNvPr id="993" name=""/>
            <p:cNvSpPr/>
            <p:nvPr/>
          </p:nvSpPr>
          <p:spPr>
            <a:xfrm>
              <a:off x="2023920" y="1647720"/>
              <a:ext cx="0" cy="2286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13200" y="187020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93600" y="1870200"/>
              <a:ext cx="100980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003400" y="1870200"/>
              <a:ext cx="100980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9600" y="2036880"/>
              <a:ext cx="8348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4760" y="20937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D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33240" y="233352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X,Y,Z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79600" y="2036880"/>
              <a:ext cx="8348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98840" y="203688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92160" y="20937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D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76160" y="2333520"/>
              <a:ext cx="883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X’,Y’,Z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98840" y="203688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66680" y="1295280"/>
              <a:ext cx="187668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417320" y="1343160"/>
              <a:ext cx="127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G-RIDOT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66680" y="1295280"/>
              <a:ext cx="187668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88920" y="18813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95280" y="347652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66680" y="469584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90920" y="340056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143000" y="3657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14400" y="484812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38280" y="358308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209680" y="385776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76520" y="43909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2120" y="2590920"/>
              <a:ext cx="38088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90720" y="2590920"/>
              <a:ext cx="4572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19320" y="2514600"/>
              <a:ext cx="144756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57400" y="449568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Deployment Diagr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72000" y="3048120"/>
              <a:ext cx="990720" cy="914400"/>
            </a:xfrm>
            <a:prstGeom prst="rightArrow">
              <a:avLst>
                <a:gd name="adj1" fmla="val 25343"/>
                <a:gd name="adj2" fmla="val 3438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5867280" y="2209680"/>
            <a:ext cx="2133720" cy="1219320"/>
            <a:chOff x="5867280" y="2209680"/>
            <a:chExt cx="2133720" cy="1219320"/>
          </a:xfrm>
        </p:grpSpPr>
        <p:sp>
          <p:nvSpPr>
            <p:cNvPr id="1023" name=""/>
            <p:cNvSpPr/>
            <p:nvPr/>
          </p:nvSpPr>
          <p:spPr>
            <a:xfrm>
              <a:off x="7009920" y="2666880"/>
              <a:ext cx="72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&lt;X , X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67280" y="2209680"/>
              <a:ext cx="2133720" cy="1219320"/>
            </a:xfrm>
            <a:prstGeom prst="rect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5943600" y="0"/>
            <a:ext cx="3200400" cy="2184480"/>
            <a:chOff x="5943600" y="0"/>
            <a:chExt cx="3200400" cy="2184480"/>
          </a:xfrm>
        </p:grpSpPr>
        <p:sp>
          <p:nvSpPr>
            <p:cNvPr id="1026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821720" y="1135080"/>
              <a:ext cx="56016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729920" y="1057320"/>
              <a:ext cx="77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EG-rid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in Q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57736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81880" y="1371600"/>
              <a:ext cx="22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50392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162920" y="1057320"/>
              <a:ext cx="73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 in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idot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077240" y="181620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16200000">
              <a:off x="7326000" y="726480"/>
              <a:ext cx="335160" cy="19288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50040 h 1928880"/>
                <a:gd name="textAreaBottom" fmla="*/ 187884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6400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l’EG-Ridotto in un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5867280" y="3809880"/>
            <a:ext cx="1067040" cy="938160"/>
            <a:chOff x="5867280" y="3809880"/>
            <a:chExt cx="1067040" cy="938160"/>
          </a:xfrm>
        </p:grpSpPr>
        <p:sp>
          <p:nvSpPr>
            <p:cNvPr id="1058" name=""/>
            <p:cNvSpPr/>
            <p:nvPr/>
          </p:nvSpPr>
          <p:spPr>
            <a:xfrm>
              <a:off x="6019920" y="380988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67280" y="396252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023920" y="1647720"/>
            <a:ext cx="0" cy="228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13200" y="1870200"/>
            <a:ext cx="1440" cy="166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93600" y="1870200"/>
            <a:ext cx="10098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003400" y="1870200"/>
            <a:ext cx="10098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79600" y="2036880"/>
            <a:ext cx="83484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34760" y="20937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D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3240" y="233352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&lt;X,Y,Z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79600" y="2036880"/>
            <a:ext cx="834840" cy="6094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598840" y="2036880"/>
            <a:ext cx="83664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92160" y="20937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D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576160" y="2333520"/>
            <a:ext cx="88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&lt;X’,Y’,Z’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98840" y="2036880"/>
            <a:ext cx="836640" cy="6094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066680" y="1295280"/>
            <a:ext cx="1876680" cy="371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417320" y="1343160"/>
            <a:ext cx="127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G-RIDO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066680" y="1295280"/>
            <a:ext cx="1876680" cy="3715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88920" y="1881360"/>
            <a:ext cx="1800" cy="166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295280" y="3476520"/>
            <a:ext cx="914400" cy="91440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66680" y="469584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0920" y="340056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143000" y="365760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914400" y="4848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438280" y="358308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209680" y="38577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76520" y="4390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62120" y="2590920"/>
            <a:ext cx="3808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990720" y="2590920"/>
            <a:ext cx="457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219320" y="2514600"/>
            <a:ext cx="1447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57400" y="4495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Deployment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572000" y="304812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019920" y="234324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867280" y="24955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009920" y="266688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&lt;X , X’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867280" y="2209680"/>
            <a:ext cx="2133720" cy="1219320"/>
          </a:xfrm>
          <a:prstGeom prst="rect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5867280" y="3429000"/>
            <a:ext cx="2133720" cy="1447920"/>
            <a:chOff x="5867280" y="3429000"/>
            <a:chExt cx="2133720" cy="1447920"/>
          </a:xfrm>
        </p:grpSpPr>
        <p:grpSp>
          <p:nvGrpSpPr>
            <p:cNvPr id="1096" name=""/>
            <p:cNvGrpSpPr/>
            <p:nvPr/>
          </p:nvGrpSpPr>
          <p:grpSpPr>
            <a:xfrm>
              <a:off x="5867280" y="3657600"/>
              <a:ext cx="2133720" cy="1219320"/>
              <a:chOff x="5867280" y="3657600"/>
              <a:chExt cx="2133720" cy="1219320"/>
            </a:xfrm>
          </p:grpSpPr>
          <p:sp>
            <p:nvSpPr>
              <p:cNvPr id="1097" name=""/>
              <p:cNvSpPr/>
              <p:nvPr/>
            </p:nvSpPr>
            <p:spPr>
              <a:xfrm>
                <a:off x="7009920" y="4114800"/>
                <a:ext cx="724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ffffff"/>
                    </a:solidFill>
                    <a:latin typeface="Arial"/>
                  </a:rPr>
                  <a:t>&lt;Y , Y’&gt;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867280" y="3657600"/>
                <a:ext cx="2133720" cy="1219320"/>
              </a:xfrm>
              <a:prstGeom prst="rect">
                <a:avLst/>
              </a:prstGeom>
              <a:noFill/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9343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943600" y="0"/>
            <a:ext cx="3200400" cy="2184480"/>
            <a:chOff x="5943600" y="0"/>
            <a:chExt cx="3200400" cy="2184480"/>
          </a:xfrm>
        </p:grpSpPr>
        <p:sp>
          <p:nvSpPr>
            <p:cNvPr id="1101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821720" y="1135080"/>
              <a:ext cx="56016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729920" y="1057320"/>
              <a:ext cx="77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EG-rid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in Q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57736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381880" y="1371600"/>
              <a:ext cx="22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50392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162920" y="1057320"/>
              <a:ext cx="73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 in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idot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77240" y="181620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7326000" y="726480"/>
              <a:ext cx="335160" cy="19288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50040 h 1928880"/>
                <a:gd name="textAreaBottom" fmla="*/ 187884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09480" y="6400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l’EG-Ridotto in un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867280" y="5305320"/>
            <a:ext cx="1067040" cy="938160"/>
            <a:chOff x="5867280" y="5305320"/>
            <a:chExt cx="1067040" cy="938160"/>
          </a:xfrm>
        </p:grpSpPr>
        <p:sp>
          <p:nvSpPr>
            <p:cNvPr id="1133" name=""/>
            <p:cNvSpPr/>
            <p:nvPr/>
          </p:nvSpPr>
          <p:spPr>
            <a:xfrm>
              <a:off x="6019920" y="530532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867280" y="545796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023920" y="1647720"/>
            <a:ext cx="0" cy="228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13200" y="1870200"/>
            <a:ext cx="1440" cy="166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993600" y="1870200"/>
            <a:ext cx="10098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003400" y="1870200"/>
            <a:ext cx="10098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79600" y="2036880"/>
            <a:ext cx="83484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34760" y="20937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D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33240" y="233352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&lt;X,Y,Z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79600" y="2036880"/>
            <a:ext cx="834840" cy="6094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598840" y="2036880"/>
            <a:ext cx="83664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792160" y="20937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D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576160" y="2333520"/>
            <a:ext cx="88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&lt;X’,Y’,Z’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98840" y="2036880"/>
            <a:ext cx="836640" cy="6094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066680" y="1295280"/>
            <a:ext cx="1876680" cy="371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17320" y="1343160"/>
            <a:ext cx="127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G-RIDO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66680" y="1295280"/>
            <a:ext cx="1876680" cy="3715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988920" y="1881360"/>
            <a:ext cx="1800" cy="166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295280" y="347652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66680" y="469584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90920" y="3400560"/>
            <a:ext cx="914400" cy="91440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43000" y="365760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914400" y="4848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438280" y="358308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09680" y="38577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76520" y="4390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62120" y="2590920"/>
            <a:ext cx="3808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990720" y="2590920"/>
            <a:ext cx="457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219320" y="2514600"/>
            <a:ext cx="1447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57400" y="4495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Deployment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304812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380988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867280" y="39625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009920" y="411480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&lt;Y , Y’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867280" y="3657600"/>
            <a:ext cx="2133720" cy="1219320"/>
          </a:xfrm>
          <a:prstGeom prst="rect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019920" y="234324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867280" y="24955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009920" y="266688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&lt;X , X’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867280" y="2209680"/>
            <a:ext cx="2133720" cy="1219320"/>
          </a:xfrm>
          <a:prstGeom prst="rect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934320" y="3429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5867280" y="4905360"/>
            <a:ext cx="2133720" cy="1467000"/>
            <a:chOff x="5867280" y="4905360"/>
            <a:chExt cx="2133720" cy="1467000"/>
          </a:xfrm>
        </p:grpSpPr>
        <p:grpSp>
          <p:nvGrpSpPr>
            <p:cNvPr id="1176" name=""/>
            <p:cNvGrpSpPr/>
            <p:nvPr/>
          </p:nvGrpSpPr>
          <p:grpSpPr>
            <a:xfrm>
              <a:off x="5867280" y="5153040"/>
              <a:ext cx="2133720" cy="1219320"/>
              <a:chOff x="5867280" y="5153040"/>
              <a:chExt cx="2133720" cy="1219320"/>
            </a:xfrm>
          </p:grpSpPr>
          <p:sp>
            <p:nvSpPr>
              <p:cNvPr id="1177" name=""/>
              <p:cNvSpPr/>
              <p:nvPr/>
            </p:nvSpPr>
            <p:spPr>
              <a:xfrm>
                <a:off x="7011000" y="5610240"/>
                <a:ext cx="700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ffffff"/>
                    </a:solidFill>
                    <a:latin typeface="Arial"/>
                  </a:rPr>
                  <a:t>&lt;Z , Z’&gt;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67280" y="5153040"/>
                <a:ext cx="2133720" cy="1219320"/>
              </a:xfrm>
              <a:prstGeom prst="rect">
                <a:avLst/>
              </a:prstGeom>
              <a:noFill/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>
              <a:off x="6934320" y="49053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943600" y="0"/>
            <a:ext cx="3200400" cy="2184480"/>
            <a:chOff x="5943600" y="0"/>
            <a:chExt cx="3200400" cy="2184480"/>
          </a:xfrm>
        </p:grpSpPr>
        <p:sp>
          <p:nvSpPr>
            <p:cNvPr id="1181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821720" y="1135080"/>
              <a:ext cx="56016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729920" y="1057320"/>
              <a:ext cx="77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EG-rid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in Q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57736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381880" y="1371600"/>
              <a:ext cx="22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0392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62920" y="1057320"/>
              <a:ext cx="73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 in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idot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077240" y="181620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16200000">
              <a:off x="7326000" y="726480"/>
              <a:ext cx="335160" cy="19288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50040 h 1928880"/>
                <a:gd name="textAreaBottom" fmla="*/ 187884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nterfaccia con RAQS: </a:t>
            </a:r>
            <a:br>
              <a:rPr sz="3600"/>
            </a:b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di analis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533520" y="2419200"/>
            <a:ext cx="2133360" cy="4162320"/>
            <a:chOff x="533520" y="2419200"/>
            <a:chExt cx="2133360" cy="4162320"/>
          </a:xfrm>
        </p:grpSpPr>
        <p:sp>
          <p:nvSpPr>
            <p:cNvPr id="1212" name=""/>
            <p:cNvSpPr/>
            <p:nvPr/>
          </p:nvSpPr>
          <p:spPr>
            <a:xfrm>
              <a:off x="685800" y="402876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33520" y="4181400"/>
              <a:ext cx="99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676160" y="4333680"/>
              <a:ext cx="72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&lt;Y , Y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3520" y="3876480"/>
              <a:ext cx="2133360" cy="1219320"/>
            </a:xfrm>
            <a:prstGeom prst="rect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85800" y="257148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520" y="2724120"/>
              <a:ext cx="99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676160" y="2876400"/>
              <a:ext cx="72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&lt;X , X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3520" y="2419200"/>
              <a:ext cx="2133360" cy="1219320"/>
            </a:xfrm>
            <a:prstGeom prst="rect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5800" y="551484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33520" y="5667120"/>
              <a:ext cx="99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677240" y="5819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&lt;Z , Z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520" y="5362560"/>
              <a:ext cx="2133360" cy="1218960"/>
            </a:xfrm>
            <a:prstGeom prst="rect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600200" y="36385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00200" y="511488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2895480" y="2343240"/>
            <a:ext cx="1905120" cy="4343400"/>
            <a:chOff x="2895480" y="2343240"/>
            <a:chExt cx="1905120" cy="4343400"/>
          </a:xfrm>
        </p:grpSpPr>
        <p:sp>
          <p:nvSpPr>
            <p:cNvPr id="1227" name=""/>
            <p:cNvSpPr/>
            <p:nvPr/>
          </p:nvSpPr>
          <p:spPr>
            <a:xfrm>
              <a:off x="2895480" y="2343240"/>
              <a:ext cx="762120" cy="4343400"/>
            </a:xfrm>
            <a:custGeom>
              <a:avLst/>
              <a:gdLst>
                <a:gd name="textAreaLeft" fmla="*/ 0 w 762120"/>
                <a:gd name="textAreaRight" fmla="*/ 275040 w 762120"/>
                <a:gd name="textAreaTop" fmla="*/ 113040 h 4343400"/>
                <a:gd name="textAreaBottom" fmla="*/ 423036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733920" y="2800440"/>
              <a:ext cx="1066680" cy="338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2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5410080" y="2165400"/>
            <a:ext cx="2133720" cy="4665960"/>
            <a:chOff x="5410080" y="2165400"/>
            <a:chExt cx="2133720" cy="4665960"/>
          </a:xfrm>
        </p:grpSpPr>
        <p:sp>
          <p:nvSpPr>
            <p:cNvPr id="1230" name=""/>
            <p:cNvSpPr/>
            <p:nvPr/>
          </p:nvSpPr>
          <p:spPr>
            <a:xfrm>
              <a:off x="5410080" y="4038480"/>
              <a:ext cx="990720" cy="914400"/>
            </a:xfrm>
            <a:prstGeom prst="rightArrow">
              <a:avLst>
                <a:gd name="adj1" fmla="val 25343"/>
                <a:gd name="adj2" fmla="val 3438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858000" y="2165400"/>
              <a:ext cx="685800" cy="4665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0" spc="-1" strike="noStrike">
                  <a:solidFill>
                    <a:srgbClr val="ff3300"/>
                  </a:solidFill>
                  <a:latin typeface="Times New Roman"/>
                </a:rPr>
                <a:t>ASCII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5943600" y="0"/>
            <a:ext cx="3202560" cy="2174760"/>
            <a:chOff x="5943600" y="0"/>
            <a:chExt cx="3202560" cy="2174760"/>
          </a:xfrm>
        </p:grpSpPr>
        <p:sp>
          <p:nvSpPr>
            <p:cNvPr id="1233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576640" y="363600"/>
              <a:ext cx="5695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Q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solv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153200" y="1028880"/>
              <a:ext cx="7365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Times New Roman"/>
                </a:rPr>
                <a:t>EG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 EG-rid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 u="sng">
                <a:solidFill>
                  <a:srgbClr val="ffcc66"/>
                </a:solidFill>
                <a:uFillTx/>
                <a:latin typeface="Times New Roman"/>
              </a:rPr>
              <a:t>Ciclo incrementa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66"/>
                </a:solidFill>
                <a:latin typeface="Times New Roman"/>
              </a:rPr>
              <a:t>Valutazione delle prestazioni di un software C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66"/>
                </a:solidFill>
                <a:latin typeface="Times New Roman"/>
              </a:rPr>
              <a:t>fin dalla fase di progett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75240" y="2816280"/>
            <a:ext cx="1601640" cy="99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653000" y="28177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Analysis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72000" y="4419720"/>
            <a:ext cx="1090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478400" y="452916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G-ridot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Q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919080" y="2894040"/>
            <a:ext cx="107964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76840" y="4575240"/>
            <a:ext cx="1492560" cy="80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934320" y="2897280"/>
            <a:ext cx="101412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203560" y="4876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861160" y="4956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7238880" y="38858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6176520" y="3274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65600" y="2903400"/>
            <a:ext cx="102528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4043160" y="319896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23880" y="3886200"/>
            <a:ext cx="0" cy="417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87800" y="434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24200" y="297036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conver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011720" y="30481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699960" y="464832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149120" y="304632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13040" y="4419720"/>
            <a:ext cx="10666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736720" y="4616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 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-rid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362320" y="615636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Moduli di trasform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rot="16200000">
            <a:off x="2889360" y="3276720"/>
            <a:ext cx="838080" cy="4952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907920" y="4419720"/>
            <a:ext cx="1067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984240" y="4648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ML 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032360" y="4876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2290680" y="3274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31200" y="1955880"/>
            <a:ext cx="2585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nnotazioni RT-U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omm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Il contesto d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oscenze e tecnologie 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s e tecnologie di suppo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T-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Tool realiz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mportamento e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clusioni e sviluppi fut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omm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l contesto d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oscenze e tecnologie 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s e tecnologie di suppo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T-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Tool realiz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mportamento e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Conclusioni e sviluppi fut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0" y="380880"/>
            <a:ext cx="877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352680" y="6858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33520" y="68580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clusioni e sviluppi futur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638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fficol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ndardizzazione nei tool di 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bilità nei tool di 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breve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Best Case &amp; Worst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lungo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dividu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Elimin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0" y="380880"/>
            <a:ext cx="877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352680" y="6858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clusioni e sviluppi futur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715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Difficol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Poca standardizzazione nei tool di 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Poca stabilità nei tool di 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breve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Best Case &amp; Worst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lungo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dividu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Elimin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181480" y="18288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91320" y="17208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 non portabile e modul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181480" y="21337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791320" y="20574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ggirare” certe instabi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0" y="380880"/>
            <a:ext cx="877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52680" y="6858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68580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clusioni e sviluppi futur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715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fficol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ndardizzazione nei tool di 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bilità nei tool di 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Obiettivi a breve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Best Case &amp; Worst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lungo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dividu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Elimin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15080" y="3276720"/>
            <a:ext cx="510840" cy="152280"/>
          </a:xfrm>
          <a:prstGeom prst="rightArrow">
            <a:avLst>
              <a:gd name="adj1" fmla="val 50000"/>
              <a:gd name="adj2" fmla="val 83865"/>
            </a:avLst>
          </a:prstGeom>
          <a:solidFill>
            <a:srgbClr val="33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486400" y="3138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plementazione di form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0" y="380880"/>
            <a:ext cx="877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352680" y="6858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33520" y="68580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clusioni e sviluppi futur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715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fficol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ndardizzazione nei tool di 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bilità nei tool di 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breve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Best Case &amp; Worst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Obiettivi a lungo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Individu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Elimin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410080" y="4419720"/>
            <a:ext cx="511200" cy="152280"/>
          </a:xfrm>
          <a:prstGeom prst="rightArrow">
            <a:avLst>
              <a:gd name="adj1" fmla="val 50000"/>
              <a:gd name="adj2" fmla="val 83924"/>
            </a:avLst>
          </a:prstGeom>
          <a:solidFill>
            <a:srgbClr val="33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10080" y="4786200"/>
            <a:ext cx="511200" cy="152640"/>
          </a:xfrm>
          <a:prstGeom prst="rightArrow">
            <a:avLst>
              <a:gd name="adj1" fmla="val 50000"/>
              <a:gd name="adj2" fmla="val 83726"/>
            </a:avLst>
          </a:prstGeom>
          <a:solidFill>
            <a:srgbClr val="33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943600" y="4267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nalizzando i risultati del to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9436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odificando il file .XMI di Ar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 u="sng">
                <a:solidFill>
                  <a:srgbClr val="ffcc66"/>
                </a:solidFill>
                <a:uFillTx/>
                <a:latin typeface="Times New Roman"/>
              </a:rPr>
              <a:t>Il contesto di ricer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ercato in continua evolu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1828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ccff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90200" y="2666520"/>
            <a:ext cx="3810960" cy="305280"/>
            <a:chOff x="2590200" y="2666520"/>
            <a:chExt cx="3810960" cy="305280"/>
          </a:xfrm>
        </p:grpSpPr>
        <p:cxnSp>
          <p:nvCxnSpPr>
            <p:cNvPr id="115" name=""/>
            <p:cNvCxnSpPr/>
            <p:nvPr/>
          </p:nvCxnSpPr>
          <p:spPr>
            <a:xfrm>
              <a:off x="4572000" y="2666520"/>
              <a:ext cx="1829520" cy="305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/>
            <p:nvPr/>
          </p:nvCxnSpPr>
          <p:spPr>
            <a:xfrm flipH="1">
              <a:off x="2590200" y="2666520"/>
              <a:ext cx="1981800" cy="305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17" name=""/>
          <p:cNvSpPr/>
          <p:nvPr/>
        </p:nvSpPr>
        <p:spPr>
          <a:xfrm>
            <a:off x="990720" y="301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ff"/>
                </a:solidFill>
                <a:latin typeface="Times New Roman"/>
              </a:rPr>
              <a:t>Proprie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01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ff"/>
                </a:solidFill>
                <a:latin typeface="Times New Roman"/>
              </a:rPr>
              <a:t>C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90360" y="3429000"/>
            <a:ext cx="1523880" cy="2286360"/>
            <a:chOff x="990360" y="3429000"/>
            <a:chExt cx="1523880" cy="2286360"/>
          </a:xfrm>
        </p:grpSpPr>
        <p:cxnSp>
          <p:nvCxnSpPr>
            <p:cNvPr id="120" name=""/>
            <p:cNvCxnSpPr/>
            <p:nvPr/>
          </p:nvCxnSpPr>
          <p:spPr>
            <a:xfrm>
              <a:off x="1066320" y="3809880"/>
              <a:ext cx="1080" cy="1905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/>
            <p:nvPr/>
          </p:nvCxnSpPr>
          <p:spPr>
            <a:xfrm>
              <a:off x="2437920" y="38098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 rot="5400000">
              <a:off x="1561680" y="2857320"/>
              <a:ext cx="380880" cy="15238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7200" y="4419720"/>
            <a:ext cx="3124080" cy="1952280"/>
            <a:chOff x="457200" y="4419720"/>
            <a:chExt cx="3124080" cy="1952280"/>
          </a:xfrm>
        </p:grpSpPr>
        <p:sp>
          <p:nvSpPr>
            <p:cNvPr id="124" name=""/>
            <p:cNvSpPr/>
            <p:nvPr/>
          </p:nvSpPr>
          <p:spPr>
            <a:xfrm>
              <a:off x="457200" y="579132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cc66"/>
                  </a:solidFill>
                  <a:latin typeface="Times New Roman"/>
                </a:rPr>
                <a:t>Funzionali    </a:t>
              </a:r>
              <a:r>
                <a:rPr b="0" i="1" lang="it-IT" sz="1600" spc="-1" strike="noStrike">
                  <a:solidFill>
                    <a:srgbClr val="ffcc66"/>
                  </a:solidFill>
                  <a:latin typeface="Times New Roman"/>
                </a:rPr>
                <a:t>( correttezz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4419720"/>
              <a:ext cx="228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cc66"/>
                  </a:solidFill>
                  <a:latin typeface="Times New Roman"/>
                </a:rPr>
                <a:t>Non Funzionali </a:t>
              </a:r>
              <a:r>
                <a:rPr b="0" i="1" lang="it-IT" sz="1600" spc="-1" strike="noStrike">
                  <a:solidFill>
                    <a:srgbClr val="ffcc66"/>
                  </a:solidFill>
                  <a:latin typeface="Times New Roman"/>
                </a:rPr>
                <a:t>(prestazioni, riusabilità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476760" y="3429000"/>
            <a:ext cx="1523880" cy="2286360"/>
            <a:chOff x="6476760" y="3429000"/>
            <a:chExt cx="1523880" cy="2286360"/>
          </a:xfrm>
        </p:grpSpPr>
        <p:cxnSp>
          <p:nvCxnSpPr>
            <p:cNvPr id="127" name=""/>
            <p:cNvCxnSpPr/>
            <p:nvPr/>
          </p:nvCxnSpPr>
          <p:spPr>
            <a:xfrm>
              <a:off x="7848360" y="3809880"/>
              <a:ext cx="1080" cy="1905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6629040" y="38098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 rot="5400000">
              <a:off x="7048080" y="2857320"/>
              <a:ext cx="380880" cy="15238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34120" y="4419720"/>
            <a:ext cx="2743200" cy="1952280"/>
            <a:chOff x="5334120" y="4419720"/>
            <a:chExt cx="2743200" cy="1952280"/>
          </a:xfrm>
        </p:grpSpPr>
        <p:sp>
          <p:nvSpPr>
            <p:cNvPr id="131" name=""/>
            <p:cNvSpPr/>
            <p:nvPr/>
          </p:nvSpPr>
          <p:spPr>
            <a:xfrm>
              <a:off x="5334120" y="44197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cc66"/>
                  </a:solidFill>
                  <a:latin typeface="Times New Roman"/>
                </a:rPr>
                <a:t>Produz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5791320"/>
              <a:ext cx="228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cc66"/>
                  </a:solidFill>
                  <a:latin typeface="Times New Roman"/>
                </a:rPr>
                <a:t>Investimenti sbagliati in prodotti non idone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28440" y="4756320"/>
            <a:ext cx="4649040" cy="1263960"/>
            <a:chOff x="1828440" y="4756320"/>
            <a:chExt cx="4649040" cy="1263960"/>
          </a:xfrm>
        </p:grpSpPr>
        <p:cxnSp>
          <p:nvCxnSpPr>
            <p:cNvPr id="134" name=""/>
            <p:cNvCxnSpPr/>
            <p:nvPr/>
          </p:nvCxnSpPr>
          <p:spPr>
            <a:xfrm>
              <a:off x="1828440" y="6019560"/>
              <a:ext cx="762840" cy="1080"/>
            </a:xfrm>
            <a:prstGeom prst="straightConnector1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31" idx="2"/>
            </p:cNvCxnSpPr>
            <p:nvPr/>
          </p:nvCxnSpPr>
          <p:spPr>
            <a:xfrm>
              <a:off x="6476760" y="4756320"/>
              <a:ext cx="1080" cy="349920"/>
            </a:xfrm>
            <a:prstGeom prst="straightConnector1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2743200" y="5105520"/>
            <a:ext cx="4648320" cy="1084680"/>
            <a:chOff x="2743200" y="5105520"/>
            <a:chExt cx="4648320" cy="1084680"/>
          </a:xfrm>
        </p:grpSpPr>
        <p:sp>
          <p:nvSpPr>
            <p:cNvPr id="137" name=""/>
            <p:cNvSpPr/>
            <p:nvPr/>
          </p:nvSpPr>
          <p:spPr>
            <a:xfrm>
              <a:off x="2743200" y="57913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rogrammator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2720" y="51055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 u="sng">
                <a:solidFill>
                  <a:srgbClr val="ffcc66"/>
                </a:solidFill>
                <a:uFillTx/>
                <a:latin typeface="Times New Roman"/>
              </a:rPr>
              <a:t>Il contesto di ricer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ercato in continua evolu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828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ccff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"/>
          <p:cNvCxnSpPr/>
          <p:nvPr/>
        </p:nvCxnSpPr>
        <p:spPr>
          <a:xfrm>
            <a:off x="4572000" y="2666520"/>
            <a:ext cx="182952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/>
          <p:nvPr/>
        </p:nvCxnSpPr>
        <p:spPr>
          <a:xfrm flipH="1">
            <a:off x="2590200" y="2666520"/>
            <a:ext cx="198180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990720" y="301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ff"/>
                </a:solidFill>
                <a:latin typeface="Times New Roman"/>
              </a:rPr>
              <a:t>Proprie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301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ff"/>
                </a:solidFill>
                <a:latin typeface="Times New Roman"/>
              </a:rPr>
              <a:t>C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"/>
          <p:cNvCxnSpPr/>
          <p:nvPr/>
        </p:nvCxnSpPr>
        <p:spPr>
          <a:xfrm>
            <a:off x="1066320" y="3809880"/>
            <a:ext cx="1080" cy="1905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7848360" y="3809880"/>
            <a:ext cx="1080" cy="1905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6629040" y="38098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/>
          <p:nvPr/>
        </p:nvCxnSpPr>
        <p:spPr>
          <a:xfrm>
            <a:off x="2437920" y="38098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457200" y="5791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c66"/>
                </a:solidFill>
                <a:latin typeface="Times New Roman"/>
              </a:rPr>
              <a:t>Funzionali    </a:t>
            </a:r>
            <a:r>
              <a:rPr b="0" i="1" lang="it-IT" sz="1600" spc="-1" strike="noStrike">
                <a:solidFill>
                  <a:srgbClr val="ffcc66"/>
                </a:solidFill>
                <a:latin typeface="Times New Roman"/>
              </a:rPr>
              <a:t>( correttezz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61680" y="2857320"/>
            <a:ext cx="380880" cy="1523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419720"/>
            <a:ext cx="3124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c66"/>
                </a:solidFill>
                <a:latin typeface="Times New Roman"/>
              </a:rPr>
              <a:t>Non Funzionali </a:t>
            </a:r>
            <a:r>
              <a:rPr b="0" i="1" lang="it-IT" sz="1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i="1" lang="it-IT" sz="3200" spc="-1" strike="noStrike" u="sng">
                <a:solidFill>
                  <a:srgbClr val="ff3300"/>
                </a:solidFill>
                <a:uFillTx/>
                <a:latin typeface="Times New Roman"/>
              </a:rPr>
              <a:t>prestazioni</a:t>
            </a:r>
            <a:r>
              <a:rPr b="0" i="1" lang="it-IT" sz="1600" spc="-1" strike="noStrike">
                <a:solidFill>
                  <a:srgbClr val="ffcc66"/>
                </a:solidFill>
                <a:latin typeface="Times New Roman"/>
              </a:rPr>
              <a:t>, riusabilità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048080" y="2857320"/>
            <a:ext cx="380880" cy="1523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419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c66"/>
                </a:solidFill>
                <a:latin typeface="Times New Roman"/>
              </a:rPr>
              <a:t>Produ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563868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Times New Roman"/>
              </a:rPr>
              <a:t>Investimenti sbagliati in prodotti non idon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/>
          <p:nvPr/>
        </p:nvCxnSpPr>
        <p:spPr>
          <a:xfrm>
            <a:off x="1828440" y="6019560"/>
            <a:ext cx="762840" cy="108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57" name=""/>
          <p:cNvCxnSpPr>
            <a:stCxn id="154" idx="2"/>
          </p:cNvCxnSpPr>
          <p:nvPr/>
        </p:nvCxnSpPr>
        <p:spPr>
          <a:xfrm>
            <a:off x="6476760" y="4756320"/>
            <a:ext cx="1080" cy="3499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74320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grammat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5105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Times New Roman"/>
              </a:rPr>
              <a:t>C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 u="sng">
                <a:solidFill>
                  <a:srgbClr val="ffcc66"/>
                </a:solidFill>
                <a:uFillTx/>
                <a:latin typeface="Times New Roman"/>
              </a:rPr>
              <a:t>Obiettiv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66"/>
                </a:solidFill>
                <a:latin typeface="Times New Roman"/>
              </a:rPr>
              <a:t>Valutazione delle prestazioni di un software C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66"/>
                </a:solidFill>
                <a:latin typeface="Times New Roman"/>
              </a:rPr>
              <a:t>fin dalla fase di progett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816280"/>
            <a:ext cx="1601640" cy="99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53000" y="28177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alysis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419720"/>
            <a:ext cx="1090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84880" y="453384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G-ridot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Q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9080" y="2894040"/>
            <a:ext cx="107964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76840" y="4575240"/>
            <a:ext cx="1492560" cy="80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897280"/>
            <a:ext cx="101412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3560" y="4876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1160" y="4956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238880" y="38858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176520" y="3274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65600" y="2903400"/>
            <a:ext cx="102528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043160" y="319896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3886200"/>
            <a:ext cx="0" cy="417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87800" y="434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24200" y="297036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1720" y="30481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99960" y="464832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9120" y="304632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o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3040" y="4419720"/>
            <a:ext cx="10666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36720" y="4616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 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-rid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615636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Moduli di trasform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2889360" y="3276720"/>
            <a:ext cx="838080" cy="4952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07920" y="4419720"/>
            <a:ext cx="1067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84240" y="4648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ML 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2360" y="4876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290680" y="3274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200" y="1955880"/>
            <a:ext cx="2585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nnotazioni RT-U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omm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l contesto d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Conoscenze e tecnologie 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Tools e tecnologie di suppo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S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RT-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Tool realiz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mportamento e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clusioni e sviluppi fut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oscenze e tecnologie di bas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90720" y="4653000"/>
            <a:ext cx="7924680" cy="1905120"/>
            <a:chOff x="990720" y="4653000"/>
            <a:chExt cx="7924680" cy="1905120"/>
          </a:xfrm>
        </p:grpSpPr>
        <p:sp>
          <p:nvSpPr>
            <p:cNvPr id="194" name=""/>
            <p:cNvSpPr/>
            <p:nvPr/>
          </p:nvSpPr>
          <p:spPr>
            <a:xfrm>
              <a:off x="990720" y="5454720"/>
              <a:ext cx="283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</a:rPr>
                <a:t>- Tecnologie di suppor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40360" y="4653000"/>
              <a:ext cx="609480" cy="1905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29200" y="4724280"/>
              <a:ext cx="3886200" cy="1694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UML 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imes New Roman"/>
                </a:rPr>
                <a:t>Unified Modelling Language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XML 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Extensible Markup Language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XMI 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(XML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imes New Roman"/>
                </a:rPr>
                <a:t>Metadata Interchange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SPE 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(Software Performance Engineering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95120" y="8380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ccff"/>
                </a:solidFill>
                <a:latin typeface="Times New Roman"/>
              </a:rPr>
              <a:t>Tools e tecnologie di suppor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64040" y="1371600"/>
            <a:ext cx="660240" cy="2716200"/>
          </a:xfrm>
          <a:custGeom>
            <a:avLst/>
            <a:gdLst>
              <a:gd name="textAreaLeft" fmla="*/ 421920 w 660240"/>
              <a:gd name="textAreaRight" fmla="*/ 660240 w 660240"/>
              <a:gd name="textAreaTop" fmla="*/ 70560 h 2716200"/>
              <a:gd name="textAreaBottom" fmla="*/ 2645640 h 271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1447920"/>
            <a:ext cx="2235240" cy="133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RGO U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  </a:t>
            </a: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free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per la realizzazione di modelli 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5480" y="25146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2971800"/>
            <a:ext cx="2235240" cy="10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AQ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  </a:t>
            </a: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free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per l’analisi di Q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oscenze e tecnologie di bas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048120"/>
            <a:ext cx="6302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da sulla separazione del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Model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hinery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" y="4038480"/>
            <a:ext cx="7924680" cy="2725560"/>
            <a:chOff x="685800" y="4038480"/>
            <a:chExt cx="7924680" cy="2725560"/>
          </a:xfrm>
        </p:grpSpPr>
        <p:sp>
          <p:nvSpPr>
            <p:cNvPr id="205" name=""/>
            <p:cNvSpPr/>
            <p:nvPr/>
          </p:nvSpPr>
          <p:spPr>
            <a:xfrm>
              <a:off x="7162560" y="5574960"/>
              <a:ext cx="1447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Q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360" y="5574960"/>
              <a:ext cx="5029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nisce informazioni sulla piattaforma hardware su cui ci si basa, quali caratteristiche topologiche, informazioni sui dispositivi, e parametri necessari all’analisi</a:t>
              </a: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5574960"/>
              <a:ext cx="1447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imes New Roman"/>
                </a:rPr>
                <a:t>Machine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imes New Roman"/>
                </a:rPr>
                <a:t>Mo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800240"/>
              <a:ext cx="14479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E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33360" y="4800240"/>
              <a:ext cx="50292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mette di conoscere e catturare i comportamenti essenziali del software</a:t>
              </a:r>
              <a:r>
                <a:rPr b="0" lang="it-IT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800" y="4800240"/>
              <a:ext cx="1447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imes New Roman"/>
                </a:rPr>
                <a:t>Soft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imes New Roman"/>
                </a:rPr>
                <a:t>Mo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4800240"/>
              <a:ext cx="79246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5574960"/>
              <a:ext cx="792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6764040"/>
              <a:ext cx="79246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5800" y="4800240"/>
              <a:ext cx="0" cy="1963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33360" y="4800240"/>
              <a:ext cx="0" cy="19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2560" y="4800240"/>
              <a:ext cx="0" cy="19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0480" y="4800240"/>
              <a:ext cx="0" cy="1963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62560" y="4038480"/>
              <a:ext cx="14479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MODELL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33360" y="4038480"/>
              <a:ext cx="50292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DESCRIZI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33360" y="4038480"/>
              <a:ext cx="6477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33360" y="4800240"/>
              <a:ext cx="6477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33360" y="4038480"/>
              <a:ext cx="0" cy="7617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62560" y="403848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10480" y="4038480"/>
              <a:ext cx="0" cy="7617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9907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ff"/>
                </a:solidFill>
                <a:latin typeface="Times New Roman"/>
              </a:rPr>
              <a:t>SPE (</a:t>
            </a:r>
            <a:r>
              <a:rPr b="1" i="1" lang="it-IT" sz="1800" spc="-1" strike="noStrike">
                <a:solidFill>
                  <a:srgbClr val="33ccff"/>
                </a:solidFill>
                <a:latin typeface="Times New Roman"/>
              </a:rPr>
              <a:t>Software Performance Engineering</a:t>
            </a:r>
            <a:r>
              <a:rPr b="1" lang="it-IT" sz="2000" spc="-1" strike="noStrike">
                <a:solidFill>
                  <a:srgbClr val="33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371600"/>
            <a:ext cx="6476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odologia sistematica e quantitativa che permette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nalisi delle prestazio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209680"/>
            <a:ext cx="7162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iede un modello che ne descriva l’architettura e vari dettagl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istici necessari per le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ella Bertolino</cp:lastModifiedBy>
  <dcterms:modified xsi:type="dcterms:W3CDTF">2003-11-18T11:48:51Z</dcterms:modified>
  <cp:revision>44</cp:revision>
  <dc:subject/>
  <dc:title>Presentazione di PowerPoint</dc:title>
</cp:coreProperties>
</file>