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61A0-DE01-4B63-BD1F-2E2524C7BE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NTROLLARE </a:t>
            </a:r>
            <a:r>
              <a:rPr b="0" lang="it-IT" sz="1200" spc="-1" strike="noStrike">
                <a:solidFill>
                  <a:srgbClr val="00cc99"/>
                </a:solidFill>
                <a:latin typeface="Times New Roman"/>
              </a:rPr>
              <a:t>WHOS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!!!!!!!!!!!!!!!!!!!!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 di sta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nale parallelo per comunicazioni di controllo con interrogazione ad app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 l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 ha hol blo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 ha problema di scalabilita’ (code n volte piu’ veloci degli in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4 risolve tutto ma costa in memoria e ha lo scheduler che puo’ essere l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olte le prime 2 la terza viene di consegu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smettitore trasmette su un b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ceiver ha  un filtro ottico sintonizza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 vice ver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dm da ku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A76-9EC6-49E5-9B00-75166ECE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17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28600" y="4143960"/>
            <a:ext cx="8717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5202-7C24-4880-A4DF-13139DE2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5480" y="16761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41439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95480" y="41439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2F2-CADC-40E9-BF94-19A8EA6E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806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175920" y="1676160"/>
            <a:ext cx="2806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23240" y="1676160"/>
            <a:ext cx="2806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228600" y="4143960"/>
            <a:ext cx="2806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175920" y="4143960"/>
            <a:ext cx="2806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123240" y="4143960"/>
            <a:ext cx="2806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9CF-4138-4D54-B0CC-CFA58414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7170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17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53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95480" y="1676160"/>
            <a:ext cx="4253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5480" y="1676160"/>
            <a:ext cx="4253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41439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7170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ED9-4F29-4494-9086-86FED71C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53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5480" y="16761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95480" y="41439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5480" y="16761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600" y="4143960"/>
            <a:ext cx="8717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17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600" y="4143960"/>
            <a:ext cx="8717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5480" y="16761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600" y="41439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95480" y="41439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806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75920" y="1676160"/>
            <a:ext cx="2806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23240" y="1676160"/>
            <a:ext cx="2806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600" y="4143960"/>
            <a:ext cx="2806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75920" y="4143960"/>
            <a:ext cx="2806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23240" y="4143960"/>
            <a:ext cx="2806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17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018-DC2F-4632-878E-35A8601B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53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5480" y="1676160"/>
            <a:ext cx="4253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AC1-3890-4011-BC7D-EA3B3EFA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7E8-AFE6-4173-8D9C-0CA388E6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B9C-9D92-4616-AAB6-EE3CACCF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95480" y="1676160"/>
            <a:ext cx="4253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600" y="41439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219-931F-460F-9A15-803300B9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53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95480" y="16761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95480" y="41439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51D-8F7C-4DE0-9B36-FEAEC49A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95480" y="1676160"/>
            <a:ext cx="4253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8600" y="4143960"/>
            <a:ext cx="8717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DFD-B5D0-4393-8A97-DD6C7D2C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" y="1128240"/>
            <a:ext cx="9142200" cy="243000"/>
            <a:chOff x="360" y="1128240"/>
            <a:chExt cx="9142200" cy="243000"/>
          </a:xfrm>
        </p:grpSpPr>
        <p:sp>
          <p:nvSpPr>
            <p:cNvPr id="1" name=""/>
            <p:cNvSpPr/>
            <p:nvPr/>
          </p:nvSpPr>
          <p:spPr>
            <a:xfrm flipH="1" rot="5400000">
              <a:off x="4465440" y="-3308400"/>
              <a:ext cx="237960" cy="911556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6427080" y="915120"/>
              <a:ext cx="23796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6967080" y="914400"/>
              <a:ext cx="23796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8616600" y="1046880"/>
              <a:ext cx="23796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7471440" y="1016280"/>
              <a:ext cx="237960" cy="466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7823880" y="962280"/>
              <a:ext cx="237960" cy="574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8270640" y="1000800"/>
              <a:ext cx="240840" cy="4996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3431160" y="913320"/>
              <a:ext cx="237960" cy="6678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3971520" y="912240"/>
              <a:ext cx="23796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5622480" y="1044720"/>
              <a:ext cx="23796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4477680" y="1014120"/>
              <a:ext cx="237960" cy="466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4829040" y="960840"/>
              <a:ext cx="23796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rot="5400000">
              <a:off x="5275800" y="997920"/>
              <a:ext cx="240840" cy="50112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rot="5400000">
              <a:off x="2057040" y="915480"/>
              <a:ext cx="237960" cy="6678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 rot="5400000">
              <a:off x="2597400" y="914400"/>
              <a:ext cx="23796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rot="5400000">
              <a:off x="1252440" y="1045080"/>
              <a:ext cx="237960" cy="40428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360" y="1128600"/>
              <a:ext cx="461520" cy="23832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 rot="5400000">
              <a:off x="459000" y="960840"/>
              <a:ext cx="23796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5400000">
              <a:off x="906120" y="997920"/>
              <a:ext cx="24084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" name=""/>
          <p:cNvSpPr/>
          <p:nvPr/>
        </p:nvSpPr>
        <p:spPr>
          <a:xfrm flipH="1">
            <a:off x="1440" y="1066680"/>
            <a:ext cx="9142560" cy="21924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002776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 flipH="1">
            <a:off x="-720" y="1311120"/>
            <a:ext cx="9140760" cy="13680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002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717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241280" indent="-46980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1660680" indent="-22860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3" marL="2079720" indent="-22860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4" marL="2498760" indent="-22860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5" marL="2498760" indent="-22860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6" marL="2498760" indent="-22860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2209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ccec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ccec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2590920" y="6552720"/>
            <a:ext cx="4114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cce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ec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ccec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BD77-395A-43F6-A6F1-1AB2C292F0A6}" type="slidenum">
              <a:rPr b="0" i="1" lang="en-US" sz="1400" spc="-1" strike="noStrike">
                <a:solidFill>
                  <a:srgbClr val="ccec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819520"/>
            <a:ext cx="9147240" cy="910800"/>
            <a:chOff x="-360" y="2819520"/>
            <a:chExt cx="9147240" cy="910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854800"/>
              <a:ext cx="9147240" cy="866880"/>
              <a:chOff x="-360" y="2854800"/>
              <a:chExt cx="9147240" cy="86688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162680" y="-1273320"/>
                <a:ext cx="84816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124320" y="2952360"/>
                <a:ext cx="84816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664680" y="2951640"/>
                <a:ext cx="8481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314920" y="3084120"/>
                <a:ext cx="8481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170120" y="3053520"/>
                <a:ext cx="8481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522560" y="2999520"/>
                <a:ext cx="84816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965000" y="3042000"/>
                <a:ext cx="85896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127680" y="2945880"/>
                <a:ext cx="8481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667680" y="2944800"/>
                <a:ext cx="8481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319360" y="3077280"/>
                <a:ext cx="8481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74560" y="3046680"/>
                <a:ext cx="8481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526280" y="2993400"/>
                <a:ext cx="8481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968720" y="3034440"/>
                <a:ext cx="85896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752840" y="2952720"/>
                <a:ext cx="8481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92840" y="2951640"/>
                <a:ext cx="8481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947880" y="3077640"/>
                <a:ext cx="8481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854800"/>
                <a:ext cx="461880" cy="8496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153720" y="2993400"/>
                <a:ext cx="8481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96880" y="3034440"/>
                <a:ext cx="85896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819520"/>
              <a:ext cx="9147240" cy="5601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2776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473280"/>
              <a:ext cx="9145800" cy="2570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2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1280" y="653040"/>
            <a:ext cx="790884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lvl="1" marL="457200" indent="0" algn="ctr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914400" indent="517680" algn="ctr">
              <a:lnSpc>
                <a:spcPct val="110000"/>
              </a:lnSpc>
              <a:spcBef>
                <a:spcPts val="499"/>
              </a:spcBef>
              <a:spcAft>
                <a:spcPts val="624"/>
              </a:spcAft>
              <a:buClr>
                <a:srgbClr val="ddddd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3" marL="1371600" indent="479520" algn="ctr">
              <a:lnSpc>
                <a:spcPct val="110000"/>
              </a:lnSpc>
              <a:spcBef>
                <a:spcPts val="499"/>
              </a:spcBef>
              <a:spcAft>
                <a:spcPts val="624"/>
              </a:spcAft>
              <a:buClr>
                <a:srgbClr val="ddddd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4" marL="1828800" indent="441360" algn="ctr">
              <a:lnSpc>
                <a:spcPct val="110000"/>
              </a:lnSpc>
              <a:spcBef>
                <a:spcPts val="499"/>
              </a:spcBef>
              <a:spcAft>
                <a:spcPts val="624"/>
              </a:spcAft>
              <a:buClr>
                <a:srgbClr val="ddddd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5" marL="1828800" indent="441360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6" marL="1828800" indent="441360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216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Tahoma"/>
              </a:rPr>
              <a:t>Allocazione di Traffico in Switch ad Alta Velocità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7339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ddddd"/>
                </a:solidFill>
                <a:latin typeface="Arial"/>
              </a:rPr>
              <a:t>Maurizio Bonuccelli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2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ddddd"/>
                </a:solidFill>
                <a:latin typeface="Arial"/>
              </a:rPr>
              <a:t>Dipartimento di Informatica, Università degli Studi di Pisa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2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dddddd"/>
                </a:solidFill>
                <a:latin typeface="Arial"/>
              </a:rPr>
              <a:t>isa </a:t>
            </a: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dddddd"/>
                </a:solidFill>
                <a:latin typeface="Arial"/>
              </a:rPr>
              <a:t>nitiative on </a:t>
            </a: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dddddd"/>
                </a:solidFill>
                <a:latin typeface="Arial"/>
              </a:rPr>
              <a:t>oftware </a:t>
            </a: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dddddd"/>
                </a:solidFill>
                <a:latin typeface="Arial"/>
              </a:rPr>
              <a:t>rchitectures for </a:t>
            </a: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Tel</a:t>
            </a:r>
            <a:r>
              <a:rPr b="0" lang="en-GB" sz="2000" spc="-1" strike="noStrike">
                <a:solidFill>
                  <a:srgbClr val="dddddd"/>
                </a:solidFill>
                <a:latin typeface="Arial"/>
              </a:rPr>
              <a:t>ecommunications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34" name="front2" descr=""/>
          <p:cNvPicPr/>
          <p:nvPr/>
        </p:nvPicPr>
        <p:blipFill>
          <a:blip r:embed="rId1"/>
          <a:stretch/>
        </p:blipFill>
        <p:spPr>
          <a:xfrm>
            <a:off x="609480" y="3733920"/>
            <a:ext cx="1436760" cy="1253880"/>
          </a:xfrm>
          <a:prstGeom prst="rect">
            <a:avLst/>
          </a:prstGeom>
          <a:ln w="0">
            <a:noFill/>
          </a:ln>
        </p:spPr>
      </p:pic>
      <p:pic>
        <p:nvPicPr>
          <p:cNvPr id="135" name="logopisatel" descr=""/>
          <p:cNvPicPr/>
          <p:nvPr/>
        </p:nvPicPr>
        <p:blipFill>
          <a:blip r:embed="rId2"/>
          <a:stretch/>
        </p:blipFill>
        <p:spPr>
          <a:xfrm>
            <a:off x="6172200" y="4800600"/>
            <a:ext cx="2432160" cy="1460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00200" y="57754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ccff"/>
                </a:solidFill>
                <a:latin typeface="Tahoma"/>
              </a:rPr>
              <a:t>Pisa, 19 Novembre 200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Tahoma"/>
              </a:rPr>
              <a:t>TDMA Protocol</a:t>
            </a:r>
            <a:r>
              <a:rPr b="0" lang="it-IT" sz="4000" spc="-1" strike="noStrike">
                <a:solidFill>
                  <a:srgbClr val="ccecff"/>
                </a:solidFill>
                <a:latin typeface="Tahoma"/>
              </a:rPr>
              <a:t> (1)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17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It assumes </a:t>
            </a:r>
            <a:r>
              <a:rPr b="0" lang="en-GB" sz="2800" spc="-1" strike="noStrike">
                <a:solidFill>
                  <a:srgbClr val="99ccff"/>
                </a:solidFill>
                <a:latin typeface="Arial"/>
              </a:rPr>
              <a:t>synchronism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99ccff"/>
                </a:solidFill>
                <a:latin typeface="Arial"/>
              </a:rPr>
              <a:t>slotted transmiss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Messages are split in </a:t>
            </a:r>
            <a:r>
              <a:rPr b="0" lang="en-GB" sz="2800" spc="-1" strike="noStrike">
                <a:solidFill>
                  <a:srgbClr val="99ccff"/>
                </a:solidFill>
                <a:latin typeface="Arial"/>
              </a:rPr>
              <a:t>equal length packet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Transmission is organized in </a:t>
            </a:r>
            <a:r>
              <a:rPr b="0" lang="en-GB" sz="2800" spc="-1" strike="noStrike">
                <a:solidFill>
                  <a:srgbClr val="99ccff"/>
                </a:solidFill>
                <a:latin typeface="Arial"/>
              </a:rPr>
              <a:t>fram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Each frame is divided in </a:t>
            </a:r>
            <a:r>
              <a:rPr b="0" lang="en-GB" sz="2800" spc="-1" strike="noStrike">
                <a:solidFill>
                  <a:srgbClr val="99ccff"/>
                </a:solidFill>
                <a:latin typeface="Arial"/>
              </a:rPr>
              <a:t>time slots</a:t>
            </a:r>
            <a:r>
              <a:rPr b="0" lang="it-IT" sz="2800" spc="-1" strike="noStrike">
                <a:solidFill>
                  <a:srgbClr val="dddddd"/>
                </a:solidFill>
                <a:latin typeface="Arial"/>
              </a:rPr>
              <a:t>, whose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dimension is fixed and equal to that of packet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Each time slot represents a particular </a:t>
            </a:r>
            <a:r>
              <a:rPr b="0" lang="en-GB" sz="2800" spc="-1" strike="noStrike">
                <a:solidFill>
                  <a:srgbClr val="99ccff"/>
                </a:solidFill>
                <a:latin typeface="Arial"/>
              </a:rPr>
              <a:t>configuration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of the system in which no transmission collides with other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7A2-08D0-49C6-BED1-CBF3E95447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Tahoma"/>
              </a:rPr>
              <a:t>TDMA Protocol</a:t>
            </a:r>
            <a:r>
              <a:rPr b="0" lang="it-IT" sz="4000" spc="-1" strike="noStrike">
                <a:solidFill>
                  <a:srgbClr val="ccecff"/>
                </a:solidFill>
                <a:latin typeface="Tahoma"/>
              </a:rPr>
              <a:t> (2)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170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Arial"/>
              </a:rPr>
              <a:t>Static version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: each entity has a fixed amount of time slots reserved for its transmission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Arial"/>
              </a:rPr>
              <a:t>Dynamic version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241280" indent="-46980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time slots are reserved to entities according to the amount of messages they require to send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1241280" indent="-46980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frame length is variable: scheduling of packets transmission is needed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53784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In this setting packet scheduling is called </a:t>
            </a:r>
            <a:r>
              <a:rPr b="0" lang="en-GB" sz="2800" spc="-1" strike="noStrike">
                <a:solidFill>
                  <a:srgbClr val="0099cc"/>
                </a:solidFill>
                <a:latin typeface="Tahoma"/>
              </a:rPr>
              <a:t>TIME SLOT ASSIGNMENT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B2D-C13E-4A21-8FC4-9AAAC81132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Tahoma"/>
              </a:rPr>
              <a:t>Objectives of a Scheduling Algorithm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17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To schedule the traffic to transmit in parallel from sources to destinations avoiding collision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To schedule the traffic so that the maximum use of channels is caught up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To minimize or maximize some objective function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6C9-B879-4FA5-A575-ED0D55CD5A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Tahoma"/>
              </a:rPr>
              <a:t>Example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8108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8080" y="236232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274320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38080" y="312408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198108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808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ddddd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238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ddddd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430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ddddd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ddddd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1905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ddddd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ddddd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ddddd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380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ddddd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430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ddddd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0040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8128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38280" y="236232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8280" y="274320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312408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38280" y="198108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382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004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1972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80060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148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38480" y="236232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38480" y="274320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038480" y="312408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98108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3848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1972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006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1992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40080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78168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38680" y="236232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638680" y="274320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38680" y="312408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38680" y="198108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3868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150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62012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00100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8188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38880" y="236232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8880" y="274320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238880" y="312408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238880" y="1981080"/>
            <a:ext cx="11430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38880" y="1981080"/>
            <a:ext cx="0" cy="1143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00100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2388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07000" y="2319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2256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dddddd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19520" y="15238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S</a:t>
            </a:r>
            <a:r>
              <a:rPr b="0" lang="en-GB" sz="2400" spc="-1" strike="noStrike" baseline="-25000">
                <a:solidFill>
                  <a:srgbClr val="dddddd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620120" y="15238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S</a:t>
            </a:r>
            <a:r>
              <a:rPr b="0" lang="en-GB" sz="2400" spc="-1" strike="noStrike" baseline="-25000">
                <a:solidFill>
                  <a:srgbClr val="dddddd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19920" y="15238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S</a:t>
            </a:r>
            <a:r>
              <a:rPr b="0" lang="en-GB" sz="2400" spc="-1" strike="noStrike" baseline="-25000">
                <a:solidFill>
                  <a:srgbClr val="dddddd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19720" y="15238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S</a:t>
            </a:r>
            <a:r>
              <a:rPr b="0" lang="en-GB" sz="2400" spc="-1" strike="noStrike" baseline="-25000">
                <a:solidFill>
                  <a:srgbClr val="dddddd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86480" y="563868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Total length is </a:t>
            </a:r>
            <a:r>
              <a:rPr b="0" i="1" lang="en-GB" sz="2400" spc="-1" strike="noStrike">
                <a:solidFill>
                  <a:srgbClr val="dddddd"/>
                </a:solidFill>
                <a:latin typeface="Tahoma"/>
              </a:rPr>
              <a:t>L </a:t>
            </a: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= 5 + 2 + 1 + 1 = 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90640" y="3124080"/>
            <a:ext cx="78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L</a:t>
            </a:r>
            <a:r>
              <a:rPr b="0" lang="en-GB" sz="2400" spc="-1" strike="noStrike" baseline="-25000">
                <a:solidFill>
                  <a:srgbClr val="dddddd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=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44920" y="3124080"/>
            <a:ext cx="78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L</a:t>
            </a:r>
            <a:r>
              <a:rPr b="0" lang="en-GB" sz="2400" spc="-1" strike="noStrike" baseline="-25000">
                <a:solidFill>
                  <a:srgbClr val="dddddd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=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67360" y="3124080"/>
            <a:ext cx="78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L</a:t>
            </a:r>
            <a:r>
              <a:rPr b="0" lang="en-GB" sz="2400" spc="-1" strike="noStrike" baseline="-25000">
                <a:solidFill>
                  <a:srgbClr val="dddddd"/>
                </a:solidFill>
                <a:latin typeface="Tahoma"/>
              </a:rPr>
              <a:t>3</a:t>
            </a: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491240" y="3124080"/>
            <a:ext cx="78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L</a:t>
            </a:r>
            <a:r>
              <a:rPr b="0" lang="en-GB" sz="2400" spc="-1" strike="noStrike" baseline="-25000">
                <a:solidFill>
                  <a:srgbClr val="dddddd"/>
                </a:solidFill>
                <a:latin typeface="Tahoma"/>
              </a:rPr>
              <a:t>4</a:t>
            </a: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19520" y="4113360"/>
            <a:ext cx="0" cy="9144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48120" y="4113360"/>
            <a:ext cx="0" cy="9144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4113360"/>
            <a:ext cx="0" cy="9144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590920" y="4341960"/>
            <a:ext cx="9144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590920" y="4799160"/>
            <a:ext cx="9144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90920" y="4570560"/>
            <a:ext cx="9144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3400" y="4113360"/>
            <a:ext cx="0" cy="9144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0" y="4113360"/>
            <a:ext cx="0" cy="9144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00600" y="4113360"/>
            <a:ext cx="0" cy="9144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4341960"/>
            <a:ext cx="9144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4799160"/>
            <a:ext cx="9144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14800" y="4570560"/>
            <a:ext cx="9144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943600" y="4113360"/>
            <a:ext cx="0" cy="9144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4113360"/>
            <a:ext cx="0" cy="9144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400800" y="4113360"/>
            <a:ext cx="0" cy="9144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15000" y="4341960"/>
            <a:ext cx="9144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15000" y="4799160"/>
            <a:ext cx="9144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15000" y="4570560"/>
            <a:ext cx="9144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0120" y="4113360"/>
            <a:ext cx="0" cy="9144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4113360"/>
            <a:ext cx="0" cy="9144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077320" y="4113360"/>
            <a:ext cx="0" cy="9144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91520" y="4341960"/>
            <a:ext cx="9144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391520" y="4799160"/>
            <a:ext cx="9144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391520" y="4570560"/>
            <a:ext cx="91440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6960" y="384192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corr</a:t>
            </a:r>
            <a:r>
              <a:rPr b="0" lang="it-IT" sz="2400" spc="-1" strike="noStrike">
                <a:solidFill>
                  <a:srgbClr val="dddddd"/>
                </a:solidFill>
                <a:latin typeface="Tahoma"/>
              </a:rPr>
              <a:t>e</a:t>
            </a: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sponding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to these switc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configuration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43200" y="4265640"/>
            <a:ext cx="152280" cy="15228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971800" y="4494240"/>
            <a:ext cx="152280" cy="15228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00400" y="4722840"/>
            <a:ext cx="152280" cy="15228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4265640"/>
            <a:ext cx="152640" cy="15228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24280" y="4494240"/>
            <a:ext cx="152640" cy="15228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67080" y="4722840"/>
            <a:ext cx="152640" cy="15228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24480" y="4265640"/>
            <a:ext cx="152640" cy="15228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94240"/>
            <a:ext cx="152640" cy="15228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4722840"/>
            <a:ext cx="152640" cy="15228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543800" y="4494240"/>
            <a:ext cx="152280" cy="15228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001000" y="4265640"/>
            <a:ext cx="152280" cy="15228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C25-3EA8-4ECD-8735-2C610FD7B2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Tahoma"/>
              </a:rPr>
              <a:t>Metric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98040" y="1899720"/>
            <a:ext cx="82472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1040" indent="-58104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Minimum length schedul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Minimum average waiting tim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Minimum number of changes of switch configuration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We choose </a:t>
            </a:r>
            <a:r>
              <a:rPr b="0" lang="en-GB" sz="2400" spc="-1" strike="noStrike">
                <a:solidFill>
                  <a:srgbClr val="0099cc"/>
                </a:solidFill>
                <a:latin typeface="Arial"/>
              </a:rPr>
              <a:t>Minimum length schedule 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for two reasons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1241280" indent="-469800">
              <a:lnSpc>
                <a:spcPct val="110000"/>
              </a:lnSpc>
              <a:spcBef>
                <a:spcPts val="499"/>
              </a:spcBef>
              <a:spcAft>
                <a:spcPts val="624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ddddd"/>
                </a:solidFill>
                <a:latin typeface="Arial"/>
              </a:rPr>
              <a:t>To maximize transponders throughput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1241280" indent="-469800">
              <a:lnSpc>
                <a:spcPct val="110000"/>
              </a:lnSpc>
              <a:spcBef>
                <a:spcPts val="499"/>
              </a:spcBef>
              <a:spcAft>
                <a:spcPts val="624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ddddd"/>
                </a:solidFill>
                <a:latin typeface="Arial"/>
              </a:rPr>
              <a:t>It is a necessary condition to minimize the average waiting time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6DE-8A88-45B7-A65D-827A8BB66E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Tahoma"/>
              </a:rPr>
              <a:t>Problem Formulation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17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1040"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Let </a:t>
            </a:r>
            <a:r>
              <a:rPr b="0" i="1" lang="en-GB" sz="2800" spc="-1" strike="noStrike">
                <a:solidFill>
                  <a:srgbClr val="dddddd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be an </a:t>
            </a:r>
            <a:r>
              <a:rPr b="0" i="1" lang="it-IT" sz="2800" spc="-1" strike="noStrike">
                <a:solidFill>
                  <a:srgbClr val="dddddd"/>
                </a:solidFill>
                <a:latin typeface="Arial"/>
              </a:rPr>
              <a:t>N </a:t>
            </a:r>
            <a:r>
              <a:rPr b="0" lang="en-GB" sz="2800" spc="-1" strike="noStrike">
                <a:solidFill>
                  <a:srgbClr val="dddddd"/>
                </a:solidFill>
                <a:latin typeface="Symbol"/>
                <a:ea typeface="Symbol"/>
              </a:rPr>
              <a:t></a:t>
            </a:r>
            <a:r>
              <a:rPr b="0" i="1" lang="en-GB" sz="2800" spc="-1" strike="noStrike">
                <a:solidFill>
                  <a:srgbClr val="dddddd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traffic matrix with non negative integer entries. We have to find a sequence of switching matrices </a:t>
            </a:r>
            <a:r>
              <a:rPr b="0" i="1" lang="en-GB" sz="2800" spc="-1" strike="noStrike">
                <a:solidFill>
                  <a:srgbClr val="dddddd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dddddd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such tha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is minimum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3429000" y="3554280"/>
                <a:ext cx="14605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511440" y="4800600"/>
                <a:ext cx="1289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C57-A801-4FEE-88B9-FAE007410D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Tahoma"/>
              </a:rPr>
              <a:t>Lower Bound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7640"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Let             </a:t>
            </a:r>
            <a:r>
              <a:rPr b="0" lang="it-IT" sz="2400" spc="-1" strike="noStrike">
                <a:solidFill>
                  <a:srgbClr val="dddddd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and             </a:t>
            </a:r>
            <a:r>
              <a:rPr b="0" lang="it-IT" sz="2400" spc="-1" strike="noStrike">
                <a:solidFill>
                  <a:srgbClr val="dddddd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be rows and columns sums, and let                  </a:t>
            </a:r>
            <a:r>
              <a:rPr b="0" lang="it-IT" sz="2400" spc="-1" strike="noStrike">
                <a:solidFill>
                  <a:srgbClr val="dddddd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be the sum over all entries of the traffic matrix </a:t>
            </a:r>
            <a:r>
              <a:rPr b="0" i="1" lang="en-GB" sz="2400" spc="-1" strike="noStrike">
                <a:solidFill>
                  <a:srgbClr val="dddddd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57640" indent="0">
              <a:lnSpc>
                <a:spcPct val="15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Then, calling     </a:t>
            </a:r>
            <a:r>
              <a:rPr b="0" lang="it-IT" sz="2400" spc="-1" strike="noStrike">
                <a:solidFill>
                  <a:srgbClr val="dddddd"/>
                </a:solidFill>
                <a:latin typeface="Arial"/>
              </a:rPr>
              <a:t>                  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                                      ,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57640" indent="0">
              <a:lnSpc>
                <a:spcPct val="15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57640" indent="0">
              <a:lnSpc>
                <a:spcPct val="15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576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where k represents the bandwidth of the system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143000" y="1676520"/>
                <a:ext cx="1308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3124080" y="1676520"/>
                <a:ext cx="13464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1752480" y="2438280"/>
                <a:ext cx="17528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2514600" y="4038480"/>
                <a:ext cx="4952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048120" y="4800600"/>
                <a:ext cx="32763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d>
                      <m:dPr>
                        <m:begChr m:val="⌈"/>
                        <m:endChr m:val="⌉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E74-E0F9-4E90-9D09-E7F44976499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Tahoma"/>
              </a:rPr>
              <a:t>Optimal Algorithm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17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1040" indent="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ccff"/>
                </a:solidFill>
                <a:latin typeface="Arial"/>
              </a:rPr>
              <a:t>BCW Algorithm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ddddd"/>
                </a:solidFill>
                <a:latin typeface="Arial"/>
              </a:rPr>
              <a:t>Optimal algorithm which ALWAYS generates the minimum length schedul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ddddd"/>
                </a:solidFill>
                <a:latin typeface="Arial"/>
              </a:rPr>
              <a:t>Polynomial time complexity: </a:t>
            </a:r>
            <a:r>
              <a:rPr b="0" i="1" lang="it-IT" sz="2800" spc="-1" strike="noStrike">
                <a:solidFill>
                  <a:srgbClr val="dddddd"/>
                </a:solidFill>
                <a:latin typeface="Arial"/>
              </a:rPr>
              <a:t>O(n</a:t>
            </a:r>
            <a:r>
              <a:rPr b="0" i="1" lang="it-IT" sz="2800" spc="-1" strike="noStrike" baseline="30000">
                <a:solidFill>
                  <a:srgbClr val="dddddd"/>
                </a:solidFill>
                <a:latin typeface="Arial"/>
              </a:rPr>
              <a:t>4.5</a:t>
            </a:r>
            <a:r>
              <a:rPr b="0" i="1" lang="it-IT" sz="2800" spc="-1" strike="noStrike">
                <a:solidFill>
                  <a:srgbClr val="dddddd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ddddd"/>
                </a:solidFill>
                <a:latin typeface="Arial"/>
              </a:rPr>
              <a:t>It uses an interesting property of matrices “quasi doubly stochastic” (QDS)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ddddd"/>
                </a:solidFill>
                <a:latin typeface="Arial"/>
              </a:rPr>
              <a:t>A QDS matrix has all line sums equal to a given value 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707-22FD-4F6E-BD62-C1628D69D1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Tahoma"/>
              </a:rPr>
              <a:t>Research Activity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17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ddddd"/>
                </a:solidFill>
                <a:latin typeface="Arial"/>
              </a:rPr>
              <a:t>In optical fibers and satellites settings, BCW algorithm represents the “milestone”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ddddd"/>
                </a:solidFill>
                <a:latin typeface="Arial"/>
              </a:rPr>
              <a:t>There exist many other results (NP-completeness, polynomial optimal algorithms, etc)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241280" indent="-46980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Arial"/>
              </a:rPr>
              <a:t>for specific traffics</a:t>
            </a:r>
            <a:r>
              <a:rPr b="0" lang="it-IT" sz="2400" spc="-1" strike="noStrike">
                <a:solidFill>
                  <a:srgbClr val="dddddd"/>
                </a:solidFill>
                <a:latin typeface="Arial"/>
              </a:rPr>
              <a:t>: hard-real-time, precedence constraint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1241280" indent="-46980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Arial"/>
              </a:rPr>
              <a:t>for specific system features</a:t>
            </a:r>
            <a:r>
              <a:rPr b="0" lang="it-IT" sz="2400" spc="-1" strike="noStrike">
                <a:solidFill>
                  <a:srgbClr val="dddddd"/>
                </a:solidFill>
                <a:latin typeface="Arial"/>
              </a:rPr>
              <a:t>: variable bandwidths, hierarchical systems, systems with non negligible tuning tim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459-4833-44B1-8475-8F3B4E4442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105520" y="4191120"/>
            <a:ext cx="2819160" cy="1904760"/>
          </a:xfrm>
          <a:prstGeom prst="rect">
            <a:avLst/>
          </a:prstGeom>
          <a:solidFill>
            <a:srgbClr val="002776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5775480"/>
            <a:ext cx="304920" cy="15228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410080" y="5546520"/>
            <a:ext cx="304920" cy="15228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4572000"/>
            <a:ext cx="304920" cy="15228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410080" y="4343040"/>
            <a:ext cx="304920" cy="15228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High Speed Switch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828800"/>
            <a:ext cx="2209680" cy="1828800"/>
          </a:xfrm>
          <a:prstGeom prst="rect">
            <a:avLst/>
          </a:prstGeom>
          <a:solidFill>
            <a:srgbClr val="002776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905120"/>
            <a:ext cx="304920" cy="32688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I</a:t>
            </a:r>
            <a:r>
              <a:rPr b="0" lang="en-GB" sz="1600" spc="-1" strike="noStrike" baseline="-25000">
                <a:solidFill>
                  <a:srgbClr val="ddddd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200400"/>
            <a:ext cx="304920" cy="32688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I</a:t>
            </a:r>
            <a:r>
              <a:rPr b="0" lang="en-GB" sz="1600" spc="-1" strike="noStrike" baseline="-25000">
                <a:solidFill>
                  <a:srgbClr val="dddddd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20960" y="1905120"/>
            <a:ext cx="303120" cy="32688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O</a:t>
            </a:r>
            <a:r>
              <a:rPr b="0" lang="en-GB" sz="1600" spc="-1" strike="noStrike" baseline="-25000">
                <a:solidFill>
                  <a:srgbClr val="ddddd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3200400"/>
            <a:ext cx="304560" cy="32688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O</a:t>
            </a:r>
            <a:r>
              <a:rPr b="0" lang="en-GB" sz="1600" spc="-1" strike="noStrike" baseline="-25000">
                <a:solidFill>
                  <a:srgbClr val="dddddd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1905120"/>
            <a:ext cx="914400" cy="167616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Shared Memory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14600" y="2055960"/>
            <a:ext cx="304920" cy="1440"/>
          </a:xfrm>
          <a:prstGeom prst="line">
            <a:avLst/>
          </a:prstGeom>
          <a:ln w="19080">
            <a:solidFill>
              <a:srgbClr val="99cc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3375000"/>
            <a:ext cx="304920" cy="0"/>
          </a:xfrm>
          <a:prstGeom prst="line">
            <a:avLst/>
          </a:prstGeom>
          <a:ln w="19080">
            <a:solidFill>
              <a:srgbClr val="99cc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205740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37500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9810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98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19810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3298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1828800"/>
            <a:ext cx="2743200" cy="1828800"/>
          </a:xfrm>
          <a:prstGeom prst="rect">
            <a:avLst/>
          </a:prstGeom>
          <a:solidFill>
            <a:srgbClr val="002776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1905120"/>
            <a:ext cx="304920" cy="32688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I</a:t>
            </a:r>
            <a:r>
              <a:rPr b="0" lang="en-GB" sz="1600" spc="-1" strike="noStrike" baseline="-25000">
                <a:solidFill>
                  <a:srgbClr val="ddddd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3200400"/>
            <a:ext cx="304920" cy="32688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I</a:t>
            </a:r>
            <a:r>
              <a:rPr b="0" lang="en-GB" sz="1600" spc="-1" strike="noStrike" baseline="-25000">
                <a:solidFill>
                  <a:srgbClr val="dddddd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5240" y="1905120"/>
            <a:ext cx="303480" cy="32688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O</a:t>
            </a:r>
            <a:r>
              <a:rPr b="0" lang="en-GB" sz="1600" spc="-1" strike="noStrike" baseline="-25000">
                <a:solidFill>
                  <a:srgbClr val="ddddd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3200400"/>
            <a:ext cx="304920" cy="32688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O</a:t>
            </a:r>
            <a:r>
              <a:rPr b="0" lang="en-GB" sz="1600" spc="-1" strike="noStrike" baseline="-25000">
                <a:solidFill>
                  <a:srgbClr val="dddddd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1905120"/>
            <a:ext cx="228600" cy="167616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ddddd"/>
                </a:solidFill>
                <a:latin typeface="Tahoma"/>
              </a:rPr>
              <a:t>SCHEDULER</a:t>
            </a:r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324480" y="2055960"/>
            <a:ext cx="304920" cy="1440"/>
          </a:xfrm>
          <a:prstGeom prst="line">
            <a:avLst/>
          </a:prstGeom>
          <a:ln w="19080">
            <a:solidFill>
              <a:srgbClr val="99cc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3375000"/>
            <a:ext cx="304920" cy="0"/>
          </a:xfrm>
          <a:prstGeom prst="line">
            <a:avLst/>
          </a:prstGeom>
          <a:ln w="19080">
            <a:solidFill>
              <a:srgbClr val="99cc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337500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19810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3298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24680" y="19810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24680" y="3298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638680" y="1980720"/>
            <a:ext cx="685800" cy="228960"/>
            <a:chOff x="5638680" y="1980720"/>
            <a:chExt cx="685800" cy="228960"/>
          </a:xfrm>
        </p:grpSpPr>
        <p:sp>
          <p:nvSpPr>
            <p:cNvPr id="172" name=""/>
            <p:cNvSpPr/>
            <p:nvPr/>
          </p:nvSpPr>
          <p:spPr>
            <a:xfrm>
              <a:off x="5638680" y="1981080"/>
              <a:ext cx="68580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38680" y="2209680"/>
              <a:ext cx="68580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324480" y="198072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248160" y="198072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6172200" y="198072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095880" y="198072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019560" y="198072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943600" y="198072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638680" y="3298320"/>
            <a:ext cx="685800" cy="228960"/>
            <a:chOff x="5638680" y="3298320"/>
            <a:chExt cx="685800" cy="228960"/>
          </a:xfrm>
        </p:grpSpPr>
        <p:sp>
          <p:nvSpPr>
            <p:cNvPr id="181" name=""/>
            <p:cNvSpPr/>
            <p:nvPr/>
          </p:nvSpPr>
          <p:spPr>
            <a:xfrm>
              <a:off x="5638680" y="3298680"/>
              <a:ext cx="68580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3527280"/>
              <a:ext cx="68580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324480" y="329832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248160" y="329832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172200" y="329832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095880" y="329832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019560" y="329832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943600" y="329832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7315200" y="205740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15200" y="337500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205740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337500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086240" y="1905120"/>
            <a:ext cx="305280" cy="1600200"/>
            <a:chOff x="7086240" y="1905120"/>
            <a:chExt cx="305280" cy="1600200"/>
          </a:xfrm>
        </p:grpSpPr>
        <p:sp>
          <p:nvSpPr>
            <p:cNvPr id="194" name=""/>
            <p:cNvSpPr/>
            <p:nvPr/>
          </p:nvSpPr>
          <p:spPr>
            <a:xfrm>
              <a:off x="7086600" y="1905120"/>
              <a:ext cx="304920" cy="1600200"/>
            </a:xfrm>
            <a:prstGeom prst="rect">
              <a:avLst/>
            </a:prstGeom>
            <a:solidFill>
              <a:srgbClr val="002776"/>
            </a:solidFill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86600" y="2027880"/>
              <a:ext cx="304920" cy="135396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086240" y="2027880"/>
              <a:ext cx="304920" cy="135396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90720" y="4191120"/>
            <a:ext cx="2361960" cy="1828800"/>
          </a:xfrm>
          <a:prstGeom prst="rect">
            <a:avLst/>
          </a:prstGeom>
          <a:solidFill>
            <a:srgbClr val="002776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267080"/>
            <a:ext cx="304920" cy="32724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I</a:t>
            </a:r>
            <a:r>
              <a:rPr b="0" lang="en-GB" sz="1600" spc="-1" strike="noStrike" baseline="-25000">
                <a:solidFill>
                  <a:srgbClr val="ddddd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5616720"/>
            <a:ext cx="304920" cy="32688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I</a:t>
            </a:r>
            <a:r>
              <a:rPr b="0" lang="en-GB" sz="1600" spc="-1" strike="noStrike" baseline="-25000">
                <a:solidFill>
                  <a:srgbClr val="dddddd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3240" y="4267080"/>
            <a:ext cx="303480" cy="32724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O</a:t>
            </a:r>
            <a:r>
              <a:rPr b="0" lang="en-GB" sz="1600" spc="-1" strike="noStrike" baseline="-25000">
                <a:solidFill>
                  <a:srgbClr val="ddddd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5616720"/>
            <a:ext cx="304920" cy="32688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O</a:t>
            </a:r>
            <a:r>
              <a:rPr b="0" lang="en-GB" sz="1600" spc="-1" strike="noStrike" baseline="-25000">
                <a:solidFill>
                  <a:srgbClr val="dddddd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441972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579132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3434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7150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43434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57150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057400" y="4343040"/>
            <a:ext cx="685800" cy="228960"/>
            <a:chOff x="2057400" y="4343040"/>
            <a:chExt cx="685800" cy="228960"/>
          </a:xfrm>
        </p:grpSpPr>
        <p:sp>
          <p:nvSpPr>
            <p:cNvPr id="209" name=""/>
            <p:cNvSpPr/>
            <p:nvPr/>
          </p:nvSpPr>
          <p:spPr>
            <a:xfrm>
              <a:off x="2057400" y="4343400"/>
              <a:ext cx="68580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7400" y="4572000"/>
              <a:ext cx="68580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743200" y="434304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666880" y="434304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590920" y="434304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514600" y="434304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438280" y="434304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362320" y="434304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057400" y="5714640"/>
            <a:ext cx="685800" cy="228960"/>
            <a:chOff x="2057400" y="5714640"/>
            <a:chExt cx="685800" cy="228960"/>
          </a:xfrm>
        </p:grpSpPr>
        <p:sp>
          <p:nvSpPr>
            <p:cNvPr id="218" name=""/>
            <p:cNvSpPr/>
            <p:nvPr/>
          </p:nvSpPr>
          <p:spPr>
            <a:xfrm>
              <a:off x="2057400" y="5715000"/>
              <a:ext cx="68580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57400" y="5943600"/>
              <a:ext cx="68580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743200" y="571464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666880" y="571464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590920" y="571464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514600" y="571464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438280" y="571464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362320" y="5714640"/>
              <a:ext cx="0" cy="2286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743200" y="441972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579132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599840" y="4267080"/>
            <a:ext cx="305280" cy="1676520"/>
            <a:chOff x="1599840" y="4267080"/>
            <a:chExt cx="305280" cy="1676520"/>
          </a:xfrm>
        </p:grpSpPr>
        <p:sp>
          <p:nvSpPr>
            <p:cNvPr id="229" name=""/>
            <p:cNvSpPr/>
            <p:nvPr/>
          </p:nvSpPr>
          <p:spPr>
            <a:xfrm>
              <a:off x="1600200" y="4267080"/>
              <a:ext cx="304920" cy="1676520"/>
            </a:xfrm>
            <a:prstGeom prst="rect">
              <a:avLst/>
            </a:prstGeom>
            <a:solidFill>
              <a:srgbClr val="002776"/>
            </a:solidFill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0200" y="4395960"/>
              <a:ext cx="304920" cy="141804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599840" y="4395960"/>
              <a:ext cx="304920" cy="141804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905120" y="441972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5120" y="579132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4397400"/>
            <a:ext cx="304920" cy="326880"/>
          </a:xfrm>
          <a:prstGeom prst="rect">
            <a:avLst/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I</a:t>
            </a:r>
            <a:r>
              <a:rPr b="0" lang="en-GB" sz="1600" spc="-1" strike="noStrike" baseline="-25000">
                <a:solidFill>
                  <a:srgbClr val="ddddd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1480" y="5562720"/>
            <a:ext cx="304920" cy="326880"/>
          </a:xfrm>
          <a:prstGeom prst="rect">
            <a:avLst/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I</a:t>
            </a:r>
            <a:r>
              <a:rPr b="0" lang="en-GB" sz="1600" spc="-1" strike="noStrike" baseline="-25000">
                <a:solidFill>
                  <a:srgbClr val="dddddd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45240" y="4267080"/>
            <a:ext cx="303480" cy="32724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O</a:t>
            </a:r>
            <a:r>
              <a:rPr b="0" lang="en-GB" sz="1600" spc="-1" strike="noStrike" baseline="-25000">
                <a:solidFill>
                  <a:srgbClr val="ddddd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43800" y="5692680"/>
            <a:ext cx="304920" cy="32724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O</a:t>
            </a:r>
            <a:r>
              <a:rPr b="0" lang="en-GB" sz="1600" spc="-1" strike="noStrike" baseline="-25000">
                <a:solidFill>
                  <a:srgbClr val="dddddd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29400" y="4267080"/>
            <a:ext cx="228600" cy="175284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ddddd"/>
                </a:solidFill>
                <a:latin typeface="Tahoma"/>
              </a:rPr>
              <a:t>SCHEDULER</a:t>
            </a:r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324480" y="4343400"/>
            <a:ext cx="304920" cy="1440"/>
          </a:xfrm>
          <a:prstGeom prst="line">
            <a:avLst/>
          </a:prstGeom>
          <a:ln w="19080">
            <a:solidFill>
              <a:srgbClr val="99cc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44737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56610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43434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924680" y="57913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2776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441972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586728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0" y="441972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0" y="5867280"/>
            <a:ext cx="22860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086240" y="4267080"/>
            <a:ext cx="305280" cy="1752840"/>
            <a:chOff x="7086240" y="4267080"/>
            <a:chExt cx="305280" cy="1752840"/>
          </a:xfrm>
        </p:grpSpPr>
        <p:sp>
          <p:nvSpPr>
            <p:cNvPr id="249" name=""/>
            <p:cNvSpPr/>
            <p:nvPr/>
          </p:nvSpPr>
          <p:spPr>
            <a:xfrm>
              <a:off x="7086600" y="4267080"/>
              <a:ext cx="304920" cy="1752840"/>
            </a:xfrm>
            <a:prstGeom prst="rect">
              <a:avLst/>
            </a:prstGeom>
            <a:solidFill>
              <a:srgbClr val="002776"/>
            </a:solidFill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401720"/>
              <a:ext cx="304920" cy="14832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086240" y="4401720"/>
              <a:ext cx="304920" cy="148320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791320" y="4647960"/>
            <a:ext cx="533160" cy="152640"/>
            <a:chOff x="5791320" y="4647960"/>
            <a:chExt cx="533160" cy="152640"/>
          </a:xfrm>
        </p:grpSpPr>
        <p:sp>
          <p:nvSpPr>
            <p:cNvPr id="253" name=""/>
            <p:cNvSpPr/>
            <p:nvPr/>
          </p:nvSpPr>
          <p:spPr>
            <a:xfrm>
              <a:off x="5791320" y="4800600"/>
              <a:ext cx="53316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6324480" y="464796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248520" y="464796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6172200" y="464796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095880" y="464796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019920" y="464796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943600" y="464796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1320" y="4648320"/>
              <a:ext cx="53316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791320" y="4266720"/>
            <a:ext cx="533160" cy="152640"/>
            <a:chOff x="5791320" y="4266720"/>
            <a:chExt cx="533160" cy="152640"/>
          </a:xfrm>
        </p:grpSpPr>
        <p:sp>
          <p:nvSpPr>
            <p:cNvPr id="262" name=""/>
            <p:cNvSpPr/>
            <p:nvPr/>
          </p:nvSpPr>
          <p:spPr>
            <a:xfrm>
              <a:off x="5791320" y="4419360"/>
              <a:ext cx="53316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324480" y="426672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248520" y="426672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172200" y="426672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095880" y="426672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019920" y="426672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943600" y="426672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1320" y="4267080"/>
              <a:ext cx="53316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5644080" y="4191120"/>
            <a:ext cx="362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ddddd"/>
                </a:solidFill>
                <a:latin typeface="Tahoma"/>
              </a:rPr>
              <a:t>Q</a:t>
            </a:r>
            <a:r>
              <a:rPr b="0" lang="en-GB" sz="1000" spc="-1" strike="noStrike" baseline="-25000">
                <a:solidFill>
                  <a:srgbClr val="dddddd"/>
                </a:solidFill>
                <a:latin typeface="Tahoma"/>
              </a:rPr>
              <a:t>11</a:t>
            </a:r>
            <a:endParaRPr b="0" lang="en-US" sz="1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41920" y="4572000"/>
            <a:ext cx="366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ddddd"/>
                </a:solidFill>
                <a:latin typeface="Tahoma"/>
              </a:rPr>
              <a:t>Q</a:t>
            </a:r>
            <a:r>
              <a:rPr b="0" lang="en-GB" sz="1000" spc="-1" strike="noStrike" baseline="-25000">
                <a:solidFill>
                  <a:srgbClr val="dddddd"/>
                </a:solidFill>
                <a:latin typeface="Tahoma"/>
              </a:rPr>
              <a:t>1n</a:t>
            </a:r>
            <a:endParaRPr b="0" lang="en-US" sz="1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791320" y="5851080"/>
            <a:ext cx="533160" cy="152640"/>
            <a:chOff x="5791320" y="5851080"/>
            <a:chExt cx="533160" cy="152640"/>
          </a:xfrm>
        </p:grpSpPr>
        <p:sp>
          <p:nvSpPr>
            <p:cNvPr id="273" name=""/>
            <p:cNvSpPr/>
            <p:nvPr/>
          </p:nvSpPr>
          <p:spPr>
            <a:xfrm>
              <a:off x="5791320" y="6003720"/>
              <a:ext cx="53316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6324480" y="585108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248520" y="585108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172200" y="585108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095880" y="585108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019920" y="585108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943600" y="585108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91320" y="5851440"/>
              <a:ext cx="53316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791320" y="5470200"/>
            <a:ext cx="533160" cy="152640"/>
            <a:chOff x="5791320" y="5470200"/>
            <a:chExt cx="533160" cy="152640"/>
          </a:xfrm>
        </p:grpSpPr>
        <p:sp>
          <p:nvSpPr>
            <p:cNvPr id="282" name=""/>
            <p:cNvSpPr/>
            <p:nvPr/>
          </p:nvSpPr>
          <p:spPr>
            <a:xfrm>
              <a:off x="5791320" y="5622840"/>
              <a:ext cx="53316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324480" y="547020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48520" y="547020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172200" y="547020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095880" y="547020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019920" y="547020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943600" y="5470200"/>
              <a:ext cx="0" cy="15228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91320" y="5470560"/>
              <a:ext cx="533160" cy="0"/>
            </a:xfrm>
            <a:prstGeom prst="line">
              <a:avLst/>
            </a:prstGeom>
            <a:ln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649840" y="5394240"/>
            <a:ext cx="366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ddddd"/>
                </a:solidFill>
                <a:latin typeface="Tahoma"/>
              </a:rPr>
              <a:t>Q</a:t>
            </a:r>
            <a:r>
              <a:rPr b="0" lang="en-GB" sz="1000" spc="-1" strike="noStrike" baseline="-25000">
                <a:solidFill>
                  <a:srgbClr val="dddddd"/>
                </a:solidFill>
                <a:latin typeface="Tahoma"/>
              </a:rPr>
              <a:t>n1</a:t>
            </a:r>
            <a:endParaRPr b="0" lang="en-US" sz="1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47680" y="5791320"/>
            <a:ext cx="371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ddddd"/>
                </a:solidFill>
                <a:latin typeface="Tahoma"/>
              </a:rPr>
              <a:t>Q</a:t>
            </a:r>
            <a:r>
              <a:rPr b="0" lang="en-GB" sz="1000" spc="-1" strike="noStrike" baseline="-25000">
                <a:solidFill>
                  <a:srgbClr val="dddddd"/>
                </a:solidFill>
                <a:latin typeface="Tahoma"/>
              </a:rPr>
              <a:t>nn</a:t>
            </a:r>
            <a:endParaRPr b="0" lang="en-US" sz="1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324480" y="4722840"/>
            <a:ext cx="304920" cy="1440"/>
          </a:xfrm>
          <a:prstGeom prst="line">
            <a:avLst/>
          </a:prstGeom>
          <a:ln w="19080">
            <a:solidFill>
              <a:srgbClr val="99cc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324480" y="5560560"/>
            <a:ext cx="304920" cy="1800"/>
          </a:xfrm>
          <a:prstGeom prst="line">
            <a:avLst/>
          </a:prstGeom>
          <a:ln w="19080">
            <a:solidFill>
              <a:srgbClr val="99cc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324480" y="5942160"/>
            <a:ext cx="304920" cy="1440"/>
          </a:xfrm>
          <a:prstGeom prst="line">
            <a:avLst/>
          </a:prstGeom>
          <a:ln w="19080">
            <a:solidFill>
              <a:srgbClr val="99cc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6880" y="4724280"/>
            <a:ext cx="2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07880" y="4648320"/>
            <a:ext cx="2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63200" y="2286000"/>
            <a:ext cx="2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07880" y="2286000"/>
            <a:ext cx="2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3160" y="4660920"/>
            <a:ext cx="2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2080" y="4660920"/>
            <a:ext cx="2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50080" y="4660920"/>
            <a:ext cx="2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49000" y="2286000"/>
            <a:ext cx="2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8400" y="2298600"/>
            <a:ext cx="2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00880" y="2286000"/>
            <a:ext cx="2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36576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dddddd"/>
                </a:solidFill>
                <a:latin typeface="Tahoma"/>
              </a:rPr>
              <a:t>Shared Memory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38680" y="36576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dddddd"/>
                </a:solidFill>
                <a:latin typeface="Tahoma"/>
              </a:rPr>
              <a:t>Input Queue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60199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dddddd"/>
                </a:solidFill>
                <a:latin typeface="Tahoma"/>
              </a:rPr>
              <a:t>Output Queue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81480" y="60958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dddddd"/>
                </a:solidFill>
                <a:latin typeface="Tahoma"/>
              </a:rPr>
              <a:t>Virtual Output Queue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D3F-CFE6-43CB-897B-68FEF5A8E2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Tahoma"/>
              </a:rPr>
              <a:t>The Problem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0640" y="2200320"/>
            <a:ext cx="82454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If entities transmit in total freedom, collisions can occur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Collisions are responsible for performance degrad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241280" indent="-46980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for the system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1241280" indent="-46980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for the user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940-113F-4F62-B87C-5ABA01792A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Tahoma"/>
              </a:rPr>
              <a:t>To avoid collision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3452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8440" indent="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Three conditions must be satisfied</a:t>
            </a:r>
            <a:r>
              <a:rPr b="0" lang="it-IT" sz="2800" spc="-1" strike="noStrike">
                <a:solidFill>
                  <a:srgbClr val="dddddd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882720" indent="-3938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A transmitter is involved in </a:t>
            </a:r>
            <a:r>
              <a:rPr b="0" lang="en-GB" sz="2800" spc="-1" strike="noStrike">
                <a:solidFill>
                  <a:srgbClr val="99ccff"/>
                </a:solidFill>
                <a:latin typeface="Arial"/>
              </a:rPr>
              <a:t>only one communication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at tim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882720" indent="-3938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A receiver is involved in </a:t>
            </a:r>
            <a:r>
              <a:rPr b="0" lang="en-GB" sz="2800" spc="-1" strike="noStrike">
                <a:solidFill>
                  <a:srgbClr val="99ccff"/>
                </a:solidFill>
                <a:latin typeface="Arial"/>
              </a:rPr>
              <a:t>only one communication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at tim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882720" indent="-39384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A single channel carries </a:t>
            </a:r>
            <a:r>
              <a:rPr b="0" lang="en-GB" sz="2800" spc="-1" strike="noStrike">
                <a:solidFill>
                  <a:srgbClr val="99ccff"/>
                </a:solidFill>
                <a:latin typeface="Arial"/>
              </a:rPr>
              <a:t>only one message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at tim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AA5-CDB3-4D14-B5D7-85153EBA46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Tahoma"/>
              </a:rPr>
              <a:t>Single Hop Multichannel System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2049120"/>
            <a:ext cx="87170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Arial"/>
              </a:rPr>
              <a:t>Single Hop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: entities share the medium and they can communicate directl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Arial"/>
              </a:rPr>
              <a:t>Multichannel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: available bandwidth is split in parallel channel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Arial"/>
              </a:rPr>
              <a:t>Examples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: SS/TDMA satellites, crossbar switches, optical networks with passive star, wireless LAN (FDM or CDM)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7FF-0161-45D1-BCD9-9D9B3215C2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5440" y="75960"/>
            <a:ext cx="9088560" cy="9903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Tahoma"/>
              </a:rPr>
              <a:t>Single Hop Multichannel Systems: Satellite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SS/TDMA</a:t>
            </a:r>
            <a:r>
              <a:rPr b="0" lang="it-IT" sz="24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coverage area is divided in “</a:t>
            </a:r>
            <a:r>
              <a:rPr b="0" lang="en-GB" sz="2400" spc="-1" strike="noStrike">
                <a:solidFill>
                  <a:srgbClr val="99ccff"/>
                </a:solidFill>
                <a:latin typeface="Arial"/>
              </a:rPr>
              <a:t>macrocell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ddddd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 macrocell</a:t>
            </a:r>
            <a:r>
              <a:rPr b="0" lang="it-IT" sz="24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dddddd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frequencies </a:t>
            </a:r>
            <a:r>
              <a:rPr b="0" lang="en-GB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dddddd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 transponder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Arial"/>
              </a:rPr>
              <a:t>RF switch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 on board of satellit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08640" y="1981080"/>
            <a:ext cx="2514600" cy="152424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70400" y="2057400"/>
            <a:ext cx="1676520" cy="45720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ddddd"/>
                </a:solidFill>
                <a:latin typeface="Tahoma"/>
              </a:rPr>
              <a:t>CROSSBAR SWITCH</a:t>
            </a:r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660920" y="2133720"/>
            <a:ext cx="0" cy="129528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60920" y="2133720"/>
            <a:ext cx="60948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08440" y="5549760"/>
            <a:ext cx="5943600" cy="851040"/>
          </a:xfrm>
          <a:custGeom>
            <a:avLst/>
            <a:gdLst/>
            <a:ahLst/>
            <a:rect l="l" t="t" r="r" b="b"/>
            <a:pathLst>
              <a:path w="3744" h="536">
                <a:moveTo>
                  <a:pt x="0" y="488"/>
                </a:moveTo>
                <a:cubicBezTo>
                  <a:pt x="672" y="244"/>
                  <a:pt x="1344" y="0"/>
                  <a:pt x="1968" y="8"/>
                </a:cubicBezTo>
                <a:cubicBezTo>
                  <a:pt x="2592" y="16"/>
                  <a:pt x="3448" y="448"/>
                  <a:pt x="3744" y="536"/>
                </a:cubicBezTo>
              </a:path>
            </a:pathLst>
          </a:cu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70400" y="2657520"/>
            <a:ext cx="1676520" cy="641520"/>
          </a:xfrm>
          <a:prstGeom prst="rect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ddddd"/>
                </a:solidFill>
                <a:latin typeface="Tahoma"/>
              </a:rPr>
              <a:t>TRANSPONDERS AND ANTENNA NETWORK</a:t>
            </a:r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809880"/>
            <a:ext cx="2895840" cy="381240"/>
          </a:xfrm>
          <a:prstGeom prst="blockArc">
            <a:avLst>
              <a:gd name="adj1" fmla="val 11201425"/>
              <a:gd name="adj2" fmla="val 21198575"/>
              <a:gd name="adj3" fmla="val 11694"/>
            </a:avLst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270400" y="3505320"/>
            <a:ext cx="0" cy="30456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880240" y="3505320"/>
            <a:ext cx="0" cy="30456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566040" y="3505320"/>
            <a:ext cx="0" cy="30456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880240" y="3352680"/>
            <a:ext cx="0" cy="15264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566040" y="3276360"/>
            <a:ext cx="0" cy="2286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270400" y="3429000"/>
            <a:ext cx="0" cy="7632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660560" y="3429000"/>
            <a:ext cx="60948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889520" y="3352680"/>
            <a:ext cx="99072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118120" y="3276720"/>
            <a:ext cx="144792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889520" y="2285640"/>
            <a:ext cx="0" cy="106668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118120" y="2437920"/>
            <a:ext cx="0" cy="83844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89520" y="2286000"/>
            <a:ext cx="38088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18120" y="2438280"/>
            <a:ext cx="15228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23040" y="2514600"/>
            <a:ext cx="0" cy="15228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32520" y="2514600"/>
            <a:ext cx="0" cy="15228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18320" y="2514600"/>
            <a:ext cx="0" cy="15228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32520" y="3124080"/>
            <a:ext cx="0" cy="68580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18320" y="3124080"/>
            <a:ext cx="0" cy="76212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23040" y="3124080"/>
            <a:ext cx="0" cy="68580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593880" y="3886200"/>
            <a:ext cx="1600200" cy="1905120"/>
          </a:xfrm>
          <a:prstGeom prst="line">
            <a:avLst/>
          </a:prstGeom>
          <a:ln w="9360">
            <a:solidFill>
              <a:srgbClr val="99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813200" y="3886200"/>
            <a:ext cx="673200" cy="2057400"/>
          </a:xfrm>
          <a:prstGeom prst="line">
            <a:avLst/>
          </a:prstGeom>
          <a:ln w="9360">
            <a:solidFill>
              <a:srgbClr val="99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346720" y="3886200"/>
            <a:ext cx="520560" cy="1676520"/>
          </a:xfrm>
          <a:prstGeom prst="line">
            <a:avLst/>
          </a:prstGeom>
          <a:ln w="9360">
            <a:solidFill>
              <a:srgbClr val="99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108840" y="3886200"/>
            <a:ext cx="457200" cy="1600200"/>
          </a:xfrm>
          <a:prstGeom prst="line">
            <a:avLst/>
          </a:prstGeom>
          <a:ln w="9360">
            <a:solidFill>
              <a:srgbClr val="99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3886200"/>
            <a:ext cx="470160" cy="1981080"/>
          </a:xfrm>
          <a:prstGeom prst="line">
            <a:avLst/>
          </a:prstGeom>
          <a:ln w="9360">
            <a:solidFill>
              <a:srgbClr val="99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18320" y="3886200"/>
            <a:ext cx="1447920" cy="1828800"/>
          </a:xfrm>
          <a:prstGeom prst="line">
            <a:avLst/>
          </a:prstGeom>
          <a:ln w="9360">
            <a:solidFill>
              <a:srgbClr val="99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94240" y="5486400"/>
            <a:ext cx="1218960" cy="762120"/>
          </a:xfrm>
          <a:prstGeom prst="ellipse">
            <a:avLst/>
          </a:prstGeom>
          <a:solidFill>
            <a:srgbClr val="00277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90080" y="243828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dddddd"/>
                </a:solidFill>
                <a:latin typeface="Tahoma"/>
              </a:rPr>
              <a:t>Satellite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5000" y="3505320"/>
            <a:ext cx="182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dddddd"/>
                </a:solidFill>
                <a:latin typeface="Tahoma"/>
              </a:rPr>
              <a:t>Multi-beam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dddddd"/>
                </a:solidFill>
                <a:latin typeface="Tahoma"/>
              </a:rPr>
              <a:t>transmit/receive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dddddd"/>
                </a:solidFill>
                <a:latin typeface="Tahoma"/>
              </a:rPr>
              <a:t>antenn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75960" y="61102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dddddd"/>
                </a:solidFill>
                <a:latin typeface="Tahoma"/>
              </a:rPr>
              <a:t>Macrocell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4737240" y="6095520"/>
            <a:ext cx="761760" cy="22860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956200" y="5943240"/>
            <a:ext cx="0" cy="22860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718320" y="6095520"/>
            <a:ext cx="457200" cy="22860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56" name="j022339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975120" y="563868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5346720" y="5181480"/>
            <a:ext cx="1219320" cy="762120"/>
          </a:xfrm>
          <a:prstGeom prst="ellipse">
            <a:avLst/>
          </a:prstGeom>
          <a:solidFill>
            <a:srgbClr val="00277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23240" y="5486400"/>
            <a:ext cx="1218960" cy="762120"/>
          </a:xfrm>
          <a:prstGeom prst="ellipse">
            <a:avLst/>
          </a:prstGeom>
          <a:solidFill>
            <a:srgbClr val="00277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280040" y="4876920"/>
            <a:ext cx="380880" cy="83808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60920" y="4876920"/>
            <a:ext cx="0" cy="38088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660920" y="3886200"/>
            <a:ext cx="609480" cy="137160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32520" y="3886200"/>
            <a:ext cx="76320" cy="83808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5956200" y="4419720"/>
            <a:ext cx="152640" cy="30456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56200" y="4419720"/>
            <a:ext cx="76320" cy="99036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65" name="j0223396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65164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366" name="j0223396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7327800" y="563868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819880" y="472428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dddddd"/>
                </a:solidFill>
                <a:latin typeface="Tahoma"/>
              </a:rPr>
              <a:t>Spot beam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dddddd"/>
                </a:solidFill>
                <a:latin typeface="Tahoma"/>
              </a:rPr>
              <a:t>coverage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A0C-5D17-4BFD-BAB9-9419635B4E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Tahoma"/>
              </a:rPr>
              <a:t>Single Hop Multichannel Systems:      </a:t>
            </a:r>
            <a:r>
              <a:rPr b="0" lang="it-IT" sz="3600" spc="-1" strike="noStrike">
                <a:solidFill>
                  <a:srgbClr val="ccecff"/>
                </a:solidFill>
                <a:latin typeface="Tahoma"/>
              </a:rPr>
              <a:t>O</a:t>
            </a:r>
            <a:r>
              <a:rPr b="0" lang="en-GB" sz="3600" spc="-1" strike="noStrike">
                <a:solidFill>
                  <a:srgbClr val="ccecff"/>
                </a:solidFill>
                <a:latin typeface="Tahoma"/>
              </a:rPr>
              <a:t>ptical Network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26960" y="1599840"/>
            <a:ext cx="871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Large bandwidth managed in WDM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Interconnection by passive star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3981600" y="4286160"/>
            <a:ext cx="761760" cy="2857680"/>
          </a:xfrm>
          <a:prstGeom prst="can">
            <a:avLst>
              <a:gd name="adj" fmla="val 25000"/>
            </a:avLst>
          </a:prstGeom>
          <a:solidFill>
            <a:srgbClr val="002776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dddddd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dddddd"/>
                </a:solidFill>
                <a:latin typeface="Tahoma"/>
              </a:rPr>
              <a:t>Passive sta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7640" y="36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dddddd"/>
                </a:solidFill>
                <a:latin typeface="Tahoma"/>
              </a:rPr>
              <a:t>receiver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8880" y="40528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dddddd"/>
                </a:solidFill>
                <a:latin typeface="Tahoma"/>
              </a:rPr>
              <a:t>transmitter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81080" y="3733920"/>
            <a:ext cx="685800" cy="609480"/>
          </a:xfrm>
          <a:prstGeom prst="rect">
            <a:avLst/>
          </a:prstGeom>
          <a:solidFill>
            <a:srgbClr val="002776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4052880"/>
            <a:ext cx="685800" cy="14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81040" y="3781440"/>
            <a:ext cx="421560" cy="4597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38480" y="3733920"/>
            <a:ext cx="685800" cy="609480"/>
          </a:xfrm>
          <a:prstGeom prst="rect">
            <a:avLst/>
          </a:prstGeom>
          <a:solidFill>
            <a:srgbClr val="002776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038480" y="4052880"/>
            <a:ext cx="685800" cy="14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3733920"/>
            <a:ext cx="685800" cy="609480"/>
          </a:xfrm>
          <a:prstGeom prst="rect">
            <a:avLst/>
          </a:prstGeom>
          <a:solidFill>
            <a:srgbClr val="002776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91320" y="4052880"/>
            <a:ext cx="685800" cy="14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49440" y="3747960"/>
            <a:ext cx="421560" cy="4597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0" y="4343400"/>
            <a:ext cx="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72200" y="4343400"/>
            <a:ext cx="0" cy="6094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19720" y="4343400"/>
            <a:ext cx="0" cy="4572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438280" y="4800600"/>
            <a:ext cx="198144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590920" y="4952880"/>
            <a:ext cx="358128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90920" y="4952880"/>
            <a:ext cx="0" cy="6098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38280" y="4800600"/>
            <a:ext cx="0" cy="9144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5562720"/>
            <a:ext cx="685800" cy="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5715000"/>
            <a:ext cx="838440" cy="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5867280"/>
            <a:ext cx="990720" cy="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91320" y="5562720"/>
            <a:ext cx="121896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91320" y="5715000"/>
            <a:ext cx="13716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1320" y="5867280"/>
            <a:ext cx="152388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7010280" y="3504960"/>
            <a:ext cx="0" cy="20574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162920" y="3352680"/>
            <a:ext cx="0" cy="23623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7315200" y="3200400"/>
            <a:ext cx="0" cy="2666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095880" y="3505320"/>
            <a:ext cx="9144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3505320"/>
            <a:ext cx="0" cy="22860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419720" y="3352680"/>
            <a:ext cx="27432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362320" y="3200400"/>
            <a:ext cx="495288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19720" y="3352680"/>
            <a:ext cx="0" cy="38124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3200400"/>
            <a:ext cx="0" cy="53352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457760" y="420516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dddddd"/>
                </a:solidFill>
                <a:latin typeface="Tahoma"/>
              </a:rPr>
              <a:t>Optical fiber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0EA-0722-4CA7-91B4-3C771928D8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Tahoma"/>
              </a:rPr>
              <a:t>Single Hop Multichannel Systems:    Wireless LAN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371484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FDM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406" name="j0171779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898560" cy="8254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85800" y="1981080"/>
            <a:ext cx="3429000" cy="3276720"/>
          </a:xfrm>
          <a:prstGeom prst="ellipse">
            <a:avLst/>
          </a:prstGeom>
          <a:noFill/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08" name="j0171779" descr=""/>
          <p:cNvPicPr/>
          <p:nvPr/>
        </p:nvPicPr>
        <p:blipFill>
          <a:blip r:embed="rId2"/>
          <a:stretch/>
        </p:blipFill>
        <p:spPr>
          <a:xfrm>
            <a:off x="3352680" y="2819520"/>
            <a:ext cx="898560" cy="825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133720" y="1523880"/>
            <a:ext cx="3429000" cy="3276720"/>
          </a:xfrm>
          <a:prstGeom prst="ellipse">
            <a:avLst/>
          </a:prstGeom>
          <a:noFill/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10" name="j0171779" descr=""/>
          <p:cNvPicPr/>
          <p:nvPr/>
        </p:nvPicPr>
        <p:blipFill>
          <a:blip r:embed="rId3"/>
          <a:stretch/>
        </p:blipFill>
        <p:spPr>
          <a:xfrm>
            <a:off x="3505320" y="4495680"/>
            <a:ext cx="898560" cy="8254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286000" y="3200400"/>
            <a:ext cx="3429000" cy="3276720"/>
          </a:xfrm>
          <a:prstGeom prst="ellipse">
            <a:avLst/>
          </a:prstGeom>
          <a:noFill/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12" name="j0171779" descr=""/>
          <p:cNvPicPr/>
          <p:nvPr/>
        </p:nvPicPr>
        <p:blipFill>
          <a:blip r:embed="rId4"/>
          <a:stretch/>
        </p:blipFill>
        <p:spPr>
          <a:xfrm>
            <a:off x="5181480" y="4191120"/>
            <a:ext cx="898560" cy="8254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962520" y="2895480"/>
            <a:ext cx="3429000" cy="3276720"/>
          </a:xfrm>
          <a:prstGeom prst="ellipse">
            <a:avLst/>
          </a:prstGeom>
          <a:noFill/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14" name="j0171779" descr=""/>
          <p:cNvPicPr/>
          <p:nvPr/>
        </p:nvPicPr>
        <p:blipFill>
          <a:blip r:embed="rId5"/>
          <a:stretch/>
        </p:blipFill>
        <p:spPr>
          <a:xfrm>
            <a:off x="5257800" y="2743200"/>
            <a:ext cx="898560" cy="8254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038480" y="1447920"/>
            <a:ext cx="3429000" cy="3276360"/>
          </a:xfrm>
          <a:prstGeom prst="ellipse">
            <a:avLst/>
          </a:prstGeom>
          <a:noFill/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B77-5638-4D89-BCD6-E6D305B811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144000" bIns="14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Tahoma"/>
              </a:rPr>
              <a:t>Solution Approache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26720" y="1447920"/>
            <a:ext cx="7736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Arial"/>
              </a:rPr>
              <a:t>Random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Access Protocols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241280" indent="-46980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Aloha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1241280" indent="-46980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Slotted Aloha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1241280" indent="-46980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CSMA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581040" indent="-58104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cce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ff"/>
                </a:solidFill>
                <a:latin typeface="Arial"/>
              </a:rPr>
              <a:t>Deterministic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Protocol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241280" indent="-46980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Roll Call, Hub Polling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1241280" indent="-46980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Token Ring, Token Bu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32000" y="5638680"/>
            <a:ext cx="773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490a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TDMA: Time Division Multipl</a:t>
            </a:r>
            <a:r>
              <a:rPr b="0" lang="it-IT" sz="2800" spc="-1" strike="noStrike">
                <a:solidFill>
                  <a:srgbClr val="dddddd"/>
                </a:solidFill>
                <a:latin typeface="Tahoma"/>
              </a:rPr>
              <a:t>e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Acces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490a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32000" y="5638680"/>
            <a:ext cx="773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490a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Tahoma"/>
              </a:rPr>
              <a:t>TDMA: Time Division Multipl</a:t>
            </a:r>
            <a:r>
              <a:rPr b="0" lang="it-IT" sz="2800" spc="-1" strike="noStrike">
                <a:solidFill>
                  <a:srgbClr val="0099cc"/>
                </a:solidFill>
                <a:latin typeface="Tahoma"/>
              </a:rPr>
              <a:t>e</a:t>
            </a:r>
            <a:r>
              <a:rPr b="0" lang="en-GB" sz="2800" spc="-1" strike="noStrike">
                <a:solidFill>
                  <a:srgbClr val="0099cc"/>
                </a:solidFill>
                <a:latin typeface="Tahoma"/>
              </a:rPr>
              <a:t> Acces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490a8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urizio Bonuccell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8DD-5FC7-4BD6-831F-8E77BE7E24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19 November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21:46:10Z</dcterms:created>
  <dc:creator>Mimmirosi</dc:creator>
  <dc:description/>
  <dc:language>en-US</dc:language>
  <cp:lastModifiedBy>Francesca Martelli</cp:lastModifiedBy>
  <dcterms:modified xsi:type="dcterms:W3CDTF">2003-11-19T01:02:07Z</dcterms:modified>
  <cp:revision>66</cp:revision>
  <dc:subject/>
  <dc:title>Time Slot Assignment in Networks of Single Hop Systems</dc:title>
</cp:coreProperties>
</file>