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28D-40D5-4AE4-B18B-4D37762B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4CF-572C-4873-B348-E9D13471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9A3-5CC5-4A60-9DCF-E674FAD5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50D-D5F6-44D2-8955-85DF30AF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3B4-585A-4C76-A228-3B7377B7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F46-44BA-419E-84E8-E0478E6B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2EC-21E3-4346-9DC8-38B07124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23F-44F5-4C73-9514-519F136F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61C-50D5-4C13-B8CB-847C1C1D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1F0-D998-42DC-BCF3-9E0CB9E3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E3E-6506-44ED-BB57-2184BEFD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93F-B4B7-4838-B1C5-159CF3CA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1FDC-6AD9-4493-8507-5B8F1F5BA4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98500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8920" y="6068880"/>
            <a:ext cx="1871640" cy="7113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7508880" y="6022800"/>
            <a:ext cx="1603080" cy="835920"/>
            <a:chOff x="7508880" y="6022800"/>
            <a:chExt cx="1603080" cy="8359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7616520" y="6022800"/>
              <a:ext cx="143532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508880" y="6521400"/>
              <a:ext cx="160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0" y="1209600"/>
            <a:ext cx="914400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70000" rIns="117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A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for Component Deployment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8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ICSE 2003, May 7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, Portland, Oregon -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8480"/>
            <a:ext cx="91440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tonia Bertolino –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Andrea Pol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Istituto di Scienza e Tecnologie dell’Informazione “A. Fae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Area della ricerca del CNR di Pisa -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93640"/>
            <a:ext cx="8686800" cy="76320"/>
          </a:xfrm>
          <a:prstGeom prst="rect">
            <a:avLst/>
          </a:prstGeom>
          <a:gradFill rotWithShape="0">
            <a:gsLst>
              <a:gs pos="0">
                <a:srgbClr val="6464b1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360" y="4265640"/>
            <a:ext cx="8686800" cy="763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6464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2776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Virtual vs. Real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19280"/>
            <a:ext cx="9144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Virtual Compon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the component as expected in the system architectur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Real Compon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an actual component as bu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an established component domain it should be a one-to-one correspondence, but, in general, there is not such a direct correspondence and virtual components might become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composite component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752480" y="3781440"/>
            <a:ext cx="6678720" cy="2301840"/>
            <a:chOff x="1752480" y="3781440"/>
            <a:chExt cx="6678720" cy="2301840"/>
          </a:xfrm>
        </p:grpSpPr>
        <p:sp>
          <p:nvSpPr>
            <p:cNvPr id="163" name=""/>
            <p:cNvSpPr/>
            <p:nvPr/>
          </p:nvSpPr>
          <p:spPr>
            <a:xfrm>
              <a:off x="4165560" y="3781440"/>
              <a:ext cx="3962520" cy="2301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70360" y="3797280"/>
              <a:ext cx="21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99"/>
                  </a:solidFill>
                  <a:latin typeface="Verdana"/>
                </a:rPr>
                <a:t>Virtual 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52480" y="4935600"/>
              <a:ext cx="198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cc00"/>
                  </a:solidFill>
                  <a:latin typeface="Verdana"/>
                </a:rPr>
                <a:t>Testable Interfa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405240" y="4773240"/>
              <a:ext cx="404640" cy="36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05240" y="5391000"/>
              <a:ext cx="404640" cy="266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860640" y="4597560"/>
              <a:ext cx="458640" cy="163440"/>
              <a:chOff x="3860640" y="4597560"/>
              <a:chExt cx="458640" cy="163440"/>
            </a:xfrm>
          </p:grpSpPr>
          <p:sp>
            <p:nvSpPr>
              <p:cNvPr id="169" name=""/>
              <p:cNvSpPr/>
              <p:nvPr/>
            </p:nvSpPr>
            <p:spPr>
              <a:xfrm rot="5400000">
                <a:off x="3866760" y="4591440"/>
                <a:ext cx="163440" cy="175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36320" y="4683960"/>
                <a:ext cx="28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3860640" y="5587920"/>
              <a:ext cx="458640" cy="163440"/>
              <a:chOff x="3860640" y="5587920"/>
              <a:chExt cx="458640" cy="163440"/>
            </a:xfrm>
          </p:grpSpPr>
          <p:sp>
            <p:nvSpPr>
              <p:cNvPr id="172" name=""/>
              <p:cNvSpPr/>
              <p:nvPr/>
            </p:nvSpPr>
            <p:spPr>
              <a:xfrm rot="5400000">
                <a:off x="3866760" y="5581800"/>
                <a:ext cx="163440" cy="175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36320" y="5674320"/>
                <a:ext cx="28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 flipV="1">
              <a:off x="7996320" y="4253040"/>
              <a:ext cx="434880" cy="25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996320" y="5345280"/>
              <a:ext cx="434880" cy="25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317840" y="3951360"/>
            <a:ext cx="3716640" cy="1996920"/>
            <a:chOff x="4317840" y="3951360"/>
            <a:chExt cx="3716640" cy="1996920"/>
          </a:xfrm>
        </p:grpSpPr>
        <p:grpSp>
          <p:nvGrpSpPr>
            <p:cNvPr id="177" name=""/>
            <p:cNvGrpSpPr/>
            <p:nvPr/>
          </p:nvGrpSpPr>
          <p:grpSpPr>
            <a:xfrm>
              <a:off x="4719600" y="3951360"/>
              <a:ext cx="3314880" cy="1996920"/>
              <a:chOff x="4719600" y="3951360"/>
              <a:chExt cx="3314880" cy="1996920"/>
            </a:xfrm>
          </p:grpSpPr>
          <p:sp>
            <p:nvSpPr>
              <p:cNvPr id="178" name=""/>
              <p:cNvSpPr/>
              <p:nvPr/>
            </p:nvSpPr>
            <p:spPr>
              <a:xfrm>
                <a:off x="5178600" y="4430880"/>
                <a:ext cx="811080" cy="7207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78600" y="4435560"/>
                <a:ext cx="801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40320" y="5238720"/>
                <a:ext cx="820800" cy="7095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340320" y="5232600"/>
                <a:ext cx="800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848640" y="3960720"/>
                <a:ext cx="799920" cy="6811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50080" y="3951360"/>
                <a:ext cx="798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4719600" y="4729320"/>
                <a:ext cx="458640" cy="163440"/>
                <a:chOff x="4719600" y="4729320"/>
                <a:chExt cx="458640" cy="163440"/>
              </a:xfrm>
            </p:grpSpPr>
            <p:sp>
              <p:nvSpPr>
                <p:cNvPr id="185" name=""/>
                <p:cNvSpPr/>
                <p:nvPr/>
              </p:nvSpPr>
              <p:spPr>
                <a:xfrm rot="5400000">
                  <a:off x="4725720" y="4723200"/>
                  <a:ext cx="163440" cy="175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895280" y="4815720"/>
                  <a:ext cx="28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7424640" y="4641480"/>
                <a:ext cx="165240" cy="452520"/>
                <a:chOff x="7424640" y="4641480"/>
                <a:chExt cx="165240" cy="4525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7424640" y="4920840"/>
                  <a:ext cx="16524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7512120" y="4641480"/>
                  <a:ext cx="0" cy="27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719600" y="5545080"/>
                <a:ext cx="1620720" cy="162000"/>
                <a:chOff x="4719600" y="5545080"/>
                <a:chExt cx="1620720" cy="162000"/>
              </a:xfrm>
            </p:grpSpPr>
            <p:sp>
              <p:nvSpPr>
                <p:cNvPr id="191" name=""/>
                <p:cNvSpPr/>
                <p:nvPr/>
              </p:nvSpPr>
              <p:spPr>
                <a:xfrm rot="5400000">
                  <a:off x="4726440" y="5538240"/>
                  <a:ext cx="162000" cy="175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894200" y="5629320"/>
                  <a:ext cx="144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 flipV="1">
                <a:off x="7161120" y="5094000"/>
                <a:ext cx="301680" cy="5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6389640" y="4219560"/>
                <a:ext cx="458640" cy="163440"/>
                <a:chOff x="6389640" y="4219560"/>
                <a:chExt cx="458640" cy="163440"/>
              </a:xfrm>
            </p:grpSpPr>
            <p:sp>
              <p:nvSpPr>
                <p:cNvPr id="195" name=""/>
                <p:cNvSpPr/>
                <p:nvPr/>
              </p:nvSpPr>
              <p:spPr>
                <a:xfrm rot="5400000">
                  <a:off x="6395760" y="4213440"/>
                  <a:ext cx="163440" cy="175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65320" y="4305960"/>
                  <a:ext cx="28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399360" y="4786560"/>
                <a:ext cx="164880" cy="452520"/>
                <a:chOff x="6399360" y="4786560"/>
                <a:chExt cx="164880" cy="452520"/>
              </a:xfrm>
            </p:grpSpPr>
            <p:sp>
              <p:nvSpPr>
                <p:cNvPr id="198" name=""/>
                <p:cNvSpPr/>
                <p:nvPr/>
              </p:nvSpPr>
              <p:spPr>
                <a:xfrm rot="10800000">
                  <a:off x="6399360" y="4786560"/>
                  <a:ext cx="16488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477120" y="4960080"/>
                  <a:ext cx="0" cy="27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5999040" y="4834080"/>
                <a:ext cx="38592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5989680" y="4316040"/>
                <a:ext cx="40968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7174080" y="5373720"/>
                <a:ext cx="79668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43880" y="4260960"/>
                <a:ext cx="39060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317840" y="4686480"/>
              <a:ext cx="381240" cy="988560"/>
              <a:chOff x="4317840" y="4686480"/>
              <a:chExt cx="381240" cy="988560"/>
            </a:xfrm>
          </p:grpSpPr>
          <p:sp>
            <p:nvSpPr>
              <p:cNvPr id="205" name=""/>
              <p:cNvSpPr/>
              <p:nvPr/>
            </p:nvSpPr>
            <p:spPr>
              <a:xfrm>
                <a:off x="4317840" y="4686480"/>
                <a:ext cx="38124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325760" y="5624280"/>
                <a:ext cx="36072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cc00"/>
                </a:solidFill>
                <a:latin typeface="Verdana"/>
              </a:rPr>
              <a:t>The CDT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1280" y="4042080"/>
            <a:ext cx="1818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Verdana"/>
              </a:rPr>
              <a:t>Concrete Componen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86000" y="837360"/>
            <a:ext cx="1747800" cy="779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Verdana"/>
              </a:rPr>
              <a:t>Test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605480" y="5256720"/>
            <a:ext cx="4380840" cy="703800"/>
            <a:chOff x="4605480" y="5256720"/>
            <a:chExt cx="4380840" cy="703800"/>
          </a:xfrm>
        </p:grpSpPr>
        <p:sp>
          <p:nvSpPr>
            <p:cNvPr id="220" name=""/>
            <p:cNvSpPr/>
            <p:nvPr/>
          </p:nvSpPr>
          <p:spPr>
            <a:xfrm>
              <a:off x="4605480" y="5256720"/>
              <a:ext cx="181728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Verdana"/>
                </a:rPr>
                <a:t>Concrete Component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97480" y="5256720"/>
              <a:ext cx="17888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Verdana"/>
                </a:rPr>
                <a:t>Concrete Component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86560" y="53560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010240" y="4042080"/>
            <a:ext cx="2442600" cy="703800"/>
            <a:chOff x="2010240" y="4042080"/>
            <a:chExt cx="2442600" cy="703800"/>
          </a:xfrm>
        </p:grpSpPr>
        <p:sp>
          <p:nvSpPr>
            <p:cNvPr id="224" name=""/>
            <p:cNvSpPr/>
            <p:nvPr/>
          </p:nvSpPr>
          <p:spPr>
            <a:xfrm>
              <a:off x="2010240" y="4141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64000" y="4042080"/>
              <a:ext cx="17888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Verdana"/>
                </a:rPr>
                <a:t>Concrete Component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008440" y="1182600"/>
            <a:ext cx="2000160" cy="2792520"/>
            <a:chOff x="2008440" y="1182600"/>
            <a:chExt cx="2000160" cy="2792520"/>
          </a:xfrm>
        </p:grpSpPr>
        <p:sp>
          <p:nvSpPr>
            <p:cNvPr id="227" name=""/>
            <p:cNvSpPr/>
            <p:nvPr/>
          </p:nvSpPr>
          <p:spPr>
            <a:xfrm>
              <a:off x="2008440" y="21081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106800" y="1182600"/>
              <a:ext cx="901800" cy="2792520"/>
              <a:chOff x="3106800" y="1182600"/>
              <a:chExt cx="901800" cy="2792520"/>
            </a:xfrm>
          </p:grpSpPr>
          <p:sp>
            <p:nvSpPr>
              <p:cNvPr id="229" name=""/>
              <p:cNvSpPr/>
              <p:nvPr/>
            </p:nvSpPr>
            <p:spPr>
              <a:xfrm rot="5400000">
                <a:off x="3085920" y="1258560"/>
                <a:ext cx="685800" cy="53352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560" stAng="10800000" swAng="5400000"/>
                    <a:lnTo>
                      <a:pt x="15119" y="4600"/>
                    </a:lnTo>
                    <a:lnTo>
                      <a:pt x="15119" y="0"/>
                    </a:lnTo>
                    <a:lnTo>
                      <a:pt x="21600" y="6079"/>
                    </a:lnTo>
                    <a:lnTo>
                      <a:pt x="15119" y="12158"/>
                    </a:lnTo>
                    <a:lnTo>
                      <a:pt x="15119" y="7558"/>
                    </a:lnTo>
                    <a:lnTo>
                      <a:pt x="12427" y="7558"/>
                    </a:lnTo>
                    <a:arcTo wR="9469" hR="4602" stAng="16200000" swAng="-5400000"/>
                    <a:lnTo>
                      <a:pt x="2958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559320" y="2895480"/>
                <a:ext cx="0" cy="107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Document"/>
              <p:cNvSpPr/>
              <p:nvPr/>
            </p:nvSpPr>
            <p:spPr>
              <a:xfrm>
                <a:off x="3106800" y="1922400"/>
                <a:ext cx="901800" cy="889200"/>
              </a:xfrm>
              <a:prstGeom prst="pie">
                <a:avLst/>
              </a:prstGeom>
              <a:solidFill>
                <a:srgbClr val="f7f7f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Test Desig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528480" y="1182600"/>
            <a:ext cx="901800" cy="2792520"/>
            <a:chOff x="528480" y="1182600"/>
            <a:chExt cx="901800" cy="2792520"/>
          </a:xfrm>
        </p:grpSpPr>
        <p:sp>
          <p:nvSpPr>
            <p:cNvPr id="233" name=""/>
            <p:cNvSpPr/>
            <p:nvPr/>
          </p:nvSpPr>
          <p:spPr>
            <a:xfrm flipH="1" rot="16200000">
              <a:off x="746640" y="1258920"/>
              <a:ext cx="685800" cy="53316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560" stAng="10800000" swAng="5400000"/>
                  <a:lnTo>
                    <a:pt x="15119" y="4600"/>
                  </a:lnTo>
                  <a:lnTo>
                    <a:pt x="15119" y="0"/>
                  </a:lnTo>
                  <a:lnTo>
                    <a:pt x="21600" y="6079"/>
                  </a:lnTo>
                  <a:lnTo>
                    <a:pt x="15119" y="12158"/>
                  </a:lnTo>
                  <a:lnTo>
                    <a:pt x="15119" y="7558"/>
                  </a:lnTo>
                  <a:lnTo>
                    <a:pt x="12427" y="7558"/>
                  </a:lnTo>
                  <a:arcTo wR="9469" hR="4602" stAng="16200000" swAng="-5400000"/>
                  <a:lnTo>
                    <a:pt x="2958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79560" y="2895480"/>
              <a:ext cx="0" cy="107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Document"/>
            <p:cNvSpPr/>
            <p:nvPr/>
          </p:nvSpPr>
          <p:spPr>
            <a:xfrm>
              <a:off x="528480" y="1924200"/>
              <a:ext cx="901800" cy="888840"/>
            </a:xfrm>
            <a:prstGeom prst="pie">
              <a:avLst/>
            </a:prstGeom>
            <a:solidFill>
              <a:srgbClr val="f7f7f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Test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253040" y="870840"/>
            <a:ext cx="3949560" cy="4156920"/>
            <a:chOff x="4253040" y="870840"/>
            <a:chExt cx="3949560" cy="4156920"/>
          </a:xfrm>
        </p:grpSpPr>
        <p:grpSp>
          <p:nvGrpSpPr>
            <p:cNvPr id="237" name=""/>
            <p:cNvGrpSpPr/>
            <p:nvPr/>
          </p:nvGrpSpPr>
          <p:grpSpPr>
            <a:xfrm>
              <a:off x="4253040" y="870840"/>
              <a:ext cx="3921120" cy="4156920"/>
              <a:chOff x="4253040" y="870840"/>
              <a:chExt cx="3921120" cy="4156920"/>
            </a:xfrm>
          </p:grpSpPr>
          <p:sp>
            <p:nvSpPr>
              <p:cNvPr id="238" name=""/>
              <p:cNvSpPr/>
              <p:nvPr/>
            </p:nvSpPr>
            <p:spPr>
              <a:xfrm>
                <a:off x="4253040" y="2676600"/>
                <a:ext cx="1218960" cy="914400"/>
              </a:xfrm>
              <a:custGeom>
                <a:avLst/>
                <a:gdLst>
                  <a:gd name="textAreaLeft" fmla="*/ 190440 w 1218960"/>
                  <a:gd name="textAreaRight" fmla="*/ 1022040 w 1218960"/>
                  <a:gd name="textAreaTop" fmla="*/ 239760 h 914400"/>
                  <a:gd name="textAreaBottom" fmla="*/ 674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663"/>
                    </a:moveTo>
                    <a:lnTo>
                      <a:pt x="14262" y="5663"/>
                    </a:lnTo>
                    <a:lnTo>
                      <a:pt x="14262" y="0"/>
                    </a:lnTo>
                    <a:lnTo>
                      <a:pt x="21600" y="10800"/>
                    </a:lnTo>
                    <a:lnTo>
                      <a:pt x="14262" y="21600"/>
                    </a:lnTo>
                    <a:lnTo>
                      <a:pt x="14262" y="15937"/>
                    </a:lnTo>
                    <a:lnTo>
                      <a:pt x="3375" y="15937"/>
                    </a:lnTo>
                    <a:close/>
                  </a:path>
                  <a:path w="21600" h="21600">
                    <a:moveTo>
                      <a:pt x="0" y="5663"/>
                    </a:moveTo>
                    <a:lnTo>
                      <a:pt x="675" y="5663"/>
                    </a:lnTo>
                    <a:lnTo>
                      <a:pt x="675" y="15937"/>
                    </a:lnTo>
                    <a:lnTo>
                      <a:pt x="0" y="15937"/>
                    </a:lnTo>
                    <a:close/>
                  </a:path>
                  <a:path w="21600" h="21600">
                    <a:moveTo>
                      <a:pt x="1350" y="5663"/>
                    </a:moveTo>
                    <a:lnTo>
                      <a:pt x="2700" y="5663"/>
                    </a:lnTo>
                    <a:lnTo>
                      <a:pt x="2700" y="15937"/>
                    </a:lnTo>
                    <a:lnTo>
                      <a:pt x="1350" y="159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7d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5649840" y="870840"/>
                <a:ext cx="2524320" cy="4156920"/>
                <a:chOff x="5649840" y="870840"/>
                <a:chExt cx="2524320" cy="41569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5649840" y="1797120"/>
                  <a:ext cx="2524320" cy="3230640"/>
                </a:xfrm>
                <a:prstGeom prst="rect">
                  <a:avLst/>
                </a:prstGeom>
                <a:solidFill>
                  <a:srgbClr val="990033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81185" dir="307803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" name=""/>
                <p:cNvGrpSpPr/>
                <p:nvPr/>
              </p:nvGrpSpPr>
              <p:grpSpPr>
                <a:xfrm>
                  <a:off x="5886360" y="870840"/>
                  <a:ext cx="1824120" cy="2975760"/>
                  <a:chOff x="5886360" y="870840"/>
                  <a:chExt cx="1824120" cy="297576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5886360" y="2938320"/>
                    <a:ext cx="1824120" cy="908280"/>
                  </a:xfrm>
                  <a:prstGeom prst="rect">
                    <a:avLst/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81185" dir="307803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3333cc"/>
                        </a:solidFill>
                        <a:latin typeface="Verdana"/>
                      </a:rPr>
                      <a:t>Virtual Component Codificatio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5924520" y="870840"/>
                    <a:ext cx="1747800" cy="779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71785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333399"/>
                        </a:solidFill>
                        <a:latin typeface="Verdana"/>
                      </a:rPr>
                      <a:t>Test Specificatio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4" name=""/>
            <p:cNvSpPr/>
            <p:nvPr/>
          </p:nvSpPr>
          <p:spPr>
            <a:xfrm>
              <a:off x="7327800" y="1771560"/>
              <a:ext cx="8748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Verdana"/>
                </a:rPr>
                <a:t>C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133960" y="1194120"/>
            <a:ext cx="2114640" cy="1742760"/>
            <a:chOff x="5133960" y="1194120"/>
            <a:chExt cx="2114640" cy="1742760"/>
          </a:xfrm>
        </p:grpSpPr>
        <p:sp>
          <p:nvSpPr>
            <p:cNvPr id="246" name="Document"/>
            <p:cNvSpPr/>
            <p:nvPr/>
          </p:nvSpPr>
          <p:spPr>
            <a:xfrm>
              <a:off x="6346800" y="1835280"/>
              <a:ext cx="901800" cy="717480"/>
            </a:xfrm>
            <a:prstGeom prst="pie">
              <a:avLst/>
            </a:prstGeom>
            <a:solidFill>
              <a:srgbClr val="f7f7f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720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Test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rot="18403200">
              <a:off x="5333040" y="1369080"/>
              <a:ext cx="916920" cy="957240"/>
            </a:xfrm>
            <a:custGeom>
              <a:avLst/>
              <a:gdLst>
                <a:gd name="textAreaLeft" fmla="*/ -360 w 916920"/>
                <a:gd name="textAreaRight" fmla="*/ 916920 w 91692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085" y="5288"/>
                  </a:moveTo>
                  <a:arcTo wR="-7253" hR="-7253" stAng="-7832634" swAng="-12099696"/>
                  <a:lnTo>
                    <a:pt x="1246" y="5764"/>
                  </a:lnTo>
                  <a:arcTo wR="10800" hR="10800" stAng="-9132330" swAng="12099696"/>
                  <a:lnTo>
                    <a:pt x="19575" y="21059"/>
                  </a:lnTo>
                  <a:lnTo>
                    <a:pt x="13268" y="20567"/>
                  </a:lnTo>
                  <a:lnTo>
                    <a:pt x="13760" y="1426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97520" y="2576520"/>
              <a:ext cx="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59280" y="3890880"/>
            <a:ext cx="2095560" cy="1262160"/>
            <a:chOff x="5759280" y="3890880"/>
            <a:chExt cx="2095560" cy="1262160"/>
          </a:xfrm>
        </p:grpSpPr>
        <p:sp>
          <p:nvSpPr>
            <p:cNvPr id="250" name=""/>
            <p:cNvSpPr/>
            <p:nvPr/>
          </p:nvSpPr>
          <p:spPr>
            <a:xfrm>
              <a:off x="6797520" y="3890880"/>
              <a:ext cx="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64120" y="4245120"/>
              <a:ext cx="1675080" cy="56484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6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33cc"/>
                  </a:solidFill>
                  <a:latin typeface="Verdana"/>
                </a:rPr>
                <a:t>Redir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759280" y="4819680"/>
              <a:ext cx="743040" cy="333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2160" y="4819680"/>
              <a:ext cx="742680" cy="333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The CDT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1260360"/>
            <a:ext cx="9144000" cy="4875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0" y="628560"/>
            <a:ext cx="91440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180000" bIns="180000" anchor="t">
            <a:spAutoFit/>
          </a:bodyPr>
          <a:p>
            <a:pPr marL="380880" indent="-376200">
              <a:lnSpc>
                <a:spcPct val="100000"/>
              </a:lnSpc>
              <a:spcBef>
                <a:spcPts val="4201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lements in the framework and main interactions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593720"/>
            <a:ext cx="5902200" cy="419112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45080" y="1795320"/>
            <a:ext cx="1630440" cy="3548160"/>
          </a:xfrm>
          <a:prstGeom prst="rect">
            <a:avLst/>
          </a:prstGeom>
          <a:solidFill>
            <a:srgbClr val="99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266" name="" descr=""/>
            <p:cNvPicPr/>
            <p:nvPr/>
          </p:nvPicPr>
          <p:blipFill>
            <a:blip r:embed="rId3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4875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The CDT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343320" y="3278160"/>
            <a:ext cx="1003320" cy="5763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45080" y="1579680"/>
            <a:ext cx="1630440" cy="3547800"/>
          </a:xfrm>
          <a:prstGeom prst="rect">
            <a:avLst/>
          </a:prstGeom>
          <a:solidFill>
            <a:srgbClr val="99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CDT – The SP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57160"/>
            <a:ext cx="9144000" cy="29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180000" bIns="1800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permits to early codify the test cases before/without the need of an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be developed for each virtual component, but according to a standard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keeps the Driver informed about any component invocation made by the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4875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The CDT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445080" y="1579680"/>
            <a:ext cx="1630440" cy="3547800"/>
          </a:xfrm>
          <a:prstGeom prst="rect">
            <a:avLst/>
          </a:prstGeom>
          <a:solidFill>
            <a:srgbClr val="99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1520" y="3098880"/>
            <a:ext cx="2463840" cy="8715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imes New Roman"/>
              </a:rPr>
              <a:t>Test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396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CDT – The Test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744480"/>
            <a:ext cx="9144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180000" bIns="1800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contains the test cases specified by the system constructor; each test refers to a “SPY” element as the test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mainly realized by using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JUni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(as a storage compon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a test session starts, a set of test cases is retrieved and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4875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The CDT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326" name="" descr=""/>
            <p:cNvPicPr/>
            <p:nvPr/>
          </p:nvPicPr>
          <p:blipFill>
            <a:blip r:embed="rId3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445080" y="1579680"/>
            <a:ext cx="1630440" cy="3547800"/>
          </a:xfrm>
          <a:prstGeom prst="rect">
            <a:avLst/>
          </a:prstGeom>
          <a:solidFill>
            <a:srgbClr val="99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816200" y="1467000"/>
            <a:ext cx="4406760" cy="3509640"/>
            <a:chOff x="1816200" y="1467000"/>
            <a:chExt cx="4406760" cy="3509640"/>
          </a:xfrm>
        </p:grpSpPr>
        <p:sp>
          <p:nvSpPr>
            <p:cNvPr id="330" name=""/>
            <p:cNvSpPr/>
            <p:nvPr/>
          </p:nvSpPr>
          <p:spPr>
            <a:xfrm>
              <a:off x="1816200" y="1467000"/>
              <a:ext cx="2487600" cy="74448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cc00"/>
                  </a:solidFill>
                  <a:latin typeface="Times New Roman"/>
                </a:rPr>
                <a:t>XMLAdapter and the Par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25760" y="4232160"/>
              <a:ext cx="1897200" cy="74448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Casting C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797040"/>
            <a:ext cx="914400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180000" bIns="1800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ments necessary to correlate the virtual and the rea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XMLAdapter encodes the rules to adapt the virtual component to the real compon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ses handled by the XMLAdap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fferences in the method sign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e method in the SPY corresponding to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ral methods in the real component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inverse case not of inter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CDT – The XMLAdap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600" y="5394240"/>
            <a:ext cx="91440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180000" bIns="1800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y we use the XMLAd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CDT – An XMLAdapte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1640" y="825480"/>
            <a:ext cx="828072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MataHari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testPackag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name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it.cnr.isti.test.bank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testClas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name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BankTest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realPackag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name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real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VirtualMethod name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posit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 parameters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accNum amount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createObject class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REAL_PACKAGE.Couple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 objectName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parameter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value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accNum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parameter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type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int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 value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amount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/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createObject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execMethod object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bank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 name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t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parameter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value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/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execMethod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execMethod object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bank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 name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howMuch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 putResultIn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aCouple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parameter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value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accNum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/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execMethod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execMetho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object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aCouple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 name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getSum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 putResultIn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output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/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VirtualMethod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lt;/</a:t>
            </a: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MataHari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Component-based 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2692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46800" anchor="t">
            <a:spAutoFit/>
          </a:bodyPr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y do we need to build systems out of compon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we can do without, but the cost is high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cheaper, more reliable and fast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y kinds of components, along a continuous spectr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68280" y="3610080"/>
            <a:ext cx="6607440" cy="64440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28600" y="4130640"/>
            <a:ext cx="2946240" cy="1818720"/>
            <a:chOff x="228600" y="4130640"/>
            <a:chExt cx="2946240" cy="1818720"/>
          </a:xfrm>
        </p:grpSpPr>
        <p:sp>
          <p:nvSpPr>
            <p:cNvPr id="65" name=""/>
            <p:cNvSpPr/>
            <p:nvPr/>
          </p:nvSpPr>
          <p:spPr>
            <a:xfrm>
              <a:off x="228600" y="4879800"/>
              <a:ext cx="2946240" cy="1069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0000"/>
                  </a:solidFill>
                  <a:latin typeface="Verdana"/>
                </a:rPr>
                <a:t>Internal reuse</a:t>
              </a:r>
              <a:r>
                <a:rPr b="0" lang="en-GB" sz="20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GB" sz="2000" spc="-1" strike="noStrike">
                  <a:solidFill>
                    <a:srgbClr val="333399"/>
                  </a:solidFill>
                  <a:latin typeface="Verdana"/>
                </a:rPr>
                <a:t>of well documented white-box components</a:t>
              </a:r>
              <a:r>
                <a:rPr b="0" lang="en-GB" sz="2400" spc="-1" strike="noStrike">
                  <a:solidFill>
                    <a:srgbClr val="333399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49440" y="4130640"/>
              <a:ext cx="203040" cy="622440"/>
            </a:xfrm>
            <a:prstGeom prst="upArrow">
              <a:avLst>
                <a:gd name="adj1" fmla="val 50000"/>
                <a:gd name="adj2" fmla="val 766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348720" y="4866840"/>
            <a:ext cx="2433240" cy="1269720"/>
            <a:chOff x="3348720" y="4866840"/>
            <a:chExt cx="2433240" cy="1269720"/>
          </a:xfrm>
        </p:grpSpPr>
        <p:sp>
          <p:nvSpPr>
            <p:cNvPr id="68" name=""/>
            <p:cNvSpPr/>
            <p:nvPr/>
          </p:nvSpPr>
          <p:spPr>
            <a:xfrm>
              <a:off x="4610160" y="4880160"/>
              <a:ext cx="952560" cy="228600"/>
            </a:xfrm>
            <a:custGeom>
              <a:avLst/>
              <a:gdLst>
                <a:gd name="textAreaLeft" fmla="*/ 148680 w 952560"/>
                <a:gd name="textAreaRight" fmla="*/ 833760 w 9525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0800000">
              <a:off x="3594240" y="4866840"/>
              <a:ext cx="939600" cy="241560"/>
            </a:xfrm>
            <a:custGeom>
              <a:avLst/>
              <a:gdLst>
                <a:gd name="textAreaLeft" fmla="*/ 146520 w 939600"/>
                <a:gd name="textAreaRight" fmla="*/ 822240 w 939600"/>
                <a:gd name="textAreaTop" fmla="*/ 60480 h 241560"/>
                <a:gd name="textAreaBottom" fmla="*/ 18144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48720" y="5127840"/>
              <a:ext cx="2433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Verdana"/>
                </a:rPr>
                <a:t>Varying degrees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Verdana"/>
                </a:rPr>
                <a:t>docu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Verdana"/>
                </a:rPr>
                <a:t>in betwe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969160" y="4130640"/>
            <a:ext cx="2946240" cy="2062800"/>
            <a:chOff x="5969160" y="4130640"/>
            <a:chExt cx="2946240" cy="2062800"/>
          </a:xfrm>
        </p:grpSpPr>
        <p:sp>
          <p:nvSpPr>
            <p:cNvPr id="72" name=""/>
            <p:cNvSpPr/>
            <p:nvPr/>
          </p:nvSpPr>
          <p:spPr>
            <a:xfrm>
              <a:off x="5969160" y="4879800"/>
              <a:ext cx="2946240" cy="131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0000"/>
                  </a:solidFill>
                  <a:latin typeface="Verdana"/>
                </a:rPr>
                <a:t>COTS:</a:t>
              </a:r>
              <a:r>
                <a:rPr b="0" lang="en-GB" sz="20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GB" sz="2000" spc="-1" strike="noStrike">
                  <a:solidFill>
                    <a:srgbClr val="333399"/>
                  </a:solidFill>
                  <a:latin typeface="Verdana"/>
                </a:rPr>
                <a:t>externally acquired black-box components, with interface signat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89720" y="4130640"/>
              <a:ext cx="204840" cy="622080"/>
            </a:xfrm>
            <a:prstGeom prst="upArrow">
              <a:avLst>
                <a:gd name="adj1" fmla="val 50000"/>
                <a:gd name="adj2" fmla="val 759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48751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The CDT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364" name="" descr=""/>
            <p:cNvPicPr/>
            <p:nvPr/>
          </p:nvPicPr>
          <p:blipFill>
            <a:blip r:embed="rId3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6445080" y="1579680"/>
            <a:ext cx="1630440" cy="3547800"/>
          </a:xfrm>
          <a:prstGeom prst="rect">
            <a:avLst/>
          </a:prstGeom>
          <a:solidFill>
            <a:srgbClr val="99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89520" y="3218040"/>
            <a:ext cx="1092240" cy="718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1396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396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CDT – The D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738360"/>
            <a:ext cx="9144000" cy="34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180000" bIns="1800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re of the approach, developed once and fo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retrieves the information from the XMLAdapter by using the XMLHand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zing the retrieved information, it identifies the tests to be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opportunely redirects the invocations (by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reflec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) according to the SP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62080" y="828720"/>
            <a:ext cx="8582040" cy="33624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99192" dir="2381944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1396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1396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CDT a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392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62280" y="1095480"/>
            <a:ext cx="272268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Verdana"/>
              </a:rPr>
              <a:t>Virtual Component C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Document"/>
          <p:cNvSpPr/>
          <p:nvPr/>
        </p:nvSpPr>
        <p:spPr>
          <a:xfrm>
            <a:off x="361800" y="1023840"/>
            <a:ext cx="990720" cy="1103400"/>
          </a:xfrm>
          <a:prstGeom prst="pie">
            <a:avLst/>
          </a:prstGeom>
          <a:solidFill>
            <a:srgbClr val="f7f7f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Test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252440" y="760320"/>
            <a:ext cx="2495520" cy="754200"/>
            <a:chOff x="1252440" y="760320"/>
            <a:chExt cx="2495520" cy="754200"/>
          </a:xfrm>
        </p:grpSpPr>
        <p:sp>
          <p:nvSpPr>
            <p:cNvPr id="397" name=""/>
            <p:cNvSpPr/>
            <p:nvPr/>
          </p:nvSpPr>
          <p:spPr>
            <a:xfrm>
              <a:off x="1393920" y="1514520"/>
              <a:ext cx="2235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52440" y="760320"/>
              <a:ext cx="249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cc00"/>
                  </a:solidFill>
                  <a:latin typeface="Verdana"/>
                </a:rPr>
                <a:t>Virtual method invo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840120" y="3054240"/>
            <a:ext cx="1617840" cy="85104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6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56720" y="847800"/>
            <a:ext cx="874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C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Document"/>
          <p:cNvSpPr/>
          <p:nvPr/>
        </p:nvSpPr>
        <p:spPr>
          <a:xfrm>
            <a:off x="7505640" y="2838600"/>
            <a:ext cx="1143000" cy="1218960"/>
          </a:xfrm>
          <a:prstGeom prst="pie">
            <a:avLst/>
          </a:prstGeom>
          <a:solidFill>
            <a:srgbClr val="f7f7f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XML Ad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548320" y="2724120"/>
            <a:ext cx="1944720" cy="733320"/>
            <a:chOff x="5548320" y="2724120"/>
            <a:chExt cx="1944720" cy="733320"/>
          </a:xfrm>
        </p:grpSpPr>
        <p:sp>
          <p:nvSpPr>
            <p:cNvPr id="403" name=""/>
            <p:cNvSpPr/>
            <p:nvPr/>
          </p:nvSpPr>
          <p:spPr>
            <a:xfrm>
              <a:off x="5594400" y="3457440"/>
              <a:ext cx="182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48320" y="2724120"/>
              <a:ext cx="1944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cc00"/>
                  </a:solidFill>
                  <a:latin typeface="Verdana"/>
                </a:rPr>
                <a:t>Information retrie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656160" y="5315040"/>
            <a:ext cx="1981080" cy="761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Real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584440" y="4033800"/>
            <a:ext cx="2062080" cy="1180800"/>
            <a:chOff x="2584440" y="4033800"/>
            <a:chExt cx="2062080" cy="1180800"/>
          </a:xfrm>
        </p:grpSpPr>
        <p:sp>
          <p:nvSpPr>
            <p:cNvPr id="407" name=""/>
            <p:cNvSpPr/>
            <p:nvPr/>
          </p:nvSpPr>
          <p:spPr>
            <a:xfrm>
              <a:off x="4646520" y="4033800"/>
              <a:ext cx="0" cy="1180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84440" y="4268520"/>
              <a:ext cx="193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cc00"/>
                  </a:solidFill>
                  <a:latin typeface="Verdana"/>
                </a:rPr>
                <a:t>Real method invo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668680" y="2038320"/>
            <a:ext cx="1977840" cy="942480"/>
            <a:chOff x="2668680" y="2038320"/>
            <a:chExt cx="1977840" cy="942480"/>
          </a:xfrm>
        </p:grpSpPr>
        <p:sp>
          <p:nvSpPr>
            <p:cNvPr id="410" name=""/>
            <p:cNvSpPr/>
            <p:nvPr/>
          </p:nvSpPr>
          <p:spPr>
            <a:xfrm>
              <a:off x="4646520" y="2038320"/>
              <a:ext cx="0" cy="942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68680" y="2131560"/>
              <a:ext cx="184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cc00"/>
                  </a:solidFill>
                  <a:latin typeface="Verdana"/>
                </a:rPr>
                <a:t>Information re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How the customer can use C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420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0" y="584280"/>
            <a:ext cx="914400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0" rIns="396000" tIns="180000" bIns="1800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System Specif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 algn="just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velopment of a suitable architecture, following for instance the “UML Components” method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 algn="just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e established interfaces are coded in Java classes, each generally referred to as the SP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Test specif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 algn="just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ased on the specifications, testers develop test suites to evaluate the components using the SPY as the test tar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Provision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 algn="just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ther teams search suitable candidate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Deployment tes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 algn="just">
              <a:lnSpc>
                <a:spcPct val="100000"/>
              </a:lnSpc>
              <a:spcBef>
                <a:spcPts val="825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ound candidate components are evaluated using C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How the developer can (also) use C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1046160"/>
            <a:ext cx="9144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 a by-product, CDT could be used to transfer the developer’s test cases to the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e redirection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e power of the Built-in Test approach (if the component implements a specific particular interface, similarly to the testable architecture approa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rnally, the developer can use CDT for testing different versions of a component or components with similar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432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Adds-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0" y="906480"/>
            <a:ext cx="914400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180000" bIns="1800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W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a wrapper to interconnect real components, forming a virtual component, and to control the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Contract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iContra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has been integrated in the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Y classes are instrumented with pre- and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t-conditions, and recompiled via iContr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Tracing mechanisms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XML format (e.g., after failure det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Major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0" y="977760"/>
            <a:ext cx="914400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180000" bIns="1800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coupling of test specifications and design from component implementation and 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specific requirements on the candidate components for testing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st cases 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st suite flexibility (easy to add new test cases to a su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mple mechanisms to group test cases for regression testing purposes (by J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We are working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464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0" y="1625760"/>
            <a:ext cx="9144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180000" bIns="1800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ols to simplify and automate  the creation of the needed artifacts (e.g., the drawing up of the XMLAdap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gration with strategies to derive test cases from UML diagrams (currently we are working at  extending Cow_Su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UML Comb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473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0" y="698400"/>
            <a:ext cx="9144000" cy="27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180000" bIns="1800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bining different methodology to produce a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Integrated Deployment Testing Enviro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M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w_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Overview" descr=""/>
          <p:cNvPicPr/>
          <p:nvPr/>
        </p:nvPicPr>
        <p:blipFill>
          <a:blip r:embed="rId3"/>
          <a:stretch/>
        </p:blipFill>
        <p:spPr>
          <a:xfrm>
            <a:off x="530280" y="3309840"/>
            <a:ext cx="8093160" cy="28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Cow_Suite Review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483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0" y="698400"/>
            <a:ext cx="914400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180000" bIns="1800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wo ph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1. Single virtual compon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weight on the CDs reflected on each method invocation that appear in a CD. Components tested using st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. Subsystem tes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difficulties in driving test execution since we suppose the use of black-box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ight as a “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operational profil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information collected (by WCT) in step 1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be usefully used,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Towards the COTS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716040"/>
            <a:ext cx="91440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Advantages of a COTS approac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components developed by expert organizations for the specific area, more reliable components, no development overhea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ck of information leads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Component Trust Probl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y approaches to mitigate the CTP (Design-by-Contract, Formal Method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sts conducted by the (component) 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sts conducted by the customer (or system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tru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UML Combination experi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grpSp>
        <p:nvGrpSpPr>
          <p:cNvPr id="491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492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0" y="698400"/>
            <a:ext cx="914400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180000" bIns="1800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rently we have produced a component based specification of the JAIN-MAP layer and reviewed part of th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Architecture" descr=""/>
          <p:cNvPicPr/>
          <p:nvPr/>
        </p:nvPicPr>
        <p:blipFill>
          <a:blip r:embed="rId3"/>
          <a:stretch/>
        </p:blipFill>
        <p:spPr>
          <a:xfrm>
            <a:off x="1670040" y="2039760"/>
            <a:ext cx="579744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UML Combination experi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grpSp>
        <p:nvGrpSpPr>
          <p:cNvPr id="501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502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0" y="69840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180000" bIns="1800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started deriving test cases for the single components and we have executed some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168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seems to work 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511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0" y="27241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Verdana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3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Verdana"/>
              </a:rPr>
              <a:t>Concerning the CB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665280"/>
            <a:ext cx="9144000" cy="52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180000" bIns="1800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nerally recognized that a process specifically targeted to CB i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architecture specification must also be influenced by the granularity of the retrievable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thout considering a specific process we can suppose that the following phases will be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specification phas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features of required components are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provisioning phase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me candidate components are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validation phase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ied components are validated against the spec. for the searched co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3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Verdana"/>
              </a:rPr>
              <a:t>Rethinking the test process in a CB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0" y="741240"/>
            <a:ext cx="9144000" cy="55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180000" bIns="1800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Component tes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performed by the component developer before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Deployment tes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performed by the system constructor; we can foresee two step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he component is directly tested by invoking its API (component’s required services to be provided, e.g., as stu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he component is (incrementally) tested as part of a larger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System tes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system tested as a whole (does not show notable differences with respect to traditional develop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130400"/>
            <a:ext cx="9144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posed approaches, related to testing, to mitigate the Component Trust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Built-in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Testabl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XML-based Test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Certification A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Customer’s Specifie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30400"/>
            <a:ext cx="9144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posed approaches, related to testing, to mitigate the Component Trust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Built-in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Testabl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XML-based Test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Certification A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Customer’s Specifie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Our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62080"/>
            <a:ext cx="91440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intend to develop mechanisms allowing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cc00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arly codification of test cas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by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stomer, based on the expected behavior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om the component within the targe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asy re-use of the established test cas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order to evaluate a set of candidat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asy configuration/re-configuration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of a syste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in order to execute the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reducing the number of test cases to be re-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xecute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when a component is substit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71400"/>
            <a:ext cx="9144000" cy="65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Verdana"/>
              </a:rPr>
              <a:t>Starting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3802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Antonia Bertolino, </a:t>
            </a:r>
            <a:r>
              <a:rPr b="0" lang="it-IT" sz="800" spc="-1" strike="noStrike" u="sng">
                <a:solidFill>
                  <a:srgbClr val="333399"/>
                </a:solidFill>
                <a:uFillTx/>
                <a:latin typeface="Verdana"/>
              </a:rPr>
              <a:t>Andrea Polini</a:t>
            </a:r>
            <a:r>
              <a:rPr b="0" lang="it-IT" sz="800" spc="-1" strike="noStrike">
                <a:solidFill>
                  <a:srgbClr val="333399"/>
                </a:solidFill>
                <a:latin typeface="Verdana"/>
              </a:rPr>
              <a:t> – “A Framework for Component Deployment Testing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205680"/>
            <a:ext cx="9144000" cy="109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4444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468000" tIns="46800" bIns="46800" anchor="t">
            <a:spAutoFit/>
          </a:bodyPr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start by realistically considering how a component is delivered by the developer, rather than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ow we would like it could be done ide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assume that the available information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quir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6360"/>
                <a:tab algn="l" pos="85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mmary description of the behavior of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thods in the provided interface (e.g.,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avaDoc for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4000" y="6289560"/>
            <a:ext cx="1044720" cy="524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6558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ICSE 2003, May 7</a:t>
            </a:r>
            <a:r>
              <a:rPr b="0" i="1" lang="en-US" sz="8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333399"/>
                </a:solidFill>
                <a:latin typeface="Verdana"/>
              </a:rPr>
              <a:t>, Portland, Oregon - 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059680" y="6262560"/>
            <a:ext cx="1062000" cy="634320"/>
            <a:chOff x="8059680" y="6262560"/>
            <a:chExt cx="1062000" cy="63432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8123760" y="6262560"/>
              <a:ext cx="950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8059680" y="6635520"/>
              <a:ext cx="106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990033"/>
                  </a:solidFill>
                  <a:latin typeface="Verdana"/>
                </a:rPr>
                <a:t>P I S A T e 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2:25:39Z</dcterms:created>
  <dc:creator>mescal</dc:creator>
  <dc:description/>
  <dc:language>en-US</dc:language>
  <cp:lastModifiedBy>Antonella Bertolino</cp:lastModifiedBy>
  <dcterms:modified xsi:type="dcterms:W3CDTF">2003-05-23T14:16:42Z</dcterms:modified>
  <cp:revision>75</cp:revision>
  <dc:subject/>
  <dc:title>Presentazione di PowerPoint</dc:title>
</cp:coreProperties>
</file>