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86.png" ContentType="image/png"/>
  <Override PartName="/ppt/media/image42.wmf" ContentType="image/x-wmf"/>
  <Override PartName="/ppt/media/image41.wmf" ContentType="image/x-wmf"/>
  <Override PartName="/ppt/media/image40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27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91.png" ContentType="image/png"/>
  <Override PartName="/ppt/media/image74.wmf" ContentType="image/x-wmf"/>
  <Override PartName="/ppt/media/image90.png" ContentType="image/png"/>
  <Override PartName="/ppt/media/image73.wmf" ContentType="image/x-wmf"/>
  <Override PartName="/ppt/media/image3.png" ContentType="image/png"/>
  <Override PartName="/ppt/media/image72.wmf" ContentType="image/x-wmf"/>
  <Override PartName="/ppt/media/image2.png" ContentType="image/png"/>
  <Override PartName="/ppt/media/image68.wmf" ContentType="image/x-wmf"/>
  <Override PartName="/ppt/media/image70.wmf" ContentType="image/x-wmf"/>
  <Override PartName="/ppt/media/image28.wmf" ContentType="image/x-wmf"/>
  <Override PartName="/ppt/media/image71.wmf" ContentType="image/x-wmf"/>
  <Override PartName="/ppt/media/image1.png" ContentType="image/png"/>
  <Override PartName="/ppt/media/image29.wmf" ContentType="image/x-wmf"/>
  <Override PartName="/ppt/media/image6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81.wmf" ContentType="image/x-wmf"/>
  <Override PartName="/ppt/media/image16.wmf" ContentType="image/x-wmf"/>
  <Override PartName="/ppt/media/image80.wmf" ContentType="image/x-wmf"/>
  <Override PartName="/ppt/media/image15.wmf" ContentType="image/x-wmf"/>
  <Override PartName="/ppt/media/image1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787716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09280" y="4042800"/>
            <a:ext cx="787716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45600" y="221436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9280" y="404280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45600" y="404280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253620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72560" y="2214360"/>
            <a:ext cx="253620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6200" y="2214360"/>
            <a:ext cx="253620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09280" y="4042800"/>
            <a:ext cx="253620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72560" y="4042800"/>
            <a:ext cx="253620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6200" y="4042800"/>
            <a:ext cx="253620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C691-4FF4-424B-B389-16FB3B39F7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09280" y="2214360"/>
            <a:ext cx="7877160" cy="35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98E9-9BBF-4DEA-A0F6-54D78D06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787716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FE00-E99A-42F8-99BF-1758D748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84372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45600" y="2214360"/>
            <a:ext cx="384372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5A28-D4CC-4623-9333-FB700A52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526F-169B-499C-BD55-1143C0F3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547280" y="620280"/>
            <a:ext cx="698508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1046-69AF-41E6-8126-36B256FB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45600" y="2214360"/>
            <a:ext cx="384372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09280" y="404280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ADCA-07A9-462E-A43B-2A7EE85F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09280" y="2214360"/>
            <a:ext cx="7877160" cy="35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84372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45600" y="221436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45600" y="404280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FCE0-CA4C-4052-9C32-2CA96C21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45600" y="221436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9280" y="4042800"/>
            <a:ext cx="787716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905F-0580-4C7C-A313-FE038723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787716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09280" y="4042800"/>
            <a:ext cx="787716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1FF5-386A-47C0-8AAE-89669A03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45600" y="221436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09280" y="404280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45600" y="404280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A8DA-0C28-4A53-B8EF-26F0F8A0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253620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72560" y="2214360"/>
            <a:ext cx="253620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36200" y="2214360"/>
            <a:ext cx="253620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09280" y="4042800"/>
            <a:ext cx="253620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72560" y="4042800"/>
            <a:ext cx="253620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36200" y="4042800"/>
            <a:ext cx="253620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F5E2A-6266-4CD4-B879-BF42323666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787716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84372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45600" y="2214360"/>
            <a:ext cx="384372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47280" y="620280"/>
            <a:ext cx="698508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5600" y="2214360"/>
            <a:ext cx="384372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09280" y="404280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84372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5600" y="221436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45600" y="404280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7280" y="599760"/>
            <a:ext cx="69850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45600" y="2214360"/>
            <a:ext cx="384372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09280" y="4042800"/>
            <a:ext cx="7877160" cy="166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0024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1040" y="600120"/>
            <a:ext cx="71640" cy="3603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50920" y="649440"/>
            <a:ext cx="7100640" cy="42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74640" y="3890880"/>
            <a:ext cx="7101000" cy="42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540640" y="3645000"/>
            <a:ext cx="69840" cy="3603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543800" y="228600"/>
            <a:ext cx="1219320" cy="505080"/>
            <a:chOff x="7543800" y="228600"/>
            <a:chExt cx="1219320" cy="50508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7924680" y="228600"/>
              <a:ext cx="838440" cy="5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7543800" y="457200"/>
              <a:ext cx="82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66"/>
                  </a:solidFill>
                  <a:latin typeface="Arial"/>
                </a:rPr>
                <a:t>PISA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476280"/>
            <a:ext cx="7100640" cy="42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1268280"/>
            <a:ext cx="7101000" cy="42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809280" y="2214360"/>
            <a:ext cx="787716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-228600">
              <a:spcBef>
                <a:spcPts val="64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3" marL="1428840" indent="-228600">
              <a:spcBef>
                <a:spcPts val="64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4" marL="1771560" indent="-228600">
              <a:spcBef>
                <a:spcPts val="64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5" marL="177156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6" marL="1771560" indent="-228600">
              <a:spcBef>
                <a:spcPts val="6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547280" y="620280"/>
            <a:ext cx="6985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7811640" y="6308640"/>
            <a:ext cx="792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6DD5-288B-4F50-9D8D-62DC27AEFA48}" type="slidenum">
              <a:rPr b="0" lang="it-IT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1400" y="430200"/>
            <a:ext cx="71640" cy="287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2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A856-00B2-409A-9FD7-FCEEA073C0B6}" type="datetime">
              <a:rPr b="0" lang="it-IT" sz="1400" spc="-1" strike="noStrike">
                <a:solidFill>
                  <a:srgbClr val="ffcc66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12280" y="1095480"/>
            <a:ext cx="71280" cy="287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721640" y="25560"/>
            <a:ext cx="1219320" cy="504720"/>
            <a:chOff x="7721640" y="25560"/>
            <a:chExt cx="1219320" cy="50472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8102520" y="25560"/>
              <a:ext cx="838440" cy="5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721640" y="253800"/>
              <a:ext cx="82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66"/>
                  </a:solidFill>
                  <a:latin typeface="Arial"/>
                </a:rPr>
                <a:t>PISA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image" Target="../media/image21.wmf"/><Relationship Id="rId19" Type="http://schemas.openxmlformats.org/officeDocument/2006/relationships/image" Target="../media/image22.wmf"/><Relationship Id="rId20" Type="http://schemas.openxmlformats.org/officeDocument/2006/relationships/image" Target="../media/image23.wmf"/><Relationship Id="rId21" Type="http://schemas.openxmlformats.org/officeDocument/2006/relationships/image" Target="../media/image24.wmf"/><Relationship Id="rId22" Type="http://schemas.openxmlformats.org/officeDocument/2006/relationships/image" Target="../media/image25.wmf"/><Relationship Id="rId23" Type="http://schemas.openxmlformats.org/officeDocument/2006/relationships/image" Target="../media/image26.wmf"/><Relationship Id="rId24" Type="http://schemas.openxmlformats.org/officeDocument/2006/relationships/image" Target="../media/image27.wmf"/><Relationship Id="rId25" Type="http://schemas.openxmlformats.org/officeDocument/2006/relationships/image" Target="../media/image28.wmf"/><Relationship Id="rId26" Type="http://schemas.openxmlformats.org/officeDocument/2006/relationships/image" Target="../media/image29.wmf"/><Relationship Id="rId27" Type="http://schemas.openxmlformats.org/officeDocument/2006/relationships/image" Target="../media/image30.wmf"/><Relationship Id="rId28" Type="http://schemas.openxmlformats.org/officeDocument/2006/relationships/image" Target="../media/image31.wmf"/><Relationship Id="rId29" Type="http://schemas.openxmlformats.org/officeDocument/2006/relationships/image" Target="../media/image4.png"/><Relationship Id="rId30" Type="http://schemas.openxmlformats.org/officeDocument/2006/relationships/image" Target="../media/image32.wmf"/><Relationship Id="rId31" Type="http://schemas.openxmlformats.org/officeDocument/2006/relationships/image" Target="../media/image33.wmf"/><Relationship Id="rId32" Type="http://schemas.openxmlformats.org/officeDocument/2006/relationships/image" Target="../media/image34.wmf"/><Relationship Id="rId33" Type="http://schemas.openxmlformats.org/officeDocument/2006/relationships/image" Target="../media/image35.wmf"/><Relationship Id="rId34" Type="http://schemas.openxmlformats.org/officeDocument/2006/relationships/image" Target="../media/image36.wmf"/><Relationship Id="rId35" Type="http://schemas.openxmlformats.org/officeDocument/2006/relationships/image" Target="../media/image37.wmf"/><Relationship Id="rId36" Type="http://schemas.openxmlformats.org/officeDocument/2006/relationships/image" Target="../media/image38.wmf"/><Relationship Id="rId37" Type="http://schemas.openxmlformats.org/officeDocument/2006/relationships/image" Target="../media/image39.wmf"/><Relationship Id="rId38" Type="http://schemas.openxmlformats.org/officeDocument/2006/relationships/image" Target="../media/image40.wmf"/><Relationship Id="rId39" Type="http://schemas.openxmlformats.org/officeDocument/2006/relationships/image" Target="../media/image41.wmf"/><Relationship Id="rId40" Type="http://schemas.openxmlformats.org/officeDocument/2006/relationships/image" Target="../media/image42.wmf"/><Relationship Id="rId41" Type="http://schemas.openxmlformats.org/officeDocument/2006/relationships/image" Target="../media/image43.wmf"/><Relationship Id="rId42" Type="http://schemas.openxmlformats.org/officeDocument/2006/relationships/image" Target="../media/image44.wmf"/><Relationship Id="rId43" Type="http://schemas.openxmlformats.org/officeDocument/2006/relationships/image" Target="../media/image45.wmf"/><Relationship Id="rId44" Type="http://schemas.openxmlformats.org/officeDocument/2006/relationships/image" Target="../media/image46.wmf"/><Relationship Id="rId45" Type="http://schemas.openxmlformats.org/officeDocument/2006/relationships/image" Target="../media/image47.wmf"/><Relationship Id="rId46" Type="http://schemas.openxmlformats.org/officeDocument/2006/relationships/image" Target="../media/image48.wmf"/><Relationship Id="rId47" Type="http://schemas.openxmlformats.org/officeDocument/2006/relationships/image" Target="../media/image49.wmf"/><Relationship Id="rId48" Type="http://schemas.openxmlformats.org/officeDocument/2006/relationships/image" Target="../media/image50.wmf"/><Relationship Id="rId49" Type="http://schemas.openxmlformats.org/officeDocument/2006/relationships/image" Target="../media/image51.wmf"/><Relationship Id="rId50" Type="http://schemas.openxmlformats.org/officeDocument/2006/relationships/image" Target="../media/image52.wmf"/><Relationship Id="rId51" Type="http://schemas.openxmlformats.org/officeDocument/2006/relationships/image" Target="../media/image53.wmf"/><Relationship Id="rId52" Type="http://schemas.openxmlformats.org/officeDocument/2006/relationships/image" Target="../media/image54.wmf"/><Relationship Id="rId53" Type="http://schemas.openxmlformats.org/officeDocument/2006/relationships/image" Target="../media/image55.wmf"/><Relationship Id="rId54" Type="http://schemas.openxmlformats.org/officeDocument/2006/relationships/image" Target="../media/image56.wmf"/><Relationship Id="rId55" Type="http://schemas.openxmlformats.org/officeDocument/2006/relationships/image" Target="../media/image57.wmf"/><Relationship Id="rId56" Type="http://schemas.openxmlformats.org/officeDocument/2006/relationships/image" Target="../media/image58.wmf"/><Relationship Id="rId57" Type="http://schemas.openxmlformats.org/officeDocument/2006/relationships/image" Target="../media/image59.wmf"/><Relationship Id="rId58" Type="http://schemas.openxmlformats.org/officeDocument/2006/relationships/image" Target="../media/image60.wmf"/><Relationship Id="rId59" Type="http://schemas.openxmlformats.org/officeDocument/2006/relationships/image" Target="../media/image61.wmf"/><Relationship Id="rId60" Type="http://schemas.openxmlformats.org/officeDocument/2006/relationships/image" Target="../media/image62.wmf"/><Relationship Id="rId61" Type="http://schemas.openxmlformats.org/officeDocument/2006/relationships/image" Target="../media/image63.wmf"/><Relationship Id="rId62" Type="http://schemas.openxmlformats.org/officeDocument/2006/relationships/image" Target="../media/image64.wmf"/><Relationship Id="rId63" Type="http://schemas.openxmlformats.org/officeDocument/2006/relationships/image" Target="../media/image65.wmf"/><Relationship Id="rId64" Type="http://schemas.openxmlformats.org/officeDocument/2006/relationships/image" Target="../media/image66.wmf"/><Relationship Id="rId65" Type="http://schemas.openxmlformats.org/officeDocument/2006/relationships/image" Target="../media/image67.wmf"/><Relationship Id="rId66" Type="http://schemas.openxmlformats.org/officeDocument/2006/relationships/image" Target="../media/image68.wmf"/><Relationship Id="rId67" Type="http://schemas.openxmlformats.org/officeDocument/2006/relationships/image" Target="../media/image69.wmf"/><Relationship Id="rId68" Type="http://schemas.openxmlformats.org/officeDocument/2006/relationships/image" Target="../media/image70.wmf"/><Relationship Id="rId69" Type="http://schemas.openxmlformats.org/officeDocument/2006/relationships/image" Target="../media/image71.wmf"/><Relationship Id="rId70" Type="http://schemas.openxmlformats.org/officeDocument/2006/relationships/image" Target="../media/image72.wmf"/><Relationship Id="rId71" Type="http://schemas.openxmlformats.org/officeDocument/2006/relationships/image" Target="../media/image73.wmf"/><Relationship Id="rId72" Type="http://schemas.openxmlformats.org/officeDocument/2006/relationships/image" Target="../media/image74.wmf"/><Relationship Id="rId73" Type="http://schemas.openxmlformats.org/officeDocument/2006/relationships/image" Target="../media/image75.wmf"/><Relationship Id="rId74" Type="http://schemas.openxmlformats.org/officeDocument/2006/relationships/image" Target="../media/image76.wmf"/><Relationship Id="rId75" Type="http://schemas.openxmlformats.org/officeDocument/2006/relationships/image" Target="../media/image77.wmf"/><Relationship Id="rId76" Type="http://schemas.openxmlformats.org/officeDocument/2006/relationships/image" Target="../media/image78.wmf"/><Relationship Id="rId77" Type="http://schemas.openxmlformats.org/officeDocument/2006/relationships/image" Target="../media/image79.wmf"/><Relationship Id="rId78" Type="http://schemas.openxmlformats.org/officeDocument/2006/relationships/image" Target="../media/image80.wmf"/><Relationship Id="rId79" Type="http://schemas.openxmlformats.org/officeDocument/2006/relationships/image" Target="../media/image81.wmf"/><Relationship Id="rId80" Type="http://schemas.openxmlformats.org/officeDocument/2006/relationships/image" Target="../media/image82.wmf"/><Relationship Id="rId81" Type="http://schemas.openxmlformats.org/officeDocument/2006/relationships/image" Target="../media/image83.wmf"/><Relationship Id="rId82" Type="http://schemas.openxmlformats.org/officeDocument/2006/relationships/image" Target="../media/image84.wmf"/><Relationship Id="rId83" Type="http://schemas.openxmlformats.org/officeDocument/2006/relationships/image" Target="../media/image85.wmf"/><Relationship Id="rId84" Type="http://schemas.openxmlformats.org/officeDocument/2006/relationships/image" Target="../media/image86.png"/><Relationship Id="rId85" Type="http://schemas.openxmlformats.org/officeDocument/2006/relationships/image" Target="../media/image87.png"/><Relationship Id="rId86" Type="http://schemas.openxmlformats.org/officeDocument/2006/relationships/image" Target="../media/image87.png"/><Relationship Id="rId87" Type="http://schemas.openxmlformats.org/officeDocument/2006/relationships/image" Target="../media/image86.png"/><Relationship Id="rId88" Type="http://schemas.openxmlformats.org/officeDocument/2006/relationships/image" Target="../media/image87.png"/><Relationship Id="rId89" Type="http://schemas.openxmlformats.org/officeDocument/2006/relationships/image" Target="../media/image87.png"/><Relationship Id="rId90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1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ntegrazione tra le reti GSM e Internet: progettazione e implementazione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di un nuovo servizio USSD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n JAIN 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419720"/>
            <a:ext cx="33526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urizio Bonucc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ncesca Mart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ncesca Lone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128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l nuovo servizio: idea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931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Formato della stringa USSD: *134*#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faccia con le JAIN MAP API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Times New Roman"/>
              </a:rPr>
              <a:t>incoming session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: 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cezione stringa USSD proveniente da M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amite primitive MAP tradotte dal JainProvider in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rimitive JA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Times New Roman"/>
              </a:rPr>
              <a:t>il default_listener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riconosciuto il service code (</a:t>
            </a:r>
            <a:r>
              <a:rPr b="0" i="1" lang="it-IT" sz="1800" spc="-1" strike="noStrike">
                <a:solidFill>
                  <a:srgbClr val="ffffff"/>
                </a:solidFill>
                <a:latin typeface="Times New Roman"/>
              </a:rPr>
              <a:t>134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), crea uno specifico handler_listener (</a:t>
            </a:r>
            <a:r>
              <a:rPr b="0" i="1" lang="it-IT" sz="1800" spc="-1" strike="noStrike">
                <a:solidFill>
                  <a:srgbClr val="ffffff"/>
                </a:solidFill>
                <a:latin typeface="Times New Roman"/>
              </a:rPr>
              <a:t>SecureClient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Times New Roman"/>
              </a:rPr>
              <a:t>session data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per richiedere i dati dell’uten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azione col server (scelta di una connession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Cloud"/>
          <p:cNvSpPr/>
          <p:nvPr/>
        </p:nvSpPr>
        <p:spPr>
          <a:xfrm>
            <a:off x="2757600" y="4437000"/>
            <a:ext cx="3759120" cy="1647720"/>
          </a:xfrm>
          <a:prstGeom prst="pie">
            <a:avLst/>
          </a:prstGeom>
          <a:gradFill rotWithShape="0">
            <a:gsLst>
              <a:gs pos="0">
                <a:srgbClr val="e3e2c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853240" y="5164200"/>
            <a:ext cx="1531800" cy="1440"/>
          </a:xfrm>
          <a:custGeom>
            <a:avLst/>
            <a:gdLst/>
            <a:ahLst/>
            <a:rect l="l" t="t" r="r" b="b"/>
            <a:pathLst>
              <a:path w="965" h="1">
                <a:moveTo>
                  <a:pt x="0" y="0"/>
                </a:moveTo>
                <a:lnTo>
                  <a:pt x="965" y="0"/>
                </a:lnTo>
                <a:lnTo>
                  <a:pt x="953" y="1"/>
                </a:lnTo>
              </a:path>
            </a:pathLst>
          </a:custGeom>
          <a:noFill/>
          <a:ln w="93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89120" y="5103720"/>
            <a:ext cx="1079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1714320" y="5364000"/>
            <a:ext cx="10810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637640" y="483876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tringa US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276880" y="5057640"/>
            <a:ext cx="48240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J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 rot="10800000">
            <a:off x="5148000" y="551592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2"/>
                </a:solidFill>
                <a:latin typeface="Arial"/>
              </a:rPr>
              <a:t>gsmS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519360" y="4245120"/>
            <a:ext cx="7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63640" y="5376960"/>
            <a:ext cx="145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isultato appl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511440" y="5062680"/>
            <a:ext cx="37476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463920" y="5486400"/>
            <a:ext cx="6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2"/>
                </a:solidFill>
                <a:latin typeface="Arial"/>
              </a:rPr>
              <a:t>HL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011480" y="4903920"/>
            <a:ext cx="12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Stringa US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68640" y="5427720"/>
            <a:ext cx="1233720" cy="1440"/>
          </a:xfrm>
          <a:custGeom>
            <a:avLst/>
            <a:gdLst/>
            <a:ahLst/>
            <a:rect l="l" t="t" r="r" b="b"/>
            <a:pathLst>
              <a:path w="777" h="1">
                <a:moveTo>
                  <a:pt x="777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10120" y="5398920"/>
            <a:ext cx="110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Risultato appl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78640" y="5383080"/>
            <a:ext cx="106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isultato appl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562440" y="48816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ichi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7451640" y="5084640"/>
          <a:ext cx="60012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5084640"/>
                    <a:ext cx="6001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3932280" y="5157720"/>
            <a:ext cx="129528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822640" y="5427720"/>
            <a:ext cx="1523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392120" y="4932360"/>
            <a:ext cx="253800" cy="576000"/>
            <a:chOff x="1392120" y="4932360"/>
            <a:chExt cx="253800" cy="576000"/>
          </a:xfrm>
        </p:grpSpPr>
        <p:sp>
          <p:nvSpPr>
            <p:cNvPr id="442" name=""/>
            <p:cNvSpPr/>
            <p:nvPr/>
          </p:nvSpPr>
          <p:spPr>
            <a:xfrm rot="21093000">
              <a:off x="1560240" y="4932720"/>
              <a:ext cx="16920" cy="156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21093000">
              <a:off x="1425600" y="5025240"/>
              <a:ext cx="186480" cy="471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21093000">
              <a:off x="1438920" y="5068440"/>
              <a:ext cx="118800" cy="7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21093000">
              <a:off x="1467000" y="5200200"/>
              <a:ext cx="118800" cy="23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1093000">
              <a:off x="1474560" y="5222880"/>
              <a:ext cx="16560" cy="5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21093000">
              <a:off x="1509480" y="5217120"/>
              <a:ext cx="16920" cy="5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21093000">
              <a:off x="1544760" y="5211000"/>
              <a:ext cx="16200" cy="5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21093000">
              <a:off x="1484640" y="5293440"/>
              <a:ext cx="1692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21093000">
              <a:off x="1519200" y="5287680"/>
              <a:ext cx="1692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21093000">
              <a:off x="1554480" y="5281560"/>
              <a:ext cx="1620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21093000">
              <a:off x="1493640" y="5363640"/>
              <a:ext cx="1692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21093000">
              <a:off x="1528560" y="5357880"/>
              <a:ext cx="1656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21093000">
              <a:off x="1563840" y="5351760"/>
              <a:ext cx="1620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ADC7-9B47-4B4B-A527-A91CF083E2B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F3C0181-E616-4A16-8702-2CFD8C1884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6985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66"/>
                </a:solidFill>
                <a:latin typeface="Times New Roman"/>
              </a:rPr>
              <a:t>Il nuovo servizio: inizializzazione</a:t>
            </a:r>
            <a:r>
              <a:rPr b="0" i="1" lang="it-IT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807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Registrazione degli utent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Registrazione dei ser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cambio dei certificati con chiave pubblica (keytool e keystor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rdo sul numero della porta su cui il server accetta la connession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giornamento strutture dati nell’HLR e nel database del server (JDataSto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4EE4-7A8A-42CF-8822-2FB35E8C8AD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9FB52C5-8C8D-4CDF-A4B9-DE8FCE599E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6912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l nuovo servizio: funzionalità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8" name="usecase1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684360" y="1522440"/>
            <a:ext cx="7848360" cy="46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E46D-B70D-41BC-82A8-47BBFCA64EF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EDE2915-B332-4F38-BA0D-CF1B5074A4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32000" y="620280"/>
            <a:ext cx="7200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Il nuovo servizio: il nodo gsmSCF</a:t>
            </a:r>
            <a:endParaRPr b="0" i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41480" y="1473120"/>
            <a:ext cx="7543800" cy="4773600"/>
            <a:chOff x="1041480" y="1473120"/>
            <a:chExt cx="7543800" cy="4773600"/>
          </a:xfrm>
        </p:grpSpPr>
        <p:sp>
          <p:nvSpPr>
            <p:cNvPr id="461" name=""/>
            <p:cNvSpPr/>
            <p:nvPr/>
          </p:nvSpPr>
          <p:spPr>
            <a:xfrm>
              <a:off x="5778720" y="5695920"/>
              <a:ext cx="1440" cy="281160"/>
            </a:xfrm>
            <a:custGeom>
              <a:avLst/>
              <a:gdLst/>
              <a:ahLst/>
              <a:rect l="l" t="t" r="r" b="b"/>
              <a:pathLst>
                <a:path w="2" h="497">
                  <a:moveTo>
                    <a:pt x="0" y="0"/>
                  </a:moveTo>
                  <a:lnTo>
                    <a:pt x="2" y="49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62440" y="2459160"/>
              <a:ext cx="2340000" cy="8175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57320" y="4782960"/>
              <a:ext cx="18669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98960" y="1676520"/>
              <a:ext cx="3240" cy="282600"/>
            </a:xfrm>
            <a:custGeom>
              <a:avLst/>
              <a:gdLst/>
              <a:ahLst/>
              <a:rect l="l" t="t" r="r" b="b"/>
              <a:pathLst>
                <a:path w="2" h="497">
                  <a:moveTo>
                    <a:pt x="0" y="0"/>
                  </a:moveTo>
                  <a:lnTo>
                    <a:pt x="2" y="49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40520" y="2881440"/>
              <a:ext cx="2158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402680" y="4854600"/>
              <a:ext cx="7920" cy="1255680"/>
            </a:xfrm>
            <a:custGeom>
              <a:avLst/>
              <a:gdLst/>
              <a:ahLst/>
              <a:rect l="l" t="t" r="r" b="b"/>
              <a:pathLst>
                <a:path w="7" h="2206">
                  <a:moveTo>
                    <a:pt x="7" y="0"/>
                  </a:moveTo>
                  <a:lnTo>
                    <a:pt x="0" y="220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00520" y="3602160"/>
              <a:ext cx="252720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59280" y="3608280"/>
              <a:ext cx="23000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800000"/>
                  </a:solidFill>
                  <a:latin typeface="Times New Roman"/>
                </a:rPr>
                <a:t>  </a:t>
              </a:r>
              <a:r>
                <a:rPr b="0" lang="it-IT" sz="1400" spc="-1" strike="noStrike">
                  <a:solidFill>
                    <a:srgbClr val="000042"/>
                  </a:solidFill>
                  <a:latin typeface="Times New Roman"/>
                </a:rPr>
                <a:t>Login e password cript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2938680" y="4118040"/>
              <a:ext cx="2527200" cy="237960"/>
              <a:chOff x="2938680" y="4118040"/>
              <a:chExt cx="2527200" cy="237960"/>
            </a:xfrm>
          </p:grpSpPr>
          <p:sp>
            <p:nvSpPr>
              <p:cNvPr id="470" name=""/>
              <p:cNvSpPr/>
              <p:nvPr/>
            </p:nvSpPr>
            <p:spPr>
              <a:xfrm>
                <a:off x="2938680" y="4118040"/>
                <a:ext cx="2527200" cy="23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08520" y="4161600"/>
                <a:ext cx="2429280" cy="12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000042"/>
                    </a:solidFill>
                    <a:latin typeface="Times New Roman"/>
                  </a:rPr>
                  <a:t>Creazione firma digita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2903760" y="1473120"/>
              <a:ext cx="2527200" cy="23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973600" y="1492200"/>
              <a:ext cx="2428920" cy="128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2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42"/>
                  </a:solidFill>
                  <a:latin typeface="Times New Roman"/>
                </a:rPr>
                <a:t>Ricezione stringa USS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2879640" y="1946160"/>
              <a:ext cx="2525760" cy="238320"/>
              <a:chOff x="2879640" y="1946160"/>
              <a:chExt cx="2525760" cy="238320"/>
            </a:xfrm>
          </p:grpSpPr>
          <p:sp>
            <p:nvSpPr>
              <p:cNvPr id="475" name=""/>
              <p:cNvSpPr/>
              <p:nvPr/>
            </p:nvSpPr>
            <p:spPr>
              <a:xfrm>
                <a:off x="2879640" y="1946160"/>
                <a:ext cx="2525760" cy="238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949480" y="1989720"/>
                <a:ext cx="2427840" cy="12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2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42"/>
                    </a:solidFill>
                    <a:latin typeface="Times New Roman"/>
                  </a:rPr>
                  <a:t>Richiesta dati all’ute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2938680" y="4656240"/>
              <a:ext cx="2527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08520" y="4675320"/>
              <a:ext cx="2428920" cy="12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0000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000042"/>
                  </a:solidFill>
                  <a:latin typeface="Times New Roman"/>
                </a:rPr>
                <a:t>Invio dati al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576600" y="2666880"/>
              <a:ext cx="135108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2"/>
                  </a:solidFill>
                  <a:latin typeface="Times New Roman"/>
                </a:rPr>
                <a:t>Autentic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2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42"/>
                  </a:solidFill>
                  <a:latin typeface="Times New Roman"/>
                </a:rPr>
                <a:t>utente-server</a:t>
              </a:r>
              <a:r>
                <a:rPr b="0" lang="en-US" sz="10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24520" y="2195640"/>
              <a:ext cx="1440" cy="284040"/>
            </a:xfrm>
            <a:custGeom>
              <a:avLst/>
              <a:gdLst/>
              <a:ahLst/>
              <a:rect l="l" t="t" r="r" b="b"/>
              <a:pathLst>
                <a:path w="2" h="497">
                  <a:moveTo>
                    <a:pt x="0" y="0"/>
                  </a:moveTo>
                  <a:lnTo>
                    <a:pt x="2" y="49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37120" y="3305160"/>
              <a:ext cx="360" cy="282600"/>
            </a:xfrm>
            <a:custGeom>
              <a:avLst/>
              <a:gdLst/>
              <a:ahLst/>
              <a:rect l="l" t="t" r="r" b="b"/>
              <a:pathLst>
                <a:path w="2" h="497">
                  <a:moveTo>
                    <a:pt x="0" y="0"/>
                  </a:moveTo>
                  <a:lnTo>
                    <a:pt x="2" y="49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33880" y="3838680"/>
              <a:ext cx="3240" cy="280800"/>
            </a:xfrm>
            <a:custGeom>
              <a:avLst/>
              <a:gdLst/>
              <a:ahLst/>
              <a:rect l="l" t="t" r="r" b="b"/>
              <a:pathLst>
                <a:path w="2" h="497">
                  <a:moveTo>
                    <a:pt x="0" y="0"/>
                  </a:moveTo>
                  <a:lnTo>
                    <a:pt x="2" y="49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1403280" y="5475240"/>
              <a:ext cx="2527560" cy="239760"/>
              <a:chOff x="1403280" y="5475240"/>
              <a:chExt cx="2527560" cy="239760"/>
            </a:xfrm>
          </p:grpSpPr>
          <p:sp>
            <p:nvSpPr>
              <p:cNvPr id="484" name=""/>
              <p:cNvSpPr/>
              <p:nvPr/>
            </p:nvSpPr>
            <p:spPr>
              <a:xfrm>
                <a:off x="1403280" y="5475240"/>
                <a:ext cx="2527560" cy="2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473120" y="5481720"/>
                <a:ext cx="242892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42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000042"/>
                    </a:solidFill>
                    <a:latin typeface="Times New Roman"/>
                  </a:rPr>
                  <a:t>Richiesta parametr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4497480" y="5483160"/>
              <a:ext cx="2525760" cy="23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67320" y="5489640"/>
              <a:ext cx="24271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2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42"/>
                  </a:solidFill>
                  <a:latin typeface="Times New Roman"/>
                </a:rPr>
                <a:t>Risultato applic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17680" y="6008760"/>
              <a:ext cx="252432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87520" y="6021360"/>
              <a:ext cx="2425680" cy="9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42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42"/>
                  </a:solidFill>
                  <a:latin typeface="Times New Roman"/>
                </a:rPr>
                <a:t>Richiesta parametri all’ut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45000" y="5973840"/>
              <a:ext cx="252756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14840" y="5992920"/>
              <a:ext cx="2428920" cy="1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2"/>
                  </a:solidFill>
                  <a:latin typeface="Times New Roman"/>
                </a:rPr>
                <a:t>Invio risposta all’ut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590920" y="5194440"/>
              <a:ext cx="1440" cy="280800"/>
            </a:xfrm>
            <a:custGeom>
              <a:avLst/>
              <a:gdLst/>
              <a:ahLst/>
              <a:rect l="l" t="t" r="r" b="b"/>
              <a:pathLst>
                <a:path w="2" h="497">
                  <a:moveTo>
                    <a:pt x="0" y="0"/>
                  </a:moveTo>
                  <a:lnTo>
                    <a:pt x="2" y="49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69000" y="5186520"/>
              <a:ext cx="1800" cy="284040"/>
            </a:xfrm>
            <a:custGeom>
              <a:avLst/>
              <a:gdLst/>
              <a:ahLst/>
              <a:rect l="l" t="t" r="r" b="b"/>
              <a:pathLst>
                <a:path w="2" h="497">
                  <a:moveTo>
                    <a:pt x="0" y="0"/>
                  </a:moveTo>
                  <a:lnTo>
                    <a:pt x="2" y="49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589120" y="5183280"/>
              <a:ext cx="158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83200" y="5175360"/>
              <a:ext cx="15858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76640" y="5135400"/>
              <a:ext cx="179640" cy="1018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587680" y="5745240"/>
              <a:ext cx="3240" cy="280800"/>
            </a:xfrm>
            <a:custGeom>
              <a:avLst/>
              <a:gdLst/>
              <a:ahLst/>
              <a:rect l="l" t="t" r="r" b="b"/>
              <a:pathLst>
                <a:path w="2" h="497">
                  <a:moveTo>
                    <a:pt x="0" y="0"/>
                  </a:moveTo>
                  <a:lnTo>
                    <a:pt x="2" y="49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58080" y="4649760"/>
              <a:ext cx="2527200" cy="23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127920" y="4662360"/>
              <a:ext cx="2428920" cy="1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2"/>
                  </a:solidFill>
                  <a:latin typeface="Times New Roman"/>
                </a:rPr>
                <a:t>Creazione messaggio err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399440" y="2889360"/>
              <a:ext cx="0" cy="1739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040160" y="6110280"/>
              <a:ext cx="3589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10200" y="3305160"/>
              <a:ext cx="5382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Times New Roman"/>
                </a:rPr>
                <a:t>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56480" y="2895480"/>
              <a:ext cx="5396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41480" y="4786200"/>
              <a:ext cx="0" cy="133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041480" y="6110280"/>
              <a:ext cx="3589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140360" y="4379760"/>
              <a:ext cx="3240" cy="281160"/>
            </a:xfrm>
            <a:custGeom>
              <a:avLst/>
              <a:gdLst/>
              <a:ahLst/>
              <a:rect l="l" t="t" r="r" b="b"/>
              <a:pathLst>
                <a:path w="2" h="497">
                  <a:moveTo>
                    <a:pt x="0" y="0"/>
                  </a:moveTo>
                  <a:lnTo>
                    <a:pt x="2" y="49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65560" y="491508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8BB7-63DF-456F-A4CE-394889D07D3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D8378A9-1B2A-4763-AF15-7951EEF8DC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6912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l nuovo servizio: il nodo server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320840" y="1600200"/>
            <a:ext cx="6858000" cy="4800600"/>
            <a:chOff x="1320840" y="1600200"/>
            <a:chExt cx="6858000" cy="4800600"/>
          </a:xfrm>
        </p:grpSpPr>
        <p:sp>
          <p:nvSpPr>
            <p:cNvPr id="510" name=""/>
            <p:cNvSpPr/>
            <p:nvPr/>
          </p:nvSpPr>
          <p:spPr>
            <a:xfrm>
              <a:off x="4086360" y="5265720"/>
              <a:ext cx="1865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44600" y="5265720"/>
              <a:ext cx="1865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70600" y="4695840"/>
              <a:ext cx="9334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11640" y="3848040"/>
              <a:ext cx="139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00880" y="3848040"/>
              <a:ext cx="0" cy="73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3137040" y="3567240"/>
              <a:ext cx="1974600" cy="554040"/>
              <a:chOff x="3137040" y="3567240"/>
              <a:chExt cx="1974600" cy="554040"/>
            </a:xfrm>
          </p:grpSpPr>
          <p:sp>
            <p:nvSpPr>
              <p:cNvPr id="516" name=""/>
              <p:cNvSpPr/>
              <p:nvPr/>
            </p:nvSpPr>
            <p:spPr>
              <a:xfrm>
                <a:off x="3137040" y="3567240"/>
                <a:ext cx="1974600" cy="5540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564720" y="3737880"/>
                <a:ext cx="1139760" cy="174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2"/>
                    </a:solidFill>
                    <a:latin typeface="Times New Roman"/>
                  </a:rPr>
                  <a:t>Autenticazi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3121200" y="2168640"/>
              <a:ext cx="1976400" cy="552240"/>
              <a:chOff x="3121200" y="2168640"/>
              <a:chExt cx="1976400" cy="552240"/>
            </a:xfrm>
          </p:grpSpPr>
          <p:sp>
            <p:nvSpPr>
              <p:cNvPr id="519" name=""/>
              <p:cNvSpPr/>
              <p:nvPr/>
            </p:nvSpPr>
            <p:spPr>
              <a:xfrm>
                <a:off x="3121200" y="2168640"/>
                <a:ext cx="1976400" cy="5522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549240" y="2338920"/>
                <a:ext cx="1140840" cy="17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2"/>
                    </a:solidFill>
                    <a:latin typeface="Times New Roman"/>
                  </a:rPr>
                  <a:t>Verifica firma</a:t>
                </a:r>
                <a:r>
                  <a:rPr b="1" lang="en-US" sz="1400" spc="-1" strike="noStrike">
                    <a:solidFill>
                      <a:srgbClr val="8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5983200" y="3900600"/>
              <a:ext cx="35100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29080" y="4719600"/>
              <a:ext cx="352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972040" y="2541600"/>
              <a:ext cx="35244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035160" y="3016080"/>
              <a:ext cx="2183040" cy="258840"/>
              <a:chOff x="3035160" y="3016080"/>
              <a:chExt cx="2183040" cy="258840"/>
            </a:xfrm>
          </p:grpSpPr>
          <p:sp>
            <p:nvSpPr>
              <p:cNvPr id="525" name=""/>
              <p:cNvSpPr/>
              <p:nvPr/>
            </p:nvSpPr>
            <p:spPr>
              <a:xfrm>
                <a:off x="3035160" y="3016080"/>
                <a:ext cx="2183040" cy="258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95280" y="3063240"/>
                <a:ext cx="2098440" cy="140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800" spc="-1" strike="noStrike">
                    <a:solidFill>
                      <a:srgbClr val="000042"/>
                    </a:solidFill>
                    <a:latin typeface="Times New Roman"/>
                  </a:rPr>
                  <a:t> </a:t>
                </a:r>
                <a:r>
                  <a:rPr b="0" lang="it-IT" sz="1400" spc="-1" strike="noStrike">
                    <a:solidFill>
                      <a:srgbClr val="000042"/>
                    </a:solidFill>
                    <a:latin typeface="Times New Roman"/>
                  </a:rPr>
                  <a:t>Login e password decifra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4103640" y="2711520"/>
              <a:ext cx="1800" cy="304560"/>
            </a:xfrm>
            <a:custGeom>
              <a:avLst/>
              <a:gdLst/>
              <a:ahLst/>
              <a:rect l="l" t="t" r="r" b="b"/>
              <a:pathLst>
                <a:path w="2" h="497">
                  <a:moveTo>
                    <a:pt x="0" y="0"/>
                  </a:moveTo>
                  <a:lnTo>
                    <a:pt x="2" y="49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16240" y="3273480"/>
              <a:ext cx="1800" cy="304920"/>
            </a:xfrm>
            <a:custGeom>
              <a:avLst/>
              <a:gdLst/>
              <a:ahLst/>
              <a:rect l="l" t="t" r="r" b="b"/>
              <a:pathLst>
                <a:path w="2" h="497">
                  <a:moveTo>
                    <a:pt x="0" y="0"/>
                  </a:moveTo>
                  <a:lnTo>
                    <a:pt x="2" y="49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3084480" y="1600200"/>
              <a:ext cx="2182680" cy="258840"/>
              <a:chOff x="3084480" y="1600200"/>
              <a:chExt cx="2182680" cy="258840"/>
            </a:xfrm>
          </p:grpSpPr>
          <p:sp>
            <p:nvSpPr>
              <p:cNvPr id="530" name=""/>
              <p:cNvSpPr/>
              <p:nvPr/>
            </p:nvSpPr>
            <p:spPr>
              <a:xfrm>
                <a:off x="3084480" y="1600200"/>
                <a:ext cx="2182680" cy="258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144600" y="1647360"/>
                <a:ext cx="2098080" cy="140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42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000042"/>
                    </a:solidFill>
                    <a:latin typeface="Times New Roman"/>
                  </a:rPr>
                  <a:t>Ricezione dat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4118040" y="1863720"/>
              <a:ext cx="1440" cy="306360"/>
            </a:xfrm>
            <a:custGeom>
              <a:avLst/>
              <a:gdLst/>
              <a:ahLst/>
              <a:rect l="l" t="t" r="r" b="b"/>
              <a:pathLst>
                <a:path w="2" h="497">
                  <a:moveTo>
                    <a:pt x="0" y="0"/>
                  </a:moveTo>
                  <a:lnTo>
                    <a:pt x="2" y="49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3121200" y="4417920"/>
              <a:ext cx="1976400" cy="552600"/>
              <a:chOff x="3121200" y="4417920"/>
              <a:chExt cx="1976400" cy="552600"/>
            </a:xfrm>
          </p:grpSpPr>
          <p:sp>
            <p:nvSpPr>
              <p:cNvPr id="534" name=""/>
              <p:cNvSpPr/>
              <p:nvPr/>
            </p:nvSpPr>
            <p:spPr>
              <a:xfrm>
                <a:off x="3121200" y="4417920"/>
                <a:ext cx="1976400" cy="55260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549240" y="4588200"/>
                <a:ext cx="1140840" cy="17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2"/>
                    </a:solidFill>
                    <a:latin typeface="Times New Roman"/>
                  </a:rPr>
                  <a:t>Autorizzazi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4130640" y="4113360"/>
              <a:ext cx="1800" cy="306360"/>
            </a:xfrm>
            <a:custGeom>
              <a:avLst/>
              <a:gdLst/>
              <a:ahLst/>
              <a:rect l="l" t="t" r="r" b="b"/>
              <a:pathLst>
                <a:path w="2" h="497">
                  <a:moveTo>
                    <a:pt x="0" y="0"/>
                  </a:moveTo>
                  <a:lnTo>
                    <a:pt x="2" y="49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5996160" y="4586400"/>
              <a:ext cx="2182680" cy="257040"/>
              <a:chOff x="5996160" y="4586400"/>
              <a:chExt cx="2182680" cy="257040"/>
            </a:xfrm>
          </p:grpSpPr>
          <p:sp>
            <p:nvSpPr>
              <p:cNvPr id="538" name=""/>
              <p:cNvSpPr/>
              <p:nvPr/>
            </p:nvSpPr>
            <p:spPr>
              <a:xfrm>
                <a:off x="5996160" y="4586400"/>
                <a:ext cx="2182680" cy="2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56280" y="4633200"/>
                <a:ext cx="2098080" cy="139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2"/>
                    </a:solidFill>
                    <a:latin typeface="Times New Roman"/>
                  </a:rPr>
                  <a:t>Creazione messaggio erro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5060880" y="2444760"/>
              <a:ext cx="2641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02560" y="2443320"/>
              <a:ext cx="0" cy="213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00400" y="4956120"/>
              <a:ext cx="0" cy="30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027320" y="5221440"/>
              <a:ext cx="155880" cy="1094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44600" y="5268960"/>
              <a:ext cx="3240" cy="306360"/>
            </a:xfrm>
            <a:custGeom>
              <a:avLst/>
              <a:gdLst/>
              <a:ahLst/>
              <a:rect l="l" t="t" r="r" b="b"/>
              <a:pathLst>
                <a:path w="2" h="497">
                  <a:moveTo>
                    <a:pt x="0" y="0"/>
                  </a:moveTo>
                  <a:lnTo>
                    <a:pt x="2" y="49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4606920" y="5575320"/>
              <a:ext cx="2184480" cy="257040"/>
              <a:chOff x="4606920" y="5575320"/>
              <a:chExt cx="2184480" cy="257040"/>
            </a:xfrm>
          </p:grpSpPr>
          <p:sp>
            <p:nvSpPr>
              <p:cNvPr id="546" name=""/>
              <p:cNvSpPr/>
              <p:nvPr/>
            </p:nvSpPr>
            <p:spPr>
              <a:xfrm>
                <a:off x="4606920" y="5575320"/>
                <a:ext cx="2184480" cy="2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667400" y="5622120"/>
                <a:ext cx="2099880" cy="139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42"/>
                    </a:solidFill>
                    <a:latin typeface="Times New Roman"/>
                  </a:rPr>
                  <a:t>    </a:t>
                </a:r>
                <a:r>
                  <a:rPr b="0" lang="en-US" sz="1400" spc="-1" strike="noStrike">
                    <a:solidFill>
                      <a:srgbClr val="000042"/>
                    </a:solidFill>
                    <a:latin typeface="Times New Roman"/>
                  </a:rPr>
                  <a:t>Esecuzione applicazi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4638600" y="6141960"/>
              <a:ext cx="2183040" cy="258840"/>
              <a:chOff x="4638600" y="6141960"/>
              <a:chExt cx="2183040" cy="258840"/>
            </a:xfrm>
          </p:grpSpPr>
          <p:sp>
            <p:nvSpPr>
              <p:cNvPr id="549" name=""/>
              <p:cNvSpPr/>
              <p:nvPr/>
            </p:nvSpPr>
            <p:spPr>
              <a:xfrm>
                <a:off x="4638600" y="6141960"/>
                <a:ext cx="2183040" cy="258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698720" y="6189120"/>
                <a:ext cx="2098440" cy="140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800" spc="-1" strike="noStrike">
                    <a:solidFill>
                      <a:srgbClr val="000042"/>
                    </a:solidFill>
                    <a:latin typeface="Times New Roman"/>
                  </a:rPr>
                  <a:t>  </a:t>
                </a:r>
                <a:r>
                  <a:rPr b="0" lang="it-IT" sz="1400" spc="-1" strike="noStrike">
                    <a:solidFill>
                      <a:srgbClr val="000042"/>
                    </a:solidFill>
                    <a:latin typeface="Times New Roman"/>
                  </a:rPr>
                  <a:t>Invio risposta al gsmSC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5943600" y="5832360"/>
              <a:ext cx="1440" cy="306360"/>
            </a:xfrm>
            <a:custGeom>
              <a:avLst/>
              <a:gdLst/>
              <a:ahLst/>
              <a:rect l="l" t="t" r="r" b="b"/>
              <a:pathLst>
                <a:path w="2" h="497">
                  <a:moveTo>
                    <a:pt x="0" y="0"/>
                  </a:moveTo>
                  <a:lnTo>
                    <a:pt x="2" y="49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5268960"/>
              <a:ext cx="1440" cy="306360"/>
            </a:xfrm>
            <a:custGeom>
              <a:avLst/>
              <a:gdLst/>
              <a:ahLst/>
              <a:rect l="l" t="t" r="r" b="b"/>
              <a:pathLst>
                <a:path w="2" h="497">
                  <a:moveTo>
                    <a:pt x="0" y="0"/>
                  </a:moveTo>
                  <a:lnTo>
                    <a:pt x="2" y="49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516480" y="5707080"/>
              <a:ext cx="1089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1320840" y="5578560"/>
              <a:ext cx="2182680" cy="258840"/>
              <a:chOff x="1320840" y="5578560"/>
              <a:chExt cx="2182680" cy="258840"/>
            </a:xfrm>
          </p:grpSpPr>
          <p:sp>
            <p:nvSpPr>
              <p:cNvPr id="555" name=""/>
              <p:cNvSpPr/>
              <p:nvPr/>
            </p:nvSpPr>
            <p:spPr>
              <a:xfrm>
                <a:off x="1320840" y="5578560"/>
                <a:ext cx="2182680" cy="258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80960" y="5625720"/>
                <a:ext cx="2098080" cy="140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42"/>
                    </a:solidFill>
                    <a:latin typeface="Times New Roman"/>
                  </a:rPr>
                  <a:t>     </a:t>
                </a:r>
                <a:r>
                  <a:rPr b="0" lang="en-US" sz="1400" spc="-1" strike="noStrike">
                    <a:solidFill>
                      <a:srgbClr val="000042"/>
                    </a:solidFill>
                    <a:latin typeface="Times New Roman"/>
                  </a:rPr>
                  <a:t>Richiesta parametr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 flipV="1">
              <a:off x="7121520" y="4843080"/>
              <a:ext cx="0" cy="143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811920" y="6273720"/>
              <a:ext cx="3096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08320" y="2666880"/>
              <a:ext cx="5382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Times New Roman"/>
                </a:rPr>
                <a:t>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94000" y="4149720"/>
              <a:ext cx="5382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Times New Roman"/>
                </a:rPr>
                <a:t>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06960" y="4954680"/>
              <a:ext cx="5382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Times New Roman"/>
                </a:rPr>
                <a:t>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0AD9-0E22-45D6-AB13-1285CAF74A1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1112414-E715-4868-B79F-EEA3DF7D8E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Uso di crittografia a chiave pubbl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algoritmo RS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Uso di firma digita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zione hash SH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1402920" y="620280"/>
            <a:ext cx="6985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icurezza nelle comunicazioni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140360" y="4103640"/>
            <a:ext cx="4535280" cy="2303640"/>
          </a:xfrm>
          <a:prstGeom prst="rect">
            <a:avLst/>
          </a:prstGeom>
          <a:gradFill rotWithShape="0">
            <a:gsLst>
              <a:gs pos="0">
                <a:srgbClr val="fbe9b5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4680000" y="4219560"/>
            <a:ext cx="285480" cy="106200"/>
            <a:chOff x="4680000" y="4219560"/>
            <a:chExt cx="285480" cy="106200"/>
          </a:xfrm>
        </p:grpSpPr>
        <p:sp>
          <p:nvSpPr>
            <p:cNvPr id="566" name=""/>
            <p:cNvSpPr/>
            <p:nvPr/>
          </p:nvSpPr>
          <p:spPr>
            <a:xfrm>
              <a:off x="4680000" y="4219560"/>
              <a:ext cx="285480" cy="106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680000" y="4219560"/>
              <a:ext cx="285480" cy="10620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4751280" y="4538520"/>
            <a:ext cx="142920" cy="676080"/>
            <a:chOff x="4751280" y="4538520"/>
            <a:chExt cx="142920" cy="676080"/>
          </a:xfrm>
        </p:grpSpPr>
        <p:sp>
          <p:nvSpPr>
            <p:cNvPr id="569" name=""/>
            <p:cNvSpPr/>
            <p:nvPr/>
          </p:nvSpPr>
          <p:spPr>
            <a:xfrm>
              <a:off x="4751280" y="4538520"/>
              <a:ext cx="142920" cy="676080"/>
            </a:xfrm>
            <a:custGeom>
              <a:avLst/>
              <a:gdLst/>
              <a:ahLst/>
              <a:rect l="l" t="t" r="r" b="b"/>
              <a:pathLst>
                <a:path w="90" h="426">
                  <a:moveTo>
                    <a:pt x="0" y="320"/>
                  </a:moveTo>
                  <a:lnTo>
                    <a:pt x="23" y="320"/>
                  </a:lnTo>
                  <a:lnTo>
                    <a:pt x="23" y="0"/>
                  </a:lnTo>
                  <a:lnTo>
                    <a:pt x="68" y="0"/>
                  </a:lnTo>
                  <a:lnTo>
                    <a:pt x="68" y="320"/>
                  </a:lnTo>
                  <a:lnTo>
                    <a:pt x="90" y="320"/>
                  </a:lnTo>
                  <a:lnTo>
                    <a:pt x="46" y="426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51280" y="4538520"/>
              <a:ext cx="142920" cy="676080"/>
            </a:xfrm>
            <a:custGeom>
              <a:avLst/>
              <a:gdLst/>
              <a:ahLst/>
              <a:rect l="l" t="t" r="r" b="b"/>
              <a:pathLst>
                <a:path w="90" h="426">
                  <a:moveTo>
                    <a:pt x="0" y="320"/>
                  </a:moveTo>
                  <a:lnTo>
                    <a:pt x="23" y="320"/>
                  </a:lnTo>
                  <a:lnTo>
                    <a:pt x="23" y="0"/>
                  </a:lnTo>
                  <a:lnTo>
                    <a:pt x="68" y="0"/>
                  </a:lnTo>
                  <a:lnTo>
                    <a:pt x="68" y="320"/>
                  </a:lnTo>
                  <a:lnTo>
                    <a:pt x="90" y="320"/>
                  </a:lnTo>
                  <a:lnTo>
                    <a:pt x="46" y="426"/>
                  </a:lnTo>
                  <a:lnTo>
                    <a:pt x="0" y="32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968720" y="5108400"/>
            <a:ext cx="641520" cy="306720"/>
          </a:xfrm>
          <a:prstGeom prst="rect">
            <a:avLst/>
          </a:prstGeom>
          <a:ln w="0">
            <a:noFill/>
          </a:ln>
        </p:spPr>
      </p:pic>
      <p:grpSp>
        <p:nvGrpSpPr>
          <p:cNvPr id="572" name=""/>
          <p:cNvGrpSpPr/>
          <p:nvPr/>
        </p:nvGrpSpPr>
        <p:grpSpPr>
          <a:xfrm>
            <a:off x="5572080" y="5214960"/>
            <a:ext cx="284040" cy="108000"/>
            <a:chOff x="5572080" y="5214960"/>
            <a:chExt cx="284040" cy="108000"/>
          </a:xfrm>
        </p:grpSpPr>
        <p:sp>
          <p:nvSpPr>
            <p:cNvPr id="573" name=""/>
            <p:cNvSpPr/>
            <p:nvPr/>
          </p:nvSpPr>
          <p:spPr>
            <a:xfrm>
              <a:off x="5572080" y="5214960"/>
              <a:ext cx="284040" cy="10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72080" y="5214960"/>
              <a:ext cx="284040" cy="108000"/>
            </a:xfrm>
            <a:prstGeom prst="rect">
              <a:avLst/>
            </a:prstGeom>
            <a:solidFill>
              <a:srgbClr val="000099"/>
            </a:soli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572000" y="5213520"/>
            <a:ext cx="466560" cy="144360"/>
            <a:chOff x="4572000" y="5213520"/>
            <a:chExt cx="466560" cy="144360"/>
          </a:xfrm>
        </p:grpSpPr>
        <p:sp>
          <p:nvSpPr>
            <p:cNvPr id="576" name=""/>
            <p:cNvSpPr/>
            <p:nvPr/>
          </p:nvSpPr>
          <p:spPr>
            <a:xfrm>
              <a:off x="4572000" y="5213520"/>
              <a:ext cx="466560" cy="4680"/>
            </a:xfrm>
            <a:prstGeom prst="rect">
              <a:avLst/>
            </a:prstGeom>
            <a:solidFill>
              <a:srgbClr val="666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2"/>
            <a:stretch/>
          </p:blipFill>
          <p:spPr>
            <a:xfrm>
              <a:off x="4572000" y="521352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4572000" y="5213520"/>
              <a:ext cx="466560" cy="4680"/>
            </a:xfrm>
            <a:prstGeom prst="rect">
              <a:avLst/>
            </a:prstGeom>
            <a:solidFill>
              <a:srgbClr val="666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572000" y="5218200"/>
              <a:ext cx="466560" cy="5040"/>
            </a:xfrm>
            <a:prstGeom prst="rect">
              <a:avLst/>
            </a:prstGeom>
            <a:solidFill>
              <a:srgbClr val="64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" descr=""/>
            <p:cNvPicPr/>
            <p:nvPr/>
          </p:nvPicPr>
          <p:blipFill>
            <a:blip r:embed="rId3"/>
            <a:stretch/>
          </p:blipFill>
          <p:spPr>
            <a:xfrm>
              <a:off x="4572000" y="5218200"/>
              <a:ext cx="46656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4572000" y="5218200"/>
              <a:ext cx="466560" cy="5040"/>
            </a:xfrm>
            <a:prstGeom prst="rect">
              <a:avLst/>
            </a:prstGeom>
            <a:solidFill>
              <a:srgbClr val="64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572000" y="5223240"/>
              <a:ext cx="466560" cy="4680"/>
            </a:xfrm>
            <a:prstGeom prst="rect">
              <a:avLst/>
            </a:prstGeom>
            <a:solidFill>
              <a:srgbClr val="636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" descr=""/>
            <p:cNvPicPr/>
            <p:nvPr/>
          </p:nvPicPr>
          <p:blipFill>
            <a:blip r:embed="rId4"/>
            <a:stretch/>
          </p:blipFill>
          <p:spPr>
            <a:xfrm>
              <a:off x="4572000" y="522324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4572000" y="5223240"/>
              <a:ext cx="466560" cy="4680"/>
            </a:xfrm>
            <a:prstGeom prst="rect">
              <a:avLst/>
            </a:prstGeom>
            <a:solidFill>
              <a:srgbClr val="636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572000" y="5227920"/>
              <a:ext cx="466560" cy="4680"/>
            </a:xfrm>
            <a:prstGeom prst="rect">
              <a:avLst/>
            </a:prstGeom>
            <a:solidFill>
              <a:srgbClr val="5f5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5"/>
            <a:stretch/>
          </p:blipFill>
          <p:spPr>
            <a:xfrm>
              <a:off x="4572000" y="522792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4572000" y="5227920"/>
              <a:ext cx="466560" cy="4680"/>
            </a:xfrm>
            <a:prstGeom prst="rect">
              <a:avLst/>
            </a:prstGeom>
            <a:solidFill>
              <a:srgbClr val="5f5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572000" y="5232600"/>
              <a:ext cx="466560" cy="4680"/>
            </a:xfrm>
            <a:prstGeom prst="rect">
              <a:avLst/>
            </a:prstGeom>
            <a:solidFill>
              <a:srgbClr val="5e5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" descr=""/>
            <p:cNvPicPr/>
            <p:nvPr/>
          </p:nvPicPr>
          <p:blipFill>
            <a:blip r:embed="rId6"/>
            <a:stretch/>
          </p:blipFill>
          <p:spPr>
            <a:xfrm>
              <a:off x="4572000" y="523260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4572000" y="5232600"/>
              <a:ext cx="466560" cy="4680"/>
            </a:xfrm>
            <a:prstGeom prst="rect">
              <a:avLst/>
            </a:prstGeom>
            <a:solidFill>
              <a:srgbClr val="5e5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72000" y="5237280"/>
              <a:ext cx="466560" cy="4680"/>
            </a:xfrm>
            <a:prstGeom prst="rect">
              <a:avLst/>
            </a:prstGeom>
            <a:solidFill>
              <a:srgbClr val="585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2" name="" descr=""/>
            <p:cNvPicPr/>
            <p:nvPr/>
          </p:nvPicPr>
          <p:blipFill>
            <a:blip r:embed="rId7"/>
            <a:stretch/>
          </p:blipFill>
          <p:spPr>
            <a:xfrm>
              <a:off x="4572000" y="523728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5237280"/>
              <a:ext cx="466560" cy="4680"/>
            </a:xfrm>
            <a:prstGeom prst="rect">
              <a:avLst/>
            </a:prstGeom>
            <a:solidFill>
              <a:srgbClr val="585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572000" y="5241960"/>
              <a:ext cx="466560" cy="5040"/>
            </a:xfrm>
            <a:prstGeom prst="rect">
              <a:avLst/>
            </a:prstGeom>
            <a:solidFill>
              <a:srgbClr val="535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" descr=""/>
            <p:cNvPicPr/>
            <p:nvPr/>
          </p:nvPicPr>
          <p:blipFill>
            <a:blip r:embed="rId8"/>
            <a:stretch/>
          </p:blipFill>
          <p:spPr>
            <a:xfrm>
              <a:off x="4572000" y="5241960"/>
              <a:ext cx="46656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4572000" y="5241960"/>
              <a:ext cx="466560" cy="5040"/>
            </a:xfrm>
            <a:prstGeom prst="rect">
              <a:avLst/>
            </a:prstGeom>
            <a:solidFill>
              <a:srgbClr val="535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572000" y="5247000"/>
              <a:ext cx="466560" cy="2880"/>
            </a:xfrm>
            <a:prstGeom prst="rect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9"/>
            <a:stretch/>
          </p:blipFill>
          <p:spPr>
            <a:xfrm>
              <a:off x="4572000" y="5247000"/>
              <a:ext cx="466560" cy="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4572000" y="5247000"/>
              <a:ext cx="466560" cy="2880"/>
            </a:xfrm>
            <a:prstGeom prst="rect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72000" y="5249880"/>
              <a:ext cx="466560" cy="5040"/>
            </a:xfrm>
            <a:prstGeom prst="rect">
              <a:avLst/>
            </a:prstGeom>
            <a:solidFill>
              <a:srgbClr val="45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" descr=""/>
            <p:cNvPicPr/>
            <p:nvPr/>
          </p:nvPicPr>
          <p:blipFill>
            <a:blip r:embed="rId10"/>
            <a:stretch/>
          </p:blipFill>
          <p:spPr>
            <a:xfrm>
              <a:off x="4572000" y="5249880"/>
              <a:ext cx="46656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572000" y="5249880"/>
              <a:ext cx="466560" cy="5040"/>
            </a:xfrm>
            <a:prstGeom prst="rect">
              <a:avLst/>
            </a:prstGeom>
            <a:solidFill>
              <a:srgbClr val="45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72000" y="5254920"/>
              <a:ext cx="466560" cy="4680"/>
            </a:xfrm>
            <a:prstGeom prst="rect">
              <a:avLst/>
            </a:prstGeom>
            <a:solidFill>
              <a:srgbClr val="3c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4" name="" descr=""/>
            <p:cNvPicPr/>
            <p:nvPr/>
          </p:nvPicPr>
          <p:blipFill>
            <a:blip r:embed="rId11"/>
            <a:stretch/>
          </p:blipFill>
          <p:spPr>
            <a:xfrm>
              <a:off x="4572000" y="525492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4572000" y="5254920"/>
              <a:ext cx="466560" cy="4680"/>
            </a:xfrm>
            <a:prstGeom prst="rect">
              <a:avLst/>
            </a:prstGeom>
            <a:solidFill>
              <a:srgbClr val="3c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572000" y="5259600"/>
              <a:ext cx="466560" cy="4680"/>
            </a:xfrm>
            <a:prstGeom prst="rect">
              <a:avLst/>
            </a:prstGeom>
            <a:solidFill>
              <a:srgbClr val="343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7" name="" descr=""/>
            <p:cNvPicPr/>
            <p:nvPr/>
          </p:nvPicPr>
          <p:blipFill>
            <a:blip r:embed="rId12"/>
            <a:stretch/>
          </p:blipFill>
          <p:spPr>
            <a:xfrm>
              <a:off x="4572000" y="525960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4572000" y="5259600"/>
              <a:ext cx="466560" cy="4680"/>
            </a:xfrm>
            <a:prstGeom prst="rect">
              <a:avLst/>
            </a:prstGeom>
            <a:solidFill>
              <a:srgbClr val="343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72000" y="5264280"/>
              <a:ext cx="466560" cy="4680"/>
            </a:xfrm>
            <a:prstGeom prst="rect">
              <a:avLst/>
            </a:prstGeom>
            <a:solidFill>
              <a:srgbClr val="2c2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0" name="" descr=""/>
            <p:cNvPicPr/>
            <p:nvPr/>
          </p:nvPicPr>
          <p:blipFill>
            <a:blip r:embed="rId13"/>
            <a:stretch/>
          </p:blipFill>
          <p:spPr>
            <a:xfrm>
              <a:off x="4572000" y="526428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4572000" y="5264280"/>
              <a:ext cx="466560" cy="4680"/>
            </a:xfrm>
            <a:prstGeom prst="rect">
              <a:avLst/>
            </a:prstGeom>
            <a:solidFill>
              <a:srgbClr val="2c2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72000" y="5268960"/>
              <a:ext cx="466560" cy="5040"/>
            </a:xfrm>
            <a:prstGeom prst="rect">
              <a:avLst/>
            </a:prstGeom>
            <a:solidFill>
              <a:srgbClr val="232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" descr=""/>
            <p:cNvPicPr/>
            <p:nvPr/>
          </p:nvPicPr>
          <p:blipFill>
            <a:blip r:embed="rId14"/>
            <a:stretch/>
          </p:blipFill>
          <p:spPr>
            <a:xfrm>
              <a:off x="4572000" y="5268960"/>
              <a:ext cx="46656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4572000" y="5268960"/>
              <a:ext cx="466560" cy="5040"/>
            </a:xfrm>
            <a:prstGeom prst="rect">
              <a:avLst/>
            </a:prstGeom>
            <a:solidFill>
              <a:srgbClr val="232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572000" y="5274000"/>
              <a:ext cx="466560" cy="4680"/>
            </a:xfrm>
            <a:prstGeom prst="rect">
              <a:avLst/>
            </a:prstGeom>
            <a:solidFill>
              <a:srgbClr val="1c1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" descr=""/>
            <p:cNvPicPr/>
            <p:nvPr/>
          </p:nvPicPr>
          <p:blipFill>
            <a:blip r:embed="rId15"/>
            <a:stretch/>
          </p:blipFill>
          <p:spPr>
            <a:xfrm>
              <a:off x="4572000" y="527400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4572000" y="5274000"/>
              <a:ext cx="466560" cy="4680"/>
            </a:xfrm>
            <a:prstGeom prst="rect">
              <a:avLst/>
            </a:prstGeom>
            <a:solidFill>
              <a:srgbClr val="1c1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72000" y="5278680"/>
              <a:ext cx="466560" cy="4680"/>
            </a:xfrm>
            <a:prstGeom prst="rect">
              <a:avLst/>
            </a:prstGeom>
            <a:solidFill>
              <a:srgbClr val="111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72000" y="5283360"/>
              <a:ext cx="466560" cy="4680"/>
            </a:xfrm>
            <a:prstGeom prst="rect">
              <a:avLst/>
            </a:prstGeom>
            <a:solidFill>
              <a:srgbClr val="030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72000" y="5288040"/>
              <a:ext cx="466560" cy="5040"/>
            </a:xfrm>
            <a:prstGeom prst="rect">
              <a:avLst/>
            </a:prstGeom>
            <a:solidFill>
              <a:srgbClr val="0a0a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72000" y="5293080"/>
              <a:ext cx="466560" cy="4680"/>
            </a:xfrm>
            <a:prstGeom prst="rect">
              <a:avLst/>
            </a:prstGeom>
            <a:solidFill>
              <a:srgbClr val="171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2" name="" descr=""/>
            <p:cNvPicPr/>
            <p:nvPr/>
          </p:nvPicPr>
          <p:blipFill>
            <a:blip r:embed="rId16"/>
            <a:stretch/>
          </p:blipFill>
          <p:spPr>
            <a:xfrm>
              <a:off x="4572000" y="529308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4572000" y="5293080"/>
              <a:ext cx="466560" cy="4680"/>
            </a:xfrm>
            <a:prstGeom prst="rect">
              <a:avLst/>
            </a:prstGeom>
            <a:solidFill>
              <a:srgbClr val="171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572000" y="5297760"/>
              <a:ext cx="466560" cy="4680"/>
            </a:xfrm>
            <a:prstGeom prst="rect">
              <a:avLst/>
            </a:prstGeom>
            <a:solidFill>
              <a:srgbClr val="1f1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5" name="" descr=""/>
            <p:cNvPicPr/>
            <p:nvPr/>
          </p:nvPicPr>
          <p:blipFill>
            <a:blip r:embed="rId17"/>
            <a:stretch/>
          </p:blipFill>
          <p:spPr>
            <a:xfrm>
              <a:off x="4572000" y="529776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4572000" y="5297760"/>
              <a:ext cx="466560" cy="4680"/>
            </a:xfrm>
            <a:prstGeom prst="rect">
              <a:avLst/>
            </a:prstGeom>
            <a:solidFill>
              <a:srgbClr val="1f1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72000" y="5302440"/>
              <a:ext cx="466560" cy="4680"/>
            </a:xfrm>
            <a:prstGeom prst="rect">
              <a:avLst/>
            </a:prstGeom>
            <a:solidFill>
              <a:srgbClr val="27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8" name="" descr=""/>
            <p:cNvPicPr/>
            <p:nvPr/>
          </p:nvPicPr>
          <p:blipFill>
            <a:blip r:embed="rId18"/>
            <a:stretch/>
          </p:blipFill>
          <p:spPr>
            <a:xfrm>
              <a:off x="4572000" y="530244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4572000" y="5302440"/>
              <a:ext cx="466560" cy="4680"/>
            </a:xfrm>
            <a:prstGeom prst="rect">
              <a:avLst/>
            </a:prstGeom>
            <a:solidFill>
              <a:srgbClr val="27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72000" y="5307120"/>
              <a:ext cx="466560" cy="4680"/>
            </a:xfrm>
            <a:prstGeom prst="rect">
              <a:avLst/>
            </a:prstGeom>
            <a:solidFill>
              <a:srgbClr val="303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19"/>
            <a:stretch/>
          </p:blipFill>
          <p:spPr>
            <a:xfrm>
              <a:off x="4572000" y="530712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4572000" y="5307120"/>
              <a:ext cx="466560" cy="4680"/>
            </a:xfrm>
            <a:prstGeom prst="rect">
              <a:avLst/>
            </a:prstGeom>
            <a:solidFill>
              <a:srgbClr val="303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72000" y="5311800"/>
              <a:ext cx="466560" cy="5040"/>
            </a:xfrm>
            <a:prstGeom prst="rect">
              <a:avLst/>
            </a:prstGeom>
            <a:solidFill>
              <a:srgbClr val="393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" descr=""/>
            <p:cNvPicPr/>
            <p:nvPr/>
          </p:nvPicPr>
          <p:blipFill>
            <a:blip r:embed="rId20"/>
            <a:stretch/>
          </p:blipFill>
          <p:spPr>
            <a:xfrm>
              <a:off x="4572000" y="5311800"/>
              <a:ext cx="46656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4572000" y="5311800"/>
              <a:ext cx="466560" cy="5040"/>
            </a:xfrm>
            <a:prstGeom prst="rect">
              <a:avLst/>
            </a:prstGeom>
            <a:solidFill>
              <a:srgbClr val="393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72000" y="5316840"/>
              <a:ext cx="466560" cy="4680"/>
            </a:xfrm>
            <a:prstGeom prst="rect">
              <a:avLst/>
            </a:prstGeom>
            <a:solidFill>
              <a:srgbClr val="414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7" name="" descr=""/>
            <p:cNvPicPr/>
            <p:nvPr/>
          </p:nvPicPr>
          <p:blipFill>
            <a:blip r:embed="rId21"/>
            <a:stretch/>
          </p:blipFill>
          <p:spPr>
            <a:xfrm>
              <a:off x="4572000" y="531684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4572000" y="5316840"/>
              <a:ext cx="466560" cy="4680"/>
            </a:xfrm>
            <a:prstGeom prst="rect">
              <a:avLst/>
            </a:prstGeom>
            <a:solidFill>
              <a:srgbClr val="414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72000" y="5321520"/>
              <a:ext cx="466560" cy="4680"/>
            </a:xfrm>
            <a:prstGeom prst="rect">
              <a:avLst/>
            </a:prstGeom>
            <a:solidFill>
              <a:srgbClr val="494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0" name="" descr=""/>
            <p:cNvPicPr/>
            <p:nvPr/>
          </p:nvPicPr>
          <p:blipFill>
            <a:blip r:embed="rId22"/>
            <a:stretch/>
          </p:blipFill>
          <p:spPr>
            <a:xfrm>
              <a:off x="4572000" y="532152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4572000" y="5321520"/>
              <a:ext cx="466560" cy="4680"/>
            </a:xfrm>
            <a:prstGeom prst="rect">
              <a:avLst/>
            </a:prstGeom>
            <a:solidFill>
              <a:srgbClr val="494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72000" y="5326200"/>
              <a:ext cx="466560" cy="4680"/>
            </a:xfrm>
            <a:prstGeom prst="rect">
              <a:avLst/>
            </a:prstGeom>
            <a:solidFill>
              <a:srgbClr val="4f4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23"/>
            <a:stretch/>
          </p:blipFill>
          <p:spPr>
            <a:xfrm>
              <a:off x="4572000" y="532620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572000" y="5326200"/>
              <a:ext cx="466560" cy="4680"/>
            </a:xfrm>
            <a:prstGeom prst="rect">
              <a:avLst/>
            </a:prstGeom>
            <a:solidFill>
              <a:srgbClr val="4f4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72000" y="5330880"/>
              <a:ext cx="466560" cy="5040"/>
            </a:xfrm>
            <a:prstGeom prst="rect">
              <a:avLst/>
            </a:prstGeom>
            <a:solidFill>
              <a:srgbClr val="565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6" name="" descr=""/>
            <p:cNvPicPr/>
            <p:nvPr/>
          </p:nvPicPr>
          <p:blipFill>
            <a:blip r:embed="rId24"/>
            <a:stretch/>
          </p:blipFill>
          <p:spPr>
            <a:xfrm>
              <a:off x="4572000" y="5330880"/>
              <a:ext cx="46656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4572000" y="5330880"/>
              <a:ext cx="466560" cy="5040"/>
            </a:xfrm>
            <a:prstGeom prst="rect">
              <a:avLst/>
            </a:prstGeom>
            <a:solidFill>
              <a:srgbClr val="565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72000" y="5335920"/>
              <a:ext cx="466560" cy="4680"/>
            </a:xfrm>
            <a:prstGeom prst="rect">
              <a:avLst/>
            </a:prstGeom>
            <a:solidFill>
              <a:srgbClr val="5b5b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25"/>
            <a:stretch/>
          </p:blipFill>
          <p:spPr>
            <a:xfrm>
              <a:off x="4572000" y="533592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4572000" y="5335920"/>
              <a:ext cx="466560" cy="4680"/>
            </a:xfrm>
            <a:prstGeom prst="rect">
              <a:avLst/>
            </a:prstGeom>
            <a:solidFill>
              <a:srgbClr val="5b5b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72000" y="5340600"/>
              <a:ext cx="466560" cy="4680"/>
            </a:xfrm>
            <a:prstGeom prst="rect">
              <a:avLst/>
            </a:prstGeom>
            <a:solidFill>
              <a:srgbClr val="5f5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26"/>
            <a:stretch/>
          </p:blipFill>
          <p:spPr>
            <a:xfrm>
              <a:off x="4572000" y="534060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4572000" y="5340600"/>
              <a:ext cx="466560" cy="4680"/>
            </a:xfrm>
            <a:prstGeom prst="rect">
              <a:avLst/>
            </a:prstGeom>
            <a:solidFill>
              <a:srgbClr val="5f5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72000" y="5345280"/>
              <a:ext cx="466560" cy="4680"/>
            </a:xfrm>
            <a:prstGeom prst="rect">
              <a:avLst/>
            </a:prstGeom>
            <a:solidFill>
              <a:srgbClr val="616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5" name="" descr=""/>
            <p:cNvPicPr/>
            <p:nvPr/>
          </p:nvPicPr>
          <p:blipFill>
            <a:blip r:embed="rId27"/>
            <a:stretch/>
          </p:blipFill>
          <p:spPr>
            <a:xfrm>
              <a:off x="4572000" y="534528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4572000" y="5345280"/>
              <a:ext cx="466560" cy="4680"/>
            </a:xfrm>
            <a:prstGeom prst="rect">
              <a:avLst/>
            </a:prstGeom>
            <a:solidFill>
              <a:srgbClr val="616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72000" y="5349960"/>
              <a:ext cx="466560" cy="5040"/>
            </a:xfrm>
            <a:prstGeom prst="rect">
              <a:avLst/>
            </a:prstGeom>
            <a:solidFill>
              <a:srgbClr val="64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8" name="" descr=""/>
            <p:cNvPicPr/>
            <p:nvPr/>
          </p:nvPicPr>
          <p:blipFill>
            <a:blip r:embed="rId28"/>
            <a:stretch/>
          </p:blipFill>
          <p:spPr>
            <a:xfrm>
              <a:off x="4572000" y="5349960"/>
              <a:ext cx="46656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4572000" y="5349960"/>
              <a:ext cx="466560" cy="5040"/>
            </a:xfrm>
            <a:prstGeom prst="rect">
              <a:avLst/>
            </a:prstGeom>
            <a:solidFill>
              <a:srgbClr val="64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73440" y="5216760"/>
              <a:ext cx="463680" cy="14112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1" name="" descr=""/>
          <p:cNvPicPr/>
          <p:nvPr/>
        </p:nvPicPr>
        <p:blipFill>
          <a:blip r:embed="rId29"/>
          <a:stretch/>
        </p:blipFill>
        <p:spPr>
          <a:xfrm>
            <a:off x="7308720" y="5019840"/>
            <a:ext cx="641520" cy="360360"/>
          </a:xfrm>
          <a:prstGeom prst="rect">
            <a:avLst/>
          </a:prstGeom>
          <a:ln w="0">
            <a:noFill/>
          </a:ln>
        </p:spPr>
      </p:pic>
      <p:grpSp>
        <p:nvGrpSpPr>
          <p:cNvPr id="662" name=""/>
          <p:cNvGrpSpPr/>
          <p:nvPr/>
        </p:nvGrpSpPr>
        <p:grpSpPr>
          <a:xfrm>
            <a:off x="7104240" y="5175360"/>
            <a:ext cx="285480" cy="106200"/>
            <a:chOff x="7104240" y="5175360"/>
            <a:chExt cx="285480" cy="106200"/>
          </a:xfrm>
        </p:grpSpPr>
        <p:sp>
          <p:nvSpPr>
            <p:cNvPr id="663" name=""/>
            <p:cNvSpPr/>
            <p:nvPr/>
          </p:nvSpPr>
          <p:spPr>
            <a:xfrm>
              <a:off x="7104240" y="5175360"/>
              <a:ext cx="285480" cy="106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04240" y="5175360"/>
              <a:ext cx="285480" cy="106200"/>
            </a:xfrm>
            <a:prstGeom prst="rect">
              <a:avLst/>
            </a:prstGeom>
            <a:solidFill>
              <a:srgbClr val="000099"/>
            </a:soli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958160" y="5160960"/>
            <a:ext cx="466560" cy="142560"/>
            <a:chOff x="7958160" y="5160960"/>
            <a:chExt cx="466560" cy="142560"/>
          </a:xfrm>
        </p:grpSpPr>
        <p:sp>
          <p:nvSpPr>
            <p:cNvPr id="666" name=""/>
            <p:cNvSpPr/>
            <p:nvPr/>
          </p:nvSpPr>
          <p:spPr>
            <a:xfrm>
              <a:off x="7958160" y="5160960"/>
              <a:ext cx="466560" cy="4680"/>
            </a:xfrm>
            <a:prstGeom prst="rect">
              <a:avLst/>
            </a:prstGeom>
            <a:solidFill>
              <a:srgbClr val="666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7" name="" descr=""/>
            <p:cNvPicPr/>
            <p:nvPr/>
          </p:nvPicPr>
          <p:blipFill>
            <a:blip r:embed="rId30"/>
            <a:stretch/>
          </p:blipFill>
          <p:spPr>
            <a:xfrm>
              <a:off x="7958160" y="516096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7958160" y="5160960"/>
              <a:ext cx="466560" cy="4680"/>
            </a:xfrm>
            <a:prstGeom prst="rect">
              <a:avLst/>
            </a:prstGeom>
            <a:solidFill>
              <a:srgbClr val="666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58160" y="5165640"/>
              <a:ext cx="466560" cy="4680"/>
            </a:xfrm>
            <a:prstGeom prst="rect">
              <a:avLst/>
            </a:prstGeom>
            <a:solidFill>
              <a:srgbClr val="64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0" name="" descr=""/>
            <p:cNvPicPr/>
            <p:nvPr/>
          </p:nvPicPr>
          <p:blipFill>
            <a:blip r:embed="rId31"/>
            <a:stretch/>
          </p:blipFill>
          <p:spPr>
            <a:xfrm>
              <a:off x="7958160" y="516564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7958160" y="5165640"/>
              <a:ext cx="466560" cy="4680"/>
            </a:xfrm>
            <a:prstGeom prst="rect">
              <a:avLst/>
            </a:prstGeom>
            <a:solidFill>
              <a:srgbClr val="64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958160" y="5170320"/>
              <a:ext cx="466560" cy="4680"/>
            </a:xfrm>
            <a:prstGeom prst="rect">
              <a:avLst/>
            </a:prstGeom>
            <a:solidFill>
              <a:srgbClr val="616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32"/>
            <a:stretch/>
          </p:blipFill>
          <p:spPr>
            <a:xfrm>
              <a:off x="7958160" y="517032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7958160" y="5170320"/>
              <a:ext cx="466560" cy="4680"/>
            </a:xfrm>
            <a:prstGeom prst="rect">
              <a:avLst/>
            </a:prstGeom>
            <a:solidFill>
              <a:srgbClr val="616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958160" y="5175000"/>
              <a:ext cx="466560" cy="4680"/>
            </a:xfrm>
            <a:prstGeom prst="rect">
              <a:avLst/>
            </a:prstGeom>
            <a:solidFill>
              <a:srgbClr val="5f5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6" name="" descr=""/>
            <p:cNvPicPr/>
            <p:nvPr/>
          </p:nvPicPr>
          <p:blipFill>
            <a:blip r:embed="rId33"/>
            <a:stretch/>
          </p:blipFill>
          <p:spPr>
            <a:xfrm>
              <a:off x="7958160" y="517500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7958160" y="5175000"/>
              <a:ext cx="466560" cy="4680"/>
            </a:xfrm>
            <a:prstGeom prst="rect">
              <a:avLst/>
            </a:prstGeom>
            <a:solidFill>
              <a:srgbClr val="5f5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58160" y="5179680"/>
              <a:ext cx="466560" cy="5040"/>
            </a:xfrm>
            <a:prstGeom prst="rect">
              <a:avLst/>
            </a:prstGeom>
            <a:solidFill>
              <a:srgbClr val="5b5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9" name="" descr=""/>
            <p:cNvPicPr/>
            <p:nvPr/>
          </p:nvPicPr>
          <p:blipFill>
            <a:blip r:embed="rId34"/>
            <a:stretch/>
          </p:blipFill>
          <p:spPr>
            <a:xfrm>
              <a:off x="7958160" y="5179680"/>
              <a:ext cx="46656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7958160" y="5179680"/>
              <a:ext cx="466560" cy="5040"/>
            </a:xfrm>
            <a:prstGeom prst="rect">
              <a:avLst/>
            </a:prstGeom>
            <a:solidFill>
              <a:srgbClr val="5b5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58160" y="5184720"/>
              <a:ext cx="466560" cy="4680"/>
            </a:xfrm>
            <a:prstGeom prst="rect">
              <a:avLst/>
            </a:prstGeom>
            <a:solidFill>
              <a:srgbClr val="565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2" name="" descr=""/>
            <p:cNvPicPr/>
            <p:nvPr/>
          </p:nvPicPr>
          <p:blipFill>
            <a:blip r:embed="rId35"/>
            <a:stretch/>
          </p:blipFill>
          <p:spPr>
            <a:xfrm>
              <a:off x="7958160" y="518472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7958160" y="5184720"/>
              <a:ext cx="466560" cy="4680"/>
            </a:xfrm>
            <a:prstGeom prst="rect">
              <a:avLst/>
            </a:prstGeom>
            <a:solidFill>
              <a:srgbClr val="565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958160" y="5189400"/>
              <a:ext cx="466560" cy="4680"/>
            </a:xfrm>
            <a:prstGeom prst="rect">
              <a:avLst/>
            </a:prstGeom>
            <a:solidFill>
              <a:srgbClr val="4f4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" descr=""/>
            <p:cNvPicPr/>
            <p:nvPr/>
          </p:nvPicPr>
          <p:blipFill>
            <a:blip r:embed="rId36"/>
            <a:stretch/>
          </p:blipFill>
          <p:spPr>
            <a:xfrm>
              <a:off x="7958160" y="518940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7958160" y="5189400"/>
              <a:ext cx="466560" cy="4680"/>
            </a:xfrm>
            <a:prstGeom prst="rect">
              <a:avLst/>
            </a:prstGeom>
            <a:solidFill>
              <a:srgbClr val="4f4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958160" y="5194080"/>
              <a:ext cx="466560" cy="4680"/>
            </a:xfrm>
            <a:prstGeom prst="rect">
              <a:avLst/>
            </a:prstGeom>
            <a:solidFill>
              <a:srgbClr val="494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" descr=""/>
            <p:cNvPicPr/>
            <p:nvPr/>
          </p:nvPicPr>
          <p:blipFill>
            <a:blip r:embed="rId37"/>
            <a:stretch/>
          </p:blipFill>
          <p:spPr>
            <a:xfrm>
              <a:off x="7958160" y="519408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7958160" y="5194080"/>
              <a:ext cx="466560" cy="4680"/>
            </a:xfrm>
            <a:prstGeom prst="rect">
              <a:avLst/>
            </a:prstGeom>
            <a:solidFill>
              <a:srgbClr val="494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958160" y="5198760"/>
              <a:ext cx="466560" cy="5040"/>
            </a:xfrm>
            <a:prstGeom prst="rect">
              <a:avLst/>
            </a:prstGeom>
            <a:solidFill>
              <a:srgbClr val="414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1" name="" descr=""/>
            <p:cNvPicPr/>
            <p:nvPr/>
          </p:nvPicPr>
          <p:blipFill>
            <a:blip r:embed="rId38"/>
            <a:stretch/>
          </p:blipFill>
          <p:spPr>
            <a:xfrm>
              <a:off x="7958160" y="5198760"/>
              <a:ext cx="46656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7958160" y="5198760"/>
              <a:ext cx="466560" cy="5040"/>
            </a:xfrm>
            <a:prstGeom prst="rect">
              <a:avLst/>
            </a:prstGeom>
            <a:solidFill>
              <a:srgbClr val="414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160" y="5203800"/>
              <a:ext cx="466560" cy="4680"/>
            </a:xfrm>
            <a:prstGeom prst="rect">
              <a:avLst/>
            </a:prstGeom>
            <a:solidFill>
              <a:srgbClr val="393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4" name="" descr=""/>
            <p:cNvPicPr/>
            <p:nvPr/>
          </p:nvPicPr>
          <p:blipFill>
            <a:blip r:embed="rId39"/>
            <a:stretch/>
          </p:blipFill>
          <p:spPr>
            <a:xfrm>
              <a:off x="7958160" y="520380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7958160" y="5203800"/>
              <a:ext cx="466560" cy="4680"/>
            </a:xfrm>
            <a:prstGeom prst="rect">
              <a:avLst/>
            </a:prstGeom>
            <a:solidFill>
              <a:srgbClr val="393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958160" y="5208480"/>
              <a:ext cx="466560" cy="4680"/>
            </a:xfrm>
            <a:prstGeom prst="rect">
              <a:avLst/>
            </a:prstGeom>
            <a:solidFill>
              <a:srgbClr val="303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7" name="" descr=""/>
            <p:cNvPicPr/>
            <p:nvPr/>
          </p:nvPicPr>
          <p:blipFill>
            <a:blip r:embed="rId40"/>
            <a:stretch/>
          </p:blipFill>
          <p:spPr>
            <a:xfrm>
              <a:off x="7958160" y="520848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7958160" y="5208480"/>
              <a:ext cx="466560" cy="4680"/>
            </a:xfrm>
            <a:prstGeom prst="rect">
              <a:avLst/>
            </a:prstGeom>
            <a:solidFill>
              <a:srgbClr val="303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958160" y="5213160"/>
              <a:ext cx="466560" cy="4680"/>
            </a:xfrm>
            <a:prstGeom prst="rect">
              <a:avLst/>
            </a:prstGeom>
            <a:solidFill>
              <a:srgbClr val="27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1"/>
            <a:stretch/>
          </p:blipFill>
          <p:spPr>
            <a:xfrm>
              <a:off x="7958160" y="521316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7958160" y="5213160"/>
              <a:ext cx="466560" cy="4680"/>
            </a:xfrm>
            <a:prstGeom prst="rect">
              <a:avLst/>
            </a:prstGeom>
            <a:solidFill>
              <a:srgbClr val="27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958160" y="5217840"/>
              <a:ext cx="466560" cy="5040"/>
            </a:xfrm>
            <a:prstGeom prst="rect">
              <a:avLst/>
            </a:prstGeom>
            <a:solidFill>
              <a:srgbClr val="202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42"/>
            <a:stretch/>
          </p:blipFill>
          <p:spPr>
            <a:xfrm>
              <a:off x="7958160" y="5217840"/>
              <a:ext cx="46656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7958160" y="5217840"/>
              <a:ext cx="466560" cy="5040"/>
            </a:xfrm>
            <a:prstGeom prst="rect">
              <a:avLst/>
            </a:prstGeom>
            <a:solidFill>
              <a:srgbClr val="202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958160" y="5222880"/>
              <a:ext cx="466560" cy="4680"/>
            </a:xfrm>
            <a:prstGeom prst="rect">
              <a:avLst/>
            </a:prstGeom>
            <a:solidFill>
              <a:srgbClr val="1717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6" name="" descr=""/>
            <p:cNvPicPr/>
            <p:nvPr/>
          </p:nvPicPr>
          <p:blipFill>
            <a:blip r:embed="rId43"/>
            <a:stretch/>
          </p:blipFill>
          <p:spPr>
            <a:xfrm>
              <a:off x="7958160" y="522288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7958160" y="5222880"/>
              <a:ext cx="466560" cy="4680"/>
            </a:xfrm>
            <a:prstGeom prst="rect">
              <a:avLst/>
            </a:prstGeom>
            <a:solidFill>
              <a:srgbClr val="1717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958160" y="5227560"/>
              <a:ext cx="466560" cy="4680"/>
            </a:xfrm>
            <a:prstGeom prst="rect">
              <a:avLst/>
            </a:prstGeom>
            <a:solidFill>
              <a:srgbClr val="0a0a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958160" y="5232240"/>
              <a:ext cx="466560" cy="4680"/>
            </a:xfrm>
            <a:prstGeom prst="rect">
              <a:avLst/>
            </a:prstGeom>
            <a:solidFill>
              <a:srgbClr val="030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958160" y="5236920"/>
              <a:ext cx="466560" cy="4680"/>
            </a:xfrm>
            <a:prstGeom prst="rect">
              <a:avLst/>
            </a:prstGeom>
            <a:solidFill>
              <a:srgbClr val="101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958160" y="5241600"/>
              <a:ext cx="466560" cy="5040"/>
            </a:xfrm>
            <a:prstGeom prst="rect">
              <a:avLst/>
            </a:prstGeom>
            <a:solidFill>
              <a:srgbClr val="1c1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2" name="" descr=""/>
            <p:cNvPicPr/>
            <p:nvPr/>
          </p:nvPicPr>
          <p:blipFill>
            <a:blip r:embed="rId44"/>
            <a:stretch/>
          </p:blipFill>
          <p:spPr>
            <a:xfrm>
              <a:off x="7958160" y="5241600"/>
              <a:ext cx="46656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7958160" y="5241600"/>
              <a:ext cx="466560" cy="5040"/>
            </a:xfrm>
            <a:prstGeom prst="rect">
              <a:avLst/>
            </a:prstGeom>
            <a:solidFill>
              <a:srgbClr val="1c1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958160" y="5246640"/>
              <a:ext cx="466560" cy="2880"/>
            </a:xfrm>
            <a:prstGeom prst="rect">
              <a:avLst/>
            </a:prstGeom>
            <a:solidFill>
              <a:srgbClr val="232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5" name="" descr=""/>
            <p:cNvPicPr/>
            <p:nvPr/>
          </p:nvPicPr>
          <p:blipFill>
            <a:blip r:embed="rId45"/>
            <a:stretch/>
          </p:blipFill>
          <p:spPr>
            <a:xfrm>
              <a:off x="7958160" y="5246640"/>
              <a:ext cx="466560" cy="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7958160" y="5246640"/>
              <a:ext cx="466560" cy="2880"/>
            </a:xfrm>
            <a:prstGeom prst="rect">
              <a:avLst/>
            </a:prstGeom>
            <a:solidFill>
              <a:srgbClr val="232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958160" y="5249520"/>
              <a:ext cx="466560" cy="5040"/>
            </a:xfrm>
            <a:prstGeom prst="rect">
              <a:avLst/>
            </a:prstGeom>
            <a:solidFill>
              <a:srgbClr val="2c2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46"/>
            <a:stretch/>
          </p:blipFill>
          <p:spPr>
            <a:xfrm>
              <a:off x="7958160" y="5249520"/>
              <a:ext cx="46656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7958160" y="5249520"/>
              <a:ext cx="466560" cy="5040"/>
            </a:xfrm>
            <a:prstGeom prst="rect">
              <a:avLst/>
            </a:prstGeom>
            <a:solidFill>
              <a:srgbClr val="2c2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58160" y="5254560"/>
              <a:ext cx="466560" cy="4680"/>
            </a:xfrm>
            <a:prstGeom prst="rect">
              <a:avLst/>
            </a:prstGeom>
            <a:solidFill>
              <a:srgbClr val="343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47"/>
            <a:stretch/>
          </p:blipFill>
          <p:spPr>
            <a:xfrm>
              <a:off x="7958160" y="525456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7958160" y="5254560"/>
              <a:ext cx="466560" cy="4680"/>
            </a:xfrm>
            <a:prstGeom prst="rect">
              <a:avLst/>
            </a:prstGeom>
            <a:solidFill>
              <a:srgbClr val="343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958160" y="5259240"/>
              <a:ext cx="466560" cy="4680"/>
            </a:xfrm>
            <a:prstGeom prst="rect">
              <a:avLst/>
            </a:prstGeom>
            <a:solidFill>
              <a:srgbClr val="3c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4" name="" descr=""/>
            <p:cNvPicPr/>
            <p:nvPr/>
          </p:nvPicPr>
          <p:blipFill>
            <a:blip r:embed="rId48"/>
            <a:stretch/>
          </p:blipFill>
          <p:spPr>
            <a:xfrm>
              <a:off x="7958160" y="525924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7958160" y="5259240"/>
              <a:ext cx="466560" cy="4680"/>
            </a:xfrm>
            <a:prstGeom prst="rect">
              <a:avLst/>
            </a:prstGeom>
            <a:solidFill>
              <a:srgbClr val="3c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958160" y="5263920"/>
              <a:ext cx="466560" cy="4680"/>
            </a:xfrm>
            <a:prstGeom prst="rect">
              <a:avLst/>
            </a:prstGeom>
            <a:solidFill>
              <a:srgbClr val="45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" descr=""/>
            <p:cNvPicPr/>
            <p:nvPr/>
          </p:nvPicPr>
          <p:blipFill>
            <a:blip r:embed="rId49"/>
            <a:stretch/>
          </p:blipFill>
          <p:spPr>
            <a:xfrm>
              <a:off x="7958160" y="526392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7958160" y="5263920"/>
              <a:ext cx="466560" cy="4680"/>
            </a:xfrm>
            <a:prstGeom prst="rect">
              <a:avLst/>
            </a:prstGeom>
            <a:solidFill>
              <a:srgbClr val="45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958160" y="5268600"/>
              <a:ext cx="466560" cy="5040"/>
            </a:xfrm>
            <a:prstGeom prst="rect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0" name="" descr=""/>
            <p:cNvPicPr/>
            <p:nvPr/>
          </p:nvPicPr>
          <p:blipFill>
            <a:blip r:embed="rId50"/>
            <a:stretch/>
          </p:blipFill>
          <p:spPr>
            <a:xfrm>
              <a:off x="7958160" y="5268600"/>
              <a:ext cx="46656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7958160" y="5268600"/>
              <a:ext cx="466560" cy="5040"/>
            </a:xfrm>
            <a:prstGeom prst="rect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958160" y="5273640"/>
              <a:ext cx="466560" cy="4680"/>
            </a:xfrm>
            <a:prstGeom prst="rect">
              <a:avLst/>
            </a:prstGeom>
            <a:solidFill>
              <a:srgbClr val="535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3" name="" descr=""/>
            <p:cNvPicPr/>
            <p:nvPr/>
          </p:nvPicPr>
          <p:blipFill>
            <a:blip r:embed="rId51"/>
            <a:stretch/>
          </p:blipFill>
          <p:spPr>
            <a:xfrm>
              <a:off x="7958160" y="527364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7958160" y="5273640"/>
              <a:ext cx="466560" cy="4680"/>
            </a:xfrm>
            <a:prstGeom prst="rect">
              <a:avLst/>
            </a:prstGeom>
            <a:solidFill>
              <a:srgbClr val="535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58160" y="5278320"/>
              <a:ext cx="466560" cy="4680"/>
            </a:xfrm>
            <a:prstGeom prst="rect">
              <a:avLst/>
            </a:prstGeom>
            <a:solidFill>
              <a:srgbClr val="585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52"/>
            <a:stretch/>
          </p:blipFill>
          <p:spPr>
            <a:xfrm>
              <a:off x="7958160" y="527832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7958160" y="5278320"/>
              <a:ext cx="466560" cy="4680"/>
            </a:xfrm>
            <a:prstGeom prst="rect">
              <a:avLst/>
            </a:prstGeom>
            <a:solidFill>
              <a:srgbClr val="585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58160" y="5283000"/>
              <a:ext cx="466560" cy="4680"/>
            </a:xfrm>
            <a:prstGeom prst="rect">
              <a:avLst/>
            </a:prstGeom>
            <a:solidFill>
              <a:srgbClr val="5e5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9" name="" descr=""/>
            <p:cNvPicPr/>
            <p:nvPr/>
          </p:nvPicPr>
          <p:blipFill>
            <a:blip r:embed="rId53"/>
            <a:stretch/>
          </p:blipFill>
          <p:spPr>
            <a:xfrm>
              <a:off x="7958160" y="528300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7958160" y="5283000"/>
              <a:ext cx="466560" cy="4680"/>
            </a:xfrm>
            <a:prstGeom prst="rect">
              <a:avLst/>
            </a:prstGeom>
            <a:solidFill>
              <a:srgbClr val="5e5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58160" y="5287680"/>
              <a:ext cx="466560" cy="5040"/>
            </a:xfrm>
            <a:prstGeom prst="rect">
              <a:avLst/>
            </a:prstGeom>
            <a:solidFill>
              <a:srgbClr val="5f5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2" name="" descr=""/>
            <p:cNvPicPr/>
            <p:nvPr/>
          </p:nvPicPr>
          <p:blipFill>
            <a:blip r:embed="rId54"/>
            <a:stretch/>
          </p:blipFill>
          <p:spPr>
            <a:xfrm>
              <a:off x="7958160" y="5287680"/>
              <a:ext cx="46656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7958160" y="5287680"/>
              <a:ext cx="466560" cy="5040"/>
            </a:xfrm>
            <a:prstGeom prst="rect">
              <a:avLst/>
            </a:prstGeom>
            <a:solidFill>
              <a:srgbClr val="5f5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958160" y="5292720"/>
              <a:ext cx="466560" cy="4680"/>
            </a:xfrm>
            <a:prstGeom prst="rect">
              <a:avLst/>
            </a:prstGeom>
            <a:solidFill>
              <a:srgbClr val="636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5" name="" descr=""/>
            <p:cNvPicPr/>
            <p:nvPr/>
          </p:nvPicPr>
          <p:blipFill>
            <a:blip r:embed="rId55"/>
            <a:stretch/>
          </p:blipFill>
          <p:spPr>
            <a:xfrm>
              <a:off x="7958160" y="529272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7958160" y="5292720"/>
              <a:ext cx="466560" cy="4680"/>
            </a:xfrm>
            <a:prstGeom prst="rect">
              <a:avLst/>
            </a:prstGeom>
            <a:solidFill>
              <a:srgbClr val="636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958160" y="5297400"/>
              <a:ext cx="466560" cy="4680"/>
            </a:xfrm>
            <a:prstGeom prst="rect">
              <a:avLst/>
            </a:prstGeom>
            <a:solidFill>
              <a:srgbClr val="64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8" name="" descr=""/>
            <p:cNvPicPr/>
            <p:nvPr/>
          </p:nvPicPr>
          <p:blipFill>
            <a:blip r:embed="rId56"/>
            <a:stretch/>
          </p:blipFill>
          <p:spPr>
            <a:xfrm>
              <a:off x="7958160" y="529740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7958160" y="5297400"/>
              <a:ext cx="466560" cy="4680"/>
            </a:xfrm>
            <a:prstGeom prst="rect">
              <a:avLst/>
            </a:prstGeom>
            <a:solidFill>
              <a:srgbClr val="64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959600" y="5162400"/>
              <a:ext cx="465120" cy="14112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7389720" y="4406760"/>
            <a:ext cx="177840" cy="71280"/>
            <a:chOff x="7389720" y="4406760"/>
            <a:chExt cx="177840" cy="71280"/>
          </a:xfrm>
        </p:grpSpPr>
        <p:sp>
          <p:nvSpPr>
            <p:cNvPr id="752" name=""/>
            <p:cNvSpPr/>
            <p:nvPr/>
          </p:nvSpPr>
          <p:spPr>
            <a:xfrm>
              <a:off x="7389720" y="4406760"/>
              <a:ext cx="177840" cy="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89720" y="4406760"/>
              <a:ext cx="177840" cy="712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7746840" y="4371840"/>
            <a:ext cx="212760" cy="142920"/>
            <a:chOff x="7746840" y="4371840"/>
            <a:chExt cx="212760" cy="142920"/>
          </a:xfrm>
        </p:grpSpPr>
        <p:sp>
          <p:nvSpPr>
            <p:cNvPr id="755" name=""/>
            <p:cNvSpPr/>
            <p:nvPr/>
          </p:nvSpPr>
          <p:spPr>
            <a:xfrm>
              <a:off x="7746840" y="4371840"/>
              <a:ext cx="212760" cy="142920"/>
            </a:xfrm>
            <a:custGeom>
              <a:avLst/>
              <a:gdLst/>
              <a:ahLst/>
              <a:rect l="l" t="t" r="r" b="b"/>
              <a:pathLst>
                <a:path w="134" h="90">
                  <a:moveTo>
                    <a:pt x="101" y="0"/>
                  </a:moveTo>
                  <a:lnTo>
                    <a:pt x="101" y="23"/>
                  </a:lnTo>
                  <a:lnTo>
                    <a:pt x="0" y="23"/>
                  </a:lnTo>
                  <a:lnTo>
                    <a:pt x="0" y="68"/>
                  </a:lnTo>
                  <a:lnTo>
                    <a:pt x="101" y="68"/>
                  </a:lnTo>
                  <a:lnTo>
                    <a:pt x="101" y="90"/>
                  </a:lnTo>
                  <a:lnTo>
                    <a:pt x="134" y="4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746840" y="4371840"/>
              <a:ext cx="212760" cy="142920"/>
            </a:xfrm>
            <a:custGeom>
              <a:avLst/>
              <a:gdLst/>
              <a:ahLst/>
              <a:rect l="l" t="t" r="r" b="b"/>
              <a:pathLst>
                <a:path w="134" h="90">
                  <a:moveTo>
                    <a:pt x="101" y="0"/>
                  </a:moveTo>
                  <a:lnTo>
                    <a:pt x="101" y="23"/>
                  </a:lnTo>
                  <a:lnTo>
                    <a:pt x="0" y="23"/>
                  </a:lnTo>
                  <a:lnTo>
                    <a:pt x="0" y="68"/>
                  </a:lnTo>
                  <a:lnTo>
                    <a:pt x="101" y="68"/>
                  </a:lnTo>
                  <a:lnTo>
                    <a:pt x="101" y="90"/>
                  </a:lnTo>
                  <a:lnTo>
                    <a:pt x="134" y="45"/>
                  </a:lnTo>
                  <a:lnTo>
                    <a:pt x="101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055480" y="5454720"/>
            <a:ext cx="51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Chiave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91040" y="5591160"/>
            <a:ext cx="57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priv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055480" y="5721480"/>
            <a:ext cx="59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42"/>
                </a:solidFill>
                <a:latin typeface="Arial"/>
              </a:rPr>
              <a:t>gsmS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344720" y="541656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Chi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300800" y="5570640"/>
            <a:ext cx="61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pubblic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307280" y="5699160"/>
            <a:ext cx="592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42"/>
                </a:solidFill>
                <a:latin typeface="Arial"/>
              </a:rPr>
              <a:t>gsmS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598720" y="53625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Fi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026320" y="4646520"/>
            <a:ext cx="63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Fun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33520" y="477360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42"/>
                </a:solidFill>
                <a:latin typeface="Arial"/>
              </a:rPr>
              <a:t>h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378320" y="5396040"/>
            <a:ext cx="65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Message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422600" y="5568840"/>
            <a:ext cx="59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42"/>
                </a:solidFill>
                <a:latin typeface="Arial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30040" y="6162840"/>
            <a:ext cx="59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42"/>
                </a:solidFill>
                <a:latin typeface="Arial"/>
              </a:rPr>
              <a:t>gsmS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308720" y="6195960"/>
            <a:ext cx="55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7958160" y="4359240"/>
            <a:ext cx="466560" cy="142920"/>
            <a:chOff x="7958160" y="4359240"/>
            <a:chExt cx="466560" cy="142920"/>
          </a:xfrm>
        </p:grpSpPr>
        <p:sp>
          <p:nvSpPr>
            <p:cNvPr id="771" name=""/>
            <p:cNvSpPr/>
            <p:nvPr/>
          </p:nvSpPr>
          <p:spPr>
            <a:xfrm>
              <a:off x="7958160" y="4359240"/>
              <a:ext cx="466560" cy="4680"/>
            </a:xfrm>
            <a:prstGeom prst="rect">
              <a:avLst/>
            </a:prstGeom>
            <a:solidFill>
              <a:srgbClr val="666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2" name="" descr=""/>
            <p:cNvPicPr/>
            <p:nvPr/>
          </p:nvPicPr>
          <p:blipFill>
            <a:blip r:embed="rId57"/>
            <a:stretch/>
          </p:blipFill>
          <p:spPr>
            <a:xfrm>
              <a:off x="7958160" y="435924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7958160" y="4359240"/>
              <a:ext cx="466560" cy="4680"/>
            </a:xfrm>
            <a:prstGeom prst="rect">
              <a:avLst/>
            </a:prstGeom>
            <a:solidFill>
              <a:srgbClr val="666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958160" y="4363920"/>
              <a:ext cx="466560" cy="4680"/>
            </a:xfrm>
            <a:prstGeom prst="rect">
              <a:avLst/>
            </a:prstGeom>
            <a:solidFill>
              <a:srgbClr val="64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5" name="" descr=""/>
            <p:cNvPicPr/>
            <p:nvPr/>
          </p:nvPicPr>
          <p:blipFill>
            <a:blip r:embed="rId58"/>
            <a:stretch/>
          </p:blipFill>
          <p:spPr>
            <a:xfrm>
              <a:off x="7958160" y="436392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/>
            <p:nvPr/>
          </p:nvSpPr>
          <p:spPr>
            <a:xfrm>
              <a:off x="7958160" y="4363920"/>
              <a:ext cx="466560" cy="4680"/>
            </a:xfrm>
            <a:prstGeom prst="rect">
              <a:avLst/>
            </a:prstGeom>
            <a:solidFill>
              <a:srgbClr val="64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58160" y="4368600"/>
              <a:ext cx="466560" cy="4680"/>
            </a:xfrm>
            <a:prstGeom prst="rect">
              <a:avLst/>
            </a:prstGeom>
            <a:solidFill>
              <a:srgbClr val="616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8" name="" descr=""/>
            <p:cNvPicPr/>
            <p:nvPr/>
          </p:nvPicPr>
          <p:blipFill>
            <a:blip r:embed="rId59"/>
            <a:stretch/>
          </p:blipFill>
          <p:spPr>
            <a:xfrm>
              <a:off x="7958160" y="436860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7958160" y="4368600"/>
              <a:ext cx="466560" cy="4680"/>
            </a:xfrm>
            <a:prstGeom prst="rect">
              <a:avLst/>
            </a:prstGeom>
            <a:solidFill>
              <a:srgbClr val="616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958160" y="4373280"/>
              <a:ext cx="466560" cy="5040"/>
            </a:xfrm>
            <a:prstGeom prst="rect">
              <a:avLst/>
            </a:prstGeom>
            <a:solidFill>
              <a:srgbClr val="5f5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1" name="" descr=""/>
            <p:cNvPicPr/>
            <p:nvPr/>
          </p:nvPicPr>
          <p:blipFill>
            <a:blip r:embed="rId60"/>
            <a:stretch/>
          </p:blipFill>
          <p:spPr>
            <a:xfrm>
              <a:off x="7958160" y="4373280"/>
              <a:ext cx="46656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7958160" y="4373280"/>
              <a:ext cx="466560" cy="5040"/>
            </a:xfrm>
            <a:prstGeom prst="rect">
              <a:avLst/>
            </a:prstGeom>
            <a:solidFill>
              <a:srgbClr val="5f5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958160" y="4378320"/>
              <a:ext cx="466560" cy="4680"/>
            </a:xfrm>
            <a:prstGeom prst="rect">
              <a:avLst/>
            </a:prstGeom>
            <a:solidFill>
              <a:srgbClr val="5b5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4" name="" descr=""/>
            <p:cNvPicPr/>
            <p:nvPr/>
          </p:nvPicPr>
          <p:blipFill>
            <a:blip r:embed="rId61"/>
            <a:stretch/>
          </p:blipFill>
          <p:spPr>
            <a:xfrm>
              <a:off x="7958160" y="437832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7958160" y="4378320"/>
              <a:ext cx="466560" cy="4680"/>
            </a:xfrm>
            <a:prstGeom prst="rect">
              <a:avLst/>
            </a:prstGeom>
            <a:solidFill>
              <a:srgbClr val="5b5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958160" y="4383000"/>
              <a:ext cx="466560" cy="4680"/>
            </a:xfrm>
            <a:prstGeom prst="rect">
              <a:avLst/>
            </a:prstGeom>
            <a:solidFill>
              <a:srgbClr val="565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7" name="" descr=""/>
            <p:cNvPicPr/>
            <p:nvPr/>
          </p:nvPicPr>
          <p:blipFill>
            <a:blip r:embed="rId62"/>
            <a:stretch/>
          </p:blipFill>
          <p:spPr>
            <a:xfrm>
              <a:off x="7958160" y="438300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7958160" y="4383000"/>
              <a:ext cx="466560" cy="4680"/>
            </a:xfrm>
            <a:prstGeom prst="rect">
              <a:avLst/>
            </a:prstGeom>
            <a:solidFill>
              <a:srgbClr val="565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58160" y="4387680"/>
              <a:ext cx="466560" cy="4680"/>
            </a:xfrm>
            <a:prstGeom prst="rect">
              <a:avLst/>
            </a:prstGeom>
            <a:solidFill>
              <a:srgbClr val="4f4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63"/>
            <a:stretch/>
          </p:blipFill>
          <p:spPr>
            <a:xfrm>
              <a:off x="7958160" y="438768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7958160" y="4387680"/>
              <a:ext cx="466560" cy="4680"/>
            </a:xfrm>
            <a:prstGeom prst="rect">
              <a:avLst/>
            </a:prstGeom>
            <a:solidFill>
              <a:srgbClr val="4f4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58160" y="4392360"/>
              <a:ext cx="466560" cy="4680"/>
            </a:xfrm>
            <a:prstGeom prst="rect">
              <a:avLst/>
            </a:prstGeom>
            <a:solidFill>
              <a:srgbClr val="494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3" name="" descr=""/>
            <p:cNvPicPr/>
            <p:nvPr/>
          </p:nvPicPr>
          <p:blipFill>
            <a:blip r:embed="rId64"/>
            <a:stretch/>
          </p:blipFill>
          <p:spPr>
            <a:xfrm>
              <a:off x="7958160" y="439236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7958160" y="4392360"/>
              <a:ext cx="466560" cy="4680"/>
            </a:xfrm>
            <a:prstGeom prst="rect">
              <a:avLst/>
            </a:prstGeom>
            <a:solidFill>
              <a:srgbClr val="494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58160" y="4397040"/>
              <a:ext cx="466560" cy="5040"/>
            </a:xfrm>
            <a:prstGeom prst="rect">
              <a:avLst/>
            </a:prstGeom>
            <a:solidFill>
              <a:srgbClr val="414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6" name="" descr=""/>
            <p:cNvPicPr/>
            <p:nvPr/>
          </p:nvPicPr>
          <p:blipFill>
            <a:blip r:embed="rId65"/>
            <a:stretch/>
          </p:blipFill>
          <p:spPr>
            <a:xfrm>
              <a:off x="7958160" y="4397040"/>
              <a:ext cx="46656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7958160" y="4397040"/>
              <a:ext cx="466560" cy="5040"/>
            </a:xfrm>
            <a:prstGeom prst="rect">
              <a:avLst/>
            </a:prstGeom>
            <a:solidFill>
              <a:srgbClr val="414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58160" y="4402080"/>
              <a:ext cx="466560" cy="4680"/>
            </a:xfrm>
            <a:prstGeom prst="rect">
              <a:avLst/>
            </a:prstGeom>
            <a:solidFill>
              <a:srgbClr val="393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9" name="" descr=""/>
            <p:cNvPicPr/>
            <p:nvPr/>
          </p:nvPicPr>
          <p:blipFill>
            <a:blip r:embed="rId66"/>
            <a:stretch/>
          </p:blipFill>
          <p:spPr>
            <a:xfrm>
              <a:off x="7958160" y="440208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7958160" y="4402080"/>
              <a:ext cx="466560" cy="4680"/>
            </a:xfrm>
            <a:prstGeom prst="rect">
              <a:avLst/>
            </a:prstGeom>
            <a:solidFill>
              <a:srgbClr val="393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958160" y="4406760"/>
              <a:ext cx="466560" cy="4680"/>
            </a:xfrm>
            <a:prstGeom prst="rect">
              <a:avLst/>
            </a:prstGeom>
            <a:solidFill>
              <a:srgbClr val="303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2" name="" descr=""/>
            <p:cNvPicPr/>
            <p:nvPr/>
          </p:nvPicPr>
          <p:blipFill>
            <a:blip r:embed="rId67"/>
            <a:stretch/>
          </p:blipFill>
          <p:spPr>
            <a:xfrm>
              <a:off x="7958160" y="440676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7958160" y="4406760"/>
              <a:ext cx="466560" cy="4680"/>
            </a:xfrm>
            <a:prstGeom prst="rect">
              <a:avLst/>
            </a:prstGeom>
            <a:solidFill>
              <a:srgbClr val="303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958160" y="4411440"/>
              <a:ext cx="466560" cy="4680"/>
            </a:xfrm>
            <a:prstGeom prst="rect">
              <a:avLst/>
            </a:prstGeom>
            <a:solidFill>
              <a:srgbClr val="27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5" name="" descr=""/>
            <p:cNvPicPr/>
            <p:nvPr/>
          </p:nvPicPr>
          <p:blipFill>
            <a:blip r:embed="rId68"/>
            <a:stretch/>
          </p:blipFill>
          <p:spPr>
            <a:xfrm>
              <a:off x="7958160" y="441144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"/>
            <p:cNvSpPr/>
            <p:nvPr/>
          </p:nvSpPr>
          <p:spPr>
            <a:xfrm>
              <a:off x="7958160" y="4411440"/>
              <a:ext cx="466560" cy="4680"/>
            </a:xfrm>
            <a:prstGeom prst="rect">
              <a:avLst/>
            </a:prstGeom>
            <a:solidFill>
              <a:srgbClr val="27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958160" y="4416120"/>
              <a:ext cx="466560" cy="5040"/>
            </a:xfrm>
            <a:prstGeom prst="rect">
              <a:avLst/>
            </a:prstGeom>
            <a:solidFill>
              <a:srgbClr val="1f1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69"/>
            <a:stretch/>
          </p:blipFill>
          <p:spPr>
            <a:xfrm>
              <a:off x="7958160" y="4416120"/>
              <a:ext cx="46656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7958160" y="4416120"/>
              <a:ext cx="466560" cy="5040"/>
            </a:xfrm>
            <a:prstGeom prst="rect">
              <a:avLst/>
            </a:prstGeom>
            <a:solidFill>
              <a:srgbClr val="1f1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958160" y="4421160"/>
              <a:ext cx="466560" cy="4680"/>
            </a:xfrm>
            <a:prstGeom prst="rect">
              <a:avLst/>
            </a:prstGeom>
            <a:solidFill>
              <a:srgbClr val="1717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70"/>
            <a:stretch/>
          </p:blipFill>
          <p:spPr>
            <a:xfrm>
              <a:off x="7958160" y="442116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7958160" y="4421160"/>
              <a:ext cx="466560" cy="4680"/>
            </a:xfrm>
            <a:prstGeom prst="rect">
              <a:avLst/>
            </a:prstGeom>
            <a:solidFill>
              <a:srgbClr val="1717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958160" y="4425840"/>
              <a:ext cx="466560" cy="4680"/>
            </a:xfrm>
            <a:prstGeom prst="rect">
              <a:avLst/>
            </a:prstGeom>
            <a:solidFill>
              <a:srgbClr val="0a0a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958160" y="4430520"/>
              <a:ext cx="466560" cy="4680"/>
            </a:xfrm>
            <a:prstGeom prst="rect">
              <a:avLst/>
            </a:prstGeom>
            <a:solidFill>
              <a:srgbClr val="030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958160" y="4435200"/>
              <a:ext cx="466560" cy="5040"/>
            </a:xfrm>
            <a:prstGeom prst="rect">
              <a:avLst/>
            </a:prstGeom>
            <a:solidFill>
              <a:srgbClr val="111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958160" y="4440240"/>
              <a:ext cx="466560" cy="4680"/>
            </a:xfrm>
            <a:prstGeom prst="rect">
              <a:avLst/>
            </a:prstGeom>
            <a:solidFill>
              <a:srgbClr val="1c1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7" name="" descr=""/>
            <p:cNvPicPr/>
            <p:nvPr/>
          </p:nvPicPr>
          <p:blipFill>
            <a:blip r:embed="rId71"/>
            <a:stretch/>
          </p:blipFill>
          <p:spPr>
            <a:xfrm>
              <a:off x="7958160" y="444024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7958160" y="4440240"/>
              <a:ext cx="466560" cy="4680"/>
            </a:xfrm>
            <a:prstGeom prst="rect">
              <a:avLst/>
            </a:prstGeom>
            <a:solidFill>
              <a:srgbClr val="1c1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958160" y="4444920"/>
              <a:ext cx="466560" cy="4680"/>
            </a:xfrm>
            <a:prstGeom prst="rect">
              <a:avLst/>
            </a:prstGeom>
            <a:solidFill>
              <a:srgbClr val="232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0" name="" descr=""/>
            <p:cNvPicPr/>
            <p:nvPr/>
          </p:nvPicPr>
          <p:blipFill>
            <a:blip r:embed="rId72"/>
            <a:stretch/>
          </p:blipFill>
          <p:spPr>
            <a:xfrm>
              <a:off x="7958160" y="444492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7958160" y="4444920"/>
              <a:ext cx="466560" cy="4680"/>
            </a:xfrm>
            <a:prstGeom prst="rect">
              <a:avLst/>
            </a:prstGeom>
            <a:solidFill>
              <a:srgbClr val="232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958160" y="4449600"/>
              <a:ext cx="466560" cy="4680"/>
            </a:xfrm>
            <a:prstGeom prst="rect">
              <a:avLst/>
            </a:prstGeom>
            <a:solidFill>
              <a:srgbClr val="2c2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3" name="" descr=""/>
            <p:cNvPicPr/>
            <p:nvPr/>
          </p:nvPicPr>
          <p:blipFill>
            <a:blip r:embed="rId73"/>
            <a:stretch/>
          </p:blipFill>
          <p:spPr>
            <a:xfrm>
              <a:off x="7958160" y="444960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"/>
            <p:cNvSpPr/>
            <p:nvPr/>
          </p:nvSpPr>
          <p:spPr>
            <a:xfrm>
              <a:off x="7958160" y="4449600"/>
              <a:ext cx="466560" cy="4680"/>
            </a:xfrm>
            <a:prstGeom prst="rect">
              <a:avLst/>
            </a:prstGeom>
            <a:solidFill>
              <a:srgbClr val="2c2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958160" y="4454280"/>
              <a:ext cx="466560" cy="3240"/>
            </a:xfrm>
            <a:prstGeom prst="rect">
              <a:avLst/>
            </a:prstGeom>
            <a:solidFill>
              <a:srgbClr val="343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74"/>
            <a:stretch/>
          </p:blipFill>
          <p:spPr>
            <a:xfrm>
              <a:off x="7958160" y="4454280"/>
              <a:ext cx="466560" cy="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"/>
            <p:cNvSpPr/>
            <p:nvPr/>
          </p:nvSpPr>
          <p:spPr>
            <a:xfrm>
              <a:off x="7958160" y="4454280"/>
              <a:ext cx="466560" cy="3240"/>
            </a:xfrm>
            <a:prstGeom prst="rect">
              <a:avLst/>
            </a:prstGeom>
            <a:solidFill>
              <a:srgbClr val="343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958160" y="4457520"/>
              <a:ext cx="466560" cy="4680"/>
            </a:xfrm>
            <a:prstGeom prst="rect">
              <a:avLst/>
            </a:prstGeom>
            <a:solidFill>
              <a:srgbClr val="3c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9" name="" descr=""/>
            <p:cNvPicPr/>
            <p:nvPr/>
          </p:nvPicPr>
          <p:blipFill>
            <a:blip r:embed="rId75"/>
            <a:stretch/>
          </p:blipFill>
          <p:spPr>
            <a:xfrm>
              <a:off x="7958160" y="445752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7958160" y="4457520"/>
              <a:ext cx="466560" cy="4680"/>
            </a:xfrm>
            <a:prstGeom prst="rect">
              <a:avLst/>
            </a:prstGeom>
            <a:solidFill>
              <a:srgbClr val="3c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958160" y="4462200"/>
              <a:ext cx="466560" cy="4680"/>
            </a:xfrm>
            <a:prstGeom prst="rect">
              <a:avLst/>
            </a:prstGeom>
            <a:solidFill>
              <a:srgbClr val="45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2" name="" descr=""/>
            <p:cNvPicPr/>
            <p:nvPr/>
          </p:nvPicPr>
          <p:blipFill>
            <a:blip r:embed="rId76"/>
            <a:stretch/>
          </p:blipFill>
          <p:spPr>
            <a:xfrm>
              <a:off x="7958160" y="446220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>
              <a:off x="7958160" y="4462200"/>
              <a:ext cx="466560" cy="4680"/>
            </a:xfrm>
            <a:prstGeom prst="rect">
              <a:avLst/>
            </a:prstGeom>
            <a:solidFill>
              <a:srgbClr val="45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958160" y="4466880"/>
              <a:ext cx="466560" cy="5040"/>
            </a:xfrm>
            <a:prstGeom prst="rect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5" name="" descr=""/>
            <p:cNvPicPr/>
            <p:nvPr/>
          </p:nvPicPr>
          <p:blipFill>
            <a:blip r:embed="rId77"/>
            <a:stretch/>
          </p:blipFill>
          <p:spPr>
            <a:xfrm>
              <a:off x="7958160" y="4466880"/>
              <a:ext cx="46656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7958160" y="4466880"/>
              <a:ext cx="466560" cy="5040"/>
            </a:xfrm>
            <a:prstGeom prst="rect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958160" y="4471920"/>
              <a:ext cx="466560" cy="4680"/>
            </a:xfrm>
            <a:prstGeom prst="rect">
              <a:avLst/>
            </a:prstGeom>
            <a:solidFill>
              <a:srgbClr val="535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8" name="" descr=""/>
            <p:cNvPicPr/>
            <p:nvPr/>
          </p:nvPicPr>
          <p:blipFill>
            <a:blip r:embed="rId78"/>
            <a:stretch/>
          </p:blipFill>
          <p:spPr>
            <a:xfrm>
              <a:off x="7958160" y="447192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7958160" y="4471920"/>
              <a:ext cx="466560" cy="4680"/>
            </a:xfrm>
            <a:prstGeom prst="rect">
              <a:avLst/>
            </a:prstGeom>
            <a:solidFill>
              <a:srgbClr val="535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958160" y="4476600"/>
              <a:ext cx="466560" cy="4680"/>
            </a:xfrm>
            <a:prstGeom prst="rect">
              <a:avLst/>
            </a:prstGeom>
            <a:solidFill>
              <a:srgbClr val="585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1" name="" descr=""/>
            <p:cNvPicPr/>
            <p:nvPr/>
          </p:nvPicPr>
          <p:blipFill>
            <a:blip r:embed="rId79"/>
            <a:stretch/>
          </p:blipFill>
          <p:spPr>
            <a:xfrm>
              <a:off x="7958160" y="447660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7958160" y="4476600"/>
              <a:ext cx="466560" cy="4680"/>
            </a:xfrm>
            <a:prstGeom prst="rect">
              <a:avLst/>
            </a:prstGeom>
            <a:solidFill>
              <a:srgbClr val="585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958160" y="4481280"/>
              <a:ext cx="466560" cy="4680"/>
            </a:xfrm>
            <a:prstGeom prst="rect">
              <a:avLst/>
            </a:prstGeom>
            <a:solidFill>
              <a:srgbClr val="5e5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4" name="" descr=""/>
            <p:cNvPicPr/>
            <p:nvPr/>
          </p:nvPicPr>
          <p:blipFill>
            <a:blip r:embed="rId80"/>
            <a:stretch/>
          </p:blipFill>
          <p:spPr>
            <a:xfrm>
              <a:off x="7958160" y="448128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"/>
            <p:cNvSpPr/>
            <p:nvPr/>
          </p:nvSpPr>
          <p:spPr>
            <a:xfrm>
              <a:off x="7958160" y="4481280"/>
              <a:ext cx="466560" cy="4680"/>
            </a:xfrm>
            <a:prstGeom prst="rect">
              <a:avLst/>
            </a:prstGeom>
            <a:solidFill>
              <a:srgbClr val="5e5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958160" y="4485960"/>
              <a:ext cx="466560" cy="5040"/>
            </a:xfrm>
            <a:prstGeom prst="rect">
              <a:avLst/>
            </a:prstGeom>
            <a:solidFill>
              <a:srgbClr val="5f5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7" name="" descr=""/>
            <p:cNvPicPr/>
            <p:nvPr/>
          </p:nvPicPr>
          <p:blipFill>
            <a:blip r:embed="rId81"/>
            <a:stretch/>
          </p:blipFill>
          <p:spPr>
            <a:xfrm>
              <a:off x="7958160" y="4485960"/>
              <a:ext cx="466560" cy="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7958160" y="4485960"/>
              <a:ext cx="466560" cy="5040"/>
            </a:xfrm>
            <a:prstGeom prst="rect">
              <a:avLst/>
            </a:prstGeom>
            <a:solidFill>
              <a:srgbClr val="5f5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958160" y="4491000"/>
              <a:ext cx="466560" cy="4680"/>
            </a:xfrm>
            <a:prstGeom prst="rect">
              <a:avLst/>
            </a:prstGeom>
            <a:solidFill>
              <a:srgbClr val="636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0" name="" descr=""/>
            <p:cNvPicPr/>
            <p:nvPr/>
          </p:nvPicPr>
          <p:blipFill>
            <a:blip r:embed="rId82"/>
            <a:stretch/>
          </p:blipFill>
          <p:spPr>
            <a:xfrm>
              <a:off x="7958160" y="449100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7958160" y="4491000"/>
              <a:ext cx="466560" cy="4680"/>
            </a:xfrm>
            <a:prstGeom prst="rect">
              <a:avLst/>
            </a:prstGeom>
            <a:solidFill>
              <a:srgbClr val="636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958160" y="4495680"/>
              <a:ext cx="466560" cy="4680"/>
            </a:xfrm>
            <a:prstGeom prst="rect">
              <a:avLst/>
            </a:prstGeom>
            <a:solidFill>
              <a:srgbClr val="64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3" name="" descr=""/>
            <p:cNvPicPr/>
            <p:nvPr/>
          </p:nvPicPr>
          <p:blipFill>
            <a:blip r:embed="rId83"/>
            <a:stretch/>
          </p:blipFill>
          <p:spPr>
            <a:xfrm>
              <a:off x="7958160" y="4495680"/>
              <a:ext cx="46656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"/>
            <p:cNvSpPr/>
            <p:nvPr/>
          </p:nvSpPr>
          <p:spPr>
            <a:xfrm>
              <a:off x="7958160" y="4495680"/>
              <a:ext cx="466560" cy="4680"/>
            </a:xfrm>
            <a:prstGeom prst="rect">
              <a:avLst/>
            </a:prstGeom>
            <a:solidFill>
              <a:srgbClr val="646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959600" y="4360680"/>
              <a:ext cx="465120" cy="1414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8124840" y="4743360"/>
            <a:ext cx="1440" cy="1890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201160" y="4743360"/>
            <a:ext cx="1440" cy="1890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8326440" y="4732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4680000" y="4324320"/>
            <a:ext cx="285480" cy="106200"/>
            <a:chOff x="4680000" y="4324320"/>
            <a:chExt cx="285480" cy="106200"/>
          </a:xfrm>
        </p:grpSpPr>
        <p:sp>
          <p:nvSpPr>
            <p:cNvPr id="860" name=""/>
            <p:cNvSpPr/>
            <p:nvPr/>
          </p:nvSpPr>
          <p:spPr>
            <a:xfrm>
              <a:off x="4680000" y="4324320"/>
              <a:ext cx="285480" cy="106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680000" y="4324320"/>
              <a:ext cx="285480" cy="10620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4680000" y="4430880"/>
            <a:ext cx="285480" cy="107640"/>
            <a:chOff x="4680000" y="4430880"/>
            <a:chExt cx="285480" cy="107640"/>
          </a:xfrm>
        </p:grpSpPr>
        <p:sp>
          <p:nvSpPr>
            <p:cNvPr id="863" name=""/>
            <p:cNvSpPr/>
            <p:nvPr/>
          </p:nvSpPr>
          <p:spPr>
            <a:xfrm>
              <a:off x="4680000" y="4430880"/>
              <a:ext cx="285480" cy="107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680000" y="4430880"/>
              <a:ext cx="285480" cy="1076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5927760" y="4678200"/>
            <a:ext cx="1141200" cy="214200"/>
            <a:chOff x="5927760" y="4678200"/>
            <a:chExt cx="1141200" cy="214200"/>
          </a:xfrm>
        </p:grpSpPr>
        <p:sp>
          <p:nvSpPr>
            <p:cNvPr id="866" name=""/>
            <p:cNvSpPr/>
            <p:nvPr/>
          </p:nvSpPr>
          <p:spPr>
            <a:xfrm>
              <a:off x="5927760" y="4678200"/>
              <a:ext cx="1141200" cy="214200"/>
            </a:xfrm>
            <a:custGeom>
              <a:avLst/>
              <a:gdLst/>
              <a:ahLst/>
              <a:rect l="l" t="t" r="r" b="b"/>
              <a:pathLst>
                <a:path w="719" h="135">
                  <a:moveTo>
                    <a:pt x="539" y="0"/>
                  </a:moveTo>
                  <a:lnTo>
                    <a:pt x="539" y="34"/>
                  </a:lnTo>
                  <a:lnTo>
                    <a:pt x="0" y="34"/>
                  </a:lnTo>
                  <a:lnTo>
                    <a:pt x="0" y="101"/>
                  </a:lnTo>
                  <a:lnTo>
                    <a:pt x="539" y="101"/>
                  </a:lnTo>
                  <a:lnTo>
                    <a:pt x="539" y="135"/>
                  </a:lnTo>
                  <a:lnTo>
                    <a:pt x="719" y="68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e0e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927760" y="4678200"/>
              <a:ext cx="1141200" cy="214200"/>
            </a:xfrm>
            <a:custGeom>
              <a:avLst/>
              <a:gdLst/>
              <a:ahLst/>
              <a:rect l="l" t="t" r="r" b="b"/>
              <a:pathLst>
                <a:path w="719" h="135">
                  <a:moveTo>
                    <a:pt x="539" y="0"/>
                  </a:moveTo>
                  <a:lnTo>
                    <a:pt x="539" y="34"/>
                  </a:lnTo>
                  <a:lnTo>
                    <a:pt x="0" y="34"/>
                  </a:lnTo>
                  <a:lnTo>
                    <a:pt x="0" y="101"/>
                  </a:lnTo>
                  <a:lnTo>
                    <a:pt x="539" y="101"/>
                  </a:lnTo>
                  <a:lnTo>
                    <a:pt x="539" y="135"/>
                  </a:lnTo>
                  <a:lnTo>
                    <a:pt x="719" y="68"/>
                  </a:lnTo>
                  <a:lnTo>
                    <a:pt x="539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6213600" y="4856040"/>
            <a:ext cx="284040" cy="108000"/>
            <a:chOff x="6213600" y="4856040"/>
            <a:chExt cx="284040" cy="108000"/>
          </a:xfrm>
        </p:grpSpPr>
        <p:sp>
          <p:nvSpPr>
            <p:cNvPr id="869" name=""/>
            <p:cNvSpPr/>
            <p:nvPr/>
          </p:nvSpPr>
          <p:spPr>
            <a:xfrm>
              <a:off x="6213600" y="4856040"/>
              <a:ext cx="284040" cy="10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13600" y="4856040"/>
              <a:ext cx="284040" cy="108000"/>
            </a:xfrm>
            <a:prstGeom prst="rect">
              <a:avLst/>
            </a:prstGeom>
            <a:solidFill>
              <a:srgbClr val="000099"/>
            </a:soli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6207120" y="4545000"/>
            <a:ext cx="285840" cy="106200"/>
            <a:chOff x="6207120" y="4545000"/>
            <a:chExt cx="285840" cy="106200"/>
          </a:xfrm>
        </p:grpSpPr>
        <p:sp>
          <p:nvSpPr>
            <p:cNvPr id="872" name=""/>
            <p:cNvSpPr/>
            <p:nvPr/>
          </p:nvSpPr>
          <p:spPr>
            <a:xfrm>
              <a:off x="6207120" y="4545000"/>
              <a:ext cx="285840" cy="106200"/>
            </a:xfrm>
            <a:prstGeom prst="rect">
              <a:avLst/>
            </a:prstGeom>
            <a:solidFill>
              <a:srgbClr val="000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07120" y="4545000"/>
              <a:ext cx="285840" cy="106200"/>
            </a:xfrm>
            <a:prstGeom prst="rect">
              <a:avLst/>
            </a:prstGeom>
            <a:solidFill>
              <a:srgbClr val="0000d0"/>
            </a:soli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6213600" y="4646520"/>
            <a:ext cx="284040" cy="106560"/>
            <a:chOff x="6213600" y="4646520"/>
            <a:chExt cx="284040" cy="106560"/>
          </a:xfrm>
        </p:grpSpPr>
        <p:sp>
          <p:nvSpPr>
            <p:cNvPr id="875" name=""/>
            <p:cNvSpPr/>
            <p:nvPr/>
          </p:nvSpPr>
          <p:spPr>
            <a:xfrm>
              <a:off x="6213600" y="4646520"/>
              <a:ext cx="284040" cy="106560"/>
            </a:xfrm>
            <a:prstGeom prst="rect">
              <a:avLst/>
            </a:prstGeom>
            <a:solidFill>
              <a:srgbClr val="000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213600" y="4646520"/>
              <a:ext cx="284040" cy="106560"/>
            </a:xfrm>
            <a:prstGeom prst="rect">
              <a:avLst/>
            </a:prstGeom>
            <a:solidFill>
              <a:srgbClr val="0000d0"/>
            </a:soli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6207120" y="4743360"/>
            <a:ext cx="285840" cy="108000"/>
            <a:chOff x="6207120" y="4743360"/>
            <a:chExt cx="285840" cy="108000"/>
          </a:xfrm>
        </p:grpSpPr>
        <p:sp>
          <p:nvSpPr>
            <p:cNvPr id="878" name=""/>
            <p:cNvSpPr/>
            <p:nvPr/>
          </p:nvSpPr>
          <p:spPr>
            <a:xfrm>
              <a:off x="6207120" y="4743360"/>
              <a:ext cx="285840" cy="108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07120" y="4743360"/>
              <a:ext cx="285840" cy="10800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7105680" y="4276800"/>
            <a:ext cx="285480" cy="106200"/>
            <a:chOff x="7105680" y="4276800"/>
            <a:chExt cx="285480" cy="106200"/>
          </a:xfrm>
        </p:grpSpPr>
        <p:sp>
          <p:nvSpPr>
            <p:cNvPr id="881" name=""/>
            <p:cNvSpPr/>
            <p:nvPr/>
          </p:nvSpPr>
          <p:spPr>
            <a:xfrm>
              <a:off x="7105680" y="4276800"/>
              <a:ext cx="285480" cy="106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105680" y="4276800"/>
              <a:ext cx="285480" cy="10620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7105680" y="4383000"/>
            <a:ext cx="285480" cy="106200"/>
            <a:chOff x="7105680" y="4383000"/>
            <a:chExt cx="285480" cy="106200"/>
          </a:xfrm>
        </p:grpSpPr>
        <p:sp>
          <p:nvSpPr>
            <p:cNvPr id="884" name=""/>
            <p:cNvSpPr/>
            <p:nvPr/>
          </p:nvSpPr>
          <p:spPr>
            <a:xfrm>
              <a:off x="7105680" y="4383000"/>
              <a:ext cx="285480" cy="106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105680" y="4383000"/>
              <a:ext cx="285480" cy="10620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105680" y="4489560"/>
            <a:ext cx="285480" cy="108000"/>
            <a:chOff x="7105680" y="4489560"/>
            <a:chExt cx="285480" cy="108000"/>
          </a:xfrm>
        </p:grpSpPr>
        <p:sp>
          <p:nvSpPr>
            <p:cNvPr id="887" name=""/>
            <p:cNvSpPr/>
            <p:nvPr/>
          </p:nvSpPr>
          <p:spPr>
            <a:xfrm>
              <a:off x="7105680" y="4489560"/>
              <a:ext cx="285480" cy="108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105680" y="4489560"/>
              <a:ext cx="285480" cy="10800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4211640" y="2095560"/>
            <a:ext cx="4392720" cy="1511280"/>
            <a:chOff x="4211640" y="2095560"/>
            <a:chExt cx="4392720" cy="1511280"/>
          </a:xfrm>
        </p:grpSpPr>
        <p:sp>
          <p:nvSpPr>
            <p:cNvPr id="890" name=""/>
            <p:cNvSpPr/>
            <p:nvPr/>
          </p:nvSpPr>
          <p:spPr>
            <a:xfrm>
              <a:off x="4211640" y="2095560"/>
              <a:ext cx="4392720" cy="1511280"/>
            </a:xfrm>
            <a:prstGeom prst="rect">
              <a:avLst/>
            </a:prstGeom>
            <a:gradFill rotWithShape="0">
              <a:gsLst>
                <a:gs pos="0">
                  <a:srgbClr val="fbe9b5"/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0000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7039080" y="2268720"/>
              <a:ext cx="1315440" cy="885600"/>
              <a:chOff x="7039080" y="2268720"/>
              <a:chExt cx="1315440" cy="885600"/>
            </a:xfrm>
          </p:grpSpPr>
          <p:sp>
            <p:nvSpPr>
              <p:cNvPr id="892" name=""/>
              <p:cNvSpPr/>
              <p:nvPr/>
            </p:nvSpPr>
            <p:spPr>
              <a:xfrm>
                <a:off x="7039080" y="2268720"/>
                <a:ext cx="1315440" cy="885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039080" y="2268720"/>
                <a:ext cx="1315440" cy="88560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4" name="" descr=""/>
            <p:cNvPicPr/>
            <p:nvPr/>
          </p:nvPicPr>
          <p:blipFill>
            <a:blip r:embed="rId84"/>
            <a:stretch/>
          </p:blipFill>
          <p:spPr>
            <a:xfrm>
              <a:off x="5086440" y="2902320"/>
              <a:ext cx="19980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" descr=""/>
            <p:cNvPicPr/>
            <p:nvPr/>
          </p:nvPicPr>
          <p:blipFill>
            <a:blip r:embed="rId85"/>
            <a:stretch/>
          </p:blipFill>
          <p:spPr>
            <a:xfrm>
              <a:off x="7327800" y="2565720"/>
              <a:ext cx="409680" cy="42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6" name=""/>
            <p:cNvGrpSpPr/>
            <p:nvPr/>
          </p:nvGrpSpPr>
          <p:grpSpPr>
            <a:xfrm>
              <a:off x="5729400" y="2822760"/>
              <a:ext cx="1272600" cy="444240"/>
              <a:chOff x="5729400" y="2822760"/>
              <a:chExt cx="1272600" cy="444240"/>
            </a:xfrm>
          </p:grpSpPr>
          <p:sp>
            <p:nvSpPr>
              <p:cNvPr id="897" name=""/>
              <p:cNvSpPr/>
              <p:nvPr/>
            </p:nvSpPr>
            <p:spPr>
              <a:xfrm>
                <a:off x="5729400" y="2822760"/>
                <a:ext cx="1272600" cy="444240"/>
              </a:xfrm>
              <a:custGeom>
                <a:avLst/>
                <a:gdLst/>
                <a:ahLst/>
                <a:rect l="l" t="t" r="r" b="b"/>
                <a:pathLst>
                  <a:path w="768" h="262">
                    <a:moveTo>
                      <a:pt x="0" y="131"/>
                    </a:moveTo>
                    <a:lnTo>
                      <a:pt x="154" y="262"/>
                    </a:lnTo>
                    <a:lnTo>
                      <a:pt x="154" y="196"/>
                    </a:lnTo>
                    <a:lnTo>
                      <a:pt x="615" y="196"/>
                    </a:lnTo>
                    <a:lnTo>
                      <a:pt x="615" y="262"/>
                    </a:lnTo>
                    <a:lnTo>
                      <a:pt x="768" y="131"/>
                    </a:lnTo>
                    <a:lnTo>
                      <a:pt x="615" y="0"/>
                    </a:lnTo>
                    <a:lnTo>
                      <a:pt x="615" y="65"/>
                    </a:lnTo>
                    <a:lnTo>
                      <a:pt x="154" y="65"/>
                    </a:lnTo>
                    <a:lnTo>
                      <a:pt x="154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729400" y="2822760"/>
                <a:ext cx="1272600" cy="444240"/>
              </a:xfrm>
              <a:custGeom>
                <a:avLst/>
                <a:gdLst/>
                <a:ahLst/>
                <a:rect l="l" t="t" r="r" b="b"/>
                <a:pathLst>
                  <a:path w="768" h="262">
                    <a:moveTo>
                      <a:pt x="0" y="131"/>
                    </a:moveTo>
                    <a:lnTo>
                      <a:pt x="154" y="262"/>
                    </a:lnTo>
                    <a:lnTo>
                      <a:pt x="154" y="196"/>
                    </a:lnTo>
                    <a:lnTo>
                      <a:pt x="615" y="196"/>
                    </a:lnTo>
                    <a:lnTo>
                      <a:pt x="615" y="262"/>
                    </a:lnTo>
                    <a:lnTo>
                      <a:pt x="768" y="131"/>
                    </a:lnTo>
                    <a:lnTo>
                      <a:pt x="615" y="0"/>
                    </a:lnTo>
                    <a:lnTo>
                      <a:pt x="615" y="65"/>
                    </a:lnTo>
                    <a:lnTo>
                      <a:pt x="154" y="65"/>
                    </a:lnTo>
                    <a:lnTo>
                      <a:pt x="154" y="0"/>
                    </a:lnTo>
                    <a:lnTo>
                      <a:pt x="0" y="131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>
              <a:off x="6251400" y="2949840"/>
              <a:ext cx="30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Re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738680" y="2751480"/>
              <a:ext cx="246240" cy="50760"/>
            </a:xfrm>
            <a:custGeom>
              <a:avLst/>
              <a:gdLst/>
              <a:ahLst/>
              <a:rect l="l" t="t" r="r" b="b"/>
              <a:pathLst>
                <a:path w="149" h="30">
                  <a:moveTo>
                    <a:pt x="0" y="10"/>
                  </a:moveTo>
                  <a:lnTo>
                    <a:pt x="124" y="1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10"/>
                  </a:lnTo>
                  <a:close/>
                  <a:moveTo>
                    <a:pt x="119" y="0"/>
                  </a:moveTo>
                  <a:lnTo>
                    <a:pt x="149" y="15"/>
                  </a:lnTo>
                  <a:lnTo>
                    <a:pt x="119" y="3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778880" y="2706840"/>
              <a:ext cx="214200" cy="50760"/>
            </a:xfrm>
            <a:custGeom>
              <a:avLst/>
              <a:gdLst/>
              <a:ahLst/>
              <a:rect l="l" t="t" r="r" b="b"/>
              <a:pathLst>
                <a:path w="130" h="30">
                  <a:moveTo>
                    <a:pt x="0" y="10"/>
                  </a:moveTo>
                  <a:lnTo>
                    <a:pt x="106" y="10"/>
                  </a:lnTo>
                  <a:lnTo>
                    <a:pt x="105" y="20"/>
                  </a:lnTo>
                  <a:lnTo>
                    <a:pt x="0" y="20"/>
                  </a:lnTo>
                  <a:lnTo>
                    <a:pt x="0" y="10"/>
                  </a:lnTo>
                  <a:close/>
                  <a:moveTo>
                    <a:pt x="101" y="0"/>
                  </a:moveTo>
                  <a:lnTo>
                    <a:pt x="130" y="15"/>
                  </a:lnTo>
                  <a:lnTo>
                    <a:pt x="101" y="3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342560" y="2359080"/>
              <a:ext cx="56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hiave privat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36440" y="246708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l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8024760" y="2521080"/>
              <a:ext cx="245880" cy="294840"/>
              <a:chOff x="8024760" y="2521080"/>
              <a:chExt cx="245880" cy="294840"/>
            </a:xfrm>
          </p:grpSpPr>
          <p:sp>
            <p:nvSpPr>
              <p:cNvPr id="905" name=""/>
              <p:cNvSpPr/>
              <p:nvPr/>
            </p:nvSpPr>
            <p:spPr>
              <a:xfrm>
                <a:off x="8024760" y="2521080"/>
                <a:ext cx="245880" cy="2948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024760" y="2521080"/>
                <a:ext cx="245880" cy="29484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"/>
            <p:cNvSpPr/>
            <p:nvPr/>
          </p:nvSpPr>
          <p:spPr>
            <a:xfrm>
              <a:off x="8013600" y="2830680"/>
              <a:ext cx="371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essaggi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04480" y="3248280"/>
              <a:ext cx="59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42"/>
                  </a:solidFill>
                  <a:latin typeface="Arial"/>
                </a:rPr>
                <a:t>gsmSC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9" name="" descr=""/>
            <p:cNvPicPr/>
            <p:nvPr/>
          </p:nvPicPr>
          <p:blipFill>
            <a:blip r:embed="rId86"/>
            <a:stretch/>
          </p:blipFill>
          <p:spPr>
            <a:xfrm>
              <a:off x="5027760" y="2605320"/>
              <a:ext cx="409320" cy="42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0" name=""/>
            <p:cNvGrpSpPr/>
            <p:nvPr/>
          </p:nvGrpSpPr>
          <p:grpSpPr>
            <a:xfrm>
              <a:off x="6013440" y="2648160"/>
              <a:ext cx="696600" cy="167760"/>
              <a:chOff x="6013440" y="2648160"/>
              <a:chExt cx="696600" cy="167760"/>
            </a:xfrm>
          </p:grpSpPr>
          <p:sp>
            <p:nvSpPr>
              <p:cNvPr id="911" name=""/>
              <p:cNvSpPr/>
              <p:nvPr/>
            </p:nvSpPr>
            <p:spPr>
              <a:xfrm>
                <a:off x="6013440" y="2648160"/>
                <a:ext cx="696600" cy="16776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013440" y="2648160"/>
                <a:ext cx="696600" cy="16776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>
              <a:off x="6089400" y="2679840"/>
              <a:ext cx="643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600" spc="-1" strike="noStrike">
                  <a:solidFill>
                    <a:srgbClr val="000000"/>
                  </a:solidFill>
                  <a:latin typeface="Arial"/>
                </a:rPr>
                <a:t>Messaggio criptat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7016760" y="2251440"/>
              <a:ext cx="1433160" cy="961560"/>
              <a:chOff x="7016760" y="2251440"/>
              <a:chExt cx="1433160" cy="961560"/>
            </a:xfrm>
          </p:grpSpPr>
          <p:sp>
            <p:nvSpPr>
              <p:cNvPr id="915" name=""/>
              <p:cNvSpPr/>
              <p:nvPr/>
            </p:nvSpPr>
            <p:spPr>
              <a:xfrm>
                <a:off x="7016760" y="2251440"/>
                <a:ext cx="1433160" cy="9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016760" y="2251440"/>
                <a:ext cx="1433160" cy="96156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7" name="" descr=""/>
            <p:cNvPicPr/>
            <p:nvPr/>
          </p:nvPicPr>
          <p:blipFill>
            <a:blip r:embed="rId87"/>
            <a:stretch/>
          </p:blipFill>
          <p:spPr>
            <a:xfrm>
              <a:off x="5086440" y="2902320"/>
              <a:ext cx="19980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" descr=""/>
            <p:cNvPicPr/>
            <p:nvPr/>
          </p:nvPicPr>
          <p:blipFill>
            <a:blip r:embed="rId88"/>
            <a:stretch/>
          </p:blipFill>
          <p:spPr>
            <a:xfrm>
              <a:off x="7319880" y="2575080"/>
              <a:ext cx="409680" cy="42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9" name=""/>
            <p:cNvGrpSpPr/>
            <p:nvPr/>
          </p:nvGrpSpPr>
          <p:grpSpPr>
            <a:xfrm>
              <a:off x="5729400" y="2822760"/>
              <a:ext cx="1272600" cy="444240"/>
              <a:chOff x="5729400" y="2822760"/>
              <a:chExt cx="1272600" cy="444240"/>
            </a:xfrm>
          </p:grpSpPr>
          <p:sp>
            <p:nvSpPr>
              <p:cNvPr id="920" name=""/>
              <p:cNvSpPr/>
              <p:nvPr/>
            </p:nvSpPr>
            <p:spPr>
              <a:xfrm>
                <a:off x="5729400" y="2822760"/>
                <a:ext cx="1272600" cy="444240"/>
              </a:xfrm>
              <a:custGeom>
                <a:avLst/>
                <a:gdLst/>
                <a:ahLst/>
                <a:rect l="l" t="t" r="r" b="b"/>
                <a:pathLst>
                  <a:path w="768" h="262">
                    <a:moveTo>
                      <a:pt x="0" y="131"/>
                    </a:moveTo>
                    <a:lnTo>
                      <a:pt x="154" y="262"/>
                    </a:lnTo>
                    <a:lnTo>
                      <a:pt x="154" y="196"/>
                    </a:lnTo>
                    <a:lnTo>
                      <a:pt x="615" y="196"/>
                    </a:lnTo>
                    <a:lnTo>
                      <a:pt x="615" y="262"/>
                    </a:lnTo>
                    <a:lnTo>
                      <a:pt x="768" y="131"/>
                    </a:lnTo>
                    <a:lnTo>
                      <a:pt x="615" y="0"/>
                    </a:lnTo>
                    <a:lnTo>
                      <a:pt x="615" y="65"/>
                    </a:lnTo>
                    <a:lnTo>
                      <a:pt x="154" y="65"/>
                    </a:lnTo>
                    <a:lnTo>
                      <a:pt x="154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e3e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729400" y="2822760"/>
                <a:ext cx="1272600" cy="444240"/>
              </a:xfrm>
              <a:custGeom>
                <a:avLst/>
                <a:gdLst/>
                <a:ahLst/>
                <a:rect l="l" t="t" r="r" b="b"/>
                <a:pathLst>
                  <a:path w="768" h="262">
                    <a:moveTo>
                      <a:pt x="0" y="131"/>
                    </a:moveTo>
                    <a:lnTo>
                      <a:pt x="154" y="262"/>
                    </a:lnTo>
                    <a:lnTo>
                      <a:pt x="154" y="196"/>
                    </a:lnTo>
                    <a:lnTo>
                      <a:pt x="615" y="196"/>
                    </a:lnTo>
                    <a:lnTo>
                      <a:pt x="615" y="262"/>
                    </a:lnTo>
                    <a:lnTo>
                      <a:pt x="768" y="131"/>
                    </a:lnTo>
                    <a:lnTo>
                      <a:pt x="615" y="0"/>
                    </a:lnTo>
                    <a:lnTo>
                      <a:pt x="615" y="65"/>
                    </a:lnTo>
                    <a:lnTo>
                      <a:pt x="154" y="65"/>
                    </a:lnTo>
                    <a:lnTo>
                      <a:pt x="154" y="0"/>
                    </a:lnTo>
                    <a:lnTo>
                      <a:pt x="0" y="131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2" name=""/>
            <p:cNvSpPr/>
            <p:nvPr/>
          </p:nvSpPr>
          <p:spPr>
            <a:xfrm>
              <a:off x="6251400" y="2949840"/>
              <a:ext cx="30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3366"/>
                  </a:solidFill>
                  <a:latin typeface="Arial"/>
                </a:rPr>
                <a:t>Re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4332240" y="2289240"/>
              <a:ext cx="1379160" cy="931680"/>
              <a:chOff x="4332240" y="2289240"/>
              <a:chExt cx="1379160" cy="931680"/>
            </a:xfrm>
          </p:grpSpPr>
          <p:sp>
            <p:nvSpPr>
              <p:cNvPr id="924" name=""/>
              <p:cNvSpPr/>
              <p:nvPr/>
            </p:nvSpPr>
            <p:spPr>
              <a:xfrm>
                <a:off x="4332240" y="2289240"/>
                <a:ext cx="1379160" cy="93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332240" y="2289240"/>
                <a:ext cx="1379160" cy="93168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4451400" y="2617920"/>
              <a:ext cx="245520" cy="294840"/>
              <a:chOff x="4451400" y="2617920"/>
              <a:chExt cx="245520" cy="294840"/>
            </a:xfrm>
          </p:grpSpPr>
          <p:sp>
            <p:nvSpPr>
              <p:cNvPr id="927" name=""/>
              <p:cNvSpPr/>
              <p:nvPr/>
            </p:nvSpPr>
            <p:spPr>
              <a:xfrm>
                <a:off x="4451400" y="2617920"/>
                <a:ext cx="245520" cy="29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451400" y="2617920"/>
                <a:ext cx="245520" cy="29484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4596840" y="2297160"/>
              <a:ext cx="1123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2"/>
                  </a:solidFill>
                  <a:latin typeface="Arial"/>
                </a:rPr>
                <a:t>Chiave pubblica</a:t>
              </a: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774680" y="2441880"/>
              <a:ext cx="67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2"/>
                  </a:solidFill>
                  <a:latin typeface="Arial"/>
                </a:rPr>
                <a:t>del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728120" y="2719440"/>
              <a:ext cx="214200" cy="51120"/>
            </a:xfrm>
            <a:custGeom>
              <a:avLst/>
              <a:gdLst/>
              <a:ahLst/>
              <a:rect l="l" t="t" r="r" b="b"/>
              <a:pathLst>
                <a:path w="130" h="30">
                  <a:moveTo>
                    <a:pt x="0" y="10"/>
                  </a:moveTo>
                  <a:lnTo>
                    <a:pt x="106" y="10"/>
                  </a:lnTo>
                  <a:lnTo>
                    <a:pt x="105" y="20"/>
                  </a:lnTo>
                  <a:lnTo>
                    <a:pt x="0" y="20"/>
                  </a:lnTo>
                  <a:lnTo>
                    <a:pt x="0" y="10"/>
                  </a:lnTo>
                  <a:close/>
                  <a:moveTo>
                    <a:pt x="101" y="0"/>
                  </a:moveTo>
                  <a:lnTo>
                    <a:pt x="130" y="15"/>
                  </a:lnTo>
                  <a:lnTo>
                    <a:pt x="101" y="3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135200" y="2281320"/>
              <a:ext cx="97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2"/>
                  </a:solidFill>
                  <a:latin typeface="Arial"/>
                </a:rPr>
                <a:t>Chiave priv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193880" y="2403720"/>
              <a:ext cx="67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2"/>
                  </a:solidFill>
                  <a:latin typeface="Arial"/>
                </a:rPr>
                <a:t>del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8031240" y="2590920"/>
              <a:ext cx="245520" cy="294840"/>
              <a:chOff x="8031240" y="2590920"/>
              <a:chExt cx="245520" cy="294840"/>
            </a:xfrm>
          </p:grpSpPr>
          <p:sp>
            <p:nvSpPr>
              <p:cNvPr id="935" name=""/>
              <p:cNvSpPr/>
              <p:nvPr/>
            </p:nvSpPr>
            <p:spPr>
              <a:xfrm>
                <a:off x="8031240" y="2590920"/>
                <a:ext cx="245520" cy="29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8031240" y="2590920"/>
                <a:ext cx="245520" cy="29484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4359240" y="2913120"/>
              <a:ext cx="487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42"/>
                  </a:solidFill>
                  <a:latin typeface="Arial"/>
                </a:rPr>
                <a:t>Ms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283360" y="2725920"/>
              <a:ext cx="576000" cy="44640"/>
            </a:xfrm>
            <a:custGeom>
              <a:avLst/>
              <a:gdLst/>
              <a:ahLst/>
              <a:rect l="l" t="t" r="r" b="b"/>
              <a:pathLst>
                <a:path w="347" h="26">
                  <a:moveTo>
                    <a:pt x="0" y="10"/>
                  </a:moveTo>
                  <a:lnTo>
                    <a:pt x="325" y="10"/>
                  </a:lnTo>
                  <a:lnTo>
                    <a:pt x="325" y="17"/>
                  </a:lnTo>
                  <a:lnTo>
                    <a:pt x="0" y="17"/>
                  </a:lnTo>
                  <a:lnTo>
                    <a:pt x="0" y="10"/>
                  </a:lnTo>
                  <a:close/>
                  <a:moveTo>
                    <a:pt x="320" y="0"/>
                  </a:moveTo>
                  <a:lnTo>
                    <a:pt x="347" y="13"/>
                  </a:lnTo>
                  <a:lnTo>
                    <a:pt x="320" y="26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926480" y="2921040"/>
              <a:ext cx="46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42"/>
                  </a:solidFill>
                  <a:latin typeface="Arial"/>
                </a:rPr>
                <a:t>Ms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517160" y="324360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2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799320" y="2711520"/>
              <a:ext cx="533520" cy="44640"/>
            </a:xfrm>
            <a:custGeom>
              <a:avLst/>
              <a:gdLst/>
              <a:ahLst/>
              <a:rect l="l" t="t" r="r" b="b"/>
              <a:pathLst>
                <a:path w="322" h="26">
                  <a:moveTo>
                    <a:pt x="0" y="10"/>
                  </a:moveTo>
                  <a:lnTo>
                    <a:pt x="300" y="10"/>
                  </a:lnTo>
                  <a:lnTo>
                    <a:pt x="300" y="17"/>
                  </a:lnTo>
                  <a:lnTo>
                    <a:pt x="0" y="17"/>
                  </a:lnTo>
                  <a:lnTo>
                    <a:pt x="0" y="10"/>
                  </a:lnTo>
                  <a:close/>
                  <a:moveTo>
                    <a:pt x="296" y="0"/>
                  </a:moveTo>
                  <a:lnTo>
                    <a:pt x="322" y="13"/>
                  </a:lnTo>
                  <a:lnTo>
                    <a:pt x="296" y="26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2" name="" descr=""/>
            <p:cNvPicPr/>
            <p:nvPr/>
          </p:nvPicPr>
          <p:blipFill>
            <a:blip r:embed="rId89"/>
            <a:stretch/>
          </p:blipFill>
          <p:spPr>
            <a:xfrm>
              <a:off x="5019840" y="2606760"/>
              <a:ext cx="409320" cy="4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"/>
            <p:cNvSpPr/>
            <p:nvPr/>
          </p:nvSpPr>
          <p:spPr>
            <a:xfrm>
              <a:off x="5940360" y="2648160"/>
              <a:ext cx="8636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940360" y="2648160"/>
              <a:ext cx="863640" cy="166680"/>
            </a:xfrm>
            <a:prstGeom prst="rect">
              <a:avLst/>
            </a:prstGeom>
            <a:solidFill>
              <a:srgbClr val="969696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012000" y="2651400"/>
              <a:ext cx="68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Msg cript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775040" y="2721240"/>
              <a:ext cx="214560" cy="50760"/>
            </a:xfrm>
            <a:custGeom>
              <a:avLst/>
              <a:gdLst/>
              <a:ahLst/>
              <a:rect l="l" t="t" r="r" b="b"/>
              <a:pathLst>
                <a:path w="130" h="30">
                  <a:moveTo>
                    <a:pt x="0" y="10"/>
                  </a:moveTo>
                  <a:lnTo>
                    <a:pt x="106" y="10"/>
                  </a:lnTo>
                  <a:lnTo>
                    <a:pt x="105" y="20"/>
                  </a:lnTo>
                  <a:lnTo>
                    <a:pt x="0" y="20"/>
                  </a:lnTo>
                  <a:lnTo>
                    <a:pt x="0" y="10"/>
                  </a:lnTo>
                  <a:close/>
                  <a:moveTo>
                    <a:pt x="101" y="0"/>
                  </a:moveTo>
                  <a:lnTo>
                    <a:pt x="130" y="15"/>
                  </a:lnTo>
                  <a:lnTo>
                    <a:pt x="101" y="3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690800" y="4615560"/>
            <a:ext cx="286920" cy="290880"/>
            <a:chOff x="4690800" y="4615560"/>
            <a:chExt cx="286920" cy="290880"/>
          </a:xfrm>
        </p:grpSpPr>
        <p:sp>
          <p:nvSpPr>
            <p:cNvPr id="948" name=""/>
            <p:cNvSpPr/>
            <p:nvPr/>
          </p:nvSpPr>
          <p:spPr>
            <a:xfrm>
              <a:off x="4707000" y="4653000"/>
              <a:ext cx="23328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rot="2149200">
              <a:off x="4735080" y="4653000"/>
              <a:ext cx="198000" cy="216000"/>
            </a:xfrm>
            <a:prstGeom prst="irregularSeal2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799160" y="4738320"/>
              <a:ext cx="56520" cy="47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7508520" y="4315320"/>
            <a:ext cx="286920" cy="290880"/>
            <a:chOff x="7508520" y="4315320"/>
            <a:chExt cx="286920" cy="290880"/>
          </a:xfrm>
        </p:grpSpPr>
        <p:sp>
          <p:nvSpPr>
            <p:cNvPr id="952" name=""/>
            <p:cNvSpPr/>
            <p:nvPr/>
          </p:nvSpPr>
          <p:spPr>
            <a:xfrm>
              <a:off x="7524720" y="4352760"/>
              <a:ext cx="23328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2149200">
              <a:off x="7552800" y="4352760"/>
              <a:ext cx="198000" cy="216000"/>
            </a:xfrm>
            <a:prstGeom prst="irregularSeal2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616880" y="4438080"/>
              <a:ext cx="56520" cy="47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906E-C84D-4FB2-B42C-3FFFD69CA37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2908B04-A354-4F9C-A83F-2CEFD6E0E1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272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utenticazione</a:t>
            </a:r>
            <a:endParaRPr b="0" i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80880" y="1483920"/>
            <a:ext cx="83059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AS (Java Authentication and Authorization Servic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o un proprio modulo di autenticazi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ore hash delle password memorizzato nel database del serv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154480" y="3246480"/>
            <a:ext cx="14194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ver rem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227560" y="5130720"/>
            <a:ext cx="306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File di configurazione JAAS: module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154480" y="3456000"/>
            <a:ext cx="3571920" cy="14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class ConnectionManager { 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run() { 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lc = 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new LoginContext</a:t>
            </a: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("</a:t>
            </a:r>
            <a:r>
              <a:rPr b="1" lang="en-US" sz="1400" spc="-1" strike="noStrike">
                <a:solidFill>
                  <a:srgbClr val="000042"/>
                </a:solidFill>
                <a:latin typeface="Arial"/>
              </a:rPr>
              <a:t>AppServer</a:t>
            </a: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", AppCallbackHandl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c.log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...  }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194440" y="5365800"/>
            <a:ext cx="3570120" cy="8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42"/>
                </a:solidFill>
                <a:latin typeface="Arial"/>
              </a:rPr>
              <a:t>AppServer</a:t>
            </a:r>
            <a:r>
              <a:rPr b="0" lang="it-IT" sz="1200" spc="-1" strike="noStrike">
                <a:solidFill>
                  <a:srgbClr val="000042"/>
                </a:solidFill>
                <a:latin typeface="Arial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42"/>
                </a:solidFill>
                <a:latin typeface="Arial"/>
              </a:rPr>
              <a:t>   </a:t>
            </a:r>
            <a:r>
              <a:rPr b="0" lang="it-IT" sz="1200" spc="-1" strike="noStrike">
                <a:solidFill>
                  <a:srgbClr val="000042"/>
                </a:solidFill>
                <a:latin typeface="Arial"/>
              </a:rPr>
              <a:t>remoteServer.module.</a:t>
            </a:r>
            <a:r>
              <a:rPr b="0" lang="it-IT" sz="1200" spc="-1" strike="noStrike">
                <a:solidFill>
                  <a:srgbClr val="800000"/>
                </a:solidFill>
                <a:latin typeface="Arial"/>
              </a:rPr>
              <a:t>AppLoginModule </a:t>
            </a:r>
            <a:r>
              <a:rPr b="0" lang="it-IT" sz="1200" spc="-1" strike="noStrike">
                <a:solidFill>
                  <a:srgbClr val="000042"/>
                </a:solidFill>
                <a:latin typeface="Arial"/>
              </a:rPr>
              <a:t>required debug=tr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42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rot="5400000">
            <a:off x="8204400" y="4791600"/>
            <a:ext cx="619200" cy="531720"/>
          </a:xfrm>
          <a:custGeom>
            <a:avLst/>
            <a:gdLst>
              <a:gd name="textAreaLeft" fmla="*/ 0 w 619200"/>
              <a:gd name="textAreaRight" fmla="*/ 619560 w 61920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513160" y="5164200"/>
            <a:ext cx="0" cy="3096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525760" y="3995640"/>
            <a:ext cx="0" cy="4730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31640" y="5432400"/>
            <a:ext cx="4332600" cy="8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56000" y="3429000"/>
            <a:ext cx="0" cy="3859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804960" y="3824280"/>
            <a:ext cx="3519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42"/>
                </a:solidFill>
                <a:latin typeface="Arial"/>
              </a:rPr>
              <a:t>Login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804960" y="3213000"/>
            <a:ext cx="3519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2"/>
                </a:solidFill>
                <a:latin typeface="Arial"/>
              </a:rPr>
              <a:t>Appl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30200" y="4467240"/>
            <a:ext cx="43308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79520" y="4672080"/>
            <a:ext cx="12920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42"/>
                </a:solidFill>
                <a:latin typeface="Arial"/>
              </a:rPr>
              <a:t>NTLogin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335400" y="4672080"/>
            <a:ext cx="136692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42"/>
                </a:solidFill>
                <a:latin typeface="Arial"/>
              </a:rPr>
              <a:t>UnixLogin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7040" y="5559480"/>
            <a:ext cx="11984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42"/>
                </a:solidFill>
                <a:latin typeface="Arial"/>
              </a:rPr>
              <a:t>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42"/>
                </a:solidFill>
                <a:latin typeface="Arial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790720" y="6024600"/>
            <a:ext cx="216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987640" y="5759280"/>
            <a:ext cx="649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.....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685960" y="4721400"/>
            <a:ext cx="10652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403440" y="5560920"/>
            <a:ext cx="12542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42"/>
                </a:solidFill>
                <a:latin typeface="Arial"/>
              </a:rPr>
              <a:t>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42"/>
                </a:solidFill>
                <a:latin typeface="Arial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838160" y="4678200"/>
            <a:ext cx="133524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ppLogin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835280" y="4673520"/>
            <a:ext cx="1334880" cy="292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AppLogin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925640" y="5562720"/>
            <a:ext cx="1262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utent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930320" y="5562720"/>
            <a:ext cx="1262160" cy="609480"/>
          </a:xfrm>
          <a:prstGeom prst="rect">
            <a:avLst/>
          </a:prstGeom>
          <a:solidFill>
            <a:srgbClr val="ffcc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Autent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24000" y="3068640"/>
            <a:ext cx="4535280" cy="330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786D-CAC3-48AD-B96B-7EB279F517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8E5EC62-6860-4943-881D-F4BCED7D2F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5003640" y="3429000"/>
            <a:ext cx="3889440" cy="1584360"/>
          </a:xfrm>
          <a:prstGeom prst="rect">
            <a:avLst/>
          </a:prstGeom>
          <a:gradFill rotWithShape="0">
            <a:gsLst>
              <a:gs pos="0">
                <a:srgbClr val="ffe1b9"/>
              </a:gs>
              <a:gs pos="100000">
                <a:srgbClr val="ffffff"/>
              </a:gs>
            </a:gsLst>
            <a:lin ang="5400000"/>
          </a:gradFill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1280" y="3429000"/>
            <a:ext cx="3960720" cy="2448000"/>
          </a:xfrm>
          <a:prstGeom prst="rect">
            <a:avLst/>
          </a:prstGeom>
          <a:gradFill rotWithShape="0">
            <a:gsLst>
              <a:gs pos="0">
                <a:srgbClr val="ffe1b9"/>
              </a:gs>
              <a:gs pos="100000">
                <a:srgbClr val="ffffff"/>
              </a:gs>
            </a:gsLst>
            <a:lin ang="5400000"/>
          </a:gradFill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353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zione del subject (utente autenticato) con gli associati principal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i file di policy che specificano i permessi dei principa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grant codeBase  “URL”,</a:t>
            </a:r>
            <a:r>
              <a:rPr b="0" i="1" lang="it-IT" sz="1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</a:t>
            </a: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grant codebase “file:G:/Action.class”,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principal principalClass “principalName”,</a:t>
            </a:r>
            <a:r>
              <a:rPr b="0" i="1" lang="it-IT" sz="1400" spc="-1" strike="noStrike">
                <a:solidFill>
                  <a:srgbClr val="000066"/>
                </a:solidFill>
                <a:latin typeface="Times New Roman"/>
              </a:rPr>
              <a:t>                      </a:t>
            </a: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principal AppPrincipal “DefaultUser” {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principal principalClass “principalName”,</a:t>
            </a:r>
            <a:r>
              <a:rPr b="0" i="1" lang="it-IT" sz="14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Permission java.io.FilePermission</a:t>
            </a:r>
            <a:r>
              <a:rPr b="0" i="1" lang="it-IT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…………</a:t>
            </a: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{   </a:t>
            </a:r>
            <a:r>
              <a:rPr b="0" i="1" lang="it-IT" sz="12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“D:/DefaultApplication.class”, “execute”;</a:t>
            </a:r>
            <a:r>
              <a:rPr b="0" i="1" lang="it-IT" sz="17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permission Type “name”, “action”;</a:t>
            </a:r>
            <a:r>
              <a:rPr b="0" i="1" lang="it-IT" sz="14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  }; </a:t>
            </a:r>
            <a:r>
              <a:rPr b="0" i="1" lang="it-IT" sz="1400" spc="-1" strike="noStrike">
                <a:solidFill>
                  <a:srgbClr val="000066"/>
                </a:solidFill>
                <a:latin typeface="Times New Roman"/>
              </a:rPr>
              <a:t>              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permission Type “name”, “action”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……………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}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title"/>
          </p:nvPr>
        </p:nvSpPr>
        <p:spPr>
          <a:xfrm>
            <a:off x="971640" y="620280"/>
            <a:ext cx="73454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Uso del subject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93A7-633F-4872-9586-73320FC1E28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5E777E6-5FAC-4B68-AA02-4B07083F1E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6985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Autorizzazione</a:t>
            </a:r>
            <a:r>
              <a:rPr b="0" i="1" lang="it-IT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68596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-17640" bIns="-176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8" name="fine" descr=""/>
          <p:cNvPicPr/>
          <p:nvPr/>
        </p:nvPicPr>
        <p:blipFill>
          <a:blip r:embed="rId1"/>
          <a:stretch/>
        </p:blipFill>
        <p:spPr>
          <a:xfrm>
            <a:off x="684360" y="1523880"/>
            <a:ext cx="7920000" cy="478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1692-85B1-45C0-BABC-4932EC2D859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AAF0579-E64A-4E9B-9EA5-34DA2FEF54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835280" y="620280"/>
            <a:ext cx="66974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nterazione utente-server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77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chiesta dei parametri dell’applicazione all’utente GSM e relative rispos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7632720" cy="36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13B0-3499-4FAA-8962-AB6482A5F4D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87D21AC-C971-421A-96E6-92BC2DE56F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20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ommario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848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e GS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chitettura del sistem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tocollo MA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vizi USS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ziativa JA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biettiv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AIN MAP AP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ovo servizio svilupp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biettiv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unzionam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viluppi futur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5CA2-7357-4301-8B41-E899F06009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328CE90-C738-47C8-B316-DB08B91DD6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90720" y="620280"/>
            <a:ext cx="6705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l server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09280" y="1628640"/>
            <a:ext cx="78771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Uso di thre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gestire contemporaneamente più richieste di servizi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meccanismi di sincronizzazione tra thread permetton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l’esecuzione di applicazioni in mutua esclusion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emplice configurazione delle applicazioni ut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iattaforma Windows (facile estensione del servizio per piattaforme Unix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2739-6492-4AA3-A4D1-E05B6D4EA6F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36570E1-6E81-473B-80C2-3B9B1017B3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2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Esecuzione applicazione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631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1"/>
          <a:stretch/>
        </p:blipFill>
        <p:spPr>
          <a:xfrm>
            <a:off x="684360" y="1447920"/>
            <a:ext cx="7989840" cy="49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37BD-0934-419D-A250-1E903CC106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3467017-8EC7-43D7-B7B7-EB16457979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417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viluppi futuri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7877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are l’attivazione di applicazioni più comples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endere il servizio realizzato ad un servizio di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telne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tivabile da cellullar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vedere la trasmissione cifrata di ulteriori informazion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are il problema della sicurezza nell’integrazione della rete GSM con Intern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ndere più sicuro il traffico tra le entit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entrali della rete GS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863E-4E52-41C6-BC1B-41D4C92858A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629BF9B-A817-48FF-BBDD-4953F1FA92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272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ossibile soluzione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809280" y="1483920"/>
            <a:ext cx="78771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ppia cifratura dei dati: criptare i dati con RC5 e chiav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ra BTS e gsmSC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1320840" y="2514600"/>
            <a:ext cx="7124760" cy="3581280"/>
            <a:chOff x="1320840" y="2514600"/>
            <a:chExt cx="7124760" cy="3581280"/>
          </a:xfrm>
        </p:grpSpPr>
        <p:sp>
          <p:nvSpPr>
            <p:cNvPr id="1002" name=""/>
            <p:cNvSpPr/>
            <p:nvPr/>
          </p:nvSpPr>
          <p:spPr>
            <a:xfrm>
              <a:off x="1406520" y="3025800"/>
              <a:ext cx="492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C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166840" y="2637000"/>
              <a:ext cx="370080" cy="2253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65240" y="3149640"/>
              <a:ext cx="741600" cy="399960"/>
            </a:xfrm>
            <a:prstGeom prst="rect">
              <a:avLst/>
            </a:prstGeom>
            <a:solidFill>
              <a:srgbClr val="c0c0c0">
                <a:alpha val="68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57360" y="3233880"/>
              <a:ext cx="185760" cy="112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365200" y="2870280"/>
              <a:ext cx="1800" cy="2840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365200" y="3552840"/>
              <a:ext cx="1800" cy="3967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965240" y="4683240"/>
              <a:ext cx="741600" cy="339480"/>
            </a:xfrm>
            <a:prstGeom prst="rect">
              <a:avLst/>
            </a:prstGeom>
            <a:solidFill>
              <a:srgbClr val="e3e2c7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65200" y="4287960"/>
              <a:ext cx="1800" cy="395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65240" y="5303880"/>
              <a:ext cx="739800" cy="511200"/>
            </a:xfrm>
            <a:prstGeom prst="rect">
              <a:avLst/>
            </a:prstGeom>
            <a:solidFill>
              <a:srgbClr val="00008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058840" y="5381640"/>
              <a:ext cx="555840" cy="341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152800" y="5432400"/>
              <a:ext cx="369720" cy="227160"/>
            </a:xfrm>
            <a:prstGeom prst="rect">
              <a:avLst/>
            </a:prstGeom>
            <a:solidFill>
              <a:srgbClr val="800000">
                <a:alpha val="53000"/>
              </a:srgbClr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070000" y="3946680"/>
              <a:ext cx="555840" cy="33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162160" y="4000680"/>
              <a:ext cx="369720" cy="225360"/>
            </a:xfrm>
            <a:prstGeom prst="rect">
              <a:avLst/>
            </a:prstGeom>
            <a:solidFill>
              <a:srgbClr val="800000">
                <a:alpha val="57000"/>
              </a:srgbClr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44680" y="5022720"/>
              <a:ext cx="1800" cy="2811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522440" y="3209760"/>
              <a:ext cx="431640" cy="18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522440" y="4776840"/>
              <a:ext cx="431640" cy="14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509840" y="4943520"/>
              <a:ext cx="444240" cy="1440"/>
            </a:xfrm>
            <a:custGeom>
              <a:avLst/>
              <a:gdLst/>
              <a:ahLst/>
              <a:rect l="l" t="t" r="r" b="b"/>
              <a:pathLst>
                <a:path w="327" h="1">
                  <a:moveTo>
                    <a:pt x="0" y="0"/>
                  </a:moveTo>
                  <a:lnTo>
                    <a:pt x="327" y="1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522440" y="3351240"/>
              <a:ext cx="431640" cy="14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3968640" y="4683240"/>
              <a:ext cx="493920" cy="10173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497480" y="4683240"/>
              <a:ext cx="253800" cy="1090440"/>
            </a:xfrm>
            <a:custGeom>
              <a:avLst/>
              <a:gdLst/>
              <a:ahLst/>
              <a:rect l="l" t="t" r="r" b="b"/>
              <a:pathLst>
                <a:path w="187" h="874">
                  <a:moveTo>
                    <a:pt x="0" y="0"/>
                  </a:moveTo>
                  <a:lnTo>
                    <a:pt x="187" y="874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35560" y="4654440"/>
              <a:ext cx="74520" cy="1103400"/>
            </a:xfrm>
            <a:custGeom>
              <a:avLst/>
              <a:gdLst/>
              <a:ahLst/>
              <a:rect l="l" t="t" r="r" b="b"/>
              <a:pathLst>
                <a:path w="31" h="883">
                  <a:moveTo>
                    <a:pt x="31" y="0"/>
                  </a:moveTo>
                  <a:lnTo>
                    <a:pt x="0" y="883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130720" y="5418000"/>
              <a:ext cx="554040" cy="339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222880" y="5472000"/>
              <a:ext cx="369720" cy="225360"/>
            </a:xfrm>
            <a:prstGeom prst="rect">
              <a:avLst/>
            </a:prstGeom>
            <a:solidFill>
              <a:srgbClr val="800000">
                <a:alpha val="53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370400" y="4626000"/>
              <a:ext cx="123840" cy="572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4497480" y="4625640"/>
              <a:ext cx="123840" cy="572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813200" y="5587920"/>
              <a:ext cx="246240" cy="1800"/>
            </a:xfrm>
            <a:prstGeom prst="line">
              <a:avLst/>
            </a:prstGeom>
            <a:ln w="936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775560" y="5303880"/>
              <a:ext cx="677880" cy="511200"/>
            </a:xfrm>
            <a:prstGeom prst="rect">
              <a:avLst/>
            </a:prstGeom>
            <a:solidFill>
              <a:srgbClr val="e3e2c7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915320" y="5475240"/>
              <a:ext cx="369720" cy="2253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534080" y="5587920"/>
              <a:ext cx="371520" cy="18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03320" y="3200400"/>
              <a:ext cx="70488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SIM c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0880" y="4795920"/>
              <a:ext cx="495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723000" y="5521320"/>
              <a:ext cx="8017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gsmSC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54320" y="5532480"/>
              <a:ext cx="370080" cy="1681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154400" y="5364000"/>
              <a:ext cx="293760" cy="149400"/>
            </a:xfrm>
            <a:custGeom>
              <a:avLst/>
              <a:gdLst/>
              <a:ahLst/>
              <a:rect l="l" t="t" r="r" b="b"/>
              <a:pathLst>
                <a:path w="216" h="120">
                  <a:moveTo>
                    <a:pt x="0" y="0"/>
                  </a:moveTo>
                  <a:lnTo>
                    <a:pt x="216" y="12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233960" y="5192640"/>
              <a:ext cx="206280" cy="10152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152" y="82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4444920" y="5587560"/>
              <a:ext cx="246240" cy="1126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456080" y="5415120"/>
              <a:ext cx="196920" cy="98280"/>
            </a:xfrm>
            <a:custGeom>
              <a:avLst/>
              <a:gdLst/>
              <a:ahLst/>
              <a:rect l="l" t="t" r="r" b="b"/>
              <a:pathLst>
                <a:path w="144" h="80">
                  <a:moveTo>
                    <a:pt x="0" y="80"/>
                  </a:move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522440" y="4568760"/>
              <a:ext cx="36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4444920" y="5248440"/>
              <a:ext cx="185760" cy="554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25760" y="5022720"/>
              <a:ext cx="123840" cy="558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486320" y="5045040"/>
              <a:ext cx="101520" cy="34920"/>
            </a:xfrm>
            <a:custGeom>
              <a:avLst/>
              <a:gdLst/>
              <a:ahLst/>
              <a:rect l="l" t="t" r="r" b="b"/>
              <a:pathLst>
                <a:path w="75" h="28">
                  <a:moveTo>
                    <a:pt x="0" y="28"/>
                  </a:moveTo>
                  <a:lnTo>
                    <a:pt x="75" y="0"/>
                  </a:ln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382760" y="4581360"/>
              <a:ext cx="4935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61280" y="5005440"/>
              <a:ext cx="679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C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727440" y="5059440"/>
              <a:ext cx="492120" cy="14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727440" y="4835520"/>
              <a:ext cx="492120" cy="14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776680" y="5421240"/>
              <a:ext cx="1108080" cy="339840"/>
            </a:xfrm>
            <a:prstGeom prst="lightningBolt">
              <a:avLst/>
            </a:prstGeom>
            <a:solidFill>
              <a:srgbClr val="e3e2c7">
                <a:alpha val="75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224480" y="5000760"/>
              <a:ext cx="3272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726000" y="4627440"/>
              <a:ext cx="4935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595680" y="5087880"/>
              <a:ext cx="677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749920" y="5589720"/>
              <a:ext cx="923760" cy="1440"/>
            </a:xfrm>
            <a:prstGeom prst="line">
              <a:avLst/>
            </a:prstGeom>
            <a:ln w="936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4478400" y="4587480"/>
              <a:ext cx="9360" cy="1364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981840" y="4927680"/>
              <a:ext cx="1440" cy="3585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246800" y="4927680"/>
              <a:ext cx="1800" cy="3585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488960" y="3357720"/>
              <a:ext cx="3412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90400" y="4954680"/>
              <a:ext cx="3272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20840" y="2514600"/>
              <a:ext cx="7124760" cy="3581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432B-38F0-44FE-AF5E-EF9473A117D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4C7EE97-BA68-44A0-BDE7-50521188E8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6985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icurezza nel GSM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5256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riservatezza dell’identità dell’abbon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utenticazion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municazione cifrata dei dati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tra BTS e M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 A5 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788000" y="2276640"/>
            <a:ext cx="4176720" cy="3889080"/>
            <a:chOff x="4788000" y="2276640"/>
            <a:chExt cx="4176720" cy="3889080"/>
          </a:xfrm>
        </p:grpSpPr>
        <p:sp>
          <p:nvSpPr>
            <p:cNvPr id="1061" name=""/>
            <p:cNvSpPr/>
            <p:nvPr/>
          </p:nvSpPr>
          <p:spPr>
            <a:xfrm>
              <a:off x="4788000" y="2276640"/>
              <a:ext cx="4176720" cy="3889080"/>
            </a:xfrm>
            <a:prstGeom prst="rect">
              <a:avLst/>
            </a:prstGeom>
            <a:gradFill rotWithShape="0">
              <a:gsLst>
                <a:gs pos="0">
                  <a:srgbClr val="fbe9b5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840200" y="5429160"/>
              <a:ext cx="612720" cy="363600"/>
            </a:xfrm>
            <a:prstGeom prst="leftRightArrow">
              <a:avLst>
                <a:gd name="adj1" fmla="val 50000"/>
                <a:gd name="adj2" fmla="val 3354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79880" y="5540400"/>
              <a:ext cx="3747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66"/>
                  </a:solidFill>
                  <a:latin typeface="Times New Roman"/>
                </a:rPr>
                <a:t>INF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315280" y="3801960"/>
              <a:ext cx="57780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423280" y="3816360"/>
              <a:ext cx="4698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3300"/>
                  </a:solidFill>
                  <a:latin typeface="Times New Roman"/>
                </a:rPr>
                <a:t>GE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3300"/>
                  </a:solidFill>
                  <a:latin typeface="Times New Roman"/>
                </a:rPr>
                <a:t>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211800" y="3198960"/>
              <a:ext cx="0" cy="2966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284960" y="3200400"/>
              <a:ext cx="0" cy="29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224320" y="3876840"/>
              <a:ext cx="3952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5e"/>
                  </a:solidFill>
                  <a:latin typeface="Times New Roman"/>
                </a:rPr>
                <a:t>K</a:t>
              </a:r>
              <a:r>
                <a:rPr b="0" lang="en-US" sz="1200" spc="-1" strike="noStrike" baseline="-25000">
                  <a:solidFill>
                    <a:srgbClr val="00005e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450040" y="5362560"/>
              <a:ext cx="4903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583400" y="5361120"/>
              <a:ext cx="432000" cy="49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935680" y="5425920"/>
              <a:ext cx="1622520" cy="365400"/>
            </a:xfrm>
            <a:prstGeom prst="leftRightArrow">
              <a:avLst>
                <a:gd name="adj1" fmla="val 50000"/>
                <a:gd name="adj2" fmla="val 883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299280" y="5504040"/>
              <a:ext cx="9921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Times New Roman"/>
                </a:rPr>
                <a:t>INFO</a:t>
              </a: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66"/>
                  </a:solidFill>
                  <a:latin typeface="Times New Roman"/>
                </a:rPr>
                <a:t>CIF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05560" y="5506920"/>
              <a:ext cx="252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3300"/>
                  </a:solidFill>
                  <a:latin typeface="Times New Roman"/>
                </a:rPr>
                <a:t>A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723080" y="5506920"/>
              <a:ext cx="252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3300"/>
                  </a:solidFill>
                  <a:latin typeface="Times New Roman"/>
                </a:rPr>
                <a:t>A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451480" y="4290840"/>
              <a:ext cx="4888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489640" y="4354560"/>
              <a:ext cx="412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3300"/>
                  </a:solidFill>
                  <a:latin typeface="Times New Roman"/>
                </a:rPr>
                <a:t>A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581960" y="4290840"/>
              <a:ext cx="4460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616880" y="4354560"/>
              <a:ext cx="37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3300"/>
                  </a:solidFill>
                  <a:latin typeface="Times New Roman"/>
                </a:rPr>
                <a:t>A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40560" y="4900680"/>
              <a:ext cx="3967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imes New Roman"/>
                </a:rPr>
                <a:t>K</a:t>
              </a:r>
              <a:r>
                <a:rPr b="0" lang="en-US" sz="1200" spc="-1" strike="noStrike" baseline="-25000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03840" y="4740120"/>
              <a:ext cx="1800" cy="6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818480" y="4740120"/>
              <a:ext cx="1440" cy="6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904160" y="4900680"/>
              <a:ext cx="3967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Times New Roman"/>
                </a:rPr>
                <a:t>K</a:t>
              </a:r>
              <a:r>
                <a:rPr b="0" lang="en-US" sz="1200" spc="-1" strike="noStrike" baseline="-25000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021520" y="5425920"/>
              <a:ext cx="612720" cy="365400"/>
            </a:xfrm>
            <a:prstGeom prst="leftRightArrow">
              <a:avLst>
                <a:gd name="adj1" fmla="val 50000"/>
                <a:gd name="adj2" fmla="val 333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161200" y="5537160"/>
              <a:ext cx="3747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66"/>
                  </a:solidFill>
                  <a:latin typeface="Times New Roman"/>
                </a:rPr>
                <a:t>INF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5792760" y="3917880"/>
              <a:ext cx="2525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975440" y="3929040"/>
              <a:ext cx="180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796000" y="3917880"/>
              <a:ext cx="144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595840" y="3994200"/>
              <a:ext cx="18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723080" y="4005360"/>
              <a:ext cx="180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18160" y="3983040"/>
              <a:ext cx="4683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Times New Roman"/>
                </a:rPr>
                <a:t>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291440" y="3929040"/>
              <a:ext cx="3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Times New Roman"/>
                </a:rPr>
                <a:t>K</a:t>
              </a:r>
              <a:r>
                <a:rPr b="0" lang="en-US" sz="12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208560" y="3443400"/>
              <a:ext cx="108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280200" y="2957400"/>
              <a:ext cx="8301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Times New Roman"/>
                </a:rPr>
                <a:t>Richie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66"/>
                  </a:solidFill>
                  <a:latin typeface="Times New Roman"/>
                </a:rPr>
                <a:t>acces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208560" y="2592360"/>
              <a:ext cx="12430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Times New Roman"/>
                </a:rPr>
                <a:t>Tratta rad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983120" y="2637000"/>
              <a:ext cx="468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Times New Roman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667640" y="2592360"/>
              <a:ext cx="11016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Times New Roman"/>
                </a:rPr>
                <a:t>Rete GS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391440" y="3497400"/>
              <a:ext cx="86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5e"/>
                  </a:solidFill>
                  <a:latin typeface="Times New Roman"/>
                </a:rPr>
                <a:t>(IMS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E26C-AD69-4F67-BAF5-0D2895F742A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89FB4A5-C4FF-4DDA-B6A3-41F1D1DE44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417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Architettura del sistema GSM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215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sottosistem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S (Mobile Station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SS (Base Station Sub-system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SS (Network Switching Sub-system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MC (Network Management Center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4640400"/>
            <a:ext cx="1224000" cy="8236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496960" y="4871880"/>
            <a:ext cx="40356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65560" y="4378320"/>
            <a:ext cx="0" cy="40464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54640" y="4711680"/>
            <a:ext cx="1440" cy="37800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2720" y="3301920"/>
            <a:ext cx="6976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720" y="3332160"/>
            <a:ext cx="6976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11080" y="3522600"/>
            <a:ext cx="84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708360" y="4075200"/>
            <a:ext cx="4464000" cy="1306440"/>
            <a:chOff x="3708360" y="4075200"/>
            <a:chExt cx="4464000" cy="1306440"/>
          </a:xfrm>
        </p:grpSpPr>
        <p:sp>
          <p:nvSpPr>
            <p:cNvPr id="106" name=""/>
            <p:cNvSpPr/>
            <p:nvPr/>
          </p:nvSpPr>
          <p:spPr>
            <a:xfrm>
              <a:off x="3708360" y="4075200"/>
              <a:ext cx="4464000" cy="1306440"/>
            </a:xfrm>
            <a:prstGeom prst="rect">
              <a:avLst/>
            </a:prstGeom>
            <a:gradFill rotWithShape="0">
              <a:gsLst>
                <a:gs pos="0">
                  <a:srgbClr val="dde7c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08360" y="4075200"/>
              <a:ext cx="4464000" cy="13064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cap="rnd"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452840" y="4835520"/>
            <a:ext cx="696960" cy="27144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5599080" y="3984120"/>
            <a:ext cx="627120" cy="1875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444920" y="4008600"/>
            <a:ext cx="617760" cy="195120"/>
          </a:xfrm>
          <a:prstGeom prst="line">
            <a:avLst/>
          </a:prstGeom>
          <a:ln cap="rnd" w="9360">
            <a:solidFill>
              <a:srgbClr val="0000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79720" y="4181400"/>
            <a:ext cx="559080" cy="195480"/>
            <a:chOff x="3879720" y="4181400"/>
            <a:chExt cx="559080" cy="195480"/>
          </a:xfrm>
        </p:grpSpPr>
        <p:sp>
          <p:nvSpPr>
            <p:cNvPr id="112" name=""/>
            <p:cNvSpPr/>
            <p:nvPr/>
          </p:nvSpPr>
          <p:spPr>
            <a:xfrm>
              <a:off x="3879720" y="4181400"/>
              <a:ext cx="559080" cy="195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9720" y="4181400"/>
              <a:ext cx="559080" cy="195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998880" y="4194000"/>
            <a:ext cx="32076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82680" y="4216320"/>
            <a:ext cx="72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35400" y="4478400"/>
            <a:ext cx="436680" cy="249120"/>
            <a:chOff x="5135400" y="4478400"/>
            <a:chExt cx="436680" cy="249120"/>
          </a:xfrm>
        </p:grpSpPr>
        <p:sp>
          <p:nvSpPr>
            <p:cNvPr id="117" name=""/>
            <p:cNvSpPr/>
            <p:nvPr/>
          </p:nvSpPr>
          <p:spPr>
            <a:xfrm>
              <a:off x="5135400" y="4478400"/>
              <a:ext cx="436680" cy="249120"/>
            </a:xfrm>
            <a:custGeom>
              <a:avLst/>
              <a:gdLst/>
              <a:ahLst/>
              <a:rect l="l" t="t" r="r" b="b"/>
              <a:pathLst>
                <a:path w="2270" h="1507">
                  <a:moveTo>
                    <a:pt x="1135" y="0"/>
                  </a:moveTo>
                  <a:cubicBezTo>
                    <a:pt x="508" y="0"/>
                    <a:pt x="0" y="85"/>
                    <a:pt x="0" y="189"/>
                  </a:cubicBezTo>
                  <a:lnTo>
                    <a:pt x="0" y="1319"/>
                  </a:lnTo>
                  <a:cubicBezTo>
                    <a:pt x="0" y="1423"/>
                    <a:pt x="508" y="1507"/>
                    <a:pt x="1135" y="1507"/>
                  </a:cubicBezTo>
                  <a:cubicBezTo>
                    <a:pt x="1762" y="1507"/>
                    <a:pt x="2270" y="1423"/>
                    <a:pt x="2270" y="1319"/>
                  </a:cubicBezTo>
                  <a:lnTo>
                    <a:pt x="2270" y="189"/>
                  </a:lnTo>
                  <a:cubicBezTo>
                    <a:pt x="2270" y="85"/>
                    <a:pt x="1762" y="0"/>
                    <a:pt x="1135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35400" y="4478400"/>
              <a:ext cx="436680" cy="61920"/>
            </a:xfrm>
            <a:prstGeom prst="ellipse">
              <a:avLst/>
            </a:prstGeom>
            <a:solidFill>
              <a:srgbClr val="efefe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35400" y="4478400"/>
              <a:ext cx="436680" cy="249120"/>
            </a:xfrm>
            <a:custGeom>
              <a:avLst/>
              <a:gdLst/>
              <a:ahLst/>
              <a:rect l="l" t="t" r="r" b="b"/>
              <a:pathLst>
                <a:path w="2270" h="1507">
                  <a:moveTo>
                    <a:pt x="1135" y="0"/>
                  </a:moveTo>
                  <a:cubicBezTo>
                    <a:pt x="508" y="0"/>
                    <a:pt x="0" y="85"/>
                    <a:pt x="0" y="189"/>
                  </a:cubicBezTo>
                  <a:lnTo>
                    <a:pt x="0" y="1319"/>
                  </a:lnTo>
                  <a:cubicBezTo>
                    <a:pt x="0" y="1423"/>
                    <a:pt x="508" y="1507"/>
                    <a:pt x="1135" y="1507"/>
                  </a:cubicBezTo>
                  <a:cubicBezTo>
                    <a:pt x="1762" y="1507"/>
                    <a:pt x="2270" y="1423"/>
                    <a:pt x="2270" y="1319"/>
                  </a:cubicBezTo>
                  <a:lnTo>
                    <a:pt x="2270" y="189"/>
                  </a:lnTo>
                  <a:cubicBezTo>
                    <a:pt x="2270" y="85"/>
                    <a:pt x="1762" y="0"/>
                    <a:pt x="1135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35400" y="4509360"/>
              <a:ext cx="436680" cy="30960"/>
            </a:xfrm>
            <a:custGeom>
              <a:avLst/>
              <a:gdLst/>
              <a:ahLst/>
              <a:rect l="l" t="t" r="r" b="b"/>
              <a:pathLst>
                <a:path w="681" h="56">
                  <a:moveTo>
                    <a:pt x="0" y="0"/>
                  </a:moveTo>
                  <a:cubicBezTo>
                    <a:pt x="0" y="31"/>
                    <a:pt x="153" y="56"/>
                    <a:pt x="341" y="56"/>
                  </a:cubicBezTo>
                  <a:cubicBezTo>
                    <a:pt x="528" y="56"/>
                    <a:pt x="681" y="31"/>
                    <a:pt x="68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81960" y="456084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VL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69960" y="4560840"/>
            <a:ext cx="72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240600" y="4129200"/>
            <a:ext cx="509400" cy="258480"/>
            <a:chOff x="6240600" y="4129200"/>
            <a:chExt cx="509400" cy="258480"/>
          </a:xfrm>
        </p:grpSpPr>
        <p:sp>
          <p:nvSpPr>
            <p:cNvPr id="124" name=""/>
            <p:cNvSpPr/>
            <p:nvPr/>
          </p:nvSpPr>
          <p:spPr>
            <a:xfrm>
              <a:off x="6240600" y="4129200"/>
              <a:ext cx="509400" cy="258480"/>
            </a:xfrm>
            <a:custGeom>
              <a:avLst/>
              <a:gdLst/>
              <a:ahLst/>
              <a:rect l="l" t="t" r="r" b="b"/>
              <a:pathLst>
                <a:path w="2647" h="1883">
                  <a:moveTo>
                    <a:pt x="1323" y="0"/>
                  </a:moveTo>
                  <a:cubicBezTo>
                    <a:pt x="593" y="0"/>
                    <a:pt x="0" y="105"/>
                    <a:pt x="0" y="235"/>
                  </a:cubicBezTo>
                  <a:lnTo>
                    <a:pt x="0" y="1648"/>
                  </a:lnTo>
                  <a:cubicBezTo>
                    <a:pt x="0" y="1778"/>
                    <a:pt x="593" y="1883"/>
                    <a:pt x="1323" y="1883"/>
                  </a:cubicBezTo>
                  <a:cubicBezTo>
                    <a:pt x="2054" y="1883"/>
                    <a:pt x="2647" y="1778"/>
                    <a:pt x="2647" y="1648"/>
                  </a:cubicBezTo>
                  <a:lnTo>
                    <a:pt x="2647" y="235"/>
                  </a:lnTo>
                  <a:cubicBezTo>
                    <a:pt x="2647" y="105"/>
                    <a:pt x="2054" y="0"/>
                    <a:pt x="1323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40600" y="4129200"/>
              <a:ext cx="509400" cy="64080"/>
            </a:xfrm>
            <a:prstGeom prst="ellipse">
              <a:avLst/>
            </a:prstGeom>
            <a:solidFill>
              <a:srgbClr val="efefe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40600" y="4129200"/>
              <a:ext cx="509400" cy="258480"/>
            </a:xfrm>
            <a:custGeom>
              <a:avLst/>
              <a:gdLst/>
              <a:ahLst/>
              <a:rect l="l" t="t" r="r" b="b"/>
              <a:pathLst>
                <a:path w="2647" h="1883">
                  <a:moveTo>
                    <a:pt x="1323" y="0"/>
                  </a:moveTo>
                  <a:cubicBezTo>
                    <a:pt x="593" y="0"/>
                    <a:pt x="0" y="105"/>
                    <a:pt x="0" y="235"/>
                  </a:cubicBezTo>
                  <a:lnTo>
                    <a:pt x="0" y="1648"/>
                  </a:lnTo>
                  <a:cubicBezTo>
                    <a:pt x="0" y="1778"/>
                    <a:pt x="593" y="1883"/>
                    <a:pt x="1323" y="1883"/>
                  </a:cubicBezTo>
                  <a:cubicBezTo>
                    <a:pt x="2054" y="1883"/>
                    <a:pt x="2647" y="1778"/>
                    <a:pt x="2647" y="1648"/>
                  </a:cubicBezTo>
                  <a:lnTo>
                    <a:pt x="2647" y="235"/>
                  </a:lnTo>
                  <a:cubicBezTo>
                    <a:pt x="2647" y="105"/>
                    <a:pt x="2054" y="0"/>
                    <a:pt x="1323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40600" y="4161240"/>
              <a:ext cx="509400" cy="32040"/>
            </a:xfrm>
            <a:custGeom>
              <a:avLst/>
              <a:gdLst/>
              <a:ahLst/>
              <a:rect l="l" t="t" r="r" b="b"/>
              <a:pathLst>
                <a:path w="793" h="70">
                  <a:moveTo>
                    <a:pt x="0" y="0"/>
                  </a:moveTo>
                  <a:cubicBezTo>
                    <a:pt x="0" y="39"/>
                    <a:pt x="177" y="70"/>
                    <a:pt x="396" y="70"/>
                  </a:cubicBezTo>
                  <a:cubicBezTo>
                    <a:pt x="615" y="70"/>
                    <a:pt x="793" y="39"/>
                    <a:pt x="793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018840" y="4200480"/>
            <a:ext cx="97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HL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10080" y="4213080"/>
            <a:ext cx="72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8920" y="5468760"/>
            <a:ext cx="72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353360" y="4176720"/>
            <a:ext cx="557280" cy="195120"/>
            <a:chOff x="7353360" y="4176720"/>
            <a:chExt cx="557280" cy="195120"/>
          </a:xfrm>
        </p:grpSpPr>
        <p:sp>
          <p:nvSpPr>
            <p:cNvPr id="132" name=""/>
            <p:cNvSpPr/>
            <p:nvPr/>
          </p:nvSpPr>
          <p:spPr>
            <a:xfrm>
              <a:off x="7353360" y="4176720"/>
              <a:ext cx="557280" cy="1951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53360" y="4176720"/>
              <a:ext cx="557280" cy="1951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7078320" y="4187880"/>
            <a:ext cx="111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08520" y="4213080"/>
            <a:ext cx="72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284880" y="5038560"/>
            <a:ext cx="436680" cy="247680"/>
            <a:chOff x="6284880" y="5038560"/>
            <a:chExt cx="436680" cy="247680"/>
          </a:xfrm>
        </p:grpSpPr>
        <p:sp>
          <p:nvSpPr>
            <p:cNvPr id="137" name=""/>
            <p:cNvSpPr/>
            <p:nvPr/>
          </p:nvSpPr>
          <p:spPr>
            <a:xfrm>
              <a:off x="6284880" y="5038560"/>
              <a:ext cx="436680" cy="247680"/>
            </a:xfrm>
            <a:custGeom>
              <a:avLst/>
              <a:gdLst/>
              <a:ahLst/>
              <a:rect l="l" t="t" r="r" b="b"/>
              <a:pathLst>
                <a:path w="2270" h="1506">
                  <a:moveTo>
                    <a:pt x="1135" y="0"/>
                  </a:moveTo>
                  <a:cubicBezTo>
                    <a:pt x="509" y="0"/>
                    <a:pt x="0" y="84"/>
                    <a:pt x="0" y="188"/>
                  </a:cubicBezTo>
                  <a:lnTo>
                    <a:pt x="0" y="1318"/>
                  </a:lnTo>
                  <a:cubicBezTo>
                    <a:pt x="0" y="1422"/>
                    <a:pt x="509" y="1506"/>
                    <a:pt x="1135" y="1506"/>
                  </a:cubicBezTo>
                  <a:cubicBezTo>
                    <a:pt x="1762" y="1506"/>
                    <a:pt x="2270" y="1422"/>
                    <a:pt x="2270" y="1318"/>
                  </a:cubicBezTo>
                  <a:lnTo>
                    <a:pt x="2270" y="188"/>
                  </a:lnTo>
                  <a:cubicBezTo>
                    <a:pt x="2270" y="84"/>
                    <a:pt x="1762" y="0"/>
                    <a:pt x="1135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84880" y="5038560"/>
              <a:ext cx="436680" cy="61920"/>
            </a:xfrm>
            <a:prstGeom prst="ellipse">
              <a:avLst/>
            </a:prstGeom>
            <a:solidFill>
              <a:srgbClr val="efefe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84880" y="5038560"/>
              <a:ext cx="436680" cy="247680"/>
            </a:xfrm>
            <a:custGeom>
              <a:avLst/>
              <a:gdLst/>
              <a:ahLst/>
              <a:rect l="l" t="t" r="r" b="b"/>
              <a:pathLst>
                <a:path w="2270" h="1506">
                  <a:moveTo>
                    <a:pt x="1135" y="0"/>
                  </a:moveTo>
                  <a:cubicBezTo>
                    <a:pt x="509" y="0"/>
                    <a:pt x="0" y="84"/>
                    <a:pt x="0" y="188"/>
                  </a:cubicBezTo>
                  <a:lnTo>
                    <a:pt x="0" y="1318"/>
                  </a:lnTo>
                  <a:cubicBezTo>
                    <a:pt x="0" y="1422"/>
                    <a:pt x="509" y="1506"/>
                    <a:pt x="1135" y="1506"/>
                  </a:cubicBezTo>
                  <a:cubicBezTo>
                    <a:pt x="1762" y="1506"/>
                    <a:pt x="2270" y="1422"/>
                    <a:pt x="2270" y="1318"/>
                  </a:cubicBezTo>
                  <a:lnTo>
                    <a:pt x="2270" y="188"/>
                  </a:lnTo>
                  <a:cubicBezTo>
                    <a:pt x="2270" y="84"/>
                    <a:pt x="1762" y="0"/>
                    <a:pt x="1135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84880" y="5069160"/>
              <a:ext cx="436680" cy="31320"/>
            </a:xfrm>
            <a:custGeom>
              <a:avLst/>
              <a:gdLst/>
              <a:ahLst/>
              <a:rect l="l" t="t" r="r" b="b"/>
              <a:pathLst>
                <a:path w="680" h="57">
                  <a:moveTo>
                    <a:pt x="0" y="0"/>
                  </a:moveTo>
                  <a:cubicBezTo>
                    <a:pt x="0" y="32"/>
                    <a:pt x="152" y="57"/>
                    <a:pt x="340" y="57"/>
                  </a:cubicBezTo>
                  <a:cubicBezTo>
                    <a:pt x="528" y="57"/>
                    <a:pt x="680" y="32"/>
                    <a:pt x="68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369120" y="5083200"/>
            <a:ext cx="2872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u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16200" y="5448240"/>
            <a:ext cx="72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038560" y="3809880"/>
            <a:ext cx="684360" cy="231840"/>
            <a:chOff x="5038560" y="3809880"/>
            <a:chExt cx="684360" cy="231840"/>
          </a:xfrm>
        </p:grpSpPr>
        <p:sp>
          <p:nvSpPr>
            <p:cNvPr id="144" name=""/>
            <p:cNvSpPr/>
            <p:nvPr/>
          </p:nvSpPr>
          <p:spPr>
            <a:xfrm>
              <a:off x="5038560" y="3809880"/>
              <a:ext cx="684360" cy="2318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38560" y="3809880"/>
              <a:ext cx="684360" cy="23184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038560" y="3836880"/>
            <a:ext cx="5256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man Old Style"/>
              </a:rPr>
              <a:t>gsmS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00880" y="4397400"/>
            <a:ext cx="3240" cy="64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50000" y="4267080"/>
            <a:ext cx="5875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52840" y="4325760"/>
            <a:ext cx="682560" cy="2764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556240" y="4325760"/>
            <a:ext cx="681120" cy="2764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56200" y="4379760"/>
            <a:ext cx="2880" cy="65880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08360" y="4157640"/>
            <a:ext cx="11160" cy="1103400"/>
          </a:xfrm>
          <a:custGeom>
            <a:avLst/>
            <a:gdLst/>
            <a:ahLst/>
            <a:rect l="l" t="t" r="r" b="b"/>
            <a:pathLst>
              <a:path w="54" h="6150">
                <a:moveTo>
                  <a:pt x="50" y="25"/>
                </a:moveTo>
                <a:lnTo>
                  <a:pt x="51" y="175"/>
                </a:lnTo>
                <a:cubicBezTo>
                  <a:pt x="51" y="189"/>
                  <a:pt x="39" y="200"/>
                  <a:pt x="26" y="200"/>
                </a:cubicBezTo>
                <a:cubicBezTo>
                  <a:pt x="12" y="200"/>
                  <a:pt x="1" y="189"/>
                  <a:pt x="1" y="175"/>
                </a:cubicBezTo>
                <a:lnTo>
                  <a:pt x="0" y="25"/>
                </a:lnTo>
                <a:cubicBezTo>
                  <a:pt x="0" y="12"/>
                  <a:pt x="12" y="0"/>
                  <a:pt x="25" y="0"/>
                </a:cubicBezTo>
                <a:cubicBezTo>
                  <a:pt x="39" y="0"/>
                  <a:pt x="50" y="12"/>
                  <a:pt x="50" y="25"/>
                </a:cubicBezTo>
                <a:close/>
                <a:moveTo>
                  <a:pt x="51" y="375"/>
                </a:moveTo>
                <a:lnTo>
                  <a:pt x="51" y="525"/>
                </a:lnTo>
                <a:cubicBezTo>
                  <a:pt x="51" y="539"/>
                  <a:pt x="40" y="550"/>
                  <a:pt x="26" y="550"/>
                </a:cubicBezTo>
                <a:cubicBezTo>
                  <a:pt x="12" y="550"/>
                  <a:pt x="1" y="539"/>
                  <a:pt x="1" y="525"/>
                </a:cubicBezTo>
                <a:lnTo>
                  <a:pt x="1" y="375"/>
                </a:lnTo>
                <a:cubicBezTo>
                  <a:pt x="1" y="362"/>
                  <a:pt x="12" y="350"/>
                  <a:pt x="26" y="350"/>
                </a:cubicBezTo>
                <a:cubicBezTo>
                  <a:pt x="39" y="350"/>
                  <a:pt x="51" y="362"/>
                  <a:pt x="51" y="375"/>
                </a:cubicBezTo>
                <a:close/>
                <a:moveTo>
                  <a:pt x="51" y="725"/>
                </a:moveTo>
                <a:lnTo>
                  <a:pt x="51" y="875"/>
                </a:lnTo>
                <a:cubicBezTo>
                  <a:pt x="51" y="889"/>
                  <a:pt x="40" y="900"/>
                  <a:pt x="26" y="900"/>
                </a:cubicBezTo>
                <a:cubicBezTo>
                  <a:pt x="12" y="900"/>
                  <a:pt x="1" y="889"/>
                  <a:pt x="1" y="875"/>
                </a:cubicBezTo>
                <a:lnTo>
                  <a:pt x="1" y="725"/>
                </a:lnTo>
                <a:cubicBezTo>
                  <a:pt x="1" y="712"/>
                  <a:pt x="12" y="700"/>
                  <a:pt x="26" y="700"/>
                </a:cubicBezTo>
                <a:cubicBezTo>
                  <a:pt x="40" y="700"/>
                  <a:pt x="51" y="712"/>
                  <a:pt x="51" y="725"/>
                </a:cubicBezTo>
                <a:close/>
                <a:moveTo>
                  <a:pt x="51" y="1075"/>
                </a:moveTo>
                <a:lnTo>
                  <a:pt x="51" y="1225"/>
                </a:lnTo>
                <a:cubicBezTo>
                  <a:pt x="51" y="1239"/>
                  <a:pt x="40" y="1250"/>
                  <a:pt x="26" y="1250"/>
                </a:cubicBezTo>
                <a:cubicBezTo>
                  <a:pt x="12" y="1250"/>
                  <a:pt x="1" y="1239"/>
                  <a:pt x="1" y="1225"/>
                </a:cubicBezTo>
                <a:lnTo>
                  <a:pt x="1" y="1075"/>
                </a:lnTo>
                <a:cubicBezTo>
                  <a:pt x="1" y="1062"/>
                  <a:pt x="12" y="1050"/>
                  <a:pt x="26" y="1050"/>
                </a:cubicBezTo>
                <a:cubicBezTo>
                  <a:pt x="40" y="1050"/>
                  <a:pt x="51" y="1062"/>
                  <a:pt x="51" y="1075"/>
                </a:cubicBezTo>
                <a:close/>
                <a:moveTo>
                  <a:pt x="51" y="1425"/>
                </a:moveTo>
                <a:lnTo>
                  <a:pt x="51" y="1575"/>
                </a:lnTo>
                <a:cubicBezTo>
                  <a:pt x="51" y="1589"/>
                  <a:pt x="40" y="1600"/>
                  <a:pt x="26" y="1600"/>
                </a:cubicBezTo>
                <a:cubicBezTo>
                  <a:pt x="13" y="1600"/>
                  <a:pt x="1" y="1589"/>
                  <a:pt x="1" y="1575"/>
                </a:cubicBezTo>
                <a:lnTo>
                  <a:pt x="1" y="1425"/>
                </a:lnTo>
                <a:cubicBezTo>
                  <a:pt x="1" y="1412"/>
                  <a:pt x="12" y="1400"/>
                  <a:pt x="26" y="1400"/>
                </a:cubicBezTo>
                <a:cubicBezTo>
                  <a:pt x="40" y="1400"/>
                  <a:pt x="51" y="1412"/>
                  <a:pt x="51" y="1425"/>
                </a:cubicBezTo>
                <a:close/>
                <a:moveTo>
                  <a:pt x="51" y="1775"/>
                </a:moveTo>
                <a:lnTo>
                  <a:pt x="51" y="1925"/>
                </a:lnTo>
                <a:cubicBezTo>
                  <a:pt x="51" y="1939"/>
                  <a:pt x="40" y="1950"/>
                  <a:pt x="26" y="1950"/>
                </a:cubicBezTo>
                <a:cubicBezTo>
                  <a:pt x="13" y="1950"/>
                  <a:pt x="1" y="1939"/>
                  <a:pt x="1" y="1925"/>
                </a:cubicBezTo>
                <a:lnTo>
                  <a:pt x="1" y="1775"/>
                </a:lnTo>
                <a:cubicBezTo>
                  <a:pt x="1" y="1762"/>
                  <a:pt x="13" y="1750"/>
                  <a:pt x="26" y="1750"/>
                </a:cubicBezTo>
                <a:cubicBezTo>
                  <a:pt x="40" y="1750"/>
                  <a:pt x="51" y="1762"/>
                  <a:pt x="51" y="1775"/>
                </a:cubicBezTo>
                <a:close/>
                <a:moveTo>
                  <a:pt x="52" y="2125"/>
                </a:moveTo>
                <a:lnTo>
                  <a:pt x="52" y="2275"/>
                </a:lnTo>
                <a:cubicBezTo>
                  <a:pt x="52" y="2289"/>
                  <a:pt x="40" y="2300"/>
                  <a:pt x="27" y="2300"/>
                </a:cubicBezTo>
                <a:cubicBezTo>
                  <a:pt x="13" y="2300"/>
                  <a:pt x="2" y="2289"/>
                  <a:pt x="2" y="2275"/>
                </a:cubicBezTo>
                <a:lnTo>
                  <a:pt x="2" y="2125"/>
                </a:lnTo>
                <a:cubicBezTo>
                  <a:pt x="2" y="2112"/>
                  <a:pt x="13" y="2100"/>
                  <a:pt x="27" y="2100"/>
                </a:cubicBezTo>
                <a:cubicBezTo>
                  <a:pt x="40" y="2100"/>
                  <a:pt x="52" y="2112"/>
                  <a:pt x="52" y="2125"/>
                </a:cubicBezTo>
                <a:close/>
                <a:moveTo>
                  <a:pt x="52" y="2475"/>
                </a:moveTo>
                <a:lnTo>
                  <a:pt x="52" y="2625"/>
                </a:lnTo>
                <a:cubicBezTo>
                  <a:pt x="52" y="2639"/>
                  <a:pt x="41" y="2650"/>
                  <a:pt x="27" y="2650"/>
                </a:cubicBezTo>
                <a:cubicBezTo>
                  <a:pt x="13" y="2650"/>
                  <a:pt x="2" y="2639"/>
                  <a:pt x="2" y="2625"/>
                </a:cubicBezTo>
                <a:lnTo>
                  <a:pt x="2" y="2475"/>
                </a:lnTo>
                <a:cubicBezTo>
                  <a:pt x="2" y="2462"/>
                  <a:pt x="13" y="2450"/>
                  <a:pt x="27" y="2450"/>
                </a:cubicBezTo>
                <a:cubicBezTo>
                  <a:pt x="41" y="2450"/>
                  <a:pt x="52" y="2462"/>
                  <a:pt x="52" y="2475"/>
                </a:cubicBezTo>
                <a:close/>
                <a:moveTo>
                  <a:pt x="52" y="2825"/>
                </a:moveTo>
                <a:lnTo>
                  <a:pt x="52" y="2975"/>
                </a:lnTo>
                <a:cubicBezTo>
                  <a:pt x="52" y="2989"/>
                  <a:pt x="41" y="3000"/>
                  <a:pt x="27" y="3000"/>
                </a:cubicBezTo>
                <a:cubicBezTo>
                  <a:pt x="13" y="3000"/>
                  <a:pt x="2" y="2989"/>
                  <a:pt x="2" y="2975"/>
                </a:cubicBezTo>
                <a:lnTo>
                  <a:pt x="2" y="2825"/>
                </a:lnTo>
                <a:cubicBezTo>
                  <a:pt x="2" y="2812"/>
                  <a:pt x="13" y="2800"/>
                  <a:pt x="27" y="2800"/>
                </a:cubicBezTo>
                <a:cubicBezTo>
                  <a:pt x="41" y="2800"/>
                  <a:pt x="52" y="2812"/>
                  <a:pt x="52" y="2825"/>
                </a:cubicBezTo>
                <a:close/>
                <a:moveTo>
                  <a:pt x="52" y="3175"/>
                </a:moveTo>
                <a:lnTo>
                  <a:pt x="52" y="3325"/>
                </a:lnTo>
                <a:cubicBezTo>
                  <a:pt x="52" y="3339"/>
                  <a:pt x="41" y="3350"/>
                  <a:pt x="27" y="3350"/>
                </a:cubicBezTo>
                <a:cubicBezTo>
                  <a:pt x="13" y="3350"/>
                  <a:pt x="2" y="3339"/>
                  <a:pt x="2" y="3325"/>
                </a:cubicBezTo>
                <a:lnTo>
                  <a:pt x="2" y="3175"/>
                </a:lnTo>
                <a:cubicBezTo>
                  <a:pt x="2" y="3162"/>
                  <a:pt x="13" y="3150"/>
                  <a:pt x="27" y="3150"/>
                </a:cubicBezTo>
                <a:cubicBezTo>
                  <a:pt x="41" y="3150"/>
                  <a:pt x="52" y="3162"/>
                  <a:pt x="52" y="3175"/>
                </a:cubicBezTo>
                <a:close/>
                <a:moveTo>
                  <a:pt x="52" y="3525"/>
                </a:moveTo>
                <a:lnTo>
                  <a:pt x="52" y="3675"/>
                </a:lnTo>
                <a:cubicBezTo>
                  <a:pt x="52" y="3689"/>
                  <a:pt x="41" y="3700"/>
                  <a:pt x="27" y="3700"/>
                </a:cubicBezTo>
                <a:cubicBezTo>
                  <a:pt x="14" y="3700"/>
                  <a:pt x="2" y="3689"/>
                  <a:pt x="2" y="3675"/>
                </a:cubicBezTo>
                <a:lnTo>
                  <a:pt x="2" y="3525"/>
                </a:lnTo>
                <a:cubicBezTo>
                  <a:pt x="2" y="3512"/>
                  <a:pt x="14" y="3500"/>
                  <a:pt x="27" y="3500"/>
                </a:cubicBezTo>
                <a:cubicBezTo>
                  <a:pt x="41" y="3500"/>
                  <a:pt x="52" y="3512"/>
                  <a:pt x="52" y="3525"/>
                </a:cubicBezTo>
                <a:close/>
                <a:moveTo>
                  <a:pt x="53" y="3875"/>
                </a:moveTo>
                <a:lnTo>
                  <a:pt x="53" y="4025"/>
                </a:lnTo>
                <a:cubicBezTo>
                  <a:pt x="53" y="4039"/>
                  <a:pt x="41" y="4050"/>
                  <a:pt x="28" y="4050"/>
                </a:cubicBezTo>
                <a:cubicBezTo>
                  <a:pt x="14" y="4050"/>
                  <a:pt x="3" y="4039"/>
                  <a:pt x="3" y="4025"/>
                </a:cubicBezTo>
                <a:lnTo>
                  <a:pt x="3" y="3875"/>
                </a:lnTo>
                <a:cubicBezTo>
                  <a:pt x="3" y="3862"/>
                  <a:pt x="14" y="3850"/>
                  <a:pt x="28" y="3850"/>
                </a:cubicBezTo>
                <a:cubicBezTo>
                  <a:pt x="41" y="3850"/>
                  <a:pt x="53" y="3862"/>
                  <a:pt x="53" y="3875"/>
                </a:cubicBezTo>
                <a:close/>
                <a:moveTo>
                  <a:pt x="53" y="4225"/>
                </a:moveTo>
                <a:lnTo>
                  <a:pt x="53" y="4375"/>
                </a:lnTo>
                <a:cubicBezTo>
                  <a:pt x="53" y="4389"/>
                  <a:pt x="42" y="4400"/>
                  <a:pt x="28" y="4400"/>
                </a:cubicBezTo>
                <a:cubicBezTo>
                  <a:pt x="14" y="4400"/>
                  <a:pt x="3" y="4389"/>
                  <a:pt x="3" y="4375"/>
                </a:cubicBezTo>
                <a:lnTo>
                  <a:pt x="3" y="4225"/>
                </a:lnTo>
                <a:cubicBezTo>
                  <a:pt x="3" y="4212"/>
                  <a:pt x="14" y="4200"/>
                  <a:pt x="28" y="4200"/>
                </a:cubicBezTo>
                <a:cubicBezTo>
                  <a:pt x="42" y="4200"/>
                  <a:pt x="53" y="4212"/>
                  <a:pt x="53" y="4225"/>
                </a:cubicBezTo>
                <a:close/>
                <a:moveTo>
                  <a:pt x="53" y="4575"/>
                </a:moveTo>
                <a:lnTo>
                  <a:pt x="53" y="4725"/>
                </a:lnTo>
                <a:cubicBezTo>
                  <a:pt x="53" y="4739"/>
                  <a:pt x="42" y="4750"/>
                  <a:pt x="28" y="4750"/>
                </a:cubicBezTo>
                <a:cubicBezTo>
                  <a:pt x="14" y="4750"/>
                  <a:pt x="3" y="4739"/>
                  <a:pt x="3" y="4725"/>
                </a:cubicBezTo>
                <a:lnTo>
                  <a:pt x="3" y="4575"/>
                </a:lnTo>
                <a:cubicBezTo>
                  <a:pt x="3" y="4562"/>
                  <a:pt x="14" y="4550"/>
                  <a:pt x="28" y="4550"/>
                </a:cubicBezTo>
                <a:cubicBezTo>
                  <a:pt x="42" y="4550"/>
                  <a:pt x="53" y="4562"/>
                  <a:pt x="53" y="4575"/>
                </a:cubicBezTo>
                <a:close/>
                <a:moveTo>
                  <a:pt x="53" y="4925"/>
                </a:moveTo>
                <a:lnTo>
                  <a:pt x="53" y="5075"/>
                </a:lnTo>
                <a:cubicBezTo>
                  <a:pt x="53" y="5089"/>
                  <a:pt x="42" y="5100"/>
                  <a:pt x="28" y="5100"/>
                </a:cubicBezTo>
                <a:cubicBezTo>
                  <a:pt x="14" y="5100"/>
                  <a:pt x="3" y="5089"/>
                  <a:pt x="3" y="5075"/>
                </a:cubicBezTo>
                <a:lnTo>
                  <a:pt x="3" y="4925"/>
                </a:lnTo>
                <a:cubicBezTo>
                  <a:pt x="3" y="4912"/>
                  <a:pt x="14" y="4900"/>
                  <a:pt x="28" y="4900"/>
                </a:cubicBezTo>
                <a:cubicBezTo>
                  <a:pt x="42" y="4900"/>
                  <a:pt x="53" y="4912"/>
                  <a:pt x="53" y="4925"/>
                </a:cubicBezTo>
                <a:close/>
                <a:moveTo>
                  <a:pt x="53" y="5275"/>
                </a:moveTo>
                <a:lnTo>
                  <a:pt x="53" y="5425"/>
                </a:lnTo>
                <a:cubicBezTo>
                  <a:pt x="53" y="5439"/>
                  <a:pt x="42" y="5450"/>
                  <a:pt x="28" y="5450"/>
                </a:cubicBezTo>
                <a:cubicBezTo>
                  <a:pt x="15" y="5450"/>
                  <a:pt x="3" y="5439"/>
                  <a:pt x="3" y="5425"/>
                </a:cubicBezTo>
                <a:lnTo>
                  <a:pt x="3" y="5275"/>
                </a:lnTo>
                <a:cubicBezTo>
                  <a:pt x="3" y="5262"/>
                  <a:pt x="14" y="5250"/>
                  <a:pt x="28" y="5250"/>
                </a:cubicBezTo>
                <a:cubicBezTo>
                  <a:pt x="42" y="5250"/>
                  <a:pt x="53" y="5262"/>
                  <a:pt x="53" y="5275"/>
                </a:cubicBezTo>
                <a:close/>
                <a:moveTo>
                  <a:pt x="53" y="5625"/>
                </a:moveTo>
                <a:lnTo>
                  <a:pt x="54" y="5775"/>
                </a:lnTo>
                <a:cubicBezTo>
                  <a:pt x="54" y="5789"/>
                  <a:pt x="42" y="5800"/>
                  <a:pt x="29" y="5800"/>
                </a:cubicBezTo>
                <a:cubicBezTo>
                  <a:pt x="15" y="5800"/>
                  <a:pt x="4" y="5789"/>
                  <a:pt x="4" y="5775"/>
                </a:cubicBezTo>
                <a:lnTo>
                  <a:pt x="3" y="5625"/>
                </a:lnTo>
                <a:cubicBezTo>
                  <a:pt x="3" y="5612"/>
                  <a:pt x="15" y="5600"/>
                  <a:pt x="28" y="5600"/>
                </a:cubicBezTo>
                <a:cubicBezTo>
                  <a:pt x="42" y="5600"/>
                  <a:pt x="53" y="5612"/>
                  <a:pt x="53" y="5625"/>
                </a:cubicBezTo>
                <a:close/>
                <a:moveTo>
                  <a:pt x="54" y="5975"/>
                </a:moveTo>
                <a:lnTo>
                  <a:pt x="54" y="6125"/>
                </a:lnTo>
                <a:cubicBezTo>
                  <a:pt x="54" y="6139"/>
                  <a:pt x="43" y="6150"/>
                  <a:pt x="29" y="6150"/>
                </a:cubicBezTo>
                <a:cubicBezTo>
                  <a:pt x="15" y="6150"/>
                  <a:pt x="4" y="6139"/>
                  <a:pt x="4" y="6125"/>
                </a:cubicBezTo>
                <a:lnTo>
                  <a:pt x="4" y="5975"/>
                </a:lnTo>
                <a:cubicBezTo>
                  <a:pt x="4" y="5962"/>
                  <a:pt x="15" y="5950"/>
                  <a:pt x="29" y="5950"/>
                </a:cubicBezTo>
                <a:cubicBezTo>
                  <a:pt x="42" y="5950"/>
                  <a:pt x="54" y="5962"/>
                  <a:pt x="54" y="5975"/>
                </a:cubicBez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35320" y="5543640"/>
            <a:ext cx="360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2"/>
                </a:solidFill>
                <a:latin typeface="Bookman Old Style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54600" y="4492800"/>
            <a:ext cx="73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55800" y="5445000"/>
            <a:ext cx="11134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2"/>
                </a:solidFill>
                <a:latin typeface="Bookman Old Style"/>
              </a:rPr>
              <a:t>N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86760" y="5840280"/>
            <a:ext cx="73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1360" y="5062680"/>
            <a:ext cx="73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083200" y="5430960"/>
            <a:ext cx="558720" cy="195120"/>
            <a:chOff x="5083200" y="5430960"/>
            <a:chExt cx="558720" cy="195120"/>
          </a:xfrm>
        </p:grpSpPr>
        <p:sp>
          <p:nvSpPr>
            <p:cNvPr id="159" name=""/>
            <p:cNvSpPr/>
            <p:nvPr/>
          </p:nvSpPr>
          <p:spPr>
            <a:xfrm>
              <a:off x="5083200" y="5430960"/>
              <a:ext cx="558720" cy="1951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83200" y="5430960"/>
              <a:ext cx="558720" cy="1951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855320" y="5468760"/>
            <a:ext cx="104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O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96960" y="5468760"/>
            <a:ext cx="72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32360" y="5362560"/>
            <a:ext cx="72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908680" y="3384720"/>
            <a:ext cx="1415880" cy="226800"/>
            <a:chOff x="5908680" y="3384720"/>
            <a:chExt cx="1415880" cy="226800"/>
          </a:xfrm>
        </p:grpSpPr>
        <p:sp>
          <p:nvSpPr>
            <p:cNvPr id="165" name=""/>
            <p:cNvSpPr/>
            <p:nvPr/>
          </p:nvSpPr>
          <p:spPr>
            <a:xfrm>
              <a:off x="5908680" y="3384720"/>
              <a:ext cx="1415880" cy="226800"/>
            </a:xfrm>
            <a:prstGeom prst="ellipse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08680" y="3384720"/>
              <a:ext cx="1415880" cy="22680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97760" y="3421080"/>
            <a:ext cx="923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eti Este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78280" y="3424320"/>
            <a:ext cx="72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67200" y="5865840"/>
            <a:ext cx="992160" cy="247680"/>
            <a:chOff x="4867200" y="5865840"/>
            <a:chExt cx="992160" cy="247680"/>
          </a:xfrm>
        </p:grpSpPr>
        <p:sp>
          <p:nvSpPr>
            <p:cNvPr id="170" name=""/>
            <p:cNvSpPr/>
            <p:nvPr/>
          </p:nvSpPr>
          <p:spPr>
            <a:xfrm>
              <a:off x="4867200" y="5865840"/>
              <a:ext cx="992160" cy="247680"/>
            </a:xfrm>
            <a:prstGeom prst="ellipse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67200" y="5865840"/>
              <a:ext cx="992160" cy="24768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678920" y="5897520"/>
            <a:ext cx="142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Oper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0120" y="5897520"/>
            <a:ext cx="72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24320" y="4875120"/>
            <a:ext cx="924120" cy="55728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49960" y="4713120"/>
            <a:ext cx="4680" cy="7257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517720" y="4381560"/>
            <a:ext cx="838440" cy="105084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99000" y="5353200"/>
            <a:ext cx="4483080" cy="7920"/>
          </a:xfrm>
          <a:custGeom>
            <a:avLst/>
            <a:gdLst/>
            <a:ahLst/>
            <a:rect l="l" t="t" r="r" b="b"/>
            <a:pathLst>
              <a:path w="23273" h="56">
                <a:moveTo>
                  <a:pt x="25" y="6"/>
                </a:moveTo>
                <a:lnTo>
                  <a:pt x="175" y="6"/>
                </a:lnTo>
                <a:cubicBezTo>
                  <a:pt x="189" y="6"/>
                  <a:pt x="200" y="18"/>
                  <a:pt x="200" y="31"/>
                </a:cubicBezTo>
                <a:cubicBezTo>
                  <a:pt x="200" y="45"/>
                  <a:pt x="189" y="56"/>
                  <a:pt x="175" y="56"/>
                </a:cubicBezTo>
                <a:lnTo>
                  <a:pt x="25" y="56"/>
                </a:lnTo>
                <a:cubicBezTo>
                  <a:pt x="11" y="56"/>
                  <a:pt x="0" y="45"/>
                  <a:pt x="0" y="31"/>
                </a:cubicBezTo>
                <a:cubicBezTo>
                  <a:pt x="0" y="18"/>
                  <a:pt x="11" y="6"/>
                  <a:pt x="25" y="6"/>
                </a:cubicBezTo>
                <a:close/>
                <a:moveTo>
                  <a:pt x="375" y="6"/>
                </a:moveTo>
                <a:lnTo>
                  <a:pt x="525" y="6"/>
                </a:lnTo>
                <a:cubicBezTo>
                  <a:pt x="539" y="6"/>
                  <a:pt x="550" y="18"/>
                  <a:pt x="550" y="31"/>
                </a:cubicBezTo>
                <a:cubicBezTo>
                  <a:pt x="550" y="45"/>
                  <a:pt x="539" y="56"/>
                  <a:pt x="525" y="56"/>
                </a:cubicBezTo>
                <a:lnTo>
                  <a:pt x="375" y="56"/>
                </a:lnTo>
                <a:cubicBezTo>
                  <a:pt x="361" y="56"/>
                  <a:pt x="350" y="45"/>
                  <a:pt x="350" y="31"/>
                </a:cubicBezTo>
                <a:cubicBezTo>
                  <a:pt x="350" y="18"/>
                  <a:pt x="361" y="6"/>
                  <a:pt x="375" y="6"/>
                </a:cubicBezTo>
                <a:close/>
                <a:moveTo>
                  <a:pt x="725" y="6"/>
                </a:moveTo>
                <a:lnTo>
                  <a:pt x="875" y="6"/>
                </a:lnTo>
                <a:cubicBezTo>
                  <a:pt x="889" y="6"/>
                  <a:pt x="900" y="17"/>
                  <a:pt x="900" y="31"/>
                </a:cubicBezTo>
                <a:cubicBezTo>
                  <a:pt x="900" y="45"/>
                  <a:pt x="889" y="56"/>
                  <a:pt x="875" y="56"/>
                </a:cubicBezTo>
                <a:lnTo>
                  <a:pt x="725" y="56"/>
                </a:lnTo>
                <a:cubicBezTo>
                  <a:pt x="711" y="56"/>
                  <a:pt x="700" y="45"/>
                  <a:pt x="700" y="31"/>
                </a:cubicBezTo>
                <a:cubicBezTo>
                  <a:pt x="700" y="17"/>
                  <a:pt x="711" y="6"/>
                  <a:pt x="725" y="6"/>
                </a:cubicBezTo>
                <a:close/>
                <a:moveTo>
                  <a:pt x="1075" y="6"/>
                </a:moveTo>
                <a:lnTo>
                  <a:pt x="1225" y="6"/>
                </a:lnTo>
                <a:cubicBezTo>
                  <a:pt x="1239" y="6"/>
                  <a:pt x="1250" y="17"/>
                  <a:pt x="1250" y="31"/>
                </a:cubicBezTo>
                <a:cubicBezTo>
                  <a:pt x="1250" y="45"/>
                  <a:pt x="1239" y="56"/>
                  <a:pt x="1225" y="56"/>
                </a:cubicBezTo>
                <a:lnTo>
                  <a:pt x="1075" y="56"/>
                </a:lnTo>
                <a:cubicBezTo>
                  <a:pt x="1061" y="56"/>
                  <a:pt x="1050" y="45"/>
                  <a:pt x="1050" y="31"/>
                </a:cubicBezTo>
                <a:cubicBezTo>
                  <a:pt x="1050" y="17"/>
                  <a:pt x="1061" y="6"/>
                  <a:pt x="1075" y="6"/>
                </a:cubicBezTo>
                <a:close/>
                <a:moveTo>
                  <a:pt x="1425" y="6"/>
                </a:moveTo>
                <a:lnTo>
                  <a:pt x="1575" y="6"/>
                </a:lnTo>
                <a:cubicBezTo>
                  <a:pt x="1589" y="6"/>
                  <a:pt x="1600" y="17"/>
                  <a:pt x="1600" y="31"/>
                </a:cubicBezTo>
                <a:cubicBezTo>
                  <a:pt x="1600" y="45"/>
                  <a:pt x="1589" y="56"/>
                  <a:pt x="1575" y="56"/>
                </a:cubicBezTo>
                <a:lnTo>
                  <a:pt x="1425" y="56"/>
                </a:lnTo>
                <a:cubicBezTo>
                  <a:pt x="1411" y="56"/>
                  <a:pt x="1400" y="45"/>
                  <a:pt x="1400" y="31"/>
                </a:cubicBezTo>
                <a:cubicBezTo>
                  <a:pt x="1400" y="17"/>
                  <a:pt x="1411" y="6"/>
                  <a:pt x="1425" y="6"/>
                </a:cubicBezTo>
                <a:close/>
                <a:moveTo>
                  <a:pt x="1775" y="6"/>
                </a:moveTo>
                <a:lnTo>
                  <a:pt x="1925" y="6"/>
                </a:lnTo>
                <a:cubicBezTo>
                  <a:pt x="1939" y="6"/>
                  <a:pt x="1950" y="17"/>
                  <a:pt x="1950" y="31"/>
                </a:cubicBezTo>
                <a:cubicBezTo>
                  <a:pt x="1950" y="45"/>
                  <a:pt x="1939" y="56"/>
                  <a:pt x="1925" y="56"/>
                </a:cubicBezTo>
                <a:lnTo>
                  <a:pt x="1775" y="56"/>
                </a:lnTo>
                <a:cubicBezTo>
                  <a:pt x="1761" y="56"/>
                  <a:pt x="1750" y="45"/>
                  <a:pt x="1750" y="31"/>
                </a:cubicBezTo>
                <a:cubicBezTo>
                  <a:pt x="1750" y="17"/>
                  <a:pt x="1761" y="6"/>
                  <a:pt x="1775" y="6"/>
                </a:cubicBezTo>
                <a:close/>
                <a:moveTo>
                  <a:pt x="2125" y="6"/>
                </a:moveTo>
                <a:lnTo>
                  <a:pt x="2275" y="6"/>
                </a:lnTo>
                <a:cubicBezTo>
                  <a:pt x="2289" y="6"/>
                  <a:pt x="2300" y="17"/>
                  <a:pt x="2300" y="31"/>
                </a:cubicBezTo>
                <a:cubicBezTo>
                  <a:pt x="2300" y="45"/>
                  <a:pt x="2289" y="56"/>
                  <a:pt x="2275" y="56"/>
                </a:cubicBezTo>
                <a:lnTo>
                  <a:pt x="2125" y="56"/>
                </a:lnTo>
                <a:cubicBezTo>
                  <a:pt x="2111" y="56"/>
                  <a:pt x="2100" y="45"/>
                  <a:pt x="2100" y="31"/>
                </a:cubicBezTo>
                <a:cubicBezTo>
                  <a:pt x="2100" y="17"/>
                  <a:pt x="2111" y="6"/>
                  <a:pt x="2125" y="6"/>
                </a:cubicBezTo>
                <a:close/>
                <a:moveTo>
                  <a:pt x="2475" y="6"/>
                </a:moveTo>
                <a:lnTo>
                  <a:pt x="2625" y="6"/>
                </a:lnTo>
                <a:cubicBezTo>
                  <a:pt x="2639" y="6"/>
                  <a:pt x="2650" y="17"/>
                  <a:pt x="2650" y="31"/>
                </a:cubicBezTo>
                <a:cubicBezTo>
                  <a:pt x="2650" y="45"/>
                  <a:pt x="2639" y="56"/>
                  <a:pt x="2625" y="56"/>
                </a:cubicBezTo>
                <a:lnTo>
                  <a:pt x="2475" y="56"/>
                </a:lnTo>
                <a:cubicBezTo>
                  <a:pt x="2461" y="56"/>
                  <a:pt x="2450" y="45"/>
                  <a:pt x="2450" y="31"/>
                </a:cubicBezTo>
                <a:cubicBezTo>
                  <a:pt x="2450" y="17"/>
                  <a:pt x="2461" y="6"/>
                  <a:pt x="2475" y="6"/>
                </a:cubicBezTo>
                <a:close/>
                <a:moveTo>
                  <a:pt x="2825" y="6"/>
                </a:moveTo>
                <a:lnTo>
                  <a:pt x="2975" y="6"/>
                </a:lnTo>
                <a:cubicBezTo>
                  <a:pt x="2989" y="6"/>
                  <a:pt x="3000" y="17"/>
                  <a:pt x="3000" y="31"/>
                </a:cubicBezTo>
                <a:cubicBezTo>
                  <a:pt x="3000" y="44"/>
                  <a:pt x="2989" y="56"/>
                  <a:pt x="2975" y="56"/>
                </a:cubicBezTo>
                <a:lnTo>
                  <a:pt x="2825" y="56"/>
                </a:lnTo>
                <a:cubicBezTo>
                  <a:pt x="2811" y="56"/>
                  <a:pt x="2800" y="44"/>
                  <a:pt x="2800" y="31"/>
                </a:cubicBezTo>
                <a:cubicBezTo>
                  <a:pt x="2800" y="17"/>
                  <a:pt x="2811" y="6"/>
                  <a:pt x="2825" y="6"/>
                </a:cubicBezTo>
                <a:close/>
                <a:moveTo>
                  <a:pt x="3175" y="6"/>
                </a:moveTo>
                <a:lnTo>
                  <a:pt x="3325" y="6"/>
                </a:lnTo>
                <a:cubicBezTo>
                  <a:pt x="3339" y="6"/>
                  <a:pt x="3350" y="17"/>
                  <a:pt x="3350" y="31"/>
                </a:cubicBezTo>
                <a:cubicBezTo>
                  <a:pt x="3350" y="44"/>
                  <a:pt x="3339" y="56"/>
                  <a:pt x="3325" y="56"/>
                </a:cubicBezTo>
                <a:lnTo>
                  <a:pt x="3175" y="56"/>
                </a:lnTo>
                <a:cubicBezTo>
                  <a:pt x="3161" y="56"/>
                  <a:pt x="3150" y="44"/>
                  <a:pt x="3150" y="31"/>
                </a:cubicBezTo>
                <a:cubicBezTo>
                  <a:pt x="3150" y="17"/>
                  <a:pt x="3161" y="6"/>
                  <a:pt x="3175" y="6"/>
                </a:cubicBezTo>
                <a:close/>
                <a:moveTo>
                  <a:pt x="3525" y="5"/>
                </a:moveTo>
                <a:lnTo>
                  <a:pt x="3675" y="5"/>
                </a:lnTo>
                <a:cubicBezTo>
                  <a:pt x="3689" y="5"/>
                  <a:pt x="3700" y="17"/>
                  <a:pt x="3700" y="30"/>
                </a:cubicBezTo>
                <a:cubicBezTo>
                  <a:pt x="3700" y="44"/>
                  <a:pt x="3689" y="55"/>
                  <a:pt x="3675" y="55"/>
                </a:cubicBezTo>
                <a:lnTo>
                  <a:pt x="3525" y="55"/>
                </a:lnTo>
                <a:cubicBezTo>
                  <a:pt x="3511" y="55"/>
                  <a:pt x="3500" y="44"/>
                  <a:pt x="3500" y="30"/>
                </a:cubicBezTo>
                <a:cubicBezTo>
                  <a:pt x="3500" y="17"/>
                  <a:pt x="3511" y="5"/>
                  <a:pt x="3525" y="5"/>
                </a:cubicBezTo>
                <a:close/>
                <a:moveTo>
                  <a:pt x="3875" y="5"/>
                </a:moveTo>
                <a:lnTo>
                  <a:pt x="4025" y="5"/>
                </a:lnTo>
                <a:cubicBezTo>
                  <a:pt x="4039" y="5"/>
                  <a:pt x="4050" y="16"/>
                  <a:pt x="4050" y="30"/>
                </a:cubicBezTo>
                <a:cubicBezTo>
                  <a:pt x="4050" y="44"/>
                  <a:pt x="4039" y="55"/>
                  <a:pt x="4025" y="55"/>
                </a:cubicBezTo>
                <a:lnTo>
                  <a:pt x="3875" y="55"/>
                </a:lnTo>
                <a:cubicBezTo>
                  <a:pt x="3861" y="55"/>
                  <a:pt x="3850" y="44"/>
                  <a:pt x="3850" y="30"/>
                </a:cubicBezTo>
                <a:cubicBezTo>
                  <a:pt x="3850" y="17"/>
                  <a:pt x="3861" y="5"/>
                  <a:pt x="3875" y="5"/>
                </a:cubicBezTo>
                <a:close/>
                <a:moveTo>
                  <a:pt x="4225" y="5"/>
                </a:moveTo>
                <a:lnTo>
                  <a:pt x="4375" y="5"/>
                </a:lnTo>
                <a:cubicBezTo>
                  <a:pt x="4389" y="5"/>
                  <a:pt x="4400" y="16"/>
                  <a:pt x="4400" y="30"/>
                </a:cubicBezTo>
                <a:cubicBezTo>
                  <a:pt x="4400" y="44"/>
                  <a:pt x="4389" y="55"/>
                  <a:pt x="4375" y="55"/>
                </a:cubicBezTo>
                <a:lnTo>
                  <a:pt x="4225" y="55"/>
                </a:lnTo>
                <a:cubicBezTo>
                  <a:pt x="4211" y="55"/>
                  <a:pt x="4200" y="44"/>
                  <a:pt x="4200" y="30"/>
                </a:cubicBezTo>
                <a:cubicBezTo>
                  <a:pt x="4200" y="16"/>
                  <a:pt x="4211" y="5"/>
                  <a:pt x="4225" y="5"/>
                </a:cubicBezTo>
                <a:close/>
                <a:moveTo>
                  <a:pt x="4575" y="5"/>
                </a:moveTo>
                <a:lnTo>
                  <a:pt x="4725" y="5"/>
                </a:lnTo>
                <a:cubicBezTo>
                  <a:pt x="4739" y="5"/>
                  <a:pt x="4750" y="16"/>
                  <a:pt x="4750" y="30"/>
                </a:cubicBezTo>
                <a:cubicBezTo>
                  <a:pt x="4750" y="44"/>
                  <a:pt x="4739" y="55"/>
                  <a:pt x="4725" y="55"/>
                </a:cubicBezTo>
                <a:lnTo>
                  <a:pt x="4575" y="55"/>
                </a:lnTo>
                <a:cubicBezTo>
                  <a:pt x="4561" y="55"/>
                  <a:pt x="4550" y="44"/>
                  <a:pt x="4550" y="30"/>
                </a:cubicBezTo>
                <a:cubicBezTo>
                  <a:pt x="4550" y="16"/>
                  <a:pt x="4561" y="5"/>
                  <a:pt x="4575" y="5"/>
                </a:cubicBezTo>
                <a:close/>
                <a:moveTo>
                  <a:pt x="4925" y="5"/>
                </a:moveTo>
                <a:lnTo>
                  <a:pt x="5075" y="5"/>
                </a:lnTo>
                <a:cubicBezTo>
                  <a:pt x="5089" y="5"/>
                  <a:pt x="5100" y="16"/>
                  <a:pt x="5100" y="30"/>
                </a:cubicBezTo>
                <a:cubicBezTo>
                  <a:pt x="5100" y="44"/>
                  <a:pt x="5089" y="55"/>
                  <a:pt x="5075" y="55"/>
                </a:cubicBezTo>
                <a:lnTo>
                  <a:pt x="4925" y="55"/>
                </a:lnTo>
                <a:cubicBezTo>
                  <a:pt x="4911" y="55"/>
                  <a:pt x="4900" y="44"/>
                  <a:pt x="4900" y="30"/>
                </a:cubicBezTo>
                <a:cubicBezTo>
                  <a:pt x="4900" y="16"/>
                  <a:pt x="4911" y="5"/>
                  <a:pt x="4925" y="5"/>
                </a:cubicBezTo>
                <a:close/>
                <a:moveTo>
                  <a:pt x="5275" y="5"/>
                </a:moveTo>
                <a:lnTo>
                  <a:pt x="5425" y="5"/>
                </a:lnTo>
                <a:cubicBezTo>
                  <a:pt x="5439" y="5"/>
                  <a:pt x="5450" y="16"/>
                  <a:pt x="5450" y="30"/>
                </a:cubicBezTo>
                <a:cubicBezTo>
                  <a:pt x="5450" y="44"/>
                  <a:pt x="5439" y="55"/>
                  <a:pt x="5425" y="55"/>
                </a:cubicBezTo>
                <a:lnTo>
                  <a:pt x="5275" y="55"/>
                </a:lnTo>
                <a:cubicBezTo>
                  <a:pt x="5261" y="55"/>
                  <a:pt x="5250" y="44"/>
                  <a:pt x="5250" y="30"/>
                </a:cubicBezTo>
                <a:cubicBezTo>
                  <a:pt x="5250" y="16"/>
                  <a:pt x="5261" y="5"/>
                  <a:pt x="5275" y="5"/>
                </a:cubicBezTo>
                <a:close/>
                <a:moveTo>
                  <a:pt x="5625" y="5"/>
                </a:moveTo>
                <a:lnTo>
                  <a:pt x="5775" y="5"/>
                </a:lnTo>
                <a:cubicBezTo>
                  <a:pt x="5789" y="5"/>
                  <a:pt x="5800" y="16"/>
                  <a:pt x="5800" y="30"/>
                </a:cubicBezTo>
                <a:cubicBezTo>
                  <a:pt x="5800" y="44"/>
                  <a:pt x="5789" y="55"/>
                  <a:pt x="5775" y="55"/>
                </a:cubicBezTo>
                <a:lnTo>
                  <a:pt x="5625" y="55"/>
                </a:lnTo>
                <a:cubicBezTo>
                  <a:pt x="5611" y="55"/>
                  <a:pt x="5600" y="44"/>
                  <a:pt x="5600" y="30"/>
                </a:cubicBezTo>
                <a:cubicBezTo>
                  <a:pt x="5600" y="16"/>
                  <a:pt x="5611" y="5"/>
                  <a:pt x="5625" y="5"/>
                </a:cubicBezTo>
                <a:close/>
                <a:moveTo>
                  <a:pt x="5975" y="5"/>
                </a:moveTo>
                <a:lnTo>
                  <a:pt x="6125" y="5"/>
                </a:lnTo>
                <a:cubicBezTo>
                  <a:pt x="6139" y="5"/>
                  <a:pt x="6150" y="16"/>
                  <a:pt x="6150" y="30"/>
                </a:cubicBezTo>
                <a:cubicBezTo>
                  <a:pt x="6150" y="44"/>
                  <a:pt x="6139" y="55"/>
                  <a:pt x="6125" y="55"/>
                </a:cubicBezTo>
                <a:lnTo>
                  <a:pt x="5975" y="55"/>
                </a:lnTo>
                <a:cubicBezTo>
                  <a:pt x="5961" y="55"/>
                  <a:pt x="5950" y="44"/>
                  <a:pt x="5950" y="30"/>
                </a:cubicBezTo>
                <a:cubicBezTo>
                  <a:pt x="5950" y="16"/>
                  <a:pt x="5961" y="5"/>
                  <a:pt x="5975" y="5"/>
                </a:cubicBezTo>
                <a:close/>
                <a:moveTo>
                  <a:pt x="6325" y="5"/>
                </a:moveTo>
                <a:lnTo>
                  <a:pt x="6475" y="5"/>
                </a:lnTo>
                <a:cubicBezTo>
                  <a:pt x="6489" y="5"/>
                  <a:pt x="6500" y="16"/>
                  <a:pt x="6500" y="30"/>
                </a:cubicBezTo>
                <a:cubicBezTo>
                  <a:pt x="6500" y="43"/>
                  <a:pt x="6489" y="55"/>
                  <a:pt x="6475" y="55"/>
                </a:cubicBezTo>
                <a:lnTo>
                  <a:pt x="6325" y="55"/>
                </a:lnTo>
                <a:cubicBezTo>
                  <a:pt x="6311" y="55"/>
                  <a:pt x="6300" y="43"/>
                  <a:pt x="6300" y="30"/>
                </a:cubicBezTo>
                <a:cubicBezTo>
                  <a:pt x="6300" y="16"/>
                  <a:pt x="6311" y="5"/>
                  <a:pt x="6325" y="5"/>
                </a:cubicBezTo>
                <a:close/>
                <a:moveTo>
                  <a:pt x="6675" y="5"/>
                </a:moveTo>
                <a:lnTo>
                  <a:pt x="6825" y="5"/>
                </a:lnTo>
                <a:cubicBezTo>
                  <a:pt x="6839" y="4"/>
                  <a:pt x="6850" y="16"/>
                  <a:pt x="6850" y="29"/>
                </a:cubicBezTo>
                <a:cubicBezTo>
                  <a:pt x="6850" y="43"/>
                  <a:pt x="6839" y="54"/>
                  <a:pt x="6825" y="55"/>
                </a:cubicBezTo>
                <a:lnTo>
                  <a:pt x="6675" y="55"/>
                </a:lnTo>
                <a:cubicBezTo>
                  <a:pt x="6661" y="55"/>
                  <a:pt x="6650" y="43"/>
                  <a:pt x="6650" y="30"/>
                </a:cubicBezTo>
                <a:cubicBezTo>
                  <a:pt x="6650" y="16"/>
                  <a:pt x="6661" y="5"/>
                  <a:pt x="6675" y="5"/>
                </a:cubicBezTo>
                <a:close/>
                <a:moveTo>
                  <a:pt x="7025" y="4"/>
                </a:moveTo>
                <a:lnTo>
                  <a:pt x="7175" y="4"/>
                </a:lnTo>
                <a:cubicBezTo>
                  <a:pt x="7189" y="4"/>
                  <a:pt x="7200" y="16"/>
                  <a:pt x="7200" y="29"/>
                </a:cubicBezTo>
                <a:cubicBezTo>
                  <a:pt x="7200" y="43"/>
                  <a:pt x="7189" y="54"/>
                  <a:pt x="7175" y="54"/>
                </a:cubicBezTo>
                <a:lnTo>
                  <a:pt x="7025" y="54"/>
                </a:lnTo>
                <a:cubicBezTo>
                  <a:pt x="7011" y="54"/>
                  <a:pt x="7000" y="43"/>
                  <a:pt x="7000" y="29"/>
                </a:cubicBezTo>
                <a:cubicBezTo>
                  <a:pt x="7000" y="16"/>
                  <a:pt x="7011" y="4"/>
                  <a:pt x="7025" y="4"/>
                </a:cubicBezTo>
                <a:close/>
                <a:moveTo>
                  <a:pt x="7375" y="4"/>
                </a:moveTo>
                <a:lnTo>
                  <a:pt x="7525" y="4"/>
                </a:lnTo>
                <a:cubicBezTo>
                  <a:pt x="7539" y="4"/>
                  <a:pt x="7550" y="15"/>
                  <a:pt x="7550" y="29"/>
                </a:cubicBezTo>
                <a:cubicBezTo>
                  <a:pt x="7550" y="43"/>
                  <a:pt x="7539" y="54"/>
                  <a:pt x="7525" y="54"/>
                </a:cubicBezTo>
                <a:lnTo>
                  <a:pt x="7375" y="54"/>
                </a:lnTo>
                <a:cubicBezTo>
                  <a:pt x="7361" y="54"/>
                  <a:pt x="7350" y="43"/>
                  <a:pt x="7350" y="29"/>
                </a:cubicBezTo>
                <a:cubicBezTo>
                  <a:pt x="7350" y="16"/>
                  <a:pt x="7361" y="4"/>
                  <a:pt x="7375" y="4"/>
                </a:cubicBezTo>
                <a:close/>
                <a:moveTo>
                  <a:pt x="7725" y="4"/>
                </a:moveTo>
                <a:lnTo>
                  <a:pt x="7875" y="4"/>
                </a:lnTo>
                <a:cubicBezTo>
                  <a:pt x="7889" y="4"/>
                  <a:pt x="7900" y="15"/>
                  <a:pt x="7900" y="29"/>
                </a:cubicBezTo>
                <a:cubicBezTo>
                  <a:pt x="7900" y="43"/>
                  <a:pt x="7889" y="54"/>
                  <a:pt x="7875" y="54"/>
                </a:cubicBezTo>
                <a:lnTo>
                  <a:pt x="7725" y="54"/>
                </a:lnTo>
                <a:cubicBezTo>
                  <a:pt x="7711" y="54"/>
                  <a:pt x="7700" y="43"/>
                  <a:pt x="7700" y="29"/>
                </a:cubicBezTo>
                <a:cubicBezTo>
                  <a:pt x="7700" y="15"/>
                  <a:pt x="7711" y="4"/>
                  <a:pt x="7725" y="4"/>
                </a:cubicBezTo>
                <a:close/>
                <a:moveTo>
                  <a:pt x="8075" y="4"/>
                </a:moveTo>
                <a:lnTo>
                  <a:pt x="8225" y="4"/>
                </a:lnTo>
                <a:cubicBezTo>
                  <a:pt x="8239" y="4"/>
                  <a:pt x="8250" y="15"/>
                  <a:pt x="8250" y="29"/>
                </a:cubicBezTo>
                <a:cubicBezTo>
                  <a:pt x="8250" y="43"/>
                  <a:pt x="8239" y="54"/>
                  <a:pt x="8225" y="54"/>
                </a:cubicBezTo>
                <a:lnTo>
                  <a:pt x="8075" y="54"/>
                </a:lnTo>
                <a:cubicBezTo>
                  <a:pt x="8061" y="54"/>
                  <a:pt x="8050" y="43"/>
                  <a:pt x="8050" y="29"/>
                </a:cubicBezTo>
                <a:cubicBezTo>
                  <a:pt x="8050" y="15"/>
                  <a:pt x="8061" y="4"/>
                  <a:pt x="8075" y="4"/>
                </a:cubicBezTo>
                <a:close/>
                <a:moveTo>
                  <a:pt x="8425" y="4"/>
                </a:moveTo>
                <a:lnTo>
                  <a:pt x="8575" y="4"/>
                </a:lnTo>
                <a:cubicBezTo>
                  <a:pt x="8589" y="4"/>
                  <a:pt x="8600" y="15"/>
                  <a:pt x="8600" y="29"/>
                </a:cubicBezTo>
                <a:cubicBezTo>
                  <a:pt x="8600" y="43"/>
                  <a:pt x="8589" y="54"/>
                  <a:pt x="8575" y="54"/>
                </a:cubicBezTo>
                <a:lnTo>
                  <a:pt x="8425" y="54"/>
                </a:lnTo>
                <a:cubicBezTo>
                  <a:pt x="8411" y="54"/>
                  <a:pt x="8400" y="43"/>
                  <a:pt x="8400" y="29"/>
                </a:cubicBezTo>
                <a:cubicBezTo>
                  <a:pt x="8400" y="15"/>
                  <a:pt x="8411" y="4"/>
                  <a:pt x="8425" y="4"/>
                </a:cubicBezTo>
                <a:close/>
                <a:moveTo>
                  <a:pt x="8775" y="4"/>
                </a:moveTo>
                <a:lnTo>
                  <a:pt x="8925" y="4"/>
                </a:lnTo>
                <a:cubicBezTo>
                  <a:pt x="8939" y="4"/>
                  <a:pt x="8950" y="15"/>
                  <a:pt x="8950" y="29"/>
                </a:cubicBezTo>
                <a:cubicBezTo>
                  <a:pt x="8950" y="43"/>
                  <a:pt x="8939" y="54"/>
                  <a:pt x="8925" y="54"/>
                </a:cubicBezTo>
                <a:lnTo>
                  <a:pt x="8775" y="54"/>
                </a:lnTo>
                <a:cubicBezTo>
                  <a:pt x="8761" y="54"/>
                  <a:pt x="8750" y="43"/>
                  <a:pt x="8750" y="29"/>
                </a:cubicBezTo>
                <a:cubicBezTo>
                  <a:pt x="8750" y="15"/>
                  <a:pt x="8761" y="4"/>
                  <a:pt x="8775" y="4"/>
                </a:cubicBezTo>
                <a:close/>
                <a:moveTo>
                  <a:pt x="9125" y="4"/>
                </a:moveTo>
                <a:lnTo>
                  <a:pt x="9275" y="4"/>
                </a:lnTo>
                <a:cubicBezTo>
                  <a:pt x="9289" y="4"/>
                  <a:pt x="9300" y="15"/>
                  <a:pt x="9300" y="29"/>
                </a:cubicBezTo>
                <a:cubicBezTo>
                  <a:pt x="9300" y="43"/>
                  <a:pt x="9289" y="54"/>
                  <a:pt x="9275" y="54"/>
                </a:cubicBezTo>
                <a:lnTo>
                  <a:pt x="9125" y="54"/>
                </a:lnTo>
                <a:cubicBezTo>
                  <a:pt x="9111" y="54"/>
                  <a:pt x="9100" y="43"/>
                  <a:pt x="9100" y="29"/>
                </a:cubicBezTo>
                <a:cubicBezTo>
                  <a:pt x="9100" y="15"/>
                  <a:pt x="9111" y="4"/>
                  <a:pt x="9125" y="4"/>
                </a:cubicBezTo>
                <a:close/>
                <a:moveTo>
                  <a:pt x="9475" y="4"/>
                </a:moveTo>
                <a:lnTo>
                  <a:pt x="9625" y="4"/>
                </a:lnTo>
                <a:cubicBezTo>
                  <a:pt x="9639" y="4"/>
                  <a:pt x="9650" y="15"/>
                  <a:pt x="9650" y="29"/>
                </a:cubicBezTo>
                <a:cubicBezTo>
                  <a:pt x="9650" y="42"/>
                  <a:pt x="9639" y="54"/>
                  <a:pt x="9625" y="54"/>
                </a:cubicBezTo>
                <a:lnTo>
                  <a:pt x="9475" y="54"/>
                </a:lnTo>
                <a:cubicBezTo>
                  <a:pt x="9461" y="54"/>
                  <a:pt x="9450" y="43"/>
                  <a:pt x="9450" y="29"/>
                </a:cubicBezTo>
                <a:cubicBezTo>
                  <a:pt x="9450" y="15"/>
                  <a:pt x="9461" y="4"/>
                  <a:pt x="9475" y="4"/>
                </a:cubicBezTo>
                <a:close/>
                <a:moveTo>
                  <a:pt x="9825" y="4"/>
                </a:moveTo>
                <a:lnTo>
                  <a:pt x="9975" y="4"/>
                </a:lnTo>
                <a:cubicBezTo>
                  <a:pt x="9989" y="4"/>
                  <a:pt x="10000" y="15"/>
                  <a:pt x="10000" y="29"/>
                </a:cubicBezTo>
                <a:cubicBezTo>
                  <a:pt x="10000" y="42"/>
                  <a:pt x="9989" y="54"/>
                  <a:pt x="9975" y="54"/>
                </a:cubicBezTo>
                <a:lnTo>
                  <a:pt x="9825" y="54"/>
                </a:lnTo>
                <a:cubicBezTo>
                  <a:pt x="9811" y="54"/>
                  <a:pt x="9800" y="42"/>
                  <a:pt x="9800" y="29"/>
                </a:cubicBezTo>
                <a:cubicBezTo>
                  <a:pt x="9800" y="15"/>
                  <a:pt x="9811" y="4"/>
                  <a:pt x="9825" y="4"/>
                </a:cubicBezTo>
                <a:close/>
                <a:moveTo>
                  <a:pt x="10175" y="4"/>
                </a:moveTo>
                <a:lnTo>
                  <a:pt x="10325" y="3"/>
                </a:lnTo>
                <a:cubicBezTo>
                  <a:pt x="10339" y="3"/>
                  <a:pt x="10350" y="15"/>
                  <a:pt x="10350" y="28"/>
                </a:cubicBezTo>
                <a:cubicBezTo>
                  <a:pt x="10350" y="42"/>
                  <a:pt x="10339" y="53"/>
                  <a:pt x="10325" y="53"/>
                </a:cubicBezTo>
                <a:lnTo>
                  <a:pt x="10175" y="54"/>
                </a:lnTo>
                <a:cubicBezTo>
                  <a:pt x="10161" y="54"/>
                  <a:pt x="10150" y="42"/>
                  <a:pt x="10150" y="29"/>
                </a:cubicBezTo>
                <a:cubicBezTo>
                  <a:pt x="10150" y="15"/>
                  <a:pt x="10161" y="4"/>
                  <a:pt x="10175" y="4"/>
                </a:cubicBezTo>
                <a:close/>
                <a:moveTo>
                  <a:pt x="10525" y="3"/>
                </a:moveTo>
                <a:lnTo>
                  <a:pt x="10675" y="3"/>
                </a:lnTo>
                <a:cubicBezTo>
                  <a:pt x="10689" y="3"/>
                  <a:pt x="10700" y="15"/>
                  <a:pt x="10700" y="28"/>
                </a:cubicBezTo>
                <a:cubicBezTo>
                  <a:pt x="10700" y="42"/>
                  <a:pt x="10689" y="53"/>
                  <a:pt x="10675" y="53"/>
                </a:cubicBezTo>
                <a:lnTo>
                  <a:pt x="10525" y="53"/>
                </a:lnTo>
                <a:cubicBezTo>
                  <a:pt x="10511" y="53"/>
                  <a:pt x="10500" y="42"/>
                  <a:pt x="10500" y="28"/>
                </a:cubicBezTo>
                <a:cubicBezTo>
                  <a:pt x="10500" y="15"/>
                  <a:pt x="10511" y="3"/>
                  <a:pt x="10525" y="3"/>
                </a:cubicBezTo>
                <a:close/>
                <a:moveTo>
                  <a:pt x="10875" y="3"/>
                </a:moveTo>
                <a:lnTo>
                  <a:pt x="11025" y="3"/>
                </a:lnTo>
                <a:cubicBezTo>
                  <a:pt x="11039" y="3"/>
                  <a:pt x="11050" y="14"/>
                  <a:pt x="11050" y="28"/>
                </a:cubicBezTo>
                <a:cubicBezTo>
                  <a:pt x="11050" y="42"/>
                  <a:pt x="11039" y="53"/>
                  <a:pt x="11025" y="53"/>
                </a:cubicBezTo>
                <a:lnTo>
                  <a:pt x="10875" y="53"/>
                </a:lnTo>
                <a:cubicBezTo>
                  <a:pt x="10861" y="53"/>
                  <a:pt x="10850" y="42"/>
                  <a:pt x="10850" y="28"/>
                </a:cubicBezTo>
                <a:cubicBezTo>
                  <a:pt x="10850" y="15"/>
                  <a:pt x="10861" y="3"/>
                  <a:pt x="10875" y="3"/>
                </a:cubicBezTo>
                <a:close/>
                <a:moveTo>
                  <a:pt x="11225" y="3"/>
                </a:moveTo>
                <a:lnTo>
                  <a:pt x="11375" y="3"/>
                </a:lnTo>
                <a:cubicBezTo>
                  <a:pt x="11389" y="3"/>
                  <a:pt x="11400" y="14"/>
                  <a:pt x="11400" y="28"/>
                </a:cubicBezTo>
                <a:cubicBezTo>
                  <a:pt x="11400" y="42"/>
                  <a:pt x="11389" y="53"/>
                  <a:pt x="11375" y="53"/>
                </a:cubicBezTo>
                <a:lnTo>
                  <a:pt x="11225" y="53"/>
                </a:lnTo>
                <a:cubicBezTo>
                  <a:pt x="11211" y="53"/>
                  <a:pt x="11200" y="42"/>
                  <a:pt x="11200" y="28"/>
                </a:cubicBezTo>
                <a:cubicBezTo>
                  <a:pt x="11200" y="14"/>
                  <a:pt x="11211" y="3"/>
                  <a:pt x="11225" y="3"/>
                </a:cubicBezTo>
                <a:close/>
                <a:moveTo>
                  <a:pt x="11575" y="3"/>
                </a:moveTo>
                <a:lnTo>
                  <a:pt x="11725" y="3"/>
                </a:lnTo>
                <a:cubicBezTo>
                  <a:pt x="11739" y="3"/>
                  <a:pt x="11750" y="14"/>
                  <a:pt x="11750" y="28"/>
                </a:cubicBezTo>
                <a:cubicBezTo>
                  <a:pt x="11750" y="42"/>
                  <a:pt x="11739" y="53"/>
                  <a:pt x="11725" y="53"/>
                </a:cubicBezTo>
                <a:lnTo>
                  <a:pt x="11575" y="53"/>
                </a:lnTo>
                <a:cubicBezTo>
                  <a:pt x="11561" y="53"/>
                  <a:pt x="11550" y="42"/>
                  <a:pt x="11550" y="28"/>
                </a:cubicBezTo>
                <a:cubicBezTo>
                  <a:pt x="11550" y="14"/>
                  <a:pt x="11561" y="3"/>
                  <a:pt x="11575" y="3"/>
                </a:cubicBezTo>
                <a:close/>
                <a:moveTo>
                  <a:pt x="11925" y="3"/>
                </a:moveTo>
                <a:lnTo>
                  <a:pt x="12075" y="3"/>
                </a:lnTo>
                <a:cubicBezTo>
                  <a:pt x="12089" y="3"/>
                  <a:pt x="12100" y="14"/>
                  <a:pt x="12100" y="28"/>
                </a:cubicBezTo>
                <a:cubicBezTo>
                  <a:pt x="12100" y="42"/>
                  <a:pt x="12089" y="53"/>
                  <a:pt x="12075" y="53"/>
                </a:cubicBezTo>
                <a:lnTo>
                  <a:pt x="11925" y="53"/>
                </a:lnTo>
                <a:cubicBezTo>
                  <a:pt x="11911" y="53"/>
                  <a:pt x="11900" y="42"/>
                  <a:pt x="11900" y="28"/>
                </a:cubicBezTo>
                <a:cubicBezTo>
                  <a:pt x="11900" y="14"/>
                  <a:pt x="11911" y="3"/>
                  <a:pt x="11925" y="3"/>
                </a:cubicBezTo>
                <a:close/>
                <a:moveTo>
                  <a:pt x="12275" y="3"/>
                </a:moveTo>
                <a:lnTo>
                  <a:pt x="12425" y="3"/>
                </a:lnTo>
                <a:cubicBezTo>
                  <a:pt x="12439" y="3"/>
                  <a:pt x="12450" y="14"/>
                  <a:pt x="12450" y="28"/>
                </a:cubicBezTo>
                <a:cubicBezTo>
                  <a:pt x="12450" y="42"/>
                  <a:pt x="12439" y="53"/>
                  <a:pt x="12425" y="53"/>
                </a:cubicBezTo>
                <a:lnTo>
                  <a:pt x="12275" y="53"/>
                </a:lnTo>
                <a:cubicBezTo>
                  <a:pt x="12261" y="53"/>
                  <a:pt x="12250" y="42"/>
                  <a:pt x="12250" y="28"/>
                </a:cubicBezTo>
                <a:cubicBezTo>
                  <a:pt x="12250" y="14"/>
                  <a:pt x="12261" y="3"/>
                  <a:pt x="12275" y="3"/>
                </a:cubicBezTo>
                <a:close/>
                <a:moveTo>
                  <a:pt x="12625" y="3"/>
                </a:moveTo>
                <a:lnTo>
                  <a:pt x="12775" y="3"/>
                </a:lnTo>
                <a:cubicBezTo>
                  <a:pt x="12789" y="3"/>
                  <a:pt x="12800" y="14"/>
                  <a:pt x="12800" y="28"/>
                </a:cubicBezTo>
                <a:cubicBezTo>
                  <a:pt x="12800" y="42"/>
                  <a:pt x="12789" y="53"/>
                  <a:pt x="12775" y="53"/>
                </a:cubicBezTo>
                <a:lnTo>
                  <a:pt x="12625" y="53"/>
                </a:lnTo>
                <a:cubicBezTo>
                  <a:pt x="12611" y="53"/>
                  <a:pt x="12600" y="42"/>
                  <a:pt x="12600" y="28"/>
                </a:cubicBezTo>
                <a:cubicBezTo>
                  <a:pt x="12600" y="14"/>
                  <a:pt x="12611" y="3"/>
                  <a:pt x="12625" y="3"/>
                </a:cubicBezTo>
                <a:close/>
                <a:moveTo>
                  <a:pt x="12975" y="3"/>
                </a:moveTo>
                <a:lnTo>
                  <a:pt x="13125" y="3"/>
                </a:lnTo>
                <a:cubicBezTo>
                  <a:pt x="13139" y="3"/>
                  <a:pt x="13150" y="14"/>
                  <a:pt x="13150" y="28"/>
                </a:cubicBezTo>
                <a:cubicBezTo>
                  <a:pt x="13150" y="41"/>
                  <a:pt x="13139" y="53"/>
                  <a:pt x="13125" y="53"/>
                </a:cubicBezTo>
                <a:lnTo>
                  <a:pt x="12975" y="53"/>
                </a:lnTo>
                <a:cubicBezTo>
                  <a:pt x="12961" y="53"/>
                  <a:pt x="12950" y="42"/>
                  <a:pt x="12950" y="28"/>
                </a:cubicBezTo>
                <a:cubicBezTo>
                  <a:pt x="12950" y="14"/>
                  <a:pt x="12961" y="3"/>
                  <a:pt x="12975" y="3"/>
                </a:cubicBezTo>
                <a:close/>
                <a:moveTo>
                  <a:pt x="13325" y="3"/>
                </a:moveTo>
                <a:lnTo>
                  <a:pt x="13475" y="3"/>
                </a:lnTo>
                <a:cubicBezTo>
                  <a:pt x="13489" y="3"/>
                  <a:pt x="13500" y="14"/>
                  <a:pt x="13500" y="28"/>
                </a:cubicBezTo>
                <a:cubicBezTo>
                  <a:pt x="13500" y="41"/>
                  <a:pt x="13489" y="53"/>
                  <a:pt x="13475" y="53"/>
                </a:cubicBezTo>
                <a:lnTo>
                  <a:pt x="13325" y="53"/>
                </a:lnTo>
                <a:cubicBezTo>
                  <a:pt x="13311" y="53"/>
                  <a:pt x="13300" y="41"/>
                  <a:pt x="13300" y="28"/>
                </a:cubicBezTo>
                <a:cubicBezTo>
                  <a:pt x="13300" y="14"/>
                  <a:pt x="13311" y="3"/>
                  <a:pt x="13325" y="3"/>
                </a:cubicBezTo>
                <a:close/>
                <a:moveTo>
                  <a:pt x="13675" y="3"/>
                </a:moveTo>
                <a:lnTo>
                  <a:pt x="13825" y="2"/>
                </a:lnTo>
                <a:cubicBezTo>
                  <a:pt x="13839" y="2"/>
                  <a:pt x="13850" y="14"/>
                  <a:pt x="13850" y="27"/>
                </a:cubicBezTo>
                <a:cubicBezTo>
                  <a:pt x="13850" y="41"/>
                  <a:pt x="13839" y="52"/>
                  <a:pt x="13825" y="52"/>
                </a:cubicBezTo>
                <a:lnTo>
                  <a:pt x="13675" y="53"/>
                </a:lnTo>
                <a:cubicBezTo>
                  <a:pt x="13661" y="53"/>
                  <a:pt x="13650" y="41"/>
                  <a:pt x="13650" y="28"/>
                </a:cubicBezTo>
                <a:cubicBezTo>
                  <a:pt x="13650" y="14"/>
                  <a:pt x="13661" y="3"/>
                  <a:pt x="13675" y="3"/>
                </a:cubicBezTo>
                <a:close/>
                <a:moveTo>
                  <a:pt x="14025" y="2"/>
                </a:moveTo>
                <a:lnTo>
                  <a:pt x="14175" y="2"/>
                </a:lnTo>
                <a:cubicBezTo>
                  <a:pt x="14189" y="2"/>
                  <a:pt x="14200" y="14"/>
                  <a:pt x="14200" y="27"/>
                </a:cubicBezTo>
                <a:cubicBezTo>
                  <a:pt x="14200" y="41"/>
                  <a:pt x="14189" y="52"/>
                  <a:pt x="14175" y="52"/>
                </a:cubicBezTo>
                <a:lnTo>
                  <a:pt x="14025" y="52"/>
                </a:lnTo>
                <a:cubicBezTo>
                  <a:pt x="14011" y="52"/>
                  <a:pt x="14000" y="41"/>
                  <a:pt x="14000" y="27"/>
                </a:cubicBezTo>
                <a:cubicBezTo>
                  <a:pt x="14000" y="14"/>
                  <a:pt x="14011" y="2"/>
                  <a:pt x="14025" y="2"/>
                </a:cubicBezTo>
                <a:close/>
                <a:moveTo>
                  <a:pt x="14375" y="2"/>
                </a:moveTo>
                <a:lnTo>
                  <a:pt x="14525" y="2"/>
                </a:lnTo>
                <a:cubicBezTo>
                  <a:pt x="14539" y="2"/>
                  <a:pt x="14550" y="13"/>
                  <a:pt x="14550" y="27"/>
                </a:cubicBezTo>
                <a:cubicBezTo>
                  <a:pt x="14550" y="41"/>
                  <a:pt x="14539" y="52"/>
                  <a:pt x="14525" y="52"/>
                </a:cubicBezTo>
                <a:lnTo>
                  <a:pt x="14375" y="52"/>
                </a:lnTo>
                <a:cubicBezTo>
                  <a:pt x="14361" y="52"/>
                  <a:pt x="14350" y="41"/>
                  <a:pt x="14350" y="27"/>
                </a:cubicBezTo>
                <a:cubicBezTo>
                  <a:pt x="14350" y="14"/>
                  <a:pt x="14361" y="2"/>
                  <a:pt x="14375" y="2"/>
                </a:cubicBezTo>
                <a:close/>
                <a:moveTo>
                  <a:pt x="14725" y="2"/>
                </a:moveTo>
                <a:lnTo>
                  <a:pt x="14875" y="2"/>
                </a:lnTo>
                <a:cubicBezTo>
                  <a:pt x="14889" y="2"/>
                  <a:pt x="14900" y="13"/>
                  <a:pt x="14900" y="27"/>
                </a:cubicBezTo>
                <a:cubicBezTo>
                  <a:pt x="14900" y="41"/>
                  <a:pt x="14889" y="52"/>
                  <a:pt x="14875" y="52"/>
                </a:cubicBezTo>
                <a:lnTo>
                  <a:pt x="14725" y="52"/>
                </a:lnTo>
                <a:cubicBezTo>
                  <a:pt x="14711" y="52"/>
                  <a:pt x="14700" y="41"/>
                  <a:pt x="14700" y="27"/>
                </a:cubicBezTo>
                <a:cubicBezTo>
                  <a:pt x="14700" y="13"/>
                  <a:pt x="14711" y="2"/>
                  <a:pt x="14725" y="2"/>
                </a:cubicBezTo>
                <a:close/>
                <a:moveTo>
                  <a:pt x="15075" y="2"/>
                </a:moveTo>
                <a:lnTo>
                  <a:pt x="15225" y="2"/>
                </a:lnTo>
                <a:cubicBezTo>
                  <a:pt x="15239" y="2"/>
                  <a:pt x="15250" y="13"/>
                  <a:pt x="15250" y="27"/>
                </a:cubicBezTo>
                <a:cubicBezTo>
                  <a:pt x="15250" y="41"/>
                  <a:pt x="15239" y="52"/>
                  <a:pt x="15225" y="52"/>
                </a:cubicBezTo>
                <a:lnTo>
                  <a:pt x="15075" y="52"/>
                </a:lnTo>
                <a:cubicBezTo>
                  <a:pt x="15061" y="52"/>
                  <a:pt x="15050" y="41"/>
                  <a:pt x="15050" y="27"/>
                </a:cubicBezTo>
                <a:cubicBezTo>
                  <a:pt x="15050" y="13"/>
                  <a:pt x="15061" y="2"/>
                  <a:pt x="15075" y="2"/>
                </a:cubicBezTo>
                <a:close/>
                <a:moveTo>
                  <a:pt x="15425" y="2"/>
                </a:moveTo>
                <a:lnTo>
                  <a:pt x="15575" y="2"/>
                </a:lnTo>
                <a:cubicBezTo>
                  <a:pt x="15589" y="2"/>
                  <a:pt x="15600" y="13"/>
                  <a:pt x="15600" y="27"/>
                </a:cubicBezTo>
                <a:cubicBezTo>
                  <a:pt x="15600" y="41"/>
                  <a:pt x="15589" y="52"/>
                  <a:pt x="15575" y="52"/>
                </a:cubicBezTo>
                <a:lnTo>
                  <a:pt x="15425" y="52"/>
                </a:lnTo>
                <a:cubicBezTo>
                  <a:pt x="15411" y="52"/>
                  <a:pt x="15400" y="41"/>
                  <a:pt x="15400" y="27"/>
                </a:cubicBezTo>
                <a:cubicBezTo>
                  <a:pt x="15400" y="13"/>
                  <a:pt x="15411" y="2"/>
                  <a:pt x="15425" y="2"/>
                </a:cubicBezTo>
                <a:close/>
                <a:moveTo>
                  <a:pt x="15775" y="2"/>
                </a:moveTo>
                <a:lnTo>
                  <a:pt x="15925" y="2"/>
                </a:lnTo>
                <a:cubicBezTo>
                  <a:pt x="15939" y="2"/>
                  <a:pt x="15950" y="13"/>
                  <a:pt x="15950" y="27"/>
                </a:cubicBezTo>
                <a:cubicBezTo>
                  <a:pt x="15950" y="41"/>
                  <a:pt x="15939" y="52"/>
                  <a:pt x="15925" y="52"/>
                </a:cubicBezTo>
                <a:lnTo>
                  <a:pt x="15775" y="52"/>
                </a:lnTo>
                <a:cubicBezTo>
                  <a:pt x="15761" y="52"/>
                  <a:pt x="15750" y="41"/>
                  <a:pt x="15750" y="27"/>
                </a:cubicBezTo>
                <a:cubicBezTo>
                  <a:pt x="15750" y="13"/>
                  <a:pt x="15761" y="2"/>
                  <a:pt x="15775" y="2"/>
                </a:cubicBezTo>
                <a:close/>
                <a:moveTo>
                  <a:pt x="16125" y="2"/>
                </a:moveTo>
                <a:lnTo>
                  <a:pt x="16275" y="2"/>
                </a:lnTo>
                <a:cubicBezTo>
                  <a:pt x="16289" y="2"/>
                  <a:pt x="16300" y="13"/>
                  <a:pt x="16300" y="27"/>
                </a:cubicBezTo>
                <a:cubicBezTo>
                  <a:pt x="16300" y="41"/>
                  <a:pt x="16289" y="52"/>
                  <a:pt x="16275" y="52"/>
                </a:cubicBezTo>
                <a:lnTo>
                  <a:pt x="16125" y="52"/>
                </a:lnTo>
                <a:cubicBezTo>
                  <a:pt x="16111" y="52"/>
                  <a:pt x="16100" y="41"/>
                  <a:pt x="16100" y="27"/>
                </a:cubicBezTo>
                <a:cubicBezTo>
                  <a:pt x="16100" y="13"/>
                  <a:pt x="16111" y="2"/>
                  <a:pt x="16125" y="2"/>
                </a:cubicBezTo>
                <a:close/>
                <a:moveTo>
                  <a:pt x="16475" y="2"/>
                </a:moveTo>
                <a:lnTo>
                  <a:pt x="16625" y="2"/>
                </a:lnTo>
                <a:cubicBezTo>
                  <a:pt x="16639" y="2"/>
                  <a:pt x="16650" y="13"/>
                  <a:pt x="16650" y="27"/>
                </a:cubicBezTo>
                <a:cubicBezTo>
                  <a:pt x="16650" y="40"/>
                  <a:pt x="16639" y="52"/>
                  <a:pt x="16625" y="52"/>
                </a:cubicBezTo>
                <a:lnTo>
                  <a:pt x="16475" y="52"/>
                </a:lnTo>
                <a:cubicBezTo>
                  <a:pt x="16461" y="52"/>
                  <a:pt x="16450" y="41"/>
                  <a:pt x="16450" y="27"/>
                </a:cubicBezTo>
                <a:cubicBezTo>
                  <a:pt x="16450" y="13"/>
                  <a:pt x="16461" y="2"/>
                  <a:pt x="16475" y="2"/>
                </a:cubicBezTo>
                <a:close/>
                <a:moveTo>
                  <a:pt x="16825" y="2"/>
                </a:moveTo>
                <a:lnTo>
                  <a:pt x="16975" y="2"/>
                </a:lnTo>
                <a:cubicBezTo>
                  <a:pt x="16989" y="2"/>
                  <a:pt x="17000" y="13"/>
                  <a:pt x="17000" y="27"/>
                </a:cubicBezTo>
                <a:cubicBezTo>
                  <a:pt x="17000" y="40"/>
                  <a:pt x="16989" y="52"/>
                  <a:pt x="16975" y="52"/>
                </a:cubicBezTo>
                <a:lnTo>
                  <a:pt x="16825" y="52"/>
                </a:lnTo>
                <a:cubicBezTo>
                  <a:pt x="16811" y="52"/>
                  <a:pt x="16800" y="40"/>
                  <a:pt x="16800" y="27"/>
                </a:cubicBezTo>
                <a:cubicBezTo>
                  <a:pt x="16800" y="13"/>
                  <a:pt x="16811" y="2"/>
                  <a:pt x="16825" y="2"/>
                </a:cubicBezTo>
                <a:close/>
                <a:moveTo>
                  <a:pt x="17175" y="2"/>
                </a:moveTo>
                <a:lnTo>
                  <a:pt x="17325" y="1"/>
                </a:lnTo>
                <a:cubicBezTo>
                  <a:pt x="17339" y="1"/>
                  <a:pt x="17350" y="13"/>
                  <a:pt x="17350" y="26"/>
                </a:cubicBezTo>
                <a:cubicBezTo>
                  <a:pt x="17350" y="40"/>
                  <a:pt x="17339" y="51"/>
                  <a:pt x="17325" y="51"/>
                </a:cubicBezTo>
                <a:lnTo>
                  <a:pt x="17175" y="52"/>
                </a:lnTo>
                <a:cubicBezTo>
                  <a:pt x="17161" y="52"/>
                  <a:pt x="17150" y="40"/>
                  <a:pt x="17150" y="27"/>
                </a:cubicBezTo>
                <a:cubicBezTo>
                  <a:pt x="17150" y="13"/>
                  <a:pt x="17161" y="2"/>
                  <a:pt x="17175" y="2"/>
                </a:cubicBezTo>
                <a:close/>
                <a:moveTo>
                  <a:pt x="17525" y="1"/>
                </a:moveTo>
                <a:lnTo>
                  <a:pt x="17675" y="1"/>
                </a:lnTo>
                <a:cubicBezTo>
                  <a:pt x="17689" y="1"/>
                  <a:pt x="17700" y="13"/>
                  <a:pt x="17700" y="26"/>
                </a:cubicBezTo>
                <a:cubicBezTo>
                  <a:pt x="17700" y="40"/>
                  <a:pt x="17689" y="51"/>
                  <a:pt x="17675" y="51"/>
                </a:cubicBezTo>
                <a:lnTo>
                  <a:pt x="17525" y="51"/>
                </a:lnTo>
                <a:cubicBezTo>
                  <a:pt x="17511" y="51"/>
                  <a:pt x="17500" y="40"/>
                  <a:pt x="17500" y="26"/>
                </a:cubicBezTo>
                <a:cubicBezTo>
                  <a:pt x="17500" y="13"/>
                  <a:pt x="17511" y="1"/>
                  <a:pt x="17525" y="1"/>
                </a:cubicBezTo>
                <a:close/>
                <a:moveTo>
                  <a:pt x="17875" y="1"/>
                </a:moveTo>
                <a:lnTo>
                  <a:pt x="18025" y="1"/>
                </a:lnTo>
                <a:cubicBezTo>
                  <a:pt x="18039" y="1"/>
                  <a:pt x="18050" y="12"/>
                  <a:pt x="18050" y="26"/>
                </a:cubicBezTo>
                <a:cubicBezTo>
                  <a:pt x="18050" y="40"/>
                  <a:pt x="18039" y="51"/>
                  <a:pt x="18025" y="51"/>
                </a:cubicBezTo>
                <a:lnTo>
                  <a:pt x="17875" y="51"/>
                </a:lnTo>
                <a:cubicBezTo>
                  <a:pt x="17861" y="51"/>
                  <a:pt x="17850" y="40"/>
                  <a:pt x="17850" y="26"/>
                </a:cubicBezTo>
                <a:cubicBezTo>
                  <a:pt x="17850" y="13"/>
                  <a:pt x="17861" y="1"/>
                  <a:pt x="17875" y="1"/>
                </a:cubicBezTo>
                <a:close/>
                <a:moveTo>
                  <a:pt x="18225" y="1"/>
                </a:moveTo>
                <a:lnTo>
                  <a:pt x="18375" y="1"/>
                </a:lnTo>
                <a:cubicBezTo>
                  <a:pt x="18389" y="1"/>
                  <a:pt x="18400" y="12"/>
                  <a:pt x="18400" y="26"/>
                </a:cubicBezTo>
                <a:cubicBezTo>
                  <a:pt x="18400" y="40"/>
                  <a:pt x="18389" y="51"/>
                  <a:pt x="18375" y="51"/>
                </a:cubicBezTo>
                <a:lnTo>
                  <a:pt x="18225" y="51"/>
                </a:lnTo>
                <a:cubicBezTo>
                  <a:pt x="18211" y="51"/>
                  <a:pt x="18200" y="40"/>
                  <a:pt x="18200" y="26"/>
                </a:cubicBezTo>
                <a:cubicBezTo>
                  <a:pt x="18200" y="12"/>
                  <a:pt x="18211" y="1"/>
                  <a:pt x="18225" y="1"/>
                </a:cubicBezTo>
                <a:close/>
                <a:moveTo>
                  <a:pt x="18575" y="1"/>
                </a:moveTo>
                <a:lnTo>
                  <a:pt x="18725" y="1"/>
                </a:lnTo>
                <a:cubicBezTo>
                  <a:pt x="18739" y="1"/>
                  <a:pt x="18750" y="12"/>
                  <a:pt x="18750" y="26"/>
                </a:cubicBezTo>
                <a:cubicBezTo>
                  <a:pt x="18750" y="40"/>
                  <a:pt x="18739" y="51"/>
                  <a:pt x="18725" y="51"/>
                </a:cubicBezTo>
                <a:lnTo>
                  <a:pt x="18575" y="51"/>
                </a:lnTo>
                <a:cubicBezTo>
                  <a:pt x="18561" y="51"/>
                  <a:pt x="18550" y="40"/>
                  <a:pt x="18550" y="26"/>
                </a:cubicBezTo>
                <a:cubicBezTo>
                  <a:pt x="18550" y="12"/>
                  <a:pt x="18561" y="1"/>
                  <a:pt x="18575" y="1"/>
                </a:cubicBezTo>
                <a:close/>
                <a:moveTo>
                  <a:pt x="18925" y="1"/>
                </a:moveTo>
                <a:lnTo>
                  <a:pt x="19075" y="1"/>
                </a:lnTo>
                <a:cubicBezTo>
                  <a:pt x="19089" y="1"/>
                  <a:pt x="19100" y="12"/>
                  <a:pt x="19100" y="26"/>
                </a:cubicBezTo>
                <a:cubicBezTo>
                  <a:pt x="19100" y="40"/>
                  <a:pt x="19089" y="51"/>
                  <a:pt x="19075" y="51"/>
                </a:cubicBezTo>
                <a:lnTo>
                  <a:pt x="18925" y="51"/>
                </a:lnTo>
                <a:cubicBezTo>
                  <a:pt x="18911" y="51"/>
                  <a:pt x="18900" y="40"/>
                  <a:pt x="18900" y="26"/>
                </a:cubicBezTo>
                <a:cubicBezTo>
                  <a:pt x="18900" y="12"/>
                  <a:pt x="18911" y="1"/>
                  <a:pt x="18925" y="1"/>
                </a:cubicBezTo>
                <a:close/>
                <a:moveTo>
                  <a:pt x="19275" y="1"/>
                </a:moveTo>
                <a:lnTo>
                  <a:pt x="19425" y="1"/>
                </a:lnTo>
                <a:cubicBezTo>
                  <a:pt x="19439" y="1"/>
                  <a:pt x="19450" y="12"/>
                  <a:pt x="19450" y="26"/>
                </a:cubicBezTo>
                <a:cubicBezTo>
                  <a:pt x="19450" y="40"/>
                  <a:pt x="19439" y="51"/>
                  <a:pt x="19425" y="51"/>
                </a:cubicBezTo>
                <a:lnTo>
                  <a:pt x="19275" y="51"/>
                </a:lnTo>
                <a:cubicBezTo>
                  <a:pt x="19261" y="51"/>
                  <a:pt x="19250" y="40"/>
                  <a:pt x="19250" y="26"/>
                </a:cubicBezTo>
                <a:cubicBezTo>
                  <a:pt x="19250" y="12"/>
                  <a:pt x="19261" y="1"/>
                  <a:pt x="19275" y="1"/>
                </a:cubicBezTo>
                <a:close/>
                <a:moveTo>
                  <a:pt x="19625" y="1"/>
                </a:moveTo>
                <a:lnTo>
                  <a:pt x="19775" y="1"/>
                </a:lnTo>
                <a:cubicBezTo>
                  <a:pt x="19789" y="1"/>
                  <a:pt x="19800" y="12"/>
                  <a:pt x="19800" y="26"/>
                </a:cubicBezTo>
                <a:cubicBezTo>
                  <a:pt x="19800" y="40"/>
                  <a:pt x="19789" y="51"/>
                  <a:pt x="19775" y="51"/>
                </a:cubicBezTo>
                <a:lnTo>
                  <a:pt x="19625" y="51"/>
                </a:lnTo>
                <a:cubicBezTo>
                  <a:pt x="19611" y="51"/>
                  <a:pt x="19600" y="40"/>
                  <a:pt x="19600" y="26"/>
                </a:cubicBezTo>
                <a:cubicBezTo>
                  <a:pt x="19600" y="12"/>
                  <a:pt x="19611" y="1"/>
                  <a:pt x="19625" y="1"/>
                </a:cubicBezTo>
                <a:close/>
                <a:moveTo>
                  <a:pt x="19975" y="1"/>
                </a:moveTo>
                <a:lnTo>
                  <a:pt x="20125" y="1"/>
                </a:lnTo>
                <a:cubicBezTo>
                  <a:pt x="20139" y="1"/>
                  <a:pt x="20150" y="12"/>
                  <a:pt x="20150" y="26"/>
                </a:cubicBezTo>
                <a:cubicBezTo>
                  <a:pt x="20150" y="39"/>
                  <a:pt x="20139" y="51"/>
                  <a:pt x="20125" y="51"/>
                </a:cubicBezTo>
                <a:lnTo>
                  <a:pt x="19975" y="51"/>
                </a:lnTo>
                <a:cubicBezTo>
                  <a:pt x="19961" y="51"/>
                  <a:pt x="19950" y="40"/>
                  <a:pt x="19950" y="26"/>
                </a:cubicBezTo>
                <a:cubicBezTo>
                  <a:pt x="19950" y="12"/>
                  <a:pt x="19961" y="1"/>
                  <a:pt x="19975" y="1"/>
                </a:cubicBezTo>
                <a:close/>
                <a:moveTo>
                  <a:pt x="20325" y="1"/>
                </a:moveTo>
                <a:lnTo>
                  <a:pt x="20475" y="1"/>
                </a:lnTo>
                <a:cubicBezTo>
                  <a:pt x="20489" y="1"/>
                  <a:pt x="20500" y="12"/>
                  <a:pt x="20500" y="26"/>
                </a:cubicBezTo>
                <a:cubicBezTo>
                  <a:pt x="20500" y="39"/>
                  <a:pt x="20489" y="51"/>
                  <a:pt x="20475" y="51"/>
                </a:cubicBezTo>
                <a:lnTo>
                  <a:pt x="20325" y="51"/>
                </a:lnTo>
                <a:cubicBezTo>
                  <a:pt x="20311" y="51"/>
                  <a:pt x="20300" y="39"/>
                  <a:pt x="20300" y="26"/>
                </a:cubicBezTo>
                <a:cubicBezTo>
                  <a:pt x="20300" y="12"/>
                  <a:pt x="20311" y="1"/>
                  <a:pt x="20325" y="1"/>
                </a:cubicBezTo>
                <a:close/>
                <a:moveTo>
                  <a:pt x="20675" y="1"/>
                </a:moveTo>
                <a:lnTo>
                  <a:pt x="20825" y="0"/>
                </a:lnTo>
                <a:cubicBezTo>
                  <a:pt x="20839" y="0"/>
                  <a:pt x="20850" y="12"/>
                  <a:pt x="20850" y="25"/>
                </a:cubicBezTo>
                <a:cubicBezTo>
                  <a:pt x="20850" y="39"/>
                  <a:pt x="20839" y="50"/>
                  <a:pt x="20825" y="50"/>
                </a:cubicBezTo>
                <a:lnTo>
                  <a:pt x="20675" y="51"/>
                </a:lnTo>
                <a:cubicBezTo>
                  <a:pt x="20661" y="51"/>
                  <a:pt x="20650" y="39"/>
                  <a:pt x="20650" y="26"/>
                </a:cubicBezTo>
                <a:cubicBezTo>
                  <a:pt x="20650" y="12"/>
                  <a:pt x="20661" y="1"/>
                  <a:pt x="20675" y="1"/>
                </a:cubicBezTo>
                <a:close/>
                <a:moveTo>
                  <a:pt x="21025" y="0"/>
                </a:moveTo>
                <a:lnTo>
                  <a:pt x="21175" y="0"/>
                </a:lnTo>
                <a:cubicBezTo>
                  <a:pt x="21189" y="0"/>
                  <a:pt x="21200" y="12"/>
                  <a:pt x="21200" y="25"/>
                </a:cubicBezTo>
                <a:cubicBezTo>
                  <a:pt x="21200" y="39"/>
                  <a:pt x="21189" y="50"/>
                  <a:pt x="21175" y="50"/>
                </a:cubicBezTo>
                <a:lnTo>
                  <a:pt x="21025" y="50"/>
                </a:lnTo>
                <a:cubicBezTo>
                  <a:pt x="21011" y="50"/>
                  <a:pt x="21000" y="39"/>
                  <a:pt x="21000" y="25"/>
                </a:cubicBezTo>
                <a:cubicBezTo>
                  <a:pt x="21000" y="12"/>
                  <a:pt x="21011" y="0"/>
                  <a:pt x="21025" y="0"/>
                </a:cubicBezTo>
                <a:close/>
                <a:moveTo>
                  <a:pt x="21375" y="0"/>
                </a:moveTo>
                <a:lnTo>
                  <a:pt x="21525" y="0"/>
                </a:lnTo>
                <a:cubicBezTo>
                  <a:pt x="21539" y="0"/>
                  <a:pt x="21550" y="11"/>
                  <a:pt x="21550" y="25"/>
                </a:cubicBezTo>
                <a:cubicBezTo>
                  <a:pt x="21550" y="39"/>
                  <a:pt x="21539" y="50"/>
                  <a:pt x="21525" y="50"/>
                </a:cubicBezTo>
                <a:lnTo>
                  <a:pt x="21375" y="50"/>
                </a:lnTo>
                <a:cubicBezTo>
                  <a:pt x="21361" y="50"/>
                  <a:pt x="21350" y="39"/>
                  <a:pt x="21350" y="25"/>
                </a:cubicBezTo>
                <a:cubicBezTo>
                  <a:pt x="21350" y="12"/>
                  <a:pt x="21361" y="0"/>
                  <a:pt x="21375" y="0"/>
                </a:cubicBezTo>
                <a:close/>
                <a:moveTo>
                  <a:pt x="21725" y="0"/>
                </a:moveTo>
                <a:lnTo>
                  <a:pt x="21875" y="0"/>
                </a:lnTo>
                <a:cubicBezTo>
                  <a:pt x="21889" y="0"/>
                  <a:pt x="21900" y="11"/>
                  <a:pt x="21900" y="25"/>
                </a:cubicBezTo>
                <a:cubicBezTo>
                  <a:pt x="21900" y="39"/>
                  <a:pt x="21889" y="50"/>
                  <a:pt x="21875" y="50"/>
                </a:cubicBezTo>
                <a:lnTo>
                  <a:pt x="21725" y="50"/>
                </a:lnTo>
                <a:cubicBezTo>
                  <a:pt x="21711" y="50"/>
                  <a:pt x="21700" y="39"/>
                  <a:pt x="21700" y="25"/>
                </a:cubicBezTo>
                <a:cubicBezTo>
                  <a:pt x="21700" y="11"/>
                  <a:pt x="21711" y="0"/>
                  <a:pt x="21725" y="0"/>
                </a:cubicBezTo>
                <a:close/>
                <a:moveTo>
                  <a:pt x="22075" y="0"/>
                </a:moveTo>
                <a:lnTo>
                  <a:pt x="22225" y="0"/>
                </a:lnTo>
                <a:cubicBezTo>
                  <a:pt x="22239" y="0"/>
                  <a:pt x="22250" y="11"/>
                  <a:pt x="22250" y="25"/>
                </a:cubicBezTo>
                <a:cubicBezTo>
                  <a:pt x="22250" y="39"/>
                  <a:pt x="22239" y="50"/>
                  <a:pt x="22225" y="50"/>
                </a:cubicBezTo>
                <a:lnTo>
                  <a:pt x="22075" y="50"/>
                </a:lnTo>
                <a:cubicBezTo>
                  <a:pt x="22061" y="50"/>
                  <a:pt x="22050" y="39"/>
                  <a:pt x="22050" y="25"/>
                </a:cubicBezTo>
                <a:cubicBezTo>
                  <a:pt x="22050" y="11"/>
                  <a:pt x="22061" y="0"/>
                  <a:pt x="22075" y="0"/>
                </a:cubicBezTo>
                <a:close/>
                <a:moveTo>
                  <a:pt x="22425" y="0"/>
                </a:moveTo>
                <a:lnTo>
                  <a:pt x="22575" y="0"/>
                </a:lnTo>
                <a:cubicBezTo>
                  <a:pt x="22589" y="0"/>
                  <a:pt x="22600" y="11"/>
                  <a:pt x="22600" y="25"/>
                </a:cubicBezTo>
                <a:cubicBezTo>
                  <a:pt x="22600" y="39"/>
                  <a:pt x="22589" y="50"/>
                  <a:pt x="22575" y="50"/>
                </a:cubicBezTo>
                <a:lnTo>
                  <a:pt x="22425" y="50"/>
                </a:lnTo>
                <a:cubicBezTo>
                  <a:pt x="22411" y="50"/>
                  <a:pt x="22400" y="39"/>
                  <a:pt x="22400" y="25"/>
                </a:cubicBezTo>
                <a:cubicBezTo>
                  <a:pt x="22400" y="11"/>
                  <a:pt x="22411" y="0"/>
                  <a:pt x="22425" y="0"/>
                </a:cubicBezTo>
                <a:close/>
                <a:moveTo>
                  <a:pt x="22775" y="0"/>
                </a:moveTo>
                <a:lnTo>
                  <a:pt x="22925" y="0"/>
                </a:lnTo>
                <a:cubicBezTo>
                  <a:pt x="22939" y="0"/>
                  <a:pt x="22950" y="11"/>
                  <a:pt x="22950" y="25"/>
                </a:cubicBezTo>
                <a:cubicBezTo>
                  <a:pt x="22950" y="39"/>
                  <a:pt x="22939" y="50"/>
                  <a:pt x="22925" y="50"/>
                </a:cubicBezTo>
                <a:lnTo>
                  <a:pt x="22775" y="50"/>
                </a:lnTo>
                <a:cubicBezTo>
                  <a:pt x="22761" y="50"/>
                  <a:pt x="22750" y="39"/>
                  <a:pt x="22750" y="25"/>
                </a:cubicBezTo>
                <a:cubicBezTo>
                  <a:pt x="22750" y="11"/>
                  <a:pt x="22761" y="0"/>
                  <a:pt x="22775" y="0"/>
                </a:cubicBezTo>
                <a:close/>
                <a:moveTo>
                  <a:pt x="23125" y="0"/>
                </a:moveTo>
                <a:lnTo>
                  <a:pt x="23248" y="0"/>
                </a:lnTo>
                <a:cubicBezTo>
                  <a:pt x="23262" y="0"/>
                  <a:pt x="23273" y="11"/>
                  <a:pt x="23273" y="25"/>
                </a:cubicBezTo>
                <a:cubicBezTo>
                  <a:pt x="23273" y="39"/>
                  <a:pt x="23262" y="50"/>
                  <a:pt x="23248" y="50"/>
                </a:cubicBezTo>
                <a:lnTo>
                  <a:pt x="23125" y="50"/>
                </a:lnTo>
                <a:cubicBezTo>
                  <a:pt x="23111" y="50"/>
                  <a:pt x="23100" y="39"/>
                  <a:pt x="23100" y="25"/>
                </a:cubicBezTo>
                <a:cubicBezTo>
                  <a:pt x="23100" y="11"/>
                  <a:pt x="23111" y="0"/>
                  <a:pt x="23125" y="0"/>
                </a:cubicBez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879720" y="4675320"/>
            <a:ext cx="559080" cy="195120"/>
            <a:chOff x="3879720" y="4675320"/>
            <a:chExt cx="559080" cy="195120"/>
          </a:xfrm>
        </p:grpSpPr>
        <p:sp>
          <p:nvSpPr>
            <p:cNvPr id="179" name=""/>
            <p:cNvSpPr/>
            <p:nvPr/>
          </p:nvSpPr>
          <p:spPr>
            <a:xfrm>
              <a:off x="3879720" y="4675320"/>
              <a:ext cx="559080" cy="1951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79720" y="4675320"/>
              <a:ext cx="559080" cy="1951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998880" y="4699080"/>
            <a:ext cx="320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82680" y="4711680"/>
            <a:ext cx="72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35560" y="4768560"/>
            <a:ext cx="3182760" cy="324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3000" y="4367160"/>
            <a:ext cx="1800" cy="4017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135400" y="4986360"/>
            <a:ext cx="436680" cy="249120"/>
            <a:chOff x="5135400" y="4986360"/>
            <a:chExt cx="436680" cy="249120"/>
          </a:xfrm>
        </p:grpSpPr>
        <p:sp>
          <p:nvSpPr>
            <p:cNvPr id="186" name=""/>
            <p:cNvSpPr/>
            <p:nvPr/>
          </p:nvSpPr>
          <p:spPr>
            <a:xfrm>
              <a:off x="5135400" y="4986360"/>
              <a:ext cx="436680" cy="249120"/>
            </a:xfrm>
            <a:custGeom>
              <a:avLst/>
              <a:gdLst/>
              <a:ahLst/>
              <a:rect l="l" t="t" r="r" b="b"/>
              <a:pathLst>
                <a:path w="2270" h="1507">
                  <a:moveTo>
                    <a:pt x="1135" y="0"/>
                  </a:moveTo>
                  <a:cubicBezTo>
                    <a:pt x="508" y="0"/>
                    <a:pt x="0" y="85"/>
                    <a:pt x="0" y="189"/>
                  </a:cubicBezTo>
                  <a:lnTo>
                    <a:pt x="0" y="1319"/>
                  </a:lnTo>
                  <a:cubicBezTo>
                    <a:pt x="0" y="1423"/>
                    <a:pt x="508" y="1507"/>
                    <a:pt x="1135" y="1507"/>
                  </a:cubicBezTo>
                  <a:cubicBezTo>
                    <a:pt x="1762" y="1507"/>
                    <a:pt x="2270" y="1423"/>
                    <a:pt x="2270" y="1319"/>
                  </a:cubicBezTo>
                  <a:lnTo>
                    <a:pt x="2270" y="189"/>
                  </a:lnTo>
                  <a:cubicBezTo>
                    <a:pt x="2270" y="85"/>
                    <a:pt x="1762" y="0"/>
                    <a:pt x="1135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5400" y="4986360"/>
              <a:ext cx="436680" cy="62280"/>
            </a:xfrm>
            <a:prstGeom prst="ellipse">
              <a:avLst/>
            </a:prstGeom>
            <a:solidFill>
              <a:srgbClr val="efefe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35400" y="4986360"/>
              <a:ext cx="436680" cy="249120"/>
            </a:xfrm>
            <a:custGeom>
              <a:avLst/>
              <a:gdLst/>
              <a:ahLst/>
              <a:rect l="l" t="t" r="r" b="b"/>
              <a:pathLst>
                <a:path w="2270" h="1507">
                  <a:moveTo>
                    <a:pt x="1135" y="0"/>
                  </a:moveTo>
                  <a:cubicBezTo>
                    <a:pt x="508" y="0"/>
                    <a:pt x="0" y="85"/>
                    <a:pt x="0" y="189"/>
                  </a:cubicBezTo>
                  <a:lnTo>
                    <a:pt x="0" y="1319"/>
                  </a:lnTo>
                  <a:cubicBezTo>
                    <a:pt x="0" y="1423"/>
                    <a:pt x="508" y="1507"/>
                    <a:pt x="1135" y="1507"/>
                  </a:cubicBezTo>
                  <a:cubicBezTo>
                    <a:pt x="1762" y="1507"/>
                    <a:pt x="2270" y="1423"/>
                    <a:pt x="2270" y="1319"/>
                  </a:cubicBezTo>
                  <a:lnTo>
                    <a:pt x="2270" y="189"/>
                  </a:lnTo>
                  <a:cubicBezTo>
                    <a:pt x="2270" y="85"/>
                    <a:pt x="1762" y="0"/>
                    <a:pt x="1135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5017680"/>
              <a:ext cx="436680" cy="30960"/>
            </a:xfrm>
            <a:custGeom>
              <a:avLst/>
              <a:gdLst/>
              <a:ahLst/>
              <a:rect l="l" t="t" r="r" b="b"/>
              <a:pathLst>
                <a:path w="681" h="56">
                  <a:moveTo>
                    <a:pt x="0" y="0"/>
                  </a:moveTo>
                  <a:cubicBezTo>
                    <a:pt x="0" y="31"/>
                    <a:pt x="153" y="56"/>
                    <a:pt x="341" y="56"/>
                  </a:cubicBezTo>
                  <a:cubicBezTo>
                    <a:pt x="528" y="56"/>
                    <a:pt x="681" y="31"/>
                    <a:pt x="68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881960" y="504684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VL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69960" y="5046840"/>
            <a:ext cx="72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948120" y="5038560"/>
            <a:ext cx="434880" cy="247680"/>
            <a:chOff x="3948120" y="5038560"/>
            <a:chExt cx="434880" cy="247680"/>
          </a:xfrm>
        </p:grpSpPr>
        <p:sp>
          <p:nvSpPr>
            <p:cNvPr id="193" name=""/>
            <p:cNvSpPr/>
            <p:nvPr/>
          </p:nvSpPr>
          <p:spPr>
            <a:xfrm>
              <a:off x="3948120" y="5038560"/>
              <a:ext cx="434880" cy="247680"/>
            </a:xfrm>
            <a:custGeom>
              <a:avLst/>
              <a:gdLst/>
              <a:ahLst/>
              <a:rect l="l" t="t" r="r" b="b"/>
              <a:pathLst>
                <a:path w="2270" h="1507">
                  <a:moveTo>
                    <a:pt x="1135" y="0"/>
                  </a:moveTo>
                  <a:cubicBezTo>
                    <a:pt x="508" y="0"/>
                    <a:pt x="0" y="85"/>
                    <a:pt x="0" y="189"/>
                  </a:cubicBezTo>
                  <a:lnTo>
                    <a:pt x="0" y="1319"/>
                  </a:lnTo>
                  <a:cubicBezTo>
                    <a:pt x="0" y="1423"/>
                    <a:pt x="508" y="1507"/>
                    <a:pt x="1135" y="1507"/>
                  </a:cubicBezTo>
                  <a:cubicBezTo>
                    <a:pt x="1762" y="1507"/>
                    <a:pt x="2270" y="1423"/>
                    <a:pt x="2270" y="1319"/>
                  </a:cubicBezTo>
                  <a:lnTo>
                    <a:pt x="2270" y="189"/>
                  </a:lnTo>
                  <a:cubicBezTo>
                    <a:pt x="2270" y="85"/>
                    <a:pt x="1762" y="0"/>
                    <a:pt x="1135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48120" y="5038560"/>
              <a:ext cx="434880" cy="61920"/>
            </a:xfrm>
            <a:prstGeom prst="ellipse">
              <a:avLst/>
            </a:prstGeom>
            <a:solidFill>
              <a:srgbClr val="efefe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48120" y="5038560"/>
              <a:ext cx="434880" cy="247680"/>
            </a:xfrm>
            <a:custGeom>
              <a:avLst/>
              <a:gdLst/>
              <a:ahLst/>
              <a:rect l="l" t="t" r="r" b="b"/>
              <a:pathLst>
                <a:path w="2270" h="1507">
                  <a:moveTo>
                    <a:pt x="1135" y="0"/>
                  </a:moveTo>
                  <a:cubicBezTo>
                    <a:pt x="508" y="0"/>
                    <a:pt x="0" y="85"/>
                    <a:pt x="0" y="189"/>
                  </a:cubicBezTo>
                  <a:lnTo>
                    <a:pt x="0" y="1319"/>
                  </a:lnTo>
                  <a:cubicBezTo>
                    <a:pt x="0" y="1423"/>
                    <a:pt x="508" y="1507"/>
                    <a:pt x="1135" y="1507"/>
                  </a:cubicBezTo>
                  <a:cubicBezTo>
                    <a:pt x="1762" y="1507"/>
                    <a:pt x="2270" y="1423"/>
                    <a:pt x="2270" y="1319"/>
                  </a:cubicBezTo>
                  <a:lnTo>
                    <a:pt x="2270" y="189"/>
                  </a:lnTo>
                  <a:cubicBezTo>
                    <a:pt x="2270" y="85"/>
                    <a:pt x="1762" y="0"/>
                    <a:pt x="1135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48120" y="5069160"/>
              <a:ext cx="434880" cy="31320"/>
            </a:xfrm>
            <a:custGeom>
              <a:avLst/>
              <a:gdLst/>
              <a:ahLst/>
              <a:rect l="l" t="t" r="r" b="b"/>
              <a:pathLst>
                <a:path w="680" h="57">
                  <a:moveTo>
                    <a:pt x="0" y="0"/>
                  </a:moveTo>
                  <a:cubicBezTo>
                    <a:pt x="0" y="31"/>
                    <a:pt x="152" y="57"/>
                    <a:pt x="340" y="57"/>
                  </a:cubicBezTo>
                  <a:cubicBezTo>
                    <a:pt x="528" y="57"/>
                    <a:pt x="680" y="31"/>
                    <a:pt x="68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041720" y="5095800"/>
            <a:ext cx="36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E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670120" y="4708440"/>
            <a:ext cx="557280" cy="190440"/>
            <a:chOff x="2670120" y="4708440"/>
            <a:chExt cx="557280" cy="190440"/>
          </a:xfrm>
        </p:grpSpPr>
        <p:sp>
          <p:nvSpPr>
            <p:cNvPr id="199" name=""/>
            <p:cNvSpPr/>
            <p:nvPr/>
          </p:nvSpPr>
          <p:spPr>
            <a:xfrm>
              <a:off x="2670120" y="4708440"/>
              <a:ext cx="557280" cy="190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70120" y="4708440"/>
              <a:ext cx="557280" cy="19044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281320" y="5214960"/>
            <a:ext cx="557280" cy="195120"/>
            <a:chOff x="2281320" y="5214960"/>
            <a:chExt cx="557280" cy="195120"/>
          </a:xfrm>
        </p:grpSpPr>
        <p:sp>
          <p:nvSpPr>
            <p:cNvPr id="202" name=""/>
            <p:cNvSpPr/>
            <p:nvPr/>
          </p:nvSpPr>
          <p:spPr>
            <a:xfrm>
              <a:off x="2281320" y="5214960"/>
              <a:ext cx="557280" cy="1951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81320" y="5214960"/>
              <a:ext cx="557280" cy="1951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432160" y="5238720"/>
            <a:ext cx="2793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922480" y="5224320"/>
            <a:ext cx="557280" cy="195480"/>
            <a:chOff x="2922480" y="5224320"/>
            <a:chExt cx="557280" cy="195480"/>
          </a:xfrm>
        </p:grpSpPr>
        <p:sp>
          <p:nvSpPr>
            <p:cNvPr id="206" name=""/>
            <p:cNvSpPr/>
            <p:nvPr/>
          </p:nvSpPr>
          <p:spPr>
            <a:xfrm>
              <a:off x="2922480" y="5224320"/>
              <a:ext cx="557280" cy="195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22480" y="5224320"/>
              <a:ext cx="557280" cy="195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035160" y="5246640"/>
            <a:ext cx="3193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75760" y="3716280"/>
            <a:ext cx="10267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2"/>
                </a:solidFill>
                <a:latin typeface="Bookman Old Style"/>
              </a:rPr>
              <a:t>N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32600" y="3600360"/>
            <a:ext cx="647640" cy="565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337000" y="3567240"/>
            <a:ext cx="725760" cy="23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32080" y="47959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27240" y="4910040"/>
            <a:ext cx="28764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44920" y="466884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364000" y="5618160"/>
            <a:ext cx="0" cy="257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5880" y="5106960"/>
            <a:ext cx="222120" cy="219240"/>
          </a:xfrm>
          <a:custGeom>
            <a:avLst/>
            <a:gdLst/>
            <a:ahLst/>
            <a:rect l="l" t="t" r="r" b="b"/>
            <a:pathLst>
              <a:path w="94" h="277">
                <a:moveTo>
                  <a:pt x="38" y="0"/>
                </a:moveTo>
                <a:lnTo>
                  <a:pt x="0" y="49"/>
                </a:lnTo>
                <a:lnTo>
                  <a:pt x="33" y="108"/>
                </a:lnTo>
                <a:lnTo>
                  <a:pt x="22" y="125"/>
                </a:lnTo>
                <a:lnTo>
                  <a:pt x="53" y="178"/>
                </a:lnTo>
                <a:lnTo>
                  <a:pt x="44" y="191"/>
                </a:lnTo>
                <a:lnTo>
                  <a:pt x="94" y="277"/>
                </a:lnTo>
                <a:lnTo>
                  <a:pt x="64" y="166"/>
                </a:lnTo>
                <a:lnTo>
                  <a:pt x="72" y="154"/>
                </a:lnTo>
                <a:lnTo>
                  <a:pt x="49" y="88"/>
                </a:lnTo>
                <a:lnTo>
                  <a:pt x="56" y="78"/>
                </a:lnTo>
                <a:lnTo>
                  <a:pt x="38" y="0"/>
                </a:lnTo>
                <a:close/>
              </a:path>
            </a:pathLst>
          </a:custGeom>
          <a:solidFill>
            <a:srgbClr val="c0c0c0"/>
          </a:solidFill>
          <a:ln w="1116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4898880"/>
            <a:ext cx="222480" cy="219240"/>
          </a:xfrm>
          <a:custGeom>
            <a:avLst/>
            <a:gdLst/>
            <a:ahLst/>
            <a:rect l="l" t="t" r="r" b="b"/>
            <a:pathLst>
              <a:path w="94" h="277">
                <a:moveTo>
                  <a:pt x="38" y="0"/>
                </a:moveTo>
                <a:lnTo>
                  <a:pt x="0" y="49"/>
                </a:lnTo>
                <a:lnTo>
                  <a:pt x="33" y="108"/>
                </a:lnTo>
                <a:lnTo>
                  <a:pt x="22" y="125"/>
                </a:lnTo>
                <a:lnTo>
                  <a:pt x="53" y="178"/>
                </a:lnTo>
                <a:lnTo>
                  <a:pt x="44" y="191"/>
                </a:lnTo>
                <a:lnTo>
                  <a:pt x="94" y="277"/>
                </a:lnTo>
                <a:lnTo>
                  <a:pt x="64" y="166"/>
                </a:lnTo>
                <a:lnTo>
                  <a:pt x="72" y="154"/>
                </a:lnTo>
                <a:lnTo>
                  <a:pt x="49" y="88"/>
                </a:lnTo>
                <a:lnTo>
                  <a:pt x="56" y="78"/>
                </a:lnTo>
                <a:lnTo>
                  <a:pt x="38" y="0"/>
                </a:lnTo>
                <a:close/>
              </a:path>
            </a:pathLst>
          </a:custGeom>
          <a:solidFill>
            <a:srgbClr val="c0c0c0"/>
          </a:solidFill>
          <a:ln w="1116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93720" y="4149720"/>
            <a:ext cx="289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2"/>
                </a:solidFill>
                <a:latin typeface="Bookman Old Style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853640" y="4519440"/>
            <a:ext cx="350280" cy="369360"/>
            <a:chOff x="1853640" y="4519440"/>
            <a:chExt cx="350280" cy="369360"/>
          </a:xfrm>
        </p:grpSpPr>
        <p:sp>
          <p:nvSpPr>
            <p:cNvPr id="220" name=""/>
            <p:cNvSpPr/>
            <p:nvPr/>
          </p:nvSpPr>
          <p:spPr>
            <a:xfrm rot="18787800">
              <a:off x="1933920" y="4504320"/>
              <a:ext cx="11160" cy="120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8787800">
              <a:off x="1965600" y="4537800"/>
              <a:ext cx="126360" cy="361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8787800">
              <a:off x="1902240" y="4615920"/>
              <a:ext cx="80640" cy="6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8787800">
              <a:off x="2019960" y="4655520"/>
              <a:ext cx="80640" cy="1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8787800">
              <a:off x="1995840" y="4707000"/>
              <a:ext cx="11160" cy="4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8787800">
              <a:off x="2014200" y="4689000"/>
              <a:ext cx="11160" cy="4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8787800">
              <a:off x="2032560" y="4671360"/>
              <a:ext cx="10800" cy="4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8787800">
              <a:off x="2035440" y="4740480"/>
              <a:ext cx="11160" cy="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8787800">
              <a:off x="2053800" y="4722840"/>
              <a:ext cx="11160" cy="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8787800">
              <a:off x="2071800" y="4704840"/>
              <a:ext cx="10800" cy="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8787800">
              <a:off x="2074680" y="4773600"/>
              <a:ext cx="11160" cy="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8787800">
              <a:off x="2092680" y="4755960"/>
              <a:ext cx="11160" cy="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8787800">
              <a:off x="2111040" y="4738320"/>
              <a:ext cx="11160" cy="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625040" y="4732200"/>
            <a:ext cx="350280" cy="369360"/>
            <a:chOff x="1625040" y="4732200"/>
            <a:chExt cx="350280" cy="369360"/>
          </a:xfrm>
        </p:grpSpPr>
        <p:sp>
          <p:nvSpPr>
            <p:cNvPr id="234" name=""/>
            <p:cNvSpPr/>
            <p:nvPr/>
          </p:nvSpPr>
          <p:spPr>
            <a:xfrm rot="18787800">
              <a:off x="1705320" y="4717080"/>
              <a:ext cx="11160" cy="120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8787800">
              <a:off x="1737000" y="4750560"/>
              <a:ext cx="126360" cy="361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8787800">
              <a:off x="1673640" y="4828680"/>
              <a:ext cx="80640" cy="6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8787800">
              <a:off x="1791360" y="4868280"/>
              <a:ext cx="80640" cy="1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8787800">
              <a:off x="1767240" y="4919760"/>
              <a:ext cx="11160" cy="4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787800">
              <a:off x="1785600" y="4901760"/>
              <a:ext cx="11160" cy="4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787800">
              <a:off x="1803960" y="4884120"/>
              <a:ext cx="10800" cy="4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787800">
              <a:off x="1806840" y="4953240"/>
              <a:ext cx="11160" cy="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787800">
              <a:off x="1825200" y="4935600"/>
              <a:ext cx="11160" cy="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787800">
              <a:off x="1843200" y="4917600"/>
              <a:ext cx="10800" cy="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787800">
              <a:off x="1846080" y="4986360"/>
              <a:ext cx="11160" cy="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787800">
              <a:off x="1864080" y="4968720"/>
              <a:ext cx="11160" cy="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787800">
              <a:off x="1882440" y="4951080"/>
              <a:ext cx="11160" cy="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8394-7F22-47F1-BB23-DA8D4F29C4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1526AB7-4C76-455C-8C0C-231843D581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417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rotocolli GSM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8487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P (Mobile Application Par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ltimo strato dello stack SS7 per la comunicazione all’interno del NS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stione della mobilità e dei servizi supplementar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5661000"/>
            <a:ext cx="1800" cy="181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897280" y="5643360"/>
            <a:ext cx="1440" cy="182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11520" y="5648400"/>
            <a:ext cx="1800" cy="181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14800" y="5626080"/>
            <a:ext cx="1800" cy="206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735520" y="5651280"/>
            <a:ext cx="1800" cy="182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08720" y="5518080"/>
            <a:ext cx="1422360" cy="1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M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5862600"/>
            <a:ext cx="47448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805360"/>
            <a:ext cx="474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 baseline="-25000">
                <a:solidFill>
                  <a:srgbClr val="ffffff"/>
                </a:solidFill>
                <a:latin typeface="Arial"/>
              </a:rPr>
              <a:t>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05080" y="5823000"/>
            <a:ext cx="474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627280" y="5151600"/>
            <a:ext cx="1214640" cy="537480"/>
            <a:chOff x="2627280" y="5151600"/>
            <a:chExt cx="1214640" cy="537480"/>
          </a:xfrm>
        </p:grpSpPr>
        <p:sp>
          <p:nvSpPr>
            <p:cNvPr id="259" name=""/>
            <p:cNvSpPr/>
            <p:nvPr/>
          </p:nvSpPr>
          <p:spPr>
            <a:xfrm>
              <a:off x="2627280" y="5523840"/>
              <a:ext cx="594000" cy="16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Livello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29080" y="5317920"/>
              <a:ext cx="593640" cy="16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LAPD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30640" y="5523840"/>
              <a:ext cx="593640" cy="16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Livello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32440" y="5322600"/>
              <a:ext cx="593640" cy="16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LAP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49600" y="5151600"/>
              <a:ext cx="593640" cy="12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R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48280" y="5151600"/>
              <a:ext cx="593640" cy="12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R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510160" y="5332320"/>
            <a:ext cx="1068480" cy="14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SCC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830240" y="4702320"/>
            <a:ext cx="593640" cy="956880"/>
            <a:chOff x="1830240" y="4702320"/>
            <a:chExt cx="593640" cy="956880"/>
          </a:xfrm>
        </p:grpSpPr>
        <p:sp>
          <p:nvSpPr>
            <p:cNvPr id="267" name=""/>
            <p:cNvSpPr/>
            <p:nvPr/>
          </p:nvSpPr>
          <p:spPr>
            <a:xfrm>
              <a:off x="1830240" y="5495040"/>
              <a:ext cx="59364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Livello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30240" y="5304600"/>
              <a:ext cx="593640" cy="16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LAPD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30240" y="5105880"/>
              <a:ext cx="593640" cy="16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R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30240" y="4905360"/>
              <a:ext cx="593640" cy="16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    </a:t>
              </a: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MM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30240" y="4702320"/>
              <a:ext cx="593640" cy="16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     </a:t>
              </a: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C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7172280" y="5487840"/>
            <a:ext cx="593640" cy="1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M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172280" y="5303880"/>
            <a:ext cx="593640" cy="14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SCC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174080" y="5132520"/>
            <a:ext cx="59364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TC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72280" y="4888080"/>
            <a:ext cx="593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MAP </a:t>
            </a:r>
            <a:r>
              <a:rPr b="1" lang="en-US" sz="800" spc="-1" strike="noStrike">
                <a:solidFill>
                  <a:srgbClr val="8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76520" y="4222800"/>
            <a:ext cx="1440" cy="1636560"/>
          </a:xfrm>
          <a:prstGeom prst="line">
            <a:avLst/>
          </a:prstGeom>
          <a:ln w="9360">
            <a:solidFill>
              <a:srgbClr val="ffff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44960" y="4222800"/>
            <a:ext cx="1440" cy="1636560"/>
          </a:xfrm>
          <a:prstGeom prst="line">
            <a:avLst/>
          </a:prstGeom>
          <a:ln w="9360">
            <a:solidFill>
              <a:srgbClr val="ffff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59400" y="4222800"/>
            <a:ext cx="1440" cy="1636560"/>
          </a:xfrm>
          <a:prstGeom prst="line">
            <a:avLst/>
          </a:prstGeom>
          <a:ln w="9360">
            <a:solidFill>
              <a:srgbClr val="ffff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126200" y="4222800"/>
            <a:ext cx="1800" cy="1636560"/>
          </a:xfrm>
          <a:prstGeom prst="line">
            <a:avLst/>
          </a:prstGeom>
          <a:ln w="9360">
            <a:solidFill>
              <a:srgbClr val="ffff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9400" y="4175280"/>
            <a:ext cx="47484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017880" y="417528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4172040"/>
            <a:ext cx="7128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41680" y="417528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11520" y="5823000"/>
            <a:ext cx="7113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309920" y="5648040"/>
            <a:ext cx="1800" cy="181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94400" y="41720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10160" y="5103720"/>
            <a:ext cx="59364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BSS</a:t>
            </a: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08720" y="4844880"/>
            <a:ext cx="5745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MM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10160" y="4632480"/>
            <a:ext cx="593640" cy="17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C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51680" y="5099040"/>
            <a:ext cx="42048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TC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56360" y="4735440"/>
            <a:ext cx="42228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89800" y="4738680"/>
            <a:ext cx="357120" cy="72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IS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T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068560" y="5832360"/>
            <a:ext cx="8301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75200" y="5499000"/>
            <a:ext cx="593640" cy="1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Livello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81440" y="5499000"/>
            <a:ext cx="594000" cy="1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M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86360" y="5316480"/>
            <a:ext cx="59364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LAP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91160" y="5324400"/>
            <a:ext cx="593640" cy="13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SCC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86360" y="5157720"/>
            <a:ext cx="593640" cy="1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91160" y="5075280"/>
            <a:ext cx="612720" cy="2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BSS</a:t>
            </a: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14800" y="5827680"/>
            <a:ext cx="720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9D63-373C-4E75-86F4-4B470A44A3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9229769-8E10-440B-9146-E3B054C2D2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755640" y="1447920"/>
            <a:ext cx="794232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logo MAP (servizi e primitiv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izi di MA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vizi comun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vizi specific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obility servic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eration and maintenance servic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handling servic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ort message servic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pplementary services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7360" y="4013280"/>
            <a:ext cx="2133360" cy="368280"/>
          </a:xfrm>
          <a:prstGeom prst="ellipse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971640" y="620280"/>
            <a:ext cx="7416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truttura di MAP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4086360"/>
            <a:ext cx="178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TITA' FUNZIONALE 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388620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08520" y="4071960"/>
            <a:ext cx="1513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96400" y="40863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54720" y="5776920"/>
            <a:ext cx="581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67400" y="596124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Times New Roman"/>
              </a:rPr>
              <a:t>T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89960" y="578016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16360" y="4294080"/>
            <a:ext cx="1727280" cy="2003400"/>
          </a:xfrm>
          <a:prstGeom prst="rect">
            <a:avLst/>
          </a:prstGeom>
          <a:noFill/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43440" y="5183280"/>
            <a:ext cx="4636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00960" y="5216400"/>
            <a:ext cx="4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75440" y="51973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77080" y="4292640"/>
            <a:ext cx="1727280" cy="2003400"/>
          </a:xfrm>
          <a:prstGeom prst="rect">
            <a:avLst/>
          </a:prstGeom>
          <a:noFill/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38760" y="4365720"/>
            <a:ext cx="1533600" cy="503280"/>
          </a:xfrm>
          <a:prstGeom prst="rect">
            <a:avLst/>
          </a:prstGeom>
          <a:solidFill>
            <a:srgbClr val="e3e2c7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23080" y="4497480"/>
            <a:ext cx="1198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MAP Service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969160" y="449748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56800" y="4651200"/>
            <a:ext cx="51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(Mitten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97080" y="46512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39080" y="4365720"/>
            <a:ext cx="1476360" cy="503280"/>
          </a:xfrm>
          <a:prstGeom prst="rect">
            <a:avLst/>
          </a:prstGeom>
          <a:solidFill>
            <a:srgbClr val="e3e2c7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170840" y="4497480"/>
            <a:ext cx="1198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MAP Service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220240" y="449748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392240" y="4651200"/>
            <a:ext cx="7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(Destinatari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48960" y="46512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9280" y="5695920"/>
            <a:ext cx="1513080" cy="469800"/>
          </a:xfrm>
          <a:prstGeom prst="rect">
            <a:avLst/>
          </a:prstGeom>
          <a:solidFill>
            <a:srgbClr val="e3e2c7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77640" y="595800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MAP Service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67800" y="602136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20000" y="5689440"/>
            <a:ext cx="1512720" cy="476280"/>
          </a:xfrm>
          <a:prstGeom prst="rect">
            <a:avLst/>
          </a:prstGeom>
          <a:solidFill>
            <a:srgbClr val="e3e2c7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44480" y="5994360"/>
            <a:ext cx="146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MAP Service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20320" y="6019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769520" y="6167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276880" y="4886280"/>
            <a:ext cx="72720" cy="815400"/>
            <a:chOff x="5276880" y="4886280"/>
            <a:chExt cx="72720" cy="815400"/>
          </a:xfrm>
        </p:grpSpPr>
        <p:sp>
          <p:nvSpPr>
            <p:cNvPr id="334" name=""/>
            <p:cNvSpPr/>
            <p:nvPr/>
          </p:nvSpPr>
          <p:spPr>
            <a:xfrm>
              <a:off x="5304600" y="4886280"/>
              <a:ext cx="16920" cy="6879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76880" y="5510880"/>
              <a:ext cx="72720" cy="190800"/>
            </a:xfrm>
            <a:custGeom>
              <a:avLst/>
              <a:gdLst/>
              <a:ahLst/>
              <a:rect l="l" t="t" r="r" b="b"/>
              <a:pathLst>
                <a:path w="87" h="201">
                  <a:moveTo>
                    <a:pt x="0" y="0"/>
                  </a:moveTo>
                  <a:lnTo>
                    <a:pt x="44" y="201"/>
                  </a:lnTo>
                  <a:lnTo>
                    <a:pt x="87" y="0"/>
                  </a:lnTo>
                  <a:lnTo>
                    <a:pt x="44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5678640" y="5183280"/>
            <a:ext cx="5238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67560" y="51973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9900"/>
                </a:solidFill>
                <a:latin typeface="Times New Roman"/>
              </a:rPr>
              <a:t>Confi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35840" y="51973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075440" y="5110200"/>
            <a:ext cx="5270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89760" y="5126040"/>
            <a:ext cx="5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99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602840" y="51260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7578720" y="4886280"/>
            <a:ext cx="69480" cy="815400"/>
            <a:chOff x="7578720" y="4886280"/>
            <a:chExt cx="69480" cy="815400"/>
          </a:xfrm>
        </p:grpSpPr>
        <p:sp>
          <p:nvSpPr>
            <p:cNvPr id="343" name=""/>
            <p:cNvSpPr/>
            <p:nvPr/>
          </p:nvSpPr>
          <p:spPr>
            <a:xfrm>
              <a:off x="7604280" y="4886280"/>
              <a:ext cx="16200" cy="6879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78720" y="5510880"/>
              <a:ext cx="69480" cy="190800"/>
            </a:xfrm>
            <a:custGeom>
              <a:avLst/>
              <a:gdLst/>
              <a:ahLst/>
              <a:rect l="l" t="t" r="r" b="b"/>
              <a:pathLst>
                <a:path w="87" h="201">
                  <a:moveTo>
                    <a:pt x="0" y="0"/>
                  </a:moveTo>
                  <a:lnTo>
                    <a:pt x="42" y="201"/>
                  </a:lnTo>
                  <a:lnTo>
                    <a:pt x="87" y="0"/>
                  </a:lnTo>
                  <a:lnTo>
                    <a:pt x="42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7889760" y="5110200"/>
            <a:ext cx="574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948080" y="5126040"/>
            <a:ext cx="61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9900"/>
                </a:solidFill>
                <a:latin typeface="Times New Roman"/>
              </a:rPr>
              <a:t>Ind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51360" y="51260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16480" y="5702400"/>
            <a:ext cx="2582640" cy="231480"/>
            <a:chOff x="5316480" y="5702400"/>
            <a:chExt cx="2582640" cy="231480"/>
          </a:xfrm>
        </p:grpSpPr>
        <p:sp>
          <p:nvSpPr>
            <p:cNvPr id="349" name=""/>
            <p:cNvSpPr/>
            <p:nvPr/>
          </p:nvSpPr>
          <p:spPr>
            <a:xfrm>
              <a:off x="5316480" y="5702400"/>
              <a:ext cx="16920" cy="76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16480" y="5834520"/>
              <a:ext cx="16920" cy="76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61480" y="5914800"/>
              <a:ext cx="6624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75960" y="5914800"/>
              <a:ext cx="6624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90440" y="5914800"/>
              <a:ext cx="6624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06720" y="5914800"/>
              <a:ext cx="6444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21200" y="5914800"/>
              <a:ext cx="6444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35680" y="5914800"/>
              <a:ext cx="6660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50160" y="5914800"/>
              <a:ext cx="6624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66080" y="5914800"/>
              <a:ext cx="6444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80920" y="5914800"/>
              <a:ext cx="6444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95400" y="5914800"/>
              <a:ext cx="6624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09880" y="5914800"/>
              <a:ext cx="6624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24360" y="5914800"/>
              <a:ext cx="6660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40640" y="5914800"/>
              <a:ext cx="6444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855120" y="5914800"/>
              <a:ext cx="6444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69960" y="5914800"/>
              <a:ext cx="6624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84440" y="5914800"/>
              <a:ext cx="6624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98920" y="5914800"/>
              <a:ext cx="6660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5914800"/>
              <a:ext cx="6444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29680" y="5914800"/>
              <a:ext cx="6444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43800" y="5914800"/>
              <a:ext cx="6660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58640" y="5914800"/>
              <a:ext cx="6624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73120" y="5914800"/>
              <a:ext cx="66240" cy="19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82560" y="5851440"/>
              <a:ext cx="16560" cy="82440"/>
            </a:xfrm>
            <a:custGeom>
              <a:avLst/>
              <a:gdLst/>
              <a:ahLst/>
              <a:rect l="l" t="t" r="r" b="b"/>
              <a:pathLst>
                <a:path w="20" h="85">
                  <a:moveTo>
                    <a:pt x="6" y="66"/>
                  </a:moveTo>
                  <a:lnTo>
                    <a:pt x="6" y="85"/>
                  </a:lnTo>
                  <a:lnTo>
                    <a:pt x="10" y="85"/>
                  </a:lnTo>
                  <a:lnTo>
                    <a:pt x="10" y="85"/>
                  </a:lnTo>
                  <a:lnTo>
                    <a:pt x="13" y="84"/>
                  </a:lnTo>
                  <a:lnTo>
                    <a:pt x="16" y="82"/>
                  </a:lnTo>
                  <a:lnTo>
                    <a:pt x="20" y="76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10" y="66"/>
                  </a:lnTo>
                  <a:lnTo>
                    <a:pt x="6" y="67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10" y="76"/>
                  </a:lnTo>
                  <a:lnTo>
                    <a:pt x="10" y="66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82560" y="5719680"/>
              <a:ext cx="16560" cy="76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651640" y="5661000"/>
            <a:ext cx="1972800" cy="158400"/>
            <a:chOff x="5651640" y="5661000"/>
            <a:chExt cx="1972800" cy="158400"/>
          </a:xfrm>
        </p:grpSpPr>
        <p:sp>
          <p:nvSpPr>
            <p:cNvPr id="376" name=""/>
            <p:cNvSpPr/>
            <p:nvPr/>
          </p:nvSpPr>
          <p:spPr>
            <a:xfrm>
              <a:off x="5651640" y="5661000"/>
              <a:ext cx="14760" cy="76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651640" y="5794920"/>
              <a:ext cx="59760" cy="2448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2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3" y="23"/>
                  </a:lnTo>
                  <a:lnTo>
                    <a:pt x="7" y="25"/>
                  </a:lnTo>
                  <a:lnTo>
                    <a:pt x="10" y="27"/>
                  </a:lnTo>
                  <a:lnTo>
                    <a:pt x="73" y="27"/>
                  </a:lnTo>
                  <a:lnTo>
                    <a:pt x="73" y="7"/>
                  </a:lnTo>
                  <a:lnTo>
                    <a:pt x="10" y="7"/>
                  </a:lnTo>
                  <a:lnTo>
                    <a:pt x="20" y="17"/>
                  </a:lnTo>
                  <a:lnTo>
                    <a:pt x="16" y="10"/>
                  </a:lnTo>
                  <a:lnTo>
                    <a:pt x="13" y="8"/>
                  </a:lnTo>
                  <a:lnTo>
                    <a:pt x="10" y="17"/>
                  </a:lnTo>
                  <a:lnTo>
                    <a:pt x="2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9640" y="5800320"/>
              <a:ext cx="65880" cy="1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75560" y="5800320"/>
              <a:ext cx="64440" cy="1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90040" y="5800320"/>
              <a:ext cx="64440" cy="1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04520" y="5800320"/>
              <a:ext cx="65880" cy="1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19000" y="5800320"/>
              <a:ext cx="65880" cy="1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33480" y="5800320"/>
              <a:ext cx="66600" cy="1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49760" y="5800320"/>
              <a:ext cx="64440" cy="1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64240" y="5800320"/>
              <a:ext cx="64440" cy="1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78720" y="5800320"/>
              <a:ext cx="65880" cy="1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93200" y="5800320"/>
              <a:ext cx="65880" cy="1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09480" y="5800320"/>
              <a:ext cx="64440" cy="1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23960" y="5800320"/>
              <a:ext cx="64440" cy="1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138440" y="5800320"/>
              <a:ext cx="64440" cy="1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52920" y="5800320"/>
              <a:ext cx="66600" cy="1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67400" y="5800320"/>
              <a:ext cx="65880" cy="1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83320" y="5800320"/>
              <a:ext cx="64440" cy="18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98160" y="5756760"/>
              <a:ext cx="26280" cy="62640"/>
            </a:xfrm>
            <a:custGeom>
              <a:avLst/>
              <a:gdLst/>
              <a:ahLst/>
              <a:rect l="l" t="t" r="r" b="b"/>
              <a:pathLst>
                <a:path w="32" h="66">
                  <a:moveTo>
                    <a:pt x="0" y="46"/>
                  </a:moveTo>
                  <a:lnTo>
                    <a:pt x="0" y="66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26" y="64"/>
                  </a:lnTo>
                  <a:lnTo>
                    <a:pt x="29" y="62"/>
                  </a:lnTo>
                  <a:lnTo>
                    <a:pt x="32" y="56"/>
                  </a:lnTo>
                  <a:lnTo>
                    <a:pt x="32" y="0"/>
                  </a:lnTo>
                  <a:lnTo>
                    <a:pt x="13" y="0"/>
                  </a:lnTo>
                  <a:lnTo>
                    <a:pt x="13" y="56"/>
                  </a:lnTo>
                  <a:lnTo>
                    <a:pt x="23" y="46"/>
                  </a:lnTo>
                  <a:lnTo>
                    <a:pt x="19" y="47"/>
                  </a:lnTo>
                  <a:lnTo>
                    <a:pt x="16" y="49"/>
                  </a:lnTo>
                  <a:lnTo>
                    <a:pt x="13" y="56"/>
                  </a:lnTo>
                  <a:lnTo>
                    <a:pt x="23" y="56"/>
                  </a:lnTo>
                  <a:lnTo>
                    <a:pt x="23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07880" y="5661000"/>
              <a:ext cx="16200" cy="37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6858000" y="4071960"/>
            <a:ext cx="1511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694560" y="4102200"/>
            <a:ext cx="194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TITA’ FUNZIONALE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35800" y="4886280"/>
            <a:ext cx="72360" cy="815760"/>
            <a:chOff x="5635800" y="4886280"/>
            <a:chExt cx="72360" cy="815760"/>
          </a:xfrm>
        </p:grpSpPr>
        <p:sp>
          <p:nvSpPr>
            <p:cNvPr id="399" name=""/>
            <p:cNvSpPr/>
            <p:nvPr/>
          </p:nvSpPr>
          <p:spPr>
            <a:xfrm>
              <a:off x="5663880" y="5016240"/>
              <a:ext cx="14760" cy="685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35800" y="4886280"/>
              <a:ext cx="72360" cy="194760"/>
            </a:xfrm>
            <a:custGeom>
              <a:avLst/>
              <a:gdLst/>
              <a:ahLst/>
              <a:rect l="l" t="t" r="r" b="b"/>
              <a:pathLst>
                <a:path w="87" h="202">
                  <a:moveTo>
                    <a:pt x="87" y="202"/>
                  </a:moveTo>
                  <a:lnTo>
                    <a:pt x="43" y="0"/>
                  </a:lnTo>
                  <a:lnTo>
                    <a:pt x="0" y="202"/>
                  </a:lnTo>
                  <a:lnTo>
                    <a:pt x="43" y="140"/>
                  </a:lnTo>
                  <a:lnTo>
                    <a:pt x="87" y="20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889760" y="4867200"/>
            <a:ext cx="72720" cy="815760"/>
            <a:chOff x="7889760" y="4867200"/>
            <a:chExt cx="72720" cy="815760"/>
          </a:xfrm>
        </p:grpSpPr>
        <p:sp>
          <p:nvSpPr>
            <p:cNvPr id="402" name=""/>
            <p:cNvSpPr/>
            <p:nvPr/>
          </p:nvSpPr>
          <p:spPr>
            <a:xfrm>
              <a:off x="7917840" y="4997160"/>
              <a:ext cx="14760" cy="685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89760" y="4867200"/>
              <a:ext cx="72720" cy="194760"/>
            </a:xfrm>
            <a:custGeom>
              <a:avLst/>
              <a:gdLst/>
              <a:ahLst/>
              <a:rect l="l" t="t" r="r" b="b"/>
              <a:pathLst>
                <a:path w="87" h="202">
                  <a:moveTo>
                    <a:pt x="87" y="202"/>
                  </a:moveTo>
                  <a:lnTo>
                    <a:pt x="43" y="0"/>
                  </a:lnTo>
                  <a:lnTo>
                    <a:pt x="0" y="202"/>
                  </a:lnTo>
                  <a:lnTo>
                    <a:pt x="43" y="140"/>
                  </a:lnTo>
                  <a:lnTo>
                    <a:pt x="87" y="20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C41E-9A9F-4DAE-ADD4-2C9140429CF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F8C37C8-3804-47D2-98DE-1A359F8ADA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416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66"/>
                </a:solidFill>
                <a:latin typeface="Times New Roman"/>
              </a:rPr>
              <a:t>USSD: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Unstructured Supplementary Service Data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5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ambio di informazioni tra utente e applicazioni nella rete GS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vocazione di servizi supplementari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lementazione di servizi non standardizzat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izi USSD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etwork Initia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izi USSD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obile Initia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a inferiore a 182 caratteri avente il seguente forma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TART | SC | * | SI | #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icazione eseguita su MSC, VLR, HL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mel e gsmSCF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LR inoltra al gsmSCF le richieste di servizi USSD tramite MAP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-17640" bIns="-17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CF28A-E760-4012-B2B3-AA985428D8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D74A8BB-D887-43F9-BBB5-0CC5E239AA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920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copo del progett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ntegrare reti wireline, wireless e I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IN SS7 AP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AIN MAP AP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onente listen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onente provid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Modello analogo a MA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scambio dati tra listener e provider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ramite primitive (4 tipi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4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395360" y="2746440"/>
            <a:ext cx="1805040" cy="344520"/>
          </a:xfrm>
          <a:prstGeom prst="ellipse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1258920" y="398160"/>
            <a:ext cx="729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JAIN (Java APIs for Integrated Networks)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795920" y="350028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02040" y="351936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4918680" y="4457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4918680" y="37447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76CE-81AC-4B06-9764-9D99A1F03BF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79AA199-AA7D-4A03-AF0C-7250AC2C49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4 funzionalit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Message Session Capability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implementa il servizio USSD di MA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i della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 Message Session Capabilit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Session Op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Session Da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Session Clo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ncetto di sessi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Outgoing sess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Incoming sess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1440" y="5551560"/>
            <a:ext cx="1924200" cy="406440"/>
          </a:xfrm>
          <a:prstGeom prst="ellipse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971280" y="620280"/>
            <a:ext cx="75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JAIN MAP API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8EB7-28ED-462C-A065-11BFB46BD16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88C95F0-0305-4851-AABE-7547C37AF0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6"/>
            </a:gs>
            <a:gs pos="100000">
              <a:srgbClr val="003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272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l nuovo servizio: obiettivi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02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tecipare al progetto JAIN creando un servizio per utenti GSM e integrando reti GSM e Intern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ermettere all’utente GSM di effettuare il login su un host remoto e attivare su questo un’applicazione dal proprio cellul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permettere l’interazione tra l’utente e l’applicazion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utilizzare il servizio USSD e le JAIN MAP API (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Message Session Capability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) per realizzare l’interazione con l’utente GSM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Garantire sicurezza nelle operazion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8285-149A-4AA3-9A0F-D5E87B5838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61ECC3C-40CB-43A1-A065-EA2821E527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50:02Z</dcterms:created>
  <dc:creator>Francesca</dc:creator>
  <dc:description/>
  <dc:language>en-US</dc:language>
  <cp:lastModifiedBy>Antonella Bertolino</cp:lastModifiedBy>
  <dcterms:modified xsi:type="dcterms:W3CDTF">2003-05-26T07:54:45Z</dcterms:modified>
  <cp:revision>318</cp:revision>
  <dc:subject/>
  <dc:title>Diapositiva 1</dc:title>
</cp:coreProperties>
</file>