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ECE5-0EEB-44D4-B6A0-EC2955D82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AC14-A01A-4ED0-AC10-A14F5EEB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2C3E-B851-43C4-A1DD-729375196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C5AA-B8AC-48C5-8792-9256B0C8B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C597-329B-44BE-A8FE-6CADC271E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2AB5-335E-4297-948F-9B73AD58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17D5-89C2-4670-907E-6162EAE9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F66B-C96B-46F3-92F2-8722B4D9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4A5F-3224-4D11-A999-0EAFAC08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403B-E1B5-4961-A98A-43C0AA23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9906-17AA-4F70-BA60-D63A373E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2086-97B0-4BF5-9634-A5177D32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E8C3-53F3-451F-AD12-EB022E16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83A8-D794-4152-B4FB-4470FAD9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4F61-4D17-4420-985A-AE73B734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9307-82AF-4E33-8F8F-C3390E28A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6491-4725-4440-A9DA-3F3143D23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D125-4040-479B-BF5A-40915702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1B1E-CE83-4B7D-ADCD-E2F5D15D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E861-C9E2-429B-8D4E-02AD65B5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4F6F-DBAD-43A4-A80C-D185BA27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FD25-DE5E-4494-9323-1492A4DF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F4D6-CCC0-439E-A3B4-EC6E7943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2E50-3831-4580-956B-FB9F22FE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it-IT" sz="1400" spc="-1" strike="noStrike">
                <a:solidFill>
                  <a:srgbClr val="c1a255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c1a255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2213-EEB4-4F5C-B286-B034836EDBB3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07D4-F002-4A38-AC4D-3C61B56F97C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Video Transcoding for Mobile Telephony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. Bonuccel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. Martel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. D’Ama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Interframe Coding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consists of coding only the differences with a reference fram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otion Vector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dicates the reference frame area most similar to the macroblock to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rediction Errors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ifferences between the best match area and the macroblock are coded in the same manner of the intraframe 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SATEL Lab - Luigi D'Ama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98A1-BD43-4E8A-AE08-3A8B8986768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ma, 27 Ma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Image Coding Typ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79200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three frame typ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-frames (intra-fram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-frames (forward predicted fram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-frames (bi-directional predicted fram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539640" y="4398840"/>
            <a:ext cx="8089920" cy="155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SATEL Lab - Luigi D'Ama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54AB-A384-463C-9351-828ECD8A8C6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ma, 27 Ma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Motion Estima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earches the best match of a macroblock in the reference frame within a search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best match is that one having the minimum SAD (Sum of Absolute Differences)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2514600" y="3886200"/>
            <a:ext cx="4546440" cy="239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SATEL Lab - Luigi D'Ama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AAB9-12B7-46CB-98C1-37168E6D964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ma, 27 Ma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Motion Estimation Algorithm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ull Search algorithm computes the SAD values of all possible matching areas in the search reg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most computational complex motion estimation algorithm (it requires about 60-70% of video compression total tim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SATEL Lab - Luigi D'Ama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EC75-E132-4231-A519-E7E7B4A79D6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ma, 27 Ma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st Motion Estimation Algorithm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algorithms of fast ME have been proposed to reduce the complexity of Full 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significantly reduce the number of reference frame areas to t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step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VFAST (Predictive Motion Vector Field Adaptive Search Techniqu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DZS (Advanced Predictive Diamond Zonal searc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SATEL Lab - Luigi D'Ama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D4DA-8F40-46FE-A8C0-ABF0D6E8847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ma, 27 Ma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Rate Control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using fixed quantization parameters, the compressed video sequence has a variable bit rate; this may cause buffer underflow o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ate control concerns about the computation of quantization parameters in order to adapt the video streaming bit rate with the channel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omputes the complexity estimation of the current frame by using that one of previou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SATEL Lab - Luigi D'Ama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43E8-3CC9-4D0C-9015-3744494BCB0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ma, 27 Ma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7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tandard DCT/MCP Video Codec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685800" y="2421000"/>
            <a:ext cx="7772400" cy="33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SATEL Lab - Luigi D'Ama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A280-4F28-4F97-9910-17AE3A51BD7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ma, 27 Ma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Video Transcoding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a process in which a compressed video is converted in another one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ame resolution (spatial transcod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ame rate (temporal transcod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video quality (bit rate transcod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ly from a conventional video encoder, a video transcoder takes as input a compressed video stream from which it can extract parameters and statistics to encode the output video stream, without recomput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SATEL Lab - Luigi D'Ama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06C2-8448-465D-A71B-62D5DBF1EA8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ma, 27 Ma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patial Transcoding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onsists of reducing the frame resolution of the input video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two types of spatial transcon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ampling 2: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samp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both approaches it is necessary to recompute the motion vectors and the prediction errors by combining and scaling the original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SATEL Lab - Luigi D'Ama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B3C6-7AED-4CB0-8E66-9E02979B1EE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ma, 27 Ma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emporal Transcoding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onsists of dropping some frames, then it is needed to recompute the motion vectors not still valid (because they point to discarded fram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new motion vectors can be obtained by interpolating the motion vectors of all dropped frames between the current frame and the last not droppe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rediction errors must be computed according to the new motion vec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SATEL Lab - Luigi D'Ama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88A4-D29A-4E31-B437-BE6DE558018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ma, 27 Ma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Overview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deo Co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deo Transco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ture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SATEL Lab - Luigi D'Ama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672D-68E1-48DB-B222-3B0A0F99D83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ma, 27 Ma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Bit-Rate Transcoding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consists of decreasing the video stream bit rate by reducing the video quality without changing the frame rate or the frame res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can be performed by a specific Rate Control function, where the complexity of the current frame, instead of being estimated, can be directly extracted from the input vide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SATEL Lab - Luigi D'Ama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9829-0DF0-4F5B-8405-92B79176302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ma, 27 Ma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0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Video Transcoding Architectur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here are essentially three types of video transcoding architectur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ixel Domain Trans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CT Domain Transcod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pen-Loop Transcod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SATEL Lab - Luigi D'Ama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E777-3388-4AA9-8E3E-1932CF3428E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ma, 27 Ma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ascaded Pixel Domain Transcoder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304920" y="2271600"/>
            <a:ext cx="8534160" cy="3397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SATEL Lab - Luigi D'Ama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6A04-048C-4C06-A30A-0D1E68490FC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ma, 27 Ma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st Pixel Domain Transcoder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8194680" cy="272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SATEL Lab - Luigi D'Ama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79B1-9720-42FA-B4CC-7CE77077A81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ma, 27 Ma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DCT Domain Transcoder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304920" y="2247840"/>
            <a:ext cx="8534160" cy="2836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SATEL Lab - Luigi D'Ama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B922-84A6-48B9-A04C-5C6CC49F993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ma, 27 Ma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pen-Loop Transcoder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397160" y="2576520"/>
            <a:ext cx="6451560" cy="199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SATEL Lab - Luigi D'Ama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95F0-BF69-40BC-8214-7EC7A97284E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ma, 27 Ma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uture Work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29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spcAft>
                <a:spcPts val="799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stigate the video transcoding problem caused by subra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99"/>
              </a:spcBef>
              <a:spcAft>
                <a:spcPts val="799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ose new algorithmic and/or architectural sol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SATEL Lab - Luigi D'Ama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7823-A618-41CF-804F-E453AB5BE6B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ma, 27 Ma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Motivation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generation mobile telephony, many complex applications are fores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deo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deo telepho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brow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SATEL Lab - Luigi D'Ama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BB8B-3527-4491-8ED1-1D61D6C7E10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ma, 27 Ma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Quality of service class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528640"/>
            <a:ext cx="64008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ational (bidirection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eaming (one wa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ve (e.g. web browsi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kground (e.g. email, ft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"/>
          <p:cNvSpPr/>
          <p:nvPr/>
        </p:nvSpPr>
        <p:spPr>
          <a:xfrm>
            <a:off x="6705720" y="28116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6600"/>
                </a:solidFill>
                <a:latin typeface="Tahoma"/>
              </a:rPr>
              <a:t>Delay sen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400800" y="2666880"/>
            <a:ext cx="76320" cy="990720"/>
          </a:xfrm>
          <a:custGeom>
            <a:avLst/>
            <a:gdLst>
              <a:gd name="textAreaLeft" fmla="*/ 0 w 76320"/>
              <a:gd name="textAreaRight" fmla="*/ 2736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62920" y="380988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6600"/>
                </a:solidFill>
                <a:latin typeface="Tahoma"/>
              </a:rPr>
              <a:t>Delay insen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34320" y="3809880"/>
            <a:ext cx="75960" cy="990720"/>
          </a:xfrm>
          <a:custGeom>
            <a:avLst/>
            <a:gdLst>
              <a:gd name="textAreaLeft" fmla="*/ 0 w 75960"/>
              <a:gd name="textAreaRight" fmla="*/ 27360 w 7596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4360" y="3112920"/>
            <a:ext cx="64008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d093"/>
                </a:solidFill>
                <a:latin typeface="Tahoma"/>
              </a:rPr>
              <a:t>Streaming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SATEL Lab - Luigi D'Ama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79E8-9678-4AE2-AA9A-BC0A5C1ABD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ma, 27 Ma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3G System featur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: a user moves from one cell to a neighboring one when involved in a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user needs a channel in the new cel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vailable, he gets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available, subrating is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rating: temporary division of an occupied full rate channel into two half rate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SATEL Lab - Luigi D'Ama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2558-DF84-4D51-8F71-2133C519E70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ma, 27 Ma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Video streaming problem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 channel bandwidth is halved, a buffer underflow may occ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at case the video sequence stop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(still frame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the receiving termi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avoid this problem it is needed to code the video sequence with a lower bit rat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(video transcodi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SATEL Lab - Luigi D'Ama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964E-7979-47C6-8775-931033B78D8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ma, 27 Ma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Video Coding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47600" y="206028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ideo sequence is recursively spli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547640" y="2781360"/>
            <a:ext cx="6305760" cy="34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SATEL Lab - Luigi D'Ama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69ED-7AB8-4536-9EDB-DBB65DBBED7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ma, 27 Ma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Video Compress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ding video standards are based on the same hybrid framework (DCT/MC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ntraframe coding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patial redundancy within a frame is removed by DCT (Discrete Cosine Transfo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nterframe coding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emporal redundancy among frames is removed by MCP (Motion Compensated Predi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SATEL Lab - Luigi D'Ama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E64B-992B-434B-9307-2C927563994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ma, 27 Ma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Intraframe Coding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onsists of the following step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ropic co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ig-Zag Sc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 Length 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able Length 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5292720" y="3041640"/>
            <a:ext cx="3105000" cy="312408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5292720" y="3041640"/>
            <a:ext cx="3105000" cy="3124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5292720" y="3041640"/>
            <a:ext cx="3105000" cy="312408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5445000" y="3224160"/>
            <a:ext cx="2746440" cy="27972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5"/>
          <a:stretch/>
        </p:blipFill>
        <p:spPr>
          <a:xfrm>
            <a:off x="4932360" y="3819600"/>
            <a:ext cx="3809880" cy="15541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1619280" y="2708280"/>
            <a:ext cx="865080" cy="360360"/>
          </a:xfrm>
          <a:prstGeom prst="rect">
            <a:avLst/>
          </a:prstGeom>
          <a:noFill/>
          <a:ln w="316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19280" y="3139920"/>
            <a:ext cx="2016000" cy="433440"/>
          </a:xfrm>
          <a:prstGeom prst="rect">
            <a:avLst/>
          </a:prstGeom>
          <a:noFill/>
          <a:ln w="316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19280" y="3571920"/>
            <a:ext cx="2521080" cy="433440"/>
          </a:xfrm>
          <a:prstGeom prst="rect">
            <a:avLst/>
          </a:prstGeom>
          <a:noFill/>
          <a:ln w="316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79640" y="4005360"/>
            <a:ext cx="1728720" cy="287280"/>
          </a:xfrm>
          <a:prstGeom prst="rect">
            <a:avLst/>
          </a:prstGeom>
          <a:noFill/>
          <a:ln w="316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79640" y="4365720"/>
            <a:ext cx="2448000" cy="287280"/>
          </a:xfrm>
          <a:prstGeom prst="rect">
            <a:avLst/>
          </a:prstGeom>
          <a:noFill/>
          <a:ln w="316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979640" y="4726080"/>
            <a:ext cx="2879640" cy="287280"/>
          </a:xfrm>
          <a:prstGeom prst="rect">
            <a:avLst/>
          </a:prstGeom>
          <a:noFill/>
          <a:ln w="316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SATEL Lab - Luigi D'Ama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D8D2-A9DC-4857-A055-6C82AB98D0F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ma, 27 Ma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1T09:13:27Z</dcterms:created>
  <dc:creator>Francesca Martelli</dc:creator>
  <dc:description/>
  <dc:language>en-US</dc:language>
  <cp:lastModifiedBy>Antonella Bertolino</cp:lastModifiedBy>
  <dcterms:modified xsi:type="dcterms:W3CDTF">2003-05-26T07:58:13Z</dcterms:modified>
  <cp:revision>65</cp:revision>
  <dc:subject/>
  <dc:title>Video Transcoding for Mobile Telephony</dc:title>
</cp:coreProperties>
</file>